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AC132-2DF6-4C89-A24D-A9146F487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8AD29-A6DE-4C4F-930D-0F7D8890C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7A3D4-F0CC-4FED-977A-E23BB336C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A706E-8A77-454D-B63C-9BC8D3943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05367-2A5B-4377-A3B3-BA569EDC0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71C9A-707B-4495-B58C-C7D6C2BBF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F2BD6-8F38-4ADB-947E-0D197E89B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52B33-42D6-4E1F-8FA9-6EA48AFB9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7BAFC-A65B-4D43-92DD-4188DFE45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47316-A701-4BBD-BB4D-8E997CA8F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D8F15-719E-427B-9513-F59FFC53A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372CC-D79F-4F15-8DE8-BAF9A1DA3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8C5CA-2EE3-4835-888D-02336ACED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8E8D5-921A-4A29-BFEB-2A0E20183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CA469-A02E-447C-A4B3-467E88A36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2BC3E-D787-484B-8181-BF9823A69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CD5BC-81C1-46BA-B03D-D15043FB3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88A3F4-14AD-401C-9F05-38103D99D9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935B1-E29C-4455-A307-BA2B9631E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B7C1E3-93DD-404B-9B47-FC91DA8CB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2AEFCD-1D32-4D11-8EBF-2822927E4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AEB8C7-8AA0-40CF-BDF2-A8C8CF35D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C2785-5BE6-43EA-9D93-37D5E3C8F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B4314-C6E1-4C69-826D-80C84FF3D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5B23C-8AD0-40C4-9236-666E4B39E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59B13-4FFA-4994-9C63-A8BBF3636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2EFE3-66B8-4B30-8FC6-770F01346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91952-9547-40C8-A437-F916EC6680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4F3C90-7124-4126-B77C-3D49B80D89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74E787-195C-4301-B92B-1C168137DA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F1959D-060A-4979-9F1C-83479B06C3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E2B5B-AB4F-48DB-B800-DC18D8A2BA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99E38-A240-4D42-AC7C-0C011E47AC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E0D93-1B53-4783-9720-6A94515B8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DA2455-7ED9-4502-BE8F-FD2BD8FAD8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4C87EE-C014-4ACB-AFC8-0ADB4CC9C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22A9F-5F22-4C7C-86C8-9381E95C0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D77D1-2DE2-485E-94E3-CABDE375C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003C6-46E6-4C5C-9D8C-295417949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2E093-4BBA-4DC4-8C62-9AE808B11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E05C7-789F-4E4B-9E72-C66279EC0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0EC060-19F2-45BB-994D-6217404867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311044-171C-422F-86E7-6D2579A4FA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9E5A74-4D15-4EB7-BA07-76A1A6A4D4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A080D-FD01-4277-91F8-0B99A8A3F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4768A-D741-44DC-984E-B322823FF4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A3E5BE-5C9F-4E43-8F64-124370E36A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B02CF-64FF-4CBE-9FDD-F8522FDFF0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EC565E-DE43-49F6-84C9-B9D27408B9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3DC4F0-5572-4594-A998-02A1F452C7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43210-3DF1-48D8-A4FF-45E01B3A1C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655FA-248A-45C2-B077-FD0427F0A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EF20B-677C-49C9-87F6-B5E1EC934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08677D-692C-441A-9EEF-534502054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67B4CB-4863-4520-B8EA-7AA95080B8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EEA27-CA92-43DE-9457-F767AF312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6D5B60-D4C3-4F69-8321-35E622876D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BA80D4-3660-4CA0-8634-20D58ACE80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5BFBC-DB59-4ABD-836D-6B6235D900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DDFBAD-C2CA-4909-92E9-53564B95A9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BC77A0-90DB-4039-A816-8C72CE9550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304A1D-C59A-4B86-ACA3-33C035E5C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C23730-A455-4996-AC2F-E349F51F44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645A2-DA32-4D52-BE06-FC65D4F32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905C7-7549-4C4F-B0F3-34F6B61A5A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8ECE05-8635-4B67-8BE2-A832F8B93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59AA8-AF42-435E-A63C-76FB9D735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69D03-399D-422F-A79C-8A7A33A35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7296AA-5ED6-496D-8A47-0FC931D481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1BD081-EBF0-4AA8-B810-DFBCC9AEDC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18DCFC-85D0-44D6-B695-E79AD94F4B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782FCA-0887-4DD0-A531-3ED5A4764B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379D35-1D49-4C88-8F9B-53CB832754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7F3478-0A36-4AD5-9C52-448B4A7ED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ECF80D-3960-4B16-94EC-3F8381FFE0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F9A979-A6AE-41EE-A193-D51B017163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7BD29-12FD-44A5-A08D-6FF4354EAA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7836-0FA1-464F-AAF7-7417C7400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438A3-E207-465B-9376-072F20606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EB3662-372C-4EDB-9AFA-0CADC9AFA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E6100-4ED0-4368-A6B5-A2B7A22E21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649075-8310-4229-B0B2-AA513EA24B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0E8C5E-8EE1-4627-ABCC-C2489CBCAE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922539-F029-4AF1-A050-F265750B60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9E2443-AA45-4850-A01C-F5431087FC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FB4FAC-E90F-4EB7-9585-B155293D5D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51DDE-097D-43E2-82F0-078392398D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7406C6-E7FE-4C0F-B105-829BFD9C69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04690-C6BA-4CA3-AF13-0B13A8A07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296590-9AA4-4997-862D-C0C27B178A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95894-124D-421B-A988-7B8CED90C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AB44E-5C1E-4D53-B974-39C0F0E08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50E397-120C-4B4B-A4FE-77A35E073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20F42F-4FE2-4CE1-A458-293F54170B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F17899-AC55-4E68-A021-2DE1A2472D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5DC4AA-44DC-4070-A162-F55D044018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921F-978A-4E0D-A532-36E8409DD844}" type="datetime">
              <a:rPr b="0" lang="es-AR" sz="1000" spc="-1" strike="noStrike">
                <a:solidFill>
                  <a:srgbClr val="000000"/>
                </a:solidFill>
                <a:latin typeface="Lucida Sans Unicode"/>
              </a:rPr>
              <a:t>30/07/26</a:t>
            </a:fld>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6B52-D1A0-482A-9A95-BD903F675AAE}"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09BE-ABC9-43BC-9330-7CD8A72BF74E}" type="datetime">
              <a:rPr b="0" lang="es-AR" sz="1000" spc="-1" strike="noStrike">
                <a:solidFill>
                  <a:srgbClr val="ffffff"/>
                </a:solidFill>
                <a:latin typeface="Lucida Sans Unicode"/>
              </a:rPr>
              <a:t>30/07/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25B0-4661-4C2C-9C41-0EE41C03E776}" type="slidenum">
              <a:rPr b="0" lang="es-AR"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9DF7-8A41-462A-8840-0C3B9F61F22D}" type="datetime">
              <a:rPr b="0" lang="es-AR" sz="1000" spc="-1" strike="noStrike">
                <a:solidFill>
                  <a:srgbClr val="000000"/>
                </a:solidFill>
                <a:latin typeface="Lucida Sans Unicode"/>
              </a:rPr>
              <a:t>30/07/26</a:t>
            </a:fld>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CD9E-1242-4F14-836C-E8EB4D1D30D6}"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A959-98CD-468C-9564-269EF284BFB9}" type="datetime">
              <a:rPr b="0" lang="es-AR" sz="1000" spc="-1" strike="noStrike">
                <a:solidFill>
                  <a:srgbClr val="000000"/>
                </a:solidFill>
                <a:latin typeface="Lucida Sans Unicode"/>
              </a:rPr>
              <a:t>30/07/26</a:t>
            </a:fld>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AFF2-BA8C-4084-AE7E-0B5C1D2F13F5}"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AE4A-8BEB-4FDF-B1F5-8F3E2EA2C0B7}" type="datetime">
              <a:rPr b="0" lang="es-AR" sz="1000" spc="-1" strike="noStrike">
                <a:solidFill>
                  <a:srgbClr val="000000"/>
                </a:solidFill>
                <a:latin typeface="Lucida Sans Unicode"/>
              </a:rPr>
              <a:t>30/07/26</a:t>
            </a:fld>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B19F-E6A3-4127-9129-CD6C38974B83}"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870E-4C0E-4A84-969A-99162D4A61E6}" type="datetime">
              <a:rPr b="0" lang="es-AR" sz="1000" spc="-1" strike="noStrike">
                <a:solidFill>
                  <a:srgbClr val="000000"/>
                </a:solidFill>
                <a:latin typeface="Lucida Sans Unicode"/>
              </a:rPr>
              <a:t>30/07/26</a:t>
            </a:fld>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C9E1-DF65-4E71-A54A-1F79CC3F696C}"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04D2-FF66-4AF8-B7BF-63CDAC349266}" type="datetime">
              <a:rPr b="0" lang="es-AR" sz="1000" spc="-1" strike="noStrike">
                <a:solidFill>
                  <a:srgbClr val="000000"/>
                </a:solidFill>
                <a:latin typeface="Lucida Sans Unicode"/>
              </a:rPr>
              <a:t>30/07/26</a:t>
            </a:fld>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EBD4-BCAD-43D5-B6E9-341DA90AF6FA}"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D500-33BB-402A-AF98-7C4072361C7C}" type="datetime">
              <a:rPr b="0" lang="es-AR" sz="1000" spc="-1" strike="noStrike">
                <a:solidFill>
                  <a:srgbClr val="ffffff"/>
                </a:solidFill>
                <a:latin typeface="Lucida Sans Unicode"/>
              </a:rPr>
              <a:t>30/07/26</a:t>
            </a:fld>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641A-7541-43FF-8B1C-0259E84062B8}" type="slidenum">
              <a:rPr b="0" lang="es-AR"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1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3ED4-9AEC-4E20-BE23-1D05785F554D}"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pic>
        <p:nvPicPr>
          <p:cNvPr id="371" name="Picture 2" descr="C:\Users\fsl\Desktop\Simposio Tributario.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1 Título" descr=""/>
          <p:cNvPicPr/>
          <p:nvPr/>
        </p:nvPicPr>
        <p:blipFill>
          <a:blip r:embed="rId1"/>
          <a:stretch/>
        </p:blipFill>
        <p:spPr>
          <a:xfrm>
            <a:off x="-6480" y="115920"/>
            <a:ext cx="8547120" cy="877680"/>
          </a:xfrm>
          <a:prstGeom prst="rect">
            <a:avLst/>
          </a:prstGeom>
          <a:ln w="0">
            <a:noFill/>
          </a:ln>
        </p:spPr>
      </p:pic>
      <p:sp>
        <p:nvSpPr>
          <p:cNvPr id="396" name=""/>
          <p:cNvSpPr txBox="1"/>
          <p:nvPr/>
        </p:nvSpPr>
        <p:spPr>
          <a:xfrm>
            <a:off x="-360" y="1527120"/>
            <a:ext cx="8504280" cy="45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Lucida Sans Unicode"/>
              </a:rPr>
              <a:t>Vicente Oscar Díaz</a:t>
            </a:r>
            <a:r>
              <a:rPr b="0" lang="es-MX" sz="2700" spc="-1" strike="noStrike">
                <a:solidFill>
                  <a:srgbClr val="000000"/>
                </a:solidFill>
                <a:latin typeface="Lucida Sans Unicode"/>
              </a:rPr>
              <a:t> expresa que en la determinación tributaria, una prestación correlacionada con meras enunciaciones del hecho imponible, sin que éstas guarden conexidad con la conducta efectiva desplegada por el contribuyente, deja desgarrados principios sacros del derecho punitivo.</a:t>
            </a:r>
            <a:endParaRPr b="0" lang="en-US" sz="2700" spc="-1" strike="noStrike">
              <a:solidFill>
                <a:srgbClr val="000000"/>
              </a:solidFill>
              <a:latin typeface="Lucida Sans Unicode"/>
            </a:endParaRPr>
          </a:p>
        </p:txBody>
      </p:sp>
      <p:sp>
        <p:nvSpPr>
          <p:cNvPr id="397"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2E0F-8BFB-4CEA-BCBC-357C8DAF275C}"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1 Título" descr=""/>
          <p:cNvPicPr/>
          <p:nvPr/>
        </p:nvPicPr>
        <p:blipFill>
          <a:blip r:embed="rId1"/>
          <a:stretch/>
        </p:blipFill>
        <p:spPr>
          <a:xfrm>
            <a:off x="-60480" y="-115920"/>
            <a:ext cx="8790120" cy="1341360"/>
          </a:xfrm>
          <a:prstGeom prst="rect">
            <a:avLst/>
          </a:prstGeom>
          <a:ln w="0">
            <a:noFill/>
          </a:ln>
        </p:spPr>
      </p:pic>
      <p:sp>
        <p:nvSpPr>
          <p:cNvPr id="399" name=""/>
          <p:cNvSpPr txBox="1"/>
          <p:nvPr/>
        </p:nvSpPr>
        <p:spPr>
          <a:xfrm>
            <a:off x="-360" y="1527120"/>
            <a:ext cx="8504280" cy="45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Lucida Sans Unicode"/>
              </a:rPr>
              <a:t>Rubén Rodriguez </a:t>
            </a:r>
            <a:r>
              <a:rPr b="0" lang="es-MX" sz="2700" spc="-1" strike="noStrike">
                <a:solidFill>
                  <a:srgbClr val="000000"/>
                </a:solidFill>
                <a:latin typeface="Lucida Sans Unicode"/>
              </a:rPr>
              <a:t>afirma que la presunción de inocencia constituye un principio constitucional implícito, y que por virtud del mismo, la buena fe se presume, y no correspondería invertir esta situación mediante la introducción de normas legales que presuman directamente lo contrario, es decir, el dolo, la voluntad defraudatoria.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Sin embargo, las presunciones del art. 47 de la ley 11683 parecen indicar otra cos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EC2C-D473-4F7D-8637-BC069AA71906}"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1 Título" descr=""/>
          <p:cNvPicPr/>
          <p:nvPr/>
        </p:nvPicPr>
        <p:blipFill>
          <a:blip r:embed="rId1"/>
          <a:stretch/>
        </p:blipFill>
        <p:spPr>
          <a:xfrm>
            <a:off x="-6480" y="115920"/>
            <a:ext cx="8547120" cy="877680"/>
          </a:xfrm>
          <a:prstGeom prst="rect">
            <a:avLst/>
          </a:prstGeom>
          <a:ln w="0">
            <a:noFill/>
          </a:ln>
        </p:spPr>
      </p:pic>
      <p:sp>
        <p:nvSpPr>
          <p:cNvPr id="402" name=""/>
          <p:cNvSpPr txBox="1"/>
          <p:nvPr/>
        </p:nvSpPr>
        <p:spPr>
          <a:xfrm>
            <a:off x="-360" y="1527120"/>
            <a:ext cx="8504280" cy="457200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Lucida Sans Unicode"/>
              </a:rPr>
              <a:t>Mariano Borinsky </a:t>
            </a:r>
            <a:r>
              <a:rPr b="0" lang="es-MX" sz="2300" spc="-1" strike="noStrike">
                <a:solidFill>
                  <a:srgbClr val="000000"/>
                </a:solidFill>
                <a:latin typeface="Lucida Sans Unicode"/>
              </a:rPr>
              <a:t>entiende que la ley 26.746 desconoce el principio de igualdad, infringiendo las márgenes que establece nuestro Texto Fundamental. No sólo porque se autoriza a no cobrar tributos -tal como sucede en el régimen de exteriorización de bienes, al dejar de lado los períodos no prescriptos y no declarados (arts. 32, 33 y 34)-, sino  también cuando permite el cobro parcial de los mismos de acuerdo al régimen de condonación de intereses (art. 4) y cuando crea un tributo “especial” (art. 27) distinto para aquellos hechos imponibles perfeccionados al amparo de normas incumplidas (sobre los bienes personales, a la ganancia mínima presunta, débitos y créditos en cuentas bancarias) otorgándoles un tratamiento privilegiado con respecto a éstas.</a:t>
            </a:r>
            <a:endParaRPr b="0" lang="en-US" sz="2300" spc="-1" strike="noStrike">
              <a:solidFill>
                <a:srgbClr val="000000"/>
              </a:solidFill>
              <a:latin typeface="Lucida Sans Unicode"/>
            </a:endParaRPr>
          </a:p>
        </p:txBody>
      </p:sp>
      <p:sp>
        <p:nvSpPr>
          <p:cNvPr id="403"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E381-D36F-4514-B85A-C77EDB8F3CC9}"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6480" y="115920"/>
            <a:ext cx="8547120" cy="877680"/>
          </a:xfrm>
          <a:prstGeom prst="rect">
            <a:avLst/>
          </a:prstGeom>
          <a:ln w="0">
            <a:noFill/>
          </a:ln>
        </p:spPr>
      </p:pic>
      <p:sp>
        <p:nvSpPr>
          <p:cNvPr id="405" name=""/>
          <p:cNvSpPr txBox="1"/>
          <p:nvPr/>
        </p:nvSpPr>
        <p:spPr>
          <a:xfrm>
            <a:off x="-360" y="1527120"/>
            <a:ext cx="8504280" cy="45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Lucida Sans Unicode"/>
              </a:rPr>
              <a:t>Contamos para el debate de esta Comisión con los trabajos presentados por los profesionales </a:t>
            </a:r>
            <a:r>
              <a:rPr b="0" lang="es-MX" sz="2800" spc="-1" strike="noStrike">
                <a:solidFill>
                  <a:srgbClr val="000000"/>
                </a:solidFill>
                <a:latin typeface="Lucida Sans Unicode"/>
              </a:rPr>
              <a:t>Baldo y Manonellas - Bertazza, Díaz Ortiz, Marconi y Jorge López. A todos ellos les agradecemos las investigaciones realizadas sobre los ítems planteados en las directivas de relatoría.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06"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A07E-939C-4861-ACAA-B7132D27DC2B}"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1 Título" descr=""/>
          <p:cNvPicPr/>
          <p:nvPr/>
        </p:nvPicPr>
        <p:blipFill>
          <a:blip r:embed="rId1"/>
          <a:stretch/>
        </p:blipFill>
        <p:spPr>
          <a:xfrm>
            <a:off x="-6480" y="115920"/>
            <a:ext cx="8547120" cy="877680"/>
          </a:xfrm>
          <a:prstGeom prst="rect">
            <a:avLst/>
          </a:prstGeom>
          <a:ln w="0">
            <a:noFill/>
          </a:ln>
        </p:spPr>
      </p:pic>
      <p:sp>
        <p:nvSpPr>
          <p:cNvPr id="408" name=""/>
          <p:cNvSpPr txBox="1"/>
          <p:nvPr/>
        </p:nvSpPr>
        <p:spPr>
          <a:xfrm>
            <a:off x="-360" y="1527120"/>
            <a:ext cx="8504280" cy="45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Lucida Sans Unicode"/>
              </a:rPr>
              <a:t>Baldo y Manonellas </a:t>
            </a:r>
            <a:r>
              <a:rPr b="0" lang="es-MX" sz="2700" spc="-1" strike="noStrike">
                <a:solidFill>
                  <a:srgbClr val="000000"/>
                </a:solidFill>
                <a:latin typeface="Lucida Sans Unicode"/>
              </a:rPr>
              <a:t>entienden que la CSJN en fallo 273:66 se ha pronunciado cuando sentó el principio por el cual el sometimiento a un sumario administrativo y a una investigación penal por los mismos hechos no equivale a una violación de la garantía de “ne bis in idem” en la medida en que las responsabilidades sean de distinta naturaleza.</a:t>
            </a:r>
            <a:endParaRPr b="0" lang="en-US" sz="2700" spc="-1" strike="noStrike">
              <a:solidFill>
                <a:srgbClr val="000000"/>
              </a:solidFill>
              <a:latin typeface="Lucida Sans Unicode"/>
            </a:endParaRPr>
          </a:p>
        </p:txBody>
      </p:sp>
      <p:sp>
        <p:nvSpPr>
          <p:cNvPr id="409"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AA38-0AE0-41A8-ADF6-8AC235C1C3AF}"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1 Título" descr=""/>
          <p:cNvPicPr/>
          <p:nvPr/>
        </p:nvPicPr>
        <p:blipFill>
          <a:blip r:embed="rId1"/>
          <a:stretch/>
        </p:blipFill>
        <p:spPr>
          <a:xfrm>
            <a:off x="-6480" y="115920"/>
            <a:ext cx="8547120" cy="877680"/>
          </a:xfrm>
          <a:prstGeom prst="rect">
            <a:avLst/>
          </a:prstGeom>
          <a:ln w="0">
            <a:noFill/>
          </a:ln>
        </p:spPr>
      </p:pic>
      <p:sp>
        <p:nvSpPr>
          <p:cNvPr id="411" name=""/>
          <p:cNvSpPr txBox="1"/>
          <p:nvPr/>
        </p:nvSpPr>
        <p:spPr>
          <a:xfrm>
            <a:off x="-360" y="1527120"/>
            <a:ext cx="8504280" cy="457200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Lucida Sans Unicode"/>
              </a:rPr>
              <a:t>Jorge López </a:t>
            </a:r>
            <a:r>
              <a:rPr b="0" lang="es-MX" sz="2700" spc="-1" strike="noStrike">
                <a:solidFill>
                  <a:srgbClr val="000000"/>
                </a:solidFill>
                <a:latin typeface="Lucida Sans Unicode"/>
              </a:rPr>
              <a:t>expresa que en principio no está prohibida la conminación de penas plurales a un único hecho; lo que el principio proscribe es la imposición ya sea simultánea o sucesiva, de penas o sanciones en dos o más procesos judiciales y/o administrativos.  La imposición de la sanción administrativo-tributaria del art. 46 de la ley 11683 luego de que haya sido dictada sentencia condenatoria en sede penal, por ejemplo por infracción al art. 1º de la Ley 24769, constituye una violación del principio constitucional “non bis in idem”</a:t>
            </a:r>
            <a:endParaRPr b="0" lang="en-US" sz="2700" spc="-1" strike="noStrike">
              <a:solidFill>
                <a:srgbClr val="000000"/>
              </a:solidFill>
              <a:latin typeface="Lucida Sans Unicode"/>
            </a:endParaRPr>
          </a:p>
        </p:txBody>
      </p:sp>
      <p:sp>
        <p:nvSpPr>
          <p:cNvPr id="412"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8E0D-5EB8-4004-B029-6171D1BCAC87}"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1 Título" descr=""/>
          <p:cNvPicPr/>
          <p:nvPr/>
        </p:nvPicPr>
        <p:blipFill>
          <a:blip r:embed="rId1"/>
          <a:stretch/>
        </p:blipFill>
        <p:spPr>
          <a:xfrm>
            <a:off x="-6480" y="115920"/>
            <a:ext cx="8547120" cy="877680"/>
          </a:xfrm>
          <a:prstGeom prst="rect">
            <a:avLst/>
          </a:prstGeom>
          <a:ln w="0">
            <a:noFill/>
          </a:ln>
        </p:spPr>
      </p:pic>
      <p:sp>
        <p:nvSpPr>
          <p:cNvPr id="414" name=""/>
          <p:cNvSpPr txBox="1"/>
          <p:nvPr/>
        </p:nvSpPr>
        <p:spPr>
          <a:xfrm>
            <a:off x="-360" y="1527120"/>
            <a:ext cx="8504280" cy="457200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Lucida Sans Unicode"/>
              </a:rPr>
              <a:t>Bertazza, Diaz Ortiz y Marconi </a:t>
            </a:r>
            <a:r>
              <a:rPr b="0" lang="es-MX" sz="2500" spc="-1" strike="noStrike">
                <a:solidFill>
                  <a:srgbClr val="000000"/>
                </a:solidFill>
                <a:latin typeface="Lucida Sans Unicode"/>
              </a:rPr>
              <a:t>entienden que pese a su incuestionable fundamento y a su reciente incorporación constitucional (por vía de los tratados internacionales), nuestro Derecho Penal Tributario contiene algunas normas en pugna con el principio de "non bis in idem". El paradigma de dicha confrontación se verifica, en el artículo 17º de la Ley 24.769, que reedita los problemas de su antecesor, previsto en el art. 15 de la Ley 23.771, al expresar que: </a:t>
            </a:r>
            <a:r>
              <a:rPr b="0" i="1" lang="es-MX" sz="2500" spc="-1" strike="noStrike">
                <a:solidFill>
                  <a:srgbClr val="000000"/>
                </a:solidFill>
                <a:latin typeface="Lucida Sans Unicode"/>
              </a:rPr>
              <a:t>"Las penas establecidas por esta ley serán impuestas sin perjuicio de las sanciones administrativas fiscale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15"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B64B-5FE1-47EE-AE85-71ABF55035FE}"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100" spc="-1" strike="noStrike">
                <a:solidFill>
                  <a:srgbClr val="464646"/>
                </a:solidFill>
                <a:latin typeface="Lucida Sans Unicode"/>
              </a:rPr>
              <a:t>TEMAS A DEBATIR</a:t>
            </a:r>
            <a:endParaRPr b="1" lang="en-US" sz="4100" spc="-1" strike="noStrike">
              <a:solidFill>
                <a:srgbClr val="464646"/>
              </a:solidFill>
              <a:latin typeface="Lucida Sans Unicode"/>
            </a:endParaRPr>
          </a:p>
        </p:txBody>
      </p:sp>
      <p:sp>
        <p:nvSpPr>
          <p:cNvPr id="41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Autoincrimina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Denunci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El rol del Fisc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Procedimientos en paralel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Prejudicialida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Duplicidad de sancion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Allanamient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Lucida Sans Unicode"/>
              </a:rPr>
              <a:t>Garantías Constitucionale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464646"/>
                </a:solidFill>
                <a:latin typeface="Lucida Sans Unicode"/>
              </a:rPr>
              <a:t>MUCHAS GRACIAS</a:t>
            </a:r>
            <a:endParaRPr b="1" lang="en-US" sz="60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1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2F2B-2004-46FA-A464-E9BF4F4FA152}"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
        <p:nvSpPr>
          <p:cNvPr id="373" name="3 CuadroTexto"/>
          <p:cNvSpPr/>
          <p:nvPr/>
        </p:nvSpPr>
        <p:spPr>
          <a:xfrm>
            <a:off x="785880" y="1785960"/>
            <a:ext cx="71438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da1f28"/>
                </a:solidFill>
                <a:uFillTx/>
                <a:latin typeface="Lucida Sans Unicode"/>
              </a:rPr>
              <a:t>COMISIÓN N° 1: </a:t>
            </a:r>
            <a:br>
              <a:rPr sz="4000"/>
            </a:b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70c0"/>
                </a:solidFill>
                <a:uFillTx/>
                <a:latin typeface="Lucida Sans Unicode"/>
              </a:rPr>
              <a:t>Problemática de la armonización de la Ley Penal Tributaria y la Ley de Procedimiento Fiscal</a:t>
            </a:r>
            <a:r>
              <a:rPr b="0" lang="es-AR" sz="3200" spc="-1" strike="noStrike" u="sng">
                <a:solidFill>
                  <a:srgbClr val="0070c0"/>
                </a:solidFill>
                <a:uFillTx/>
                <a:latin typeface="Lucida Sans Unicod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1 Título" descr=""/>
          <p:cNvPicPr/>
          <p:nvPr/>
        </p:nvPicPr>
        <p:blipFill>
          <a:blip r:embed="rId1"/>
          <a:stretch/>
        </p:blipFill>
        <p:spPr>
          <a:xfrm>
            <a:off x="665280" y="920880"/>
            <a:ext cx="8040600" cy="1766880"/>
          </a:xfrm>
          <a:prstGeom prst="rect">
            <a:avLst/>
          </a:prstGeom>
          <a:ln w="0">
            <a:noFill/>
          </a:ln>
        </p:spPr>
      </p:pic>
      <p:sp>
        <p:nvSpPr>
          <p:cNvPr id="375" name="PlaceHolder 1"/>
          <p:cNvSpPr>
            <a:spLocks noGrp="1"/>
          </p:cNvSpPr>
          <p:nvPr>
            <p:ph type="subTitle"/>
          </p:nvPr>
        </p:nvSpPr>
        <p:spPr>
          <a:xfrm>
            <a:off x="856800" y="2928960"/>
            <a:ext cx="7486920" cy="1752480"/>
          </a:xfrm>
          <a:prstGeom prst="rect">
            <a:avLst/>
          </a:prstGeom>
          <a:noFill/>
          <a:ln w="0">
            <a:noFill/>
          </a:ln>
        </p:spPr>
        <p:txBody>
          <a:bodyPr anchor="t">
            <a:no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Existencia o posibilidad de armonización de la ley de Procedimiento Tributario ll.683 con la ley Penal Tributaria y Previsional 24.769.</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76"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3F11-985E-49EF-97D9-0238D2B1710D}"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262080" y="-19080"/>
            <a:ext cx="9637920" cy="1598760"/>
          </a:xfrm>
          <a:prstGeom prst="rect">
            <a:avLst/>
          </a:prstGeom>
          <a:ln w="0">
            <a:noFill/>
          </a:ln>
        </p:spPr>
      </p:pic>
      <p:sp>
        <p:nvSpPr>
          <p:cNvPr id="378" name=""/>
          <p:cNvSpPr txBox="1"/>
          <p:nvPr/>
        </p:nvSpPr>
        <p:spPr>
          <a:xfrm>
            <a:off x="0" y="190332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u="sng">
                <a:solidFill>
                  <a:srgbClr val="000000"/>
                </a:solidFill>
                <a:uFillTx/>
                <a:latin typeface="Lucida Sans Unicode"/>
              </a:rPr>
              <a:t>ARMONIA</a:t>
            </a:r>
            <a:r>
              <a:rPr b="0" lang="es-MX" sz="2700" spc="-1" strike="noStrike">
                <a:solidFill>
                  <a:srgbClr val="000000"/>
                </a:solidFill>
                <a:latin typeface="Lucida Sans Unicode"/>
              </a:rPr>
              <a:t>: conveniente proporción y correspondencia de unas cosas con otras.</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roporcionalidad y correspondencia de los</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institutos contenidos en ambas normas. Sin</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mácula de strepitus foris y salvaguardando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todos y cada uno de los derechos de los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u="sng">
                <a:solidFill>
                  <a:srgbClr val="000000"/>
                </a:solidFill>
                <a:uFillTx/>
                <a:latin typeface="Lucida Sans Unicode"/>
              </a:rPr>
              <a:t>administrados</a:t>
            </a:r>
            <a:r>
              <a:rPr b="0" lang="es-MX" sz="2700" spc="-1" strike="noStrike">
                <a:solidFill>
                  <a:srgbClr val="000000"/>
                </a:solidFill>
                <a:latin typeface="Lucida Sans Unicode"/>
              </a:rPr>
              <a:t>, bien sea que se trate de un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rocedimiento contencioso administrativo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omo de un penal tributari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9"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9989-C793-429F-9A88-AF1327D38BF8}"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1 Título" descr=""/>
          <p:cNvPicPr/>
          <p:nvPr/>
        </p:nvPicPr>
        <p:blipFill>
          <a:blip r:embed="rId1"/>
          <a:stretch/>
        </p:blipFill>
        <p:spPr>
          <a:xfrm>
            <a:off x="-6480" y="-6480"/>
            <a:ext cx="8869320" cy="1774800"/>
          </a:xfrm>
          <a:prstGeom prst="rect">
            <a:avLst/>
          </a:prstGeom>
          <a:ln w="0">
            <a:noFill/>
          </a:ln>
        </p:spPr>
      </p:pic>
      <p:sp>
        <p:nvSpPr>
          <p:cNvPr id="381" name=""/>
          <p:cNvSpPr txBox="1"/>
          <p:nvPr/>
        </p:nvSpPr>
        <p:spPr>
          <a:xfrm>
            <a:off x="-360" y="1527120"/>
            <a:ext cx="8504280" cy="45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La ley </a:t>
            </a:r>
            <a:r>
              <a:rPr b="1" lang="es-MX" sz="2700" spc="-1" strike="noStrike">
                <a:solidFill>
                  <a:srgbClr val="000000"/>
                </a:solidFill>
                <a:latin typeface="Lucida Sans Unicode"/>
              </a:rPr>
              <a:t>11683</a:t>
            </a:r>
            <a:r>
              <a:rPr b="0" lang="es-MX" sz="2700" spc="-1" strike="noStrike">
                <a:solidFill>
                  <a:srgbClr val="000000"/>
                </a:solidFill>
                <a:latin typeface="Lucida Sans Unicode"/>
              </a:rPr>
              <a:t> tiene una función netamente recaudadora cuyo bien jurídico tutelado es la Administración Tributaria —en su faz formal—,  y a las Rentas Fiscales —en su faz materi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La ley </a:t>
            </a:r>
            <a:r>
              <a:rPr b="1" lang="es-MX" sz="2700" spc="-1" strike="noStrike">
                <a:solidFill>
                  <a:srgbClr val="000000"/>
                </a:solidFill>
                <a:latin typeface="Lucida Sans Unicode"/>
              </a:rPr>
              <a:t>24769</a:t>
            </a:r>
            <a:r>
              <a:rPr b="0" lang="es-MX" sz="2700" spc="-1" strike="noStrike">
                <a:solidFill>
                  <a:srgbClr val="000000"/>
                </a:solidFill>
                <a:latin typeface="Lucida Sans Unicode"/>
              </a:rPr>
              <a:t> tiene una finalidad punitiva, establece la prisión como medida represora cuando se configure  el daño (también el peligro) hacia el bien jurídico tutelado Hacienda Pública Nacion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51F4-9528-4C4F-A10E-1D1AA019A035}"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1 Título" descr=""/>
          <p:cNvPicPr/>
          <p:nvPr/>
        </p:nvPicPr>
        <p:blipFill>
          <a:blip r:embed="rId1"/>
          <a:stretch/>
        </p:blipFill>
        <p:spPr>
          <a:xfrm>
            <a:off x="-6480" y="115920"/>
            <a:ext cx="8547120" cy="877680"/>
          </a:xfrm>
          <a:prstGeom prst="rect">
            <a:avLst/>
          </a:prstGeom>
          <a:ln w="0">
            <a:noFill/>
          </a:ln>
        </p:spPr>
      </p:pic>
      <p:sp>
        <p:nvSpPr>
          <p:cNvPr id="384" name=""/>
          <p:cNvSpPr txBox="1"/>
          <p:nvPr/>
        </p:nvSpPr>
        <p:spPr>
          <a:xfrm>
            <a:off x="-360" y="1527120"/>
            <a:ext cx="8504280" cy="4572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Lucida Sans Unicode"/>
              </a:rPr>
              <a:t>Sin embargo, ambas leyes tendrán estadios procesales comunes; a saber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Lucida Sans Unicode"/>
              </a:rPr>
              <a:t>Procedimiento de inspección y colección de datos </a:t>
            </a:r>
            <a:r>
              <a:rPr b="0" lang="es-AR" sz="2500" spc="-1" strike="noStrike">
                <a:solidFill>
                  <a:srgbClr val="000000"/>
                </a:solidFill>
                <a:latin typeface="Lucida Sans Unicode"/>
              </a:rPr>
              <a:t>(arts. 33 a 35 ley 11683 vs art. 18 C.N. y el Código Procesal Penal Nacio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Lucida Sans Unicode"/>
              </a:rPr>
              <a:t>Medidas de urgencia </a:t>
            </a:r>
            <a:r>
              <a:rPr b="0" lang="es-AR" sz="2500" spc="-1" strike="noStrike">
                <a:solidFill>
                  <a:srgbClr val="000000"/>
                </a:solidFill>
                <a:latin typeface="Lucida Sans Unicode"/>
              </a:rPr>
              <a:t>(art. 35, inc. e) ley 11683 vs. art. 21 ley 24769)</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Lucida Sans Unicode"/>
              </a:rPr>
              <a:t>Procedimiento de determinación de oficio</a:t>
            </a:r>
            <a:r>
              <a:rPr b="0" lang="es-AR" sz="2500" spc="-1" strike="noStrike">
                <a:solidFill>
                  <a:srgbClr val="000000"/>
                </a:solidFill>
                <a:latin typeface="Lucida Sans Unicode"/>
              </a:rPr>
              <a:t>, asegurando el debido proceso adjetivo (arts. 16 y 17 ley 11683 vs art. 18 ley 24769)</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Lucida Sans Unicode"/>
              </a:rPr>
              <a:t>Apelación de la determinación de oficio </a:t>
            </a:r>
            <a:r>
              <a:rPr b="0" lang="es-AR" sz="2500" spc="-1" strike="noStrike">
                <a:solidFill>
                  <a:srgbClr val="000000"/>
                </a:solidFill>
                <a:latin typeface="Lucida Sans Unicode"/>
              </a:rPr>
              <a:t>(art. 76 ley 11683 vs. art. 20 ley 24769)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385"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BC2A-970B-438C-95AA-2D9DEF31FFB2}"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4909-362A-4189-A98D-17758A2B4207}"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pic>
        <p:nvPicPr>
          <p:cNvPr id="387" name="1 Título" descr=""/>
          <p:cNvPicPr/>
          <p:nvPr/>
        </p:nvPicPr>
        <p:blipFill>
          <a:blip r:embed="rId1"/>
          <a:stretch/>
        </p:blipFill>
        <p:spPr>
          <a:xfrm>
            <a:off x="-6480" y="115920"/>
            <a:ext cx="8547120" cy="877680"/>
          </a:xfrm>
          <a:prstGeom prst="rect">
            <a:avLst/>
          </a:prstGeom>
          <a:ln w="0">
            <a:noFill/>
          </a:ln>
        </p:spPr>
      </p:pic>
      <p:sp>
        <p:nvSpPr>
          <p:cNvPr id="388" name=""/>
          <p:cNvSpPr txBox="1"/>
          <p:nvPr/>
        </p:nvSpPr>
        <p:spPr>
          <a:xfrm>
            <a:off x="914400" y="154620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Son evitables las superposiciones de ambas leyes acorde a la legislación vigente?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Los datos colectados en una inspección pueden ser utilizados para fundar una denuncia penal tributaria?</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Es competente la justicia penal tributaria o penal económica para revisar las determinaciones de oficio dictadas por la AFIP-DGI?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Existe alguna diferencia entre los ilícitos dolosos de la ley penal tributaria y los ilícitos dolosos contenidos en la ley 11.683?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Son hábiles las presunciones en materia del derecho tributario represivo?</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 Se violenta el non bis in idem cuando se configuran procesos paralelo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El “Régimen de regularización impositiva, promoción y protección del empleo registrado, exteriorización y repatriación de capitales”, generó más dudas o resolvió alguno de los posibles conflictos.</a:t>
            </a:r>
            <a:endParaRPr b="0" lang="en-US" sz="1800" spc="-1" strike="noStrike">
              <a:solidFill>
                <a:srgbClr val="000000"/>
              </a:solidFill>
              <a:latin typeface="Lucida Sans Unicode"/>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1 Título" descr=""/>
          <p:cNvPicPr/>
          <p:nvPr/>
        </p:nvPicPr>
        <p:blipFill>
          <a:blip r:embed="rId1"/>
          <a:stretch/>
        </p:blipFill>
        <p:spPr>
          <a:xfrm>
            <a:off x="-225360" y="115920"/>
            <a:ext cx="8978760" cy="877680"/>
          </a:xfrm>
          <a:prstGeom prst="rect">
            <a:avLst/>
          </a:prstGeom>
          <a:ln w="0">
            <a:noFill/>
          </a:ln>
        </p:spPr>
      </p:pic>
      <p:sp>
        <p:nvSpPr>
          <p:cNvPr id="390" name=""/>
          <p:cNvSpPr txBox="1"/>
          <p:nvPr/>
        </p:nvSpPr>
        <p:spPr>
          <a:xfrm>
            <a:off x="-360" y="1527120"/>
            <a:ext cx="8504280" cy="457200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Lucida Sans Unicode"/>
              </a:rPr>
              <a:t>El profesor </a:t>
            </a:r>
            <a:r>
              <a:rPr b="1" lang="es-AR" sz="2500" spc="-1" strike="noStrike">
                <a:solidFill>
                  <a:srgbClr val="000000"/>
                </a:solidFill>
                <a:latin typeface="Lucida Sans Unicode"/>
              </a:rPr>
              <a:t>Vicente Oscar Díaz</a:t>
            </a:r>
            <a:r>
              <a:rPr b="0" lang="es-AR" sz="2500" spc="-1" strike="noStrike">
                <a:solidFill>
                  <a:srgbClr val="000000"/>
                </a:solidFill>
                <a:latin typeface="Lucida Sans Unicode"/>
              </a:rPr>
              <a:t> expresa que </a:t>
            </a:r>
            <a:r>
              <a:rPr b="0" lang="es-MX" sz="2500" spc="-1" strike="noStrike">
                <a:solidFill>
                  <a:srgbClr val="000000"/>
                </a:solidFill>
                <a:latin typeface="Lucida Sans Unicode"/>
              </a:rPr>
              <a:t>los límites de la actuación de la inspección tributaria, </a:t>
            </a:r>
            <a:r>
              <a:rPr b="1" lang="es-MX" sz="2500" spc="-1" strike="noStrike">
                <a:solidFill>
                  <a:srgbClr val="000000"/>
                </a:solidFill>
                <a:latin typeface="Lucida Sans Unicode"/>
              </a:rPr>
              <a:t>al actuar como policía administrativa</a:t>
            </a:r>
            <a:r>
              <a:rPr b="0" lang="es-MX" sz="2500" spc="-1" strike="noStrike">
                <a:solidFill>
                  <a:srgbClr val="000000"/>
                </a:solidFill>
                <a:latin typeface="Lucida Sans Unicode"/>
              </a:rPr>
              <a:t>, no pueden superar en correspondencia los que señala el Código Procesal Penal de la Nación (CPPN) para los preventores, lo cual tiene reconocimiento internacional. Agrega que los resultados del procedimiento de inspección acorde al marco legal de la ley 11683 (artículos 33 a 36), de ninguna manera pueden ser insertados como cabeza de un proceso penal. No debe </a:t>
            </a:r>
            <a:r>
              <a:rPr b="1" lang="es-MX" sz="2500" spc="-1" strike="noStrike">
                <a:solidFill>
                  <a:srgbClr val="000000"/>
                </a:solidFill>
                <a:latin typeface="Lucida Sans Unicode"/>
              </a:rPr>
              <a:t>existir un orden público supra a favor del Estado</a:t>
            </a:r>
            <a:r>
              <a:rPr b="0" lang="es-MX" sz="2500" spc="-1" strike="noStrike">
                <a:solidFill>
                  <a:srgbClr val="000000"/>
                </a:solidFill>
                <a:latin typeface="Lucida Sans Unicode"/>
              </a:rPr>
              <a:t>, en desmedro del ciudadano;</a:t>
            </a:r>
            <a:endParaRPr b="0" lang="en-US" sz="2500" spc="-1" strike="noStrike">
              <a:solidFill>
                <a:srgbClr val="000000"/>
              </a:solidFill>
              <a:latin typeface="Lucida Sans Unicode"/>
            </a:endParaRPr>
          </a:p>
        </p:txBody>
      </p:sp>
      <p:sp>
        <p:nvSpPr>
          <p:cNvPr id="391"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E8AB-F321-4062-B79C-37D1F51A8811}"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1 Título" descr=""/>
          <p:cNvPicPr/>
          <p:nvPr/>
        </p:nvPicPr>
        <p:blipFill>
          <a:blip r:embed="rId1"/>
          <a:stretch/>
        </p:blipFill>
        <p:spPr>
          <a:xfrm>
            <a:off x="-6480" y="115920"/>
            <a:ext cx="8547120" cy="877680"/>
          </a:xfrm>
          <a:prstGeom prst="rect">
            <a:avLst/>
          </a:prstGeom>
          <a:ln w="0">
            <a:noFill/>
          </a:ln>
        </p:spPr>
      </p:pic>
      <p:sp>
        <p:nvSpPr>
          <p:cNvPr id="393" name=""/>
          <p:cNvSpPr txBox="1"/>
          <p:nvPr/>
        </p:nvSpPr>
        <p:spPr>
          <a:xfrm>
            <a:off x="-360" y="1527120"/>
            <a:ext cx="8504280" cy="45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00"/>
                </a:solidFill>
                <a:latin typeface="Lucida Sans Unicode"/>
              </a:rPr>
              <a:t>Juan Pablo Fridenberg </a:t>
            </a:r>
            <a:r>
              <a:rPr b="0" lang="es-AR" sz="2700" spc="-1" strike="noStrike">
                <a:solidFill>
                  <a:srgbClr val="000000"/>
                </a:solidFill>
                <a:latin typeface="Lucida Sans Unicode"/>
              </a:rPr>
              <a:t>entiende que </a:t>
            </a:r>
            <a:r>
              <a:rPr b="0" lang="es-MX" sz="2700" spc="-1" strike="noStrike">
                <a:solidFill>
                  <a:srgbClr val="000000"/>
                </a:solidFill>
                <a:latin typeface="Lucida Sans Unicode"/>
              </a:rPr>
              <a:t>la discusión de la determinación de oficio se practica en el contencioso administrativo, en el cual se intentará dilucidar si es válida o no la pretensión fiscal en cuanto a la determinación impositiva exigida al contribuyente. En el proceso penal se investigará la conducta del contribuyente tendiente a la aplicación de una pena, en el caso en que se configuren los elementos que hacen a su tipificación.</a:t>
            </a:r>
            <a:endParaRPr b="0" lang="en-US" sz="2700" spc="-1" strike="noStrike">
              <a:solidFill>
                <a:srgbClr val="000000"/>
              </a:solidFill>
              <a:latin typeface="Lucida Sans Unicode"/>
            </a:endParaRPr>
          </a:p>
        </p:txBody>
      </p:sp>
      <p:sp>
        <p:nvSpPr>
          <p:cNvPr id="394" name="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88A7-BC5B-468C-A344-CB239D1519A2}" type="slidenum">
              <a:rPr b="0" lang="es-AR"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2:50:53Z</dcterms:created>
  <dc:creator>fsl</dc:creator>
  <dc:description/>
  <dc:language>en-US</dc:language>
  <cp:lastModifiedBy>C.P.C.E.C.A.B.A</cp:lastModifiedBy>
  <dcterms:modified xsi:type="dcterms:W3CDTF">2009-10-05T17:15:27Z</dcterms:modified>
  <cp:revision>17</cp:revision>
  <dc:subject/>
  <dc:title>TEMA CENTRAL DE DISCUS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85029338</vt:r8>
  </property>
  <property fmtid="{D5CDD505-2E9C-101B-9397-08002B2CF9AE}" pid="3" name="_AuthorEmail">
    <vt:lpwstr>tgomez@harteneck-quian.com</vt:lpwstr>
  </property>
  <property fmtid="{D5CDD505-2E9C-101B-9397-08002B2CF9AE}" pid="4" name="_AuthorEmailDisplayName">
    <vt:lpwstr>Teresa Gomez</vt:lpwstr>
  </property>
  <property fmtid="{D5CDD505-2E9C-101B-9397-08002B2CF9AE}" pid="5" name="_EmailSubject">
    <vt:lpwstr>Power point</vt:lpwstr>
  </property>
  <property fmtid="{D5CDD505-2E9C-101B-9397-08002B2CF9AE}" pid="6" name="_NewReviewCycle">
    <vt:lpwstr/>
  </property>
</Properties>
</file>