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7005638" cy="12026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913-E755-4777-879E-BFE991B1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19F-973B-4556-89AB-0D810D03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446-FFA3-4DAC-BB9E-C9D95F2D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285-995B-4A5D-B31D-BBD60D94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C622-CB53-4ACF-BDF8-D2F283B0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2CF1-F37F-4F33-AE50-4DA80F86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08DA-D41F-42B7-BEB7-A39F04E1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A30C-F7F5-4A95-8EF2-A5E03AC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82DA-69BF-426F-AB73-9E7465FB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D108-A71A-4471-8E24-85150DA7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6635-944E-4840-8390-6CDA1B7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623-284C-47FF-8D53-5E53A46B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1C9E-7302-4C88-A86C-093698AC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B1BF-4B88-4843-82D5-7EE3FE40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AA21-3C5B-4871-8369-25C5D599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1E8E-B46A-4AE8-8867-B103DDAE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2567-3305-4B09-B29D-BD554C1C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40C-45C2-42BB-846B-F59DC719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A6E-CD79-43A0-A242-18FA9C57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F72-374C-40CD-BCCB-369C77C2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077-489F-492F-B126-30637147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3C2-1704-4D56-B772-CC2446DA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3E2-50FB-460C-9D26-90915E10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1C2-A3CA-4411-8E69-4C9E722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4b00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8EFC-40A0-4333-A3A8-36DC4B2E2688}" type="datetime">
              <a:rPr b="0" lang="es-ES" sz="10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A8EF-1A49-401E-84B8-82BF598DC04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F10B-8F38-482B-AE5A-B1F8AC4967B9}" type="datetime">
              <a:rPr b="0" lang="es-ES" sz="10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A94B-4823-47F1-A023-795A3898DED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mpf.gov.ar/" TargetMode="External"/><Relationship Id="rId2" Type="http://schemas.openxmlformats.org/officeDocument/2006/relationships/hyperlink" Target="mailto:mborinsky@mpf.gov.ar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534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INISTERIO PÚBLICO FISCAL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PÚBLICA ARGENTINA</a:t>
            </a:r>
            <a:endParaRPr b="1" lang="en-US" sz="28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7164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UNIDAD FISCAL DE INVESTIGACIÓN DE DELITOS TRIBUTARIOS Y CONTRABANDO</a:t>
            </a:r>
            <a:br>
              <a:rPr sz="3200"/>
            </a:br>
            <a:r>
              <a:rPr b="1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U.F.I.T.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Fiscal General a/c de la UFITCO: Dr. Mariano H. Borins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5640" y="549360"/>
            <a:ext cx="660600" cy="76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4D08-EAF4-45C8-B991-55929D12A5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54886D9-826D-40D9-9097-785650DD56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dd7df"/>
                </a:solidFill>
                <a:latin typeface="Tahoma"/>
              </a:rPr>
              <a:t>Ámbito material de aplicación</a:t>
            </a:r>
            <a:br>
              <a:rPr sz="38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endParaRPr b="1" lang="en-US" sz="2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565360"/>
            <a:ext cx="75376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Recursos Nacionales de la Seguridad Soc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ahoma"/>
              </a:rPr>
              <a:t>Excep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portes y contribuciones de obra social que no sean del Régimen Simplificado (RG 2537 art.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portes y contribuciones del servicio doméstico (RG 2537 art.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otas de A.R.T. (RG 2576 art.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D81-B74C-4CF4-BA0A-D5E5F43142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FC4D8-D804-417A-8D0E-0FBED2D72EB2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dd7df"/>
                </a:solidFill>
                <a:latin typeface="Tahoma"/>
              </a:rPr>
              <a:t>Ámbito material de aplicación</a:t>
            </a:r>
            <a:br>
              <a:rPr sz="35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endParaRPr b="1" lang="en-US" sz="2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Infracciones firm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ater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orm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xcepción: infracciones vinculadas con regímenes promocionales firmes o no (RG 2537 art.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lanes de pag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igentes al 22/12/08, excepto por los cuales se solicitó la extinción de la acción penal con fundamento en el art.16 de la LPT o 73 de la ley 25.4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aducos (situación especial regímenes de promoció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439-B2D4-4DD3-97A9-05D5B919F3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97AC4-60BD-4D44-9757-BA20A391AA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dd7df"/>
                </a:solidFill>
                <a:latin typeface="Tahoma"/>
              </a:rPr>
              <a:t>Ámbito espacial de aplicación</a:t>
            </a:r>
            <a:br>
              <a:rPr sz="3500"/>
            </a:b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 ley 26.476 se aplica en todo el territorio de la República Argentin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Situación del Área Aduanera Especial (AAE) de Tierra del Fuego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 ley se aplica a todos los impuestos nacionales (I.V.A., Ganancias, S.U.S.S, Internos, Combustibles, et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exenciones vigentes en dicho territorio hacen que el ámbito material de aplicación de la ley sea meno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Operaciones exentas de I.V.A. y Ganancias: las realizadas en el AAE y desde el AAE al Territorio Continental Nacional sólo con relación a bienes de origen en el AA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Bienes exentos de Bienes Personales y G.M.P.: los situados en el AAE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ABD-0C22-4EFC-8281-5F06D09C07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3EDED-5F00-490B-AA24-90A32978D4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Regímenes promocionales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Una interpretación sistemática que respete el espíritu de las leyes 24.769 y 26.476, y en especial, del juego armónico del art. 1° de la Ley 26.476  y del art. 3° inc. c) de la RG 2.537 permite inferir que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Las únicas obligaciones e infracciones susceptibles de ser regularizadas son las que se originan en el decaimiento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no fraudulento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del régimen promocion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or el contrario, las obligaciones e infracciones vinculadas con regímenes promocionales vigentes, como así también las correspondientes a regímenes respecto de los cuales se decretó su decaimiento por fraude del contribuyente, se encuentran excluidos del régim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n definitiva los casos del arts. 2 inc. c), 3 y 4 de la ley 24.769 </a:t>
            </a:r>
            <a:r>
              <a:rPr b="0" lang="es-MX" sz="2200" spc="-1" strike="noStrike">
                <a:solidFill>
                  <a:srgbClr val="ff0000"/>
                </a:solidFill>
                <a:latin typeface="Tahoma"/>
              </a:rPr>
              <a:t>no estarían abarcados por la morator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ED6-599A-4E06-B89D-1A1DEE3CEE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A1B2F-F4CA-4258-B51B-DC59F5A86D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dd7df"/>
                </a:solidFill>
                <a:latin typeface="Tahoma"/>
              </a:rPr>
              <a:t>Ámbito temporal de aplicación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489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blicación y entrada en vigencia de la ley 26.476: 24/12/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lazo para acogerse al régimen: seis meses calendario contados desde el 01/03/09 al 31/08/09 (art.1) prorrogables por el P.E.N. por un plazo igual (art.4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ones comprendidas: las vencidas e infracciones cometidas al 31/12/07. Ej. Para las obligaciones de liquidación mensual abarca hasta el mes 11/0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347-4485-4AE6-8382-930B6CD2C9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276A0-24DC-4EC1-9DE9-EA8CD6E347B4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dd7df"/>
                </a:solidFill>
                <a:latin typeface="Tahoma"/>
              </a:rPr>
              <a:t>Extensión del ámbito temporal</a:t>
            </a:r>
            <a:br>
              <a:rPr sz="3500"/>
            </a:br>
            <a:r>
              <a:rPr b="1" lang="en-US" sz="2000" spc="-1" strike="noStrike">
                <a:solidFill>
                  <a:srgbClr val="cdd7df"/>
                </a:solidFill>
                <a:latin typeface="Tahoma"/>
              </a:rPr>
              <a:t>(art.2 RG 2537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489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Cambia la referencia a “obligaciones vencidas” por “períodos fiscales vencidos”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De ese modo, se amplía por vía reglamentaria el ámbito de aplicación de la norma. Ej. El impuesto a las Ganancias para una empresa cuyo período fiscal cerró el 31/12/07, la obligación tributaria  venció en el mes de mayo de 2008. Por el texto de la ley estaría excluido del régimen pero por la norma reglamentaria quedaría comprendida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22D-DA62-40D6-A781-E13CD62F75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1474D-1CB0-4C14-B5D7-D81937124857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dd7df"/>
                </a:solidFill>
                <a:latin typeface="Tahoma"/>
              </a:rPr>
              <a:t>Advertencias respecto de la reglamentación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ampliación del ámbito material de aplicación de la ley a través de las resoluciones generales citadas puede ser objeto de reproche constitucional por violación al principio de legalidad. V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mite la regularización del componente previsional y de obra social de Monotribu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xtiende los beneficios impositivos de liberación de multas, intereses y demás sanciones a las obligaciones canceladas hasta el 28 de febrero del 2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mplía el ámbito subjetivo de aplica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275-38C0-4D31-95A1-AC04BBF612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284A0-50EB-4887-9C9B-AA3BC3B708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304560"/>
            <a:ext cx="8066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Forma y requisitos de la adhesión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llanamiento/desistimiento/renuncia (art.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 pago a cuenta del 6% de la deuda consolidada y el ingreso del saldo en cuotas mensuales (máximo 120 cuotas) con un interés de financiamiento sobre saldo del 0,75% mens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mplimiento de la obligación formal con anterioridad al acogimiento (art.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CDA-D137-4597-A48A-58EC0B87B1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D2482-3510-4261-9951-6189B40DF6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929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Beneficios fiscales del régimen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543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donación de todas las sanciones no firmes (no consentidas o ejecutoriadas al 24/12/0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xención de intereses resarcitorios y/o punitorios que super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30% del capital adeudado (adhesión en marzo y abr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40% del capital adeudado (adhesión en mayo y jun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50% del capital adeudado (adhesión en julio y agos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Nota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: no comprende los intereses de los aportes con destino al SIJP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757-FA59-4B79-9C58-AA4D2A8BA3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39B6A-FB2D-46F5-846D-3BE195A68F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40464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Efectos </a:t>
            </a: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art.3 y 42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2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l acogimiento al régim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spensión de la acción penal por delito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terrupción del plazo de prescripción pe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l pago total de la deuda en las condiciones previstas en el régimen o por cumplimiento total del plan de pag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xtinción de la acción pe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ispensa a la A.F.I.P. de formular denuncia pe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FE7-1EA5-4B91-B0D0-1C8CB943AB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701C3-31D2-4969-ABA1-C87362BAF2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850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égimen de regularización impositiva, promoción y protección del empleo registrado, exteriorización y repatriación de capitale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- Ley Nº 26.476 -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71640" y="5589360"/>
            <a:ext cx="792144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Expositor: Dr. Mariano H. Borins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7CBB-1D99-4D77-AB96-F1D5BF25D3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84B11A0-43D8-41D0-AB26-3E1C9BA263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Denuncia penal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ley 26.476 no modifica el Código Procesal Penal de la Nación, la Ley Orgánica del Ministerio Público 24946, ni el art.18 de la Ley Penal Tributaria 24769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es-MX" sz="2400" spc="-1" strike="noStrike">
                <a:solidFill>
                  <a:srgbClr val="ff0000"/>
                </a:solidFill>
                <a:latin typeface="Tahoma"/>
              </a:rPr>
              <a:t>dispens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formular denuncia penal comprende sólo a la A.F.I.P., subsistiendo al respecto las facultades del M.P.F. y de los terceros (art.18, 3er párrafo ley 24.769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tiene carácter imperativo (a diferencia del art.15 </a:t>
            </a:r>
            <a:r>
              <a:rPr b="0" lang="es-MX" sz="2400" spc="-1" strike="noStrike">
                <a:solidFill>
                  <a:srgbClr val="ff0000"/>
                </a:solidFill>
                <a:latin typeface="Tahoma"/>
              </a:rPr>
              <a:t>“se abstrendrá de formular”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t. Oficio en la regularización de empleo no registr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4E2-F9DF-4E68-AFEA-34DC5247E1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807AE-40EC-4BAF-B72E-1DCDBDB4A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cdd7df"/>
                </a:solidFill>
                <a:latin typeface="Tahoma"/>
              </a:rPr>
              <a:t>Denuncia penal</a:t>
            </a:r>
            <a:br>
              <a:rPr sz="3900"/>
            </a:b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sí el art. 42 puede interpretarse como una garantía a la A.F.I.P. de que no se los denunciará por encubrimiento por no denunci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Y para el contribuyente de que no será denunciado por la A.F.I.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lo, en la medida que cumpla con el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259-6D59-4A49-A27E-CA41E53DDB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5C75F-BF54-4B3D-9C68-23C1C52691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Cuestiones procedimentales en sede penal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lgunas propuestas efectuadas por esta unidad Especializada a la A.F.I.P. a los fines de una adecuada administración de justi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estación de oficios en formato estandarizado y con la inclusión de toda la información necesaria a los fines de la aplicación del art.3 de la ley 26.476 (vg. impuesto, períodos, mont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informe al Juzgado interviniente en breve plazo la caducidad, el rechazo o anulación del plan de pagos sin necesidad de requerimiento judic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glamentación del art.41 relativo a los delitos conex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B1D-D903-4A48-AA30-6F492499F4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CB3F6-C372-499F-B8DF-1A23AD2919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Ley más benigna</a:t>
            </a:r>
            <a:br>
              <a:rPr sz="3500"/>
            </a:br>
            <a:r>
              <a:rPr b="0" lang="es-MX" sz="2000" spc="-1" strike="noStrike">
                <a:solidFill>
                  <a:srgbClr val="cdd7df"/>
                </a:solidFill>
                <a:latin typeface="Tahoma"/>
              </a:rPr>
              <a:t>Art.16 ley 24.769, a</a:t>
            </a:r>
            <a:r>
              <a:rPr b="0" lang="es-ES" sz="2000" spc="-1" strike="noStrike">
                <a:solidFill>
                  <a:srgbClr val="cdd7df"/>
                </a:solidFill>
                <a:latin typeface="Tahoma"/>
              </a:rPr>
              <a:t>rt. 73 ley 25.401 y arts. 7 y 3 de la ley 26.476</a:t>
            </a:r>
            <a:r>
              <a:rPr b="1" lang="es-ES" sz="4000" spc="-1" strike="noStrike">
                <a:solidFill>
                  <a:srgbClr val="cdd7df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la ley 26.476 es más benigna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 respecto de los delitos a los cuales se aplica </a:t>
            </a:r>
            <a:r>
              <a:rPr b="0" lang="es-AR" sz="2400" spc="-1" strike="noStrike">
                <a:solidFill>
                  <a:srgbClr val="ff0000"/>
                </a:solidFill>
                <a:latin typeface="Tahoma"/>
              </a:rPr>
              <a:t>(todos los de la ley)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, de su ámbito temporal de aplicación, y del </a:t>
            </a:r>
            <a:r>
              <a:rPr b="0" i="1" lang="es-AR" sz="2400" spc="-1" strike="noStrike">
                <a:solidFill>
                  <a:srgbClr val="ffffff"/>
                </a:solidFill>
                <a:latin typeface="Tahoma"/>
              </a:rPr>
              <a:t>quantum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 de la obligación tributaria que debe regularizarse a efectos de que el imputado pueda beneficiarse del rég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la ley 25.401 es más benigna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 en cuanto refiere a los delitos a los cuales se aplica </a:t>
            </a:r>
            <a:r>
              <a:rPr b="0" lang="es-AR" sz="2400" spc="-1" strike="noStrike">
                <a:solidFill>
                  <a:srgbClr val="ff0000"/>
                </a:solidFill>
                <a:latin typeface="Tahoma"/>
              </a:rPr>
              <a:t>(todos los de la ley)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, a la cantidad de veces que puede ser utilizado el régimen, y a los efectos del pago respecto del ejercicio de la acción penal públ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373-D525-4F69-8C4C-9A1D418632F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027B1-6894-473D-927F-E424562379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cdd7df"/>
                </a:solidFill>
                <a:latin typeface="Tahoma"/>
              </a:rPr>
              <a:t>Ley más benigna</a:t>
            </a:r>
            <a:br>
              <a:rPr sz="3900"/>
            </a:b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r>
              <a:rPr b="1" lang="es-ES" sz="4400" spc="-1" strike="noStrike">
                <a:solidFill>
                  <a:srgbClr val="cdd7df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el art. 16 de la ley 24.769 resulta claramente más gravoso 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que los arts. 73 de la ley 25.401 y 3, 7 y 9 de la ley 26.476, por ejemplo, con relación a los delitos a los cuales se aplica, a su ámbito temporal de aplicación, a la cantidad de veces que puede ser utilizado el régimen, y al </a:t>
            </a:r>
            <a:r>
              <a:rPr b="0" i="1" lang="es-AR" sz="2400" spc="-1" strike="noStrike">
                <a:solidFill>
                  <a:srgbClr val="ffffff"/>
                </a:solidFill>
                <a:latin typeface="Tahoma"/>
              </a:rPr>
              <a:t>quantum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 de la obligación tributaria que debe regularizarse a efectos de que el imputado pueda beneficiarse del rég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4CC-C341-4837-A583-3F059F9248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0507A-B37B-4E64-BE8E-993FBD943B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80773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Título II</a:t>
            </a:r>
            <a:endParaRPr b="1" lang="en-US" sz="4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00000" y="4149360"/>
            <a:ext cx="82440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Regularización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de empleo no registrado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8575-8C7E-424F-82DA-CC0DB30014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37093A5-16B0-4E00-95F6-2FD34F5E6CC6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dd7df"/>
                </a:solidFill>
                <a:latin typeface="Tahoma"/>
              </a:rPr>
              <a:t>Naturaleza del régimen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reúne las características de una amnist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 especial con relación al art.1 del Título 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dría considera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 obstáculo a la perseguib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a suspensión o extinción “ministerio legis” de la acción (C.S.J.N.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.766.XXXIX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 re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kchelliá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946-C00A-4028-9666-C6895FCF83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23B60-20A5-4B2D-BC04-F1C4CB0E24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dd7df"/>
                </a:solidFill>
                <a:latin typeface="Tahoma"/>
              </a:rPr>
              <a:t>Ámbito material de aplicación</a:t>
            </a:r>
            <a:br>
              <a:rPr sz="3800"/>
            </a:br>
            <a:r>
              <a:rPr b="1" lang="en-US" sz="2000" spc="-1" strike="noStrike">
                <a:solidFill>
                  <a:srgbClr val="cdd7df"/>
                </a:solidFill>
                <a:latin typeface="Tahoma"/>
              </a:rPr>
              <a:t>Art.11, 12  y 17 Ley 26.476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2852280"/>
            <a:ext cx="75376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bligaciones originadas en relaciones laborales regidas por la ley 24.013 (Ley de Emple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registr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gistradas defectuosamente (ej. menor remuneración, fecha de ingreso posteri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128-0567-4C8E-941A-885CAF2D7D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56664-F2E4-46BD-8B23-6E8D5D34BBC6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dd7df"/>
                </a:solidFill>
                <a:latin typeface="Tahoma"/>
              </a:rPr>
              <a:t>Ámbito temporal de aplicación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46604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blicación y entrada en vigencia de la ley 26.476: 24/12/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lazo para acogerse al régimen: ciento ochenta días corridos contados desde el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02/02/09 (art.14) prorrogables por el P.E.N. por un plazo igual (art.47). Facultad ejercida por el Dto. 1018 del 30/07/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ones comprendidas: las derivadas de relaciones laborales existentes al 24/12/08 (art.1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775-E261-48FF-9BF4-EE1867F1AC0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C4B75-87FF-4CD1-8A22-7B52C329EB8C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304560"/>
            <a:ext cx="8066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Forma y requisitos de la adhesión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lta y/o rectificación de los datos del trabajador ante la A.F.I.P. y en los registros del emple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esentación de las Declaraciones Juradas por los períodos que se regularic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sión de las modificaciones en las Declaraciones Juradas a partir del período 12/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llanamiento/desistimiento/renuncia (art.1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 pago a cuenta del 6% de la deuda consolidada y el ingreso del saldo en cuotas mensuales (máximo 120 cuotas) con un interés de financiamiento sobre saldo del 0,6% an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3F2-56DA-4732-8636-18D5427067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F7EDA-22D5-4F48-AEBF-C7B92E76C5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Antecedentes de la norma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75438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exto socio econó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nsaje de elevación del proyecto al Poder Legisla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9D1-2FA2-4CD7-91B1-D3ED4A0E38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DC886-291C-492B-9C05-73D35ED131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826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cdd7df"/>
                </a:solidFill>
                <a:latin typeface="Tahoma"/>
              </a:rPr>
              <a:t>Beneficios fiscales del régimen</a:t>
            </a:r>
            <a:endParaRPr b="1" lang="en-US" sz="38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Tahoma"/>
              </a:rPr>
              <a:t>En cuanto a la regularización de relaciones laborales de hasta 10 empleados: se extingue la deuda anterior generada (aportes y contribuciones) por dichas relaciones vinculadas al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Tahoma"/>
              </a:rPr>
              <a:t>S.I.J.P. ley 24.241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Tahoma"/>
              </a:rPr>
              <a:t>I.N.S.S.J.P. (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nstituto Nacional de Servicios Sociales para Jubilados y Pensionados)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900" spc="-1" strike="noStrike">
                <a:solidFill>
                  <a:srgbClr val="ffffff"/>
                </a:solidFill>
                <a:latin typeface="Tahoma"/>
              </a:rPr>
              <a:t> ley 19.03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Tahoma"/>
              </a:rPr>
              <a:t>Régimen Nacional de seguro de salu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Tahoma"/>
              </a:rPr>
              <a:t>Fondo Nacional de empleo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Tahoma"/>
              </a:rPr>
              <a:t>Régimen Nacional de obras social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Tahoma"/>
              </a:rPr>
              <a:t>Asignaciones familiar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Tahoma"/>
              </a:rPr>
              <a:t>Registro de trabajadores rural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Tahoma"/>
              </a:rPr>
              <a:t>Régimen de riesgos del trabajo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Tahoma"/>
              </a:rPr>
              <a:t>Cuotas sindicales y contribuciones solidarias pactadas en los convenios colectivos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AEE-D0C9-4617-883F-BE316190DB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FF174-D2D4-4AE2-88B4-2C66885B69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826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cdd7df"/>
                </a:solidFill>
                <a:latin typeface="Tahoma"/>
              </a:rPr>
              <a:t>Beneficios fiscales del régimen</a:t>
            </a:r>
            <a:br>
              <a:rPr sz="3800"/>
            </a:b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5438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 partir de la relación laboral con el empleado N° 11°: sólo se extingue la deuda generada (aportes y contribuciones) por dichas relaciones referida 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égimen de riesgos del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otas sindicales y contribuciones solidarias pactadas en los convenios colectiv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donación de todas las sanciones firmes o no vinculadas con la totalidad de las relaciones laborales que se regulariz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472-1086-4479-9681-3679C48BC73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B826B-C420-441B-8E71-205255E11F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826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cdd7df"/>
                </a:solidFill>
                <a:latin typeface="Tahoma"/>
              </a:rPr>
              <a:t>Beneficios fiscales del régimen</a:t>
            </a:r>
            <a:br>
              <a:rPr sz="3800"/>
            </a:b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xención de intereses resarcitorios y/o punitorios que superen el 20% del capital adeudado cualquiera sea la fecha de regular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Nota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: cuando se trate de relaciones cuyos datos se rectifican los beneficios proceden sólo respecto de la parte regulariz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44C-3C4A-4622-8585-4E857A8BA8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A6CBD-DFF5-4985-8FC9-87569BFA34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Efectos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8264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0000"/>
                </a:solidFill>
                <a:latin typeface="Tahoma"/>
              </a:rPr>
              <a:t>En sede penal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: se aplica el art. 3 del Título I (interpretación sistémic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os supuestos del Titulo II (art. 11) resultan ser casos de evasión prevision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or el Título II sólo se regula la forma de acogimiento y los efectos sobre las infracciones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Así, en cuanto a los efectos en sede penal hay que remitirse al art. 3, que a su vez remite a los supuestos del art. 1 que hace referencia, entre otros, a “los recursos de la seguridad social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sto explica que no exista en el Titulo II una norma específica al respec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E78-BF7A-4246-A34F-32AD2B666F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6FBEF-D0D1-49A5-9374-B6701B1EA8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Efectos</a:t>
            </a:r>
            <a:br>
              <a:rPr sz="3500"/>
            </a:b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8264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ahoma"/>
              </a:rPr>
              <a:t>En sede administrativ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s erogaciones realizadas con anterioridad al 24/12/08 y vinculadas con las relaciones laborales que re declaren tienen el carácter de no alcanzadas para el impuesto a las ganancias y el I.V.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i la A.F.I.P. ni las demás instituciones de la seguridad social pueden determinar deuda o imputar infracciones vinculadas con las relaciones laborales que se declaran en el presente rég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667-17D6-4A91-AF59-77DDDAE2750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26C2D-C70E-4A18-B798-AB7BC8ACA2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80773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Título III</a:t>
            </a:r>
            <a:endParaRPr b="1" lang="en-US" sz="4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00000" y="3860640"/>
            <a:ext cx="82440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Exteriorización de la tenencia de moneda nacional, extranjera, divisas y demás bienes en el país y en el exteri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33D3-D395-49B1-B935-905384A2FC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05A82F2-9601-4FD5-8A56-559129F291F0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Naturaleza del régimen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Tributo especial y distinto (art. 27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otestad tributaria en </a:t>
            </a:r>
            <a:r>
              <a:rPr b="0" lang="es-MX" sz="2200" spc="-1" strike="noStrike">
                <a:solidFill>
                  <a:srgbClr val="ff0000"/>
                </a:solidFill>
                <a:latin typeface="Tahoma"/>
              </a:rPr>
              <a:t>impuestos directos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Reemplaza Ganancias, Bienes Personales, etc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0000"/>
                </a:solidFill>
                <a:latin typeface="Tahoma"/>
              </a:rPr>
              <a:t>Los impuestos directos son potestad de las provincias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(75 inc. 2,</a:t>
            </a:r>
            <a:r>
              <a:rPr b="0" i="1" lang="es-MX" sz="2200" spc="-1" strike="noStrike">
                <a:solidFill>
                  <a:srgbClr val="ffffff"/>
                </a:solidFill>
                <a:latin typeface="Tahoma"/>
              </a:rPr>
              <a:t> a contrario sensu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, y 121 CN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mo excepción, el Estado Nacional puede establecer impuestos directos por </a:t>
            </a:r>
            <a:r>
              <a:rPr b="0" lang="es-MX" sz="2200" spc="-1" strike="noStrike">
                <a:solidFill>
                  <a:srgbClr val="ff0000"/>
                </a:solidFill>
                <a:latin typeface="Tahoma"/>
              </a:rPr>
              <a:t>tiempo determinado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y siempre que se cumplan </a:t>
            </a:r>
            <a:r>
              <a:rPr b="0" lang="es-MX" sz="2200" spc="-1" strike="noStrike">
                <a:solidFill>
                  <a:srgbClr val="ff0000"/>
                </a:solidFill>
                <a:latin typeface="Tahoma"/>
              </a:rPr>
              <a:t>fines determinados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ff0000"/>
                </a:solidFill>
                <a:latin typeface="Tahoma"/>
              </a:rPr>
              <a:t>(defensa, seguridad común, bienestar general del Estado, art.75 inc.2 CN).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Esto podría plantear un cuestionamiento constitucion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No establece un plan de pagos para el saldo del impuesto que se determine y liquide (RG 2537 art.49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FD3-26A4-46AB-990E-BD0F34BDD5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F5FF0-6B52-42FB-8270-712C4EF5E7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dd7df"/>
                </a:solidFill>
                <a:latin typeface="Tahoma"/>
              </a:rPr>
              <a:t>Ámbito material de aplicación</a:t>
            </a:r>
            <a:br>
              <a:rPr sz="3800"/>
            </a:br>
            <a:r>
              <a:rPr b="1" lang="en-US" sz="2000" spc="-1" strike="noStrike">
                <a:solidFill>
                  <a:srgbClr val="cdd7df"/>
                </a:solidFill>
                <a:latin typeface="Tahoma"/>
              </a:rPr>
              <a:t>Art.25 Ley 26.476, art.41 RG 2537 y art.14 y 15 RG 2576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5376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Tenencia de bienes NO declar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Muebles y/o inmuebles situados en el país o en el exterior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(no importa la titularidad registral cuando se trate de personas físicas o sucesiones indivisas)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Nota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: comprende los bienes de cambio con los alcances y limitaciones de la RG 2576 art.15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Moneda y/o divisas en el exterior: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sólo cuando estén depositadas en entidades sujetas a la supervisión de sus respectivos bancos centr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Moneda en el país: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66ff33"/>
                </a:solidFill>
                <a:latin typeface="Tahoma"/>
              </a:rPr>
              <a:t>debe afectarse a alguno de los destinos previstos en la ley (títulos públicos, compra de viviendas nuevas u otras inversiones) o depositarse en instituciones regidas por la ley de entidades financieras (Ley Nº 21.526). RG 2650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F17-D59E-418C-9D84-82748D14AB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A0DA5-1B54-4C0B-95C8-CBAC23627007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dd7df"/>
                </a:solidFill>
                <a:latin typeface="Tahoma"/>
              </a:rPr>
              <a:t>Ámbito material de aplicación</a:t>
            </a:r>
            <a:br>
              <a:rPr sz="3800"/>
            </a:br>
            <a:r>
              <a:rPr b="1" lang="en-US" sz="20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Tahoma"/>
              </a:rPr>
              <a:t>Sujetos: comprende tanto a los inscriptos como a los no inscripto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Personas física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Sucesiones indivisa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Sociedades constituidas en el paí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Empresas unipersonales ubicadas en el paí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Fideicomisos en los que el fiduciante sea beneficiario (excepto fideicomisos financieros y cuando se trate de un beneficiario del exterior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B68-6956-4924-8DD7-F79A1F1C724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CE3DB-21D4-46F7-ADFB-A5E7946E4F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dd7df"/>
                </a:solidFill>
                <a:latin typeface="Tahoma"/>
              </a:rPr>
              <a:t>Ámbito temporal de aplicación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489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blicación y entrada en vigencia de la ley 26.476: 24/12/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lazo para acogerse al régimen: seis meses calendario contados desde el 01/03/09 al 31/08/09 (art.26) prorrogables por el P.E.N. por un plazo igual (art.47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ienes comprendidos: </a:t>
            </a:r>
            <a:r>
              <a:rPr b="0" lang="es-MX" sz="2400" spc="-1" strike="noStrike">
                <a:solidFill>
                  <a:srgbClr val="ff0000"/>
                </a:solidFill>
                <a:latin typeface="Tahoma"/>
              </a:rPr>
              <a:t>los no declarad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n períodos fiscales no prescriptos al 24/12/08 y finalizados hasta el 31/12/0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EA6-10E9-43C9-AD2C-C651668D75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7F446-E049-453E-BDBB-A79DEAF48A15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5376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Regímenes comprendidos en la denominada “ley de blanqueo fiscal”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44640"/>
            <a:ext cx="78264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arización de impuestos y recursos de la seguridad social – Título I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égimen especial de regularización del empleo no registrado y promoción y protección del empleo registrado – Título II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riorización de la tenencia de moneda nacional, extranjera, divisas y demás bienes en el país y en el exterior – Título III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B7C-04FC-4DED-B377-1899939796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4E1D1-72EF-4626-9769-70265C93F2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dd7df"/>
                </a:solidFill>
                <a:latin typeface="Tahoma"/>
              </a:rPr>
              <a:t>Supuesto especial</a:t>
            </a:r>
            <a:br>
              <a:rPr sz="3900"/>
            </a:br>
            <a:r>
              <a:rPr b="1" lang="en-US" sz="2000" spc="-1" strike="noStrike">
                <a:solidFill>
                  <a:srgbClr val="cdd7df"/>
                </a:solidFill>
                <a:latin typeface="Tahoma"/>
              </a:rPr>
              <a:t>Art.28 ley 26.476, art.50 RG 2537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844640"/>
            <a:ext cx="75376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Tahoma"/>
              </a:rPr>
              <a:t>Situación especial (retroactividad): </a:t>
            </a: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la tenencia de moneda extranjera o divisas que hayan estado depositadas en el exterior tres meses consecutivos con anterioridad al 31/12/07 y que al 24/12/08 </a:t>
            </a:r>
            <a:r>
              <a:rPr b="0" lang="es-MX" sz="2300" spc="-1" strike="noStrike">
                <a:solidFill>
                  <a:srgbClr val="ff0000"/>
                </a:solidFill>
                <a:latin typeface="Tahoma"/>
              </a:rPr>
              <a:t>hayan sido destinados a</a:t>
            </a: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La adquisición de bienes no fungibles situados en el paí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La capitalización de empresas </a:t>
            </a:r>
            <a:r>
              <a:rPr b="0" lang="es-MX" sz="2300" spc="-1" strike="noStrike">
                <a:solidFill>
                  <a:srgbClr val="66ff33"/>
                </a:solidFill>
                <a:latin typeface="Tahoma"/>
              </a:rPr>
              <a:t>(incluye aportes a fideicomisos no financieros) RG 2650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Préstamo de otros sujetos del impuesto a las Ganancia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Siempre que se mantenga el destino al 24/12/08 y por el término de dos año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B62-D569-44D2-AD55-7707EC9887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63C57-69FD-43D2-B133-DBA26EB848B9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dd7df"/>
                </a:solidFill>
                <a:latin typeface="Tahoma"/>
              </a:rPr>
              <a:t>Supuesto especial</a:t>
            </a:r>
            <a:br>
              <a:rPr sz="3900"/>
            </a:br>
            <a:r>
              <a:rPr b="1" lang="en-US" sz="20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2923920"/>
            <a:ext cx="75376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5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Tahoma"/>
              </a:rPr>
              <a:t>Ratio legis: </a:t>
            </a: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la retroactividad es en beneficio del contribuyente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5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El fundamento sería no castigar al contribuyente que repatrió capitales con anterioridad a la entrada en vigencia de la ley y otorgarle el mismo tratamiento que al que se adhiere a los beneficios del régimen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FFC-41B7-4FB1-93FC-E456406134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834FF-382C-432E-B30E-63D86A47E033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304560"/>
            <a:ext cx="8066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Forma y requisitos de la exteriorización </a:t>
            </a: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art.26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Tenencia de moneda o divisas en el exterior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diante la declaración de su depósito en entidades del exterior (certificado art.3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diante la transferencia al país a través de entidades financieras (2 años de permanencia en cuentas especiales o hasta que se afecte según art.2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Requisitos de las entidades del exteri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pervisadas por un Banco Central, Comisión de Valores o equival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dicadas en países que cumplimenten normas o recomendaciones internacionalmente reconocidas en materia de prevención y lavado de activos y financiación del terrorism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51F-73E1-4F2C-A8EC-14B1F611B0E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E6672-DC4D-4CE1-9DB2-ECE08C7A93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Propuesta de UFITCo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acuerdo al GAFI (Grupo de Acción Financiera) no existen países que no cooperen con la prevención del lavado de activ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ra darle contenido sustancial, debe vincularse el art. 44 de la RG 2.537 -referido al requisito de cumplimiento por parte de los países en los que se encuentran dichos bienes y/o activos de las normas o recomendaciones internacionalmente reconocidas en materia de prevención de lavado de activos y financiación del terrorismo-, con el art. 7° s/n a continuación del art. 21 del Decreto 1344/98 reglamentario de la Ley del impuesto a las ganancias, que enumera los países considerados de baja o nula tribut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876-182A-4FD9-AD52-EADF5C1AB5E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8E1ED-1733-40EF-A623-E9D67E4590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304560"/>
            <a:ext cx="8066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Forma y requisitos de la exteriorización </a:t>
            </a: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844280"/>
            <a:ext cx="77533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Tenencia de moneda en el paí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Mediante su depósito en entidades financieras (2 años de permanencia en cuent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Mediante su afectación de acuerdo al art.27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Tenencia de otros bienes muebles o inmuebles en el país o en el exterior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Mediante presentación de Declaración Jurada que los individuali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n todos los supuestos se deberá presentar Declaración Jurada informativa bajo apercibimiento de caducidad del régimen (RG 2576 art.14)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742-531F-4C4D-BE56-425F28D94EF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13195-9670-4970-B800-190FDF678B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304560"/>
            <a:ext cx="8066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Forma y requisitos de la exteriorización </a:t>
            </a: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5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El impuesto determinado y liquidado se debe ingresar de contado y hasta el día 10 del mes inmediato siguiente al de presentación de la Declaración Jurada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spcBef>
                <a:spcPts val="5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Renuncia/desistimiento de toda acción vinculada con el Dto.1043/03 o que pretenda una actualización a los fines impositivos (art.41 último párrafo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B14-243E-4779-98F9-6FCCBCA5150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69B3B-39C2-432E-A8D1-08D1FFE0A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929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Alícuotas del impuesto especial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5614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Bienes, moneda y divisas en el exterior que se declaren y no se transfieran al país: (8%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Bienes y moneda en el país que se declaren y no se le de ninguna de las afectaciones que prevé la ley (6%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Bienes, moneda y divisas en el país o en el exterior que se afecten a – o reafecten hasta el 31/08/09 art.3 RG 2609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La suscripción de títulos públicos del Estado Nacional: 3% si se mantienen 24 meses o más y 8% si se transfieren antes de dicho plazo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La compra de vivienda nuevas: 1% siempre que el titular sea persona física y las conserve por un plazo no inferior a 2 año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La construcción de nuevos inmuebles, inversiones agroganaderas, industriales, turismo o servicios en el país: 1% y las conserve el titular por un plazo no inferior a 2 años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D7C-CBAA-4E42-9A9D-82693A936D0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9A296-C1AF-4FFA-A5E5-9AE34B5C38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3929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Beneficios fiscales del régimen</a:t>
            </a:r>
            <a:br>
              <a:rPr sz="3500"/>
            </a:b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Art.32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543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acultad de no informar a la A.F.I.P. la fecha de compra y/o el origen de los fon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sujeción a la presunción del art.18 inc. f ley 11.683 (incrementos patrimoniales no justificad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ción del pago del Impuesto a las Ganancias, a la transferencia de inmuebles, a los créditos y débitos en cuenta bancaria, internos,  I.V.A., a la ganancia mínima presunta, bienes personales y a la contribución especial sobre el capital de las cooperativa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7F4-91D0-4FBD-9516-D0B67FC58CC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D296F-3953-430F-B51B-92AAE05322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3929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Excepción</a:t>
            </a:r>
            <a:br>
              <a:rPr sz="3900"/>
            </a:b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Art.36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543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El título III no se aplica sobre el impuesto declarado por el contribuyente o determinado de oficio antes del 24/12/08. Tampoco a las retenciones o percepciones practicadas y no ingresada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El objeto de este título es </a:t>
            </a:r>
            <a:r>
              <a:rPr b="0" i="1" lang="es-MX" sz="2300" spc="-1" strike="noStrike">
                <a:solidFill>
                  <a:srgbClr val="ffffff"/>
                </a:solidFill>
                <a:latin typeface="Tahoma"/>
              </a:rPr>
              <a:t>blanquear</a:t>
            </a: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 lo que la administración desconoce, al haber sido ya declarados o detectados.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Tahoma"/>
              </a:rPr>
              <a:t>Estos supuestos sólo pueden dar lugar a las posibilidades que establece el Título I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F9A-AD63-43FE-92A7-2388B6F370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1898D-5EFF-4358-BBC7-4E1C36CAF1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40464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Efectos</a:t>
            </a:r>
            <a:br>
              <a:rPr sz="3500"/>
            </a:b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art.32 inc.b y c, art.33, art.34 y art.42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2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l acogimiento al régi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tinción de la acción penal art.3 (necesariamente implica el pago tot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iberación de toda acción civil, comercial, </a:t>
            </a:r>
            <a:r>
              <a:rPr b="0" lang="es-MX" sz="2000" spc="-1" strike="noStrike">
                <a:solidFill>
                  <a:srgbClr val="ff0000"/>
                </a:solidFill>
                <a:latin typeface="Tahoma"/>
              </a:rPr>
              <a:t>penal tributaria (no así el resto de las acciones penales cfr. Art.32 b) y 40)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, administrativa y profesional de todos los responsables por transgresiones que sean regularizadas bajo este régimen (comprende responsables solidarios). </a:t>
            </a:r>
            <a:r>
              <a:rPr b="0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Excepción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: acciones de particul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66ff33"/>
                </a:solidFill>
                <a:latin typeface="Tahoma"/>
              </a:rPr>
              <a:t>De las acciones penales cambiarias (Ley 19.359) cuando los fondos sean de origen lícito (exceso de reglamentación RG 265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exteriorización efectuada por sociedades de personas (art.49 inc. b) LIG) libera a los so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exteriorización efectuada por personas físicas y sucesiones indivisas libera a las empresas o explotaciones de las que sean titul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F31-BB31-4762-B481-EFC5EEAE3F9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968E6-97D6-4FDF-B81B-7AF2A92323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Principales normas reglamentarias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760896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G A.F.I.P. 2537/2009 (reglamentació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G A.F.I.P. 2576/2009 (procedimien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G A.F.I.P. 2609/2009 (modifica la RG 257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ff33"/>
                </a:solidFill>
                <a:latin typeface="Tahoma"/>
              </a:rPr>
              <a:t>RG A.F.I.P. 2650/2009 (ordena el texto de las reglamentaciones citadas e introduce modificaciones al Título 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64A-3368-4901-A962-B17F836566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E1B96-4CED-4B56-819B-E7039EDA0D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40464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Efectos</a:t>
            </a:r>
            <a:br>
              <a:rPr sz="3500"/>
            </a:b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continuación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2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ispensa a la A.F.I.P. de no formular denuncia pe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ff33"/>
                </a:solidFill>
                <a:latin typeface="Tahoma"/>
              </a:rPr>
              <a:t>Implica el reconocimiento de la existencia y cuantía de los bienes que se exteriorizan a todos los efectos fiscales. RG (265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ff33"/>
                </a:solidFill>
                <a:latin typeface="Tahoma"/>
              </a:rPr>
              <a:t>La anulación produce la pérdida de los beneficios y autoriza a la A.F.I.P. a determinar de oficio el impuesto con intereses y sanciones (RG 265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1EC-E0B8-4745-9DC0-BF2976BA85E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B87B8-CDFC-4FD8-A740-94ECBD02EA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80773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Título IV</a:t>
            </a:r>
            <a:endParaRPr b="1" lang="en-US" sz="4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00000" y="4149360"/>
            <a:ext cx="82440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Disposiciones Generales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CEFC-F9A0-4668-8429-9A6BE16A55B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C54144F-495A-4DC2-AC3B-F16AC623116D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Sujetos excluidos de la ley</a:t>
            </a:r>
            <a:br>
              <a:rPr sz="3500"/>
            </a:b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art.41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clarados en quiebra sin continuidad de la explot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condenados con fundamento en la ley 23.771 o 24.769 siempre que la sentencia haya quedado firme antes del 24/12/0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condenados por delitos comunes conexos con el incumplimiento de obligaciones tributarias propias o de terceros siempre que la sentencia haya quedado firme antes del 24/12/0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personas jurídicas cuyos administradores hayan sido condenados con fundamento en la ley 23.771 o 24.769 o por delitos comunes conexos con el incumplimiento de obligaciones tributarias propias o de terceros, siempre que la sentencia haya quedado firme antes del 24/12/08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5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4D7-38F1-49CC-AF4F-B28BAFAF572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31815-F0DA-4D78-8465-DA444EA4FD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Sujetos excluidos del Titulo III</a:t>
            </a:r>
            <a:br>
              <a:rPr sz="3500"/>
            </a:br>
            <a:r>
              <a:rPr b="1" lang="es-MX" sz="2000" spc="-1" strike="noStrike">
                <a:solidFill>
                  <a:srgbClr val="cdd7df"/>
                </a:solidFill>
                <a:latin typeface="Tahoma"/>
              </a:rPr>
              <a:t>(Art.41 inc.e)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os que hayan ejercido o ejerzan la función pública sus cónyuges, ascendentes o descendentes en primer grado de consanguinidad, </a:t>
            </a:r>
            <a:r>
              <a:rPr b="0" lang="es-MX" sz="2200" spc="-1" strike="noStrike">
                <a:solidFill>
                  <a:srgbClr val="66ff33"/>
                </a:solidFill>
                <a:latin typeface="Tahoma"/>
              </a:rPr>
              <a:t>d</a:t>
            </a:r>
            <a:r>
              <a:rPr b="0" lang="es-ES" sz="2200" spc="-1" strike="noStrike">
                <a:solidFill>
                  <a:srgbClr val="66ff33"/>
                </a:solidFill>
                <a:latin typeface="Tahoma"/>
              </a:rPr>
              <a:t>urante los últimos dos años anteriores a la fecha de vigencia de la ley, sean </a:t>
            </a:r>
            <a:r>
              <a:rPr b="0" lang="es-AR" sz="2200" spc="-1" strike="noStrike">
                <a:solidFill>
                  <a:srgbClr val="66ff33"/>
                </a:solidFill>
                <a:latin typeface="Tahoma"/>
              </a:rPr>
              <a:t>  funciones electivas o por designación, en el Estado Nacional, provincial, municipal o en la Ciudad Autónoma de Buenos Aires, en alguno de sus tres poderes, en calidad de Autoridad Superio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6ff33"/>
                </a:solidFill>
                <a:latin typeface="Tahoma"/>
              </a:rPr>
              <a:t>Comprende a los entes </a:t>
            </a:r>
            <a:r>
              <a:rPr b="0" lang="es-ES" sz="2200" spc="-1" strike="noStrike">
                <a:solidFill>
                  <a:srgbClr val="66ff33"/>
                </a:solidFill>
                <a:latin typeface="Tahoma"/>
              </a:rPr>
              <a:t>centralizados o descentralizados y entidades autárquica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ff33"/>
                </a:solidFill>
                <a:latin typeface="Tahoma"/>
              </a:rPr>
              <a:t>Empresas y sociedades del Estado, con participación estatal mayoritaria, de economía mixta, Fuerzas Armadas y de Seguridad, instituciones de la seguridad social del sector público, entidades financieras oficiales, comisiones nacionales y los entes de regulación de servicios públicos. (RG 2650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9EA-5E75-40D3-8F26-E2EC395443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81395-94AB-4AC7-B77C-52349B3EA8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753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Condicionalidad de los beneficios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sujetos que revistan la calidad de empleadores mantendrán los beneficios creados por la ley en tanto no disminuyan la plantilla total de trabajadores transcurridos 2 años de la finalización del rég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de finalización: plazo para el acog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plicación al Título I y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ABD-5152-4DB4-99F3-EBB917C236C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D8E4D-688C-48AC-99DD-7DA9266046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753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R.G. A.F.I.P. Nº2650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blicación en el B.O. y entrada en vigencia: 05/08/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ace propio el texto de las resoluciones 2537, 2576 y 2609, ordena el texto de las mismas y por ende las deja sin ef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troduce modificaciones operativas y otras de tipo sustancial referidas al Título III, tal como se menciona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4D7-8164-4F49-AB5B-3A03364463B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B49B3-5C2C-42F6-BA53-F1A66D39D8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Jurisprudencia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lecimiento SAN IGNACIO S.A. s/ Ley 24.769 – CASANELLO, Carlos Ignacio y CASANELLO, Angel Rodolfo” Cámara Fed. De Apelaciones de Rosario, Sala “B” Expte. Nº 2542-P del 09/03/0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asch, Ubaldo Ricardo; Guasch, Humberto Javier (‘Semillera Guasch SRL’) s/Infr. Art. 1° - Ley 24.769” Cámara Fed. De Apelaciones de Bahía Blanca, Sala I, Expte. Nº 64.464 del 05/03/09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ANTES FICO SRL c/ EN – M° Economía- A.F.I.P. DGI- Resol 2537/04 s/ amparo ley 16.986”. C.N.C.A.F., Sala III, Expte. Nº1.590/2009 del 08/05/09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5C1-A496-4A7B-9408-9BFB64A4A285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577E4-091F-4845-BEC6-A74F72DEE2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Conclusiones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xisten medidas más ajustadas a los principios constitucionales a los fines de enfrentar una crisis económica. Vg. diferimientos, reintegr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ley 26.476 recoge la experiencia de la ley 25.401 pero subsisten los cuestionamientos respecto del acierto o error de este tipo de políticas fiscales y crimi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aplicación de un régimen especial a todos los tipos penales de la ley 24.769 desnaturaliza el régimen represiv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FDB-4876-4417-AF62-8E9EB2113F6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5432D-57E4-4962-B69E-DA271DC5D9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5640" y="4653000"/>
            <a:ext cx="7201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9900"/>
                </a:solidFill>
                <a:latin typeface="Tahoma"/>
              </a:rPr>
              <a:t>DIRECCIÓN: 25 DE MAYO 179, 1ER PISO (CP C1002ABC), C.A.B.A. </a:t>
            </a:r>
            <a:br>
              <a:rPr sz="1800"/>
            </a:br>
            <a:r>
              <a:rPr b="0" lang="es-MX" sz="1800" spc="-1" strike="noStrike">
                <a:solidFill>
                  <a:srgbClr val="ff9900"/>
                </a:solidFill>
                <a:latin typeface="Tahoma"/>
              </a:rPr>
              <a:t>TELÉFONOS: (011) 4331-4855 /3852 /3751</a:t>
            </a:r>
            <a:br>
              <a:rPr sz="1800"/>
            </a:br>
            <a:r>
              <a:rPr b="0" lang="es-MX" sz="1800" spc="-1" strike="noStrike">
                <a:solidFill>
                  <a:srgbClr val="ff9900"/>
                </a:solidFill>
                <a:latin typeface="Tahoma"/>
              </a:rPr>
              <a:t>E-MAIL: ufitco@mpf.gov.ar</a:t>
            </a:r>
            <a:r>
              <a:rPr b="0" lang="es-MX" sz="2000" spc="-1" strike="noStrike">
                <a:solidFill>
                  <a:srgbClr val="ff9900"/>
                </a:solidFill>
                <a:latin typeface="Tahoma"/>
              </a:rPr>
              <a:t> </a:t>
            </a:r>
            <a:br>
              <a:rPr sz="2000"/>
            </a:br>
            <a:r>
              <a:rPr b="0" lang="es-MX" sz="16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w.mpf.gov.ar</a:t>
            </a:r>
            <a:r>
              <a:rPr b="0" lang="es-MX" sz="1600" spc="-1" strike="noStrike">
                <a:solidFill>
                  <a:srgbClr val="ff9900"/>
                </a:solidFill>
                <a:latin typeface="Tahoma"/>
              </a:rPr>
              <a:t> – institucional - Unidades Fiscales Especiales - UFITCo</a:t>
            </a:r>
            <a:br>
              <a:rPr sz="1600"/>
            </a:br>
            <a:endParaRPr b="1" lang="en-US" sz="1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317520"/>
            <a:ext cx="7559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UNIDAD FISCAL DE INVESTIGACIÓN DE DELITOS TRIBUTARIOS Y CONTRABANDO U.F.I.T.Co</a:t>
            </a:r>
            <a:br>
              <a:rPr sz="3200"/>
            </a:br>
            <a:r>
              <a:rPr b="0" lang="es-MX" sz="1800" spc="-1" strike="noStrike">
                <a:solidFill>
                  <a:srgbClr val="99ccff"/>
                </a:solidFill>
                <a:latin typeface="Tahoma"/>
              </a:rPr>
              <a:t>Fiscal General Dr. Mariano H. BORINSKY</a:t>
            </a:r>
            <a:br>
              <a:rPr sz="1800"/>
            </a:br>
            <a:r>
              <a:rPr b="0" lang="es-MX" sz="1800" spc="-1" strike="noStrike">
                <a:solidFill>
                  <a:srgbClr val="99ccff"/>
                </a:solidFill>
                <a:latin typeface="Tahoma"/>
              </a:rPr>
              <a:t>Dirección de correo: </a:t>
            </a:r>
            <a:r>
              <a:rPr b="0" lang="es-MX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mborinsky@mpf.gov.ar</a:t>
            </a:r>
            <a:r>
              <a:rPr b="0" lang="es-MX" sz="1800" spc="-1" strike="noStrike">
                <a:solidFill>
                  <a:srgbClr val="99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520-A97C-4F3F-A2F4-862BA9D42F2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534DE-0F9A-480A-B605-DD87741904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Examen Constitucional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ley 26.476 a la luz de los principios rectores en la ma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egalidad formal y sustan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gual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hibición de prisión por deu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lazo razonable de juzg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ealtad comercial, debida compe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E2B-413B-4E9C-889A-E8A424EDE6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5F84E-082A-4F64-BC96-D73A775921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80773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Título I</a:t>
            </a:r>
            <a:endParaRPr b="1" lang="en-US" sz="4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00000" y="4149360"/>
            <a:ext cx="82440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mpuestos y recursos de la seguridad social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0B21-5521-4422-AC79-8D1B5AFB2C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A3DFFF6-1A14-458E-AD7B-DE95CD3A516E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cdd7df"/>
                </a:solidFill>
                <a:latin typeface="Tahoma"/>
              </a:rPr>
              <a:t>Naturaleza del régimen</a:t>
            </a:r>
            <a:endParaRPr b="1" lang="en-US" sz="35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reúne las características de una amnistía (la ley 26.476 no tiene alcance general pues excluye a los condenados con sentencia firme, no borra los efectos del delito -suspende la acción e interrumpe la prescripción- y depende de la voluntad del imputado -acogerse a los beneficios del régimen-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dría considera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 obstáculo a la perseguib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na suspensión o extinción “ministerio legis” de la acción (C.S.J.N.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.766.XXXIX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 re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kchelliá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2E0-AB1D-45CF-B4A5-879AF68D07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C71E9-0048-4B79-852B-B85E75494D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dd7df"/>
                </a:solidFill>
                <a:latin typeface="Tahoma"/>
              </a:rPr>
              <a:t>Ámbito material de aplicación</a:t>
            </a:r>
            <a:br>
              <a:rPr sz="3800"/>
            </a:br>
            <a:r>
              <a:rPr b="1" lang="es-ES" sz="2000" spc="-1" strike="noStrike">
                <a:solidFill>
                  <a:srgbClr val="cdd7df"/>
                </a:solidFill>
                <a:latin typeface="Tahoma"/>
              </a:rPr>
              <a:t>Art.1 Ley 26.476, art.2 y 3 R.G. 2537 y art.1 y 6 R.G. 2576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060640"/>
            <a:ext cx="75376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Impuestos nacionales (propios, retenidos o percibido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ahoma"/>
              </a:rPr>
              <a:t>Excep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tos aduaneros (RG 2537 art.3) excepto las sumas que se le adeuden al Fisco por reintegros improcedentes de I.V.A. por exportación (RG 2609 art.12)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tos originados en regímenes promocionales vigentes (RG 2537 art.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gos a cuenta / Anticipos (RG 2537 art.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I.V.A. por servicios prestados en el exterior (RG 2537 art.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.F.I.T.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A1F-0C13-4092-AAAA-180F59ECEC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E0109-8B44-4138-959B-9B4ADDCE46D4}" type="datetime1">
              <a:rPr lang="en-US"/>
              <a:t>07/30/26</a:t>
            </a:fld>
          </a:p>
        </p:txBody>
      </p:sp>
    </p:spTree>
  </p:cSld>
  <p:transition>
    <p:dissolve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8:47:55Z</dcterms:created>
  <dc:creator>PGN</dc:creator>
  <dc:description/>
  <dc:language>en-US</dc:language>
  <cp:lastModifiedBy>C.P.C.E.C.A.B.A</cp:lastModifiedBy>
  <dcterms:modified xsi:type="dcterms:W3CDTF">2009-10-05T17:13:56Z</dcterms:modified>
  <cp:revision>71</cp:revision>
  <dc:subject/>
  <dc:title>Diapositiva 1</dc:title>
</cp:coreProperties>
</file>