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211-E742-4A1B-9532-9F00935F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1C5-5EF2-495B-A355-AD24CB3B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740-A6F8-4D94-AE70-16412F89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F8B-F151-4B88-9B05-7C296B8F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206-B8D9-4B9D-BEF1-0859AB5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1B5-ADBC-48AC-B90F-9E5DBF0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9D7-9044-4F91-9E48-6AA33D9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22B-88BA-4D94-A9EC-BC67859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679-CE93-4E08-B54F-0866C091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3CC-BEC9-467F-B2BF-B5EB07C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679-D32C-4118-B78A-5CD07CE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3A9-84D3-4C18-B955-B780879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5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Lic. Julio Rubén Ro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Secretario CPCECA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682-8B90-4CB7-939C-2C493CB683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304920"/>
          <a:ext cx="1143000" cy="110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04920"/>
                    <a:ext cx="1143000" cy="110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32240"/>
            <a:ext cx="9144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AR" sz="5200" spc="-1" strike="noStrike">
                <a:solidFill>
                  <a:srgbClr val="000000"/>
                </a:solidFill>
                <a:latin typeface="Comic Sans MS"/>
              </a:rPr>
              <a:t>I– Contexto Internacional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1295280"/>
            <a:ext cx="9677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Ganancias</a:t>
            </a:r>
            <a:br>
              <a:rPr sz="5400"/>
            </a:br>
            <a:br>
              <a:rPr sz="54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¿Doble imposición?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Disminuir la tasa a largo plazo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Amortización acelerada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Ampliar plazo para deducir pérdida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Tratamiento py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524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7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1" lang="es-AR" sz="4500" spc="-1" strike="noStrike">
                <a:solidFill>
                  <a:srgbClr val="000000"/>
                </a:solidFill>
                <a:latin typeface="Comic Sans MS"/>
              </a:rPr>
              <a:t>Ganancia Mínima Presunta</a:t>
            </a:r>
            <a:br>
              <a:rPr sz="4500"/>
            </a:br>
            <a:br>
              <a:rPr sz="54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Debilidad del ente fiscal.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Derogación en plazo determinado.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Reemplazo por impuesto al patrimoni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c) Bienes Personales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Derogación sin plazo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No representa equidad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No deduce los pasiv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d) IVA</a:t>
            </a:r>
            <a:br>
              <a:rPr sz="5400"/>
            </a:br>
            <a:br>
              <a:rPr sz="54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Eliminar exencione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No aplicar tasas diferenciales.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Discriminar en todas las etapa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Imputación por lo percibido </a:t>
            </a:r>
            <a:br>
              <a:rPr sz="3200"/>
            </a:b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(ampliar plazo de pago)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Bajar tasa a largo plazo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Monotributo para pequeños contribuyen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e) Retenciones a la Export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Comic Sans MS"/>
              </a:rPr>
              <a:t>f) Impuestos Intern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g) Débitos Bancarios</a:t>
            </a:r>
            <a:br>
              <a:rPr sz="5400"/>
            </a:br>
            <a:br>
              <a:rPr sz="54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Impuesto distorsivo pero necesario.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Reducir tasa yo computar a cuenta de otros tribut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h) Gastos Tributarios</a:t>
            </a:r>
            <a:br>
              <a:rPr sz="5400"/>
            </a:br>
            <a:br>
              <a:rPr sz="5400"/>
            </a:br>
            <a:r>
              <a:rPr b="0" lang="es-AR" sz="4800" spc="-1" strike="noStrike">
                <a:solidFill>
                  <a:srgbClr val="000000"/>
                </a:solidFill>
                <a:latin typeface="Comic Sans MS"/>
              </a:rPr>
              <a:t>-Bajar la tasa.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0" lang="es-A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br>
              <a:rPr sz="5400"/>
            </a:br>
            <a:br>
              <a:rPr sz="54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Menor gasto tributario.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Mejorar la distribución del ingreso.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-Encausar los fondos ahorrados para salud, educación, et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Algunas Conclusiones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Medidas de estímulo fiscal  pero notoriamente más conservadores que en Estados Unid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 Fuerte apoyo a las pymes en términos fiscal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Fortalecer fuertemente el Mercosur para aprovechar “el salto” brasileñ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 Desalentar medidas restrictivas para importación de bienes de Capital, especialmente desde el Mercosu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Mejorar la relación con los organismos multilaterales el crédito teniendo en cuenta que el Ahorro interno no alcanz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- Desde el lado fiscal, favorecer medidas tendientes a mejorar la distribución del ingreso, antes que medidas “solo anticrisis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Estados Unidos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¿Crisis superada?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Variables relevantes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Inversiones Argentina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¡Muchas gracias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Europa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El peso del Euro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Españ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China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Caída de las Exportaciones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Consumo Interno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Vuelta a tasas china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Brasil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La china latinoamericana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La recesión quedó atrás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Crédito interno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Tasa de interés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Empresas argentina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s-AR" sz="5400" spc="-1" strike="noStrike">
                <a:solidFill>
                  <a:srgbClr val="000000"/>
                </a:solidFill>
                <a:latin typeface="Comic Sans MS"/>
              </a:rPr>
              <a:t>II – Argentina</a:t>
            </a:r>
            <a:br>
              <a:rPr sz="5400"/>
            </a:br>
            <a:br>
              <a:rPr sz="54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Variables económica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Situación fiscal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Ingresos tributario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Déficit provinciale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Deuda (canje)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Situación Monetaria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Sector Exter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5400" spc="-1" strike="noStrike">
                <a:solidFill>
                  <a:srgbClr val="000000"/>
                </a:solidFill>
                <a:latin typeface="Comic Sans MS"/>
              </a:rPr>
              <a:t>III – Argentina </a:t>
            </a:r>
            <a:r>
              <a:rPr b="1" i="1" lang="es-AR" sz="4400" spc="-1" strike="noStrike">
                <a:solidFill>
                  <a:srgbClr val="000000"/>
                </a:solidFill>
                <a:latin typeface="Comic Sans MS"/>
              </a:rPr>
              <a:t>(Estructura)</a:t>
            </a:r>
            <a:br>
              <a:rPr sz="4400"/>
            </a:br>
            <a:br>
              <a:rPr sz="44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Tributación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Situación histórica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Niveles de inversión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Empleo (Pymes)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Desequilibrios geográficos.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-Objetiv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Comic Sans MS"/>
              </a:rPr>
              <a:t>Tributación</a:t>
            </a:r>
            <a:br>
              <a:rPr sz="5400"/>
            </a:br>
            <a:br>
              <a:rPr sz="54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Sistema deficitario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Tasas altas.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-Concepto Neutralidad y Equida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000000"/>
                </a:solidFill>
                <a:latin typeface="Comic Sans MS"/>
              </a:rPr>
              <a:t>IV - Tributación </a:t>
            </a:r>
            <a:br>
              <a:rPr sz="4400"/>
            </a:br>
            <a:r>
              <a:rPr b="1" i="1" lang="es-AR" sz="4400" spc="-1" strike="noStrike">
                <a:solidFill>
                  <a:srgbClr val="000000"/>
                </a:solidFill>
                <a:latin typeface="Comic Sans MS"/>
              </a:rPr>
              <a:t>Sistema Tributario Fede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3:13:31Z</dcterms:created>
  <dc:creator>CPCECABA</dc:creator>
  <dc:description/>
  <dc:language>en-US</dc:language>
  <cp:lastModifiedBy>C.P.C.E.C.A.B.A</cp:lastModifiedBy>
  <dcterms:modified xsi:type="dcterms:W3CDTF">2009-10-05T17:13:07Z</dcterms:modified>
  <cp:revision>28</cp:revision>
  <dc:subject/>
  <dc:title>I – Contexto Internacional</dc:title>
</cp:coreProperties>
</file>