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AA9-1E56-41EC-989E-902B3FA9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787-AA4F-4933-9E99-3D65A455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06D-F53C-4258-AA9D-589106F2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B72-E26A-42DE-B14D-8D7FE53E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45B-8EB2-4F6A-8DAD-BB3859CA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8CF-7C87-4AF2-9ED3-222AD7AE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7CE-5234-499F-9B2C-ABDA6983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837-7D38-43A7-B395-C87EC893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6EB-B49F-449C-B2CF-01B6E18A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41D-A727-4F66-9F9C-462B94D8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9EB-7537-495B-B8A6-D0A6005B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C25-D5C2-4CE4-8D15-E358F3F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F717-E6EC-489F-9F5B-86A43BF4C5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064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993366"/>
                </a:solidFill>
                <a:latin typeface="Engravers MT"/>
              </a:rPr>
              <a:t>FINCA PILAR S.A.</a:t>
            </a:r>
            <a:br>
              <a:rPr sz="5400"/>
            </a:br>
            <a:br>
              <a:rPr sz="5400"/>
            </a:br>
            <a:r>
              <a:rPr b="0" i="1" lang="es-AR" sz="4800" spc="-1" strike="noStrike">
                <a:solidFill>
                  <a:srgbClr val="993366"/>
                </a:solidFill>
                <a:latin typeface="Monotype Corsiva"/>
              </a:rPr>
              <a:t>Naturalmente r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602136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entury Gothic"/>
              </a:rPr>
              <a:t>7 de Agost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44000" y="260280"/>
            <a:ext cx="6271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44000" y="260280"/>
            <a:ext cx="627120" cy="1009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FINCA PILAR es una Empresa Agroindustrial, que inició sus actividades en 1992, dedicada al mercado de las frutas y los vegetales proces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us primeros pasos fueron en el canal gastronómico, después de 3 años incursionó en el supermercadismo con un fuerte crecimiento y posicionamiento hasta la crisis del 2001, donde se vio obligada a recortar fuertemente su 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En el 2007 capitalización debido al fuerte endeud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B74-7F1B-425B-9DA9-CBF194201E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087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entury Gothic"/>
              </a:rPr>
              <a:t>Producció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Desde la capitalización en el 2007 FINCA PILAR volvió a producir la materia prima, incorporando en el campo maquinaria y tecnología avanzada para la industria. Produce en 7 Provincias del País con sistemas estandarizados y monitoreados por Agronomos pro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En la planta se incorporaron tecnología y maquinarias por las mejoras de packaging de acuerdo a los nuev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8360" y="260280"/>
            <a:ext cx="53640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C6C-A62A-4330-BDBB-8585C0C353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entury Gothic"/>
              </a:rPr>
              <a:t>Evolu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2005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$   5.10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2006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$   6.10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2007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$   6.50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2008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$ 15.00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uego del saneamiento incursiona en nuevos mercados (Gourmet, ens con ingredientes de origen animal– Industr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260280"/>
            <a:ext cx="627120" cy="10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5BF-FF48-48AE-8FCF-DCF2426557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entury Gothic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A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Fred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Café Martí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Opessa-Y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Tema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Munc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Bona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Coffe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Al Queso Qu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ineas Ae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260280"/>
            <a:ext cx="627120" cy="10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759-A16B-4E8B-8055-A21C06D681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087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entury Gothic"/>
              </a:rPr>
              <a:t>Alianzas y Expor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Alianza con Disney para crear y fomentar el consumo. Desde un producto 100% natural, sano y nutri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Exportamos desde el 2005 apostando fuertemente a estos mercados desde la oportunidades que nos da 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Alianza con Españoles para Radicchio con tecnologia de punta (reefer con frio, humedad, AT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Alianza con Empreses Israelitas para Producir y Exportar Albahaca con 15 días de vida u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8360" y="260280"/>
            <a:ext cx="53640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455-657B-406B-9150-71D811870F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087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cionamientos para ciertos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Incorporación de know-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Acceso a capaci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Facilidad credit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Cooperación para 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8360" y="260280"/>
            <a:ext cx="53640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C5E-6460-4958-8A59-02A973CF7B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8:55:21Z</dcterms:created>
  <dc:creator>Pablo Arias Usandivaras</dc:creator>
  <dc:description/>
  <dc:language>en-US</dc:language>
  <cp:lastModifiedBy>pablo</cp:lastModifiedBy>
  <dcterms:modified xsi:type="dcterms:W3CDTF">2008-08-07T02:11:59Z</dcterms:modified>
  <cp:revision>14</cp:revision>
  <dc:subject/>
  <dc:title>FINCA PILAR S.A.</dc:title>
</cp:coreProperties>
</file>