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0301-E8D4-4B83-9658-50ECD960A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C860-D47A-4C7E-B563-3850BC3C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18AC-89B3-43DA-8CA1-0AFDAD91A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F742-DCB4-478C-9714-1DFF042C2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D272-C4A3-4126-B4D2-93C49035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7650-870B-4EA8-9416-D16CF948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70D3-C684-4394-B80A-0A22340B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54B4-B4EC-4131-B467-8345D5D6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A7F7-386C-4125-9897-F4B45E1B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D736-A121-4F0A-9585-351E806E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2805-792B-4CC1-90C6-7339E51D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C0CD-B2FC-49C4-A9AE-11E61535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A11A-DB4A-4637-AF1C-6DDB3731CA9C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693720"/>
            <a:ext cx="9144000" cy="244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3139920"/>
            <a:ext cx="914400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Arial"/>
              </a:rPr>
              <a:t>SISTEMAS DE SUPRE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6360" y="1484280"/>
            <a:ext cx="9144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Arial"/>
              </a:rPr>
              <a:t>SISTEMAS DE SUPRE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65516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Arial"/>
              </a:rPr>
              <a:t>SISTEMAS DE SUPRE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63640" y="1822320"/>
            <a:ext cx="580716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Arial"/>
              </a:rPr>
              <a:t>VALVULA TIPO TEA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43754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Arial"/>
              </a:rPr>
              <a:t>NUESTRAS OB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Arial"/>
              </a:rPr>
              <a:t>FAENA HO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74640" y="1600200"/>
            <a:ext cx="36036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148360" y="4091040"/>
            <a:ext cx="3085920" cy="2146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124600" y="1628640"/>
            <a:ext cx="308592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Arial"/>
              </a:rPr>
              <a:t>NH HO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392200" y="981000"/>
            <a:ext cx="456588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Arial"/>
              </a:rPr>
              <a:t>BANCO BOS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771640" y="620640"/>
            <a:ext cx="391824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Arial"/>
              </a:rPr>
              <a:t>CHATEAU LIBERT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11360" y="1125360"/>
            <a:ext cx="394344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Arial"/>
              </a:rPr>
              <a:t>MAL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55640" y="1285920"/>
            <a:ext cx="7704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Arial"/>
              </a:rPr>
              <a:t>MAL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11280" y="1278000"/>
            <a:ext cx="799308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Arial"/>
              </a:rPr>
              <a:t>FALAVE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08000" y="2611440"/>
            <a:ext cx="511200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063880" y="142920"/>
            <a:ext cx="5018040" cy="65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ffff"/>
                </a:solidFill>
                <a:latin typeface="Arial"/>
              </a:rPr>
              <a:t>VIVIEN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TORRE CHATEAU - LIBERTADOR </a:t>
            </a:r>
            <a:br>
              <a:rPr sz="1400"/>
            </a:b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TORRE CHATEAU - MADERO </a:t>
            </a:r>
            <a:br>
              <a:rPr sz="1400"/>
            </a:b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SAN ISIDRO LOFT </a:t>
            </a:r>
            <a:br>
              <a:rPr sz="1400"/>
            </a:b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SOLARES DE SAN ISIDRO </a:t>
            </a:r>
            <a:br>
              <a:rPr sz="1400"/>
            </a:b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RIO PLAZA </a:t>
            </a:r>
            <a:br>
              <a:rPr sz="1400"/>
            </a:b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BUENOS AYRES PLAZA - MANZANA 5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ffff"/>
                </a:solidFill>
                <a:latin typeface="Arial"/>
              </a:rPr>
              <a:t>HOTEL</a:t>
            </a:r>
            <a:br>
              <a:rPr sz="1800"/>
            </a:b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FAENA + UNIVERSE (EL PORTEÑO BUENOS AIRES)</a:t>
            </a:r>
            <a:br>
              <a:rPr sz="1400"/>
            </a:b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ALVEAR PALACE </a:t>
            </a:r>
            <a:br>
              <a:rPr sz="1400"/>
            </a:b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APART HOTEL “LA PORTEÑA II</a:t>
            </a:r>
            <a:br>
              <a:rPr sz="1400"/>
            </a:b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CITY HOTEL- CADENA DE HOTELES N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ffff"/>
                </a:solidFill>
                <a:latin typeface="Arial"/>
              </a:rPr>
              <a:t>MUS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DE ARTE LATINOAMERICANO DE BS. AS. ( MALB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ffff"/>
                </a:solidFill>
                <a:latin typeface="Arial"/>
              </a:rPr>
              <a:t>TRANP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ESTACION CARABOBO – LINEA “A”</a:t>
            </a:r>
            <a:br>
              <a:rPr sz="1400"/>
            </a:b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ESTACION FLORES – LINEA “A” </a:t>
            </a:r>
            <a:br>
              <a:rPr sz="1400"/>
            </a:b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ESTACION PUAN – LINEA “A”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ffff"/>
                </a:solidFill>
                <a:latin typeface="Arial"/>
              </a:rPr>
              <a:t>ORGANISMOS OFICI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CARCEL DE SENILLOSA – Pcia. De Neuquen </a:t>
            </a:r>
            <a:br>
              <a:rPr sz="1400"/>
            </a:b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CENTRO DE EDUCACION FISICA ROMERO BREST GCBA</a:t>
            </a:r>
            <a:br>
              <a:rPr sz="1400"/>
            </a:b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C.E.A.M.S.E. </a:t>
            </a:r>
            <a:br>
              <a:rPr sz="1400"/>
            </a:b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CENTRO JUDICIAL - LA PAMPA </a:t>
            </a:r>
            <a:br>
              <a:rPr sz="1400"/>
            </a:b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PABELLON PINEL –HTAL GRAL B. MOYANO -GCBA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038680" y="33120"/>
            <a:ext cx="5066640" cy="67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ffff"/>
                </a:solidFill>
                <a:latin typeface="Arial"/>
              </a:rPr>
              <a:t>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PROCTER &amp; GAMBLE – PLANTA PILAR</a:t>
            </a:r>
            <a:br>
              <a:rPr sz="1400"/>
            </a:b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PETROKEN - PLANTA ENSENADA </a:t>
            </a:r>
            <a:br>
              <a:rPr sz="1400"/>
            </a:b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5 HISPANOS - PLANTA INDUSTRIAL </a:t>
            </a:r>
            <a:br>
              <a:rPr sz="1400"/>
            </a:b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AGR – DEPOSITO DE BOBINAS (GRUPO CLARIN)</a:t>
            </a:r>
            <a:br>
              <a:rPr sz="1400"/>
            </a:b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STENFAR - PLANTA INDUSTRIAL </a:t>
            </a:r>
            <a:br>
              <a:rPr sz="1400"/>
            </a:b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UNIR S.A CORREO PRIVADO PLANTA de DISTRIBUC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ffff"/>
                </a:solidFill>
                <a:latin typeface="Arial"/>
              </a:rPr>
              <a:t>COMERCIAL (OFICIN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EDIFICIO TORRE BANCO DE BOSTON </a:t>
            </a:r>
            <a:br>
              <a:rPr sz="1400"/>
            </a:b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EDIFICIO BAYRES APART </a:t>
            </a:r>
            <a:br>
              <a:rPr sz="1400"/>
            </a:b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EDIFICIO OXY -OCCIDENTAL ARGENTINA </a:t>
            </a:r>
            <a:br>
              <a:rPr sz="1400"/>
            </a:b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EDIFICIO AMERICAN EXPRESS -AMEX </a:t>
            </a:r>
            <a:br>
              <a:rPr sz="1400"/>
            </a:b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EDIFICIO TORRE LA NACIÓN </a:t>
            </a:r>
            <a:br>
              <a:rPr sz="1400"/>
            </a:b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EDIFICIO DAIMLER CHRYSLER ARGENTINA </a:t>
            </a:r>
            <a:br>
              <a:rPr sz="1400"/>
            </a:b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EDIFICIO PSI Net</a:t>
            </a:r>
            <a:br>
              <a:rPr sz="1400"/>
            </a:b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EDIFICIO TORRE SAN MARTIN 344</a:t>
            </a:r>
            <a:br>
              <a:rPr sz="1400"/>
            </a:b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EDIFICIO DE OFICINAS DIQUE III </a:t>
            </a:r>
            <a:br>
              <a:rPr sz="1400"/>
            </a:b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EDIFICIO TORRE ALEM PLAZA </a:t>
            </a:r>
            <a:br>
              <a:rPr sz="1400"/>
            </a:b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EDIFICIO TORRE CATALINAS PLAZA</a:t>
            </a:r>
            <a:br>
              <a:rPr sz="1400"/>
            </a:b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EDIFICIOS TORRE BOUCHARD</a:t>
            </a:r>
            <a:br>
              <a:rPr sz="1400"/>
            </a:b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CANON ARGENTINA </a:t>
            </a:r>
            <a:br>
              <a:rPr sz="1400"/>
            </a:b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EDIFICIO TORRE LAMINAR.</a:t>
            </a:r>
            <a:br>
              <a:rPr sz="1400"/>
            </a:b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EDIFICIO MALAVER 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ffff"/>
                </a:solidFill>
                <a:latin typeface="Arial"/>
              </a:rPr>
              <a:t>COMERC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ALTO ROSARIO SHOPPING - ROSARIO</a:t>
            </a:r>
            <a:br>
              <a:rPr sz="1400"/>
            </a:b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FALABELLA - ROSARIO </a:t>
            </a:r>
            <a:br>
              <a:rPr sz="1400"/>
            </a:b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FALABELLA SA – FLORIDA C.A.B.A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845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693720"/>
            <a:ext cx="9144000" cy="2448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3139920"/>
            <a:ext cx="914400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Arial"/>
              </a:rPr>
              <a:t>SISTEMAS DE DETEC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6048720" cy="53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Arial"/>
              </a:rPr>
              <a:t>SISTEMAS DE DETEC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3528720" cy="3095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19840" y="1989000"/>
            <a:ext cx="34398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Arial"/>
              </a:rPr>
              <a:t>SISTEMAS DE DETEC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2100240"/>
            <a:ext cx="3368520" cy="2282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076720" y="2184480"/>
            <a:ext cx="3245040" cy="21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Arial"/>
              </a:rPr>
              <a:t>SISTEMAS DE DETEC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08000" y="1992240"/>
            <a:ext cx="477684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Arial"/>
              </a:rPr>
              <a:t>SISTEMAS DE SUPRE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3068640"/>
            <a:ext cx="4284720" cy="2665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356000" y="1413000"/>
            <a:ext cx="47880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Arial"/>
              </a:rPr>
              <a:t>SISTEMAS DE SUPRE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784836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23:57:36Z</dcterms:created>
  <dc:creator>toshiba</dc:creator>
  <dc:description/>
  <dc:language>en-US</dc:language>
  <cp:lastModifiedBy>C.P.C.E.C.A.B.A</cp:lastModifiedBy>
  <dcterms:modified xsi:type="dcterms:W3CDTF">2008-08-04T21:44:33Z</dcterms:modified>
  <cp:revision>29</cp:revision>
  <dc:subject/>
  <dc:title>Diapositiva 1</dc:title>
</cp:coreProperties>
</file>