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72400" cy="10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9520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20520" y="754200"/>
            <a:ext cx="50338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955980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95200" y="955980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B984618-42B4-47EC-A3F3-B64468D835E8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95200" y="955980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A9B8745-3295-4B40-8F0F-64B479D14AB7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955980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9520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95200" y="955980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7BC789DF-B9DA-4595-BF2C-2D3C7A8A2407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955980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9520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95200" y="955980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1C594579-5D3E-4C6C-A969-219E2AA101B1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955980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9520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95200" y="955980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1CCA021B-64B1-42EB-9180-8F9AC875D50C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955980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9520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4E6-759E-4850-ADD6-C71382EC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2F9-7117-4FB9-88EB-2DC150C9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547-26E4-4A1A-978F-4F91F375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0B2-DA41-4996-835E-82F3E138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8285-FB4F-423F-A1DE-00E423FD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2E23-E829-489B-8A5A-43B69142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E907-3138-4EB3-950F-C15F1365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9CF4-0389-4985-9210-C43E56C1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D411-48E3-4A9E-A2E6-840F1934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C451-71F4-48C3-A80A-250B965A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6F63-A5D7-4ECD-B9F4-B6C8F6B2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986A-F05B-4C50-96DC-84AB3472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76C0-A083-4EEC-8F4C-6043112C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E76E-9641-401E-813F-2ECE09E5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8FF6-D7CC-486A-B421-C08F5736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3341-F47B-443C-BE44-DD9ED929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840D-5155-4C50-8369-61BA36B2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6D7-7D57-44BB-B0CF-6DF18741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CF24-B66E-45E3-91F4-84C5631B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2CE-F8D7-41ED-9287-7E282453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EA2-A2B3-42D6-8FBC-E80ED703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41B-FA90-40C7-9FAD-AC3F4A66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9CD-D4A9-475D-86C3-FC095B9C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A9C-BB6F-43F5-80F6-9373A54D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4158-570B-4D5B-B1A1-8AAF0B6C6FCC}" type="slidenum">
              <a:rPr b="0" lang="es-E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7161-DE1D-41E9-B0CF-9CEF396415B6}" type="slidenum">
              <a:rPr b="0" lang="es-E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201636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JORANDO EL ACCESO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 PEQUEÑAS EMPRESA A LOS BANCOS LOC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640" y="386064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ARIO MORA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irector del Banco Ciudad de Buenos Ai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422100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D33-A372-440D-A951-F1C343E0CEDD}" type="slidenum">
              <a:t>1</a:t>
            </a:fld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929720" cy="8636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TRE UNA PEQUEÑA  Y UNA MEDIANA EMPRESA, HAY UN AB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42920" y="3357720"/>
          <a:ext cx="7058160" cy="2376360"/>
        </p:xfrm>
        <a:graphic>
          <a:graphicData uri="http://schemas.openxmlformats.org/drawingml/2006/table">
            <a:tbl>
              <a:tblPr/>
              <a:tblGrid>
                <a:gridCol w="1656000"/>
                <a:gridCol w="1653840"/>
                <a:gridCol w="1654200"/>
                <a:gridCol w="20941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QUEÑ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ER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1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8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VI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1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2916360" y="1557360"/>
            <a:ext cx="2138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0920" y="1341360"/>
            <a:ext cx="42498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1557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1700280"/>
            <a:ext cx="453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2205000"/>
            <a:ext cx="352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CION DE SEPY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gún ventas anual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 $ mill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82A-E1F0-48F2-BD64-D238EE0E7847}" type="slidenum">
              <a:t>10</a:t>
            </a:fld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467840" cy="10666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SQUIZOFRENIA PY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M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(PY </a:t>
            </a: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VERSUS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760896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49280" indent="-187200" algn="just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Decir que una empresa es pyme no tiene sentido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49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 es pequeña o es mediana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49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49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Esta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ahoma"/>
              </a:rPr>
              <a:t>designación impropia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 oculta el hecho de que las empresas que acceden al crédito son las medianas, obstruyendo a las pequeña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49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49280" indent="-187200" algn="just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Abona esta tesis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la falta absoluta de estadística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que vinculen el uso del crédito al tamaño de las empresas. (*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49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49280" indent="-187200" algn="just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Se habla mucho de asistir a las pequeñas empresas, pero los bancos públicos y privados, prefieren colocar su liquidez excedente en el BCRA a 180 días al 11% y no en pequeñas empresas al 17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49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492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49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49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49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49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867280" y="1341000"/>
            <a:ext cx="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56000" y="4724280"/>
            <a:ext cx="13683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472428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465300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4653000"/>
            <a:ext cx="113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4952880"/>
            <a:ext cx="8636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4508640"/>
            <a:ext cx="2449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5373720"/>
            <a:ext cx="2819160" cy="3808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QUE HAC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64000" y="5229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623736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(*) Except                                   (*) Observatorio Pyme Indust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573-10F8-4D64-B419-2122C0C25268}" type="slidenum">
              <a:t>11</a:t>
            </a:fld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49240" y="21337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ablecer una ventanilla p/pyme en c/u de las sucur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gistrar cada consulta, otorgándole número de 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calificar al solicitante en base a un formulario de scoring objetivo con su declaración de datos  para que sepa a qué puede aspirar preanunciándole los pasos y tiempos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andarizar los productos crediti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765000"/>
            <a:ext cx="7554960" cy="987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JORAR EL ACCESO D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S PEQUEÑAS EMPRESAS A LOS BA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BA9-6F06-458F-ABB3-7765DB510A44}" type="slidenum">
              <a:t>12</a:t>
            </a:fld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00000" y="692280"/>
            <a:ext cx="7417080" cy="12240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JORAR LA PREDISPOSICION DE LOS BANCO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PRESTARLE A PEQUEÑAS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2492280"/>
            <a:ext cx="73152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implificar documentación p/monto menores a $ 100 m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mpliar las atribuciones de fir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luar internamente la performance de los empleados  no sólo por montos  sino también por cantidad de prestat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acionalizar el uso de Sociedades de Garantía Recípr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rivar los no sujetos de crédito a Desarrollo Económico, ONG, Fundacion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4C4-838D-4EA4-BDAE-D718E92C0D55}" type="slidenum">
              <a:t>13</a:t>
            </a:fld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4360" y="2636640"/>
            <a:ext cx="77724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formación de los Institutos de la Pequeña Empresa como defensores de las mismas dentro de los Ban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centrar la investigación económica de los Bancos (Gcias. De Estudios Económicos  y  otras)  hacia la problemática pyme. Conectar la academia con la ac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poner de informes mensuales de caso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solicitudes, rechazos, otorgamientos y abandonos) p/realimentar el proce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981000"/>
            <a:ext cx="7848360" cy="10670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NITOREAR PERMANENTEMENTE  EL PROCESO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 OTORG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E87-2C6E-4F5B-B261-7E9551D69A9B}" type="slidenum">
              <a:t>14</a:t>
            </a:fld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352320" y="7520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on más flexibles operativa tecnológicam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"/>
              </a:rPr>
              <a:t>contribuyen a generar competenci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"/>
              </a:rPr>
              <a:t>emplean mano de obra menos calificad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78936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30%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mpleo (*)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50%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la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ducción (*)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4703760"/>
            <a:ext cx="5333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n 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ás productiva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conomía de esca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s pymes dependen fuertemente de e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52880" y="40176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32288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094280"/>
            <a:ext cx="1523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52640"/>
            <a:ext cx="2590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ahoma"/>
                <a:ea typeface="Arial"/>
              </a:rPr>
              <a:t>Per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1752480"/>
            <a:ext cx="504720" cy="1008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828720"/>
            <a:ext cx="457200" cy="14479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09600"/>
            <a:ext cx="1676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Las 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475160"/>
            <a:ext cx="2438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las empresas gran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(más de 50 emplead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4094280"/>
            <a:ext cx="304920" cy="1752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*) Fuente: FIE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319-D4B5-42F3-9FAA-F681A833FEA5}" type="slidenum">
              <a:t>2</a:t>
            </a:fld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60360" y="2637000"/>
            <a:ext cx="792000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más fácil crear empresas pequeñas que gran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o los humanos, las empresas nacen pequeñ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 alentar la salud de las empresa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“infantes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el futuro no había empresa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obu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La analogía biológica es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907920"/>
            <a:ext cx="7543800" cy="11430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ntonces, ¿por qué alentar py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B60-09D5-4C9A-A6AA-CD063E864AFC}" type="slidenum">
              <a:t>3</a:t>
            </a:fld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691560"/>
            <a:ext cx="7772400" cy="10159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LGUNOS OBSTACULOS NO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 LA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381024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L SURG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Mentalidad de emplea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falta de educación empresaria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ntorno adverso a la asociativida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xcesivo papelerío para habilit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alta de capacit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360" y="1989000"/>
            <a:ext cx="381024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REC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ja inversión en investig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siva presión fisc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gidez del empleo en blan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19720" y="2133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522520"/>
            <a:ext cx="77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5445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71640" y="5545800"/>
            <a:ext cx="3672000" cy="6426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ero no basta despejar estos obstáculos 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350-59F0-493A-BB2B-08626B84A3F3}" type="slidenum">
              <a:t>4</a:t>
            </a:fld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1052640"/>
            <a:ext cx="7696080" cy="9144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STÁCULOS FINANCIEROS A LAS PY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2742840"/>
            <a:ext cx="7543800" cy="32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Falta de Capital Semill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para desarrollar la idea (el prototip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Falta de Capital de Riesg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para poner a funcionar la empre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Escasez de Préstamo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para apalancar expansión de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apital de trabajo e inversiones prob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13B1-FC10-43DA-BBEA-D8CAFB6EE1F2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2120" y="836640"/>
            <a:ext cx="7842240" cy="8636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TERNATIVAS DE FINANCIAMIENTO PY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558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157720"/>
            <a:ext cx="482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00000" y="2060640"/>
          <a:ext cx="7543800" cy="2808360"/>
        </p:xfrm>
        <a:graphic>
          <a:graphicData uri="http://schemas.openxmlformats.org/drawingml/2006/table">
            <a:tbl>
              <a:tblPr/>
              <a:tblGrid>
                <a:gridCol w="4659480"/>
                <a:gridCol w="1484280"/>
                <a:gridCol w="14000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sa Nominal An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sa Efectiva An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ca Oficial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menor costo del fon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ca Priv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trabursáti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l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ital pro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2971800" y="5229360"/>
            <a:ext cx="3352680" cy="5760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 diferir el 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6021360"/>
            <a:ext cx="1008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0000" y="6021360"/>
            <a:ext cx="468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30% de pymes frenan inversiones por falta de financi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(1/2 sólo necesita $ 300 m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AE11-C16F-40D4-969D-52FAA599A473}" type="slidenum">
              <a:t>6</a:t>
            </a:fld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581280" y="3048120"/>
            <a:ext cx="19987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NA                 11.43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CRO              1.1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edicoop             9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itibank                8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CBA                   8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SBC                   4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utsche              4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tagonia             3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hubut                 3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PRO                 3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to                2.9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otal              20.2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5373720"/>
            <a:ext cx="280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558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5157720"/>
            <a:ext cx="482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243828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M$   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764280"/>
            <a:ext cx="7620120" cy="10159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No existe escasez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ondos potencialmente disponibles para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011680"/>
            <a:ext cx="80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o evidencia el stock de LEBACS en poder de los Bancos (neto de operaciones de pas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304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gente del BC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0904-8C37-48E9-8786-E16A92CB7BCF}" type="slidenum">
              <a:t>7</a:t>
            </a:fld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14400" y="907920"/>
            <a:ext cx="7391520" cy="9144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¿TEMEN LAS PYMES A LOS BANC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14400" y="2204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ólo el 17% de las pymes solicitaron crédito bancario (incluyendo descubierto): 96% lo obtuvo, 1/3 con garantía r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stino: 71% a capital de trabajo e invers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5% en bancos públicos y 85% en privados (*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financiación de pymes en la  Bolsa (cheques avalados, ONs y fideicomisos)  es contraria a lo que sucede en otros países. Revela falla en los circuitos banc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6093000"/>
            <a:ext cx="129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6237360"/>
            <a:ext cx="792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( *) Informe de Sepyme , octubre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E65A-FB2B-4981-9548-B151D032C1D7}" type="slidenum">
              <a:t>8</a:t>
            </a:fld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00000" y="981000"/>
            <a:ext cx="7391520" cy="9144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ZONES POR LAS QUE NO SOLICITAR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CREDITO BANC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14400" y="2796840"/>
            <a:ext cx="77724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3% prefieren capital propio (no computan el costo de oportunidad) o se anticipan rechaz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4% considera altas las tasas y la incertidumbre económ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9% situación económico–financiero delicada o en reestructur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969-0F47-498F-979F-7919DB3DD222}" type="slidenum">
              <a:t>9</a:t>
            </a:fld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7:37:41Z</dcterms:created>
  <dc:creator/>
  <dc:description/>
  <dc:language>en-US</dc:language>
  <cp:lastModifiedBy>C.P.C.E.C.A.B.A</cp:lastModifiedBy>
  <dcterms:modified xsi:type="dcterms:W3CDTF">2008-08-06T13:10:10Z</dcterms:modified>
  <cp:revision>79</cp:revision>
  <dc:subject/>
  <dc:title>Presentación de PowerPoint</dc:title>
</cp:coreProperties>
</file>