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E4D9-C269-4474-806D-8D579CA1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6DDC-E580-421B-A9C4-49483A2C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6187-EE81-4EFE-B7C0-1ACC0BE0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C75-2A18-4552-AE07-3CDF4D0C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63CC-2920-471C-AFB2-E9AB23BF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AB3F-1C09-4233-98B1-393E1243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5C92-6469-4EA2-B3C8-E14BE9AB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A62E-F234-4162-95FB-DADBB02B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D4EC-4019-4700-8F47-0B06DFC0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2821-9740-4BA8-B86D-F121CD69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A070-E63B-471B-8DFA-81D3AAE8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7CA-C064-4213-9253-8D442DAA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E49B-F457-48F3-B611-F9F108F2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66A7-7BC2-4B50-8E4D-7876EB8F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E4B5-1112-491C-98E2-4D103894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7F1E-E125-401E-B5A5-8F7E72E5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B1CB-DABE-4F8A-B132-19CE0669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6E0D-B9B1-4021-BFB9-63229B7C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C1FD-2085-47C8-9E00-65A93248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755-E4F3-4096-9CA6-F8368467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9258-56B2-46C1-8583-039B2821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8AA4-C7F4-4E9B-9075-35F957C5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C7F-82D4-4F45-AB8A-2C6AEEE9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EB70-D03B-4FA3-B6B8-D6DC1579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BD90-8250-4CE8-AE77-F4B970175A0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6408-5B5B-4CCA-B7EA-38DCE2EBE13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eec94"/>
                </a:solidFill>
                <a:uFillTx/>
                <a:latin typeface="Times New Roman"/>
              </a:rPr>
              <a:t>IMPORTACIÓN DE PALMITOS DE LA AMAZONÍA PERUANA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Ubicación temporal :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años 1997 /2000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ábamos con un contacto en el lugar de orig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ocimi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usiasm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ital prop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onveniente: monoproduc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salva el inconveniente con un contacto que es proveedor  de restaurantes y hote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APROVECHAMIENTO DE UNA OPORTUNIDAD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ena relación calidad prec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ntaja: vender de importación a consumo directo, amplitud de márgenes, posibilita mejorar los prec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producto de origen era conocido en Argentina y valorado por su relación calidad prec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empresa que abastecía el mismo producto en Argentina dejó de hacerlo por problemas de representantes y abandonó el merc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sotros ocupamos esa demanda de merc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FINALIZACION DEL EMPRENDIMIEN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s mejores clientes nos exigen un estudio de trazabilid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 mayoría de las mejoras y cambios se debían realizar en el lugar de orig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scapaba de nuestras posibilidades aplicar el estudio y no podíamos imponerl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7T15:32:51Z</dcterms:created>
  <dc:creator>Usuario</dc:creator>
  <dc:description/>
  <dc:language>en-US</dc:language>
  <cp:lastModifiedBy>C.P.C.E.C.A.B.A</cp:lastModifiedBy>
  <dcterms:modified xsi:type="dcterms:W3CDTF">2008-08-04T21:43:04Z</dcterms:modified>
  <cp:revision>1</cp:revision>
  <dc:subject/>
  <dc:title>IMPORTACIÓN DE PALMITOS DE LA AMAZONÍA PERUA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