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FB9-124E-4C11-8569-226BABB2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8C3-3714-4351-B771-7EF83B5A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9B7-C07B-44B8-929B-90256E95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339-4083-4D19-B129-AD810400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61E1-64E8-4004-B8BB-DB5E0762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79E1-DE0B-4961-B17B-872F0084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A8FC-5316-40D0-AE2A-356FA239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05A8-C72F-47CE-AD72-6C94F4E3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29FB-FB53-41FC-97CA-63D16B83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AA8C-708D-4A15-9FDD-52F53901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7A25-84BD-49CF-B1D9-A4FBEFA5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378-31AB-4F16-86EF-D213BE7D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6519-A05B-4102-AF2A-5E6BC260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DF09-CC98-4A9D-A023-B48B95D1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2932-40F4-4C15-9F33-752010F6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AE44-76EB-4B44-B6C2-57D4C42B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C0A1-41D1-4A44-9E6A-4C6BF681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D76-E8C4-4569-BB2A-15128070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F0A-4BDC-42D5-AF79-46E098AA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A7B-7532-45C6-8DD8-5D34DE20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748-8E3C-400E-9432-43A84E87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665-3AB2-4981-BED1-A4A27C9E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4C7-CC95-4AFA-84A1-A2CDD904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90C-6D3A-4626-A8E2-82397D5C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375f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5f2f"/>
                </a:gs>
                <a:gs pos="100000">
                  <a:srgbClr val="5586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95EE-2C09-4970-8EE5-F63CC166612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50000">
                  <a:srgbClr val="b4ef7f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8ea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100000">
                  <a:srgbClr val="5586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52B9-60FF-41C1-AAAE-6B7F0881A55E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1efb3"/>
                </a:solidFill>
                <a:uFillTx/>
                <a:latin typeface="Tahoma"/>
              </a:rPr>
              <a:t>EMPRENDEDOR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42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 conciente y responsable de los ac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z de trazar un plan y seguirlo pese a todas las circunstancias de la vi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divierte y disfruta con el trabaj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ume riesgos y tiene que convivir continuamente con la incertidumbre, sin dejar de sentirse optimis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ee una sensibilidad especial para detectar oportun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 creatividad está dada por su capacidad de soñar cosas nuevas y llevarlas a la ac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SE IDENTIFICAN EMPRENDEDORES COMO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s que han desarrollado el hábito de observar su medio ( son procesadores de inform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s acostumbradas a tener control de sus acciones, que han logrado su auto discipl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s que buscan  sus propios límites sin buscarse a si mismos, o sin ser auto conscien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RESILIENCIA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define como resistencia al choque, del Latín  “resilio” que significa saltar hacia atrás, rebotar , repercut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Salceb, resiliencia es la “ capacidad humana para enfrentar, sobre ponerse y salir fortalecido o transformado por experiencias de advers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resiliencia es un concepto íntimamente unido al de la autoestima, tan desarrollado entre los emprended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todo momento, la resiliencia, es fruto de la interacción entre el propio individuo y su entorno, entre las huellas de vivencias anteriores y el contexto del momento socio económico o humano donde pone en juego su capacidad para superar las dificultades gracias a sus cual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l emprendedor no niega los problemas, pero tiene la esperanza de superarlos, afrontando con realidad que exige los mismos, creando estrategias de acción que le depare resultados positivo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resiliencia no es absoluta, no se adquiere de una vez y para siempre, es una capacidad que resulta de un proceso dinámico y evolutivo que varia según las circunstancias, la naturaleza del fracaso, el contexto y la etapa de la vida y que puede expresarse de muy diversas formas en diferentes culturas y lug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EL EMPRENDEDOR NACE O SE HACE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de la óptica del ser humano en realidad todos somos emprendedores desde nuestro comienzo de vi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estra vida es un emprendimiento : nacemos, nos desarrollamos, maduramos , declinamos y morim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 secuencia de cualquier emprendimient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sí como hay personas que nacen dotadas para realizar alguna actividad específica y son brillantes sin necesidad de ser entrenados, hay gente que nace emprendedo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gran mayoría de los grandes empresarios del mundo, no tuvieron formación universitaria, lo único que tuvieron fue una gran idea y el valor de llevarla a adelante y plasmarla como el poder de absorber los contratiempos y fracas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10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 denomina emprendedor/a a aquella persona que identifica una oportunidad determinada y organiza los recursos necesarios para ponerla en marcha, o alguien quien empieza un proyecto por su propio entusiasm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se puede enseñar a una persona a que tenga ideas brillantes y mucho menos que tenga el coraje de asumir los riesgos para hacerla realida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FORMACION DE EMPRENDEDORES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 emprendedor no es cuestión de acumulación de conocimientos sino de una combinación de visión, actitudes, valores y comportamientos que permiten detectar oportunidades y organizar una forma innovadora de satisfacer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dos tenemos rasgos innatos de personalidad emprendedora como, objetivos a perseguir, motivaciones, asumir riesgos de vez en cuando, etc. Lo que sucede es que no todos la desarrollamo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través de talleres se desarrollan técnica para despertar capacidades  emprendedoras, que las personas tienen aún sin saberlo y se explota su creativida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NO SE PUEDE ENSEÑAR A EMPREND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 EMPRENDER SE APREND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AMBIENTE ADVERSO A LA CREATIVIDAD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En una sociedad exitista, nuestra cultura no perdona fácilmente el fracaso, a  quien fracasa es objeto de burlas y de humillación y esto inhibe las características emprendedoras en vez de reforzarlas. (resiliencia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ando el emprendedor emerge como resultado de su rol creativo, no le faltan críticas, y acciones hostiles hacia su proyecto de parte de otras personas por ignorancia, celos o envid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 un proyecto, el entorno por lo general aconseja, “no se puede”, “es muy riesgoso”, “vas a perder todo”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sde la educación: “ capacítate, busca una buena carrera con salida laboral” en el fondo está diciendo “no puedes ser emprendedor”, tienes que ser asalariado , con mentalidad de asalariad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predominar el paternalismo, prioriza alcanzar una alta capacitación para desempeñarse en una gran empresa o bien en la función pública. ( la seguridad de un salari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 sociedad que no perdona fracasos, condiciona a no asumir riesgos y se busca la segurid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MPRENDIMIENTOS: NO TENER CONTRATIEMPOS ES CASI IMPOSIBLE , PERO SE PUEDE TENER EN CUENTA ALGUNAS CONSIDERACIONES Y EVITARL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ETIMOLOGÍA DE TÉRMINO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alabra emprendedor deriva del francés “ ENTREPRENEUR” , que a su vez viene del Latín “INPRENDERE” , que significa acome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arece a principios del siglo XVI , siendo utilizada inicialmente para referirse a los aventureros que viajaban al nuevo mundo en búsqueda de oportunidades de vida sin saber con certeza que esper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ecer de capacidad, o bien no estar lo suficientemente convencido de llevar adelante el proyec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ar en negocios que no conocem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ivocarnos en los cálculos de costos de los servicios o productos a ven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 socio mal elegido o sin función específ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ezclar los temas económicos y financie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conocer claramente los recursos con que se cuenta para lograr su eficiente asign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tener en claro las fortalezas y ventajas con las cuenta el emprend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ullo propio: cuando se persiste en negocios que son insostenibles, pero se sigue por preservar la autoest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osteriormente en el siglo XVIII los franceses extendieron el significado del término a los constructores de puentes, caminos y a los arquitecto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EN SENTIDO ECONOMICO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 definido por primera vez por el por el tratadista económico francés Richard Cantillon, en el año 1755, como  “El proceso de enfrentar la incertidumbr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í fue utilizado para identificar a quien comenzaba una empresa y  fue ligado más que nada a empresarios innovad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emprendimiento es también una conjunción de valores para lograr desti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 llegamos a la finalización del siglo XIX y principios del siglo XX y no se reconocía en la economía el rol del emprendedor y del ries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nto las Escuelas Clásica y Neo clásica no incluyeron el concepto en el análisis económ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JOSEPH SCHUMPETER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los principios del siglo XX. Joseph Schumpeter reconoció al emprendedor como centro del sistema económ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innovaciones realizadas por los empresarios son el factor estratégico en el desarrollo económico y ocupan una posición central en el proceso del ciclo económ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Schumpeter la innovación era la razón de ser del “entrepreneur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pesar de las definiciones de Schumpeter, todavía existen las dificultades teóricas de compatibilizar las variables socialmente orientadas y las teorías matemáticas que describen con exactitud el model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PSICOLOGÍA DEL EMPRENDEDOR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er espíritu emprendedor  supo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er las cos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buscar excusas ni razones para demostrar  que no se pueden hacer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eer un alto grado de autoest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antarse con más fuerza cada vez que se ca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2T16:12:08Z</dcterms:created>
  <dc:creator>Usuario</dc:creator>
  <dc:description/>
  <dc:language>en-US</dc:language>
  <cp:lastModifiedBy>C.P.C.E.C.A.B.A</cp:lastModifiedBy>
  <dcterms:modified xsi:type="dcterms:W3CDTF">2008-08-04T21:43:35Z</dcterms:modified>
  <cp:revision>5</cp:revision>
  <dc:subject/>
  <dc:title>Diapositiva 1</dc:title>
</cp:coreProperties>
</file>