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DECF-E34F-4B5C-86FA-6A081C5D9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B44C-E369-443E-BD7E-49E91204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34C5-5E57-40D8-A04D-683F779F0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2364-6463-4863-AFCA-F1D496A10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1A8DE-D7F8-4C5C-8735-5B5473D14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921E16-E48A-4470-9807-7EC4E815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553D8-0A2E-4B82-BB79-153321A4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923FD8-F1AF-416B-9849-FCB1BE96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4908F7-E663-486E-9B3A-454CE5E7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3AF7E-71DE-40DF-A3AD-17258298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75B49-64FD-467D-998B-52927B8F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5D46-4A2A-4883-AC7E-0B8241EA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E3A4A7-A3F1-4EC1-9497-08242512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5DB91-5CCC-47DE-B0B9-1BEA3B85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E4926-95CC-43F6-AABB-E337FC64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83B3E-EF47-496C-8714-98FDC1581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E2BFC-3DA8-42FF-8390-264482733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7EB8-1105-401C-88DC-10A1A763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912C-EF95-4A42-B3F8-3CB68245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3875-77E2-42CA-B4E2-7B933F7E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6165-CC44-456C-9B66-9740CE48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9917-A323-47FD-B633-591E3F2A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0CF3-97A3-4472-993C-4A4480E9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F672-BC79-49E8-9523-B781CF08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6B3F-072E-4FCB-BDCA-46CD2572082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B925-E5FF-46E8-99B8-966D338C4A2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042920" y="6111720"/>
            <a:ext cx="785880" cy="588960"/>
            <a:chOff x="1042920" y="6111720"/>
            <a:chExt cx="785880" cy="588960"/>
          </a:xfrm>
        </p:grpSpPr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1042920" y="6111720"/>
              <a:ext cx="785880" cy="5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PlaceHolder 4"/>
            <p:cNvSpPr>
              <a:spLocks noGrp="1"/>
            </p:cNvSpPr>
            <p:nvPr>
              <p:ph type="dt" idx="6"/>
            </p:nvPr>
          </p:nvSpPr>
          <p:spPr>
            <a:xfrm>
              <a:off x="1042920" y="6111720"/>
              <a:ext cx="78588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indent="0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a8456"/>
                </a:solidFill>
                <a:latin typeface="Tahoma"/>
              </a:rPr>
              <a:t>RESPONSABILIDAD SOCIAL, MARCO ETICO PARA LA GESTION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Dardo R. Junc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aa8456"/>
                </a:solidFill>
                <a:latin typeface="Tahoma"/>
              </a:rPr>
              <a:t>“</a:t>
            </a:r>
            <a:r>
              <a:rPr b="0" i="1" lang="en-US" sz="2000" spc="-1" strike="noStrike">
                <a:solidFill>
                  <a:srgbClr val="aa8456"/>
                </a:solidFill>
                <a:latin typeface="Tahoma"/>
              </a:rPr>
              <a:t>Las instituciones modernas existen para realizar aportes fuera de si </a:t>
            </a:r>
            <a:r>
              <a:rPr b="0" i="1" lang="en-US" sz="1800" spc="-1" strike="noStrike">
                <a:solidFill>
                  <a:srgbClr val="aa8456"/>
                </a:solidFill>
                <a:latin typeface="Tahoma"/>
              </a:rPr>
              <a:t>mismas…Las</a:t>
            </a:r>
            <a:r>
              <a:rPr b="0" i="1" lang="en-US" sz="2000" spc="-1" strike="noStrike">
                <a:solidFill>
                  <a:srgbClr val="aa8456"/>
                </a:solidFill>
                <a:latin typeface="Tahoma"/>
              </a:rPr>
              <a:t> empresas existen para suministrar bienes y servicios a los clientes, mas que para ofrecer cargos a los trabajadores o gerentes, o incluso dividendos a los accionistas…ninguna institución puede existir fuera de la comunidad y la sociedad…y cada vez mas en nuestra sociedad pluralista de organizaciones, la empresa debe incorporar a su preocupación fundamental por las cantidades…el interés por la calidad de la vida, esto es por el medio físico, humano y social del hombre moderno y la comunidad moderna…”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aa8456"/>
                </a:solidFill>
                <a:latin typeface="Tahoma"/>
              </a:rPr>
              <a:t>“…</a:t>
            </a:r>
            <a:r>
              <a:rPr b="0" i="1" lang="en-US" sz="2000" spc="-1" strike="noStrike">
                <a:solidFill>
                  <a:srgbClr val="aa8456"/>
                </a:solidFill>
                <a:latin typeface="Tahoma"/>
              </a:rPr>
              <a:t>la sociedad no es una institución económica y reclama a la administración la realización de creencias y valores básicos…”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855b"/>
                </a:solidFill>
                <a:latin typeface="Tahoma"/>
              </a:rPr>
              <a:t>Peter Drucke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rdo R. Junc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FINALIDADES ULTIMAS DE LAS ORGANIZACIONES: SUPERVIVENCIA Y DESARROLL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CONCEPCION TRADICIONAL DEL DESARROLLO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BIENESTA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ABUNDANCIA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CRECIMIENTO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ACUMULACIO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COMPETITIVIDAD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CRITERIOS PRINCIPALES DE GESTION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RACIONALIDAD ECONOMICA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RENTABILIDAD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PRODUCTIVIDAD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OPTIMIZACIO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EQUILIBRI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5013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Verdana"/>
              </a:rPr>
              <a:t>PRODUCC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64000" y="5013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Verdana"/>
              </a:rPr>
              <a:t>COMERCIALIZAC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92360" y="5300640"/>
            <a:ext cx="1584360" cy="0"/>
          </a:xfrm>
          <a:prstGeom prst="line">
            <a:avLst/>
          </a:prstGeom>
          <a:ln w="25560">
            <a:solidFill>
              <a:srgbClr val="6633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rdo R. Junc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A RESIGNIFICACION DEL DESARROLL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RINCIPIOS DE LA SUSTENTABILIDAD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TERDEPENDENCI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RMONIA ESPACIO -TEMPORA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OMPLEJIDA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NUEVOS CRITERIOS DE GESTION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HOLISMO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CENTO EN LAS RELACION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OMPRENS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STABILIDA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4797360"/>
            <a:ext cx="756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479736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ahoma"/>
              </a:rPr>
              <a:t>LA RESIGNIFICACION DEL CONCEPTO DE DESARROLLO DESDE LA ADMINISTRACION NO PUEDE PRESCINDIR DEL CONOCIMIENTO QUE ESTA HA CONSTRUIDO A PARTIR DE SUS EXPERIENCIAS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rdo R. Junc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LA RESPONSABILIDAD SOCIAL EMPRESARIA NOS PROPONE UNA GESTION CENTRADA EN LAS INTERRELACIONES Y UNA ETICA QUE ORIENTE AL COMPORTAMIENTO APROPIADO EN FUNCION DE LA ESPECIFICIDAD DE CADA UNA  DE ESTA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VALORES QUE ENCUADRAN LA GESTION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COOPERAC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SOLIDARIDA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RESPETO POR LA PERSON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TRANSPARENCI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RESPONSABILIDA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RELACIONES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CON CONSUMIDOR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CON EMPLEADO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CON EL GOBIERNO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CON ACCIONISTAS Y GRUPOS DE INTER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CON EL ECOSISTEM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CON LA COMUNIDAD Y OTROS ACTOR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rdo R. Junc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CONOCER LA DIMENSION ETICA EN LA GESTIO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CEPTAR LA DIVERSIDA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NSTRUIR A PARTIR DE LA PROPIA IDENTIDA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ESARROLLO SUSTENTABLE DE LAS ORGANIZACION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O CIRCUNSCRIBIRSE A UN MANUAL DE BUENAS PRACTICA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rdo R. Junc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0:16:44Z</dcterms:created>
  <dc:creator>.</dc:creator>
  <dc:description/>
  <dc:language>en-US</dc:language>
  <cp:lastModifiedBy>.</cp:lastModifiedBy>
  <dcterms:modified xsi:type="dcterms:W3CDTF">2008-08-05T22:34:06Z</dcterms:modified>
  <cp:revision>6</cp:revision>
  <dc:subject/>
  <dc:title>RESPONSABILIDAD SOCIAL, MARCO ETICO PARA LA GESTION.</dc:title>
</cp:coreProperties>
</file>