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DCF-25C3-4BDA-9042-44633395E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D57-ACB4-4A91-AD4D-B534DE225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F49-564F-4E4D-8920-A26EBDD5B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B11-1D1C-47B5-843F-93D301592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AD8C-D400-451E-838A-24987CD54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9487-C228-4A1B-BB21-6000ADE57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7661-6C87-437A-A826-B9DD4F52F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13DF-47E2-43E4-BD39-9F6811FAB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CE73-2419-4864-AE8A-562BD7D50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B0B25-F1DB-4022-8ADF-56AF37E36A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8AEC-CA1D-4E6F-B168-935E5B881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B875-1037-4FE6-A6E8-8BE461DA16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5BF79-8D0F-4519-8FB7-E8CAD2F5F3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5287-778D-4128-BA4B-A3A15363A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8C0EB-AC60-4F24-83EE-5FB52B5DB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A4207-881C-46B4-B7D3-99C0DFBDE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257C-4EF8-4B1B-B3EC-3B976520E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F4CB5-E41D-4623-BACE-6F71E8677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DE17-7348-4285-99C7-E9600CAB65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8D3C8-F57F-4C4B-8AE0-4D7085FD50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E06D6-3025-481A-93CB-E1E1C6E88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8A75-E708-4624-B2DB-4056A09C6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BF31-AB41-4015-A9B6-6F3AE9F79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4C74-377C-4A1A-AD3F-C992113D9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DD09-D5F5-4C94-B476-3AAC12F7E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28A2-03A7-4BDC-B6DD-4C607B0FF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EF61-D2A9-4845-93D6-91EEB740E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4941-C0A4-4D53-B5DD-92A79BF5C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03CA-D160-42B9-BED9-D6C4C6097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9C6-68AA-4DC4-9EE6-443EFDB9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42040" y="235080"/>
            <a:ext cx="173376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1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245A-940D-423E-A6D3-12B2684B3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92920" y="165240"/>
          <a:ext cx="1730520" cy="88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2920" y="165240"/>
                    <a:ext cx="17305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1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213012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sponsabilidad Social de la Empresa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3859200"/>
            <a:ext cx="6400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Buenos Aires, 7 de agosto de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71400" y="170028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7240" y="396720"/>
            <a:ext cx="7748640" cy="106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presa Familiarmente Responsable: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o EFR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Claves de Éxi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ortancia del lideraz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actor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mpromiso de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32520" y="5232240"/>
            <a:ext cx="2590920" cy="1470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7086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SE: ¿Moda o necesidad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un barco no sabe a qué puerto ir todos los vientos le son contrari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én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4006800"/>
          <a:ext cx="27432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06800"/>
                    <a:ext cx="27432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1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1360" y="213012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3859200"/>
            <a:ext cx="6400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debeljuh@uade.edu.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640" y="747360"/>
            <a:ext cx="6794640" cy="10666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4572000"/>
            <a:ext cx="82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0680" y="3681360"/>
            <a:ext cx="8305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805480" y="1046160"/>
            <a:ext cx="2539440" cy="4802400"/>
            <a:chOff x="2805480" y="1046160"/>
            <a:chExt cx="2539440" cy="4802400"/>
          </a:xfrm>
        </p:grpSpPr>
        <p:sp>
          <p:nvSpPr>
            <p:cNvPr id="97" name=""/>
            <p:cNvSpPr/>
            <p:nvPr/>
          </p:nvSpPr>
          <p:spPr>
            <a:xfrm>
              <a:off x="3256200" y="2359080"/>
              <a:ext cx="1457280" cy="1952640"/>
            </a:xfrm>
            <a:prstGeom prst="upDownArrow">
              <a:avLst>
                <a:gd name="adj1" fmla="val 50000"/>
                <a:gd name="adj2" fmla="val 2667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38600" y="1046160"/>
              <a:ext cx="2506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cc3300"/>
                  </a:solidFill>
                  <a:latin typeface="Tahoma"/>
                </a:rPr>
                <a:t>Empresa</a:t>
              </a:r>
              <a:r>
                <a:rPr b="0" lang="es-ES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4800"/>
              </a:b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05480" y="5145120"/>
              <a:ext cx="243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cc3300"/>
                  </a:solidFill>
                  <a:latin typeface="Tahoma"/>
                </a:rPr>
                <a:t>Socie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86440" y="2313000"/>
            <a:ext cx="2290680" cy="273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volución del Concep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7800" y="1370160"/>
            <a:ext cx="5981760" cy="63468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lantropía Empr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7000" y="2576520"/>
            <a:ext cx="6019560" cy="6858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acción Soci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mpr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82840" y="3992400"/>
            <a:ext cx="6006960" cy="6858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35040" y="5361120"/>
            <a:ext cx="5994360" cy="6858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iudadanía Corpo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3760" y="394956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finición de R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802656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cc3300"/>
                </a:solidFill>
                <a:latin typeface="Arial"/>
              </a:rPr>
              <a:t>La Responsabilidad Social Empresaria es el conjunto de prácticas empresariales abiertas y transparentes basadas en valores éticos y en el respeto hacia los empleados, las comunidades y al amb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cc3300"/>
                </a:solidFill>
                <a:latin typeface="Arial"/>
              </a:rPr>
              <a:t>Fuente: Prince of Wales International Business Leadership Forum (IBLF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s-AR" sz="2000" spc="-1" strike="noStrike">
                <a:solidFill>
                  <a:srgbClr val="0000cc"/>
                </a:solidFill>
                <a:latin typeface="Arial"/>
              </a:rPr>
              <a:t>Es la contribución al desarrollo humano sostenible, a través del compromiso y confianza con sus empleados y familias, la sociedad en general y la comunidad local en pos de mejorar su capital social y calidad de vid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cc"/>
                </a:solidFill>
                <a:latin typeface="Arial"/>
              </a:rPr>
              <a:t>Fuente: Fundación Prohumana (Chile) </a:t>
            </a:r>
            <a:r>
              <a:rPr b="0" lang="es-AR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Ser socialmente responsable no significa solamente cumplir plenamente las obligaciones jurídicas, sino también ir más allá de su cumplimiento invirtiendo más en el capital humano, el entorno y las relaciones con los interlocutor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9900"/>
                </a:solidFill>
                <a:latin typeface="Arial"/>
              </a:rPr>
              <a:t>Fuente: Libro Verde de la Comisión de la Unión Europea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711520" y="1557360"/>
            <a:ext cx="3655800" cy="2195640"/>
            <a:chOff x="2711520" y="1557360"/>
            <a:chExt cx="3655800" cy="2195640"/>
          </a:xfrm>
        </p:grpSpPr>
        <p:sp>
          <p:nvSpPr>
            <p:cNvPr id="110" name=""/>
            <p:cNvSpPr/>
            <p:nvPr/>
          </p:nvSpPr>
          <p:spPr>
            <a:xfrm>
              <a:off x="2711520" y="1557360"/>
              <a:ext cx="3655800" cy="2195640"/>
            </a:xfrm>
            <a:prstGeom prst="ellipse">
              <a:avLst/>
            </a:prstGeom>
            <a:gradFill rotWithShape="0">
              <a:gsLst>
                <a:gs pos="0">
                  <a:srgbClr val="ffe2a9"/>
                </a:gs>
                <a:gs pos="100000">
                  <a:srgbClr val="fff0d3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43520" y="198900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638600" y="1647720"/>
            <a:ext cx="1562040" cy="1473480"/>
            <a:chOff x="4638600" y="1647720"/>
            <a:chExt cx="1562040" cy="1473480"/>
          </a:xfrm>
        </p:grpSpPr>
        <p:sp>
          <p:nvSpPr>
            <p:cNvPr id="113" name=""/>
            <p:cNvSpPr/>
            <p:nvPr/>
          </p:nvSpPr>
          <p:spPr>
            <a:xfrm>
              <a:off x="4638600" y="1932120"/>
              <a:ext cx="1562040" cy="1189080"/>
            </a:xfrm>
            <a:prstGeom prst="ellipse">
              <a:avLst/>
            </a:prstGeom>
            <a:gradFill rotWithShape="0">
              <a:gsLst>
                <a:gs pos="0">
                  <a:srgbClr val="ffe2a9"/>
                </a:gs>
                <a:gs pos="100000">
                  <a:srgbClr val="fff0d3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7960" y="164772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turaleza y finalidad de la empr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92600" y="1967040"/>
            <a:ext cx="1403280" cy="105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14480" y="4221000"/>
            <a:ext cx="716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institución social vs. instrumento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comunidad de personas vs. engranaje pro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s visiones de la empr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3691080"/>
            <a:ext cx="3816360" cy="28144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600" y="3803760"/>
            <a:ext cx="3543120" cy="2332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CCIONARIAL (SHAREHOL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400" y="4097160"/>
            <a:ext cx="3522960" cy="225108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Autofit/>
          </a:bodyPr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 empresa es propiedad del accionist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tabLst>
                <a:tab algn="l" pos="0"/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tabLst>
                <a:tab algn="l" pos="0"/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os directivos sólo responden ante el accion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tabLst>
                <a:tab algn="l" pos="0"/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tabLst>
                <a:tab algn="l" pos="0"/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fin de la empresa es maximizar el valor de la empresa para el accionista, dentro del respeto a la ley y las costumbres de la sociedad en la que op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0600" y="3691080"/>
            <a:ext cx="3720960" cy="28144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2640" y="3803760"/>
            <a:ext cx="3456000" cy="2332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PLICADOS (STAKEHOL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03800" y="4097160"/>
            <a:ext cx="3435480" cy="225108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Autofit/>
          </a:bodyPr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a empresa es la acción coordinada de distintos grupos que trabajan en la obtención de un objetivo 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os directivos responden ante otros grupos implicados en la actividad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3222720"/>
                <a:tab algn="l" pos="4834080"/>
                <a:tab algn="l" pos="6445080"/>
                <a:tab algn="l" pos="8056440"/>
                <a:tab algn="l" pos="96678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fin de la empresa es múltiple. Se trata de buscar un equilibrio en cada momento, estableciendo prioridades, que cambian según los ca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00720" y="1397160"/>
            <a:ext cx="2660760" cy="2125440"/>
            <a:chOff x="5400720" y="1397160"/>
            <a:chExt cx="2660760" cy="2125440"/>
          </a:xfrm>
        </p:grpSpPr>
        <p:sp>
          <p:nvSpPr>
            <p:cNvPr id="126" name=""/>
            <p:cNvSpPr/>
            <p:nvPr/>
          </p:nvSpPr>
          <p:spPr>
            <a:xfrm>
              <a:off x="5904360" y="1652760"/>
              <a:ext cx="1655280" cy="167868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30196"/>
                  </a:srgbClr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96120" y="1652040"/>
              <a:ext cx="672120" cy="4676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ffff00"/>
                  </a:solidFill>
                  <a:latin typeface="Arial"/>
                </a:rPr>
                <a:t>DIREC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76080" y="2481120"/>
              <a:ext cx="543240" cy="4676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ffff00"/>
                  </a:solidFill>
                  <a:latin typeface="Arial"/>
                </a:rPr>
                <a:t>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5400" y="2481120"/>
              <a:ext cx="543240" cy="4676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ffff00"/>
                  </a:solidFill>
                  <a:latin typeface="Arial"/>
                </a:rPr>
                <a:t>CAPIT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477480" y="2570040"/>
              <a:ext cx="531360" cy="312480"/>
              <a:chOff x="6477480" y="2570040"/>
              <a:chExt cx="531360" cy="312480"/>
            </a:xfrm>
          </p:grpSpPr>
          <p:sp>
            <p:nvSpPr>
              <p:cNvPr id="131" name=""/>
              <p:cNvSpPr/>
              <p:nvPr/>
            </p:nvSpPr>
            <p:spPr>
              <a:xfrm>
                <a:off x="6531840" y="2748240"/>
                <a:ext cx="477000" cy="134280"/>
              </a:xfrm>
              <a:custGeom>
                <a:avLst/>
                <a:gdLst>
                  <a:gd name="textAreaLeft" fmla="*/ 94680 w 477000"/>
                  <a:gd name="textAreaRight" fmla="*/ 333720 w 477000"/>
                  <a:gd name="textAreaTop" fmla="*/ 18000 h 134280"/>
                  <a:gd name="textAreaBottom" fmla="*/ 116280 h 13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6477120" y="2570040"/>
                <a:ext cx="477000" cy="133920"/>
              </a:xfrm>
              <a:custGeom>
                <a:avLst/>
                <a:gdLst>
                  <a:gd name="textAreaLeft" fmla="*/ 94320 w 477000"/>
                  <a:gd name="textAreaRight" fmla="*/ 333360 w 477000"/>
                  <a:gd name="textAreaTop" fmla="*/ 17640 h 133920"/>
                  <a:gd name="textAreaBottom" fmla="*/ 1162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175800" y="2051280"/>
              <a:ext cx="586080" cy="526680"/>
              <a:chOff x="6175800" y="2051280"/>
              <a:chExt cx="586080" cy="526680"/>
            </a:xfrm>
          </p:grpSpPr>
          <p:sp>
            <p:nvSpPr>
              <p:cNvPr id="134" name=""/>
              <p:cNvSpPr/>
              <p:nvPr/>
            </p:nvSpPr>
            <p:spPr>
              <a:xfrm rot="18654000">
                <a:off x="6307560" y="2285280"/>
                <a:ext cx="489960" cy="129600"/>
              </a:xfrm>
              <a:custGeom>
                <a:avLst/>
                <a:gdLst>
                  <a:gd name="textAreaLeft" fmla="*/ 97200 w 489960"/>
                  <a:gd name="textAreaRight" fmla="*/ 342720 w 489960"/>
                  <a:gd name="textAreaTop" fmla="*/ 17280 h 129600"/>
                  <a:gd name="textAreaBottom" fmla="*/ 112320 h 1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 rot="18654000">
                <a:off x="6139800" y="2212920"/>
                <a:ext cx="489600" cy="129600"/>
              </a:xfrm>
              <a:custGeom>
                <a:avLst/>
                <a:gdLst>
                  <a:gd name="textAreaLeft" fmla="*/ 97560 w 489600"/>
                  <a:gd name="textAreaRight" fmla="*/ 342720 w 489600"/>
                  <a:gd name="textAreaTop" fmla="*/ 17280 h 129600"/>
                  <a:gd name="textAreaBottom" fmla="*/ 112320 h 1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687720" y="2028600"/>
              <a:ext cx="522720" cy="583200"/>
              <a:chOff x="6687720" y="2028600"/>
              <a:chExt cx="522720" cy="583200"/>
            </a:xfrm>
          </p:grpSpPr>
          <p:sp>
            <p:nvSpPr>
              <p:cNvPr id="137" name=""/>
              <p:cNvSpPr/>
              <p:nvPr/>
            </p:nvSpPr>
            <p:spPr>
              <a:xfrm rot="13254000">
                <a:off x="6748200" y="2168280"/>
                <a:ext cx="476640" cy="133200"/>
              </a:xfrm>
              <a:custGeom>
                <a:avLst/>
                <a:gdLst>
                  <a:gd name="textAreaLeft" fmla="*/ 94320 w 476640"/>
                  <a:gd name="textAreaRight" fmla="*/ 333360 w 476640"/>
                  <a:gd name="textAreaTop" fmla="*/ 17640 h 133200"/>
                  <a:gd name="textAreaBottom" fmla="*/ 115560 h 13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 rot="13254000">
                <a:off x="6672600" y="2338200"/>
                <a:ext cx="476640" cy="133200"/>
              </a:xfrm>
              <a:custGeom>
                <a:avLst/>
                <a:gdLst>
                  <a:gd name="textAreaLeft" fmla="*/ 94320 w 476640"/>
                  <a:gd name="textAreaRight" fmla="*/ 333360 w 476640"/>
                  <a:gd name="textAreaTop" fmla="*/ 17640 h 133200"/>
                  <a:gd name="textAreaBottom" fmla="*/ 115560 h 13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978520" y="2700000"/>
              <a:ext cx="169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5280" y="1397160"/>
              <a:ext cx="542520" cy="466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ASOC. PROF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57960" y="1864080"/>
              <a:ext cx="542880" cy="46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19680" y="2311560"/>
              <a:ext cx="541800" cy="468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GRUPOS ECOLOG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4560" y="1397160"/>
              <a:ext cx="542520" cy="466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ASOC. CONSU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7560" y="3012840"/>
              <a:ext cx="542520" cy="467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COMUNID LOC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0" y="1864080"/>
              <a:ext cx="543240" cy="46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PROVEE-DO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00720" y="2332080"/>
              <a:ext cx="541440" cy="4672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MEDIOS COMUN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9560" y="3055320"/>
              <a:ext cx="542520" cy="46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000000"/>
                  </a:solidFill>
                  <a:latin typeface="Arial"/>
                </a:rPr>
                <a:t>COMPETI-DO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3400" y="3012840"/>
              <a:ext cx="542880" cy="467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00" spc="-1" strike="noStrike">
                  <a:solidFill>
                    <a:srgbClr val="000000"/>
                  </a:solidFill>
                  <a:latin typeface="Arial"/>
                </a:rPr>
                <a:t>ADMIN PUBLIC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347840" y="1511280"/>
            <a:ext cx="1879560" cy="1974600"/>
            <a:chOff x="1347840" y="1511280"/>
            <a:chExt cx="1879560" cy="1974600"/>
          </a:xfrm>
        </p:grpSpPr>
        <p:sp>
          <p:nvSpPr>
            <p:cNvPr id="150" name=""/>
            <p:cNvSpPr/>
            <p:nvPr/>
          </p:nvSpPr>
          <p:spPr>
            <a:xfrm>
              <a:off x="1347840" y="1512360"/>
              <a:ext cx="1879560" cy="197352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30196"/>
                  </a:srgbClr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5840" y="1511280"/>
              <a:ext cx="763200" cy="5500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ffff00"/>
                  </a:solidFill>
                  <a:latin typeface="Arial"/>
                </a:rPr>
                <a:t>DIRECC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64280" y="2485440"/>
              <a:ext cx="616320" cy="5511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" spc="-1" strike="noStrike">
                  <a:solidFill>
                    <a:srgbClr val="ffff00"/>
                  </a:solidFill>
                  <a:latin typeface="Arial"/>
                </a:rPr>
                <a:t>TRABAJ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93920" y="2485440"/>
              <a:ext cx="616320" cy="5511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ffff00"/>
                  </a:solidFill>
                  <a:latin typeface="Arial"/>
                </a:rPr>
                <a:t>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992600" y="2585520"/>
              <a:ext cx="603360" cy="367200"/>
              <a:chOff x="1992600" y="2585520"/>
              <a:chExt cx="603360" cy="36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2054160" y="2795400"/>
                <a:ext cx="541800" cy="157320"/>
              </a:xfrm>
              <a:custGeom>
                <a:avLst/>
                <a:gdLst>
                  <a:gd name="textAreaLeft" fmla="*/ 107280 w 541800"/>
                  <a:gd name="textAreaRight" fmla="*/ 379080 w 541800"/>
                  <a:gd name="textAreaTop" fmla="*/ 20880 h 157320"/>
                  <a:gd name="textAreaBottom" fmla="*/ 136440 h 15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992240" y="2585160"/>
                <a:ext cx="541800" cy="157320"/>
              </a:xfrm>
              <a:custGeom>
                <a:avLst/>
                <a:gdLst>
                  <a:gd name="textAreaLeft" fmla="*/ 107280 w 541800"/>
                  <a:gd name="textAreaRight" fmla="*/ 379080 w 541800"/>
                  <a:gd name="textAreaTop" fmla="*/ 20880 h 157320"/>
                  <a:gd name="textAreaBottom" fmla="*/ 136440 h 15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642320" y="1983960"/>
              <a:ext cx="680040" cy="611640"/>
              <a:chOff x="1642320" y="1983960"/>
              <a:chExt cx="680040" cy="611640"/>
            </a:xfrm>
          </p:grpSpPr>
          <p:sp>
            <p:nvSpPr>
              <p:cNvPr id="158" name=""/>
              <p:cNvSpPr/>
              <p:nvPr/>
            </p:nvSpPr>
            <p:spPr>
              <a:xfrm rot="18654000">
                <a:off x="1789920" y="2255760"/>
                <a:ext cx="576360" cy="147240"/>
              </a:xfrm>
              <a:custGeom>
                <a:avLst/>
                <a:gdLst>
                  <a:gd name="textAreaLeft" fmla="*/ 114120 w 576360"/>
                  <a:gd name="textAreaRight" fmla="*/ 403200 w 576360"/>
                  <a:gd name="textAreaTop" fmla="*/ 19440 h 147240"/>
                  <a:gd name="textAreaBottom" fmla="*/ 12780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 rot="18654000">
                <a:off x="1598040" y="2176200"/>
                <a:ext cx="576360" cy="147240"/>
              </a:xfrm>
              <a:custGeom>
                <a:avLst/>
                <a:gdLst>
                  <a:gd name="textAreaLeft" fmla="*/ 114120 w 576360"/>
                  <a:gd name="textAreaRight" fmla="*/ 403200 w 576360"/>
                  <a:gd name="textAreaTop" fmla="*/ 19440 h 147240"/>
                  <a:gd name="textAreaBottom" fmla="*/ 12780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27320" y="1961280"/>
              <a:ext cx="601920" cy="671400"/>
              <a:chOff x="2227320" y="1961280"/>
              <a:chExt cx="601920" cy="671400"/>
            </a:xfrm>
          </p:grpSpPr>
          <p:sp>
            <p:nvSpPr>
              <p:cNvPr id="161" name=""/>
              <p:cNvSpPr/>
              <p:nvPr/>
            </p:nvSpPr>
            <p:spPr>
              <a:xfrm rot="13254000">
                <a:off x="2302920" y="2119320"/>
                <a:ext cx="541080" cy="156960"/>
              </a:xfrm>
              <a:custGeom>
                <a:avLst/>
                <a:gdLst>
                  <a:gd name="textAreaLeft" fmla="*/ 107280 w 541080"/>
                  <a:gd name="textAreaRight" fmla="*/ 378360 w 541080"/>
                  <a:gd name="textAreaTop" fmla="*/ 20880 h 156960"/>
                  <a:gd name="textAreaBottom" fmla="*/ 13608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 rot="13254000">
                <a:off x="2212200" y="2317680"/>
                <a:ext cx="541080" cy="156960"/>
              </a:xfrm>
              <a:custGeom>
                <a:avLst/>
                <a:gdLst>
                  <a:gd name="textAreaLeft" fmla="*/ 107280 w 541080"/>
                  <a:gd name="textAreaRight" fmla="*/ 378360 w 541080"/>
                  <a:gd name="textAreaTop" fmla="*/ 20880 h 156960"/>
                  <a:gd name="textAreaBottom" fmla="*/ 13608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-3706289"/>
                    <a:lnTo>
                      <a:pt x="21412" y="4500"/>
                    </a:lnTo>
                    <a:lnTo>
                      <a:pt x="18266" y="0"/>
                    </a:lnTo>
                    <a:lnTo>
                      <a:pt x="14744" y="4500"/>
                    </a:lnTo>
                    <a:lnTo>
                      <a:pt x="16953" y="4500"/>
                    </a:lnTo>
                    <a:arcTo wR="8571" hR="21600" stAng="1693711" swAng="3525843"/>
                    <a:lnTo>
                      <a:pt x="9696" y="21413"/>
                    </a:lnTo>
                    <a:arcTo wR="8571" hR="21600" stAng="5580446" swAng="5219554"/>
                    <a:close/>
                  </a:path>
                  <a:path fill="darkenLess" w="21600" h="21600">
                    <a:moveTo>
                      <a:pt x="0" y="0"/>
                    </a:moveTo>
                    <a:arcTo wR="8571" hR="21600" stAng="10800000" swAng="-5400000"/>
                    <a:lnTo>
                      <a:pt x="10821" y="21600"/>
                    </a:lnTo>
                    <a:arcTo wR="8571" hR="21600" stAng="5400000" swAng="180446"/>
                    <a:lnTo>
                      <a:pt x="9696" y="21413"/>
                    </a:lnTo>
                    <a:arcTo wR="8571" hR="21600" stAng="5580446" swAng="521955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blemas de la teoría de los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520" y="129492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solucionan los conflictos entre los diferentes grup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e considera 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k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gíti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l manager como grupo es otro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k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51320" y="4379760"/>
            <a:ext cx="2241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62160" y="1434960"/>
            <a:ext cx="2740320" cy="1514520"/>
            <a:chOff x="3062160" y="1434960"/>
            <a:chExt cx="2740320" cy="1514520"/>
          </a:xfrm>
        </p:grpSpPr>
        <p:grpSp>
          <p:nvGrpSpPr>
            <p:cNvPr id="167" name=""/>
            <p:cNvGrpSpPr/>
            <p:nvPr/>
          </p:nvGrpSpPr>
          <p:grpSpPr>
            <a:xfrm>
              <a:off x="3062160" y="1509840"/>
              <a:ext cx="2625840" cy="1439640"/>
              <a:chOff x="3062160" y="1509840"/>
              <a:chExt cx="2625840" cy="1439640"/>
            </a:xfrm>
          </p:grpSpPr>
          <p:sp>
            <p:nvSpPr>
              <p:cNvPr id="168" name=""/>
              <p:cNvSpPr/>
              <p:nvPr/>
            </p:nvSpPr>
            <p:spPr>
              <a:xfrm>
                <a:off x="3062160" y="1509840"/>
                <a:ext cx="26258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e2a9"/>
                  </a:gs>
                  <a:gs pos="100000">
                    <a:srgbClr val="fff0d3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46720" y="1755720"/>
                <a:ext cx="1120680" cy="779400"/>
              </a:xfrm>
              <a:prstGeom prst="ellipse">
                <a:avLst/>
              </a:prstGeom>
              <a:gradFill rotWithShape="0">
                <a:gsLst>
                  <a:gs pos="0">
                    <a:srgbClr val="ffe2a9"/>
                  </a:gs>
                  <a:gs pos="100000">
                    <a:srgbClr val="fff0d3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56080" y="1765440"/>
                <a:ext cx="1008000" cy="68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"/>
            <p:cNvSpPr/>
            <p:nvPr/>
          </p:nvSpPr>
          <p:spPr>
            <a:xfrm>
              <a:off x="3141720" y="1434960"/>
              <a:ext cx="99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oc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5280" y="1579680"/>
              <a:ext cx="99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2640" y="317880"/>
            <a:ext cx="7010280" cy="45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turaleza y finalidad de la empr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11480" y="3573360"/>
            <a:ext cx="2227320" cy="1044720"/>
          </a:xfrm>
          <a:prstGeom prst="rect">
            <a:avLst/>
          </a:prstGeom>
          <a:gradFill rotWithShape="0">
            <a:gsLst>
              <a:gs pos="0">
                <a:srgbClr val="ffe2a9"/>
              </a:gs>
              <a:gs pos="100000">
                <a:srgbClr val="fff0d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ribución al desarrollo del bien común de la sociedad en que actúa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11480" y="4618080"/>
            <a:ext cx="2227320" cy="1044360"/>
          </a:xfrm>
          <a:prstGeom prst="rect">
            <a:avLst/>
          </a:prstGeom>
          <a:gradFill rotWithShape="0">
            <a:gsLst>
              <a:gs pos="0">
                <a:srgbClr val="ffe2a9"/>
              </a:gs>
              <a:gs pos="100000">
                <a:srgbClr val="fff0d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ducción y distribución eficiente de biene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38800" y="4618080"/>
            <a:ext cx="2225520" cy="1044360"/>
          </a:xfrm>
          <a:prstGeom prst="rect">
            <a:avLst/>
          </a:prstGeom>
          <a:gradFill rotWithShape="0">
            <a:gsLst>
              <a:gs pos="0">
                <a:srgbClr val="ffe2a9"/>
              </a:gs>
              <a:gs pos="100000">
                <a:srgbClr val="fff0d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eación de un entorno de trabajo que promueve unos valores y facilita el aprendizaje de unos hábi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8800" y="3573360"/>
            <a:ext cx="2225520" cy="1044720"/>
          </a:xfrm>
          <a:prstGeom prst="rect">
            <a:avLst/>
          </a:prstGeom>
          <a:gradFill rotWithShape="0">
            <a:gsLst>
              <a:gs pos="0">
                <a:srgbClr val="ffe2a9"/>
              </a:gs>
              <a:gs pos="100000">
                <a:srgbClr val="fff0d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sarrollo de las personas que componen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25600" y="3249720"/>
            <a:ext cx="19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torno ex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8520" y="3249720"/>
            <a:ext cx="19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torno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82920" y="22748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7000" y="22622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6800" y="3811680"/>
            <a:ext cx="12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sión gen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240" y="4856040"/>
            <a:ext cx="136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sión específ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4840" y="1981080"/>
            <a:ext cx="871380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taminación de la naturaleza (ecologí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taminación de la sociedad (ecología hum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ble ef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cial (entorno exter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rial (entorno inter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" y="468360"/>
            <a:ext cx="8642520" cy="9684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pacidad destructora de las empresa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75280" y="3386160"/>
            <a:ext cx="3384360" cy="2202840"/>
            <a:chOff x="5075280" y="3386160"/>
            <a:chExt cx="3384360" cy="2202840"/>
          </a:xfrm>
        </p:grpSpPr>
        <p:grpSp>
          <p:nvGrpSpPr>
            <p:cNvPr id="187" name=""/>
            <p:cNvGrpSpPr/>
            <p:nvPr/>
          </p:nvGrpSpPr>
          <p:grpSpPr>
            <a:xfrm>
              <a:off x="6083280" y="3386160"/>
              <a:ext cx="1103040" cy="2202840"/>
              <a:chOff x="6083280" y="3386160"/>
              <a:chExt cx="1103040" cy="2202840"/>
            </a:xfrm>
          </p:grpSpPr>
          <p:sp>
            <p:nvSpPr>
              <p:cNvPr id="188" name=""/>
              <p:cNvSpPr/>
              <p:nvPr/>
            </p:nvSpPr>
            <p:spPr>
              <a:xfrm>
                <a:off x="6486480" y="3386160"/>
                <a:ext cx="473040" cy="553680"/>
              </a:xfrm>
              <a:custGeom>
                <a:avLst/>
                <a:gdLst/>
                <a:ahLst/>
                <a:rect l="l" t="t" r="r" b="b"/>
                <a:pathLst>
                  <a:path w="596" h="697">
                    <a:moveTo>
                      <a:pt x="161" y="342"/>
                    </a:moveTo>
                    <a:lnTo>
                      <a:pt x="196" y="245"/>
                    </a:lnTo>
                    <a:lnTo>
                      <a:pt x="243" y="168"/>
                    </a:lnTo>
                    <a:lnTo>
                      <a:pt x="285" y="75"/>
                    </a:lnTo>
                    <a:lnTo>
                      <a:pt x="354" y="23"/>
                    </a:lnTo>
                    <a:lnTo>
                      <a:pt x="413" y="0"/>
                    </a:lnTo>
                    <a:lnTo>
                      <a:pt x="482" y="5"/>
                    </a:lnTo>
                    <a:lnTo>
                      <a:pt x="527" y="46"/>
                    </a:lnTo>
                    <a:lnTo>
                      <a:pt x="578" y="128"/>
                    </a:lnTo>
                    <a:lnTo>
                      <a:pt x="596" y="226"/>
                    </a:lnTo>
                    <a:lnTo>
                      <a:pt x="589" y="315"/>
                    </a:lnTo>
                    <a:lnTo>
                      <a:pt x="543" y="431"/>
                    </a:lnTo>
                    <a:lnTo>
                      <a:pt x="483" y="518"/>
                    </a:lnTo>
                    <a:lnTo>
                      <a:pt x="417" y="601"/>
                    </a:lnTo>
                    <a:lnTo>
                      <a:pt x="338" y="666"/>
                    </a:lnTo>
                    <a:lnTo>
                      <a:pt x="264" y="697"/>
                    </a:lnTo>
                    <a:lnTo>
                      <a:pt x="224" y="685"/>
                    </a:lnTo>
                    <a:lnTo>
                      <a:pt x="177" y="610"/>
                    </a:lnTo>
                    <a:lnTo>
                      <a:pt x="156" y="497"/>
                    </a:lnTo>
                    <a:lnTo>
                      <a:pt x="26" y="536"/>
                    </a:lnTo>
                    <a:lnTo>
                      <a:pt x="0" y="522"/>
                    </a:lnTo>
                    <a:lnTo>
                      <a:pt x="10" y="475"/>
                    </a:lnTo>
                    <a:lnTo>
                      <a:pt x="147" y="433"/>
                    </a:lnTo>
                    <a:lnTo>
                      <a:pt x="161" y="342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499080" y="3992400"/>
                <a:ext cx="361800" cy="744120"/>
              </a:xfrm>
              <a:custGeom>
                <a:avLst/>
                <a:gdLst/>
                <a:ahLst/>
                <a:rect l="l" t="t" r="r" b="b"/>
                <a:pathLst>
                  <a:path w="455" h="939">
                    <a:moveTo>
                      <a:pt x="127" y="79"/>
                    </a:moveTo>
                    <a:lnTo>
                      <a:pt x="192" y="21"/>
                    </a:lnTo>
                    <a:lnTo>
                      <a:pt x="292" y="0"/>
                    </a:lnTo>
                    <a:lnTo>
                      <a:pt x="376" y="14"/>
                    </a:lnTo>
                    <a:lnTo>
                      <a:pt x="441" y="72"/>
                    </a:lnTo>
                    <a:lnTo>
                      <a:pt x="455" y="114"/>
                    </a:lnTo>
                    <a:lnTo>
                      <a:pt x="455" y="170"/>
                    </a:lnTo>
                    <a:lnTo>
                      <a:pt x="427" y="220"/>
                    </a:lnTo>
                    <a:lnTo>
                      <a:pt x="376" y="306"/>
                    </a:lnTo>
                    <a:lnTo>
                      <a:pt x="355" y="404"/>
                    </a:lnTo>
                    <a:lnTo>
                      <a:pt x="348" y="490"/>
                    </a:lnTo>
                    <a:lnTo>
                      <a:pt x="369" y="583"/>
                    </a:lnTo>
                    <a:lnTo>
                      <a:pt x="427" y="669"/>
                    </a:lnTo>
                    <a:lnTo>
                      <a:pt x="448" y="753"/>
                    </a:lnTo>
                    <a:lnTo>
                      <a:pt x="441" y="832"/>
                    </a:lnTo>
                    <a:lnTo>
                      <a:pt x="397" y="896"/>
                    </a:lnTo>
                    <a:lnTo>
                      <a:pt x="341" y="932"/>
                    </a:lnTo>
                    <a:lnTo>
                      <a:pt x="269" y="939"/>
                    </a:lnTo>
                    <a:lnTo>
                      <a:pt x="185" y="939"/>
                    </a:lnTo>
                    <a:lnTo>
                      <a:pt x="120" y="904"/>
                    </a:lnTo>
                    <a:lnTo>
                      <a:pt x="56" y="797"/>
                    </a:lnTo>
                    <a:lnTo>
                      <a:pt x="14" y="704"/>
                    </a:lnTo>
                    <a:lnTo>
                      <a:pt x="0" y="562"/>
                    </a:lnTo>
                    <a:lnTo>
                      <a:pt x="14" y="434"/>
                    </a:lnTo>
                    <a:lnTo>
                      <a:pt x="42" y="299"/>
                    </a:lnTo>
                    <a:lnTo>
                      <a:pt x="85" y="163"/>
                    </a:lnTo>
                    <a:lnTo>
                      <a:pt x="127" y="79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3280" y="4027320"/>
                <a:ext cx="558720" cy="674280"/>
              </a:xfrm>
              <a:custGeom>
                <a:avLst/>
                <a:gdLst/>
                <a:ahLst/>
                <a:rect l="l" t="t" r="r" b="b"/>
                <a:pathLst>
                  <a:path w="704" h="852">
                    <a:moveTo>
                      <a:pt x="496" y="228"/>
                    </a:moveTo>
                    <a:lnTo>
                      <a:pt x="578" y="46"/>
                    </a:lnTo>
                    <a:lnTo>
                      <a:pt x="597" y="14"/>
                    </a:lnTo>
                    <a:lnTo>
                      <a:pt x="644" y="0"/>
                    </a:lnTo>
                    <a:lnTo>
                      <a:pt x="688" y="30"/>
                    </a:lnTo>
                    <a:lnTo>
                      <a:pt x="704" y="69"/>
                    </a:lnTo>
                    <a:lnTo>
                      <a:pt x="690" y="109"/>
                    </a:lnTo>
                    <a:lnTo>
                      <a:pt x="532" y="298"/>
                    </a:lnTo>
                    <a:lnTo>
                      <a:pt x="445" y="435"/>
                    </a:lnTo>
                    <a:lnTo>
                      <a:pt x="348" y="570"/>
                    </a:lnTo>
                    <a:lnTo>
                      <a:pt x="242" y="689"/>
                    </a:lnTo>
                    <a:lnTo>
                      <a:pt x="224" y="743"/>
                    </a:lnTo>
                    <a:lnTo>
                      <a:pt x="242" y="761"/>
                    </a:lnTo>
                    <a:lnTo>
                      <a:pt x="49" y="836"/>
                    </a:lnTo>
                    <a:lnTo>
                      <a:pt x="17" y="852"/>
                    </a:lnTo>
                    <a:lnTo>
                      <a:pt x="0" y="783"/>
                    </a:lnTo>
                    <a:lnTo>
                      <a:pt x="70" y="761"/>
                    </a:lnTo>
                    <a:lnTo>
                      <a:pt x="135" y="720"/>
                    </a:lnTo>
                    <a:lnTo>
                      <a:pt x="177" y="685"/>
                    </a:lnTo>
                    <a:lnTo>
                      <a:pt x="240" y="615"/>
                    </a:lnTo>
                    <a:lnTo>
                      <a:pt x="338" y="466"/>
                    </a:lnTo>
                    <a:lnTo>
                      <a:pt x="420" y="330"/>
                    </a:lnTo>
                    <a:lnTo>
                      <a:pt x="496" y="228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86360" y="4014360"/>
                <a:ext cx="399960" cy="672840"/>
              </a:xfrm>
              <a:custGeom>
                <a:avLst/>
                <a:gdLst/>
                <a:ahLst/>
                <a:rect l="l" t="t" r="r" b="b"/>
                <a:pathLst>
                  <a:path w="505" h="847">
                    <a:moveTo>
                      <a:pt x="0" y="44"/>
                    </a:moveTo>
                    <a:lnTo>
                      <a:pt x="7" y="8"/>
                    </a:lnTo>
                    <a:lnTo>
                      <a:pt x="86" y="0"/>
                    </a:lnTo>
                    <a:lnTo>
                      <a:pt x="128" y="36"/>
                    </a:lnTo>
                    <a:lnTo>
                      <a:pt x="193" y="129"/>
                    </a:lnTo>
                    <a:lnTo>
                      <a:pt x="277" y="250"/>
                    </a:lnTo>
                    <a:lnTo>
                      <a:pt x="356" y="334"/>
                    </a:lnTo>
                    <a:lnTo>
                      <a:pt x="498" y="492"/>
                    </a:lnTo>
                    <a:lnTo>
                      <a:pt x="505" y="527"/>
                    </a:lnTo>
                    <a:lnTo>
                      <a:pt x="477" y="548"/>
                    </a:lnTo>
                    <a:lnTo>
                      <a:pt x="405" y="576"/>
                    </a:lnTo>
                    <a:lnTo>
                      <a:pt x="305" y="597"/>
                    </a:lnTo>
                    <a:lnTo>
                      <a:pt x="184" y="604"/>
                    </a:lnTo>
                    <a:lnTo>
                      <a:pt x="142" y="613"/>
                    </a:lnTo>
                    <a:lnTo>
                      <a:pt x="128" y="641"/>
                    </a:lnTo>
                    <a:lnTo>
                      <a:pt x="156" y="690"/>
                    </a:lnTo>
                    <a:lnTo>
                      <a:pt x="256" y="776"/>
                    </a:lnTo>
                    <a:lnTo>
                      <a:pt x="328" y="797"/>
                    </a:lnTo>
                    <a:lnTo>
                      <a:pt x="342" y="825"/>
                    </a:lnTo>
                    <a:lnTo>
                      <a:pt x="312" y="847"/>
                    </a:lnTo>
                    <a:lnTo>
                      <a:pt x="249" y="847"/>
                    </a:lnTo>
                    <a:lnTo>
                      <a:pt x="163" y="797"/>
                    </a:lnTo>
                    <a:lnTo>
                      <a:pt x="93" y="725"/>
                    </a:lnTo>
                    <a:lnTo>
                      <a:pt x="49" y="662"/>
                    </a:lnTo>
                    <a:lnTo>
                      <a:pt x="49" y="613"/>
                    </a:lnTo>
                    <a:lnTo>
                      <a:pt x="79" y="576"/>
                    </a:lnTo>
                    <a:lnTo>
                      <a:pt x="121" y="562"/>
                    </a:lnTo>
                    <a:lnTo>
                      <a:pt x="184" y="555"/>
                    </a:lnTo>
                    <a:lnTo>
                      <a:pt x="256" y="555"/>
                    </a:lnTo>
                    <a:lnTo>
                      <a:pt x="342" y="541"/>
                    </a:lnTo>
                    <a:lnTo>
                      <a:pt x="384" y="527"/>
                    </a:lnTo>
                    <a:lnTo>
                      <a:pt x="405" y="506"/>
                    </a:lnTo>
                    <a:lnTo>
                      <a:pt x="398" y="483"/>
                    </a:lnTo>
                    <a:lnTo>
                      <a:pt x="335" y="427"/>
                    </a:lnTo>
                    <a:lnTo>
                      <a:pt x="235" y="327"/>
                    </a:lnTo>
                    <a:lnTo>
                      <a:pt x="142" y="241"/>
                    </a:lnTo>
                    <a:lnTo>
                      <a:pt x="42" y="150"/>
                    </a:lnTo>
                    <a:lnTo>
                      <a:pt x="7" y="8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4640" y="4579560"/>
                <a:ext cx="436320" cy="1009440"/>
              </a:xfrm>
              <a:custGeom>
                <a:avLst/>
                <a:gdLst/>
                <a:ahLst/>
                <a:rect l="l" t="t" r="r" b="b"/>
                <a:pathLst>
                  <a:path w="548" h="1271">
                    <a:moveTo>
                      <a:pt x="271" y="0"/>
                    </a:moveTo>
                    <a:lnTo>
                      <a:pt x="350" y="14"/>
                    </a:lnTo>
                    <a:lnTo>
                      <a:pt x="385" y="71"/>
                    </a:lnTo>
                    <a:lnTo>
                      <a:pt x="378" y="206"/>
                    </a:lnTo>
                    <a:lnTo>
                      <a:pt x="364" y="348"/>
                    </a:lnTo>
                    <a:lnTo>
                      <a:pt x="364" y="497"/>
                    </a:lnTo>
                    <a:lnTo>
                      <a:pt x="434" y="674"/>
                    </a:lnTo>
                    <a:lnTo>
                      <a:pt x="492" y="802"/>
                    </a:lnTo>
                    <a:lnTo>
                      <a:pt x="520" y="930"/>
                    </a:lnTo>
                    <a:lnTo>
                      <a:pt x="513" y="1044"/>
                    </a:lnTo>
                    <a:lnTo>
                      <a:pt x="513" y="1087"/>
                    </a:lnTo>
                    <a:lnTo>
                      <a:pt x="541" y="1129"/>
                    </a:lnTo>
                    <a:lnTo>
                      <a:pt x="548" y="1171"/>
                    </a:lnTo>
                    <a:lnTo>
                      <a:pt x="527" y="1192"/>
                    </a:lnTo>
                    <a:lnTo>
                      <a:pt x="471" y="1178"/>
                    </a:lnTo>
                    <a:lnTo>
                      <a:pt x="364" y="1164"/>
                    </a:lnTo>
                    <a:lnTo>
                      <a:pt x="236" y="1192"/>
                    </a:lnTo>
                    <a:lnTo>
                      <a:pt x="151" y="1243"/>
                    </a:lnTo>
                    <a:lnTo>
                      <a:pt x="107" y="1271"/>
                    </a:lnTo>
                    <a:lnTo>
                      <a:pt x="65" y="1271"/>
                    </a:lnTo>
                    <a:lnTo>
                      <a:pt x="0" y="1178"/>
                    </a:lnTo>
                    <a:lnTo>
                      <a:pt x="9" y="1164"/>
                    </a:lnTo>
                    <a:lnTo>
                      <a:pt x="137" y="1122"/>
                    </a:lnTo>
                    <a:lnTo>
                      <a:pt x="285" y="1101"/>
                    </a:lnTo>
                    <a:lnTo>
                      <a:pt x="392" y="1094"/>
                    </a:lnTo>
                    <a:lnTo>
                      <a:pt x="457" y="1094"/>
                    </a:lnTo>
                    <a:lnTo>
                      <a:pt x="471" y="1051"/>
                    </a:lnTo>
                    <a:lnTo>
                      <a:pt x="450" y="930"/>
                    </a:lnTo>
                    <a:lnTo>
                      <a:pt x="399" y="802"/>
                    </a:lnTo>
                    <a:lnTo>
                      <a:pt x="321" y="639"/>
                    </a:lnTo>
                    <a:lnTo>
                      <a:pt x="257" y="497"/>
                    </a:lnTo>
                    <a:lnTo>
                      <a:pt x="229" y="369"/>
                    </a:lnTo>
                    <a:lnTo>
                      <a:pt x="222" y="227"/>
                    </a:lnTo>
                    <a:lnTo>
                      <a:pt x="222" y="92"/>
                    </a:lnTo>
                    <a:lnTo>
                      <a:pt x="250" y="35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11880" y="4606560"/>
                <a:ext cx="361800" cy="842760"/>
              </a:xfrm>
              <a:custGeom>
                <a:avLst/>
                <a:gdLst/>
                <a:ahLst/>
                <a:rect l="l" t="t" r="r" b="b"/>
                <a:pathLst>
                  <a:path w="455" h="1061">
                    <a:moveTo>
                      <a:pt x="341" y="0"/>
                    </a:moveTo>
                    <a:lnTo>
                      <a:pt x="406" y="0"/>
                    </a:lnTo>
                    <a:lnTo>
                      <a:pt x="427" y="44"/>
                    </a:lnTo>
                    <a:lnTo>
                      <a:pt x="441" y="137"/>
                    </a:lnTo>
                    <a:lnTo>
                      <a:pt x="427" y="235"/>
                    </a:lnTo>
                    <a:lnTo>
                      <a:pt x="391" y="434"/>
                    </a:lnTo>
                    <a:lnTo>
                      <a:pt x="398" y="520"/>
                    </a:lnTo>
                    <a:lnTo>
                      <a:pt x="441" y="690"/>
                    </a:lnTo>
                    <a:lnTo>
                      <a:pt x="455" y="811"/>
                    </a:lnTo>
                    <a:lnTo>
                      <a:pt x="455" y="904"/>
                    </a:lnTo>
                    <a:lnTo>
                      <a:pt x="434" y="925"/>
                    </a:lnTo>
                    <a:lnTo>
                      <a:pt x="369" y="939"/>
                    </a:lnTo>
                    <a:lnTo>
                      <a:pt x="284" y="961"/>
                    </a:lnTo>
                    <a:lnTo>
                      <a:pt x="200" y="1004"/>
                    </a:lnTo>
                    <a:lnTo>
                      <a:pt x="114" y="1061"/>
                    </a:lnTo>
                    <a:lnTo>
                      <a:pt x="79" y="1061"/>
                    </a:lnTo>
                    <a:lnTo>
                      <a:pt x="0" y="997"/>
                    </a:lnTo>
                    <a:lnTo>
                      <a:pt x="7" y="969"/>
                    </a:lnTo>
                    <a:lnTo>
                      <a:pt x="107" y="925"/>
                    </a:lnTo>
                    <a:lnTo>
                      <a:pt x="277" y="883"/>
                    </a:lnTo>
                    <a:lnTo>
                      <a:pt x="355" y="855"/>
                    </a:lnTo>
                    <a:lnTo>
                      <a:pt x="369" y="827"/>
                    </a:lnTo>
                    <a:lnTo>
                      <a:pt x="369" y="704"/>
                    </a:lnTo>
                    <a:lnTo>
                      <a:pt x="341" y="548"/>
                    </a:lnTo>
                    <a:lnTo>
                      <a:pt x="327" y="448"/>
                    </a:lnTo>
                    <a:lnTo>
                      <a:pt x="313" y="292"/>
                    </a:lnTo>
                    <a:lnTo>
                      <a:pt x="306" y="122"/>
                    </a:lnTo>
                    <a:lnTo>
                      <a:pt x="313" y="44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075280" y="3530520"/>
              <a:ext cx="3384360" cy="1727280"/>
            </a:xfrm>
            <a:prstGeom prst="cloudCallout">
              <a:avLst>
                <a:gd name="adj1" fmla="val -24907"/>
                <a:gd name="adj2" fmla="val 39703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20000"/>
                  </a:srgbClr>
                </a:gs>
                <a:gs pos="100000">
                  <a:srgbClr val="3b3b3b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2:28:16Z</dcterms:created>
  <dc:creator>IESE</dc:creator>
  <dc:description/>
  <dc:language>en-US</dc:language>
  <cp:lastModifiedBy>pdebeljuh</cp:lastModifiedBy>
  <cp:lastPrinted>2002-04-05T09:19:19Z</cp:lastPrinted>
  <dcterms:modified xsi:type="dcterms:W3CDTF">2008-08-07T16:06:29Z</dcterms:modified>
  <cp:revision>1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907819</vt:r8>
  </property>
  <property fmtid="{D5CDD505-2E9C-101B-9397-08002B2CF9AE}" pid="3" name="_AuthorEmail">
    <vt:lpwstr>JFontrodona@iese.edu</vt:lpwstr>
  </property>
  <property fmtid="{D5CDD505-2E9C-101B-9397-08002B2CF9AE}" pid="4" name="_AuthorEmailDisplayName">
    <vt:lpwstr>Fontrodona, Joan</vt:lpwstr>
  </property>
  <property fmtid="{D5CDD505-2E9C-101B-9397-08002B2CF9AE}" pid="5" name="_EmailSubject">
    <vt:lpwstr>Cámara (I)</vt:lpwstr>
  </property>
  <property fmtid="{D5CDD505-2E9C-101B-9397-08002B2CF9AE}" pid="6" name="_ReviewingToolsShownOnce">
    <vt:lpwstr/>
  </property>
</Properties>
</file>