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399440" y="228600"/>
          <a:ext cx="1135080" cy="57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99440" y="228600"/>
                    <a:ext cx="1135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8028000" y="6237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A8D8-EB9E-4664-AB57-38941313A49E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Identificación y Solución de Conflictos en la Empresa Familiar</a:t>
            </a:r>
            <a:br>
              <a:rPr sz="4000"/>
            </a:br>
            <a:br>
              <a:rPr sz="4000"/>
            </a:b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Prof. Marcelo Barrios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mbarrios@edde.edu.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 u="sng">
                <a:solidFill>
                  <a:srgbClr val="000000"/>
                </a:solidFill>
                <a:uFillTx/>
                <a:latin typeface="Arial"/>
              </a:rPr>
              <a:t>Factores de Conflictos en la Empre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Tama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Numero, tipología y peso del resto de los accionistas no famili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antidad de familiares trabajando en la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000000"/>
                </a:solidFill>
                <a:uFillTx/>
                <a:latin typeface="Arial"/>
              </a:rPr>
              <a:t>Investig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9440" y="618480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Barrios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onflictos detec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ficultad en cambiar la forma de trabaj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sigualdad de cargos, problemas de remun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masiados dueños con derech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cesión Padre-Hi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es lo mismo despedir a la familia que a un desconoci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lta de profesionalismo y/u obje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érdida de la confianza de algunos de los integr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ticipación de parientes pol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forma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hay organigrama, no hay división de cargos, invención de car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los entre integr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oques de ideas y personalida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stintos criterios e intereses en toma de decis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rtes de relaciones de famil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lta de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lta de seguridad en el control de los 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82520" y="630864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Barrios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onflictos Detec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ent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inuidad empresa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conform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tiros e incorporaciones a la socied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ficultad de mantener a la fam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érdida de individual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edo a enfrentar un conflicto empresarial por miedo al corte de relación famil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visión de bi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flicto cuando falta el nº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buso de confi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omodidad, fals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flictos con el personal no famili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fícil incorporar nuevos familiares, crece más la familia qu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spaso generacional, sucesión confli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amiliares no capaci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ndador decepcionado por querer crecer más de lo que le d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scusiones más allá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jefe no deja crecer a los suces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utoritar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59600" y="6308640"/>
            <a:ext cx="16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Barrios (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rimer conflic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Tiene que ver con el tipo de empresa famili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Propiedad fam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Dirección fam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Trabajo fam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79280" y="5084640"/>
            <a:ext cx="8425080" cy="1152720"/>
            <a:chOff x="179280" y="5084640"/>
            <a:chExt cx="8425080" cy="1152720"/>
          </a:xfrm>
        </p:grpSpPr>
        <p:sp>
          <p:nvSpPr>
            <p:cNvPr id="95" name=""/>
            <p:cNvSpPr/>
            <p:nvPr/>
          </p:nvSpPr>
          <p:spPr>
            <a:xfrm>
              <a:off x="179280" y="5084640"/>
              <a:ext cx="8425080" cy="1152720"/>
            </a:xfrm>
            <a:prstGeom prst="rect">
              <a:avLst/>
            </a:prstGeom>
            <a:solidFill>
              <a:srgbClr val="fd2c2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5280" y="5229360"/>
              <a:ext cx="818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Arial"/>
                </a:rPr>
                <a:t>SOLUCIÓN: DEFINIR EL TIPO DE EMPRESA FAMILIA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AR" sz="24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s-AR" sz="2400" spc="-1" strike="noStrike">
                  <a:solidFill>
                    <a:srgbClr val="000000"/>
                  </a:solidFill>
                  <a:latin typeface="Arial"/>
                </a:rPr>
                <a:t>PRESENTE Y FUTU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11280" y="692280"/>
            <a:ext cx="7993080" cy="4465440"/>
          </a:xfrm>
          <a:prstGeom prst="rect">
            <a:avLst/>
          </a:prstGeom>
          <a:solidFill>
            <a:srgbClr val="fd2c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SOLUCION:</a:t>
            </a:r>
            <a:br>
              <a:rPr sz="3200"/>
            </a:b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REVISAR FRECUENTEMENTE La DIMENSIÓN FAMILIA Y EMPRESA PARA TOMAR LAS DECISIONES ADECUADAS</a:t>
            </a:r>
            <a:br>
              <a:rPr sz="32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¿Donde estamos?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¿A donde vamos? 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¿A donde deberíamos 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0" y="1557360"/>
            <a:ext cx="4032360" cy="4896000"/>
          </a:xfrm>
          <a:prstGeom prst="rect">
            <a:avLst/>
          </a:prstGeom>
          <a:solidFill>
            <a:srgbClr val="fd2c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Conflictos a nivel de la Fami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ucha competencia entre los distintos miembros de la familia en cuanto a temas de p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e mezclan los temas familiares y empresari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elos entre los miembros mayores y menores de la fami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sequilibrio en las remuneraciones en relación a roles y responsabil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alta identificación de la importancia de la continuidad de la familia como elemento clave para la continuidad de la empre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No existe una determinación adecuada de cómo realizar un proceso de suce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alta de identificación clara de roles y responsabil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ucha muy fuerte de poder entre padres e hij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uniones familiares conflictivas y poco produc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oles y responsabilidades cla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lan de carr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Comunicación todo ni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Órganos de Gobierno adecu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Rol de las generaciones más gran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olítica de remuner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Protocolo familiar/Órganos de Gobierno/Determinación de Val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Iniciar cuanto antes el proce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Identificar roles y responsabil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Identificar roles y responsabil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Arial"/>
              </a:rPr>
              <a:t>Órganos de 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960" y="649116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Barrios (2007/200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2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648320" y="1600200"/>
            <a:ext cx="4038480" cy="4572000"/>
          </a:xfrm>
          <a:prstGeom prst="rect">
            <a:avLst/>
          </a:prstGeom>
          <a:solidFill>
            <a:srgbClr val="fd2c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Conflictos a nivel de la Empre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xistencia de sistema de control geren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uctura organizacional basada en los miembros de la familia y no en las necesidades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encia de normas y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ca profesionalización de los miembros de la fam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aso conocimiento del negocio de alguno de los miembros de la familia en roles ejecu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usión entre roles del directorio y del comité operativo de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lta de visión de largo plaz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resas centradas en temas operativos y no estraté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emas de gobierno y dirección/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ema de incorporación de miembros familiares a l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ormas y procedimi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istema de capacitación. Condiciones para la entrada de nuevos miemb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pacit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oles y responsabilidades del sistema de gobierno y di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60" y="6308640"/>
            <a:ext cx="21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Barrios (2006/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Síntesis: Los grandes conflicto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ntrenamiento en el manejo  y anticipación de confli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municación formal e inf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oles y responsabil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muner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Normas y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Órganos de gobi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uces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000000"/>
                </a:solidFill>
                <a:uFillTx/>
                <a:latin typeface="Arial"/>
              </a:rPr>
              <a:t>Muchas gracia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2565360"/>
            <a:ext cx="806436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onflicto: </a:t>
            </a:r>
            <a:br>
              <a:rPr sz="4400"/>
            </a:b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s la </a:t>
            </a:r>
            <a:r>
              <a:rPr b="0" lang="es-MX" sz="4400" spc="-1" strike="noStrike" u="sng">
                <a:solidFill>
                  <a:srgbClr val="000000"/>
                </a:solidFill>
                <a:uFillTx/>
                <a:latin typeface="Arial"/>
              </a:rPr>
              <a:t>regla</a:t>
            </a: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 en las Empresas Famili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4952880"/>
            <a:ext cx="7772400" cy="1067040"/>
          </a:xfrm>
          <a:prstGeom prst="rect">
            <a:avLst/>
          </a:prstGeom>
          <a:solidFill>
            <a:srgbClr val="fd2c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odos somos disti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alen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ersona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isión de nego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gendas de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ábitos de ga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TODO ESTO: POTENCIAL DE CONFLICT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09480" y="1523880"/>
            <a:ext cx="7315200" cy="198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Algunos mito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odos los conflictos son solucion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orque todos nos amamo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tender que a veces cierto tipo de conflictos no son solucionables ayuda a la comunicación y la armonía de la empresa fam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7640" y="2060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El conflicto es malo cuando escala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uando escala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 pierde obje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 empieza a mezclar con otros t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 llega al extremo de cortar la comuni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 pierde la habilidad de ver el lado pos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olo se ve el lado negativo de las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parece la mezcla entre el negocio y la fam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Tiene un fuerte impacto en el día a día laboral y en la vuelta a ca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64000" y="4365720"/>
            <a:ext cx="2521080" cy="647640"/>
          </a:xfrm>
          <a:prstGeom prst="rect">
            <a:avLst/>
          </a:prstGeom>
          <a:solidFill>
            <a:srgbClr val="fd2c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1989000"/>
            <a:ext cx="2592360" cy="576360"/>
          </a:xfrm>
          <a:prstGeom prst="rect">
            <a:avLst/>
          </a:prstGeom>
          <a:solidFill>
            <a:srgbClr val="fd2c2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04000" y="2924280"/>
            <a:ext cx="1944720" cy="1009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3860640"/>
            <a:ext cx="1871640" cy="122400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1557360"/>
            <a:ext cx="1800000" cy="1295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87640" y="2852640"/>
            <a:ext cx="252108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1280" y="2873520"/>
            <a:ext cx="24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ONFLICTOS EN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MPRESA FAMILI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7560" y="6381720"/>
            <a:ext cx="269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Adaptación de Foley &amp; Powell (199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7240" y="191628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onflictos en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42880" y="422100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Conflictos en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82880" y="4292640"/>
            <a:ext cx="18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atisfacción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a fam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90720" y="1936800"/>
            <a:ext cx="214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atisfacción con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87800" y="3016080"/>
            <a:ext cx="18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Satisfacción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a 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484360" y="2276640"/>
            <a:ext cx="43200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68360" y="3645000"/>
            <a:ext cx="79092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68360" y="472428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84360" y="2205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580000" y="2708280"/>
            <a:ext cx="287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364000" y="3716280"/>
            <a:ext cx="28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364000" y="3573000"/>
            <a:ext cx="1440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80000" y="3141720"/>
            <a:ext cx="11527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Modelo de Generación de Conflictos en la Empresa Famili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 u="sng">
                <a:solidFill>
                  <a:srgbClr val="000000"/>
                </a:solidFill>
                <a:uFillTx/>
                <a:latin typeface="Arial"/>
              </a:rPr>
              <a:t>Factores de Conflicto de la Fami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N° de personas que la compo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Roles existentes (padre, hijo, yerno, primera pareja, primos segundo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Numero de famil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Diferencial de intereses respecto a la empresa (dinero, prestigio, seguridad, poder, realización pers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Diferencial de experiencias vitales. Historias de vida que conforman una nueva manera de entender el mundo y la empre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 u="sng">
                <a:solidFill>
                  <a:srgbClr val="000000"/>
                </a:solidFill>
                <a:uFillTx/>
                <a:latin typeface="Arial"/>
              </a:rPr>
              <a:t>Factores de Conflicto de la Fami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mposición del grupo de trabajo fam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&gt;trabajo de la familia en la empresa &gt; posibilidades de confli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uanto mayor posición en la empresa &gt; confli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mposicion del grupo familiar que no trabaja: “</a:t>
            </a:r>
            <a:r>
              <a:rPr b="0" i="1" lang="es-AR" sz="2800" spc="-1" strike="noStrike">
                <a:solidFill>
                  <a:srgbClr val="000000"/>
                </a:solidFill>
                <a:latin typeface="Arial"/>
              </a:rPr>
              <a:t>Sleeping partners</a:t>
            </a: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fectos de las diferencias gener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flictos de gé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Rol del fundador o Patriarca/Matri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Mayoraz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Conflictos interroles: casa-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2T11:39:07Z</dcterms:created>
  <dc:creator>mbarrios</dc:creator>
  <dc:description/>
  <dc:language>en-US</dc:language>
  <cp:lastModifiedBy>mbarrios</cp:lastModifiedBy>
  <dcterms:modified xsi:type="dcterms:W3CDTF">2008-08-07T11:44:59Z</dcterms:modified>
  <cp:revision>101</cp:revision>
  <dc:subject/>
  <dc:title>Conflictos de la Empresa Familiar no resueltos en el Protocolo Familiar </dc:title>
</cp:coreProperties>
</file>