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10E-CC25-4C75-B771-646CDB18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720" y="406476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5ED-989A-4D87-A5A4-6BB575E4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DAF-28CB-4F72-9CD1-F4E4C711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256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76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72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256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76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6AE-70B5-48F5-AA46-D2AB10EE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80FB-769E-4E36-B8C9-DC02269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720" y="184428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690-1E79-4517-A91D-7CE5133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1672-8315-4DAB-BC15-0355A28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260-5C83-41E6-926E-12BF0951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565D-CC3A-42DF-9A92-964817B4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371760" y="323640"/>
            <a:ext cx="5492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D80C-9D9A-4462-9F86-AE28CEEB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D3FE-B9C4-4F22-A165-44366D2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720" y="184428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B23-C73B-42E9-BA02-76D085F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0C6-DDD6-40E8-B096-C6D6D9B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628D-A39A-48B3-9852-FB0336B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720" y="406476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57C3-9E09-4D3B-96F9-598BCA3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1627-00D8-40A7-B3A3-3775A734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256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2760" y="184428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72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256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2760" y="4064760"/>
            <a:ext cx="2723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071D-43E8-451E-8E42-E18E3BD3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5AC-0E91-4063-B351-F53C1EE7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48A-D6D2-4E67-8F10-4EDE1EE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98E-4EC0-4694-8581-3E8E486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371760" y="323640"/>
            <a:ext cx="5492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555-5CD5-485D-AC30-CA1785A0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B71-C884-420B-B6D7-75D3054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406476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681-AEDF-40CE-AD12-DA48D3A0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844280"/>
            <a:ext cx="4127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4064760"/>
            <a:ext cx="8458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CB1-A512-4453-8429-77A3C6F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71760" y="323640"/>
            <a:ext cx="5492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84428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67840" y="6195600"/>
            <a:ext cx="2637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9400" y="6195600"/>
            <a:ext cx="278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56040" y="61956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0764-337B-4454-8505-85EDD895B8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760" y="160200"/>
            <a:ext cx="318132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E494-EC8C-4BF4-A880-6F75FF9B7E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600" y="106668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7760" y="160200"/>
            <a:ext cx="318132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4880" y="2538360"/>
            <a:ext cx="819936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grama de formación de Consorci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dación Exportar – Fundación Standard Ba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427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el país hay 500 empresas grandes y casi 120.000 Py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qu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aís necesita que las Pymes expor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 las Pymes les conviene expor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295280"/>
            <a:ext cx="8610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UADRO N°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LAS PYMES Y EL COMERCIO EX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64600" y="2860560"/>
            <a:ext cx="845820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ilitar las expor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contratar en conjunto a un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minuye los costos de asistir a fe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que una firma represente a otr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ofrecer volúmenes mayore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ofrecer una gama más amplia de bienes del mismo s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mejores condiciones de compra de materias primas y par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empresas miembros intercambian conocimient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29528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295280"/>
            <a:ext cx="86108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CUADRO N°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ENTAJAS QUE RESULTAN DE INTEGRAR GRUPOS DE EMPRESAS EXPORTADO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3680" y="262260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7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pósito del 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7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anufacturas o productos no tradi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7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ínimo 5 empresas, máximo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7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Mismo canal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7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Que algunas expor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1789200"/>
                <a:tab algn="l" pos="4572000"/>
                <a:tab algn="l" pos="6808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295280"/>
            <a:ext cx="861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dro N°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PROGRAMA FUNDACIÓN EXPORTAR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UNDACIÓN STANDARD 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01760" y="2703600"/>
            <a:ext cx="839952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ños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    En miles de dó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          45.073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4.20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85.5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1.6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4.5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r" pos="5564160"/>
                <a:tab algn="r" pos="807408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295280"/>
            <a:ext cx="861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dro N°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XPORTACIONES DE LOS GRUPOS Y CONSOR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ños 2003 –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43080" y="2058480"/>
            <a:ext cx="851688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Buenos A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pital Fed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Santa 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Córd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San Ju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Mend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S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vincia de Río Neg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r" pos="4844880"/>
                <a:tab algn="r" pos="7529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295280"/>
            <a:ext cx="8610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uadro N°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POYO DE LAS PROVIN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2720" y="2606400"/>
            <a:ext cx="84582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vincia                                                                            Número de gru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vincia y ciudad de Buenos Aires………..……..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nta Fe……….………………………………………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rdoba……………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n Juan………………………………………………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ndoza……………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ío Negro………………………………………………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lta…………………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ubut………………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tal……………………………………………………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r" pos="708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295280"/>
            <a:ext cx="8610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uadro N°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ASIFICACIÓN DE LOS GRUPOS EXISTENTES SEGÚN LA PROVI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 QUE ESTÁN LOCA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280" y="6288120"/>
            <a:ext cx="83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ituación al año 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295280"/>
            <a:ext cx="8610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uadro N°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ASIFICACIÓN DE LOS GRUPOS EXISTENTES SEGÚN EL TIPO DE PRODUCTO QUE EXPORT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1840" y="2331720"/>
            <a:ext cx="8458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po de producto                                                                Número de gru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imentos y bebidas………………………………….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ienes de capital………………………………………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ienes de consumo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vicios………………………………………………..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tal……………………………………………………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r" pos="6907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----------------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641920"/>
            <a:ext cx="83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ituación al año 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1:57:10Z</dcterms:created>
  <dc:creator>SBIC</dc:creator>
  <dc:description/>
  <dc:language>en-US</dc:language>
  <cp:lastModifiedBy>Fundacion</cp:lastModifiedBy>
  <cp:lastPrinted>2003-06-27T11:47:51Z</cp:lastPrinted>
  <dcterms:modified xsi:type="dcterms:W3CDTF">2008-07-30T12:45:55Z</dcterms:modified>
  <cp:revision>96</cp:revision>
  <dc:subject/>
  <dc:title>Click to add Title (Font Arial; size 32)</dc:title>
</cp:coreProperties>
</file>