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DBCF-72DA-4BDC-A6CD-3E31CF93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F81C-7473-4C96-B7E8-0D44C222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40F4-3386-413B-A530-E6D322FB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1DB1-763F-4A6D-9AE0-6D7D87EFA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E5D5-01B8-4A40-BA2C-C4A18DFF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185E-B00E-4D48-B2F2-5A4E42BB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53C8-751D-4B15-B854-28949033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75F1-62EA-461E-8F04-53DB34DC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5E51-B8F5-461D-8931-0F4D0769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4661-2CB4-40CB-89C4-407EC22A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80AC-417D-4204-AFEE-AF9F0EAE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6C55-79EA-45BD-B05C-3370E1D6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504EC-5C93-44E7-AEE4-254084E53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eves Experiencias de Gestión en Goo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avegando el cambio hacia una nueva forma de hacer las cos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Marcos M. Westphal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Picture 1.png"/>
          <p:cNvPicPr/>
          <p:nvPr/>
        </p:nvPicPr>
        <p:blipFill>
          <a:blip r:embed="rId1"/>
          <a:stretch/>
        </p:blipFill>
        <p:spPr>
          <a:xfrm>
            <a:off x="1619280" y="1752480"/>
            <a:ext cx="6000840" cy="4599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e End of the Middle Manager”</a:t>
            </a:r>
            <a:br>
              <a:rPr sz="38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(L. Gratton, Harvard Business Review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¡Muchas gracia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Marcos M. Westphal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e End of the Middle Manager”</a:t>
            </a:r>
            <a:br>
              <a:rPr sz="38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(L. Gratton, Harvard Business Review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Picture 1.png"/>
          <p:cNvPicPr/>
          <p:nvPr/>
        </p:nvPicPr>
        <p:blipFill>
          <a:blip r:embed="rId1"/>
          <a:stretch/>
        </p:blipFill>
        <p:spPr>
          <a:xfrm>
            <a:off x="1619280" y="1752480"/>
            <a:ext cx="600084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 tecnología es el gran gerente 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s equipos de profesionales se auto-gestion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 conocimiento llega a toda la organiz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El poder lo tienen las personas, no el gerent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¿Qué hacer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saber-que-hacer.jpg"/>
          <p:cNvPicPr/>
          <p:nvPr/>
        </p:nvPicPr>
        <p:blipFill>
          <a:blip r:embed="rId1"/>
          <a:srcRect l="-86369" t="0" r="-86369" b="0"/>
          <a:stretch/>
        </p:blipFill>
        <p:spPr>
          <a:xfrm>
            <a:off x="457200" y="14479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Google busca desarrollar mejores gerentes mediante </a:t>
            </a:r>
            <a:r>
              <a:rPr b="0" i="1" lang="en-US" sz="3800" spc="-1" strike="noStrike">
                <a:solidFill>
                  <a:srgbClr val="000000"/>
                </a:solidFill>
                <a:latin typeface="Calibri"/>
              </a:rPr>
              <a:t>Project Oxygen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.000 obervaciones con más de 100 vari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 razones clave: la misión, el equipo, el jef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s mejores jefes tienen mejores equip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¿Qué hace a un buen jef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Picture 2.png"/>
          <p:cNvPicPr/>
          <p:nvPr/>
        </p:nvPicPr>
        <p:blipFill>
          <a:blip r:embed="rId1"/>
          <a:stretch/>
        </p:blipFill>
        <p:spPr>
          <a:xfrm>
            <a:off x="4572000" y="3429000"/>
            <a:ext cx="4381560" cy="30384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4933800" y="6411960"/>
            <a:ext cx="36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szlo Bock, VP de People Ope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8 comportamientos exitos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 un buen “coach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oderar” al equipo (evitar el “micro-management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resar interés en el éxito y bienestar del equi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 productivo y orientado a result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 un buen comunicador y escuchar al equi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yudar a las personas a desarrollar suscarre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ner una visión y estrategia clara para el equi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ner habilidades técnicas para aconsejar al equi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 lugares donde “hacemos agua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ner problemas en una transición a un rol ger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ecer de un enfoque consistente hacia la medición de desempeño y el desarrollo de carr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rtir poco tiempo gestionando y comunicando al equi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ounded Rectangle 3"/>
          <p:cNvSpPr/>
          <p:nvPr/>
        </p:nvSpPr>
        <p:spPr>
          <a:xfrm>
            <a:off x="304920" y="1905120"/>
            <a:ext cx="3276360" cy="2133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foque centrado en el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ntrol del rendimiento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de las person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ounded Rectangle 4"/>
          <p:cNvSpPr/>
          <p:nvPr/>
        </p:nvSpPr>
        <p:spPr>
          <a:xfrm>
            <a:off x="5410080" y="1905120"/>
            <a:ext cx="3276720" cy="2133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foque centrado en el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desarrollo de las habilidade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de las person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ight Arrow 5"/>
          <p:cNvSpPr/>
          <p:nvPr/>
        </p:nvSpPr>
        <p:spPr>
          <a:xfrm>
            <a:off x="3657600" y="2666880"/>
            <a:ext cx="1676520" cy="5335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4495320"/>
            <a:ext cx="822960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ligencia  emoc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ligencia so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etencia técnicas para aconsej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La motivación del equipo excede la compensación monetaria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Picture 1.png"/>
          <p:cNvPicPr/>
          <p:nvPr/>
        </p:nvPicPr>
        <p:blipFill>
          <a:blip r:embed="rId1"/>
          <a:stretch/>
        </p:blipFill>
        <p:spPr>
          <a:xfrm>
            <a:off x="216000" y="2666880"/>
            <a:ext cx="4965480" cy="3224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Picture 2.png"/>
          <p:cNvPicPr/>
          <p:nvPr/>
        </p:nvPicPr>
        <p:blipFill>
          <a:blip r:embed="rId2"/>
          <a:stretch/>
        </p:blipFill>
        <p:spPr>
          <a:xfrm>
            <a:off x="5181480" y="3657600"/>
            <a:ext cx="3962520" cy="2889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ive: The Surprising Truth About What Motivates Us” (D. H. Pink): autonomía, maestría y propósi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5T21:53:43Z</dcterms:created>
  <dc:creator>Marcos Westphalen</dc:creator>
  <dc:description/>
  <dc:language>en-US</dc:language>
  <cp:lastModifiedBy>Dr. Hernán P. Castillejo</cp:lastModifiedBy>
  <dcterms:modified xsi:type="dcterms:W3CDTF">2011-05-23T14:27:31Z</dcterms:modified>
  <cp:revision>6</cp:revision>
  <dc:subject/>
  <dc:title>Breves Experiencias de Gestión en Google</dc:title>
</cp:coreProperties>
</file>