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BF1-349A-46AD-8C7C-9EB131B5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A3E-D5C9-4816-8AC4-D96E73B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2BD-C784-492B-BCAE-467C17AF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9D1-F42E-44F9-AD3C-7AF57BBC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23EC-935B-4BEC-BC63-5B2FB7DE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1FF-1954-4415-BFCD-347EF07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7E81-A406-4102-BCCB-10CCA3A9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FB3C-BEC0-4577-B968-1EAC8EE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111-EF9C-4CBE-85C3-7A37B80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3AB-DF77-439F-ADA4-653B8D9F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FE1E-AAF1-47B3-AFB7-715663A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DCD-22C9-4668-96D7-ACD05E3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D1C-F81E-42E0-86AC-8BD0C1F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F1A8-F254-4CE7-BC5F-EDC0B16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A90F-CAB3-4B54-A7C4-5E1B7085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1D73-F404-403B-B855-A0B6951E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74D1-63AF-43A2-A3EA-B60FA5E1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565-8916-4D87-B13E-6E4D05C8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C3D-D945-48A5-8243-45B89162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8D6-65E5-4806-B351-2587FDA2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F69-8C76-4E24-AFC3-7D0FC274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D2D-92B9-4D45-9F25-0A54E8A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399-4960-40B7-8B53-4310C1A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896-A1D8-4A25-A290-1017DD0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BBEA-3A1C-4734-91E1-E83C6EFD97A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A1C5-0EF7-419E-A22B-43A8F1A7C94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33"/>
                </a:solidFill>
                <a:latin typeface="Garamond"/>
              </a:rPr>
              <a:t>Empleo de personas con discapacidad en puestos competitivos 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796000" y="5084640"/>
            <a:ext cx="230328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ottjer, Flo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vilés, Guido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l Sole, Luc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"/>
          <p:cNvSpPr/>
          <p:nvPr/>
        </p:nvSpPr>
        <p:spPr>
          <a:xfrm>
            <a:off x="4929120" y="3571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4d00"/>
                </a:solidFill>
                <a:latin typeface="Arial"/>
              </a:rPr>
              <a:t>Trabajo de Investigación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4d00"/>
                </a:solidFill>
                <a:latin typeface="Arial"/>
              </a:rPr>
              <a:t>U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57120" y="128556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rgent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886.44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ersonas poseen algún grado de discapacidad. De las cu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1"/>
          <a:stretch/>
        </p:blipFill>
        <p:spPr>
          <a:xfrm>
            <a:off x="3929040" y="928800"/>
            <a:ext cx="3027240" cy="2022480"/>
          </a:xfrm>
          <a:prstGeom prst="rect">
            <a:avLst/>
          </a:prstGeom>
          <a:ln w="0">
            <a:noFill/>
          </a:ln>
        </p:spPr>
      </p:pic>
      <p:sp>
        <p:nvSpPr>
          <p:cNvPr id="92" name="5 Rectángulo"/>
          <p:cNvSpPr/>
          <p:nvPr/>
        </p:nvSpPr>
        <p:spPr>
          <a:xfrm>
            <a:off x="1928880" y="328608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los motivos de la contratación de personas con discapacidad, y analizar sus compet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las repercusiones (beneficios e inconvenien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si un beneficio social puede ir de la mano de los resultados empresa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 Rectángulo"/>
          <p:cNvSpPr/>
          <p:nvPr/>
        </p:nvSpPr>
        <p:spPr>
          <a:xfrm>
            <a:off x="292680" y="3286080"/>
            <a:ext cx="134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35742a"/>
                </a:solidFill>
                <a:uFillTx/>
                <a:latin typeface="Arial"/>
              </a:rPr>
              <a:t>Obje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http://1.bp.blogspot.com/_XXZjUqh29LM/SSk9ZhEHxTI/AAAAAAAAAA0/aj5Glxpmpvs/s320/lowVision_n.jpg"/>
          <p:cNvPicPr/>
          <p:nvPr/>
        </p:nvPicPr>
        <p:blipFill>
          <a:blip r:embed="rId2"/>
          <a:stretch/>
        </p:blipFill>
        <p:spPr>
          <a:xfrm>
            <a:off x="7643880" y="1285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://2.bp.blogspot.com/_ext1xYgLYCc/So4cmAilnII/AAAAAAAAADg/MC2UL5CqPHo/s320/images.jpeg"/>
          <p:cNvPicPr/>
          <p:nvPr/>
        </p:nvPicPr>
        <p:blipFill>
          <a:blip r:embed="rId3"/>
          <a:stretch/>
        </p:blipFill>
        <p:spPr>
          <a:xfrm>
            <a:off x="7572240" y="2214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www.multiacustica.com/fotos/blog/48/discapacidad_auditiva_simbolo_083106.jpg"/>
          <p:cNvPicPr/>
          <p:nvPr/>
        </p:nvPicPr>
        <p:blipFill>
          <a:blip r:embed="rId4"/>
          <a:stretch/>
        </p:blipFill>
        <p:spPr>
          <a:xfrm>
            <a:off x="7715160" y="357120"/>
            <a:ext cx="642960" cy="741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8"/>
          <p:cNvSpPr/>
          <p:nvPr/>
        </p:nvSpPr>
        <p:spPr>
          <a:xfrm>
            <a:off x="428760" y="542916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En qué difiere el empleo de personas con discapacidad respecto al resto de la pobl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rco Teó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MS, OIT, Fundación Par, Manpower, Adecco, Fundación Mapf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000160" y="1379880"/>
            <a:ext cx="74296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capacidad y Trabajo en la República Argen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percusiones de la contratación de personas con discapac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de puestos de trabajo para ocupar por personas con discapac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434520" y="15717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5742a"/>
                </a:solidFill>
                <a:uFillTx/>
                <a:latin typeface="Arial"/>
              </a:rPr>
              <a:t>Capít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28760" y="30718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bajo de Camp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357120" y="3857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digma cualitativo. Investigación 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357120" y="4500720"/>
            <a:ext cx="82915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clusion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73240" y="1357200"/>
            <a:ext cx="78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hay que evaluar a las personas por su discapacidad sino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compe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2349360"/>
            <a:ext cx="7272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ncipales causas del desemple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juici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ta de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5840" y="35719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99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dencia a la contratación de personas con dis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57120" y="4214880"/>
            <a:ext cx="7034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99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ncipales motivos de contra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mplimiento de la 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mplimiento de responsabilidad social empres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00040" y="5357880"/>
            <a:ext cx="80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controvertido determinar si existen verdaderos benefici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7358040" y="1928880"/>
            <a:ext cx="1476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onclusiones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794232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00040" y="13572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 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00040" y="207180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general, mejora el clima lab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89960" y="278604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práctica no existen inconvenientes para las em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24160" y="3643200"/>
            <a:ext cx="770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cc99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en las competencias necesarias para desarrollarse en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riada gama de puestos de trabajo. No se debe encasil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82520" y="4714920"/>
            <a:ext cx="87519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9900"/>
                </a:solidFill>
                <a:latin typeface="Arial"/>
              </a:rPr>
              <a:t>10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bien poseen restricciones, si se las inserta correctamente 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icultades se disminuyen o se hacen impercept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http://laudeoposiciones.files.wordpress.com/2011/01/dibujo.jpg?w=506&amp;h=122"/>
          <p:cNvPicPr/>
          <p:nvPr/>
        </p:nvPicPr>
        <p:blipFill>
          <a:blip r:embed="rId1"/>
          <a:stretch/>
        </p:blipFill>
        <p:spPr>
          <a:xfrm>
            <a:off x="5500800" y="357120"/>
            <a:ext cx="3414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8:07:43Z</dcterms:created>
  <dc:creator>Mi PC</dc:creator>
  <dc:description/>
  <dc:language>en-US</dc:language>
  <cp:lastModifiedBy>Florencia</cp:lastModifiedBy>
  <dcterms:modified xsi:type="dcterms:W3CDTF">2011-05-18T04:06:00Z</dcterms:modified>
  <cp:revision>60</cp:revision>
  <dc:subject/>
  <dc:title>Empleo de personas con discapacidad en puestos competitivos</dc:title>
</cp:coreProperties>
</file>