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f2ec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9ACF-F772-407F-90D8-0CEB6849A1A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EAC-71CB-46D4-885E-10FE0DCA0D3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F57-33B9-4919-91F0-9789C16A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947-4141-45A8-8A69-94CCEF9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466-894F-4E8A-80DF-C96161E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D42-A578-47ED-9280-42CB7417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85B6-C7F3-4419-858C-BD6456A7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304D-FE06-423E-BFB6-8B84719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4687-CBA1-47F9-A806-8E11D0B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0425-BE9D-4B5C-942F-2EF004F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4A09-6492-4D61-8505-9764EDE5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C197-7FEF-4294-91F6-80E797D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FB4E-D268-4638-8F8C-E1775886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C6F-39A1-4488-896F-E5A41D2B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1405-5FB1-4574-B585-248A553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79C3-89FA-408E-AC1F-A88C2B1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AF79-2149-4A14-90A1-4932FE94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0024-0FB7-44A0-AE83-EF0A61F2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E7D7-9E3B-404C-A171-111A85A1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3FED2-610B-48BB-98D6-76EABDAA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B7E67-D0D7-492D-9653-AB767F1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C50D4-263C-4E72-85FC-44C9DE00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7B023-2E24-4748-A823-960A3E58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F9379-1B82-4CFB-9AA8-6F90E3CD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EC1-BA7D-4B88-A643-9DD06ADC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7EADE-8F8F-4CA6-BC23-48A00EBC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39C76-535D-4514-AF3D-EDCC7A0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1F1AA-D1F4-4CA0-8FD1-4AA48AA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79CBA-FD0F-4CB4-85BB-44ECD2E1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BFC48-8F44-4C0D-B214-B472243F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04A6B-3F43-4661-8912-90F989C8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44372-0797-4E4F-89F5-EB7F44B1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AD329-3DE6-43BF-A300-03F63B27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56724-47C0-4389-8037-8B174D1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5DE8F-A60F-42F4-BB31-281A588A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E80-D619-48C6-9398-9D116D61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E4282-5B8B-439A-8BB2-7DFED6D7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38294-6A1B-45B1-A6D9-9B02D11A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97131-55B0-4F12-AA71-D9E8262E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C96A8-2ECB-4BC1-A7AC-7119D0C5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BDED1-4F32-4009-B69A-6113574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C8611-5791-43D4-822C-A968F0BC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34150-DF23-467B-BE75-475CA9F0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05771-9BFD-4D79-BA92-4A49C4F5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1E906-0401-4CC1-9B07-A4B9EB11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80BD7-33AB-438F-A301-4DE8D32A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034-0887-49E7-9FEE-D0AE945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21075-CC0D-4618-96AF-70ADC0B7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F49FC-EC14-4458-A371-31288929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652A4-D828-4CF9-A4AA-D4976F9A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0429A-86EE-4B4F-A634-4CA60A2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A000F-8424-442E-B831-9CC9D70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F2D86-EA2C-4169-995C-42F2434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EE897-F01F-4BCD-BE8B-05E55ED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F52DC-1474-419E-B116-327DE47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15D8E-B5F1-4EB4-A62D-3A215B52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C1AF3-FDF6-4C1E-A8ED-2A067C8E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FAD-B306-4C47-8071-34298151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108C7-8F17-4DEE-A13E-93A6677F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A902-7C43-47D6-B73A-9672964B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37804-9F72-4777-9A92-7A0941F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5F072-2F9A-4EAB-A425-3C85A71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47C74-7F3F-435D-8919-50E1E27E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169BB-7383-4189-9A0D-26D0AE98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6EA2C-377E-4EC5-A397-4A2CBD8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84B2-A977-4BF8-A575-3ADF454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C9BB-254C-423C-90E5-CD0AB962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01F49-0E35-457D-B8EA-503E2E08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241-5726-4A0D-A533-CC6EB4D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E6C1A-2DF5-45B0-A365-F4EFE23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71F1-68DB-4F38-8F31-A7DDCF84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03AA-D5C4-4CBC-A337-253722B5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2E1F6-C02E-4626-9CD8-5F9F3173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38B19-00AC-4C4C-BAF1-8B2E14A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257E6-FE8A-4927-9B52-C02D3463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36BD7-3511-496F-B67C-AB52BBC8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6A908-102F-4AB4-858F-73B020C0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5F9BF-2CC3-4E0C-AB41-DACE1286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1B95F-7AE7-439A-8BB5-16F28A7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053-8461-4B15-90AE-DB20500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E0BF1-A7B6-42CB-A6ED-F73A059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BE85E-6346-4806-B8C0-135DA6D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0401A-A273-4CD6-AC08-44632ACC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E8D87-BB01-4F35-9822-D4E2AF19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1B87D-B12C-45AF-969D-3E8294EA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82931-F4AA-4CB6-BD40-4E377736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7E32-81EE-49AA-847E-FD47224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0724B-27A8-4E31-889D-698DD13D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83904-FF05-428F-A428-847A7811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BAC97-FB0B-4948-97D6-7BADFED9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32C-60C7-41DB-8D5B-95D2D99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074E4-5993-4113-BA84-6F24F1F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137DF-7338-4D65-9761-C306799A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7D337-193D-43C7-B714-EF2F273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6FAC-752E-4BD6-BC18-ADCC8A7E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AAB8-4487-4C14-88D7-A712610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156C-D740-4A56-9547-C35939CB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5A17-6D64-4631-A817-FC17B039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387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E3B-8C19-4F12-802D-2D811098F07C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387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f2e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cef2e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7FA1-809D-47AF-9D8B-B274FC8607EC}" type="slidenum">
              <a:rPr b="1" lang="es-AR" sz="1400" spc="-1" strike="noStrike">
                <a:solidFill>
                  <a:srgbClr val="cef2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387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6406-B1BD-4792-BE39-56D85248E65B}" type="slidenum"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387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08B0-1DCE-4CBB-900D-AA7A5BD7B45A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387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758-5A52-45F8-8E2D-4557EAAD3B43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768A-A876-469E-9F17-89212438624D}" type="slidenum">
              <a:rPr b="1" lang="es-A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387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14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D932-88A1-4F19-A427-54F7AD61EB75}" type="slidenum"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387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8702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38702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ef2e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621-273B-458E-B677-963122934307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>
            <a:alpha val="9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cef2ec"/>
                </a:solidFill>
                <a:latin typeface="Century Gothic"/>
              </a:rPr>
              <a:t>EL VALOR DE LA CALIDAD EN LA EDUCACIÓN SUPERIOR</a:t>
            </a:r>
            <a:br>
              <a:rPr sz="4000"/>
            </a:br>
            <a:r>
              <a:rPr b="1" lang="es-AR" sz="2800" spc="-1" strike="noStrike">
                <a:solidFill>
                  <a:srgbClr val="cef2ec"/>
                </a:solidFill>
                <a:latin typeface="Century Gothic"/>
              </a:rPr>
              <a:t>CONCLUSIONES DE UN ANÁLISIS COMPARADO</a:t>
            </a:r>
            <a:endParaRPr b="0" lang="en-US" sz="28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Martín López Armengo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Ma. de la Paz Colomb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Gabriela Mollo Brisc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Laura Carell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(FCE - UNLP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2438280" y="6179760"/>
            <a:ext cx="65534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 CONGRESO INTERNACIONAL DE ADMINISTRACIÓN: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A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A GESTIÓN EN TRANSFORMACIÓN - LOS RETOS DE UNA NUEVA ÉPOCA”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361" name="5 Rectángulo"/>
          <p:cNvSpPr/>
          <p:nvPr/>
        </p:nvSpPr>
        <p:spPr>
          <a:xfrm>
            <a:off x="0" y="1143000"/>
            <a:ext cx="9144000" cy="71280"/>
          </a:xfrm>
          <a:prstGeom prst="rect">
            <a:avLst/>
          </a:prstGeom>
          <a:solidFill>
            <a:srgbClr val="f2f2f2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9 CuadroTexto"/>
          <p:cNvSpPr/>
          <p:nvPr/>
        </p:nvSpPr>
        <p:spPr>
          <a:xfrm rot="16200000">
            <a:off x="-168120" y="3097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doni MT Black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4617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X CONGRESO INTERNACIONAL DE ADMINISTRACIÓN: </a:t>
            </a:r>
            <a:br>
              <a:rPr sz="1300"/>
            </a:b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“LA GESTIÓN EN TRANSFORMACIÓN - LOS RETOS DE UNA NUEVA ÉPOCA”</a:t>
            </a:r>
            <a:endParaRPr b="0" lang="en-US" sz="13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8" name="11 Rectángulo"/>
          <p:cNvSpPr/>
          <p:nvPr/>
        </p:nvSpPr>
        <p:spPr>
          <a:xfrm>
            <a:off x="0" y="6172200"/>
            <a:ext cx="9144000" cy="7128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0" y="632448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440" name="14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w Cen MT"/>
              </a:rPr>
              <a:t>El valor de la calidad en la educación superior</a:t>
            </a:r>
            <a:br>
              <a:rPr sz="2400"/>
            </a:br>
            <a:r>
              <a:rPr b="1" lang="es-AR" sz="2000" spc="-1" strike="noStrike">
                <a:solidFill>
                  <a:srgbClr val="ffffff"/>
                </a:solidFill>
                <a:latin typeface="Tw Cen MT"/>
              </a:rPr>
              <a:t>Conclusiones de un análisis compa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17 CuadroTexto"/>
          <p:cNvSpPr/>
          <p:nvPr/>
        </p:nvSpPr>
        <p:spPr>
          <a:xfrm>
            <a:off x="0" y="1611360"/>
            <a:ext cx="91440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1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s-AR" sz="2100" spc="-1" strike="noStrike">
                <a:solidFill>
                  <a:srgbClr val="003366"/>
                </a:solidFill>
                <a:latin typeface="Century Gothic"/>
              </a:rPr>
              <a:t>Los factores de mayor incidencia sobre la calidad de la educación para ambos grupos de docentes son los relacionados con el profesor y con los alumnos (conocimiento del docente sobre la materia que dicta, su motivación y su capacidad para generar, acumular y transmitir su conocimiento, y la  vocación, actitud y participación del alumno en el aprendizaje). 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1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1" i="1" lang="es-AR" sz="2100" spc="-1" strike="noStrike">
                <a:solidFill>
                  <a:srgbClr val="003366"/>
                </a:solidFill>
                <a:latin typeface="Century Gothic"/>
              </a:rPr>
              <a:t>Los docentes consideran que los factores que resultan más determinantes se encuentran poco desarrollados en la actualidad, por lo que podrían ser considerados como prioritarios a la hora de diseñar instrumentos para mejorar la calidad de la educación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9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CONCLUSIONES (3/3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>
            <a:alpha val="9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cef2ec"/>
                </a:solidFill>
                <a:latin typeface="Century Gothic"/>
              </a:rPr>
              <a:t>EL VALOR DE LA CALIDAD EN LA EDUCACIÓN SUPERIOR</a:t>
            </a:r>
            <a:br>
              <a:rPr sz="4000"/>
            </a:br>
            <a:r>
              <a:rPr b="1" lang="es-AR" sz="2800" spc="-1" strike="noStrike">
                <a:solidFill>
                  <a:srgbClr val="cef2ec"/>
                </a:solidFill>
                <a:latin typeface="Century Gothic"/>
              </a:rPr>
              <a:t>CONCLUSIONES DE UN ANÁLISIS COMPARADO</a:t>
            </a:r>
            <a:endParaRPr b="0" lang="en-US" sz="2800" spc="-1" strike="noStrike">
              <a:solidFill>
                <a:srgbClr val="cef2ec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Martín López Armengo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Ma. de la Paz Colomb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Gabriela Mollo Brisc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Lic. Laura Carell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( FCE - UNLP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2438280" y="6179760"/>
            <a:ext cx="65534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 CONGRESO INTERNACIONAL DE ADMINISTRACIÓN: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A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A GESTIÓN EN TRANSFORMACIÓN - LOS RETOS DE UNA NUEVA ÉPOCA”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447" name="5 Rectángulo"/>
          <p:cNvSpPr/>
          <p:nvPr/>
        </p:nvSpPr>
        <p:spPr>
          <a:xfrm>
            <a:off x="0" y="1143000"/>
            <a:ext cx="9144000" cy="71280"/>
          </a:xfrm>
          <a:prstGeom prst="rect">
            <a:avLst/>
          </a:prstGeom>
          <a:solidFill>
            <a:srgbClr val="f2f2f2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2 Marcador de contenido"/>
          <p:cNvSpPr/>
          <p:nvPr/>
        </p:nvSpPr>
        <p:spPr>
          <a:xfrm>
            <a:off x="2643120" y="1714680"/>
            <a:ext cx="6215040" cy="3314520"/>
          </a:xfrm>
          <a:prstGeom prst="rect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ffffff"/>
                </a:solidFill>
                <a:latin typeface="Century Gothic"/>
              </a:rPr>
              <a:t>Realizar un aporte empírico a los estudios sobre la calidad en el ámbito de la enseñanza universitaria, </a:t>
            </a:r>
            <a:r>
              <a:rPr b="1" i="1" lang="es-AR" sz="2100" spc="-1" strike="noStrike">
                <a:solidFill>
                  <a:srgbClr val="ffffff"/>
                </a:solidFill>
                <a:latin typeface="Century Gothic"/>
              </a:rPr>
              <a:t>indagando</a:t>
            </a:r>
            <a:r>
              <a:rPr b="1" lang="es-AR" sz="2100" spc="-1" strike="noStrike">
                <a:solidFill>
                  <a:srgbClr val="ffffff"/>
                </a:solidFill>
                <a:latin typeface="Century Gothic"/>
              </a:rPr>
              <a:t> sobre las percepciones</a:t>
            </a:r>
            <a:r>
              <a:rPr b="1" lang="es-ES_tradnl" sz="2100" spc="-1" strike="noStrike">
                <a:solidFill>
                  <a:srgbClr val="ffffff"/>
                </a:solidFill>
                <a:latin typeface="Century Gothic"/>
              </a:rPr>
              <a:t> de docentes argentinos sobre los factores que más inciden sobre ella, y </a:t>
            </a:r>
            <a:r>
              <a:rPr b="1" i="1" lang="es-ES_tradnl" sz="2100" spc="-1" strike="noStrike">
                <a:solidFill>
                  <a:srgbClr val="ffffff"/>
                </a:solidFill>
                <a:latin typeface="Century Gothic"/>
              </a:rPr>
              <a:t>comparando</a:t>
            </a:r>
            <a:r>
              <a:rPr b="1" lang="es-ES_tradnl" sz="2100" spc="-1" strike="noStrike">
                <a:solidFill>
                  <a:srgbClr val="ffffff"/>
                </a:solidFill>
                <a:latin typeface="Century Gothic"/>
              </a:rPr>
              <a:t> las opiniones de los profesores en Ciencias Económicas con las de aquellos que se desempeñan en otras disciplinas</a:t>
            </a:r>
            <a:r>
              <a:rPr b="1" lang="es-ES_tradnl" sz="2100" spc="-1" strike="noStrike">
                <a:solidFill>
                  <a:srgbClr val="04617b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7 Llamada de flecha a la derecha"/>
          <p:cNvSpPr/>
          <p:nvPr/>
        </p:nvSpPr>
        <p:spPr>
          <a:xfrm>
            <a:off x="214200" y="1714680"/>
            <a:ext cx="2286000" cy="3314520"/>
          </a:xfrm>
          <a:prstGeom prst="rightArrowCallout">
            <a:avLst>
              <a:gd name="adj1" fmla="val 25000"/>
              <a:gd name="adj2" fmla="val 24998"/>
              <a:gd name="adj3" fmla="val 25000"/>
              <a:gd name="adj4" fmla="val 64977"/>
            </a:avLst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9 CuadroTexto"/>
          <p:cNvSpPr/>
          <p:nvPr/>
        </p:nvSpPr>
        <p:spPr>
          <a:xfrm rot="16200000">
            <a:off x="-168120" y="3097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doni MT Black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4617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X CONGRESO INTERNACIONAL DE ADMINISTRACIÓN: </a:t>
            </a:r>
            <a:br>
              <a:rPr sz="1300"/>
            </a:b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“LA GESTIÓN EN TRANSFORMACIÓN - LOS RETOS DE UNA NUEVA ÉPOCA”</a:t>
            </a:r>
            <a:endParaRPr b="0" lang="en-US" sz="13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6" name="11 Rectángulo"/>
          <p:cNvSpPr/>
          <p:nvPr/>
        </p:nvSpPr>
        <p:spPr>
          <a:xfrm>
            <a:off x="0" y="6172200"/>
            <a:ext cx="9144000" cy="7128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12 CuadroTexto"/>
          <p:cNvSpPr/>
          <p:nvPr/>
        </p:nvSpPr>
        <p:spPr>
          <a:xfrm>
            <a:off x="0" y="5106960"/>
            <a:ext cx="9144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3366"/>
                </a:solidFill>
                <a:latin typeface="Century Gothic"/>
              </a:rPr>
              <a:t>Este artículo se ha elaborado en el marco de la red </a:t>
            </a:r>
            <a:r>
              <a:rPr b="1" i="1" lang="es-ES_tradnl" sz="2000" spc="-1" strike="noStrike">
                <a:solidFill>
                  <a:srgbClr val="003366"/>
                </a:solidFill>
                <a:latin typeface="Century Gothic"/>
              </a:rPr>
              <a:t>de investigación internacional ECUALE, en la que participan universidades de Argentina, España y Méxic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632448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369" name="15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14 Rectángulo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EL VALOR DE LA CALIDAD EN LA EDUCACIÓN SUPERIOR</a:t>
            </a:r>
            <a:br>
              <a:rPr sz="2400"/>
            </a:br>
            <a:r>
              <a:rPr b="1" lang="es-AR" sz="2000" spc="-1" strike="noStrike">
                <a:solidFill>
                  <a:srgbClr val="ffffff"/>
                </a:solidFill>
                <a:latin typeface="Century Gothic"/>
              </a:rPr>
              <a:t>CONCLUSIONES DE UN ANÁLISIS COMPA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2 Marcador de texto" descr=""/>
          <p:cNvPicPr/>
          <p:nvPr/>
        </p:nvPicPr>
        <p:blipFill>
          <a:blip r:embed="rId1"/>
          <a:stretch/>
        </p:blipFill>
        <p:spPr>
          <a:xfrm>
            <a:off x="152280" y="1341360"/>
            <a:ext cx="1719360" cy="4956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1981080" y="1522440"/>
            <a:ext cx="6553440" cy="4649760"/>
          </a:xfrm>
          <a:prstGeom prst="rect">
            <a:avLst/>
          </a:prstGeom>
          <a:ln w="0">
            <a:noFill/>
          </a:ln>
        </p:spPr>
      </p:pic>
      <p:sp>
        <p:nvSpPr>
          <p:cNvPr id="373" name="11 Rectángulo"/>
          <p:cNvSpPr/>
          <p:nvPr/>
        </p:nvSpPr>
        <p:spPr>
          <a:xfrm>
            <a:off x="1066680" y="0"/>
            <a:ext cx="8077320" cy="1066680"/>
          </a:xfrm>
          <a:prstGeom prst="rect">
            <a:avLst/>
          </a:prstGeom>
          <a:solidFill>
            <a:srgbClr val="387025"/>
          </a:solidFill>
          <a:ln w="1908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12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MARCO CONCEPTUAL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4617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X CONGRESO INTERNACIONAL DE ADMINISTRACIÓN: </a:t>
            </a:r>
            <a:br>
              <a:rPr sz="1300"/>
            </a:b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“LA GESTIÓN EN TRANSFORMACIÓN - LOS RETOS DE UNA NUEVA ÉPOCA”</a:t>
            </a:r>
            <a:endParaRPr b="0" lang="en-US" sz="13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14 Rectángulo"/>
          <p:cNvSpPr/>
          <p:nvPr/>
        </p:nvSpPr>
        <p:spPr>
          <a:xfrm>
            <a:off x="0" y="6172200"/>
            <a:ext cx="9144000" cy="7128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0" y="6324480"/>
            <a:ext cx="55080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2 Marcador de texto" descr=""/>
          <p:cNvPicPr/>
          <p:nvPr/>
        </p:nvPicPr>
        <p:blipFill>
          <a:blip r:embed="rId1"/>
          <a:stretch/>
        </p:blipFill>
        <p:spPr>
          <a:xfrm>
            <a:off x="7162920" y="1616040"/>
            <a:ext cx="1699920" cy="44006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7"/>
          <p:cNvSpPr/>
          <p:nvPr/>
        </p:nvSpPr>
        <p:spPr>
          <a:xfrm>
            <a:off x="1285920" y="1928880"/>
            <a:ext cx="2303280" cy="1944720"/>
          </a:xfrm>
          <a:prstGeom prst="roundRect">
            <a:avLst>
              <a:gd name="adj" fmla="val 16667"/>
            </a:avLst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DISEÑO DE 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AutoShape 18"/>
          <p:cNvSpPr/>
          <p:nvPr/>
        </p:nvSpPr>
        <p:spPr>
          <a:xfrm>
            <a:off x="3929040" y="1928880"/>
            <a:ext cx="2303640" cy="1944720"/>
          </a:xfrm>
          <a:prstGeom prst="roundRect">
            <a:avLst>
              <a:gd name="adj" fmla="val 16667"/>
            </a:avLst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RECOLECCIÓ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DE MAI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AutoShape 19"/>
          <p:cNvSpPr/>
          <p:nvPr/>
        </p:nvSpPr>
        <p:spPr>
          <a:xfrm>
            <a:off x="1295280" y="4038480"/>
            <a:ext cx="2303640" cy="1944720"/>
          </a:xfrm>
          <a:prstGeom prst="roundRect">
            <a:avLst>
              <a:gd name="adj" fmla="val 16667"/>
            </a:avLst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ENCUESTADO</a:t>
            </a:r>
            <a:r>
              <a:rPr b="1" lang="es-A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AutoShape 20"/>
          <p:cNvSpPr/>
          <p:nvPr/>
        </p:nvSpPr>
        <p:spPr>
          <a:xfrm>
            <a:off x="3886200" y="4038480"/>
            <a:ext cx="2303640" cy="1944720"/>
          </a:xfrm>
          <a:prstGeom prst="roundRect">
            <a:avLst>
              <a:gd name="adj" fmla="val 16667"/>
            </a:avLst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LA MUESTR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nstantia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2065320" y="19098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roadway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4714920" y="1909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roadway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2071800" y="42148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roadway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4708440" y="42148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roadway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AutoShape 25"/>
          <p:cNvSpPr/>
          <p:nvPr/>
        </p:nvSpPr>
        <p:spPr>
          <a:xfrm>
            <a:off x="990720" y="1600200"/>
            <a:ext cx="215640" cy="4429080"/>
          </a:xfrm>
          <a:custGeom>
            <a:avLst/>
            <a:gdLst>
              <a:gd name="textAreaLeft" fmla="*/ 63360 w 215640"/>
              <a:gd name="textAreaRight" fmla="*/ 216000 w 215640"/>
              <a:gd name="textAreaTop" fmla="*/ 126000 h 4429080"/>
              <a:gd name="textAreaBottom" fmla="*/ 430308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16"/>
                  <a:pt x="0" y="1231"/>
                </a:cubicBezTo>
                <a:lnTo>
                  <a:pt x="0" y="20369"/>
                </a:lnTo>
                <a:cubicBezTo>
                  <a:pt x="0" y="2098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AutoShape 27"/>
          <p:cNvSpPr/>
          <p:nvPr/>
        </p:nvSpPr>
        <p:spPr>
          <a:xfrm>
            <a:off x="228600" y="3581280"/>
            <a:ext cx="593640" cy="650880"/>
          </a:xfrm>
          <a:prstGeom prst="rightArrow">
            <a:avLst>
              <a:gd name="adj1" fmla="val 46065"/>
              <a:gd name="adj2" fmla="val 49958"/>
            </a:avLst>
          </a:prstGeom>
          <a:solidFill>
            <a:srgbClr val="387025"/>
          </a:solidFill>
          <a:ln w="127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13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MARCO METODOLÓGIC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4617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X CONGRESO INTERNACIONAL DE ADMINISTRACIÓN: </a:t>
            </a:r>
            <a:br>
              <a:rPr sz="1300"/>
            </a:b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“LA GESTIÓN EN TRANSFORMACIÓN - LOS RETOS DE UNA NUEVA ÉPOCA”</a:t>
            </a:r>
            <a:endParaRPr b="0" lang="en-US" sz="13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1" name="16 Rectángulo"/>
          <p:cNvSpPr/>
          <p:nvPr/>
        </p:nvSpPr>
        <p:spPr>
          <a:xfrm>
            <a:off x="0" y="6172200"/>
            <a:ext cx="9144000" cy="7128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0" y="6324480"/>
            <a:ext cx="55080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9 CuadroTexto"/>
          <p:cNvSpPr/>
          <p:nvPr/>
        </p:nvSpPr>
        <p:spPr>
          <a:xfrm rot="16200000">
            <a:off x="-168120" y="3097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doni MT Black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14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w Cen MT"/>
              </a:rPr>
              <a:t>El valor de la calidad en la educación superior</a:t>
            </a:r>
            <a:br>
              <a:rPr sz="2400"/>
            </a:br>
            <a:r>
              <a:rPr b="1" lang="es-AR" sz="2000" spc="-1" strike="noStrike">
                <a:solidFill>
                  <a:srgbClr val="ffffff"/>
                </a:solidFill>
                <a:latin typeface="Tw Cen MT"/>
              </a:rPr>
              <a:t>Conclusiones de un análisis compa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16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RESULTADOS (1/3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CONCEPTOS DE CALIDA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6" name="Imagen 9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97" name="12 Flecha abajo"/>
          <p:cNvSpPr/>
          <p:nvPr/>
        </p:nvSpPr>
        <p:spPr>
          <a:xfrm>
            <a:off x="1905120" y="175248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15 Flecha abajo"/>
          <p:cNvSpPr/>
          <p:nvPr/>
        </p:nvSpPr>
        <p:spPr>
          <a:xfrm>
            <a:off x="6781680" y="3124080"/>
            <a:ext cx="38124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17 Flecha abajo"/>
          <p:cNvSpPr/>
          <p:nvPr/>
        </p:nvSpPr>
        <p:spPr>
          <a:xfrm>
            <a:off x="7924680" y="3581280"/>
            <a:ext cx="38124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9 CuadroTexto"/>
          <p:cNvSpPr/>
          <p:nvPr/>
        </p:nvSpPr>
        <p:spPr>
          <a:xfrm rot="16200000">
            <a:off x="-168120" y="3097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doni MT Black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14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w Cen MT"/>
              </a:rPr>
              <a:t>El valor de la calidad en la educación superior</a:t>
            </a:r>
            <a:br>
              <a:rPr sz="2400"/>
            </a:br>
            <a:r>
              <a:rPr b="1" lang="es-AR" sz="2000" spc="-1" strike="noStrike">
                <a:solidFill>
                  <a:srgbClr val="ffffff"/>
                </a:solidFill>
                <a:latin typeface="Tw Cen MT"/>
              </a:rPr>
              <a:t>Conclusiones de un análisis compa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16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RESULTADOS (2/3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DETERMINANTES DE LA CALIDA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Imagen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04" name="12 Flecha abajo"/>
          <p:cNvSpPr/>
          <p:nvPr/>
        </p:nvSpPr>
        <p:spPr>
          <a:xfrm>
            <a:off x="3200400" y="16002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15 Flecha abajo"/>
          <p:cNvSpPr/>
          <p:nvPr/>
        </p:nvSpPr>
        <p:spPr>
          <a:xfrm>
            <a:off x="4038480" y="167652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17 Flecha abajo"/>
          <p:cNvSpPr/>
          <p:nvPr/>
        </p:nvSpPr>
        <p:spPr>
          <a:xfrm>
            <a:off x="6324480" y="1752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18 Flecha abajo"/>
          <p:cNvSpPr/>
          <p:nvPr/>
        </p:nvSpPr>
        <p:spPr>
          <a:xfrm>
            <a:off x="8686800" y="190512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9 CuadroTexto"/>
          <p:cNvSpPr/>
          <p:nvPr/>
        </p:nvSpPr>
        <p:spPr>
          <a:xfrm rot="16200000">
            <a:off x="-168120" y="3097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doni MT Black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4617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X CONGRESO INTERNACIONAL DE ADMINISTRACIÓN: </a:t>
            </a:r>
            <a:br>
              <a:rPr sz="1300"/>
            </a:b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“LA GESTIÓN EN TRANSFORMACIÓN - LOS RETOS DE UNA NUEVA ÉPOCA”</a:t>
            </a:r>
            <a:endParaRPr b="0" lang="en-US" sz="13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0" name="11 Rectángulo"/>
          <p:cNvSpPr/>
          <p:nvPr/>
        </p:nvSpPr>
        <p:spPr>
          <a:xfrm>
            <a:off x="0" y="6172200"/>
            <a:ext cx="9144000" cy="7128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0" y="632448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412" name="14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w Cen MT"/>
              </a:rPr>
              <a:t>El valor de la calidad en la educación superior</a:t>
            </a:r>
            <a:br>
              <a:rPr sz="2400"/>
            </a:br>
            <a:r>
              <a:rPr b="1" lang="es-AR" sz="2000" spc="-1" strike="noStrike">
                <a:solidFill>
                  <a:srgbClr val="ffffff"/>
                </a:solidFill>
                <a:latin typeface="Tw Cen MT"/>
              </a:rPr>
              <a:t>Conclusiones de un análisis compa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16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RESULTADOS (3/3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Tw Cen MT"/>
              </a:rPr>
              <a:t>VALORACIÓN CONJUNTA DE LA INCIDENCIA Y LA PRESENCI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w Cen MT"/>
              </a:rPr>
              <a:t>(FACTORES PRIORITARI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4" name="Imagen 10" descr=""/>
          <p:cNvPicPr/>
          <p:nvPr/>
        </p:nvPicPr>
        <p:blipFill>
          <a:blip r:embed="rId2"/>
          <a:stretch/>
        </p:blipFill>
        <p:spPr>
          <a:xfrm>
            <a:off x="0" y="1523880"/>
            <a:ext cx="9129600" cy="4648320"/>
          </a:xfrm>
          <a:prstGeom prst="rect">
            <a:avLst/>
          </a:prstGeom>
          <a:ln w="0">
            <a:noFill/>
          </a:ln>
        </p:spPr>
      </p:pic>
      <p:sp>
        <p:nvSpPr>
          <p:cNvPr id="415" name="9 Elipse"/>
          <p:cNvSpPr/>
          <p:nvPr/>
        </p:nvSpPr>
        <p:spPr>
          <a:xfrm>
            <a:off x="5105520" y="2362320"/>
            <a:ext cx="457200" cy="533160"/>
          </a:xfrm>
          <a:prstGeom prst="ellipse">
            <a:avLst/>
          </a:prstGeom>
          <a:noFill/>
          <a:ln w="3816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12 Elipse"/>
          <p:cNvSpPr/>
          <p:nvPr/>
        </p:nvSpPr>
        <p:spPr>
          <a:xfrm>
            <a:off x="4267080" y="3505320"/>
            <a:ext cx="457200" cy="533160"/>
          </a:xfrm>
          <a:prstGeom prst="ellipse">
            <a:avLst/>
          </a:prstGeom>
          <a:noFill/>
          <a:ln w="3816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15 Elipse"/>
          <p:cNvSpPr/>
          <p:nvPr/>
        </p:nvSpPr>
        <p:spPr>
          <a:xfrm>
            <a:off x="5105520" y="4572000"/>
            <a:ext cx="457200" cy="533520"/>
          </a:xfrm>
          <a:prstGeom prst="ellipse">
            <a:avLst/>
          </a:prstGeom>
          <a:noFill/>
          <a:ln w="3816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17 Elipse"/>
          <p:cNvSpPr/>
          <p:nvPr/>
        </p:nvSpPr>
        <p:spPr>
          <a:xfrm>
            <a:off x="5105520" y="5029200"/>
            <a:ext cx="457200" cy="533520"/>
          </a:xfrm>
          <a:prstGeom prst="ellipse">
            <a:avLst/>
          </a:prstGeom>
          <a:noFill/>
          <a:ln w="3816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23 Flecha derecha"/>
          <p:cNvSpPr/>
          <p:nvPr/>
        </p:nvSpPr>
        <p:spPr>
          <a:xfrm>
            <a:off x="8077320" y="3962520"/>
            <a:ext cx="38088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24 Flecha derecha"/>
          <p:cNvSpPr/>
          <p:nvPr/>
        </p:nvSpPr>
        <p:spPr>
          <a:xfrm>
            <a:off x="8077320" y="47242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26 Flecha derecha"/>
          <p:cNvSpPr/>
          <p:nvPr/>
        </p:nvSpPr>
        <p:spPr>
          <a:xfrm>
            <a:off x="8077320" y="51814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9 CuadroTexto"/>
          <p:cNvSpPr/>
          <p:nvPr/>
        </p:nvSpPr>
        <p:spPr>
          <a:xfrm rot="16200000">
            <a:off x="-168120" y="3097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doni MT Black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4617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X CONGRESO INTERNACIONAL DE ADMINISTRACIÓN: </a:t>
            </a:r>
            <a:br>
              <a:rPr sz="1300"/>
            </a:b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“LA GESTIÓN EN TRANSFORMACIÓN - LOS RETOS DE UNA NUEVA ÉPOCA”</a:t>
            </a:r>
            <a:endParaRPr b="0" lang="en-US" sz="13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11 Rectángulo"/>
          <p:cNvSpPr/>
          <p:nvPr/>
        </p:nvSpPr>
        <p:spPr>
          <a:xfrm>
            <a:off x="0" y="6172200"/>
            <a:ext cx="9144000" cy="7128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632448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426" name="14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w Cen MT"/>
              </a:rPr>
              <a:t>El valor de la calidad en la educación superior</a:t>
            </a:r>
            <a:br>
              <a:rPr sz="2400"/>
            </a:br>
            <a:r>
              <a:rPr b="1" lang="es-AR" sz="2000" spc="-1" strike="noStrike">
                <a:solidFill>
                  <a:srgbClr val="ffffff"/>
                </a:solidFill>
                <a:latin typeface="Tw Cen MT"/>
              </a:rPr>
              <a:t>Conclusiones de un análisis compa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16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CONCLUSIONES (1/3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17 CuadroTexto"/>
          <p:cNvSpPr/>
          <p:nvPr/>
        </p:nvSpPr>
        <p:spPr>
          <a:xfrm>
            <a:off x="0" y="1523880"/>
            <a:ext cx="914400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s-AR" sz="2200" spc="-1" strike="noStrike">
                <a:solidFill>
                  <a:srgbClr val="003366"/>
                </a:solidFill>
                <a:latin typeface="Century Gothic"/>
              </a:rPr>
              <a:t>Los encuestados reconocen que la calidad es un valor fundamental en la educación superior y que debe trabajarse en pos de ell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1" i="1" lang="es-AR" sz="2200" spc="-1" strike="noStrike">
                <a:solidFill>
                  <a:srgbClr val="003366"/>
                </a:solidFill>
                <a:latin typeface="Century Gothic"/>
              </a:rPr>
              <a:t>No existen en la actualidad parámetros cuantitativos para medirla y parece no existir consenso generalizado sobre la definición de calidad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1" i="1" lang="es-AR" sz="2200" spc="-1" strike="noStrike">
                <a:solidFill>
                  <a:srgbClr val="003366"/>
                </a:solidFill>
                <a:latin typeface="Century Gothic"/>
              </a:rPr>
              <a:t>Las opiniones de los profesores permiten una aproximación cualitativa a la medición y evaluación de la calidad, lo cual es útil para el diseño de políticas orientadas a mejorar el sistema educativo universitario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9 CuadroTexto"/>
          <p:cNvSpPr/>
          <p:nvPr/>
        </p:nvSpPr>
        <p:spPr>
          <a:xfrm rot="16200000">
            <a:off x="-168120" y="3097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doni MT Black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4617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X CONGRESO INTERNACIONAL DE ADMINISTRACIÓN: </a:t>
            </a:r>
            <a:br>
              <a:rPr sz="1300"/>
            </a:br>
            <a:r>
              <a:rPr b="1" lang="es-AR" sz="1300" spc="-1" strike="noStrike">
                <a:solidFill>
                  <a:srgbClr val="ffffff"/>
                </a:solidFill>
                <a:latin typeface="Tw Cen MT"/>
              </a:rPr>
              <a:t>“LA GESTIÓN EN TRANSFORMACIÓN - LOS RETOS DE UNA NUEVA ÉPOCA”</a:t>
            </a:r>
            <a:endParaRPr b="0" lang="en-US" sz="13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1" name="11 Rectángulo"/>
          <p:cNvSpPr/>
          <p:nvPr/>
        </p:nvSpPr>
        <p:spPr>
          <a:xfrm>
            <a:off x="0" y="6172200"/>
            <a:ext cx="9144000" cy="7128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0" y="632448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433" name="14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w Cen MT"/>
              </a:rPr>
              <a:t>El valor de la calidad en la educación superior</a:t>
            </a:r>
            <a:br>
              <a:rPr sz="2400"/>
            </a:br>
            <a:r>
              <a:rPr b="1" lang="es-AR" sz="2000" spc="-1" strike="noStrike">
                <a:solidFill>
                  <a:srgbClr val="ffffff"/>
                </a:solidFill>
                <a:latin typeface="Tw Cen MT"/>
              </a:rPr>
              <a:t>Conclusiones de un análisis compa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17 CuadroTexto"/>
          <p:cNvSpPr/>
          <p:nvPr/>
        </p:nvSpPr>
        <p:spPr>
          <a:xfrm>
            <a:off x="0" y="1571760"/>
            <a:ext cx="914400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s-AR" sz="2300" spc="-1" strike="noStrike">
                <a:solidFill>
                  <a:srgbClr val="003366"/>
                </a:solidFill>
                <a:latin typeface="Century Gothic"/>
              </a:rPr>
              <a:t>Una alta proporción de los docentes asocia el concepto de calidad con la posibilidad de generar: un espíritu crítico, capacidades para el aprendizaje autónomo y un fuerte compromiso social en los estudiantes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1" i="1" lang="es-AR" sz="2300" spc="-1" strike="noStrike">
                <a:solidFill>
                  <a:srgbClr val="003366"/>
                </a:solidFill>
                <a:latin typeface="Century Gothic"/>
              </a:rPr>
              <a:t>La mayoría de los encuestados considera que esta noción no es la más relevante para la universidad en la que trabaja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38702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1" i="1" lang="es-AR" sz="2300" spc="-1" strike="noStrike">
                <a:solidFill>
                  <a:srgbClr val="003366"/>
                </a:solidFill>
                <a:latin typeface="Century Gothic"/>
              </a:rPr>
              <a:t>Este resultado se observa tanto para los docentes de Ciencias Económicas como para aquellos de otras disciplina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9 Rectángulo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87025"/>
          </a:solidFill>
          <a:ln w="19080">
            <a:solidFill>
              <a:srgbClr val="387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w Cen MT"/>
              </a:rPr>
              <a:t>CONCLUSIONES (2/3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6:47:30Z</dcterms:created>
  <dc:creator>Laura</dc:creator>
  <dc:description/>
  <dc:language>en-US</dc:language>
  <cp:lastModifiedBy>paz.colombo</cp:lastModifiedBy>
  <dcterms:modified xsi:type="dcterms:W3CDTF">2011-05-19T14:38:41Z</dcterms:modified>
  <cp:revision>22</cp:revision>
  <dc:subject/>
  <dc:title>El valor de la calidad en la educación superior Conclusiones de un análisis comparado</dc:title>
</cp:coreProperties>
</file>