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07E7-EDDF-471E-A2DC-144F6075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9BEE-EA99-4BE4-9C88-3BD23A8B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498F8-0DB4-4520-AD81-B17ECBE4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F87A4-7D68-4970-9CC6-8BFFE393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16258-D3DD-4D5A-9688-E7BBBAC4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22047-10AF-4962-BE8A-B411C3FB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C1420-40FC-467A-B1A7-BC6F5C3C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DD306-C3C5-47C2-A617-CFD1611B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C8DCA-409D-458A-AC11-FC3DC6CF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C436B-300B-4905-B15C-05417EE1E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4C43AA-1D8E-4BDF-A5BE-E58B08209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34D6-624F-4891-AD84-E6FEF55C0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1649-8F33-4A81-A345-D02B13720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D459-F77B-496A-957F-6B81E7A3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C1B0-3DCA-4ECA-863C-6D34F354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D731-3363-44A0-A294-AA67667B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E224-D57F-4F3A-B937-0AEBA2B1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A31B-16D8-40B9-8F5F-4B464FD4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F31C-0374-4BD1-ACD7-6D0554FE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A534-7FEE-4D85-AABA-7A4BD303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0017-D73E-4C6D-9028-91DCC0EB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9651-49B5-4445-A605-C3FD573E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FDED-02EB-4AED-8725-57A45B43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058D-76FA-448D-9D2D-418B37E3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1DBF-D30F-4186-B9A0-E3E9ED2AF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DD16-2707-4BFA-95B4-905D8E136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A3B14-1993-4F71-BCAA-53692BBC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B2226-8F7D-4FFC-BFFB-1485BF77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3C289-9563-492A-A467-CDE2AC65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D01F1-4026-4F53-89B4-3EBAA74F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85670-D6AF-489C-A491-99C1FA35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F24B-5AEF-4437-993C-433A2E31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76332-E9A0-4951-91EE-A45CA09B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DBF11-D2FB-45A8-A2A3-4E5CB349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DDF4E-A03A-40A7-AA4F-BCA59B55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851D5-CB32-4EA1-9683-8B117C84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30F1E-E2E2-453B-BBCB-A9650471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0A9DE-7F0D-4C3B-8C9F-F651F6879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E9099-4100-498E-8DAC-50D394503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E323A-2AFE-4F21-840A-62E03FDA6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CE525-0F5D-410D-B33B-7C696B5E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CDECA-D638-47FD-BAF9-35593612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1668-B7FB-40F7-9555-EAC8222F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EC2C4-7AE9-410F-854A-271BC2FC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88465-1337-403E-9C14-1E1C33A5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B8B37-30D2-4E26-B685-2FEEBED8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199D3-A1BF-44EF-A45F-E25C08C8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D9F87-A0B7-47C5-A29D-94EF62E6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2D585-D650-4F5D-9B98-AF955E9C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03A7A-A652-4077-9AE7-DA949C98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F6C3E-D0C2-40F5-B61D-C960CFAA1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12E56-756E-4C50-8B2C-321EF6447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78098-7576-47D8-9FDD-20A1F3A63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0994-2D56-4A11-B0BC-C69F6B44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6773C-C019-46AD-B89A-DB5A02B0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282D0-BE9F-4B15-AF32-4FA7365E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FDE26-BAE4-4BE0-B6D2-FE7D763D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3665E-0F26-46CB-B7A4-432ED17E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60FA3-5265-4E87-B80E-5CE9ECD4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8966B-C520-41B8-BA85-591D060A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DA48F-5464-4B66-8BCC-1F60C93E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9E199-EB51-4A54-83D2-1A15147D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C47F7-0527-4152-A319-A57F9A66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AF35B-B9D6-4CB7-B96C-8A1E41F31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D893-2D04-4A52-B1F7-10D2ACEF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4AA00-B181-42A3-9BD5-5D5B0EC16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EC136-9C7A-429F-B3FD-D77E6CCB5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35554-8445-49F6-B109-20728F20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B98AC-A6D7-432F-BC2E-C79D4398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B3D37-830D-474B-A2F2-B2A023FA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7DCF7-40CA-4E17-AC21-9302EFEC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F32E7-D484-431C-AC33-02AB7BCA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B5ED7-574E-4128-8733-03B8B44D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2946D-7287-433C-855C-509C3099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3D3AD-15BD-4751-8025-16E0F009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4A7F-224E-47D9-93EF-BC822CF2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AB4E4-C56C-4633-A73F-A5CFE254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4DFE1-BCA1-459A-910A-5D46931F3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E073E-B81B-43DB-88D1-FA98BEE1B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F30C5-1664-48BC-BD5F-3B839B2E9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697AF-F9D7-4670-880D-23CAF1C5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AC943-9286-436B-ABC7-548BFFBD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169BA-E8E0-4399-B938-C76B0AD5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A202B-9C4B-474F-8F2D-28F7B90C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2AAB5-41AD-468A-8F8C-999F15C8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4212F-727B-4B64-BEF5-5CD1CD44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99D8-6F5D-4CC8-A174-8C9E7D15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D6DE0-5250-405B-BD2A-732D5088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6166D-DBC5-448B-90D4-2B26DE98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1501C-1707-4618-A7DC-80716DAF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F30E1-439F-4D20-AE3E-A01E720B7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B5D87-4883-472F-A821-A01DED06E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C6A7A-2298-405B-A18C-33ACC9C19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3C582-CD50-456D-B957-8C88DF20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901C5-08E5-4D06-A50E-C61FA9A4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59F72-09F8-4ECA-B102-F055D3A0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CBE6C-D942-4F1E-94A6-DF3D3F10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EC4B-56A4-413E-BB5B-5EE5B89C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3E73B-F6DE-403F-A1A1-649E9124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7F9D4-14E1-4FCC-B134-DF1190D6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0F4FF-8B7C-47D2-9037-879FD0C2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70988-B8F4-4200-B0D6-C98432C1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FB2DF-1CA8-4994-B057-2A4B86AA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CB7C4-8146-4480-9D64-060EAC3B4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EAA1C-54B4-4734-B015-9D098FCEA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CA5911-1E3C-4E7E-B607-F2195695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727FDB-F389-481A-B355-ACA5B705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28998-DF4E-421B-BEDE-93F913CF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6 Conector recto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6 Conector recto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46E6-3B56-486A-B6D4-43122468DCB9}" type="slidenum">
              <a:rPr b="0" lang="es-AR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8 Conector recto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8 Conector recto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11 Conector recto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11 Conector recto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12 Conector recto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1E97-7250-4293-B7E0-C1A32ED3EB45}" type="slidenum">
              <a:rPr b="0" lang="es-AR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6 Conector recto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6 Conector recto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8 Conector recto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8 Conector recto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11 Conector recto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11 Conector recto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6E7D-F17A-46DC-8519-A9A2583D9542}" type="slidenum">
              <a:rPr b="0" lang="es-AR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12 Conector recto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19A9-6C76-4604-B6BB-95BD77E8E2DB}" type="slidenum">
              <a:rPr b="0" lang="es-AR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12 Conector recto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2CFE-4769-4A57-9E50-243D5C4E7F3E}" type="slidenum">
              <a:rPr b="0" lang="es-AR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A251-0C5E-47A7-A896-CBCF280C1CB1}" type="slidenum">
              <a:rPr b="0" lang="es-AR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12 Conector recto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B5C1-27D7-4C80-9207-F893768E5583}" type="slidenum">
              <a:rPr b="0" lang="es-AR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3B7F-01A1-470A-8A91-7BF5CBDFECA3}" type="slidenum">
              <a:rPr b="0" lang="es-AR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066A-DBAB-41C7-BC1C-2618757464E4}" type="slidenum">
              <a:rPr b="0" lang="es-AR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1 Título" descr=""/>
          <p:cNvPicPr/>
          <p:nvPr/>
        </p:nvPicPr>
        <p:blipFill>
          <a:blip r:embed="rId1"/>
          <a:stretch/>
        </p:blipFill>
        <p:spPr>
          <a:xfrm>
            <a:off x="244440" y="1042920"/>
            <a:ext cx="8551800" cy="31384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755640" y="4149360"/>
            <a:ext cx="7704000" cy="23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Lic. Diego Ezequiel Schneider – UNS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Cra. María de los Ángeles López – CONICET/UNS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Cr. Ángel Agustín Argañaraz – UNS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Consejo Profesional de Ciencias Económicas  de la Ciudad Autónoma de Buenos Aires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CABA – 18 al 20 de Mayo de 2011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3 Imagen" descr="Encabezad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1 Título" descr=""/>
          <p:cNvPicPr/>
          <p:nvPr/>
        </p:nvPicPr>
        <p:blipFill>
          <a:blip r:embed="rId1"/>
          <a:stretch/>
        </p:blipFill>
        <p:spPr>
          <a:xfrm>
            <a:off x="-12600" y="907920"/>
            <a:ext cx="9229680" cy="10000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179280" y="1773360"/>
            <a:ext cx="87854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67480" indent="-26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es-AR" sz="2400" spc="-1" strike="noStrike">
                <a:solidFill>
                  <a:srgbClr val="4e3b30"/>
                </a:solidFill>
                <a:latin typeface="Franklin Gothic Book"/>
              </a:rPr>
              <a:t>Mínimo INPUT – Máximo OUTPUT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7480" indent="-26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s-AR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s-AR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s-AR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s-AR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s-AR" sz="2400" spc="-1" strike="noStrike">
                <a:solidFill>
                  <a:srgbClr val="4e3b30"/>
                </a:solidFill>
                <a:latin typeface="Franklin Gothic Book"/>
              </a:rPr>
              <a:t>       </a:t>
            </a:r>
            <a:r>
              <a:rPr b="1" lang="es-AR" sz="2400" spc="-1" strike="noStrike">
                <a:solidFill>
                  <a:srgbClr val="4e3b30"/>
                </a:solidFill>
                <a:latin typeface="Franklin Gothic Book"/>
              </a:rPr>
              <a:t>I</a:t>
            </a:r>
            <a:r>
              <a:rPr b="1" lang="es-AR" sz="2000" spc="-1" strike="noStrike">
                <a:solidFill>
                  <a:srgbClr val="4e3b30"/>
                </a:solidFill>
                <a:latin typeface="Franklin Gothic Book"/>
              </a:rPr>
              <a:t>ndices Parciales  de Productividad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67480" indent="-267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4e3b30"/>
                </a:solidFill>
                <a:latin typeface="Franklin Gothic Book"/>
              </a:rPr>
              <a:t>MEDIDAS DE LA EFICIENCIA </a:t>
            </a:r>
            <a:r>
              <a:rPr b="1" lang="es-AR" sz="2200" spc="-1" strike="noStrike">
                <a:solidFill>
                  <a:srgbClr val="4e3b30"/>
                </a:solidFill>
                <a:latin typeface="Franklin Gothic Book"/>
              </a:rPr>
              <a:t>Técnicas de Frontera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267480" indent="-26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4e3b30"/>
                </a:solidFill>
                <a:latin typeface="Franklin Gothic Book"/>
              </a:rPr>
              <a:t>(Toma de Decisiones sobre                     O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7480" indent="-26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lang="es-AR" sz="2400" spc="-1" strike="noStrike">
                <a:solidFill>
                  <a:srgbClr val="4e3b30"/>
                </a:solidFill>
                <a:latin typeface="Franklin Gothic Book"/>
              </a:rPr>
              <a:t>la Estrategia del Ente)                   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7480" indent="-26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7480" indent="-26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s-AR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s-AR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s-AR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s-AR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s-AR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s-AR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s-AR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s-AR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s-AR" sz="2400" spc="-1" strike="noStrike">
                <a:solidFill>
                  <a:srgbClr val="4e3b30"/>
                </a:solidFill>
                <a:latin typeface="Franklin Gothic Book"/>
              </a:rPr>
              <a:t>             </a:t>
            </a:r>
            <a:r>
              <a:rPr b="1" lang="es-AR" sz="2400" spc="-1" strike="noStrike">
                <a:solidFill>
                  <a:srgbClr val="4e3b30"/>
                </a:solidFill>
                <a:latin typeface="Franklin Gothic Book"/>
              </a:rPr>
              <a:t>I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7480" indent="-26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                                              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7480" indent="-26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7480" indent="-26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4e3b30"/>
                </a:solidFill>
                <a:latin typeface="Franklin Gothic Book"/>
              </a:rPr>
              <a:t>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4" name="3 Rectángulo redondeado"/>
          <p:cNvSpPr/>
          <p:nvPr/>
        </p:nvSpPr>
        <p:spPr>
          <a:xfrm>
            <a:off x="684360" y="1916280"/>
            <a:ext cx="2735280" cy="792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Franklin Gothic Book"/>
              </a:rPr>
              <a:t>EFICI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4 Elipse"/>
          <p:cNvSpPr/>
          <p:nvPr/>
        </p:nvSpPr>
        <p:spPr>
          <a:xfrm>
            <a:off x="3924360" y="1773360"/>
            <a:ext cx="2087640" cy="718920"/>
          </a:xfrm>
          <a:prstGeom prst="ellipse">
            <a:avLst/>
          </a:prstGeom>
          <a:solidFill>
            <a:srgbClr val="f9daab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Franklin Gothic Book"/>
              </a:rPr>
              <a:t>Asegu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5 Elipse"/>
          <p:cNvSpPr/>
          <p:nvPr/>
        </p:nvSpPr>
        <p:spPr>
          <a:xfrm>
            <a:off x="5148360" y="2276640"/>
            <a:ext cx="2162160" cy="792000"/>
          </a:xfrm>
          <a:prstGeom prst="ellipse">
            <a:avLst/>
          </a:prstGeom>
          <a:solidFill>
            <a:srgbClr val="f9daab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Franklin Gothic Book"/>
              </a:rPr>
              <a:t>Cñía. Asegur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7 Flecha abajo"/>
          <p:cNvSpPr/>
          <p:nvPr/>
        </p:nvSpPr>
        <p:spPr>
          <a:xfrm>
            <a:off x="1763640" y="342900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8 Abrir llave"/>
          <p:cNvSpPr/>
          <p:nvPr/>
        </p:nvSpPr>
        <p:spPr>
          <a:xfrm>
            <a:off x="4368960" y="3789360"/>
            <a:ext cx="217440" cy="2664000"/>
          </a:xfrm>
          <a:custGeom>
            <a:avLst/>
            <a:gdLst>
              <a:gd name="textAreaLeft" fmla="*/ 138960 w 217440"/>
              <a:gd name="textAreaRight" fmla="*/ 217800 w 217440"/>
              <a:gd name="textAreaTop" fmla="*/ 5400 h 2664000"/>
              <a:gd name="textAreaBottom" fmla="*/ 265860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4"/>
                  <a:pt x="10800" y="147"/>
                </a:cubicBezTo>
                <a:lnTo>
                  <a:pt x="10800" y="10653"/>
                </a:lnTo>
                <a:cubicBezTo>
                  <a:pt x="10800" y="10727"/>
                  <a:pt x="5400" y="10800"/>
                  <a:pt x="0" y="10800"/>
                </a:cubicBezTo>
                <a:cubicBezTo>
                  <a:pt x="5400" y="10800"/>
                  <a:pt x="10800" y="10874"/>
                  <a:pt x="10800" y="10947"/>
                </a:cubicBezTo>
                <a:lnTo>
                  <a:pt x="10800" y="21453"/>
                </a:lnTo>
                <a:cubicBezTo>
                  <a:pt x="10800" y="21527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9 Rectángulo redondeado"/>
          <p:cNvSpPr/>
          <p:nvPr/>
        </p:nvSpPr>
        <p:spPr>
          <a:xfrm>
            <a:off x="4567320" y="5581800"/>
            <a:ext cx="1657440" cy="8650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Franklin Gothic Book"/>
              </a:rPr>
              <a:t>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3 Imagen" descr="Encabezad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887400"/>
          </a:xfrm>
          <a:prstGeom prst="rect">
            <a:avLst/>
          </a:prstGeom>
          <a:ln w="0">
            <a:noFill/>
          </a:ln>
        </p:spPr>
      </p:pic>
      <p:cxnSp>
        <p:nvCxnSpPr>
          <p:cNvPr id="411" name="13 Conector recto de flecha"/>
          <p:cNvCxnSpPr/>
          <p:nvPr/>
        </p:nvCxnSpPr>
        <p:spPr>
          <a:xfrm flipV="1">
            <a:off x="6369480" y="4725360"/>
            <a:ext cx="2520" cy="1585080"/>
          </a:xfrm>
          <a:prstGeom prst="straightConnector1">
            <a:avLst/>
          </a:prstGeom>
          <a:ln w="28440">
            <a:solidFill>
              <a:srgbClr val="a5644e"/>
            </a:solidFill>
            <a:miter/>
            <a:tailEnd len="med" type="arrow" w="med"/>
          </a:ln>
        </p:spPr>
      </p:cxnSp>
      <p:cxnSp>
        <p:nvCxnSpPr>
          <p:cNvPr id="412" name="16 Conector recto de flecha"/>
          <p:cNvCxnSpPr/>
          <p:nvPr/>
        </p:nvCxnSpPr>
        <p:spPr>
          <a:xfrm>
            <a:off x="6357960" y="6308280"/>
            <a:ext cx="2102040" cy="2520"/>
          </a:xfrm>
          <a:prstGeom prst="straightConnector1">
            <a:avLst/>
          </a:prstGeom>
          <a:ln w="28440">
            <a:solidFill>
              <a:srgbClr val="a5644e"/>
            </a:solidFill>
            <a:miter/>
            <a:tailEnd len="med" type="arrow" w="med"/>
          </a:ln>
        </p:spPr>
      </p:cxnSp>
      <p:sp>
        <p:nvSpPr>
          <p:cNvPr id="413" name="19 Elipse"/>
          <p:cNvSpPr/>
          <p:nvPr/>
        </p:nvSpPr>
        <p:spPr>
          <a:xfrm>
            <a:off x="6732720" y="5661000"/>
            <a:ext cx="71280" cy="7164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20 Elipse"/>
          <p:cNvSpPr/>
          <p:nvPr/>
        </p:nvSpPr>
        <p:spPr>
          <a:xfrm>
            <a:off x="7027920" y="5452920"/>
            <a:ext cx="73080" cy="7308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21 Elipse"/>
          <p:cNvSpPr/>
          <p:nvPr/>
        </p:nvSpPr>
        <p:spPr>
          <a:xfrm>
            <a:off x="7093080" y="5300640"/>
            <a:ext cx="71280" cy="7308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22 Elipse"/>
          <p:cNvSpPr/>
          <p:nvPr/>
        </p:nvSpPr>
        <p:spPr>
          <a:xfrm>
            <a:off x="7524720" y="5130720"/>
            <a:ext cx="71640" cy="7164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23 Elipse"/>
          <p:cNvSpPr/>
          <p:nvPr/>
        </p:nvSpPr>
        <p:spPr>
          <a:xfrm>
            <a:off x="7812000" y="5084640"/>
            <a:ext cx="73080" cy="7308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24 Elipse"/>
          <p:cNvSpPr/>
          <p:nvPr/>
        </p:nvSpPr>
        <p:spPr>
          <a:xfrm>
            <a:off x="7539120" y="5373720"/>
            <a:ext cx="71280" cy="7128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25 Elipse"/>
          <p:cNvSpPr/>
          <p:nvPr/>
        </p:nvSpPr>
        <p:spPr>
          <a:xfrm>
            <a:off x="7740720" y="5445000"/>
            <a:ext cx="71280" cy="7164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28 Forma libre"/>
          <p:cNvSpPr/>
          <p:nvPr/>
        </p:nvSpPr>
        <p:spPr>
          <a:xfrm>
            <a:off x="6654960" y="5013360"/>
            <a:ext cx="1517400" cy="866880"/>
          </a:xfrm>
          <a:custGeom>
            <a:avLst/>
            <a:gdLst/>
            <a:ahLst/>
            <a:rect l="l" t="t" r="r" b="b"/>
            <a:pathLst>
              <a:path w="1308296" h="844061">
                <a:moveTo>
                  <a:pt x="0" y="844061"/>
                </a:moveTo>
                <a:cubicBezTo>
                  <a:pt x="101991" y="647113"/>
                  <a:pt x="203982" y="450166"/>
                  <a:pt x="422031" y="309489"/>
                </a:cubicBezTo>
                <a:cubicBezTo>
                  <a:pt x="640080" y="168812"/>
                  <a:pt x="1308296" y="0"/>
                  <a:pt x="1308296" y="0"/>
                </a:cubicBezTo>
                <a:lnTo>
                  <a:pt x="1308296" y="0"/>
                </a:lnTo>
                <a:lnTo>
                  <a:pt x="1308296" y="14068"/>
                </a:lnTo>
              </a:path>
            </a:pathLst>
          </a:custGeom>
          <a:noFill/>
          <a:ln w="31680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30 Elipse"/>
          <p:cNvSpPr/>
          <p:nvPr/>
        </p:nvSpPr>
        <p:spPr>
          <a:xfrm>
            <a:off x="7310520" y="5665680"/>
            <a:ext cx="73080" cy="7308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32 Conector recto"/>
          <p:cNvSpPr/>
          <p:nvPr/>
        </p:nvSpPr>
        <p:spPr>
          <a:xfrm>
            <a:off x="7566120" y="5157720"/>
            <a:ext cx="0" cy="1150920"/>
          </a:xfrm>
          <a:prstGeom prst="line">
            <a:avLst/>
          </a:prstGeom>
          <a:ln w="28440">
            <a:solidFill>
              <a:srgbClr val="603b1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33 Conector recto"/>
          <p:cNvSpPr/>
          <p:nvPr/>
        </p:nvSpPr>
        <p:spPr>
          <a:xfrm flipH="1">
            <a:off x="6372000" y="5157720"/>
            <a:ext cx="1152360" cy="0"/>
          </a:xfrm>
          <a:prstGeom prst="line">
            <a:avLst/>
          </a:prstGeom>
          <a:ln w="28440">
            <a:solidFill>
              <a:srgbClr val="603b1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37 Conector recto"/>
          <p:cNvSpPr/>
          <p:nvPr/>
        </p:nvSpPr>
        <p:spPr>
          <a:xfrm flipH="1">
            <a:off x="6372000" y="5416560"/>
            <a:ext cx="1152360" cy="0"/>
          </a:xfrm>
          <a:prstGeom prst="line">
            <a:avLst/>
          </a:prstGeom>
          <a:ln w="28440">
            <a:solidFill>
              <a:srgbClr val="603b1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38 Elipse"/>
          <p:cNvSpPr/>
          <p:nvPr/>
        </p:nvSpPr>
        <p:spPr>
          <a:xfrm>
            <a:off x="7480440" y="5084640"/>
            <a:ext cx="152280" cy="15264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39 Elipse"/>
          <p:cNvSpPr/>
          <p:nvPr/>
        </p:nvSpPr>
        <p:spPr>
          <a:xfrm>
            <a:off x="7480440" y="5329080"/>
            <a:ext cx="152280" cy="15264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1 Título" descr=""/>
          <p:cNvPicPr/>
          <p:nvPr/>
        </p:nvPicPr>
        <p:blipFill>
          <a:blip r:embed="rId1"/>
          <a:stretch/>
        </p:blipFill>
        <p:spPr>
          <a:xfrm>
            <a:off x="262080" y="1054080"/>
            <a:ext cx="8881920" cy="10000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04920" y="1988640"/>
            <a:ext cx="86868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4e3b30"/>
                </a:solidFill>
                <a:latin typeface="Franklin Gothic Book"/>
              </a:rPr>
              <a:t>Análisis de la eficiencia relativa de 98 compañías del mercado asegurador argentino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4e3b30"/>
                </a:solidFill>
                <a:latin typeface="Franklin Gothic Book"/>
              </a:rPr>
              <a:t>Balances del año 2010, obtenidos del sitio oficial de la Superintendencia de Seguros de la Nación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4e3b30"/>
                </a:solidFill>
                <a:latin typeface="Franklin Gothic Book"/>
              </a:rPr>
              <a:t>Empleo del Software DEA – CCR con Orientación al Input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9" name="3 Imagen" descr="Encabezad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887400"/>
          </a:xfrm>
          <a:prstGeom prst="rect">
            <a:avLst/>
          </a:prstGeom>
          <a:ln w="0">
            <a:noFill/>
          </a:ln>
        </p:spPr>
      </p:pic>
      <p:sp>
        <p:nvSpPr>
          <p:cNvPr id="430" name="4 Rectángulo redondeado"/>
          <p:cNvSpPr/>
          <p:nvPr/>
        </p:nvSpPr>
        <p:spPr>
          <a:xfrm>
            <a:off x="468360" y="1773360"/>
            <a:ext cx="8207280" cy="2519280"/>
          </a:xfrm>
          <a:prstGeom prst="roundRect">
            <a:avLst>
              <a:gd name="adj" fmla="val 16667"/>
            </a:avLst>
          </a:prstGeom>
          <a:solidFill>
            <a:srgbClr val="ddc0b6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Franklin Gothic Book"/>
              </a:rPr>
              <a:t>… </a:t>
            </a:r>
            <a:r>
              <a:rPr b="0" lang="es-AR" sz="2000" spc="-1" strike="noStrike">
                <a:solidFill>
                  <a:srgbClr val="000000"/>
                </a:solidFill>
                <a:latin typeface="Franklin Gothic Book"/>
              </a:rPr>
              <a:t>brindar una </a:t>
            </a:r>
            <a:r>
              <a:rPr b="1" lang="es-AR" sz="2000" spc="-1" strike="noStrike">
                <a:solidFill>
                  <a:srgbClr val="000000"/>
                </a:solidFill>
                <a:latin typeface="Franklin Gothic Book"/>
              </a:rPr>
              <a:t>herramienta para el análisis de la eficiencia </a:t>
            </a:r>
            <a:r>
              <a:rPr b="0" lang="es-AR" sz="2000" spc="-1" strike="noStrike">
                <a:solidFill>
                  <a:srgbClr val="000000"/>
                </a:solidFill>
                <a:latin typeface="Franklin Gothic Book"/>
              </a:rPr>
              <a:t>en el sector asegurador argentino, utilizando un modelo de frontera efici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Franklin Gothic Book"/>
              </a:rPr>
              <a:t>Se intenta </a:t>
            </a:r>
            <a:r>
              <a:rPr b="1" lang="es-AR" sz="2000" spc="-1" strike="noStrike">
                <a:solidFill>
                  <a:srgbClr val="000000"/>
                </a:solidFill>
                <a:latin typeface="Franklin Gothic Book"/>
              </a:rPr>
              <a:t>apoyar la toma de decisiones</a:t>
            </a:r>
            <a:r>
              <a:rPr b="0" lang="es-AR" sz="2000" spc="-1" strike="noStrike">
                <a:solidFill>
                  <a:srgbClr val="000000"/>
                </a:solidFill>
                <a:latin typeface="Franklin Gothic Book"/>
              </a:rPr>
              <a:t>, permitiendo que las compañías analicen su posición frente a otras del mercado, detectando áreas de oportunidad o ventajas competitivas respecto a las demás</a:t>
            </a:r>
            <a:r>
              <a:rPr b="0" lang="es-AR" sz="1800" spc="-1" strike="noStrike">
                <a:solidFill>
                  <a:srgbClr val="000000"/>
                </a:solidFill>
                <a:latin typeface="Franklin Gothic Boo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3 Título" descr=""/>
          <p:cNvPicPr/>
          <p:nvPr/>
        </p:nvPicPr>
        <p:blipFill>
          <a:blip r:embed="rId1"/>
          <a:stretch/>
        </p:blipFill>
        <p:spPr>
          <a:xfrm>
            <a:off x="60480" y="1054080"/>
            <a:ext cx="8875440" cy="1000080"/>
          </a:xfrm>
          <a:prstGeom prst="rect">
            <a:avLst/>
          </a:prstGeom>
          <a:ln w="0">
            <a:noFill/>
          </a:ln>
        </p:spPr>
      </p:pic>
      <p:pic>
        <p:nvPicPr>
          <p:cNvPr id="432" name="4 Imagen" descr="Encabezad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887400"/>
          </a:xfrm>
          <a:prstGeom prst="rect">
            <a:avLst/>
          </a:prstGeom>
          <a:ln w="0">
            <a:noFill/>
          </a:ln>
        </p:spPr>
      </p:pic>
      <p:sp>
        <p:nvSpPr>
          <p:cNvPr id="433" name="5 Rectángulo redondeado"/>
          <p:cNvSpPr/>
          <p:nvPr/>
        </p:nvSpPr>
        <p:spPr>
          <a:xfrm>
            <a:off x="1042920" y="2349360"/>
            <a:ext cx="1657440" cy="358920"/>
          </a:xfrm>
          <a:prstGeom prst="roundRect">
            <a:avLst>
              <a:gd name="adj" fmla="val 16667"/>
            </a:avLst>
          </a:prstGeom>
          <a:solidFill>
            <a:srgbClr val="cca192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Franklin Gothic Book"/>
              </a:rPr>
              <a:t>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7 Rectángulo redondeado"/>
          <p:cNvSpPr/>
          <p:nvPr/>
        </p:nvSpPr>
        <p:spPr>
          <a:xfrm>
            <a:off x="468360" y="3068640"/>
            <a:ext cx="2808360" cy="360360"/>
          </a:xfrm>
          <a:prstGeom prst="roundRect">
            <a:avLst>
              <a:gd name="adj" fmla="val 16667"/>
            </a:avLst>
          </a:prstGeom>
          <a:solidFill>
            <a:srgbClr val="f3cd6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91581f"/>
                </a:solidFill>
                <a:latin typeface="Franklin Gothic Book"/>
              </a:rPr>
              <a:t>Patrimonio</a:t>
            </a:r>
            <a:r>
              <a:rPr b="0" lang="es-AR" sz="1800" spc="-1" strike="noStrike">
                <a:solidFill>
                  <a:srgbClr val="91581f"/>
                </a:solidFill>
                <a:latin typeface="Franklin Gothic Book"/>
              </a:rPr>
              <a:t> </a:t>
            </a:r>
            <a:r>
              <a:rPr b="1" lang="es-AR" sz="1800" spc="-1" strike="noStrike">
                <a:solidFill>
                  <a:srgbClr val="91581f"/>
                </a:solidFill>
                <a:latin typeface="Franklin Gothic Book"/>
              </a:rPr>
              <a:t>N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8 Rectángulo redondeado"/>
          <p:cNvSpPr/>
          <p:nvPr/>
        </p:nvSpPr>
        <p:spPr>
          <a:xfrm>
            <a:off x="6040440" y="2308320"/>
            <a:ext cx="1655640" cy="358560"/>
          </a:xfrm>
          <a:prstGeom prst="roundRect">
            <a:avLst>
              <a:gd name="adj" fmla="val 16667"/>
            </a:avLst>
          </a:prstGeom>
          <a:solidFill>
            <a:srgbClr val="cca192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Franklin Gothic Book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9 Rectángulo redondeado"/>
          <p:cNvSpPr/>
          <p:nvPr/>
        </p:nvSpPr>
        <p:spPr>
          <a:xfrm>
            <a:off x="468360" y="3789360"/>
            <a:ext cx="2808360" cy="431640"/>
          </a:xfrm>
          <a:prstGeom prst="roundRect">
            <a:avLst>
              <a:gd name="adj" fmla="val 16667"/>
            </a:avLst>
          </a:prstGeom>
          <a:solidFill>
            <a:srgbClr val="f3cd6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91581f"/>
                </a:solidFill>
                <a:latin typeface="Franklin Gothic Book"/>
              </a:rPr>
              <a:t>Gastos de 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10 Rectángulo redondeado"/>
          <p:cNvSpPr/>
          <p:nvPr/>
        </p:nvSpPr>
        <p:spPr>
          <a:xfrm>
            <a:off x="468360" y="4437000"/>
            <a:ext cx="2808360" cy="432000"/>
          </a:xfrm>
          <a:prstGeom prst="roundRect">
            <a:avLst>
              <a:gd name="adj" fmla="val 16667"/>
            </a:avLst>
          </a:prstGeom>
          <a:solidFill>
            <a:srgbClr val="f3cd6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91581f"/>
                </a:solidFill>
                <a:latin typeface="Franklin Gothic Book"/>
              </a:rPr>
              <a:t>Gastos de Explo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11 Rectángulo redondeado"/>
          <p:cNvSpPr/>
          <p:nvPr/>
        </p:nvSpPr>
        <p:spPr>
          <a:xfrm>
            <a:off x="468360" y="5084640"/>
            <a:ext cx="2808360" cy="360360"/>
          </a:xfrm>
          <a:prstGeom prst="roundRect">
            <a:avLst>
              <a:gd name="adj" fmla="val 16667"/>
            </a:avLst>
          </a:prstGeom>
          <a:solidFill>
            <a:srgbClr val="f3cd6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91581f"/>
                </a:solidFill>
                <a:latin typeface="Franklin Gothic Book"/>
              </a:rPr>
              <a:t>Gastos Téc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13 Rectángulo redondeado"/>
          <p:cNvSpPr/>
          <p:nvPr/>
        </p:nvSpPr>
        <p:spPr>
          <a:xfrm>
            <a:off x="5867280" y="3860640"/>
            <a:ext cx="2016360" cy="720720"/>
          </a:xfrm>
          <a:prstGeom prst="roundRect">
            <a:avLst>
              <a:gd name="adj" fmla="val 16667"/>
            </a:avLst>
          </a:prstGeom>
          <a:solidFill>
            <a:srgbClr val="c17529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Franklin Gothic Book"/>
              </a:rPr>
              <a:t>Primas Netas Deveng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25 Flecha derecha"/>
          <p:cNvSpPr/>
          <p:nvPr/>
        </p:nvSpPr>
        <p:spPr>
          <a:xfrm>
            <a:off x="3635280" y="3789360"/>
            <a:ext cx="1800360" cy="93492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1 Título" descr=""/>
          <p:cNvPicPr/>
          <p:nvPr/>
        </p:nvPicPr>
        <p:blipFill>
          <a:blip r:embed="rId1"/>
          <a:stretch/>
        </p:blipFill>
        <p:spPr>
          <a:xfrm>
            <a:off x="262080" y="835200"/>
            <a:ext cx="8881920" cy="10000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250920" y="1484280"/>
            <a:ext cx="86868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4e3b30"/>
                </a:solidFill>
                <a:latin typeface="Franklin Gothic Book"/>
              </a:rPr>
              <a:t>Tamaño de la compañí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200" spc="-1" strike="noStrike">
                <a:solidFill>
                  <a:srgbClr val="4e3b30"/>
                </a:solidFill>
                <a:latin typeface="Franklin Gothic Book"/>
              </a:rPr>
              <a:t>Economías de Escala: 74.91% ETM &lt; 87.48% ETM Ponderada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4e3b30"/>
                </a:solidFill>
                <a:latin typeface="Franklin Gothic Book"/>
              </a:rPr>
              <a:t>Tipo Societario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200" spc="-1" strike="noStrike">
                <a:solidFill>
                  <a:srgbClr val="4e3b30"/>
                </a:solidFill>
                <a:latin typeface="Franklin Gothic Book"/>
              </a:rPr>
              <a:t>S.A. &gt; Cooperativas y Mutuales </a:t>
            </a:r>
            <a:r>
              <a:rPr b="0" i="1" lang="es-AR" sz="2200" spc="-1" strike="noStrike">
                <a:solidFill>
                  <a:srgbClr val="4e3b30"/>
                </a:solidFill>
                <a:latin typeface="Wingdings"/>
                <a:ea typeface="Wingdings"/>
              </a:rPr>
              <a:t></a:t>
            </a:r>
            <a:r>
              <a:rPr b="0" i="1" lang="es-AR" sz="2200" spc="-1" strike="noStrike">
                <a:solidFill>
                  <a:srgbClr val="4e3b30"/>
                </a:solidFill>
                <a:latin typeface="Franklin Gothic Book"/>
              </a:rPr>
              <a:t> Diferencia en el PN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4e3b30"/>
                </a:solidFill>
                <a:latin typeface="Franklin Gothic Book"/>
              </a:rPr>
              <a:t>Modalidad de Comercializació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200" spc="-1" strike="noStrike">
                <a:solidFill>
                  <a:srgbClr val="4e3b30"/>
                </a:solidFill>
                <a:latin typeface="Franklin Gothic Book"/>
              </a:rPr>
              <a:t>Políticas basadas en intermediación resultaron menos eficientes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4e3b30"/>
                </a:solidFill>
                <a:latin typeface="Franklin Gothic Book"/>
              </a:rPr>
              <a:t>Nivel de Gastos de Explotació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200" spc="-1" strike="noStrike">
                <a:solidFill>
                  <a:srgbClr val="4e3b30"/>
                </a:solidFill>
                <a:latin typeface="Franklin Gothic Book"/>
              </a:rPr>
              <a:t>Estrategias de comercialización equilibradas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4e3b30"/>
                </a:solidFill>
                <a:latin typeface="Franklin Gothic Book"/>
              </a:rPr>
              <a:t>Nivel de Siniestralidad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200" spc="-1" strike="noStrike">
                <a:solidFill>
                  <a:srgbClr val="4e3b30"/>
                </a:solidFill>
                <a:latin typeface="Franklin Gothic Book"/>
              </a:rPr>
              <a:t>Redefinir las Política de Suscripción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4e3b30"/>
                </a:solidFill>
                <a:latin typeface="Franklin Gothic Book"/>
              </a:rPr>
              <a:t>El método DEA permite una cuantificación de la ineficiencia para facilitar la toma de decisiones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3" name="4 Imagen" descr="Encabezad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5 Título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250920" y="1413000"/>
            <a:ext cx="86868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300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4e3b30"/>
                </a:solidFill>
                <a:latin typeface="Franklin Gothic Book"/>
              </a:rPr>
              <a:t>Las empresas en algún grado ineficientes necesitan </a:t>
            </a:r>
            <a:r>
              <a:rPr b="1" lang="es-AR" sz="3000" spc="-1" strike="noStrike">
                <a:solidFill>
                  <a:srgbClr val="4e3b30"/>
                </a:solidFill>
                <a:latin typeface="Franklin Gothic Book"/>
              </a:rPr>
              <a:t>revisar sus estrategias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spcAft>
                <a:spcPts val="300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4e3b30"/>
                </a:solidFill>
                <a:latin typeface="Franklin Gothic Book"/>
              </a:rPr>
              <a:t>Propuesta de una herramienta de apoyo para la </a:t>
            </a:r>
            <a:r>
              <a:rPr b="1" lang="es-AR" sz="3000" spc="-1" strike="noStrike">
                <a:solidFill>
                  <a:srgbClr val="4e3b30"/>
                </a:solidFill>
                <a:latin typeface="Franklin Gothic Book"/>
              </a:rPr>
              <a:t>toma de decisiones </a:t>
            </a:r>
            <a:r>
              <a:rPr b="0" lang="es-AR" sz="3000" spc="-1" strike="noStrike">
                <a:solidFill>
                  <a:srgbClr val="4e3b30"/>
                </a:solidFill>
                <a:latin typeface="Franklin Gothic Book"/>
              </a:rPr>
              <a:t>en base a la medición de la eficiencia a través de </a:t>
            </a:r>
            <a:r>
              <a:rPr b="1" lang="es-AR" sz="3000" spc="-1" strike="noStrike">
                <a:solidFill>
                  <a:srgbClr val="4e3b30"/>
                </a:solidFill>
                <a:latin typeface="Franklin Gothic Book"/>
              </a:rPr>
              <a:t>DEA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4e3b30"/>
                </a:solidFill>
                <a:latin typeface="Franklin Gothic Book"/>
              </a:rPr>
              <a:t>Próximos estudios </a:t>
            </a:r>
            <a:r>
              <a:rPr b="0" lang="es-AR" sz="3200" spc="-1" strike="noStrike">
                <a:solidFill>
                  <a:srgbClr val="4e3b30"/>
                </a:solidFill>
                <a:latin typeface="Franklin Gothic Book"/>
              </a:rPr>
              <a:t>- </a:t>
            </a:r>
            <a:r>
              <a:rPr b="0" lang="es-AR" sz="2400" spc="-1" strike="noStrike">
                <a:solidFill>
                  <a:srgbClr val="4e3b30"/>
                </a:solidFill>
                <a:latin typeface="Franklin Gothic Book"/>
              </a:rPr>
              <a:t>Análisis longitudinal, comparativo de distintos países analizando por separado diferentes tipos  de eficiencia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3 Rectángulo redondeado"/>
          <p:cNvSpPr/>
          <p:nvPr/>
        </p:nvSpPr>
        <p:spPr>
          <a:xfrm>
            <a:off x="2700360" y="5300640"/>
            <a:ext cx="6192720" cy="10810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Franklin Gothic Book"/>
              </a:rPr>
              <a:t>¡Muchas gracia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Franklin Gothic Book"/>
              </a:rPr>
              <a:t>Contacto: angeles.lopez@uns.edu.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14:44:14Z</dcterms:created>
  <dc:creator>Angeles</dc:creator>
  <dc:description/>
  <dc:language>en-US</dc:language>
  <cp:lastModifiedBy>Audio y Video</cp:lastModifiedBy>
  <dcterms:modified xsi:type="dcterms:W3CDTF">2011-05-19T05:59:44Z</dcterms:modified>
  <cp:revision>37</cp:revision>
  <dc:subject/>
  <dc:title>X Congreso Internacional de Administración La Gestión en Transformación – Los retos de una nueva época. Eje Temático: Talento, Innovación y Estrategias Competitivas en el mundo global.  Utilización de la Herramienta DEA para Gestión de la Eficiencia y el Desarrollo de Ventajas Competitivas.</dc:title>
</cp:coreProperties>
</file>