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468-AE28-4337-9F49-349B0A98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CD1-31EB-4A55-BA09-EA181D44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700-82C7-459F-AB6E-1BEF01F8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957-4535-480F-950D-721E2F14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8A4B-E44C-4D87-ACAC-BB3BFFB0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50C7-5F08-47C2-85CB-2A8DFABF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5C07-20FA-49B3-8518-9557B362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7168-0695-4A0A-B54E-93415B26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E5C2-BBC1-4541-AC6C-6F5E2978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932D-254F-4A57-B7C2-B95816A5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DF77-A50E-4C75-8552-EE90601B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10D-0916-406E-B203-9B6643C9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94B3-053E-445C-AE69-5FF27A31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1354-0636-4A04-97DB-51D72E3B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E222-9986-49B4-AC30-B0C169FC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57A2-E5F2-41CF-B3C8-C4B0FAF8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56E1-560C-4FA1-8F14-E7E973FD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6158F-8B48-4B65-81B0-B00973C0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8D5FB-9F87-4A85-9EE9-AA28C444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30FA-8A13-4B2B-B381-CD56BAD1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C5398-A6A3-41B7-9313-A923791F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33EB-3DC3-4D22-83EB-A784F9B8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05F-C64A-42AA-9F43-3E92149C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65F20-ED75-43BB-9A37-D68BBEC2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B48B-23C8-4B23-B688-5B967951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26F85-9621-4712-9CB3-BEB7F644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04389-B0B4-4A19-8B53-8CA86F34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D35E-9899-4AF0-B699-1DC71004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109E-3FF1-47BB-BE87-A60D7E51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6E95B-7DB1-4F1F-8AE9-1CBA1B3D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9637C-BE9F-4222-9A95-6176304A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940D2-C579-409B-9FEB-820BE6A6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35A0B-1FC2-46F9-8D21-747ABAB3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0A2-76E4-4CB1-9753-AEA5685E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DD0E2-EF89-4A2C-BF81-CFA66065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66CEB-5A07-488A-9DD4-F56EEFD8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877F-5070-40B5-98E4-EF8C9BAE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B5350-F9EE-4F3E-9D73-A580A5B3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CC8FE-5F9F-4065-A5D6-D3E6BE7E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282B1-D4E7-4090-A78D-898D443E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55770-A77B-4115-81FA-453CA823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BFEC2-549E-494B-B69B-0545F6FD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9AD9C-EFAB-424E-A91D-270AE8EE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F642C-8A8F-4D89-A0B4-BDBF2DBD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4C8-DC4C-4A41-B5B7-03B5789E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A7878-76F2-437F-9090-91596F57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D089C-80A2-4427-8C45-F047DCCB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8BEC1-5197-447C-807A-227358A1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10646-985D-4FB8-90F3-FCEF64E2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D3FA5-E732-4F26-BC06-3F494A1A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146F7-09CD-4986-850E-9F68B96F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D0298-47B4-4AD4-B1C0-A3CC65D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69EEB-A171-4D9B-883A-2064014E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4A21D-D469-4343-9A65-FC1998AC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4BD72-4534-437E-88AE-467E9582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9DC-8D05-4EFF-82F7-831EA4BF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4D507-C80A-4DD7-9163-FFF8C323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67497-C6C7-467C-BE27-1443FEE2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BEBA5-76B0-4B05-92CE-07EA2F3F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F8BF5-B4A3-4172-BF4F-C4BE02F0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67446-405C-434D-B162-160AD35F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B66DC-8E68-4943-9C93-C74BCAC0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28818-7104-4D1C-86BE-77374BF9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96643-2F27-47E0-B650-12496CD3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76E03-651E-41DE-A045-98813225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CA52F-01E6-4083-B25C-91F24D53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BDB-A1C8-4FD5-A5EF-AB4B0E6A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77EB1-AFC4-4764-9BF7-90E6C573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9952C-48C9-400F-BE1B-9D7182BC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80F58-19E9-48C1-B912-0AD13763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3DE-F424-441B-88E2-DD9A8F68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A0E-F50E-4EFD-9650-9694DA1E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BC16-D209-4DC6-A843-40A11077C995}" type="slidenum"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ABB1-275B-436F-A81D-BCBED14245B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0623-B150-449C-B8D7-513EADF17509}" type="slidenum"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40A0-116E-40F5-B366-3B7DB1C38C6C}" type="slidenum"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374E-59FB-4DD2-BC39-3871D0F79EA9}" type="slidenum">
              <a:rPr b="0" lang="es-AR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66D9-01EC-419E-B9C9-93AFFC9163A6}" type="slidenum"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Franklin Gothic Medium"/>
              </a:rPr>
              <a:t>LA GESTION DEL RIESGO 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Franklin Gothic Medium"/>
              </a:rPr>
              <a:t>ESTÁ EN CRISI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DR. LA Y CP OBDULIO DURAN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3 CuadroTexto"/>
          <p:cNvSpPr/>
          <p:nvPr/>
        </p:nvSpPr>
        <p:spPr>
          <a:xfrm>
            <a:off x="4572000" y="3933720"/>
            <a:ext cx="39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anklin Gothic Book"/>
              </a:rPr>
              <a:t>X CONGRESO INTERNACIONAL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anklin Gothic Book"/>
              </a:rPr>
              <a:t>DE ADMINISTRACIO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anklin Gothic Book"/>
              </a:rPr>
              <a:t>BUENOS AIRES - 2011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Franklin Gothic Medium"/>
              </a:rPr>
              <a:t>LA GESTIÓN DEL RIESGO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Proceso planificado, concertado, participativo e integral de reducción de las condiciones de riesgo de desastres, en la búsqueda del desarrollo sostenible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Antes creíamos que los desastres eran eventos inevitables y de origen natural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En el presente siglo, comenzamos a entender que muchos de los actuales desastres son construcciones de nuestra manera de obrar y de entender los procesos económicos y sociales. Son fruto de nuestros paradigmas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Así vemos los aludes de lodo en Brasil y </a:t>
            </a:r>
            <a:br>
              <a:rPr sz="1500"/>
            </a:br>
            <a:r>
              <a:rPr b="1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el Norte Argentino, en forma recurrente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También los refugiados , consecuencia de las </a:t>
            </a:r>
            <a:br>
              <a:rPr sz="1500"/>
            </a:br>
            <a:r>
              <a:rPr b="1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inundaciones en las zonas ribereñas de las ciudades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Cada vez se reconoce más la importancia de las acciones </a:t>
            </a:r>
            <a:br>
              <a:rPr sz="1500"/>
            </a:br>
            <a:r>
              <a:rPr b="1" lang="es-AR" sz="1500" spc="-1" strike="noStrike">
                <a:solidFill>
                  <a:srgbClr val="000000"/>
                </a:solidFill>
                <a:latin typeface="Arial"/>
                <a:ea typeface="Arial"/>
              </a:rPr>
              <a:t>y las decisiones cotidianas en la eliminación de riesgos</a:t>
            </a:r>
            <a:r>
              <a:rPr b="1" lang="es-AR" sz="15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6729480" y="3200400"/>
            <a:ext cx="24145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Franklin Gothic Medium"/>
              </a:rPr>
              <a:t>MODELO DE GESTIÓN DEL RIESGO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바탕"/>
              </a:rPr>
              <a:t>Un modelo de gestión del riesgo consiste en construir la información mínima que permita calcular el riesgo que se va a asumir y prever las reservas (de todo tipo) que permitirían la supervivencia en condiciones adecuadas, a pesar de la ocurrencia de los siniestro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바탕"/>
              </a:rPr>
              <a:t>El PNUD menciona dos formas de gestionar el riesgo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바탕"/>
              </a:rPr>
              <a:t>Correctiva o compensatoria, que se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바탕"/>
              </a:rPr>
              <a:t>refiere a la adopción de medidas y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바탕"/>
              </a:rPr>
              <a:t>acciones, para promover la reducción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바탕"/>
              </a:rPr>
              <a:t>de la vulnerabilida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바탕"/>
              </a:rPr>
              <a:t>Prospectiva, que implica adoptar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바탕"/>
              </a:rPr>
              <a:t>medidas y acciones en la planificación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바탕"/>
              </a:rPr>
              <a:t>del desarrollo, para evitar nuevas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바탕"/>
              </a:rPr>
              <a:t>vulnerabilidades.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바탕"/>
              </a:rPr>
              <a:t>«Riesgo no existente»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5464080" y="2865600"/>
            <a:ext cx="3703680" cy="3992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Franklin Gothic Medium"/>
              </a:rPr>
              <a:t>GESTIÓN DE RIESGOS EN LAS EMPRESA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 Black"/>
              </a:rPr>
              <a:t>Área que se ocupa de prever, que  eventos pueden ocurrir, que perjudiquen a la rentabilidad, al patrimonio o a la subsistencia de la empresa,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 Black"/>
              </a:rPr>
              <a:t>Desarrollar planes de contingencia o prevenció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 Black"/>
              </a:rPr>
              <a:t>Adoctrinar, adiestrar y entrenar a los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 Black"/>
              </a:rPr>
              <a:t>recursos humanos, para que si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 Black"/>
              </a:rPr>
              <a:t>ocurre el evento pronosticado,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 Black"/>
              </a:rPr>
              <a:t>se opera de la manera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 Black"/>
              </a:rPr>
              <a:t>prevista y se obtengan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 Black"/>
              </a:rPr>
              <a:t>los resultados esperado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5510160" y="3613320"/>
            <a:ext cx="3657600" cy="3278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Franklin Gothic Medium"/>
              </a:rPr>
              <a:t>MODELOS DE GESTIÓN DE RIESGO EMPRESARIO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xisten dos grandes vertient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l enfoque tradicional, frecuentista,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que analiza la historia y se basa exclusivamente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n los registros, que brindan cobertura a quien toma la decisión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l enfoque alternativo o «bayesiano»,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que incorpora criterios como complemento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de los datos históricos.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Thomas Bayes.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Londres,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1702,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stadístico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4281480" y="3897360"/>
            <a:ext cx="4838760" cy="2960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Franklin Gothic Medium"/>
              </a:rPr>
              <a:t>MODELO DE DECISIONES EN GESTIÓN DEL RIESGO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2" name="3 Marcador de contenido" descr=""/>
          <p:cNvPicPr/>
          <p:nvPr/>
        </p:nvPicPr>
        <p:blipFill>
          <a:blip r:embed="rId1"/>
          <a:stretch/>
        </p:blipFill>
        <p:spPr>
          <a:xfrm>
            <a:off x="1943280" y="1100160"/>
            <a:ext cx="5279760" cy="3579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6804000" y="5273640"/>
            <a:ext cx="200808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7:35:07Z</dcterms:created>
  <dc:creator>OBDULIO</dc:creator>
  <dc:description/>
  <dc:language>en-US</dc:language>
  <cp:lastModifiedBy>Audio y Video</cp:lastModifiedBy>
  <dcterms:modified xsi:type="dcterms:W3CDTF">2011-05-19T04:31:41Z</dcterms:modified>
  <cp:revision>12</cp:revision>
  <dc:subject/>
  <dc:title>LA GESTION DEL RIESGO  ESTÁ EN CRISIS</dc:title>
</cp:coreProperties>
</file>