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14CE-98CF-4BB2-99ED-64BB3B5B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2CB-37DB-42E8-B278-273D5FFD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585-426A-484D-BD29-A2228AD2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C6B8-CA1E-412B-B7F5-973C2BEB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32BF-F6DD-427B-8A02-BC666795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04EB-3E42-42B9-97E4-66C38B47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75AD-410C-4E0F-BEE3-7B079801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DAA0-AEA7-4F44-AF90-E68697E1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1881-EBF3-43DB-A8F5-F1CC077D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FC1D-1E12-466D-AEA5-68C53ECF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EF42-959B-4B38-ABA9-8570273B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90C-314C-4679-98FE-CEF757E8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655A-512D-46F4-A7CE-3F77B2CF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A7F7-1415-4683-B026-4EEA7474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41EC-9171-4130-A5D5-88D2E4C7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BEE9-E73A-4D61-A25B-BCBC4B0C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ABB2-6012-4D71-A815-3B842AFB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F2D78-1887-4DF9-9DE4-23BB00AA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25C30-F468-41AA-A5CE-54D4131B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D0C6E-2DFB-4E34-B467-C82E9671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7A09C-D665-4CE8-9716-577C0EDE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2A47B-BF41-42A0-BF9D-AE5D9EDC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6855-1A5F-4C91-8069-B6A0CCBB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21A3B-BB0F-4075-95E2-ACDFB670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C8AA5-242A-41ED-B453-716E439F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B9B34-4FF6-42DE-BB9F-3416B19A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84E79-E487-41B8-9FE5-8D74AA86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4EE6F-8453-4C85-A553-77083C7D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5D99F-8835-4312-B10E-6AAFA8D3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AE783-125C-4C93-8397-5A1382EC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51EE5-512B-47C4-B878-0D95D9F5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8B8EB-0587-4FFD-BB03-402385D7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94C81-4D79-4750-9037-C71F9D22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76B-68B0-498B-AE10-9F95FAFB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98230-5FCF-4305-9EAE-7913E20A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2137A-9EA2-455F-B0E7-1EF4EACB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1D665-9E47-4C7F-970B-6D29FCF7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9A476-A256-417E-A5AC-986CD771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0F29F-F2CD-488F-A049-B517A603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D0716-18A4-4DF7-A189-88A47DDE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1303A-0F3A-4909-A7A0-3F714152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CC42A-8CFE-48D6-A481-99011D49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7ED88-EB05-417E-9407-6D179604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DF38A-1FB6-48B2-82ED-E51BC890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B24B-10CC-40D9-A541-3E33ECFB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1FEAB-A2E3-42A4-AF4E-EB67B8CF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CD8AB-8FFC-4506-A640-C33980DC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09068-3FE4-43BE-A5A7-AFA73062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E5C7D-8C0C-4F76-84F6-22297A6E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0024A-0517-453B-B8FA-04FBFB5A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3997A-36BD-47A0-8E10-C79B83B1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5CFB3-8980-4AFD-A178-FD90ECD2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74013-FC44-4A99-8C12-F1CD0611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E7BF6-5772-4F83-8422-391B2EE3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AA1DD-B828-4C2F-B6FC-ECE7165E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2B0C-0DB5-4A34-B570-2274962E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B7FAF-E9C3-4F21-9507-86C246B8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B1BCE-5647-4677-B939-2E419A5F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38E23-A5D2-4B10-A847-8F2FBB06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8E17B-0560-42B6-A8D3-5D1E08F1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D4D00-7005-4F62-8F69-81E5825A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4D69D-2876-47CA-8D76-9CE26577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13580-2197-45A5-A627-6AAC1800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0575B-EDA5-4C9A-8A21-BCA3E4E4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2A8BF-21C1-4924-BFFA-BA812309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BC61C-CFB7-47C0-BCD4-07972960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547A-A7C0-4952-8A64-110A8587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C3B44-3DFF-44B7-A3B1-71D65885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72987-0D8B-47DA-868D-194D1158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96CAF-F6E4-400B-9259-C9F793C0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9C2F1-0100-42BC-AB35-9BEDD778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BF62D-0F2B-4815-9F3F-C97E614A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F0C9E-AA7B-46DD-91EA-0FA1FE5C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CA181-815C-4BF3-A7E9-BBA500F8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19337-4A52-4BE9-87DE-73AB16D1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BEA42-6900-4A41-B05A-8C7B40F8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F9D24-F140-4582-91A7-1226BFD5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CD8-E51C-4DE5-8D4E-3968F4CC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B9F60-2757-41F4-B449-92E31F29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DED8C-12DF-4C3A-8484-7E3CBB1E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9181F-8D93-45DE-A969-9F8F2991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5AF66-91D8-4338-ADB9-8E2E3021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65B18-9D91-4890-82AE-99E2B290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6F1B4-C227-43B3-A409-319FA5AF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2EE6A-23B3-45F3-9324-7C4BE4D6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73D1D-935B-46BD-B7E3-EF5DB54C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84D8A-3494-4035-BCAB-2F7283FF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8FFFD-92E0-4AD3-8995-86730B58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A648-89D8-4219-B772-B3B21EBB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E729F-EB80-42A2-9C6E-245EE5B0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3DD93-37AF-4618-A649-FD8FF451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31430-28F7-402E-BF51-7B4E70D1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8B4C0-224E-42AE-BC40-70D06FA1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3518A-7C20-476B-9F0C-E05DF943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58C84-22CB-4A63-B2DB-D9260F68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B7CAE-B298-4DAF-9D41-DBFDCE98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7794-EBA7-486A-9A96-231DDA5F20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9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6 Forma libre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7 Forma libre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0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0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11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FCEE-D0AF-415D-9182-55D6B9FC84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6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7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6EDD-1A46-4716-A768-E1F1BD8B89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1E38-6B62-41E8-9D43-1AB07A7938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8A8C-0504-41A3-A528-1ADFA14C97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E9F2-6A38-47A8-B92D-5DD0AB3164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84C1-55B8-4BAE-9B60-AAFE820D2B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7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8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9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9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10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1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12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4DB1-45E2-4723-9489-842A7F1505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consejo.org.ar/index.htm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5356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21800" y="3684600"/>
            <a:ext cx="7882200" cy="197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105766"/>
                </a:solidFill>
                <a:latin typeface="Arial"/>
                <a:ea typeface="Arial"/>
              </a:rPr>
              <a:t>LOS DESAFIOS DEL MUNDO VIRTU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105766"/>
                </a:solidFill>
                <a:latin typeface="Arial"/>
                <a:ea typeface="Arial"/>
              </a:rPr>
              <a:t>GABRIELA FERNANDA LUCHET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105766"/>
                </a:solidFill>
                <a:latin typeface="Arial"/>
                <a:ea typeface="Arial"/>
              </a:rPr>
              <a:t>Licenciada en Administración UBA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2" descr="http://www.consejo.org.ar/images/header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981000"/>
            <a:ext cx="74296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464646"/>
                </a:solidFill>
                <a:latin typeface="Lucida Sans Unicode"/>
              </a:rPr>
              <a:t>       </a:t>
            </a:r>
            <a:r>
              <a:rPr b="1" lang="es-ES" sz="4100" spc="-1" strike="noStrike">
                <a:solidFill>
                  <a:srgbClr val="464646"/>
                </a:solidFill>
                <a:latin typeface="Lucida Sans Unicode"/>
              </a:rPr>
              <a:t>Ejemplos Advergaming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47" name="Imagen 2" descr="http://marketingadblog.files.wordpress.com/2009/03/chocotren.jpg"/>
          <p:cNvPicPr/>
          <p:nvPr/>
        </p:nvPicPr>
        <p:blipFill>
          <a:blip r:embed="rId1"/>
          <a:stretch/>
        </p:blipFill>
        <p:spPr>
          <a:xfrm>
            <a:off x="468360" y="1700280"/>
            <a:ext cx="3672000" cy="2952720"/>
          </a:xfrm>
          <a:prstGeom prst="rect">
            <a:avLst/>
          </a:prstGeom>
          <a:ln w="38160">
            <a:solidFill>
              <a:srgbClr val="bfbfbf"/>
            </a:solidFill>
            <a:miter/>
          </a:ln>
        </p:spPr>
      </p:pic>
      <p:pic>
        <p:nvPicPr>
          <p:cNvPr id="448" name="Imagen 3" descr="cocapoland.jpg"/>
          <p:cNvPicPr/>
          <p:nvPr/>
        </p:nvPicPr>
        <p:blipFill>
          <a:blip r:embed="rId2"/>
          <a:stretch/>
        </p:blipFill>
        <p:spPr>
          <a:xfrm>
            <a:off x="4356000" y="1676520"/>
            <a:ext cx="4608720" cy="2954160"/>
          </a:xfrm>
          <a:prstGeom prst="rect">
            <a:avLst/>
          </a:prstGeom>
          <a:ln w="38160">
            <a:solidFill>
              <a:srgbClr val="bfbf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s-ES" sz="3700" spc="-1" strike="noStrike">
                <a:solidFill>
                  <a:srgbClr val="464646"/>
                </a:solidFill>
                <a:latin typeface="Lucida Sans Unicode"/>
              </a:rPr>
              <a:t>EJEMPLOS PUBLICIDAD IN-GAME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50" name="Imagen 4" descr="publicidad-videojuegos2"/>
          <p:cNvPicPr/>
          <p:nvPr/>
        </p:nvPicPr>
        <p:blipFill>
          <a:blip r:embed="rId1"/>
          <a:stretch/>
        </p:blipFill>
        <p:spPr>
          <a:xfrm>
            <a:off x="395280" y="1700280"/>
            <a:ext cx="4095720" cy="2924280"/>
          </a:xfrm>
          <a:prstGeom prst="rect">
            <a:avLst/>
          </a:prstGeom>
          <a:ln w="38160">
            <a:solidFill>
              <a:srgbClr val="bfbfbf"/>
            </a:solidFill>
            <a:miter/>
          </a:ln>
        </p:spPr>
      </p:pic>
      <p:pic>
        <p:nvPicPr>
          <p:cNvPr id="451" name="Imagen 5" descr="counterstrike"/>
          <p:cNvPicPr/>
          <p:nvPr/>
        </p:nvPicPr>
        <p:blipFill>
          <a:blip r:embed="rId2"/>
          <a:srcRect l="0" t="0" r="0" b="7897"/>
          <a:stretch/>
        </p:blipFill>
        <p:spPr>
          <a:xfrm>
            <a:off x="4932360" y="1700280"/>
            <a:ext cx="3816360" cy="3024000"/>
          </a:xfrm>
          <a:prstGeom prst="rect">
            <a:avLst/>
          </a:prstGeom>
          <a:ln w="38160">
            <a:solidFill>
              <a:srgbClr val="bfbf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74" name="3 Proceso"/>
          <p:cNvSpPr/>
          <p:nvPr/>
        </p:nvSpPr>
        <p:spPr>
          <a:xfrm>
            <a:off x="1403280" y="1628640"/>
            <a:ext cx="3889440" cy="648000"/>
          </a:xfrm>
          <a:prstGeom prst="flowChart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INTERACTIVIDAD Y PUBLICIDA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4 Flecha derecha"/>
          <p:cNvSpPr/>
          <p:nvPr/>
        </p:nvSpPr>
        <p:spPr>
          <a:xfrm>
            <a:off x="5435640" y="184464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5 Proceso"/>
          <p:cNvSpPr/>
          <p:nvPr/>
        </p:nvSpPr>
        <p:spPr>
          <a:xfrm>
            <a:off x="6227640" y="1628640"/>
            <a:ext cx="2376720" cy="720720"/>
          </a:xfrm>
          <a:prstGeom prst="flowChart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Sans Unicode"/>
              </a:rPr>
              <a:t>RECIBIR Y TRANSMITI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6 Proceso"/>
          <p:cNvSpPr/>
          <p:nvPr/>
        </p:nvSpPr>
        <p:spPr>
          <a:xfrm>
            <a:off x="1476360" y="2637000"/>
            <a:ext cx="3743280" cy="576000"/>
          </a:xfrm>
          <a:prstGeom prst="flowChart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Sans Unicode"/>
              </a:rPr>
              <a:t>MEDIOS INTERACTIVOS DIGITAL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8 Flecha derecha"/>
          <p:cNvSpPr/>
          <p:nvPr/>
        </p:nvSpPr>
        <p:spPr>
          <a:xfrm>
            <a:off x="5364000" y="2708280"/>
            <a:ext cx="792360" cy="433440"/>
          </a:xfrm>
          <a:prstGeom prst="rightArrow">
            <a:avLst>
              <a:gd name="adj1" fmla="val 50000"/>
              <a:gd name="adj2" fmla="val 4985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9 Proceso"/>
          <p:cNvSpPr/>
          <p:nvPr/>
        </p:nvSpPr>
        <p:spPr>
          <a:xfrm>
            <a:off x="6227640" y="2637000"/>
            <a:ext cx="2448000" cy="863280"/>
          </a:xfrm>
          <a:prstGeom prst="flowChart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  <a:ea typeface="Arial"/>
              </a:rPr>
              <a:t>Control Remoto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  <a:ea typeface="Arial"/>
              </a:rPr>
              <a:t>Computadora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  <a:ea typeface="Arial"/>
              </a:rPr>
              <a:t>DV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  <a:ea typeface="Arial"/>
              </a:rPr>
              <a:t>Teléfono Celular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10 Proceso"/>
          <p:cNvSpPr/>
          <p:nvPr/>
        </p:nvSpPr>
        <p:spPr>
          <a:xfrm>
            <a:off x="1476360" y="3573360"/>
            <a:ext cx="3672000" cy="503280"/>
          </a:xfrm>
          <a:prstGeom prst="flowChart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Sans Unicode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11 Flecha derecha"/>
          <p:cNvSpPr/>
          <p:nvPr/>
        </p:nvSpPr>
        <p:spPr>
          <a:xfrm>
            <a:off x="5292720" y="3716280"/>
            <a:ext cx="863640" cy="360360"/>
          </a:xfrm>
          <a:prstGeom prst="rightArrow">
            <a:avLst>
              <a:gd name="adj1" fmla="val 50000"/>
              <a:gd name="adj2" fmla="val 49929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12 Proceso"/>
          <p:cNvSpPr/>
          <p:nvPr/>
        </p:nvSpPr>
        <p:spPr>
          <a:xfrm>
            <a:off x="6300720" y="3716280"/>
            <a:ext cx="2303640" cy="504720"/>
          </a:xfrm>
          <a:prstGeom prst="flowChart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Sans Unicode"/>
              </a:rPr>
              <a:t>World Wide Web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13 Proceso"/>
          <p:cNvSpPr/>
          <p:nvPr/>
        </p:nvSpPr>
        <p:spPr>
          <a:xfrm>
            <a:off x="1476360" y="4292640"/>
            <a:ext cx="3672000" cy="504720"/>
          </a:xfrm>
          <a:prstGeom prst="flowChart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Sans Unicode"/>
              </a:rPr>
              <a:t>ACCIONES ATL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14 Flecha derecha"/>
          <p:cNvSpPr/>
          <p:nvPr/>
        </p:nvSpPr>
        <p:spPr>
          <a:xfrm>
            <a:off x="5292720" y="4365720"/>
            <a:ext cx="863640" cy="358560"/>
          </a:xfrm>
          <a:prstGeom prst="rightArrow">
            <a:avLst>
              <a:gd name="adj1" fmla="val 50000"/>
              <a:gd name="adj2" fmla="val 5018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15 Proceso"/>
          <p:cNvSpPr/>
          <p:nvPr/>
        </p:nvSpPr>
        <p:spPr>
          <a:xfrm>
            <a:off x="6227640" y="4437000"/>
            <a:ext cx="2448000" cy="504720"/>
          </a:xfrm>
          <a:prstGeom prst="flowChart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  <a:ea typeface="Arial"/>
              </a:rPr>
              <a:t>Televisión-Radio-Vía Pública-Revistas-Diarios-TV por Cabl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16 Proceso"/>
          <p:cNvSpPr/>
          <p:nvPr/>
        </p:nvSpPr>
        <p:spPr>
          <a:xfrm>
            <a:off x="1476360" y="5013360"/>
            <a:ext cx="3672000" cy="503280"/>
          </a:xfrm>
          <a:prstGeom prst="flowChart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Sans Unicode"/>
              </a:rPr>
              <a:t>ACCIONES BT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17 Flecha derecha"/>
          <p:cNvSpPr/>
          <p:nvPr/>
        </p:nvSpPr>
        <p:spPr>
          <a:xfrm>
            <a:off x="5292720" y="5084640"/>
            <a:ext cx="863640" cy="289080"/>
          </a:xfrm>
          <a:prstGeom prst="rightArrow">
            <a:avLst>
              <a:gd name="adj1" fmla="val 50000"/>
              <a:gd name="adj2" fmla="val 497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18 Proceso"/>
          <p:cNvSpPr/>
          <p:nvPr/>
        </p:nvSpPr>
        <p:spPr>
          <a:xfrm>
            <a:off x="6227640" y="5084640"/>
            <a:ext cx="2448000" cy="576360"/>
          </a:xfrm>
          <a:prstGeom prst="flowChart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Agencias de Publicidad-Marketing Directo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24000" y="259920"/>
            <a:ext cx="83628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3 Proceso"/>
          <p:cNvSpPr/>
          <p:nvPr/>
        </p:nvSpPr>
        <p:spPr>
          <a:xfrm>
            <a:off x="755640" y="981000"/>
            <a:ext cx="3384720" cy="647640"/>
          </a:xfrm>
          <a:prstGeom prst="flowChart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Sans Unicode"/>
              </a:rPr>
              <a:t>Comunicación Unidirecciona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5 Flecha derecha"/>
          <p:cNvSpPr/>
          <p:nvPr/>
        </p:nvSpPr>
        <p:spPr>
          <a:xfrm>
            <a:off x="4284720" y="1052640"/>
            <a:ext cx="1008000" cy="43164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6 Proceso"/>
          <p:cNvSpPr/>
          <p:nvPr/>
        </p:nvSpPr>
        <p:spPr>
          <a:xfrm>
            <a:off x="5435640" y="907920"/>
            <a:ext cx="2521080" cy="576360"/>
          </a:xfrm>
          <a:prstGeom prst="flowChart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Modelo Tradicional de comunicación Masiva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7 Proceso"/>
          <p:cNvSpPr/>
          <p:nvPr/>
        </p:nvSpPr>
        <p:spPr>
          <a:xfrm>
            <a:off x="755640" y="2060640"/>
            <a:ext cx="3311640" cy="647640"/>
          </a:xfrm>
          <a:prstGeom prst="flowChart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Sans Unicode"/>
              </a:rPr>
              <a:t>Comunicación Bidirecciona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8 Flecha derecha"/>
          <p:cNvSpPr/>
          <p:nvPr/>
        </p:nvSpPr>
        <p:spPr>
          <a:xfrm>
            <a:off x="4211640" y="2060640"/>
            <a:ext cx="1008000" cy="43164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9 Proceso"/>
          <p:cNvSpPr/>
          <p:nvPr/>
        </p:nvSpPr>
        <p:spPr>
          <a:xfrm>
            <a:off x="5435640" y="1989000"/>
            <a:ext cx="2521080" cy="432000"/>
          </a:xfrm>
          <a:prstGeom prst="flowChart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Lucida Sans Unicode"/>
              </a:rPr>
              <a:t>Enviar y recibir mensajes en doble sentido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10 Proceso"/>
          <p:cNvSpPr/>
          <p:nvPr/>
        </p:nvSpPr>
        <p:spPr>
          <a:xfrm>
            <a:off x="755640" y="3213000"/>
            <a:ext cx="3311640" cy="647640"/>
          </a:xfrm>
          <a:prstGeom prst="flowChart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Sans Unicode"/>
              </a:rPr>
              <a:t>Multimedi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11 Flecha derecha"/>
          <p:cNvSpPr/>
          <p:nvPr/>
        </p:nvSpPr>
        <p:spPr>
          <a:xfrm>
            <a:off x="4284720" y="3141720"/>
            <a:ext cx="1008000" cy="50328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12 Proceso"/>
          <p:cNvSpPr/>
          <p:nvPr/>
        </p:nvSpPr>
        <p:spPr>
          <a:xfrm>
            <a:off x="5435640" y="3141720"/>
            <a:ext cx="2592360" cy="574560"/>
          </a:xfrm>
          <a:prstGeom prst="flowChart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Texto, gráficas, sonido y video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13 Proceso"/>
          <p:cNvSpPr/>
          <p:nvPr/>
        </p:nvSpPr>
        <p:spPr>
          <a:xfrm>
            <a:off x="755640" y="4365720"/>
            <a:ext cx="3240000" cy="576000"/>
          </a:xfrm>
          <a:prstGeom prst="flowChart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Sans Unicode"/>
              </a:rPr>
              <a:t>Videojuego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14 Flecha derecha"/>
          <p:cNvSpPr/>
          <p:nvPr/>
        </p:nvSpPr>
        <p:spPr>
          <a:xfrm>
            <a:off x="4284720" y="4365720"/>
            <a:ext cx="934920" cy="43164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15 Proceso"/>
          <p:cNvSpPr/>
          <p:nvPr/>
        </p:nvSpPr>
        <p:spPr>
          <a:xfrm>
            <a:off x="5508720" y="4365720"/>
            <a:ext cx="2592360" cy="503280"/>
          </a:xfrm>
          <a:prstGeom prst="flowChart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Es el más utilizado por los anunciant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2 Título" descr=""/>
          <p:cNvPicPr/>
          <p:nvPr/>
        </p:nvPicPr>
        <p:blipFill>
          <a:blip r:embed="rId1"/>
          <a:stretch/>
        </p:blipFill>
        <p:spPr>
          <a:xfrm>
            <a:off x="390600" y="109440"/>
            <a:ext cx="8240760" cy="1341360"/>
          </a:xfrm>
          <a:prstGeom prst="rect">
            <a:avLst/>
          </a:prstGeom>
          <a:ln w="0">
            <a:noFill/>
          </a:ln>
        </p:spPr>
      </p:pic>
      <p:sp>
        <p:nvSpPr>
          <p:cNvPr id="403" name="3 Proceso alternativo"/>
          <p:cNvSpPr/>
          <p:nvPr/>
        </p:nvSpPr>
        <p:spPr>
          <a:xfrm>
            <a:off x="1042920" y="1989000"/>
            <a:ext cx="1944720" cy="863640"/>
          </a:xfrm>
          <a:prstGeom prst="flowChartAlternate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Sans Unicode"/>
              </a:rPr>
              <a:t>Contenidos generados por el usuari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4 Flecha derecha"/>
          <p:cNvSpPr/>
          <p:nvPr/>
        </p:nvSpPr>
        <p:spPr>
          <a:xfrm>
            <a:off x="3276720" y="2060640"/>
            <a:ext cx="1800000" cy="64764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5 Proceso alternativo"/>
          <p:cNvSpPr/>
          <p:nvPr/>
        </p:nvSpPr>
        <p:spPr>
          <a:xfrm>
            <a:off x="5435640" y="1989000"/>
            <a:ext cx="2449440" cy="863640"/>
          </a:xfrm>
          <a:prstGeom prst="flowChartAlternate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Youtube-blogs -Foro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6 Proceso alternativo"/>
          <p:cNvSpPr/>
          <p:nvPr/>
        </p:nvSpPr>
        <p:spPr>
          <a:xfrm>
            <a:off x="1042920" y="3284640"/>
            <a:ext cx="1944720" cy="865080"/>
          </a:xfrm>
          <a:prstGeom prst="flowChartAlternate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Sans Unicode"/>
              </a:rPr>
              <a:t>Marketing Vira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8 Flecha derecha"/>
          <p:cNvSpPr/>
          <p:nvPr/>
        </p:nvSpPr>
        <p:spPr>
          <a:xfrm>
            <a:off x="3348000" y="3357720"/>
            <a:ext cx="1728720" cy="718920"/>
          </a:xfrm>
          <a:prstGeom prst="rightArrow">
            <a:avLst>
              <a:gd name="adj1" fmla="val 50000"/>
              <a:gd name="adj2" fmla="val 5009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9 Proceso alternativo"/>
          <p:cNvSpPr/>
          <p:nvPr/>
        </p:nvSpPr>
        <p:spPr>
          <a:xfrm>
            <a:off x="5508720" y="3284640"/>
            <a:ext cx="2448000" cy="865080"/>
          </a:xfrm>
          <a:prstGeom prst="flowChartAlternate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Vender a través de la Red(Blogs y grupos de negocios electrónicos</a:t>
            </a:r>
            <a:r>
              <a:rPr b="0" lang="es-MX" sz="1800" spc="-1" strike="noStrike">
                <a:solidFill>
                  <a:srgbClr val="ffffff"/>
                </a:solidFill>
                <a:latin typeface="Lucida Sans Unicod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10 Proceso alternativo"/>
          <p:cNvSpPr/>
          <p:nvPr/>
        </p:nvSpPr>
        <p:spPr>
          <a:xfrm>
            <a:off x="1116000" y="4508640"/>
            <a:ext cx="1800360" cy="1008000"/>
          </a:xfrm>
          <a:prstGeom prst="flowChartAlternate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Lucida Sans Unicode"/>
              </a:rPr>
              <a:t>Advertainmen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11 Flecha derecha"/>
          <p:cNvSpPr/>
          <p:nvPr/>
        </p:nvSpPr>
        <p:spPr>
          <a:xfrm>
            <a:off x="3348000" y="4581360"/>
            <a:ext cx="1871640" cy="6480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12 Proceso alternativo"/>
          <p:cNvSpPr/>
          <p:nvPr/>
        </p:nvSpPr>
        <p:spPr>
          <a:xfrm>
            <a:off x="5651640" y="4653000"/>
            <a:ext cx="2305080" cy="720720"/>
          </a:xfrm>
          <a:prstGeom prst="flowChartAlternate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Sans Unicode"/>
              </a:rPr>
              <a:t>Publicidad y entretenimient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250560" y="1052640"/>
            <a:ext cx="843588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c00000"/>
                </a:solidFill>
                <a:latin typeface="Lucida Sans Unicode"/>
              </a:rPr>
              <a:t>Kosiuko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ff0000"/>
                </a:solidFill>
                <a:latin typeface="Lucida Sans Unicode"/>
              </a:rPr>
              <a:t>Sedal….”la vida te despeina</a:t>
            </a:r>
            <a:r>
              <a:rPr b="1" i="1" lang="es-AR" sz="2700" spc="-1" strike="noStrike">
                <a:solidFill>
                  <a:srgbClr val="ff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c07b8a"/>
                </a:solidFill>
                <a:latin typeface="Lucida Sans Unicode"/>
              </a:rPr>
              <a:t>Federal Expr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b54a10"/>
                </a:solidFill>
                <a:latin typeface="Lucida Sans Unicode"/>
              </a:rPr>
              <a:t>Domino´s Pizza, Red Bull y las zapatillas Va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2 Título" descr=""/>
          <p:cNvPicPr/>
          <p:nvPr/>
        </p:nvPicPr>
        <p:blipFill>
          <a:blip r:embed="rId1"/>
          <a:stretch/>
        </p:blipFill>
        <p:spPr>
          <a:xfrm>
            <a:off x="901800" y="0"/>
            <a:ext cx="8242200" cy="1225440"/>
          </a:xfrm>
          <a:prstGeom prst="rect">
            <a:avLst/>
          </a:prstGeom>
          <a:ln w="0">
            <a:noFill/>
          </a:ln>
        </p:spPr>
      </p:pic>
      <p:pic>
        <p:nvPicPr>
          <p:cNvPr id="414" name="Imagen 19" descr="logo_kosiuko"/>
          <p:cNvPicPr/>
          <p:nvPr/>
        </p:nvPicPr>
        <p:blipFill>
          <a:blip r:embed="rId2"/>
          <a:stretch/>
        </p:blipFill>
        <p:spPr>
          <a:xfrm>
            <a:off x="2124000" y="1125360"/>
            <a:ext cx="647640" cy="648000"/>
          </a:xfrm>
          <a:prstGeom prst="rect">
            <a:avLst/>
          </a:prstGeom>
          <a:ln w="38160">
            <a:solidFill>
              <a:srgbClr val="bfbfbf"/>
            </a:solidFill>
            <a:miter/>
          </a:ln>
        </p:spPr>
      </p:pic>
      <p:pic>
        <p:nvPicPr>
          <p:cNvPr id="415" name="Imagen 20" descr="portada_libro_sedal"/>
          <p:cNvPicPr/>
          <p:nvPr/>
        </p:nvPicPr>
        <p:blipFill>
          <a:blip r:embed="rId3"/>
          <a:stretch/>
        </p:blipFill>
        <p:spPr>
          <a:xfrm>
            <a:off x="5724360" y="1916280"/>
            <a:ext cx="1393920" cy="1952280"/>
          </a:xfrm>
          <a:prstGeom prst="rect">
            <a:avLst/>
          </a:prstGeom>
          <a:ln w="38160">
            <a:solidFill>
              <a:srgbClr val="bfbfbf"/>
            </a:solidFill>
            <a:miter/>
          </a:ln>
        </p:spPr>
      </p:pic>
      <p:pic>
        <p:nvPicPr>
          <p:cNvPr id="416" name="Imagen 1" descr="FedEx Logo"/>
          <p:cNvPicPr/>
          <p:nvPr/>
        </p:nvPicPr>
        <p:blipFill>
          <a:blip r:embed="rId4"/>
          <a:stretch/>
        </p:blipFill>
        <p:spPr>
          <a:xfrm>
            <a:off x="3419640" y="3860640"/>
            <a:ext cx="1401480" cy="594000"/>
          </a:xfrm>
          <a:prstGeom prst="rect">
            <a:avLst/>
          </a:prstGeom>
          <a:ln w="0">
            <a:noFill/>
          </a:ln>
        </p:spPr>
      </p:pic>
      <p:pic>
        <p:nvPicPr>
          <p:cNvPr id="417" name="Imagen 7" descr="Dominos Pizza"/>
          <p:cNvPicPr/>
          <p:nvPr/>
        </p:nvPicPr>
        <p:blipFill>
          <a:blip r:embed="rId5"/>
          <a:stretch/>
        </p:blipFill>
        <p:spPr>
          <a:xfrm>
            <a:off x="2627280" y="5373720"/>
            <a:ext cx="1247760" cy="1247760"/>
          </a:xfrm>
          <a:prstGeom prst="rect">
            <a:avLst/>
          </a:prstGeom>
          <a:ln w="0">
            <a:noFill/>
          </a:ln>
        </p:spPr>
      </p:pic>
      <p:pic>
        <p:nvPicPr>
          <p:cNvPr id="418" name="Imagen 4" descr="Redbull-can with water drops.jpg"/>
          <p:cNvPicPr/>
          <p:nvPr/>
        </p:nvPicPr>
        <p:blipFill>
          <a:blip r:embed="rId6"/>
          <a:stretch/>
        </p:blipFill>
        <p:spPr>
          <a:xfrm>
            <a:off x="4427640" y="5300640"/>
            <a:ext cx="819000" cy="1235160"/>
          </a:xfrm>
          <a:prstGeom prst="rect">
            <a:avLst/>
          </a:prstGeom>
          <a:ln w="38160">
            <a:solidFill>
              <a:srgbClr val="bfbf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20" name="2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1" name="3 Proceso"/>
          <p:cNvSpPr/>
          <p:nvPr/>
        </p:nvSpPr>
        <p:spPr>
          <a:xfrm>
            <a:off x="2843280" y="1989000"/>
            <a:ext cx="3527280" cy="1152720"/>
          </a:xfrm>
          <a:prstGeom prst="flowChart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Sans Unicode"/>
              </a:rPr>
              <a:t>HERRAMIENTA DE MARKETING Y COMUNICACIÓ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4 Flecha abajo"/>
          <p:cNvSpPr/>
          <p:nvPr/>
        </p:nvSpPr>
        <p:spPr>
          <a:xfrm>
            <a:off x="4140360" y="3429000"/>
            <a:ext cx="934920" cy="115236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5 Proceso alternativo"/>
          <p:cNvSpPr/>
          <p:nvPr/>
        </p:nvSpPr>
        <p:spPr>
          <a:xfrm>
            <a:off x="2916360" y="4797360"/>
            <a:ext cx="3671640" cy="1008000"/>
          </a:xfrm>
          <a:prstGeom prst="flowChartAlternate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Sans Unicode"/>
              </a:rPr>
              <a:t>MARCA-IDEA-ORGANIZACIÓ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2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3 Proceso"/>
          <p:cNvSpPr/>
          <p:nvPr/>
        </p:nvSpPr>
        <p:spPr>
          <a:xfrm>
            <a:off x="3276720" y="1700280"/>
            <a:ext cx="2879640" cy="1368360"/>
          </a:xfrm>
          <a:prstGeom prst="flowChart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Sans Unicode"/>
              </a:rPr>
              <a:t>LLEGAR AL PÚBLICO OBJETIVO A TRAVÉS DE LOS VIDEOJUEGO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4 Flecha abajo"/>
          <p:cNvSpPr/>
          <p:nvPr/>
        </p:nvSpPr>
        <p:spPr>
          <a:xfrm>
            <a:off x="3780000" y="3284640"/>
            <a:ext cx="1726920" cy="100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5 Proceso alternativo"/>
          <p:cNvSpPr/>
          <p:nvPr/>
        </p:nvSpPr>
        <p:spPr>
          <a:xfrm>
            <a:off x="2195640" y="4508640"/>
            <a:ext cx="5257800" cy="863640"/>
          </a:xfrm>
          <a:prstGeom prst="flowChartAlternate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Atraer la atención a través de una estrategia de valor agregado consistente en un entretenimiento audiovisual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464646"/>
                </a:solidFill>
                <a:latin typeface="Lucida Sans Unicode"/>
              </a:rPr>
              <a:t>                 </a:t>
            </a:r>
            <a:r>
              <a:rPr b="1" lang="es-ES" sz="4100" spc="-1" strike="noStrike">
                <a:solidFill>
                  <a:srgbClr val="da1f28"/>
                </a:solidFill>
                <a:latin typeface="Lucida Sans Unicode"/>
              </a:rPr>
              <a:t>EFECTOS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51832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"/>
          <p:cNvSpPr/>
          <p:nvPr/>
        </p:nvSpPr>
        <p:spPr>
          <a:xfrm>
            <a:off x="1187280" y="1844640"/>
            <a:ext cx="2521080" cy="9367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fuerzo de la Imagen de Marc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"/>
          <p:cNvSpPr/>
          <p:nvPr/>
        </p:nvSpPr>
        <p:spPr>
          <a:xfrm>
            <a:off x="1187280" y="2997360"/>
            <a:ext cx="2592720" cy="7920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gmentación Directa del Público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"/>
          <p:cNvSpPr/>
          <p:nvPr/>
        </p:nvSpPr>
        <p:spPr>
          <a:xfrm>
            <a:off x="1187280" y="4076640"/>
            <a:ext cx="2521080" cy="8650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to índice de recuerdo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"/>
          <p:cNvSpPr/>
          <p:nvPr/>
        </p:nvSpPr>
        <p:spPr>
          <a:xfrm>
            <a:off x="5003640" y="1844640"/>
            <a:ext cx="2448000" cy="8636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strucción de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alogo con los usuario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"/>
          <p:cNvSpPr/>
          <p:nvPr/>
        </p:nvSpPr>
        <p:spPr>
          <a:xfrm>
            <a:off x="5003640" y="2997360"/>
            <a:ext cx="2448000" cy="8632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ran Capacidad para l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ransmisión e los atributos de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ducto y de la marc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"/>
          <p:cNvSpPr/>
          <p:nvPr/>
        </p:nvSpPr>
        <p:spPr>
          <a:xfrm>
            <a:off x="5076720" y="4149720"/>
            <a:ext cx="2374920" cy="7920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lación costo/efectivida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ucho mayor que en otros medio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"/>
          <p:cNvSpPr/>
          <p:nvPr/>
        </p:nvSpPr>
        <p:spPr>
          <a:xfrm>
            <a:off x="324000" y="2133720"/>
            <a:ext cx="504720" cy="3240000"/>
          </a:xfrm>
          <a:custGeom>
            <a:avLst/>
            <a:gdLst>
              <a:gd name="textAreaLeft" fmla="*/ 67320 w 504720"/>
              <a:gd name="textAreaRight" fmla="*/ 437400 w 504720"/>
              <a:gd name="textAreaTop" fmla="*/ 567000 h 3240000"/>
              <a:gd name="textAreaBottom" fmla="*/ 234900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"/>
          <p:cNvSpPr/>
          <p:nvPr/>
        </p:nvSpPr>
        <p:spPr>
          <a:xfrm>
            <a:off x="7885080" y="1989000"/>
            <a:ext cx="432000" cy="3456000"/>
          </a:xfrm>
          <a:custGeom>
            <a:avLst/>
            <a:gdLst>
              <a:gd name="textAreaLeft" fmla="*/ 57600 w 432000"/>
              <a:gd name="textAreaRight" fmla="*/ 374400 w 432000"/>
              <a:gd name="textAreaTop" fmla="*/ 604800 h 3456000"/>
              <a:gd name="textAreaBottom" fmla="*/ 25056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da1f28"/>
                </a:solidFill>
                <a:latin typeface="Lucida Sans Unicode"/>
              </a:rPr>
              <a:t>ADVERGAMING VS PUBLICIDAD IN GAME</a:t>
            </a:r>
            <a:endParaRPr b="1" lang="en-US" sz="2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"/>
          <p:cNvSpPr/>
          <p:nvPr/>
        </p:nvSpPr>
        <p:spPr>
          <a:xfrm>
            <a:off x="900000" y="1989000"/>
            <a:ext cx="2303640" cy="86364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vergamin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"/>
          <p:cNvSpPr/>
          <p:nvPr/>
        </p:nvSpPr>
        <p:spPr>
          <a:xfrm>
            <a:off x="3708360" y="2060640"/>
            <a:ext cx="1871640" cy="863640"/>
          </a:xfrm>
          <a:prstGeom prst="rightArrow">
            <a:avLst>
              <a:gd name="adj1" fmla="val 50000"/>
              <a:gd name="adj2" fmla="val 54179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"/>
          <p:cNvSpPr/>
          <p:nvPr/>
        </p:nvSpPr>
        <p:spPr>
          <a:xfrm>
            <a:off x="5940360" y="1989000"/>
            <a:ext cx="2303640" cy="86364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idad Dinámic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"/>
          <p:cNvSpPr/>
          <p:nvPr/>
        </p:nvSpPr>
        <p:spPr>
          <a:xfrm>
            <a:off x="900000" y="3860640"/>
            <a:ext cx="2303640" cy="93672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idad en Video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"/>
          <p:cNvSpPr/>
          <p:nvPr/>
        </p:nvSpPr>
        <p:spPr>
          <a:xfrm>
            <a:off x="3851280" y="3860640"/>
            <a:ext cx="1728720" cy="1008360"/>
          </a:xfrm>
          <a:prstGeom prst="rightArrow">
            <a:avLst>
              <a:gd name="adj1" fmla="val 50000"/>
              <a:gd name="adj2" fmla="val 42860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"/>
          <p:cNvSpPr/>
          <p:nvPr/>
        </p:nvSpPr>
        <p:spPr>
          <a:xfrm>
            <a:off x="6084720" y="3933720"/>
            <a:ext cx="2232360" cy="86364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idad Estátic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21:03:45Z</dcterms:created>
  <dc:creator>Gabriela</dc:creator>
  <dc:description/>
  <dc:language>en-US</dc:language>
  <cp:lastModifiedBy>gabriela.luchetti</cp:lastModifiedBy>
  <dcterms:modified xsi:type="dcterms:W3CDTF">2011-05-19T15:52:51Z</dcterms:modified>
  <cp:revision>16</cp:revision>
  <dc:subject/>
  <dc:title>Diapositiva 1</dc:title>
</cp:coreProperties>
</file>