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E41-18D8-43DA-ACE8-0F016BF7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5AA-0D50-42FB-BCD0-80D2A395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52E-8CFE-4E6A-8CEB-5526B747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F4D-0CF5-4F8F-9628-33249BBD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23D-0464-4499-8F99-B0189466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418-2929-410F-93F2-60205814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F21-653B-4E07-9866-C90F95D9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AE7-BB5D-4485-8A91-2237AF05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B19-8804-4997-8322-DCE0B212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D76-39A5-479C-A57E-2D673B52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6AE-39F1-4BFF-8D0E-C9E7C2CE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CF9-EE8C-4768-80CF-318A98F2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AD0D-0C32-4E4D-A970-84EA8114125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01000" cy="914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X Congreso Internacional de Administración </a:t>
            </a:r>
            <a:br>
              <a:rPr sz="34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001000" cy="4572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ción de: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lang="es-E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La cápsula del tiemp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l laboratorio del 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ensamiento estratégico</a:t>
            </a:r>
            <a:r>
              <a:rPr b="0" i="1" lang="es-ES" sz="4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266720" y="3581280"/>
            <a:ext cx="838440" cy="1067040"/>
          </a:xfrm>
          <a:prstGeom prst="flowChartManualOpera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3733920"/>
            <a:ext cx="228600" cy="45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2895480"/>
            <a:ext cx="358920" cy="685800"/>
          </a:xfrm>
          <a:prstGeom prst="triangle">
            <a:avLst>
              <a:gd name="adj" fmla="val 4606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3657600"/>
            <a:ext cx="1676520" cy="838080"/>
          </a:xfrm>
          <a:prstGeom prst="rightArrow">
            <a:avLst>
              <a:gd name="adj1" fmla="val 53407"/>
              <a:gd name="adj2" fmla="val 517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3581280"/>
            <a:ext cx="1828800" cy="83844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620120" cy="7621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. La economía Global estará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0880" y="1523880"/>
          <a:ext cx="8305920" cy="447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30592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-CABA - X Congreso Internacional de Administració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19760" cy="1067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2. La economía Argentina estará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1600200"/>
          <a:ext cx="8305920" cy="43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305920" cy="43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-CABA - X Congreso Internacional de Administració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543800" cy="12193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3. El Management Profesional, como recurso estratégico para la gestión, estará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839960"/>
          <a:ext cx="8229600" cy="425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39960"/>
                    <a:ext cx="822960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-CABA - X Congreso Internacional de Administració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4. Los valores personal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erán reconocidos d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80880" y="1676520"/>
          <a:ext cx="830592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0592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-CABA - X Congreso Internacional de Administració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62012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 y ahora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Cómo estaremos en 201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Lo invitamos a participar con su pronóstico depositando el formulario en la </a:t>
            </a:r>
            <a:br>
              <a:rPr sz="3200"/>
            </a:b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ápsula del Tiempo 2011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 20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22096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chas gracias 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-CABA - X Congreso Internacional de Administración</a:t>
            </a:r>
          </a:p>
        </p:txBody>
      </p:sp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2819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X Congreso Internacional de Administración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y 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 Congreso de Administración del Mercosur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AMERC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alento, Imaginación y Valores</a:t>
            </a:r>
            <a:r>
              <a:rPr b="0" lang="es-AR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 gestión y las personas en tiempos difíc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9 al 11 Sept de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696080" cy="3657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ápsula del Tiempo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009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201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ados de la Encue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4952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A partir de su visión actual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¿ qué situación pronostica Ud.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ara mediados de 2011 ?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s-ES" sz="4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i="1" lang="es-ES" sz="4000" spc="-1" strike="noStrike">
                <a:solidFill>
                  <a:srgbClr val="000000"/>
                </a:solidFill>
                <a:latin typeface="Arial Narrow"/>
              </a:rPr>
              <a:t>Manifieste </a:t>
            </a:r>
            <a:r>
              <a:rPr b="0" i="1" lang="es-ES" sz="4000" spc="-1" strike="noStrike" u="sng">
                <a:solidFill>
                  <a:srgbClr val="000000"/>
                </a:solidFill>
                <a:uFillTx/>
                <a:latin typeface="Arial Narrow"/>
              </a:rPr>
              <a:t>su pronóstico</a:t>
            </a:r>
            <a:r>
              <a:rPr b="0" i="1" lang="es-ES" sz="4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i="1" lang="es-ES" sz="4000" spc="-1" strike="noStrike" u="sng">
                <a:solidFill>
                  <a:srgbClr val="000000"/>
                </a:solidFill>
                <a:uFillTx/>
                <a:latin typeface="Arial Narrow"/>
              </a:rPr>
              <a:t>no</a:t>
            </a:r>
            <a:r>
              <a:rPr b="0" i="1" lang="es-ES" sz="4000" spc="-1" strike="noStrike" u="sng">
                <a:solidFill>
                  <a:srgbClr val="000000"/>
                </a:solidFill>
                <a:uFillTx/>
                <a:latin typeface="Arial Narrow"/>
              </a:rPr>
              <a:t> su deseo</a:t>
            </a:r>
            <a:r>
              <a:rPr b="0" lang="es-ES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-CABA - X Congreso Internacional de Administració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28600" y="304920"/>
            <a:ext cx="8686440" cy="6019200"/>
            <a:chOff x="228600" y="304920"/>
            <a:chExt cx="8686440" cy="6019200"/>
          </a:xfrm>
        </p:grpSpPr>
        <p:grpSp>
          <p:nvGrpSpPr>
            <p:cNvPr id="53" name=""/>
            <p:cNvGrpSpPr/>
            <p:nvPr/>
          </p:nvGrpSpPr>
          <p:grpSpPr>
            <a:xfrm>
              <a:off x="234720" y="309960"/>
              <a:ext cx="8673120" cy="6007680"/>
              <a:chOff x="234720" y="309960"/>
              <a:chExt cx="8673120" cy="600768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234720" y="309960"/>
                <a:ext cx="5393520" cy="1472760"/>
                <a:chOff x="234720" y="309960"/>
                <a:chExt cx="5393520" cy="147276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34720" y="309960"/>
                  <a:ext cx="5393520" cy="1472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" name=""/>
                <p:cNvGrpSpPr/>
                <p:nvPr/>
              </p:nvGrpSpPr>
              <p:grpSpPr>
                <a:xfrm>
                  <a:off x="234720" y="309960"/>
                  <a:ext cx="5393160" cy="1472400"/>
                  <a:chOff x="234720" y="309960"/>
                  <a:chExt cx="5393160" cy="147240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>
                    <a:off x="326160" y="309960"/>
                    <a:ext cx="5209920" cy="147240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 Narrow"/>
                      </a:rPr>
                      <a:t>A partir de su visión actual </a:t>
                    </a:r>
                    <a:br>
                      <a:rPr sz="2800"/>
                    </a:b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 Narrow"/>
                      </a:rPr>
                      <a:t>¿ qué situación pronostica Ud. </a:t>
                    </a:r>
                    <a:br>
                      <a:rPr sz="2800"/>
                    </a:br>
                    <a:r>
                      <a:rPr b="0" lang="en-US" sz="2800" spc="-1" strike="noStrike">
                        <a:solidFill>
                          <a:srgbClr val="000000"/>
                        </a:solidFill>
                        <a:latin typeface="Arial Narrow"/>
                      </a:rPr>
                      <a:t>para mediados de 2011 ?</a:t>
                    </a:r>
                    <a:r>
                      <a:rPr b="0" lang="en-US" sz="2200" spc="-1" strike="noStrike">
                        <a:solidFill>
                          <a:srgbClr val="000000"/>
                        </a:solidFill>
                        <a:latin typeface="Verdana"/>
                      </a:rPr>
                      <a:t>  </a:t>
                    </a:r>
                    <a:br>
                      <a:rPr sz="2200"/>
                    </a:br>
                    <a:r>
                      <a:rPr b="0" lang="en-US" sz="2600" spc="-1" strike="noStrike">
                        <a:solidFill>
                          <a:srgbClr val="003366"/>
                        </a:solidFill>
                        <a:latin typeface="Arial Narrow"/>
                      </a:rPr>
                      <a:t>(</a:t>
                    </a:r>
                    <a:r>
                      <a:rPr b="0" i="1" lang="en-US" sz="2600" spc="-1" strike="noStrike">
                        <a:solidFill>
                          <a:srgbClr val="003366"/>
                        </a:solidFill>
                        <a:latin typeface="Arial Narrow"/>
                      </a:rPr>
                      <a:t>Manifieste </a:t>
                    </a:r>
                    <a:r>
                      <a:rPr b="0" i="1" lang="en-US" sz="2600" spc="-1" strike="noStrike" u="sng">
                        <a:solidFill>
                          <a:srgbClr val="003366"/>
                        </a:solidFill>
                        <a:uFillTx/>
                        <a:latin typeface="Arial Narrow"/>
                      </a:rPr>
                      <a:t>su pronóstico</a:t>
                    </a:r>
                    <a:r>
                      <a:rPr b="0" i="1" lang="en-US" sz="2600" spc="-1" strike="noStrike">
                        <a:solidFill>
                          <a:srgbClr val="003366"/>
                        </a:solidFill>
                        <a:latin typeface="Arial Narrow"/>
                      </a:rPr>
                      <a:t>, </a:t>
                    </a:r>
                    <a:r>
                      <a:rPr b="1" i="1" lang="en-US" sz="2600" spc="-1" strike="noStrike" u="sng">
                        <a:solidFill>
                          <a:srgbClr val="003366"/>
                        </a:solidFill>
                        <a:uFillTx/>
                        <a:latin typeface="Arial Narrow"/>
                      </a:rPr>
                      <a:t>no</a:t>
                    </a:r>
                    <a:r>
                      <a:rPr b="0" i="1" lang="en-US" sz="2600" spc="-1" strike="noStrike" u="sng">
                        <a:solidFill>
                          <a:srgbClr val="003366"/>
                        </a:solidFill>
                        <a:uFillTx/>
                        <a:latin typeface="Arial Narrow"/>
                      </a:rPr>
                      <a:t> su deseo</a:t>
                    </a:r>
                    <a:r>
                      <a:rPr b="0" lang="en-US" sz="2600" spc="-1" strike="noStrike">
                        <a:solidFill>
                          <a:srgbClr val="003366"/>
                        </a:solidFill>
                        <a:latin typeface="Arial Narrow"/>
                      </a:rPr>
                      <a:t>)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34720" y="309960"/>
                    <a:ext cx="5393160" cy="14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5628600" y="309960"/>
                <a:ext cx="1092960" cy="1472760"/>
                <a:chOff x="5628600" y="309960"/>
                <a:chExt cx="1092960" cy="14727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5628600" y="309960"/>
                  <a:ext cx="1092960" cy="1472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" name=""/>
                <p:cNvGrpSpPr/>
                <p:nvPr/>
              </p:nvGrpSpPr>
              <p:grpSpPr>
                <a:xfrm>
                  <a:off x="5628600" y="309960"/>
                  <a:ext cx="1092600" cy="1472400"/>
                  <a:chOff x="5628600" y="309960"/>
                  <a:chExt cx="1092600" cy="1472400"/>
                </a:xfrm>
              </p:grpSpPr>
              <p:sp>
                <p:nvSpPr>
                  <p:cNvPr id="62" name=""/>
                  <p:cNvSpPr/>
                  <p:nvPr/>
                </p:nvSpPr>
                <p:spPr>
                  <a:xfrm>
                    <a:off x="5720040" y="309960"/>
                    <a:ext cx="909360" cy="147240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Verdana"/>
                      </a:rPr>
                      <a:t>Mej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5628600" y="309960"/>
                    <a:ext cx="1092600" cy="14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" name=""/>
              <p:cNvGrpSpPr/>
              <p:nvPr/>
            </p:nvGrpSpPr>
            <p:grpSpPr>
              <a:xfrm>
                <a:off x="6721920" y="309960"/>
                <a:ext cx="1092240" cy="1472760"/>
                <a:chOff x="6721920" y="309960"/>
                <a:chExt cx="1092240" cy="14727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721920" y="309960"/>
                  <a:ext cx="1092240" cy="1472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" name=""/>
                <p:cNvGrpSpPr/>
                <p:nvPr/>
              </p:nvGrpSpPr>
              <p:grpSpPr>
                <a:xfrm>
                  <a:off x="6721920" y="309960"/>
                  <a:ext cx="1091880" cy="1472400"/>
                  <a:chOff x="6721920" y="309960"/>
                  <a:chExt cx="1091880" cy="1472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6813000" y="309960"/>
                    <a:ext cx="909720" cy="147240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spcBef>
                        <a:spcPts val="400"/>
                      </a:spcBef>
                      <a:spcAft>
                        <a:spcPts val="4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Verdana"/>
                      </a:rPr>
                      <a:t>Igua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721920" y="309960"/>
                    <a:ext cx="1091880" cy="14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" name=""/>
              <p:cNvGrpSpPr/>
              <p:nvPr/>
            </p:nvGrpSpPr>
            <p:grpSpPr>
              <a:xfrm>
                <a:off x="7814880" y="309960"/>
                <a:ext cx="1092960" cy="1472760"/>
                <a:chOff x="7814880" y="309960"/>
                <a:chExt cx="1092960" cy="14727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7814880" y="309960"/>
                  <a:ext cx="1092960" cy="1472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" name=""/>
                <p:cNvGrpSpPr/>
                <p:nvPr/>
              </p:nvGrpSpPr>
              <p:grpSpPr>
                <a:xfrm>
                  <a:off x="7814880" y="309960"/>
                  <a:ext cx="1092600" cy="1472400"/>
                  <a:chOff x="7814880" y="309960"/>
                  <a:chExt cx="1092600" cy="147240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>
                    <a:off x="7906320" y="309960"/>
                    <a:ext cx="909360" cy="147240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Verdana"/>
                      </a:rPr>
                      <a:t>Peo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814880" y="309960"/>
                    <a:ext cx="1092600" cy="14724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" name=""/>
              <p:cNvGrpSpPr/>
              <p:nvPr/>
            </p:nvGrpSpPr>
            <p:grpSpPr>
              <a:xfrm>
                <a:off x="234720" y="1783080"/>
                <a:ext cx="5393520" cy="1090080"/>
                <a:chOff x="234720" y="1783080"/>
                <a:chExt cx="5393520" cy="1090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26160" y="1783080"/>
                  <a:ext cx="521028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2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 Narrow"/>
                    </a:rPr>
                    <a:t>LA ECONOMÍA GLOBAL ESTARÁ: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34720" y="1783080"/>
                  <a:ext cx="539352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628600" y="1783080"/>
                <a:ext cx="1092960" cy="1090080"/>
                <a:chOff x="5628600" y="1783080"/>
                <a:chExt cx="1092960" cy="10900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5720040" y="1783080"/>
                  <a:ext cx="90972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6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628600" y="1783080"/>
                  <a:ext cx="109296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721920" y="1783080"/>
                <a:ext cx="1092240" cy="1090080"/>
                <a:chOff x="6721920" y="1783080"/>
                <a:chExt cx="1092240" cy="10900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813000" y="1783080"/>
                  <a:ext cx="91008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29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721920" y="1783080"/>
                  <a:ext cx="109224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7814880" y="1783080"/>
                <a:ext cx="1092960" cy="1090080"/>
                <a:chOff x="7814880" y="1783080"/>
                <a:chExt cx="1092960" cy="1090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7906320" y="1783080"/>
                  <a:ext cx="90972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8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814880" y="1783080"/>
                  <a:ext cx="109296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34720" y="2873880"/>
                <a:ext cx="5393520" cy="1090080"/>
                <a:chOff x="234720" y="2873880"/>
                <a:chExt cx="5393520" cy="1090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26160" y="2873880"/>
                  <a:ext cx="521028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 Narrow"/>
                    </a:rPr>
                    <a:t>LA ECONOMÍA ARGENTINA ESTARÁ: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34720" y="2873880"/>
                  <a:ext cx="539352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628600" y="2873880"/>
                <a:ext cx="1092960" cy="1090080"/>
                <a:chOff x="5628600" y="2873880"/>
                <a:chExt cx="1092960" cy="1090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720040" y="2873880"/>
                  <a:ext cx="90972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3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628600" y="2873880"/>
                  <a:ext cx="109296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6721920" y="2873880"/>
                <a:ext cx="1092240" cy="1090080"/>
                <a:chOff x="6721920" y="2873880"/>
                <a:chExt cx="1092240" cy="10900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813000" y="2873880"/>
                  <a:ext cx="91008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4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721920" y="2873880"/>
                  <a:ext cx="109224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7814880" y="2873880"/>
                <a:ext cx="1092960" cy="1090080"/>
                <a:chOff x="7814880" y="2873880"/>
                <a:chExt cx="1092960" cy="10900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7906320" y="2873880"/>
                  <a:ext cx="90972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27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814880" y="2873880"/>
                  <a:ext cx="109296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234720" y="3964680"/>
                <a:ext cx="5393520" cy="1262520"/>
                <a:chOff x="234720" y="3964680"/>
                <a:chExt cx="5393520" cy="12625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26160" y="3964680"/>
                  <a:ext cx="521028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spcAft>
                      <a:spcPts val="4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spcBef>
                      <a:spcPts val="649"/>
                    </a:spcBef>
                    <a:spcAft>
                      <a:spcPts val="64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 Narrow"/>
                    </a:rPr>
                    <a:t>EL MANAGEMENT PROFESIONAL, COMO RECURSO ESTRATÉGICO PARA LA GESTIÓN, ESTARÁ: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34720" y="3964680"/>
                  <a:ext cx="5393520" cy="12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5628600" y="3964680"/>
                <a:ext cx="1092960" cy="1262520"/>
                <a:chOff x="5628600" y="3964680"/>
                <a:chExt cx="1092960" cy="1262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720040" y="3964680"/>
                  <a:ext cx="90972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7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28600" y="3964680"/>
                  <a:ext cx="1092960" cy="12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721920" y="3964680"/>
                <a:ext cx="1092240" cy="1262520"/>
                <a:chOff x="6721920" y="3964680"/>
                <a:chExt cx="1092240" cy="12625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813000" y="3964680"/>
                  <a:ext cx="91008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24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21920" y="3964680"/>
                  <a:ext cx="1092240" cy="12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7814880" y="3964680"/>
                <a:ext cx="1092960" cy="1262520"/>
                <a:chOff x="7814880" y="3964680"/>
                <a:chExt cx="1092960" cy="12625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906320" y="3964680"/>
                  <a:ext cx="90972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4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14880" y="3964680"/>
                  <a:ext cx="1092960" cy="126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4720" y="5227560"/>
                <a:ext cx="5393520" cy="1090080"/>
                <a:chOff x="234720" y="5227560"/>
                <a:chExt cx="5393520" cy="10900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6160" y="5227560"/>
                  <a:ext cx="521028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spcAft>
                      <a:spcPts val="49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49"/>
                    </a:spcBef>
                    <a:spcAft>
                      <a:spcPts val="649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600" spc="-1" strike="noStrike">
                      <a:solidFill>
                        <a:srgbClr val="000000"/>
                      </a:solidFill>
                      <a:latin typeface="Arial Narrow"/>
                    </a:rPr>
                    <a:t>LOS VALORES PERSONALES, SERÁN RECONOCIDOS DE MANERA:</a:t>
                  </a: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4720" y="5227560"/>
                  <a:ext cx="539352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628600" y="5227560"/>
                <a:ext cx="1092960" cy="1090080"/>
                <a:chOff x="5628600" y="5227560"/>
                <a:chExt cx="1092960" cy="10900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720040" y="5227560"/>
                  <a:ext cx="90972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49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628600" y="5227560"/>
                  <a:ext cx="109296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6721920" y="5227560"/>
                <a:ext cx="1092240" cy="1090080"/>
                <a:chOff x="6721920" y="5227560"/>
                <a:chExt cx="1092240" cy="10900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813000" y="5227560"/>
                  <a:ext cx="91008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39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721920" y="5227560"/>
                  <a:ext cx="109224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7814880" y="5227560"/>
                <a:ext cx="1092960" cy="1090080"/>
                <a:chOff x="7814880" y="5227560"/>
                <a:chExt cx="1092960" cy="10900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906320" y="5227560"/>
                  <a:ext cx="909720" cy="109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1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%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814880" y="5227560"/>
                  <a:ext cx="1092960" cy="109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" name=""/>
            <p:cNvSpPr/>
            <p:nvPr/>
          </p:nvSpPr>
          <p:spPr>
            <a:xfrm>
              <a:off x="228600" y="304920"/>
              <a:ext cx="8686440" cy="601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-CABA - X Congreso Internacional de Administració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09480" y="382680"/>
          <a:ext cx="7925040" cy="57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2680"/>
                    <a:ext cx="7925040" cy="57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-CABA - X Congreso Internacional de Administració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ronóstico de situación 2009 - 2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28600" y="990720"/>
          <a:ext cx="861048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6104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-CABA - X Congreso Internacional de Administració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ronóstico de situación 2009 - 2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523880"/>
          <a:ext cx="830592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3059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-CABA - X Congreso Internacional de Administració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685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ronóstico de situación 2009 - 2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523880"/>
          <a:ext cx="8534520" cy="447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534520" cy="44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-CABA - X Congreso Internacional de Administració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6T20:44:00Z</dcterms:created>
  <dc:creator>Administrador</dc:creator>
  <dc:description/>
  <dc:language>en-US</dc:language>
  <cp:lastModifiedBy>Dr. Hernán P. Castillejo</cp:lastModifiedBy>
  <dcterms:modified xsi:type="dcterms:W3CDTF">2011-05-23T14:18:26Z</dcterms:modified>
  <cp:revision>55</cp:revision>
  <dc:subject/>
  <dc:title>IX Congreso Internacional de Administración  Conamerco 2011</dc:title>
</cp:coreProperties>
</file>