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</a:rPr>
              <a:t>Click to move the slide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3328-1958-48B3-AEA7-61DE4DA93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7938-5C20-417E-B3DD-CF2D1E5E5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460D-D159-41CC-BE77-00AAA723822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3BDE3-DCA7-43A2-8BA5-D429BB7079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ADE4-B7B7-4BCD-90F4-A581FA51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8F3C2D-F84E-4685-B31B-10843B74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257866-5B16-46A3-AA15-762513DA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6840" y="142920"/>
            <a:ext cx="6829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AAC6EF-EFCE-412C-B2D3-2DAA50E2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244A50-748B-4845-BA8B-4C861817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B97EEB-6A38-4223-AE73-91FB0BB2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D5F39F-4047-4257-9A14-45263202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CA0C73-0E7F-4F1B-9376-A8A7A027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F7F7EE-7289-40DC-B5E4-A3E7D906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7C54B7-4F46-4692-B848-EC4253D2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7635E-E18D-4E8B-900A-B08A29FF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51AE-81E2-4DCE-901F-41CDC3FD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4EBED-D595-48E2-A925-1C87C91F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A7AE5E-4E74-49FE-927D-C5D8A4D8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71F19-3B0E-4B3D-9CAC-82626FBF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217996-F760-417E-8C1D-2D3162B3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6840" y="142920"/>
            <a:ext cx="6829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278BB-E2E2-4161-9F19-EADDD767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0B108-D6B1-4BBB-8248-0CDE5880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1840E-AA51-421C-9750-2AA72EB9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642AF-901D-4C94-BDC6-7E26DF8C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CD367-9522-47E0-A722-474706EB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5AF96-C85B-4120-8E75-8AC086AC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D97EB-C4A6-4ED3-9E0A-670B84711D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45EA1-80F0-4BDE-A68C-F310A30F9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765913-CAD5-4C51-85F9-BE3575A1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3C4B8-AB93-4CEB-ABEA-066A1B2E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975A9-561D-4695-BB56-1701F1BA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5E0CE-1CEA-4CF0-A493-7E46C0A5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14BAB-4C39-4350-B0D7-1871D1B2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6840" y="142920"/>
            <a:ext cx="6829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B51D47-C671-4D7B-ACE5-9840E066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48B3A0-AAF2-4E43-AC80-F1AB1C86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2AAD9-3FDD-4082-BFD6-61699D0D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96809-D946-4559-9F4D-9A5965D5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057E2-24D2-4E04-ADCD-2BD19A25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E362E4-D8EA-4129-B75B-189D96A3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58B90-6570-4607-894B-6F814B83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42920"/>
            <a:ext cx="6829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4098-1491-406A-9F73-E10D671D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6BA-B944-4252-9CF1-7DB0BE7203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36C6-B75A-4F63-A3A1-209EEAA9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50D-3762-4E74-A4D4-6598B7D6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3CC-D7E5-4AE2-A5F9-CC969BD8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F86-553B-402F-86D4-28D41BF6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986D-4DA7-44BF-ACBB-B0A73B37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6840" y="142920"/>
            <a:ext cx="6829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C96-0E1E-4064-86BF-7F589094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CDA-1CF5-4A03-9E0F-59B3B5DC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7BE0-7118-4096-B564-5AF864F1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9833-CAAF-4B5D-8AB1-749D0661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6F7-1040-4462-B4C3-5F0E5B92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A67-D4B1-434D-8CAF-41C98E85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39F-86FA-45C1-A545-0A038AC499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3CFDE2-BD39-46F5-A644-269C58F4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AA1D25-AA80-45E5-8DF8-57302A8D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A1FB02-643E-458C-83E0-D2E3FE86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10714-BEC4-4B84-97D7-EE5B3A93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853163-4D54-4A6B-8D49-D641E1BC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674806-5F71-4E03-A157-65654F34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6840" y="142920"/>
            <a:ext cx="6829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4C1A00-3D04-4517-9012-2ADD12FF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DE4F7B-1B30-47A0-A17D-4C6949B8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89D77E-8330-4119-9B13-39BA8329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9CEC1F-96F3-4808-9FE5-8CCF57B8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E09CB0-1E82-4E78-A2AC-6CE96F48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DAC9E7-B3CF-4CC9-9A01-23086DEA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205D67-4131-4559-BB43-E73E0E6A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58BB90-5584-4FA9-B3AA-08329FA9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FF3DC-2283-4CDB-ABF4-B6E43A7F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B565D5-8D7D-4D2A-A28F-096EDBFC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4E9C5A-E1AD-49DE-825E-70B66B19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F7F367-0E20-4A29-83B8-9E9B5D20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7E4A07-65E7-4E01-8DE7-CBA88DE2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6840" y="142920"/>
            <a:ext cx="6829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70FCD4-6522-4102-B395-D9F0549B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2D9E83-742B-40D7-AA92-4B451056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098BB4-BB77-44DB-8228-C4392423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34C14E-2B33-4CA5-A581-CA83CBBE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3B3A4E-A60B-46F4-ABF7-7047BCD7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B385BC-82C9-483E-BFBD-65A588BA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142920"/>
            <a:ext cx="6829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9C21C-68C0-4C63-BDD3-A4A55EEC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B99D8-6C36-4836-8514-EEE2D165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DC591D-93CE-48EC-BD9B-8A9C3F9C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7B65FD-3DC6-4351-94D6-7E51541F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4183FB-4452-4F82-9A17-B8623DF5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08FF19-4D0C-4388-82E1-A7A21388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C7C5E1-913F-400B-9A89-CBAC9807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6840" y="142920"/>
            <a:ext cx="6829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8FBC54-EB51-404B-92A0-C5E55884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7A7011-18F0-4876-9D8A-8679FC5B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7D28A5-39C1-459E-AC34-F8EBC1FE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E3E67B-5133-43DE-98FA-19E00588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32602-F7B3-497B-8C1A-EB6A46E6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F23F0F-192D-4881-8751-4F01E3C8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9021FB-8C2C-4B37-9D1F-05CB14C1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1B41E2-C186-408F-B5DE-3C3D2FBF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65FB5D-4B02-4CFD-9678-F0275818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91044C-BA64-4190-9745-FE995D75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C535B5-E157-480A-A750-C1E90D392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6EE48E-64AB-4CE5-A48D-544398B1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2C7D31-B4CF-4836-8E4D-5F231A17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6840" y="142920"/>
            <a:ext cx="6829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E8089F-DBCA-4893-B061-DAFDA948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3B403E-1729-40B3-B279-8FE8A843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BFB3-9891-4C6F-B3A7-BC63ACEC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318738-DD70-46BE-89DB-D708A515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B55F0C-33EF-4570-AC75-57809BC0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12B0A0-FF0B-4149-8193-43D0073A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6DE292-06E6-4A77-94A0-C5BB4FBB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5A45AF-2C9B-420F-B09B-24A8C184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213DF2-10B8-4DEF-A28E-7B90C745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E98160-9CF3-48E8-B94A-1F88028E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27086F-CA00-46E3-B64A-BB45B6AC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0937E1-2D30-488B-A40D-8766B678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48EB76-2AFF-432B-8DF5-F2AD9A45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ADC91-9FD2-4563-B7F9-C0FEE127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6840" y="142920"/>
            <a:ext cx="6829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A75179-C548-41EA-A3B1-C29EBD4B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A6BCEB-9F34-469D-BE69-29AC0FD6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A0281F-7658-42B0-B42F-175C9AD3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899400-E885-464C-AD62-035C046A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0A2465-0890-428F-AC08-AE7BE971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8B1010-1A2B-4B86-A5B8-E6470800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F8DA82-0130-4DED-85C1-42589087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B10B6F-422D-482A-BEDA-C0D7902E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1C0155-CB8C-42FA-84C2-42E50AE3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ECD8A9-CC86-450B-B3E3-E549604A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7643880" y="6497640"/>
            <a:ext cx="1500120" cy="36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71480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72320" y="6500880"/>
            <a:ext cx="3999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08FC-0FC7-4A05-9A5F-C4AA2D532566}" type="slidenum">
              <a:rPr b="1" lang="en-US" sz="1000" spc="-1" strike="noStrike">
                <a:solidFill>
                  <a:srgbClr val="111111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logo-whalecom.png"/>
          <p:cNvPicPr/>
          <p:nvPr/>
        </p:nvPicPr>
        <p:blipFill>
          <a:blip r:embed="rId2"/>
          <a:stretch/>
        </p:blipFill>
        <p:spPr>
          <a:xfrm>
            <a:off x="7786800" y="142920"/>
            <a:ext cx="1027080" cy="7858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1"/>
          <p:cNvSpPr/>
          <p:nvPr/>
        </p:nvSpPr>
        <p:spPr>
          <a:xfrm>
            <a:off x="0" y="1071720"/>
            <a:ext cx="539640" cy="45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Date Placeholder 3"/>
          <p:cNvSpPr/>
          <p:nvPr/>
        </p:nvSpPr>
        <p:spPr>
          <a:xfrm flipH="1">
            <a:off x="4931640" y="6497640"/>
            <a:ext cx="2639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5f5f5f"/>
                </a:solidFill>
                <a:latin typeface="Tahoma"/>
                <a:ea typeface="Tahoma"/>
              </a:rPr>
              <a:t>Congreso Internacional de Administra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9"/>
          <p:cNvSpPr/>
          <p:nvPr/>
        </p:nvSpPr>
        <p:spPr>
          <a:xfrm>
            <a:off x="7643880" y="6497640"/>
            <a:ext cx="1500120" cy="36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0" descr="logo-whalecom.png"/>
          <p:cNvPicPr/>
          <p:nvPr/>
        </p:nvPicPr>
        <p:blipFill>
          <a:blip r:embed="rId2"/>
          <a:stretch/>
        </p:blipFill>
        <p:spPr>
          <a:xfrm>
            <a:off x="7786800" y="142920"/>
            <a:ext cx="1027080" cy="7858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1"/>
          <p:cNvSpPr/>
          <p:nvPr/>
        </p:nvSpPr>
        <p:spPr>
          <a:xfrm>
            <a:off x="0" y="1071720"/>
            <a:ext cx="539640" cy="45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Date Placeholder 3"/>
          <p:cNvSpPr/>
          <p:nvPr/>
        </p:nvSpPr>
        <p:spPr>
          <a:xfrm flipH="1">
            <a:off x="4931640" y="6497640"/>
            <a:ext cx="2639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5f5f5f"/>
                </a:solidFill>
                <a:latin typeface="Tahoma"/>
                <a:ea typeface="Tahoma"/>
              </a:rPr>
              <a:t>Congreso Internacional de Administra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3"/>
          </p:nvPr>
        </p:nvSpPr>
        <p:spPr>
          <a:xfrm>
            <a:off x="771480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4"/>
          </p:nvPr>
        </p:nvSpPr>
        <p:spPr>
          <a:xfrm>
            <a:off x="3124080" y="6500880"/>
            <a:ext cx="28958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25"/>
          </p:nvPr>
        </p:nvSpPr>
        <p:spPr>
          <a:xfrm>
            <a:off x="8572320" y="6500880"/>
            <a:ext cx="3999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19B2-97B2-4009-BF57-EB0C7BAA426A}" type="slidenum">
              <a:rPr b="1" lang="en-US" sz="1000" spc="-1" strike="noStrike">
                <a:solidFill>
                  <a:srgbClr val="111111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9"/>
          <p:cNvSpPr/>
          <p:nvPr/>
        </p:nvSpPr>
        <p:spPr>
          <a:xfrm>
            <a:off x="7643880" y="6497640"/>
            <a:ext cx="1500120" cy="36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10" descr="logo-whalecom.png"/>
          <p:cNvPicPr/>
          <p:nvPr/>
        </p:nvPicPr>
        <p:blipFill>
          <a:blip r:embed="rId2"/>
          <a:stretch/>
        </p:blipFill>
        <p:spPr>
          <a:xfrm>
            <a:off x="7786800" y="142920"/>
            <a:ext cx="1027080" cy="78588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11"/>
          <p:cNvSpPr/>
          <p:nvPr/>
        </p:nvSpPr>
        <p:spPr>
          <a:xfrm>
            <a:off x="0" y="1071720"/>
            <a:ext cx="539640" cy="45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Date Placeholder 3"/>
          <p:cNvSpPr/>
          <p:nvPr/>
        </p:nvSpPr>
        <p:spPr>
          <a:xfrm flipH="1">
            <a:off x="4931640" y="6497640"/>
            <a:ext cx="2639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5f5f5f"/>
                </a:solidFill>
                <a:latin typeface="Tahoma"/>
                <a:ea typeface="Tahoma"/>
              </a:rPr>
              <a:t>Congreso Internacional de Administra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6"/>
          </p:nvPr>
        </p:nvSpPr>
        <p:spPr>
          <a:xfrm>
            <a:off x="771480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7"/>
          </p:nvPr>
        </p:nvSpPr>
        <p:spPr>
          <a:xfrm>
            <a:off x="3124080" y="6500880"/>
            <a:ext cx="28958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8"/>
          </p:nvPr>
        </p:nvSpPr>
        <p:spPr>
          <a:xfrm>
            <a:off x="8572320" y="6500880"/>
            <a:ext cx="3999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B245-F3CA-4324-9AD7-90628093DC17}" type="slidenum">
              <a:rPr b="1" lang="en-US" sz="1000" spc="-1" strike="noStrike">
                <a:solidFill>
                  <a:srgbClr val="111111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9"/>
          <p:cNvSpPr/>
          <p:nvPr/>
        </p:nvSpPr>
        <p:spPr>
          <a:xfrm>
            <a:off x="7643880" y="6497640"/>
            <a:ext cx="1500120" cy="36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logo-whalecom.png"/>
          <p:cNvPicPr/>
          <p:nvPr/>
        </p:nvPicPr>
        <p:blipFill>
          <a:blip r:embed="rId2"/>
          <a:stretch/>
        </p:blipFill>
        <p:spPr>
          <a:xfrm>
            <a:off x="7786800" y="142920"/>
            <a:ext cx="1027080" cy="7858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1"/>
          <p:cNvSpPr/>
          <p:nvPr/>
        </p:nvSpPr>
        <p:spPr>
          <a:xfrm>
            <a:off x="0" y="1071720"/>
            <a:ext cx="539640" cy="45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ate Placeholder 3"/>
          <p:cNvSpPr/>
          <p:nvPr/>
        </p:nvSpPr>
        <p:spPr>
          <a:xfrm flipH="1">
            <a:off x="4931640" y="6497640"/>
            <a:ext cx="2639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5f5f5f"/>
                </a:solidFill>
                <a:latin typeface="Tahoma"/>
                <a:ea typeface="Tahoma"/>
              </a:rPr>
              <a:t>Congreso Internacional de Administra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rayos.jpg"/>
          <p:cNvPicPr/>
          <p:nvPr/>
        </p:nvPicPr>
        <p:blipFill>
          <a:blip r:embed="rId3"/>
          <a:stretch/>
        </p:blipFill>
        <p:spPr>
          <a:xfrm>
            <a:off x="0" y="0"/>
            <a:ext cx="9144000" cy="2876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logo-whalecom.png"/>
          <p:cNvPicPr/>
          <p:nvPr/>
        </p:nvPicPr>
        <p:blipFill>
          <a:blip r:embed="rId4"/>
          <a:stretch/>
        </p:blipFill>
        <p:spPr>
          <a:xfrm>
            <a:off x="7429680" y="5143680"/>
            <a:ext cx="1380960" cy="1056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4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0" y="2857680"/>
            <a:ext cx="9144000" cy="179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7358040" y="2857680"/>
            <a:ext cx="1785960" cy="179280"/>
          </a:xfrm>
          <a:prstGeom prst="rect">
            <a:avLst/>
          </a:prstGeom>
          <a:solidFill>
            <a:srgbClr val="7a9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7643880" y="6497640"/>
            <a:ext cx="1500120" cy="36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logo-whalecom.png"/>
          <p:cNvPicPr/>
          <p:nvPr/>
        </p:nvPicPr>
        <p:blipFill>
          <a:blip r:embed="rId2"/>
          <a:stretch/>
        </p:blipFill>
        <p:spPr>
          <a:xfrm>
            <a:off x="7786800" y="142920"/>
            <a:ext cx="1027080" cy="785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1"/>
          <p:cNvSpPr/>
          <p:nvPr/>
        </p:nvSpPr>
        <p:spPr>
          <a:xfrm>
            <a:off x="0" y="1071720"/>
            <a:ext cx="539640" cy="45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ate Placeholder 3"/>
          <p:cNvSpPr/>
          <p:nvPr/>
        </p:nvSpPr>
        <p:spPr>
          <a:xfrm flipH="1">
            <a:off x="4931640" y="6497640"/>
            <a:ext cx="2639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5f5f5f"/>
                </a:solidFill>
                <a:latin typeface="Tahoma"/>
                <a:ea typeface="Tahoma"/>
              </a:rPr>
              <a:t>Congreso Internacional de Administra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8501040" y="6500880"/>
            <a:ext cx="48096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3AB0-11B9-4E43-A780-47367A17A06A}" type="slidenum">
              <a:rPr b="1" lang="en-US" sz="1000" spc="-1" strike="noStrike">
                <a:solidFill>
                  <a:srgbClr val="111111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4"/>
          </p:nvPr>
        </p:nvSpPr>
        <p:spPr>
          <a:xfrm>
            <a:off x="771480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7643880" y="6497640"/>
            <a:ext cx="1500120" cy="36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logo-whalecom.png"/>
          <p:cNvPicPr/>
          <p:nvPr/>
        </p:nvPicPr>
        <p:blipFill>
          <a:blip r:embed="rId2"/>
          <a:stretch/>
        </p:blipFill>
        <p:spPr>
          <a:xfrm>
            <a:off x="7786800" y="142920"/>
            <a:ext cx="1027080" cy="785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0" y="1071720"/>
            <a:ext cx="539640" cy="45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3"/>
          <p:cNvSpPr/>
          <p:nvPr/>
        </p:nvSpPr>
        <p:spPr>
          <a:xfrm flipH="1">
            <a:off x="4931640" y="6497640"/>
            <a:ext cx="2639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5f5f5f"/>
                </a:solidFill>
                <a:latin typeface="Tahoma"/>
                <a:ea typeface="Tahoma"/>
              </a:rPr>
              <a:t>Congreso Internacional de Administra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5"/>
          </p:nvPr>
        </p:nvSpPr>
        <p:spPr>
          <a:xfrm>
            <a:off x="771480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6"/>
          </p:nvPr>
        </p:nvSpPr>
        <p:spPr>
          <a:xfrm>
            <a:off x="3124080" y="6500880"/>
            <a:ext cx="28958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7"/>
          </p:nvPr>
        </p:nvSpPr>
        <p:spPr>
          <a:xfrm>
            <a:off x="8572320" y="6500880"/>
            <a:ext cx="3999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7422-2C1F-4016-A1BF-974EB4753445}" type="slidenum">
              <a:rPr b="1" lang="en-US" sz="1000" spc="-1" strike="noStrike">
                <a:solidFill>
                  <a:srgbClr val="111111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7643880" y="6497640"/>
            <a:ext cx="1500120" cy="36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logo-whalecom.png"/>
          <p:cNvPicPr/>
          <p:nvPr/>
        </p:nvPicPr>
        <p:blipFill>
          <a:blip r:embed="rId2"/>
          <a:stretch/>
        </p:blipFill>
        <p:spPr>
          <a:xfrm>
            <a:off x="7786800" y="142920"/>
            <a:ext cx="1027080" cy="785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1"/>
          <p:cNvSpPr/>
          <p:nvPr/>
        </p:nvSpPr>
        <p:spPr>
          <a:xfrm>
            <a:off x="0" y="1071720"/>
            <a:ext cx="539640" cy="45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Date Placeholder 3"/>
          <p:cNvSpPr/>
          <p:nvPr/>
        </p:nvSpPr>
        <p:spPr>
          <a:xfrm flipH="1">
            <a:off x="4931640" y="6497640"/>
            <a:ext cx="2639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5f5f5f"/>
                </a:solidFill>
                <a:latin typeface="Tahoma"/>
                <a:ea typeface="Tahoma"/>
              </a:rPr>
              <a:t>Congreso Internacional de Administra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771480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3124080" y="6500880"/>
            <a:ext cx="28958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0"/>
          </p:nvPr>
        </p:nvSpPr>
        <p:spPr>
          <a:xfrm>
            <a:off x="8572320" y="6500880"/>
            <a:ext cx="3999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703E-7067-4BE0-89B9-099D2D42B128}" type="slidenum">
              <a:rPr b="1" lang="en-US" sz="1000" spc="-1" strike="noStrike">
                <a:solidFill>
                  <a:srgbClr val="111111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7643880" y="6497640"/>
            <a:ext cx="1500120" cy="36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0" descr="logo-whalecom.png"/>
          <p:cNvPicPr/>
          <p:nvPr/>
        </p:nvPicPr>
        <p:blipFill>
          <a:blip r:embed="rId2"/>
          <a:stretch/>
        </p:blipFill>
        <p:spPr>
          <a:xfrm>
            <a:off x="7786800" y="142920"/>
            <a:ext cx="1027080" cy="785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1"/>
          <p:cNvSpPr/>
          <p:nvPr/>
        </p:nvSpPr>
        <p:spPr>
          <a:xfrm>
            <a:off x="0" y="1071720"/>
            <a:ext cx="539640" cy="45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ate Placeholder 3"/>
          <p:cNvSpPr/>
          <p:nvPr/>
        </p:nvSpPr>
        <p:spPr>
          <a:xfrm flipH="1">
            <a:off x="4931640" y="6497640"/>
            <a:ext cx="2639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5f5f5f"/>
                </a:solidFill>
                <a:latin typeface="Tahoma"/>
                <a:ea typeface="Tahoma"/>
              </a:rPr>
              <a:t>Congreso Internacional de Administra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1"/>
          </p:nvPr>
        </p:nvSpPr>
        <p:spPr>
          <a:xfrm>
            <a:off x="771480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2"/>
          </p:nvPr>
        </p:nvSpPr>
        <p:spPr>
          <a:xfrm>
            <a:off x="3124080" y="6500880"/>
            <a:ext cx="28958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3"/>
          </p:nvPr>
        </p:nvSpPr>
        <p:spPr>
          <a:xfrm>
            <a:off x="8572320" y="6500880"/>
            <a:ext cx="3999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90CB-686C-47B2-B87E-2659D2337C0C}" type="slidenum">
              <a:rPr b="1" lang="en-US" sz="1000" spc="-1" strike="noStrike">
                <a:solidFill>
                  <a:srgbClr val="111111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9"/>
          <p:cNvSpPr/>
          <p:nvPr/>
        </p:nvSpPr>
        <p:spPr>
          <a:xfrm>
            <a:off x="7643880" y="6497640"/>
            <a:ext cx="1500120" cy="36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0" descr="logo-whalecom.png"/>
          <p:cNvPicPr/>
          <p:nvPr/>
        </p:nvPicPr>
        <p:blipFill>
          <a:blip r:embed="rId2"/>
          <a:stretch/>
        </p:blipFill>
        <p:spPr>
          <a:xfrm>
            <a:off x="7786800" y="142920"/>
            <a:ext cx="1027080" cy="7858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1"/>
          <p:cNvSpPr/>
          <p:nvPr/>
        </p:nvSpPr>
        <p:spPr>
          <a:xfrm>
            <a:off x="0" y="1071720"/>
            <a:ext cx="539640" cy="45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ate Placeholder 3"/>
          <p:cNvSpPr/>
          <p:nvPr/>
        </p:nvSpPr>
        <p:spPr>
          <a:xfrm flipH="1">
            <a:off x="4931640" y="6497640"/>
            <a:ext cx="2639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5f5f5f"/>
                </a:solidFill>
                <a:latin typeface="Tahoma"/>
                <a:ea typeface="Tahoma"/>
              </a:rPr>
              <a:t>Congreso Internacional de Administra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4"/>
          </p:nvPr>
        </p:nvSpPr>
        <p:spPr>
          <a:xfrm>
            <a:off x="771480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5"/>
          </p:nvPr>
        </p:nvSpPr>
        <p:spPr>
          <a:xfrm>
            <a:off x="3124080" y="6500880"/>
            <a:ext cx="28958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6"/>
          </p:nvPr>
        </p:nvSpPr>
        <p:spPr>
          <a:xfrm>
            <a:off x="8572320" y="6500880"/>
            <a:ext cx="3999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49D1-D017-40D4-B9D7-1B5D781A4A87}" type="slidenum">
              <a:rPr b="1" lang="en-US" sz="1000" spc="-1" strike="noStrike">
                <a:solidFill>
                  <a:srgbClr val="111111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9"/>
          <p:cNvSpPr/>
          <p:nvPr/>
        </p:nvSpPr>
        <p:spPr>
          <a:xfrm>
            <a:off x="7643880" y="6497640"/>
            <a:ext cx="1500120" cy="36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0" descr="logo-whalecom.png"/>
          <p:cNvPicPr/>
          <p:nvPr/>
        </p:nvPicPr>
        <p:blipFill>
          <a:blip r:embed="rId2"/>
          <a:stretch/>
        </p:blipFill>
        <p:spPr>
          <a:xfrm>
            <a:off x="7786800" y="142920"/>
            <a:ext cx="1027080" cy="7858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1"/>
          <p:cNvSpPr/>
          <p:nvPr/>
        </p:nvSpPr>
        <p:spPr>
          <a:xfrm>
            <a:off x="0" y="1071720"/>
            <a:ext cx="539640" cy="45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ate Placeholder 3"/>
          <p:cNvSpPr/>
          <p:nvPr/>
        </p:nvSpPr>
        <p:spPr>
          <a:xfrm flipH="1">
            <a:off x="4931640" y="6497640"/>
            <a:ext cx="2639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5f5f5f"/>
                </a:solidFill>
                <a:latin typeface="Tahoma"/>
                <a:ea typeface="Tahoma"/>
              </a:rPr>
              <a:t>Congreso Internacional de Administra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7"/>
          </p:nvPr>
        </p:nvSpPr>
        <p:spPr>
          <a:xfrm>
            <a:off x="771480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8"/>
          </p:nvPr>
        </p:nvSpPr>
        <p:spPr>
          <a:xfrm>
            <a:off x="3124080" y="6500880"/>
            <a:ext cx="28958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9"/>
          </p:nvPr>
        </p:nvSpPr>
        <p:spPr>
          <a:xfrm>
            <a:off x="8572320" y="6500880"/>
            <a:ext cx="3999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72B7-1ABF-46FD-A306-01ECE0F835DF}" type="slidenum">
              <a:rPr b="1" lang="en-US" sz="1000" spc="-1" strike="noStrike">
                <a:solidFill>
                  <a:srgbClr val="111111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9"/>
          <p:cNvSpPr/>
          <p:nvPr/>
        </p:nvSpPr>
        <p:spPr>
          <a:xfrm>
            <a:off x="7643880" y="6497640"/>
            <a:ext cx="1500120" cy="36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" descr="logo-whalecom.png"/>
          <p:cNvPicPr/>
          <p:nvPr/>
        </p:nvPicPr>
        <p:blipFill>
          <a:blip r:embed="rId2"/>
          <a:stretch/>
        </p:blipFill>
        <p:spPr>
          <a:xfrm>
            <a:off x="7786800" y="142920"/>
            <a:ext cx="1027080" cy="7858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1"/>
          <p:cNvSpPr/>
          <p:nvPr/>
        </p:nvSpPr>
        <p:spPr>
          <a:xfrm>
            <a:off x="0" y="1071720"/>
            <a:ext cx="539640" cy="45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Date Placeholder 3"/>
          <p:cNvSpPr/>
          <p:nvPr/>
        </p:nvSpPr>
        <p:spPr>
          <a:xfrm flipH="1">
            <a:off x="4931640" y="6497640"/>
            <a:ext cx="2639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5f5f5f"/>
                </a:solidFill>
                <a:latin typeface="Tahoma"/>
                <a:ea typeface="Tahoma"/>
              </a:rPr>
              <a:t>Congreso Internacional de Administra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42920"/>
            <a:ext cx="682956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0"/>
          </p:nvPr>
        </p:nvSpPr>
        <p:spPr>
          <a:xfrm>
            <a:off x="771480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1"/>
          </p:nvPr>
        </p:nvSpPr>
        <p:spPr>
          <a:xfrm>
            <a:off x="3124080" y="6500880"/>
            <a:ext cx="289584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2"/>
          </p:nvPr>
        </p:nvSpPr>
        <p:spPr>
          <a:xfrm>
            <a:off x="8572320" y="6500880"/>
            <a:ext cx="3999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11111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ADE4-52FC-4CF9-A3E0-8DDD5BB06195}" type="slidenum">
              <a:rPr b="1" lang="en-US" sz="1000" spc="-1" strike="noStrike">
                <a:solidFill>
                  <a:srgbClr val="111111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99680" y="5857920"/>
            <a:ext cx="314316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040"/>
                </a:solidFill>
                <a:latin typeface="Calibri"/>
              </a:rPr>
              <a:t>Paula Molinari, mayo 20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itle 1"/>
          <p:cNvSpPr/>
          <p:nvPr/>
        </p:nvSpPr>
        <p:spPr>
          <a:xfrm>
            <a:off x="571680" y="364320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TENDENCIAS EN EL MUNDO DEL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f7f7f"/>
                </a:solidFill>
                <a:latin typeface="Tahoma"/>
              </a:rPr>
              <a:t>LAS EMPRESAS Y/EL TRABAJO EN EL 2030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28760" y="1428840"/>
          <a:ext cx="8464320" cy="914400"/>
        </p:xfrm>
        <a:graphic>
          <a:graphicData uri="http://schemas.openxmlformats.org/drawingml/2006/table">
            <a:tbl>
              <a:tblPr/>
              <a:tblGrid>
                <a:gridCol w="414360"/>
                <a:gridCol w="4340160"/>
                <a:gridCol w="3709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LACIÓN LABOR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chas alternativas y variando en el tiempo en el mismo empleado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ón transparen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  <p:sp>
        <p:nvSpPr>
          <p:cNvPr id="547" name="3 Marcador de fecha"/>
          <p:cNvSpPr/>
          <p:nvPr/>
        </p:nvSpPr>
        <p:spPr>
          <a:xfrm>
            <a:off x="771516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468360" y="2637000"/>
          <a:ext cx="8462880" cy="1585800"/>
        </p:xfrm>
        <a:graphic>
          <a:graphicData uri="http://schemas.openxmlformats.org/drawingml/2006/table">
            <a:tbl>
              <a:tblPr/>
              <a:tblGrid>
                <a:gridCol w="414360"/>
                <a:gridCol w="4340160"/>
                <a:gridCol w="3708360"/>
              </a:tblGrid>
              <a:tr h="158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d4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EÑO ORGANIZACIONA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d4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ri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aborativo y horizontal. Estructuras chatas e interconexiones facilitadas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d43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468360" y="4508640"/>
          <a:ext cx="8462880" cy="1463400"/>
        </p:xfrm>
        <a:graphic>
          <a:graphicData uri="http://schemas.openxmlformats.org/drawingml/2006/table">
            <a:tbl>
              <a:tblPr/>
              <a:tblGrid>
                <a:gridCol w="414360"/>
                <a:gridCol w="4340160"/>
                <a:gridCol w="37083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IGEN DE LA AUTORIDA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individuos que conocen y). Importancia de la reputación en áreas específicas. Valoración del contacto con la Alta Direcció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f7f7f"/>
                </a:solidFill>
                <a:latin typeface="Tahoma"/>
              </a:rPr>
              <a:t>LAS EMPRESAS Y/EL TRABAJO EN EL 2030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428760" y="1428840"/>
          <a:ext cx="8464320" cy="1189080"/>
        </p:xfrm>
        <a:graphic>
          <a:graphicData uri="http://schemas.openxmlformats.org/drawingml/2006/table">
            <a:tbl>
              <a:tblPr/>
              <a:tblGrid>
                <a:gridCol w="414360"/>
                <a:gridCol w="4340160"/>
                <a:gridCol w="37098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FORMACIÓ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fuente más valiosa son los pares. Capacidad para usar múltiples canales. Excelente habilidad para el "uso de biblioteca" con autonomí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  <p:sp>
        <p:nvSpPr>
          <p:cNvPr id="552" name="3 Marcador de fecha"/>
          <p:cNvSpPr/>
          <p:nvPr/>
        </p:nvSpPr>
        <p:spPr>
          <a:xfrm>
            <a:off x="771516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68360" y="2924280"/>
          <a:ext cx="8462880" cy="1738080"/>
        </p:xfrm>
        <a:graphic>
          <a:graphicData uri="http://schemas.openxmlformats.org/drawingml/2006/table">
            <a:tbl>
              <a:tblPr/>
              <a:tblGrid>
                <a:gridCol w="414360"/>
                <a:gridCol w="4340160"/>
                <a:gridCol w="37083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LUJO DE LA INFORMACIÓ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erto y múltiple. No hay más barrera origen interno y  externa.. Acceso libre a información y expertos. Valoración de las comunidades de exper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468360" y="4941720"/>
          <a:ext cx="8462880" cy="1737000"/>
        </p:xfrm>
        <a:graphic>
          <a:graphicData uri="http://schemas.openxmlformats.org/drawingml/2006/table">
            <a:tbl>
              <a:tblPr/>
              <a:tblGrid>
                <a:gridCol w="414360"/>
                <a:gridCol w="4340160"/>
                <a:gridCol w="37083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ad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SO DEL TIEMP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ad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co en la tarea y en los resultados. Alcanzar los objetivos en el menor tiempo posible. El tiempo es propio, personal y se asigna a la tarea. Si se ahorra tiempo, éste se considera persona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ad8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f7f7f"/>
                </a:solidFill>
                <a:latin typeface="Tahoma"/>
              </a:rPr>
              <a:t>TENDENCIAS MACRO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6" name="3 Marcador de fecha"/>
          <p:cNvSpPr/>
          <p:nvPr/>
        </p:nvSpPr>
        <p:spPr>
          <a:xfrm>
            <a:off x="771516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457200" y="1197000"/>
          <a:ext cx="8075520" cy="5464080"/>
        </p:xfrm>
        <a:graphic>
          <a:graphicData uri="http://schemas.openxmlformats.org/drawingml/2006/table">
            <a:tbl>
              <a:tblPr/>
              <a:tblGrid>
                <a:gridCol w="8075520"/>
              </a:tblGrid>
              <a:tr h="888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S 10 TENDENCIAS QUE ESTÁN CAMBIANDO EL MUN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9b32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par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mpo global e inmedia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cone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aniz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ene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ers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stentabil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gente: nuevos atributos valorad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11280" y="148392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c1b3"/>
                </a:solidFill>
                <a:latin typeface="Tahoma"/>
              </a:rPr>
              <a:t>2.300 millon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ahoma"/>
              </a:rPr>
              <a:t>La gen Y representa un cuarto de la población mundi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ahoma"/>
              </a:rPr>
              <a:t>y estará presente en el mundo del trabajo dominand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ahoma"/>
              </a:rPr>
              <a:t>los próximos 40 año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1 Marcador de fecha"/>
          <p:cNvSpPr/>
          <p:nvPr/>
        </p:nvSpPr>
        <p:spPr>
          <a:xfrm>
            <a:off x="771516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28760" y="142848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4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9b3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ffffff"/>
                </a:solidFill>
                <a:latin typeface="Calibri"/>
              </a:rPr>
              <a:t>La forma en la que el mundo corporativo opera NO es exactamente la forma en que querrían trabajar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1 Marcador de fecha"/>
          <p:cNvSpPr/>
          <p:nvPr/>
        </p:nvSpPr>
        <p:spPr>
          <a:xfrm>
            <a:off x="771516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3 Marcador de fecha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Calibri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28760" y="142848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6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a9b3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ffffff"/>
                </a:solidFill>
                <a:latin typeface="Calibri"/>
              </a:rPr>
              <a:t>Esto sucede cuando chocan los mandatos del s. XX con las preferencias personales/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000" spc="-1" strike="noStrike">
                <a:solidFill>
                  <a:srgbClr val="ffffff"/>
                </a:solidFill>
                <a:latin typeface="Calibri"/>
              </a:rPr>
              <a:t>generacionale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Date Placeholder 4"/>
          <p:cNvSpPr/>
          <p:nvPr/>
        </p:nvSpPr>
        <p:spPr>
          <a:xfrm>
            <a:off x="771516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6"/>
          <p:cNvSpPr/>
          <p:nvPr/>
        </p:nvSpPr>
        <p:spPr>
          <a:xfrm>
            <a:off x="4284720" y="0"/>
            <a:ext cx="4859280" cy="1071720"/>
          </a:xfrm>
          <a:prstGeom prst="rect">
            <a:avLst/>
          </a:prstGeom>
          <a:solidFill>
            <a:srgbClr val="e0c4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284720" y="356760"/>
            <a:ext cx="4860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Tahoma"/>
              </a:rPr>
              <a:t>LAS EMPRESAS DE LOS Y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f7f7f"/>
                </a:solidFill>
                <a:latin typeface="Tahoma"/>
              </a:rPr>
              <a:t>EL MODELO DE LOS 3 RESULTADOS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2" name="4 Marcador de fecha"/>
          <p:cNvSpPr/>
          <p:nvPr/>
        </p:nvSpPr>
        <p:spPr>
          <a:xfrm>
            <a:off x="771516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Imagen 4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638600" cy="4522680"/>
          </a:xfrm>
          <a:prstGeom prst="rect">
            <a:avLst/>
          </a:prstGeom>
          <a:ln w="0">
            <a:noFill/>
          </a:ln>
        </p:spPr>
      </p:pic>
      <p:sp>
        <p:nvSpPr>
          <p:cNvPr id="534" name="5 CuadroTexto"/>
          <p:cNvSpPr/>
          <p:nvPr/>
        </p:nvSpPr>
        <p:spPr>
          <a:xfrm>
            <a:off x="357840" y="6064200"/>
            <a:ext cx="74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ister, J. &amp; Willyerd, K. (2010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2020 Workpl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rper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f7f7f"/>
                </a:solidFill>
                <a:latin typeface="Tahoma"/>
              </a:rPr>
              <a:t>EL MODELO DE COMPROMISO 2020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6" name="4 Marcador de fecha"/>
          <p:cNvSpPr/>
          <p:nvPr/>
        </p:nvSpPr>
        <p:spPr>
          <a:xfrm>
            <a:off x="771516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Imagen 1" descr=""/>
          <p:cNvPicPr/>
          <p:nvPr/>
        </p:nvPicPr>
        <p:blipFill>
          <a:blip r:embed="rId1"/>
          <a:stretch/>
        </p:blipFill>
        <p:spPr>
          <a:xfrm>
            <a:off x="442800" y="1052640"/>
            <a:ext cx="8325000" cy="5300640"/>
          </a:xfrm>
          <a:prstGeom prst="rect">
            <a:avLst/>
          </a:prstGeom>
          <a:ln w="0">
            <a:noFill/>
          </a:ln>
        </p:spPr>
      </p:pic>
      <p:sp>
        <p:nvSpPr>
          <p:cNvPr id="538" name="5 CuadroTexto"/>
          <p:cNvSpPr/>
          <p:nvPr/>
        </p:nvSpPr>
        <p:spPr>
          <a:xfrm>
            <a:off x="712800" y="6353280"/>
            <a:ext cx="585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Fuente: Meister Jeanne y WillyerdKarie en The 2020 Workplace, Harper Business, 2010, pág.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7f7f7f"/>
                </a:solidFill>
                <a:latin typeface="Tahoma"/>
              </a:rPr>
              <a:t>LAS EMPRESAS Y/EL TRABAJO EN EL 2030</a:t>
            </a:r>
            <a:endParaRPr b="1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68360" y="1557360"/>
          <a:ext cx="8462880" cy="639720"/>
        </p:xfrm>
        <a:graphic>
          <a:graphicData uri="http://schemas.openxmlformats.org/drawingml/2006/table">
            <a:tbl>
              <a:tblPr/>
              <a:tblGrid>
                <a:gridCol w="414360"/>
                <a:gridCol w="4340160"/>
                <a:gridCol w="370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 + APRECIAD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IDAD DE V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  <p:sp>
        <p:nvSpPr>
          <p:cNvPr id="541" name="3 Marcador de fecha"/>
          <p:cNvSpPr/>
          <p:nvPr/>
        </p:nvSpPr>
        <p:spPr>
          <a:xfrm>
            <a:off x="7715160" y="6500880"/>
            <a:ext cx="7146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111111"/>
                </a:solidFill>
                <a:latin typeface="Tahoma"/>
                <a:ea typeface="Tahoma"/>
              </a:rPr>
              <a:t>5/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468360" y="5084640"/>
          <a:ext cx="8462880" cy="1189080"/>
        </p:xfrm>
        <a:graphic>
          <a:graphicData uri="http://schemas.openxmlformats.org/drawingml/2006/table">
            <a:tbl>
              <a:tblPr/>
              <a:tblGrid>
                <a:gridCol w="414360"/>
                <a:gridCol w="4340160"/>
                <a:gridCol w="3708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UNICACIÓ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mpre interconectados. Grandes avances de la tecnologí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back continu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3" name=""/>
          <p:cNvGraphicFramePr/>
          <p:nvPr/>
        </p:nvGraphicFramePr>
        <p:xfrm>
          <a:off x="468360" y="3573360"/>
          <a:ext cx="8462880" cy="1189080"/>
        </p:xfrm>
        <a:graphic>
          <a:graphicData uri="http://schemas.openxmlformats.org/drawingml/2006/table">
            <a:tbl>
              <a:tblPr/>
              <a:tblGrid>
                <a:gridCol w="414360"/>
                <a:gridCol w="4340160"/>
                <a:gridCol w="3708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9b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ARROLL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9b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izado, tomando en cuenta los intereses personales, basado en el aprendizaje y el desafí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a9b3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468360" y="2565360"/>
          <a:ext cx="8462880" cy="639720"/>
        </p:xfrm>
        <a:graphic>
          <a:graphicData uri="http://schemas.openxmlformats.org/drawingml/2006/table">
            <a:tbl>
              <a:tblPr/>
              <a:tblGrid>
                <a:gridCol w="414360"/>
                <a:gridCol w="4340160"/>
                <a:gridCol w="3708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ad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 TRABAJ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ad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frute, diversión, celebració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ad8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9:59:36Z</dcterms:created>
  <dc:creator>German</dc:creator>
  <dc:description/>
  <dc:language>en-US</dc:language>
  <cp:lastModifiedBy>paulam</cp:lastModifiedBy>
  <dcterms:modified xsi:type="dcterms:W3CDTF">2011-05-09T23:50:45Z</dcterms:modified>
  <cp:revision>87</cp:revision>
  <dc:subject/>
  <dc:title>Slide 1</dc:title>
</cp:coreProperties>
</file>