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E9E673-F482-4121-96CB-8F340E20D5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8AC3B6-788A-46E3-BADB-EF61950A86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1" descr="BANDA BLU OPT BAIRES RAST"/>
          <p:cNvPicPr/>
          <p:nvPr/>
        </p:nvPicPr>
        <p:blipFill>
          <a:blip r:embed="rId2"/>
          <a:stretch/>
        </p:blipFill>
        <p:spPr>
          <a:xfrm>
            <a:off x="0" y="6454800"/>
            <a:ext cx="9144000" cy="401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7" descr="logo UniBaires tagliato"/>
          <p:cNvPicPr/>
          <p:nvPr/>
        </p:nvPicPr>
        <p:blipFill>
          <a:blip r:embed="rId3"/>
          <a:stretch/>
        </p:blipFill>
        <p:spPr>
          <a:xfrm>
            <a:off x="108000" y="208080"/>
            <a:ext cx="1204920" cy="1658880"/>
          </a:xfrm>
          <a:prstGeom prst="rect">
            <a:avLst/>
          </a:prstGeom>
          <a:ln w="0">
            <a:noFill/>
          </a:ln>
        </p:spPr>
      </p:pic>
      <p:sp>
        <p:nvSpPr>
          <p:cNvPr id="2" name="Line 13"/>
          <p:cNvSpPr/>
          <p:nvPr/>
        </p:nvSpPr>
        <p:spPr>
          <a:xfrm>
            <a:off x="88920" y="0"/>
            <a:ext cx="0" cy="1871640"/>
          </a:xfrm>
          <a:prstGeom prst="line">
            <a:avLst/>
          </a:prstGeom>
          <a:ln w="190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Line 14"/>
          <p:cNvSpPr/>
          <p:nvPr/>
        </p:nvSpPr>
        <p:spPr>
          <a:xfrm>
            <a:off x="0" y="1870200"/>
            <a:ext cx="830592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Line 29"/>
          <p:cNvSpPr/>
          <p:nvPr/>
        </p:nvSpPr>
        <p:spPr>
          <a:xfrm>
            <a:off x="8317080" y="6424560"/>
            <a:ext cx="0" cy="35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" name="Line 30"/>
          <p:cNvSpPr/>
          <p:nvPr/>
        </p:nvSpPr>
        <p:spPr>
          <a:xfrm>
            <a:off x="8317080" y="6093000"/>
            <a:ext cx="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>
            <a:off x="1116000" y="333360"/>
            <a:ext cx="7704000" cy="60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X CONGRESO INTERNACIONAL DE ADMINISTRACIÓN,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Consejo Profesional de Ciencias Económicas de la Ciudad Autónoma de Buenos Aires, 20 mayo 2011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El Dilema de la Gestión Empresaria: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¿Renovación o Trasformación?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Prof. Angelo Manaresi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Università di Bologna, Sede Buenos Aire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72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El espíritu (y el comportamiento) empresarial hoy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Hoy es “empresario” la persona (fundador-propietario,o manager) que está en grad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ambiar el modelo de negocio (business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adaptarse a las nuevas necesidades de mercado, de tecnología, de regulación, de competencia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crear nuevos business, quizás algunas veces utilizando tecnologías existentes (la mitología según la cual un nuevo business se hace con una nueva tecnología no es siempre út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Un ejemplo de un nuevo business sin inventar tecnología verdaderamente nu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600200"/>
            <a:ext cx="497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Tecnología de código de b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Telecomunicación móvil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651640" y="1550880"/>
            <a:ext cx="3241440" cy="4830840"/>
          </a:xfrm>
          <a:prstGeom prst="rect">
            <a:avLst/>
          </a:prstGeom>
          <a:ln w="0">
            <a:noFill/>
          </a:ln>
        </p:spPr>
      </p:pic>
      <p:sp>
        <p:nvSpPr>
          <p:cNvPr id="111" name="Segnaposto contenuto 2"/>
          <p:cNvSpPr/>
          <p:nvPr/>
        </p:nvSpPr>
        <p:spPr>
          <a:xfrm>
            <a:off x="250920" y="3976560"/>
            <a:ext cx="53402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Lo que era un dispositivo para el business-to-business (aparato tradicional de código de barras) va a estar en las manos del consumidor y se empieza un business completamente nuevo, de software, hardware y comunicación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2" name="Freccia in giù 5"/>
          <p:cNvSpPr/>
          <p:nvPr/>
        </p:nvSpPr>
        <p:spPr>
          <a:xfrm>
            <a:off x="2700360" y="3141720"/>
            <a:ext cx="719280" cy="79200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lf shopping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ya is Datalogic’s pod use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for self shopp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ya is the ideal companion in the store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. Information regarding various store initiativ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ch as promotions and discounts can be accessed on the pod in real time by reading the barcode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is creates 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irect communication channel between the retailer and the customer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us, music and video may be added to create a fun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shopping experience!</a:t>
            </a:r>
            <a:br>
              <a:rPr sz="1800"/>
            </a:b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ya is also an effectiv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roximity Marketing too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formidable advertising media for retailer industry co-marketing, providing an additional form of retail business through the sale of advertising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ya has been installed in the largest retailer chains all over the world since its launch 2 years ago. “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o cambia la capacitación  manag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El dilema no significa alternativa sino también integración 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capacitación para manager-C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el espíritu (y el comportamiento) empres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o cambia la capacitación  manag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ay una falta de managers con liderazgo necesario para que sean buenos C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u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las pymes el empresario decide casi todo y muchas veces no permite el crecimiento de la autonomía decisional de los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n la Università di Bologna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inicia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ursos para que ejecutivos-directores de funciones (marketing, finanzas, HMR) puedan apre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o piensa un C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que hace un C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que tipo de leadership se puede desarro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ciclo de desarrollo (y declino) de la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o cambia la capacitación  manag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una falta de managers con espíritu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pensaba que este era el rol del fundador o de los hij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incentivos y la mentalidad managerial no es de cambiar mucho, el manager está preocupado para que no se diga que ha tomado malas decis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cambios que agradan más a los managers son solo las M&amp;A, porque el crecimiento del tamaño de la empresa aumenta la posibilidad de benefits a los mana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versità di Bologna: que significa realmente incentivar el espiritu empres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ursos no solo para que se empiece una nueva empresa (no solo cursos para crear nueva empres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ino también para que los managers adquie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apacitaciones, mentalidad y actividades “empresariales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n también necesarios incentivos (una mezcla de variables anuales y de “long term management incentive plan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lusiones: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Renovación o Trasform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ara trasformar las empresas no es suficiente hacer nuevos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 necesario trasformar la educación manag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asta una visión integrada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oderno management y lideraz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oderno espíritu empresarial integrado con el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0360" y="115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omo hacer todo eso? Unos ejemplos</a:t>
            </a:r>
            <a:br>
              <a:rPr sz="28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feLong Learning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programa Alfa Trall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anagers en 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Universi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di Bologna coordina un grande proyecto de investigación coordinada (20 universidades partner en Europa y en América Latina) con una grande financiación de la Unión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estudiar las necesidades de capacitación de mana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todas las etapas de la carrera (no solo joven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distinto se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los continentes de América Latina y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94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ilemas empresariales tradi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ocal -  glob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lexibilidad – rigi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rande empresa – pequeñ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oducto –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ource based view – estructura del sector 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oducir+vender – modelo de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o ejemplo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 de jóvenes con project work de turnaround o cambio de modelo d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jemplo: en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Maestría en Gestión de la Pequeña y Mediana Empresa de la Moda, el Diseño y los bienes de Alta G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Organizamos no solo la típica pasantía, sino también, para cada estudi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es project work (de un mes cada uno) con empresas, dentro de los cuales por lo menos uno es de turnaround o cambio de modelo d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3"/>
          <p:cNvSpPr/>
          <p:nvPr/>
        </p:nvSpPr>
        <p:spPr>
          <a:xfrm>
            <a:off x="1258920" y="3429000"/>
            <a:ext cx="6553080" cy="18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73"/>
                </a:solidFill>
                <a:latin typeface="Verdana"/>
              </a:rPr>
              <a:t>Università di Bologna – Sede Buenos Aires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73"/>
                </a:solidFill>
                <a:latin typeface="Verdana"/>
              </a:rPr>
              <a:t>Rodriguez Peña 1464 – Tel. + 54 11 4878 2900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73"/>
                </a:solidFill>
                <a:latin typeface="Verdana"/>
              </a:rPr>
              <a:t>angelo.manaresi@unibo.it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73"/>
                </a:solidFill>
                <a:latin typeface="Verdana"/>
              </a:rPr>
              <a:t>www.unibo.edu.ar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32" name="Picture 25" descr="LOGO BUENOS AIRES"/>
          <p:cNvPicPr/>
          <p:nvPr/>
        </p:nvPicPr>
        <p:blipFill>
          <a:blip r:embed="rId1"/>
          <a:stretch/>
        </p:blipFill>
        <p:spPr>
          <a:xfrm>
            <a:off x="3624120" y="1438200"/>
            <a:ext cx="1895760" cy="1658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3"/>
          <p:cNvSpPr/>
          <p:nvPr/>
        </p:nvSpPr>
        <p:spPr>
          <a:xfrm>
            <a:off x="1916280" y="476280"/>
            <a:ext cx="5392440" cy="50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73"/>
                </a:solidFill>
                <a:latin typeface="Verdana"/>
              </a:rPr>
              <a:t>Muchas Gracias !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bordando conceptos complejos es mejor empezar por el significado de las palab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novar”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&gt; 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biar para prorrogar la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validez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al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ransformar”=&gt;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mbio en la forma, en la mentalidad, en la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un contexto muy dinámico, no se puede solo renovar (que significaría cambiar poco estando en el mismo paradigma, al mismo “modelo de negocio 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su lugar, es necesario transformar, cambiar en la forma y las ideas, evolucionar cambiando el "modelo de negocio", y redefinir nuevas “reglas de competenc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147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ource based view of the firm: 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cursos y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8920" y="142416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diferencias en términos de performance entre las organizaciones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ueden ser reconducidas a las diferencias entre los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recursos y las capacidades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(Hitt, Bierman, Shimizu, y Kochar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cursos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raros o único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, difíciles de imitar y transmitir (Amit y Schoemaker, 1993; Barney, 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intangible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y difícilmente imitables para los competidores (Black e Boal, 1994; Peteraf, 1993; Rao,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o de los recursos intangibles más difícil de imitar está representado por el  </a:t>
            </a:r>
            <a:r>
              <a:rPr b="0" lang="es-AR" sz="2000" spc="-1" strike="noStrike">
                <a:solidFill>
                  <a:srgbClr val="ff0000"/>
                </a:solidFill>
                <a:latin typeface="Arial"/>
              </a:rPr>
              <a:t>capital human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(Barney, 1991; Becker, 1983; Pfeffer, 1994, 1998; Wright, Smart e McMahan, 199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estión de los recursos humanos y performance empresa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Debate en los años ‘90 e inicio 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high performance o high commitment work practices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(Huselid, 1995; MacDuffie, 199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job redesig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job flex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problemsolving group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team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best fit”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alineamiento de las estrategias de gestión de los recursos humanos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con las condiciones de estrategias y de contesto competitivo </a:t>
            </a: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(Wood,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8840" y="274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El mas importante dilema hoy es en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52000" indent="-2520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2000" indent="-2520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2000" indent="-2520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espíritu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2000" indent="-2520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2000" indent="-252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sta hace unos años eran capacidades en contraste (y personas distintas) en una visión moderna tienen que integrarse totalmente en la mism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Visión tradicional de management: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rector  administrativo y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abilidad relativa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ructura de 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gulación del sector y de la econom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Objetivos: crecimiento de las ventas, market share, superavit, efici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Visión moderna de management: C.E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cidir rápidamente y tener visión sobre evolucione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eografía y ventajas 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Objetivos: aprovechar recursos y oportunidades con energía y 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spíritu (y el comportamiento) empresarial: visión tradicional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una visión tradicional el empresario es el fundador de un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uchas veces no tiene una educación managerial form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legaba a formar una nueva empresa después de años de trabajar duro cerca a la producción (frecuentemente como obr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ultura managerial patern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Vive para trabajar hasta que sus hijos entren en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22:12:28Z</dcterms:created>
  <dc:creator>angelo</dc:creator>
  <dc:description/>
  <dc:language>en-US</dc:language>
  <cp:lastModifiedBy>Dr. Hernán P. Castillejo</cp:lastModifiedBy>
  <cp:lastPrinted>2009-04-22T19:24:48Z</cp:lastPrinted>
  <dcterms:modified xsi:type="dcterms:W3CDTF">2011-05-23T14:07:39Z</dcterms:modified>
  <cp:revision>2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