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jpeg" ContentType="image/jpeg"/>
  <Override PartName="/ppt/media/image30.jpeg" ContentType="image/jpeg"/>
  <Override PartName="/ppt/media/image36.png" ContentType="image/png"/>
  <Override PartName="/ppt/media/image3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1.jpeg" ContentType="image/jpeg"/>
  <Override PartName="/ppt/media/image4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2384-1E18-43CC-A80A-441E80EE00B6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A33C-A941-4AB8-9A38-B0BB7448C69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A648-97C0-4AB0-8D32-7E57B43E92B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EC51-050F-4DEC-8CD3-221782B88FD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8031-12EC-4300-813D-C7C5A216A4A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A656-A83B-4675-B231-FF2023CA60A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0513-0F23-48BE-BEF2-118B1610C60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F526-904C-4936-87E8-C24A7825E27B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0216-5458-4D01-ACAB-9AF379F9675C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C1FB-8BAE-438F-A58F-EC18425ED57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93DD-BB43-4125-B43A-562B21CC39D0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A3F7-46D2-431A-B5D1-8F87935F1D72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5D67-5CB0-456C-A89D-4A88D4497979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D198-E49E-423A-995A-E178FDCC1276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6F1C-0719-4E2C-A6F6-EEA1573A166E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EDAA-7F66-4D03-98E4-1ADB629A9987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DB13-4E87-467C-B474-682EBB031384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07FA01-E08D-48FC-93FB-F42F3EB9E40D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EBB2-442C-498D-A78B-3708333CD9E3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BB69-B203-4411-837A-6269513A4B1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67EE-6C1C-481D-9223-A964997DA34B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95F0-7938-4F5E-8C9A-BCF646310900}" type="slidenum">
              <a:rPr b="0" lang="ca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EC76-97FC-45CB-9A35-9CD7D82E6295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371520" y="8724960"/>
            <a:ext cx="6186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s-ES" sz="700" spc="-1" strike="noStrike">
                <a:solidFill>
                  <a:srgbClr val="485b76"/>
                </a:solidFill>
                <a:latin typeface="Arial"/>
              </a:rPr>
              <a:t>Institut d'Innovació social -`Copyright ESADE - Todos los derechos reserva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2189160" y="671400"/>
            <a:ext cx="4292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" sz="1000" spc="-1" strike="noStrike">
                <a:solidFill>
                  <a:srgbClr val="485b76"/>
                </a:solidFill>
                <a:latin typeface="Arial"/>
              </a:rPr>
              <a:t>Proposta projecte Gas Na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103800" y="8583480"/>
            <a:ext cx="4622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65EB0C02-9546-4572-BC58-A2C6DDA14F3A}" type="slidenum">
              <a:rPr b="1" lang="es-ES" sz="900" spc="-1" strike="noStrike">
                <a:solidFill>
                  <a:srgbClr val="485b7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2520" y="1262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5033880"/>
            <a:ext cx="5029200" cy="34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35A3-29FE-4255-9C38-8CDDA5CA3EC8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71520" y="8724960"/>
            <a:ext cx="6186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s-ES" sz="700" spc="-1" strike="noStrike">
                <a:solidFill>
                  <a:srgbClr val="485b76"/>
                </a:solidFill>
                <a:latin typeface="Arial"/>
              </a:rPr>
              <a:t>Institut d'Innovació social -`Copyright ESADE - Todos los derechos reserva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2189160" y="671400"/>
            <a:ext cx="4292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" sz="1000" spc="-1" strike="noStrike">
                <a:solidFill>
                  <a:srgbClr val="485b76"/>
                </a:solidFill>
                <a:latin typeface="Arial"/>
              </a:rPr>
              <a:t>Proposta projecte Gas Na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6103800" y="8583480"/>
            <a:ext cx="4622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31CF166F-9223-4F04-895C-63422D1804C9}" type="slidenum">
              <a:rPr b="1" lang="es-ES" sz="900" spc="-1" strike="noStrike">
                <a:solidFill>
                  <a:srgbClr val="485b7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52520" y="1262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5033880"/>
            <a:ext cx="5029200" cy="34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CB16-BB7E-494C-B327-5FB04501223A}" type="slidenum">
              <a:rPr b="0" lang="ca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CC0-0A53-4324-AFB1-E20EC86C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C63-339A-49FB-B928-CC41F50C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369-49BA-4B93-B909-F0A7F607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0A6-8EAD-488E-B7BB-33D865AD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5FB-8091-45EC-AF4C-DFBAC7B2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3EF-8227-4196-81E9-1102D969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70F-0FED-4A2C-B105-7682597F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F6D-F175-46DD-B555-D65AB0E8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805-81BB-4DCC-9868-3D7FEAB9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786-7EC9-4A02-8C03-709CF86D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DE3-1ED0-450B-ADA7-EBEC9EBD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AED-F2DB-41B0-BFC1-2BD1F646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1418-2891-4096-B1D3-08E8BB63AAC4}" type="slidenum">
              <a:rPr b="0" lang="ca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speninstitute.org/site/c.huLWJeMRKpH/b.487601/k.CB35/Home.htm" TargetMode="Externa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44160" y="2133720"/>
            <a:ext cx="86619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NUEVOS DESAFÍ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EL LIDERAZGO EN L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ORGANIZACIONES INTELIG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Àngel Castiñ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18 de may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5"/>
          <p:cNvGraphicFramePr/>
          <p:nvPr/>
        </p:nvGraphicFramePr>
        <p:xfrm>
          <a:off x="108000" y="115920"/>
          <a:ext cx="208764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5920"/>
                    <a:ext cx="20876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24000" y="189000"/>
            <a:ext cx="8424720" cy="6121440"/>
            <a:chOff x="324000" y="189000"/>
            <a:chExt cx="8424720" cy="6121440"/>
          </a:xfrm>
        </p:grpSpPr>
        <p:sp>
          <p:nvSpPr>
            <p:cNvPr id="90" name="Text Box 3"/>
            <p:cNvSpPr/>
            <p:nvPr/>
          </p:nvSpPr>
          <p:spPr>
            <a:xfrm>
              <a:off x="324000" y="189000"/>
              <a:ext cx="84247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El valor del liderazgo ya no es una cuestión sólo de élite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Hay </a:t>
              </a:r>
              <a:r>
                <a:rPr b="1" lang="es-E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diferentes escalas o niveles de liderazgo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4"/>
            <p:cNvGrpSpPr/>
            <p:nvPr/>
          </p:nvGrpSpPr>
          <p:grpSpPr>
            <a:xfrm>
              <a:off x="3052800" y="3319560"/>
              <a:ext cx="3038400" cy="2990880"/>
              <a:chOff x="3052800" y="3319560"/>
              <a:chExt cx="3038400" cy="2990880"/>
            </a:xfrm>
          </p:grpSpPr>
          <p:pic>
            <p:nvPicPr>
              <p:cNvPr id="92" name="Picture 5" descr="escalon"/>
              <p:cNvPicPr/>
              <p:nvPr/>
            </p:nvPicPr>
            <p:blipFill>
              <a:blip r:embed="rId1"/>
              <a:stretch/>
            </p:blipFill>
            <p:spPr>
              <a:xfrm>
                <a:off x="3052800" y="3319560"/>
                <a:ext cx="3038400" cy="299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Rectangle 6"/>
              <p:cNvSpPr/>
              <p:nvPr/>
            </p:nvSpPr>
            <p:spPr>
              <a:xfrm>
                <a:off x="4140360" y="5805720"/>
                <a:ext cx="71892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Text Box 7"/>
          <p:cNvSpPr/>
          <p:nvPr/>
        </p:nvSpPr>
        <p:spPr>
          <a:xfrm>
            <a:off x="760320" y="2276640"/>
            <a:ext cx="76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amos hacia formas de micro, meso, ma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 meta lideraz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3754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0" y="0"/>
            <a:ext cx="5986440" cy="647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DERAZGO EN EL SIGLO X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2565360"/>
            <a:ext cx="876924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define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co respeto a la autoridad, se cuestiona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 les gusta el formalismo ni las jerarqu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al a sus colegas no a una fi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dividualis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entrados en el presente (visión cortoplacista e impaci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aloran el ambiente de trabajo y la concil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880" y="1557360"/>
            <a:ext cx="47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Generación Y” (1980 - …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4662360"/>
            <a:ext cx="3851280" cy="2195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0" y="0"/>
            <a:ext cx="5986440" cy="647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IDERAZGO EN EL SIGLO X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4920" y="785880"/>
            <a:ext cx="8769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Qué esperan los jóvenes del trabajo? Según Dytchwald et al (2006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ponsabilidad individual,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liberta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tom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ntorno de trabaj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gradable, que fomente las relacione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Oportunidades de aprendizaje y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olaboració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toma conjunt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Feedback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continuo y revisiones de su rend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omunicació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bierta y gestores cercanos y acce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Respe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 los más mayores a su estilo de vida y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Retribución por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Flexibilida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emporal y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e ese escenari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262673"/>
                </a:solidFill>
                <a:latin typeface="Arial"/>
              </a:rPr>
              <a:t>Ya no sirve gestion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262673"/>
                </a:solidFill>
                <a:latin typeface="Arial"/>
              </a:rPr>
              <a:t>la obediencia, hay que liderar el entusiasm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62673"/>
                </a:solidFill>
                <a:latin typeface="Arial"/>
              </a:rPr>
              <a:t>movilizar las voluntade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7800" y="692280"/>
            <a:ext cx="47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Generación Y” (1980 - …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59360" y="0"/>
            <a:ext cx="5155920" cy="6842160"/>
          </a:xfrm>
          <a:prstGeom prst="rect">
            <a:avLst/>
          </a:prstGeom>
          <a:ln w="0">
            <a:noFill/>
          </a:ln>
        </p:spPr>
      </p:pic>
      <p:sp>
        <p:nvSpPr>
          <p:cNvPr id="104" name="3 CuadroTexto"/>
          <p:cNvSpPr/>
          <p:nvPr/>
        </p:nvSpPr>
        <p:spPr>
          <a:xfrm>
            <a:off x="444960" y="3960720"/>
            <a:ext cx="325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Cómo cap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y re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talen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062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AMBIO EN EL MODELO DE LIDERAZ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4009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l líder autoritario … al líder facili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mandar… a crear comprom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imponer una meta …a crear objetivos com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trabajo-en-equipo-thumb7447490"/>
          <p:cNvPicPr/>
          <p:nvPr/>
        </p:nvPicPr>
        <p:blipFill>
          <a:blip r:embed="rId1"/>
          <a:stretch/>
        </p:blipFill>
        <p:spPr>
          <a:xfrm>
            <a:off x="3000240" y="3187800"/>
            <a:ext cx="3407040" cy="34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71280" y="52531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00000"/>
                </a:solidFill>
                <a:latin typeface="Arial"/>
              </a:rPr>
              <a:t>No competiremos contra los grand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600" spc="-1" strike="noStrike">
                <a:solidFill>
                  <a:srgbClr val="000000"/>
                </a:solidFill>
                <a:latin typeface="Arial"/>
              </a:rPr>
              <a:t>sino contra los ráp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rapido"/>
          <p:cNvPicPr/>
          <p:nvPr/>
        </p:nvPicPr>
        <p:blipFill>
          <a:blip r:embed="rId1"/>
          <a:stretch/>
        </p:blipFill>
        <p:spPr>
          <a:xfrm>
            <a:off x="539640" y="3284640"/>
            <a:ext cx="2376720" cy="1784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hrome-el-navegador-mas-rapido-del-mundo"/>
          <p:cNvPicPr/>
          <p:nvPr/>
        </p:nvPicPr>
        <p:blipFill>
          <a:blip r:embed="rId2"/>
          <a:stretch/>
        </p:blipFill>
        <p:spPr>
          <a:xfrm>
            <a:off x="2843280" y="1525680"/>
            <a:ext cx="6300720" cy="3806640"/>
          </a:xfrm>
          <a:prstGeom prst="rect">
            <a:avLst/>
          </a:prstGeom>
          <a:ln w="0">
            <a:noFill/>
          </a:ln>
        </p:spPr>
      </p:pic>
      <p:sp>
        <p:nvSpPr>
          <p:cNvPr id="112" name="Oval 7"/>
          <p:cNvSpPr/>
          <p:nvPr/>
        </p:nvSpPr>
        <p:spPr>
          <a:xfrm>
            <a:off x="5148360" y="3429000"/>
            <a:ext cx="64764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1476360" y="2027160"/>
            <a:ext cx="6193800" cy="4686840"/>
            <a:chOff x="1476360" y="2027160"/>
            <a:chExt cx="6193800" cy="4686840"/>
          </a:xfrm>
        </p:grpSpPr>
        <p:pic>
          <p:nvPicPr>
            <p:cNvPr id="114" name="Picture 3" descr="962738"/>
            <p:cNvPicPr/>
            <p:nvPr/>
          </p:nvPicPr>
          <p:blipFill>
            <a:blip r:embed="rId1"/>
            <a:stretch/>
          </p:blipFill>
          <p:spPr>
            <a:xfrm>
              <a:off x="1476360" y="2027160"/>
              <a:ext cx="612144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4"/>
            <p:cNvSpPr/>
            <p:nvPr/>
          </p:nvSpPr>
          <p:spPr>
            <a:xfrm>
              <a:off x="1519920" y="5157720"/>
              <a:ext cx="6150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3200" spc="-1" strike="noStrike">
                  <a:solidFill>
                    <a:srgbClr val="000000"/>
                  </a:solidFill>
                  <a:latin typeface="Arial"/>
                </a:rPr>
                <a:t>ANTICIPACIÓN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3200" spc="-1" strike="noStrike">
                  <a:solidFill>
                    <a:srgbClr val="000000"/>
                  </a:solidFill>
                  <a:latin typeface="Arial"/>
                </a:rPr>
                <a:t>RESPONSABILIDAD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3200" spc="-1" strike="noStrike">
                  <a:solidFill>
                    <a:srgbClr val="000000"/>
                  </a:solidFill>
                  <a:latin typeface="Arial"/>
                </a:rPr>
                <a:t>INTELIGENCIA COOPERAT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5"/>
          <p:cNvSpPr/>
          <p:nvPr/>
        </p:nvSpPr>
        <p:spPr>
          <a:xfrm>
            <a:off x="539640" y="442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El factor clave no residirá en la jerarquí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ni en la medida de las organiz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sino en los que te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</a:rPr>
              <a:t>capacidad creativa, rapidez y ag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24000" y="333360"/>
            <a:ext cx="844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Organizaciones ágiles, participativas, abiertas, transparentes, cent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Arial"/>
              </a:rPr>
              <a:t>en las personas, donde el liderazgo y la innovación es compar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testigo"/>
          <p:cNvPicPr/>
          <p:nvPr/>
        </p:nvPicPr>
        <p:blipFill>
          <a:blip r:embed="rId1"/>
          <a:stretch/>
        </p:blipFill>
        <p:spPr>
          <a:xfrm>
            <a:off x="1616040" y="2909880"/>
            <a:ext cx="5908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14680" y="523800"/>
            <a:ext cx="57150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9 Grupo"/>
          <p:cNvGrpSpPr/>
          <p:nvPr/>
        </p:nvGrpSpPr>
        <p:grpSpPr>
          <a:xfrm>
            <a:off x="0" y="4000680"/>
            <a:ext cx="3214800" cy="2928600"/>
            <a:chOff x="0" y="4000680"/>
            <a:chExt cx="3214800" cy="2928600"/>
          </a:xfrm>
        </p:grpSpPr>
        <p:pic>
          <p:nvPicPr>
            <p:cNvPr id="121" name="Picture 6" descr=""/>
            <p:cNvPicPr/>
            <p:nvPr/>
          </p:nvPicPr>
          <p:blipFill>
            <a:blip r:embed="rId1"/>
            <a:stretch/>
          </p:blipFill>
          <p:spPr>
            <a:xfrm>
              <a:off x="88560" y="4000680"/>
              <a:ext cx="2768760" cy="29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6 Elipse"/>
            <p:cNvSpPr/>
            <p:nvPr/>
          </p:nvSpPr>
          <p:spPr>
            <a:xfrm>
              <a:off x="0" y="4143240"/>
              <a:ext cx="3214800" cy="27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10 Grupo"/>
          <p:cNvGrpSpPr/>
          <p:nvPr/>
        </p:nvGrpSpPr>
        <p:grpSpPr>
          <a:xfrm>
            <a:off x="2856600" y="2143080"/>
            <a:ext cx="3234600" cy="2428920"/>
            <a:chOff x="2856600" y="2143080"/>
            <a:chExt cx="3234600" cy="2428920"/>
          </a:xfrm>
        </p:grpSpPr>
        <p:pic>
          <p:nvPicPr>
            <p:cNvPr id="124" name="Picture 3" descr=""/>
            <p:cNvPicPr/>
            <p:nvPr/>
          </p:nvPicPr>
          <p:blipFill>
            <a:blip r:embed="rId2"/>
            <a:stretch/>
          </p:blipFill>
          <p:spPr>
            <a:xfrm>
              <a:off x="3071880" y="2500200"/>
              <a:ext cx="301932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7 Elipse"/>
            <p:cNvSpPr/>
            <p:nvPr/>
          </p:nvSpPr>
          <p:spPr>
            <a:xfrm>
              <a:off x="2857680" y="2143080"/>
              <a:ext cx="3214800" cy="2428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13 Conector recto de flecha"/>
            <p:cNvCxnSpPr/>
            <p:nvPr/>
          </p:nvCxnSpPr>
          <p:spPr>
            <a:xfrm flipV="1">
              <a:off x="2856600" y="4142880"/>
              <a:ext cx="28620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7" name="11 Grupo"/>
          <p:cNvGrpSpPr/>
          <p:nvPr/>
        </p:nvGrpSpPr>
        <p:grpSpPr>
          <a:xfrm>
            <a:off x="5643720" y="71280"/>
            <a:ext cx="3525840" cy="2571840"/>
            <a:chOff x="5643720" y="71280"/>
            <a:chExt cx="3525840" cy="2571840"/>
          </a:xfrm>
        </p:grpSpPr>
        <p:pic>
          <p:nvPicPr>
            <p:cNvPr id="128" name="Picture 4" descr=""/>
            <p:cNvPicPr/>
            <p:nvPr/>
          </p:nvPicPr>
          <p:blipFill>
            <a:blip r:embed="rId3"/>
            <a:stretch/>
          </p:blipFill>
          <p:spPr>
            <a:xfrm>
              <a:off x="5643720" y="226800"/>
              <a:ext cx="352584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8 Elipse"/>
            <p:cNvSpPr/>
            <p:nvPr/>
          </p:nvSpPr>
          <p:spPr>
            <a:xfrm>
              <a:off x="5857920" y="71280"/>
              <a:ext cx="3143520" cy="2571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15 Conector recto de flecha"/>
            <p:cNvCxnSpPr/>
            <p:nvPr/>
          </p:nvCxnSpPr>
          <p:spPr>
            <a:xfrm flipV="1">
              <a:off x="5713920" y="2142360"/>
              <a:ext cx="28620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9280" y="571320"/>
            <a:ext cx="7620120" cy="12142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LOS NUEVOS ATRIBUTOS DEL 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    LIDERAZ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 Título"/>
          <p:cNvSpPr/>
          <p:nvPr/>
        </p:nvSpPr>
        <p:spPr>
          <a:xfrm>
            <a:off x="1500120" y="2825640"/>
            <a:ext cx="5786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  <a:ea typeface="Arial"/>
              </a:rPr>
              <a:t>6  TENDEN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Figure 2: Single Leadership"/>
          <p:cNvPicPr/>
          <p:nvPr/>
        </p:nvPicPr>
        <p:blipFill>
          <a:blip r:embed="rId1"/>
          <a:stretch/>
        </p:blipFill>
        <p:spPr>
          <a:xfrm>
            <a:off x="0" y="1989000"/>
            <a:ext cx="4572000" cy="3470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34560" y="199440"/>
            <a:ext cx="9065520" cy="6732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Arial"/>
                <a:ea typeface="Arial"/>
              </a:rPr>
              <a:t>DE LA JERARQUÍA A LA REDARQUÍA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xteams_fig2b"/>
          <p:cNvPicPr/>
          <p:nvPr/>
        </p:nvPicPr>
        <p:blipFill>
          <a:blip r:embed="rId2"/>
          <a:stretch/>
        </p:blipFill>
        <p:spPr>
          <a:xfrm>
            <a:off x="4714920" y="2060640"/>
            <a:ext cx="432108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216000" y="728640"/>
            <a:ext cx="368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Jerarqu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Pue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501440" y="750960"/>
            <a:ext cx="335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Ag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Divers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Co-cre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Horizont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Autogest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ideaspropias"/>
          <p:cNvPicPr/>
          <p:nvPr/>
        </p:nvPicPr>
        <p:blipFill>
          <a:blip r:embed="rId1"/>
          <a:stretch/>
        </p:blipFill>
        <p:spPr>
          <a:xfrm>
            <a:off x="125280" y="208080"/>
            <a:ext cx="8893440" cy="6441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186920" y="6355440"/>
            <a:ext cx="6771960" cy="45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TL (potencial de transferencia de liderazg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2400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uma de las capacidades coincidentes en un directivo para transferir liderazgo a otros, en un contexto y momento determin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posesión de un alto PTL constituye el más claro predictor de éxito del directivo en organizaciones del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755640" y="-166680"/>
            <a:ext cx="7561440" cy="7024680"/>
            <a:chOff x="755640" y="-166680"/>
            <a:chExt cx="7561440" cy="7024680"/>
          </a:xfrm>
        </p:grpSpPr>
        <p:sp>
          <p:nvSpPr>
            <p:cNvPr id="140" name="Rectangle 4"/>
            <p:cNvSpPr/>
            <p:nvPr/>
          </p:nvSpPr>
          <p:spPr>
            <a:xfrm>
              <a:off x="755640" y="-166680"/>
              <a:ext cx="7561440" cy="11912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T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TENCIAL DE TRANSFERENCIA DE LIDERAZGO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5" descr="21Team"/>
            <p:cNvPicPr/>
            <p:nvPr/>
          </p:nvPicPr>
          <p:blipFill>
            <a:blip r:embed="rId1"/>
            <a:stretch/>
          </p:blipFill>
          <p:spPr>
            <a:xfrm>
              <a:off x="1986120" y="3468600"/>
              <a:ext cx="5100480" cy="3389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8501040" cy="2643120"/>
          </a:xfrm>
          <a:prstGeom prst="rect">
            <a:avLst/>
          </a:prstGeom>
          <a:ln w="0">
            <a:noFill/>
          </a:ln>
        </p:spPr>
      </p:pic>
      <p:sp>
        <p:nvSpPr>
          <p:cNvPr id="143" name="2 Rectángulo"/>
          <p:cNvSpPr/>
          <p:nvPr/>
        </p:nvSpPr>
        <p:spPr>
          <a:xfrm>
            <a:off x="1000080" y="1214280"/>
            <a:ext cx="3000600" cy="2500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Rectángulo"/>
          <p:cNvSpPr/>
          <p:nvPr/>
        </p:nvSpPr>
        <p:spPr>
          <a:xfrm>
            <a:off x="3857760" y="1214280"/>
            <a:ext cx="1928520" cy="2500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4 CuadroTexto"/>
          <p:cNvSpPr/>
          <p:nvPr/>
        </p:nvSpPr>
        <p:spPr>
          <a:xfrm>
            <a:off x="1513800" y="1643040"/>
            <a:ext cx="593532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RE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EN LIDERAZ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95280" y="2276640"/>
            <a:ext cx="8372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l liderazgo no puede ser transferido a cualqui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rson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or eso, la otra parte del PTL se encuentra en el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quip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, el cual tiene que reunir las características -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talento, madurez, compromiso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que permiten activar responsablemente la transfer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tencion"/>
          <p:cNvPicPr/>
          <p:nvPr/>
        </p:nvPicPr>
        <p:blipFill>
          <a:blip r:embed="rId1"/>
          <a:stretch/>
        </p:blipFill>
        <p:spPr>
          <a:xfrm>
            <a:off x="285840" y="285840"/>
            <a:ext cx="1258920" cy="12589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2303640" y="765000"/>
            <a:ext cx="4536000" cy="1557000"/>
            <a:chOff x="2303640" y="765000"/>
            <a:chExt cx="4536000" cy="1557000"/>
          </a:xfrm>
        </p:grpSpPr>
        <p:pic>
          <p:nvPicPr>
            <p:cNvPr id="149" name="Picture 5" descr=""/>
            <p:cNvPicPr/>
            <p:nvPr/>
          </p:nvPicPr>
          <p:blipFill>
            <a:blip r:embed="rId2"/>
            <a:stretch/>
          </p:blipFill>
          <p:spPr>
            <a:xfrm>
              <a:off x="2303640" y="765000"/>
              <a:ext cx="518040" cy="155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6"/>
            <p:cNvGrpSpPr/>
            <p:nvPr/>
          </p:nvGrpSpPr>
          <p:grpSpPr>
            <a:xfrm>
              <a:off x="4939920" y="820800"/>
              <a:ext cx="1899720" cy="1458720"/>
              <a:chOff x="4939920" y="820800"/>
              <a:chExt cx="1899720" cy="1458720"/>
            </a:xfrm>
          </p:grpSpPr>
          <p:pic>
            <p:nvPicPr>
              <p:cNvPr id="151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5120" y="820800"/>
                <a:ext cx="523080" cy="145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888880" y="820800"/>
                <a:ext cx="523080" cy="145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6316560" y="820800"/>
                <a:ext cx="523080" cy="145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4939920" y="820800"/>
                <a:ext cx="522720" cy="1458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AutoShape 11"/>
            <p:cNvSpPr/>
            <p:nvPr/>
          </p:nvSpPr>
          <p:spPr>
            <a:xfrm>
              <a:off x="3080880" y="1276920"/>
              <a:ext cx="1555560" cy="546480"/>
            </a:xfrm>
            <a:prstGeom prst="leftRightArrow">
              <a:avLst>
                <a:gd name="adj1" fmla="val 50000"/>
                <a:gd name="adj2" fmla="val 5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69920" y="304920"/>
            <a:ext cx="880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 lídere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centralizador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de ordenar y control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 “líderes </a:t>
            </a:r>
            <a:r>
              <a:rPr b="1" lang="es-ES" sz="2400" spc="-1" strike="noStrike">
                <a:solidFill>
                  <a:srgbClr val="008000"/>
                </a:solidFill>
                <a:latin typeface="Arial"/>
                <a:ea typeface="Arial"/>
              </a:rPr>
              <a:t>distribuido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“: coordinar y cul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os con menos poder que los jefes tradicionales, pero que toman decisiones en vez de seguir órd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team"/>
          <p:cNvPicPr/>
          <p:nvPr/>
        </p:nvPicPr>
        <p:blipFill>
          <a:blip r:embed="rId1"/>
          <a:stretch/>
        </p:blipFill>
        <p:spPr>
          <a:xfrm>
            <a:off x="179280" y="3716280"/>
            <a:ext cx="4175280" cy="280836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158" name="Picture 4" descr="about"/>
          <p:cNvPicPr/>
          <p:nvPr/>
        </p:nvPicPr>
        <p:blipFill>
          <a:blip r:embed="rId2"/>
          <a:stretch/>
        </p:blipFill>
        <p:spPr>
          <a:xfrm>
            <a:off x="4788000" y="3716280"/>
            <a:ext cx="4032000" cy="2881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233280" y="2717640"/>
            <a:ext cx="8586720" cy="7038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¿en qué lugares es más importante contar con trabajadores mu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otivados, creativos y flexi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0" y="1397160"/>
          <a:ext cx="9144000" cy="4078080"/>
        </p:xfrm>
        <a:graphic>
          <a:graphicData uri="http://schemas.openxmlformats.org/drawingml/2006/table">
            <a:tbl>
              <a:tblPr/>
              <a:tblGrid>
                <a:gridCol w="2286000"/>
                <a:gridCol w="1638360"/>
                <a:gridCol w="2519280"/>
                <a:gridCol w="27003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g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u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rear objetivos comu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d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rear compromi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bil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terperson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lidades intraperson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29"/>
          <p:cNvSpPr/>
          <p:nvPr/>
        </p:nvSpPr>
        <p:spPr>
          <a:xfrm>
            <a:off x="1334880" y="189000"/>
            <a:ext cx="6756840" cy="642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ffffff"/>
                </a:solidFill>
                <a:latin typeface="Arial"/>
                <a:ea typeface="Arial"/>
              </a:rPr>
              <a:t>EVOLUCIÓN DEL LIDERAZ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Flecha izquierda y derecha"/>
          <p:cNvSpPr/>
          <p:nvPr/>
        </p:nvSpPr>
        <p:spPr>
          <a:xfrm>
            <a:off x="2143080" y="357120"/>
            <a:ext cx="4786200" cy="100008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0066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15 Grupo"/>
          <p:cNvGrpSpPr/>
          <p:nvPr/>
        </p:nvGrpSpPr>
        <p:grpSpPr>
          <a:xfrm>
            <a:off x="285840" y="0"/>
            <a:ext cx="1801800" cy="2142720"/>
            <a:chOff x="285840" y="0"/>
            <a:chExt cx="1801800" cy="2142720"/>
          </a:xfrm>
        </p:grpSpPr>
        <p:pic>
          <p:nvPicPr>
            <p:cNvPr id="164" name="Picture 2" descr="http://4.bp.blogspot.com/_zZGjddum5XM/S8QSjFddv9I/AAAAAAAAQqw/H-nx515yjMo/s1600/celulas-madre-y-cerebro.jpg"/>
            <p:cNvPicPr/>
            <p:nvPr/>
          </p:nvPicPr>
          <p:blipFill>
            <a:blip r:embed="rId1"/>
            <a:stretch/>
          </p:blipFill>
          <p:spPr>
            <a:xfrm>
              <a:off x="643680" y="0"/>
              <a:ext cx="1429200" cy="13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13 CuadroTexto"/>
            <p:cNvSpPr/>
            <p:nvPr/>
          </p:nvSpPr>
          <p:spPr>
            <a:xfrm>
              <a:off x="285840" y="1500120"/>
              <a:ext cx="18018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STRATE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16 Grupo"/>
          <p:cNvGrpSpPr/>
          <p:nvPr/>
        </p:nvGrpSpPr>
        <p:grpSpPr>
          <a:xfrm>
            <a:off x="7000920" y="0"/>
            <a:ext cx="1542960" cy="1928520"/>
            <a:chOff x="7000920" y="0"/>
            <a:chExt cx="1542960" cy="1928520"/>
          </a:xfrm>
        </p:grpSpPr>
        <p:pic>
          <p:nvPicPr>
            <p:cNvPr id="167" name="Picture 4" descr="http://2.bp.blogspot.com/_p47KaKOe4r0/TPVMiW7xlgI/AAAAAAAAAYw/CpKm0pNV5q0/s1600/hands.jpg"/>
            <p:cNvPicPr/>
            <p:nvPr/>
          </p:nvPicPr>
          <p:blipFill>
            <a:blip r:embed="rId2"/>
            <a:stretch/>
          </p:blipFill>
          <p:spPr>
            <a:xfrm>
              <a:off x="7072560" y="0"/>
              <a:ext cx="107100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14 CuadroTexto"/>
            <p:cNvSpPr/>
            <p:nvPr/>
          </p:nvSpPr>
          <p:spPr>
            <a:xfrm>
              <a:off x="7000920" y="1285920"/>
              <a:ext cx="15429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ÁC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18 Grupo"/>
          <p:cNvGrpSpPr/>
          <p:nvPr/>
        </p:nvGrpSpPr>
        <p:grpSpPr>
          <a:xfrm>
            <a:off x="3831120" y="1428840"/>
            <a:ext cx="1383840" cy="1306800"/>
            <a:chOff x="3831120" y="1428840"/>
            <a:chExt cx="1383840" cy="1306800"/>
          </a:xfrm>
        </p:grpSpPr>
        <p:pic>
          <p:nvPicPr>
            <p:cNvPr id="170" name="Picture 8" descr="http://webcatolicodejavier.org/corazon.gif"/>
            <p:cNvPicPr/>
            <p:nvPr/>
          </p:nvPicPr>
          <p:blipFill>
            <a:blip r:embed="rId3"/>
            <a:stretch/>
          </p:blipFill>
          <p:spPr>
            <a:xfrm>
              <a:off x="4071240" y="1428840"/>
              <a:ext cx="11437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15 CuadroTexto"/>
            <p:cNvSpPr/>
            <p:nvPr/>
          </p:nvSpPr>
          <p:spPr>
            <a:xfrm>
              <a:off x="3831120" y="2367360"/>
              <a:ext cx="13510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EMO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19 Grupo"/>
          <p:cNvGrpSpPr/>
          <p:nvPr/>
        </p:nvGrpSpPr>
        <p:grpSpPr>
          <a:xfrm>
            <a:off x="3857760" y="4714920"/>
            <a:ext cx="1296360" cy="2084400"/>
            <a:chOff x="3857760" y="4714920"/>
            <a:chExt cx="1296360" cy="2084400"/>
          </a:xfrm>
        </p:grpSpPr>
        <p:pic>
          <p:nvPicPr>
            <p:cNvPr id="173" name="Picture 12" descr="http://multifaithalliance.files.wordpress.com/2010/12/candle-flame.jpg"/>
            <p:cNvPicPr/>
            <p:nvPr/>
          </p:nvPicPr>
          <p:blipFill>
            <a:blip r:embed="rId4"/>
            <a:stretch/>
          </p:blipFill>
          <p:spPr>
            <a:xfrm>
              <a:off x="4000320" y="5361120"/>
              <a:ext cx="10004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16 CuadroTexto"/>
            <p:cNvSpPr/>
            <p:nvPr/>
          </p:nvSpPr>
          <p:spPr>
            <a:xfrm>
              <a:off x="3857760" y="4714920"/>
              <a:ext cx="12963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SENT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Calibri"/>
                </a:rPr>
                <a:t>PROPÓS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18 Grupo" descr=""/>
          <p:cNvPicPr/>
          <p:nvPr/>
        </p:nvPicPr>
        <p:blipFill>
          <a:blip r:embed="rId5"/>
          <a:stretch/>
        </p:blipFill>
        <p:spPr>
          <a:xfrm>
            <a:off x="3822840" y="2687760"/>
            <a:ext cx="1358640" cy="2676240"/>
          </a:xfrm>
          <a:prstGeom prst="rect">
            <a:avLst/>
          </a:prstGeom>
          <a:ln w="0">
            <a:noFill/>
          </a:ln>
        </p:spPr>
      </p:pic>
      <p:cxnSp>
        <p:nvCxnSpPr>
          <p:cNvPr id="176" name="24 Conector recto de flecha"/>
          <p:cNvCxnSpPr/>
          <p:nvPr/>
        </p:nvCxnSpPr>
        <p:spPr>
          <a:xfrm flipV="1">
            <a:off x="4857480" y="1642320"/>
            <a:ext cx="2143800" cy="1715400"/>
          </a:xfrm>
          <a:prstGeom prst="straightConnector1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177" name="26 Conector recto de flecha"/>
          <p:cNvCxnSpPr>
            <a:endCxn id="165" idx="3"/>
          </p:cNvCxnSpPr>
          <p:nvPr/>
        </p:nvCxnSpPr>
        <p:spPr>
          <a:xfrm flipH="1" flipV="1">
            <a:off x="2087280" y="1871280"/>
            <a:ext cx="1985040" cy="1472400"/>
          </a:xfrm>
          <a:prstGeom prst="straightConnector1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CuadroTexto"/>
          <p:cNvSpPr/>
          <p:nvPr/>
        </p:nvSpPr>
        <p:spPr>
          <a:xfrm>
            <a:off x="0" y="214200"/>
            <a:ext cx="914400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No hay suficiente con estrategias y acciones. La competencia no implica </a:t>
            </a:r>
            <a:r>
              <a:rPr b="1" lang="es-ES" sz="3000" spc="-1" strike="noStrike">
                <a:solidFill>
                  <a:srgbClr val="ff0000"/>
                </a:solidFill>
                <a:latin typeface="Calibri"/>
              </a:rPr>
              <a:t>compromiso</a:t>
            </a: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No nos comprometemos con la cabeza y las manos, sino sobretodo con el corazón y el al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Dar </a:t>
            </a:r>
            <a:r>
              <a:rPr b="1" lang="es-ES" sz="3000" spc="-1" strike="noStrike">
                <a:solidFill>
                  <a:srgbClr val="ff0000"/>
                </a:solidFill>
                <a:latin typeface="Calibri"/>
              </a:rPr>
              <a:t>sentido</a:t>
            </a: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  genera valor y compromi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4. Liderar es crear sent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5. “</a:t>
            </a:r>
            <a:r>
              <a:rPr b="1" i="1" lang="es-ES" sz="3000" spc="-1" strike="noStrike">
                <a:solidFill>
                  <a:srgbClr val="ff0000"/>
                </a:solidFill>
                <a:latin typeface="Calibri"/>
              </a:rPr>
              <a:t>Quien tiene un porqué es capaz de soportar casi cualquier cómo</a:t>
            </a: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”  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(Nietzsch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2560" y="213840"/>
            <a:ext cx="9001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2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Tanta </a:t>
            </a:r>
            <a:r>
              <a:rPr b="1" lang="es-ES" sz="2400" spc="-1" strike="noStrike">
                <a:solidFill>
                  <a:srgbClr val="0070c0"/>
                </a:solidFill>
                <a:latin typeface="Arial"/>
              </a:rPr>
              <a:t>gestión</a:t>
            </a: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 como </a:t>
            </a:r>
            <a:r>
              <a:rPr b="1" lang="es-ES" sz="2400" spc="-1" strike="noStrike">
                <a:solidFill>
                  <a:srgbClr val="0070c0"/>
                </a:solidFill>
                <a:latin typeface="Arial"/>
              </a:rPr>
              <a:t>liderazgo</a:t>
            </a: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(Planes y presupuestos vs. Visión y estrateg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20202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contexto, complejidad, conectiv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2.    T</a:t>
            </a: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anto liderazgo </a:t>
            </a:r>
            <a:r>
              <a:rPr b="1" lang="es-ES" sz="2400" spc="-1" strike="noStrike">
                <a:solidFill>
                  <a:srgbClr val="0070c0"/>
                </a:solidFill>
                <a:latin typeface="Arial"/>
              </a:rPr>
              <a:t>emprendedor</a:t>
            </a: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 como </a:t>
            </a:r>
            <a:r>
              <a:rPr b="1" lang="es-ES" sz="2400" spc="-1" strike="noStrike">
                <a:solidFill>
                  <a:srgbClr val="0070c0"/>
                </a:solidFill>
                <a:latin typeface="Arial"/>
              </a:rPr>
              <a:t>intraemprend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2020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Tanta jerarquía como </a:t>
            </a:r>
            <a:r>
              <a:rPr b="1" i="1" lang="es-ES" sz="2400" spc="-1" strike="noStrike">
                <a:solidFill>
                  <a:srgbClr val="020202"/>
                </a:solidFill>
                <a:latin typeface="Arial"/>
              </a:rPr>
              <a:t>redarquía</a:t>
            </a: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20202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liderazgo distribuido-</a:t>
            </a: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compartido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, liderazgo facili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2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4.  Tanta relación </a:t>
            </a:r>
            <a:r>
              <a:rPr b="1" lang="es-ES" sz="2400" spc="-1" strike="noStrike">
                <a:solidFill>
                  <a:srgbClr val="0070c0"/>
                </a:solidFill>
                <a:latin typeface="Arial"/>
              </a:rPr>
              <a:t>interpersonal</a:t>
            </a: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 como relación </a:t>
            </a:r>
            <a:r>
              <a:rPr b="1" lang="es-ES" sz="2400" spc="-1" strike="noStrike">
                <a:solidFill>
                  <a:srgbClr val="0070c0"/>
                </a:solidFill>
                <a:latin typeface="Arial"/>
              </a:rPr>
              <a:t>intra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20202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liderazgo reflex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20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5.   Tantas competencias profesionales como integr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20202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liderazgo ético y </a:t>
            </a:r>
            <a:r>
              <a:rPr b="1" lang="es-ES" sz="2000" spc="-1" strike="noStrike">
                <a:solidFill>
                  <a:srgbClr val="0070c0"/>
                </a:solidFill>
                <a:latin typeface="Arial"/>
              </a:rPr>
              <a:t>respon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20202"/>
                </a:solidFill>
                <a:latin typeface="Arial"/>
              </a:rPr>
              <a:t>6.   Más liderazgo </a:t>
            </a:r>
            <a:r>
              <a:rPr b="1" lang="es-ES" sz="2400" spc="-1" strike="noStrike">
                <a:solidFill>
                  <a:srgbClr val="0070c0"/>
                </a:solidFill>
                <a:latin typeface="Arial"/>
              </a:rPr>
              <a:t>relacional </a:t>
            </a:r>
            <a:r>
              <a:rPr b="1" lang="es-ES" sz="2000" spc="-1" strike="noStrike">
                <a:solidFill>
                  <a:srgbClr val="020202"/>
                </a:solidFill>
                <a:latin typeface="Arial"/>
              </a:rPr>
              <a:t>(stakehol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8" descr="6a00d834525fff69e20120a68a5394970c-800wi"/>
          <p:cNvPicPr/>
          <p:nvPr/>
        </p:nvPicPr>
        <p:blipFill>
          <a:blip r:embed="rId1"/>
          <a:stretch/>
        </p:blipFill>
        <p:spPr>
          <a:xfrm>
            <a:off x="5319720" y="1214280"/>
            <a:ext cx="3824280" cy="5229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52280" y="1693800"/>
            <a:ext cx="5419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En el liderazgo lo que quiero hacer y cómo lo haré no es el factor principal, lo fundamental es </a:t>
            </a:r>
            <a:r>
              <a:rPr b="1" lang="ca-ES" sz="4000" spc="-1" strike="noStrike">
                <a:solidFill>
                  <a:srgbClr val="ff0000"/>
                </a:solidFill>
                <a:latin typeface="Arial"/>
              </a:rPr>
              <a:t>por qué</a:t>
            </a:r>
            <a:r>
              <a:rPr b="1" lang="ca-ES" sz="4000" spc="-1" strike="noStrike">
                <a:solidFill>
                  <a:srgbClr val="000000"/>
                </a:solidFill>
                <a:latin typeface="Arial"/>
              </a:rPr>
              <a:t> quiero hacerlo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eader_aspen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13040" y="189000"/>
            <a:ext cx="5322960" cy="244476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3"/>
          <p:cNvGrpSpPr/>
          <p:nvPr/>
        </p:nvGrpSpPr>
        <p:grpSpPr>
          <a:xfrm>
            <a:off x="1332000" y="2924280"/>
            <a:ext cx="6480000" cy="2665440"/>
            <a:chOff x="1332000" y="2924280"/>
            <a:chExt cx="6480000" cy="2665440"/>
          </a:xfrm>
        </p:grpSpPr>
        <p:sp>
          <p:nvSpPr>
            <p:cNvPr id="183" name="AutoShape 4"/>
            <p:cNvSpPr/>
            <p:nvPr/>
          </p:nvSpPr>
          <p:spPr>
            <a:xfrm>
              <a:off x="1332000" y="2924280"/>
              <a:ext cx="6480000" cy="2665440"/>
            </a:xfrm>
            <a:prstGeom prst="foldedCorner">
              <a:avLst>
                <a:gd name="adj" fmla="val 12500"/>
              </a:avLst>
            </a:prstGeom>
            <a:solidFill>
              <a:srgbClr val="fddf7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1996920" y="3187800"/>
              <a:ext cx="5179320" cy="2043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200" spc="-1" strike="noStrike">
                  <a:solidFill>
                    <a:srgbClr val="3366cc"/>
                  </a:solidFill>
                  <a:latin typeface="Arial"/>
                </a:rPr>
                <a:t>EL LIDER DEL FUTUR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200" spc="-1" strike="noStrike">
                  <a:solidFill>
                    <a:srgbClr val="3366cc"/>
                  </a:solidFill>
                  <a:latin typeface="Arial"/>
                </a:rPr>
                <a:t>TENDRÁ QUE CONOCE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200" spc="-1" strike="noStrike">
                  <a:solidFill>
                    <a:srgbClr val="3366cc"/>
                  </a:solidFill>
                  <a:latin typeface="Arial"/>
                </a:rPr>
                <a:t>TAN BIEN SU TRABA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200" spc="-1" strike="noStrike">
                  <a:solidFill>
                    <a:srgbClr val="3366cc"/>
                  </a:solidFill>
                  <a:latin typeface="Arial"/>
                </a:rPr>
                <a:t>COMO A SÍ MISM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684360" y="0"/>
            <a:ext cx="3887640" cy="3429000"/>
            <a:chOff x="684360" y="0"/>
            <a:chExt cx="3887640" cy="3429000"/>
          </a:xfrm>
        </p:grpSpPr>
        <p:sp>
          <p:nvSpPr>
            <p:cNvPr id="186" name="Rectangle 3"/>
            <p:cNvSpPr/>
            <p:nvPr/>
          </p:nvSpPr>
          <p:spPr>
            <a:xfrm>
              <a:off x="707040" y="1623960"/>
              <a:ext cx="3786480" cy="587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ONOCIMIENT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"/>
            <p:cNvSpPr/>
            <p:nvPr/>
          </p:nvSpPr>
          <p:spPr>
            <a:xfrm>
              <a:off x="684360" y="0"/>
              <a:ext cx="3887640" cy="3429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5" descr="cere_bi"/>
            <p:cNvPicPr/>
            <p:nvPr/>
          </p:nvPicPr>
          <p:blipFill>
            <a:blip r:embed="rId1"/>
            <a:stretch/>
          </p:blipFill>
          <p:spPr>
            <a:xfrm>
              <a:off x="1692360" y="369720"/>
              <a:ext cx="110340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6"/>
          <p:cNvGrpSpPr/>
          <p:nvPr/>
        </p:nvGrpSpPr>
        <p:grpSpPr>
          <a:xfrm>
            <a:off x="4572000" y="-100080"/>
            <a:ext cx="3887640" cy="3529080"/>
            <a:chOff x="4572000" y="-100080"/>
            <a:chExt cx="3887640" cy="3529080"/>
          </a:xfrm>
        </p:grpSpPr>
        <p:pic>
          <p:nvPicPr>
            <p:cNvPr id="190" name="Picture 7" descr="bulb"/>
            <p:cNvPicPr/>
            <p:nvPr/>
          </p:nvPicPr>
          <p:blipFill>
            <a:blip r:embed="rId2"/>
            <a:stretch/>
          </p:blipFill>
          <p:spPr>
            <a:xfrm>
              <a:off x="6897600" y="-100080"/>
              <a:ext cx="156204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8"/>
            <p:cNvSpPr/>
            <p:nvPr/>
          </p:nvSpPr>
          <p:spPr>
            <a:xfrm>
              <a:off x="5726520" y="1557360"/>
              <a:ext cx="1729080" cy="587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VIS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4572000" y="0"/>
              <a:ext cx="3887640" cy="3429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4572000" y="3429000"/>
            <a:ext cx="3887640" cy="3429000"/>
            <a:chOff x="4572000" y="3429000"/>
            <a:chExt cx="3887640" cy="3429000"/>
          </a:xfrm>
        </p:grpSpPr>
        <p:pic>
          <p:nvPicPr>
            <p:cNvPr id="194" name="Picture 11" descr="carrot"/>
            <p:cNvPicPr/>
            <p:nvPr/>
          </p:nvPicPr>
          <p:blipFill>
            <a:blip r:embed="rId3"/>
            <a:stretch/>
          </p:blipFill>
          <p:spPr>
            <a:xfrm>
              <a:off x="7088040" y="4664160"/>
              <a:ext cx="13716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2"/>
            <p:cNvSpPr/>
            <p:nvPr/>
          </p:nvSpPr>
          <p:spPr>
            <a:xfrm>
              <a:off x="5322240" y="4552920"/>
              <a:ext cx="1985040" cy="587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AC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4572000" y="3429000"/>
              <a:ext cx="3887640" cy="3429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4"/>
          <p:cNvGrpSpPr/>
          <p:nvPr/>
        </p:nvGrpSpPr>
        <p:grpSpPr>
          <a:xfrm>
            <a:off x="684360" y="3429000"/>
            <a:ext cx="3887640" cy="3429000"/>
            <a:chOff x="684360" y="3429000"/>
            <a:chExt cx="3887640" cy="3429000"/>
          </a:xfrm>
        </p:grpSpPr>
        <p:pic>
          <p:nvPicPr>
            <p:cNvPr id="198" name="Picture 15" descr="manos"/>
            <p:cNvPicPr/>
            <p:nvPr/>
          </p:nvPicPr>
          <p:blipFill>
            <a:blip r:embed="rId4"/>
            <a:stretch/>
          </p:blipFill>
          <p:spPr>
            <a:xfrm>
              <a:off x="971640" y="4968720"/>
              <a:ext cx="237636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6"/>
            <p:cNvSpPr/>
            <p:nvPr/>
          </p:nvSpPr>
          <p:spPr>
            <a:xfrm>
              <a:off x="1184040" y="4508640"/>
              <a:ext cx="2568960" cy="587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REL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7"/>
            <p:cNvSpPr/>
            <p:nvPr/>
          </p:nvSpPr>
          <p:spPr>
            <a:xfrm>
              <a:off x="684360" y="3429000"/>
              <a:ext cx="3887640" cy="3429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8"/>
          <p:cNvGrpSpPr/>
          <p:nvPr/>
        </p:nvGrpSpPr>
        <p:grpSpPr>
          <a:xfrm>
            <a:off x="2143080" y="979560"/>
            <a:ext cx="4838760" cy="4886280"/>
            <a:chOff x="2143080" y="979560"/>
            <a:chExt cx="4838760" cy="4886280"/>
          </a:xfrm>
        </p:grpSpPr>
        <p:sp>
          <p:nvSpPr>
            <p:cNvPr id="202" name="Oval 19"/>
            <p:cNvSpPr/>
            <p:nvPr/>
          </p:nvSpPr>
          <p:spPr>
            <a:xfrm>
              <a:off x="3276720" y="2205000"/>
              <a:ext cx="2519280" cy="251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0"/>
            <p:cNvSpPr/>
            <p:nvPr/>
          </p:nvSpPr>
          <p:spPr>
            <a:xfrm>
              <a:off x="3528000" y="2637000"/>
              <a:ext cx="210996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Arial"/>
                </a:rPr>
                <a:t>REFLEX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Arial"/>
                </a:rPr>
                <a:t>VIDA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21" descr=""/>
            <p:cNvPicPr/>
            <p:nvPr/>
          </p:nvPicPr>
          <p:blipFill>
            <a:blip r:embed="rId5"/>
            <a:stretch/>
          </p:blipFill>
          <p:spPr>
            <a:xfrm>
              <a:off x="4179960" y="2290680"/>
              <a:ext cx="784080" cy="90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22"/>
            <p:cNvGrpSpPr/>
            <p:nvPr/>
          </p:nvGrpSpPr>
          <p:grpSpPr>
            <a:xfrm>
              <a:off x="2143080" y="1991880"/>
              <a:ext cx="934920" cy="2514240"/>
              <a:chOff x="2143080" y="1991880"/>
              <a:chExt cx="934920" cy="2514240"/>
            </a:xfrm>
          </p:grpSpPr>
          <p:sp>
            <p:nvSpPr>
              <p:cNvPr id="206" name="Freeform 23"/>
              <p:cNvSpPr/>
              <p:nvPr/>
            </p:nvSpPr>
            <p:spPr>
              <a:xfrm rot="186600">
                <a:off x="2200320" y="2363760"/>
                <a:ext cx="617400" cy="212724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utoShape 24"/>
              <p:cNvSpPr/>
              <p:nvPr/>
            </p:nvSpPr>
            <p:spPr>
              <a:xfrm rot="1651200">
                <a:off x="2285640" y="2114640"/>
                <a:ext cx="685800" cy="628560"/>
              </a:xfrm>
              <a:prstGeom prst="upArrow">
                <a:avLst>
                  <a:gd name="adj1" fmla="val 47907"/>
                  <a:gd name="adj2" fmla="val 36796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25"/>
            <p:cNvGrpSpPr/>
            <p:nvPr/>
          </p:nvGrpSpPr>
          <p:grpSpPr>
            <a:xfrm>
              <a:off x="3102120" y="979560"/>
              <a:ext cx="2622240" cy="859680"/>
              <a:chOff x="3102120" y="979560"/>
              <a:chExt cx="2622240" cy="859680"/>
            </a:xfrm>
          </p:grpSpPr>
          <p:sp>
            <p:nvSpPr>
              <p:cNvPr id="209" name="Freeform 26"/>
              <p:cNvSpPr/>
              <p:nvPr/>
            </p:nvSpPr>
            <p:spPr>
              <a:xfrm>
                <a:off x="3527280" y="981000"/>
                <a:ext cx="2197080" cy="677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27"/>
              <p:cNvSpPr/>
              <p:nvPr/>
            </p:nvSpPr>
            <p:spPr>
              <a:xfrm rot="14996400">
                <a:off x="3171600" y="1094760"/>
                <a:ext cx="685800" cy="628560"/>
              </a:xfrm>
              <a:prstGeom prst="upArrow">
                <a:avLst>
                  <a:gd name="adj1" fmla="val 47546"/>
                  <a:gd name="adj2" fmla="val 53685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28"/>
            <p:cNvGrpSpPr/>
            <p:nvPr/>
          </p:nvGrpSpPr>
          <p:grpSpPr>
            <a:xfrm>
              <a:off x="5979960" y="1873800"/>
              <a:ext cx="1001880" cy="2634840"/>
              <a:chOff x="5979960" y="1873800"/>
              <a:chExt cx="1001880" cy="2634840"/>
            </a:xfrm>
          </p:grpSpPr>
          <p:sp>
            <p:nvSpPr>
              <p:cNvPr id="212" name="Freeform 29"/>
              <p:cNvSpPr/>
              <p:nvPr/>
            </p:nvSpPr>
            <p:spPr>
              <a:xfrm>
                <a:off x="6227640" y="2314440"/>
                <a:ext cx="754200" cy="219420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30"/>
              <p:cNvSpPr/>
              <p:nvPr/>
            </p:nvSpPr>
            <p:spPr>
              <a:xfrm rot="19620600">
                <a:off x="6095520" y="2009520"/>
                <a:ext cx="685800" cy="628560"/>
              </a:xfrm>
              <a:prstGeom prst="upArrow">
                <a:avLst>
                  <a:gd name="adj1" fmla="val 47546"/>
                  <a:gd name="adj2" fmla="val 53685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31"/>
            <p:cNvGrpSpPr/>
            <p:nvPr/>
          </p:nvGrpSpPr>
          <p:grpSpPr>
            <a:xfrm>
              <a:off x="3220920" y="4899240"/>
              <a:ext cx="2746440" cy="966600"/>
              <a:chOff x="3220920" y="4899240"/>
              <a:chExt cx="2746440" cy="966600"/>
            </a:xfrm>
          </p:grpSpPr>
          <p:sp>
            <p:nvSpPr>
              <p:cNvPr id="215" name="Freeform 32"/>
              <p:cNvSpPr/>
              <p:nvPr/>
            </p:nvSpPr>
            <p:spPr>
              <a:xfrm rot="21364200">
                <a:off x="3745080" y="5070600"/>
                <a:ext cx="2199960" cy="720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33"/>
              <p:cNvSpPr/>
              <p:nvPr/>
            </p:nvSpPr>
            <p:spPr>
              <a:xfrm rot="17693400">
                <a:off x="3307320" y="5028120"/>
                <a:ext cx="685800" cy="628920"/>
              </a:xfrm>
              <a:prstGeom prst="upArrow">
                <a:avLst>
                  <a:gd name="adj1" fmla="val 47546"/>
                  <a:gd name="adj2" fmla="val 53685"/>
                </a:avLst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179280" y="152280"/>
            <a:ext cx="8820000" cy="6229080"/>
            <a:chOff x="179280" y="152280"/>
            <a:chExt cx="8820000" cy="6229080"/>
          </a:xfrm>
        </p:grpSpPr>
        <p:pic>
          <p:nvPicPr>
            <p:cNvPr id="218" name="Picture 3" descr="Vitruvian_Man"/>
            <p:cNvPicPr/>
            <p:nvPr/>
          </p:nvPicPr>
          <p:blipFill>
            <a:blip r:embed="rId1"/>
            <a:stretch/>
          </p:blipFill>
          <p:spPr>
            <a:xfrm>
              <a:off x="2130840" y="535680"/>
              <a:ext cx="5297400" cy="56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4"/>
            <p:cNvSpPr/>
            <p:nvPr/>
          </p:nvSpPr>
          <p:spPr>
            <a:xfrm>
              <a:off x="179280" y="152280"/>
              <a:ext cx="8820000" cy="6229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5"/>
          <p:cNvSpPr/>
          <p:nvPr/>
        </p:nvSpPr>
        <p:spPr>
          <a:xfrm>
            <a:off x="249480" y="5378400"/>
            <a:ext cx="36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PATH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disposición emocional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9240" y="120600"/>
            <a:ext cx="335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LO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capacidad analítica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822840" y="2606760"/>
            <a:ext cx="175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ETH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carácter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598000" y="5378400"/>
            <a:ext cx="336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3300"/>
                </a:solidFill>
                <a:latin typeface="Arial"/>
              </a:rPr>
              <a:t>PR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capacidad resolutiva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616800" y="189000"/>
            <a:ext cx="234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SCO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Perspectiva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614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  <a:ea typeface="Arial"/>
              </a:rPr>
              <a:t>LOS COLABORADORES COMO LÍDERES: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EL LIDERAZGO COMPART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5 Grupo"/>
          <p:cNvGrpSpPr/>
          <p:nvPr/>
        </p:nvGrpSpPr>
        <p:grpSpPr>
          <a:xfrm>
            <a:off x="214200" y="866880"/>
            <a:ext cx="8929800" cy="5991120"/>
            <a:chOff x="214200" y="866880"/>
            <a:chExt cx="8929800" cy="5991120"/>
          </a:xfrm>
        </p:grpSpPr>
        <p:pic>
          <p:nvPicPr>
            <p:cNvPr id="56" name="Picture 4" descr=""/>
            <p:cNvPicPr/>
            <p:nvPr/>
          </p:nvPicPr>
          <p:blipFill>
            <a:blip r:embed="rId1"/>
            <a:stretch/>
          </p:blipFill>
          <p:spPr>
            <a:xfrm>
              <a:off x="1857240" y="1894320"/>
              <a:ext cx="5572440" cy="49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1 CuadroTexto"/>
            <p:cNvSpPr/>
            <p:nvPr/>
          </p:nvSpPr>
          <p:spPr>
            <a:xfrm>
              <a:off x="214200" y="866880"/>
              <a:ext cx="8929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El liderazgo no es algo que hacemos </a:t>
              </a:r>
              <a:r>
                <a:rPr b="1" lang="es-E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A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 otras personas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sino algo que hacemos </a:t>
              </a:r>
              <a:r>
                <a:rPr b="1" lang="es-E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CON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 otras person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3 Marcador de número de diapositiva"/>
          <p:cNvSpPr/>
          <p:nvPr/>
        </p:nvSpPr>
        <p:spPr>
          <a:xfrm>
            <a:off x="223920" y="6308640"/>
            <a:ext cx="387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D3BC-79D8-4428-81A1-C0B32ED811D9}" type="slidenum">
              <a:rPr b="1" lang="es-ES" sz="900" spc="-1" strike="noStrike">
                <a:solidFill>
                  <a:srgbClr val="485b7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6960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a visión clásica de la competi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85840" y="1143000"/>
            <a:ext cx="6500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RTER (1980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evadas barrera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Productos no substitu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ra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umidores y proveedores con bajo poder de neg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istencia de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 rot="19471800">
            <a:off x="173520" y="2918880"/>
            <a:ext cx="64198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e9241f"/>
                </a:solidFill>
                <a:latin typeface="Arial"/>
              </a:rPr>
              <a:t>¿ES SUFICIENT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1"/>
          <a:stretch/>
        </p:blipFill>
        <p:spPr>
          <a:xfrm>
            <a:off x="6948360" y="857160"/>
            <a:ext cx="1997280" cy="306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2"/>
          <a:stretch/>
        </p:blipFill>
        <p:spPr>
          <a:xfrm>
            <a:off x="6950160" y="3929040"/>
            <a:ext cx="1979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3 Marcador de número de diapositiva"/>
          <p:cNvSpPr/>
          <p:nvPr/>
        </p:nvSpPr>
        <p:spPr>
          <a:xfrm>
            <a:off x="223920" y="6308640"/>
            <a:ext cx="387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DFE9-D9AD-48DD-B377-54BD1E2527CB}" type="slidenum">
              <a:rPr b="1" lang="es-ES" sz="900" spc="-1" strike="noStrike">
                <a:solidFill>
                  <a:srgbClr val="485b7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0520"/>
            <a:ext cx="8686800" cy="765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a visión actualizada de la competi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55760" y="3929040"/>
            <a:ext cx="318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meron &amp; Quinn (1999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ltura corpo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143240" y="3894120"/>
            <a:ext cx="399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cKinsey (2007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u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l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143240" y="882720"/>
            <a:ext cx="4786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KAY (199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dad para inno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ones con los stakehol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u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iv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500040" y="857160"/>
            <a:ext cx="3187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rney (199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ap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u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37 Grupo"/>
          <p:cNvGrpSpPr/>
          <p:nvPr/>
        </p:nvGrpSpPr>
        <p:grpSpPr>
          <a:xfrm>
            <a:off x="2214720" y="2857680"/>
            <a:ext cx="2071440" cy="2857320"/>
            <a:chOff x="2214720" y="2857680"/>
            <a:chExt cx="2071440" cy="2857320"/>
          </a:xfrm>
        </p:grpSpPr>
        <p:sp>
          <p:nvSpPr>
            <p:cNvPr id="71" name="9 Conector recto"/>
            <p:cNvSpPr/>
            <p:nvPr/>
          </p:nvSpPr>
          <p:spPr>
            <a:xfrm flipV="1">
              <a:off x="2214720" y="2857680"/>
              <a:ext cx="1928880" cy="428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12 Conector recto"/>
            <p:cNvSpPr/>
            <p:nvPr/>
          </p:nvSpPr>
          <p:spPr>
            <a:xfrm>
              <a:off x="2214720" y="3286080"/>
              <a:ext cx="2071440" cy="2428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23 Grupo"/>
          <p:cNvGrpSpPr/>
          <p:nvPr/>
        </p:nvGrpSpPr>
        <p:grpSpPr>
          <a:xfrm>
            <a:off x="3929040" y="2214720"/>
            <a:ext cx="357120" cy="3000240"/>
            <a:chOff x="3929040" y="2214720"/>
            <a:chExt cx="357120" cy="3000240"/>
          </a:xfrm>
        </p:grpSpPr>
        <p:sp>
          <p:nvSpPr>
            <p:cNvPr id="74" name="18 Conector recto"/>
            <p:cNvSpPr/>
            <p:nvPr/>
          </p:nvSpPr>
          <p:spPr>
            <a:xfrm flipH="1">
              <a:off x="3929040" y="2214720"/>
              <a:ext cx="357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20 Conector recto"/>
            <p:cNvSpPr/>
            <p:nvPr/>
          </p:nvSpPr>
          <p:spPr>
            <a:xfrm>
              <a:off x="3929040" y="2214720"/>
              <a:ext cx="0" cy="300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22 Conector recto"/>
            <p:cNvSpPr/>
            <p:nvPr/>
          </p:nvSpPr>
          <p:spPr>
            <a:xfrm>
              <a:off x="3929040" y="5214960"/>
              <a:ext cx="357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35 Grupo"/>
          <p:cNvGrpSpPr/>
          <p:nvPr/>
        </p:nvGrpSpPr>
        <p:grpSpPr>
          <a:xfrm>
            <a:off x="3714480" y="1714680"/>
            <a:ext cx="571680" cy="4572000"/>
            <a:chOff x="3714480" y="1714680"/>
            <a:chExt cx="571680" cy="4572000"/>
          </a:xfrm>
        </p:grpSpPr>
        <p:sp>
          <p:nvSpPr>
            <p:cNvPr id="78" name="25 Conector recto"/>
            <p:cNvSpPr/>
            <p:nvPr/>
          </p:nvSpPr>
          <p:spPr>
            <a:xfrm flipH="1">
              <a:off x="3714480" y="1714680"/>
              <a:ext cx="500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26 Conector recto"/>
            <p:cNvSpPr/>
            <p:nvPr/>
          </p:nvSpPr>
          <p:spPr>
            <a:xfrm>
              <a:off x="3714840" y="1714680"/>
              <a:ext cx="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27 Conector recto"/>
            <p:cNvSpPr/>
            <p:nvPr/>
          </p:nvSpPr>
          <p:spPr>
            <a:xfrm>
              <a:off x="3714840" y="6286680"/>
              <a:ext cx="571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9"/>
          <p:cNvSpPr/>
          <p:nvPr/>
        </p:nvSpPr>
        <p:spPr>
          <a:xfrm rot="19471800">
            <a:off x="552960" y="2075400"/>
            <a:ext cx="7684920" cy="243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e9241f"/>
                </a:solidFill>
                <a:latin typeface="Arial"/>
              </a:rPr>
              <a:t>¡ELEMENTOS VINCULADOS AL LIDERAZGO 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e9241f"/>
                </a:solidFill>
                <a:latin typeface="Arial"/>
              </a:rPr>
              <a:t> </a:t>
            </a:r>
            <a:r>
              <a:rPr b="1" lang="es-ES" sz="4800" spc="-1" strike="noStrike">
                <a:solidFill>
                  <a:srgbClr val="e9241f"/>
                </a:solidFill>
                <a:latin typeface="Arial"/>
              </a:rPr>
              <a:t>EQUIP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419040"/>
            <a:ext cx="9144000" cy="6438960"/>
            <a:chOff x="0" y="419040"/>
            <a:chExt cx="9144000" cy="6438960"/>
          </a:xfrm>
        </p:grpSpPr>
        <p:sp>
          <p:nvSpPr>
            <p:cNvPr id="83" name="Text Box 3"/>
            <p:cNvSpPr/>
            <p:nvPr/>
          </p:nvSpPr>
          <p:spPr>
            <a:xfrm>
              <a:off x="0" y="419040"/>
              <a:ext cx="9144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 la sociedad del conocimiento se producirán pocos cambios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ificativos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 la iniciativa viene (sólo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a-E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la alta direc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travail-en-equipe"/>
            <p:cNvPicPr/>
            <p:nvPr/>
          </p:nvPicPr>
          <p:blipFill>
            <a:blip r:embed="rId1"/>
            <a:stretch/>
          </p:blipFill>
          <p:spPr>
            <a:xfrm>
              <a:off x="1619280" y="3224160"/>
              <a:ext cx="5842080" cy="3633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4 Grupo"/>
          <p:cNvGrpSpPr/>
          <p:nvPr/>
        </p:nvGrpSpPr>
        <p:grpSpPr>
          <a:xfrm>
            <a:off x="0" y="0"/>
            <a:ext cx="9644040" cy="7286760"/>
            <a:chOff x="0" y="0"/>
            <a:chExt cx="9644040" cy="7286760"/>
          </a:xfrm>
        </p:grpSpPr>
        <p:pic>
          <p:nvPicPr>
            <p:cNvPr id="86" name="Picture 2" descr="http://images.43places.com/entry/492386pw600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644040" cy="72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2 CuadroTexto"/>
            <p:cNvSpPr/>
            <p:nvPr/>
          </p:nvSpPr>
          <p:spPr>
            <a:xfrm>
              <a:off x="4523760" y="262440"/>
              <a:ext cx="4298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4000" spc="-1" strike="noStrike">
                  <a:solidFill>
                    <a:srgbClr val="000000"/>
                  </a:solidFill>
                  <a:latin typeface="Arial"/>
                </a:rPr>
                <a:t>Hacer el ganso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Rectángulo"/>
          <p:cNvSpPr/>
          <p:nvPr/>
        </p:nvSpPr>
        <p:spPr>
          <a:xfrm>
            <a:off x="214200" y="2502000"/>
            <a:ext cx="535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que todos trabajen en colaboración al servicio de un objetivo común, mediante distintas comun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de lideraz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9:17:14Z</dcterms:created>
  <dc:creator>ESADE</dc:creator>
  <dc:description/>
  <dc:language>en-US</dc:language>
  <cp:lastModifiedBy>Dr. Hernán P. Castillejo</cp:lastModifiedBy>
  <dcterms:modified xsi:type="dcterms:W3CDTF">2011-05-23T15:11:36Z</dcterms:modified>
  <cp:revision>91</cp:revision>
  <dc:subject/>
  <dc:title>Diapositiva 1</dc:title>
</cp:coreProperties>
</file>