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2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4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8DF0-3163-41B7-92C9-3082A31B47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son los proces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Conjunto de actividades que a partir de los requerimientos de los ciudadanos agregan valor para satisfacer sus necesidades y expectat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organización por procesos 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complement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a organización funcional, entre los beneficios que tiene este enfoque se encuentr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foco esta puesto en lograr los resultados finales del proceso (y no los parciales de cada área) y en satisfacer a los destinatarios de los proc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egra horizontalmente la organización, facilitando el trabajo colaborativo entre las 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tencia las capacidades de las personas, áreas y organizaciones para que logren los objetivos y metas pro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imina o disminuye la duplicación de t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995A-FDE4-4EF7-BCB2-BC27EDBA57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adurez institucional: continuidad de las autoridades y equipos técnicos; existencia de una estructura estabi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scatar las experiencias de articulación en el territorio de las políticas de la Secretaría, tanto de las gerencias como el nivel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Gestión federal: énfasis en las GECAL y el trabajo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3 Marcador de número de diapositiva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1118-E5C4-4FED-BCF0-A43E40BB4A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Madurez institucional: continuidad de las autoridades y equipos técnicos; existencia de una estructura estabi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scatar las experiencias de articulación en el territorio de las políticas de la Secretaría, tanto de las gerencias como el nivel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Gestión federal: énfasis en las GECAL y el trabajo terri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3 Marcador de número de diapositiva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186C-D933-4A45-89B6-C1EA29D91A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arco del Proyec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Secretaria de la Gestión Publica impulsa/promueve la gestión por objetivos y resultados en la Administración Pu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el Plan Estratégico del MTESS 2008/2011 se define el objetivo transversal «Mejorar la Calidad de la Gestión del Ministerio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función de este objetivo se lanza el Proyecto de Rediseño de Procesos de la 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 y etapas recorr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 El proyecto tiene un enfoque integral, y va de lo general a lo particular. Primero se define el modelo de gestión, y luego se aborda cada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el proyecto ya se ha recorrido tres etap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En la 1ra se relevó la situación actual y se discutió y consensuó un Diagnóst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la 2da, a partir del diagnostico el Secretario de Empleo definió lineamientos que debían ser considerados al elaborar el NMGI. Esta tarea fue encomendada a un comité de funcionarios de la SE con el apoyo de un grupo de consul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la 3ra (actual etapa que estamos finalizando) se definió el NMG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la ultima diapositiva de la presentación se presenta como va a continuar el proyec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3 Marcador de número de diapositiva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A23-5F0D-4452-87FB-D1447252F3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os principios impulsados por la SGP están orientados a mejorar la efectividad de la organizaciones de la administración pu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mismos guiaron (sirvieron de lineamiento) el diseño de NMG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3 Marcador de número de diapositiva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9D43-DAE9-47BF-A205-71B9582ABB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se puede apreciar en mayor detalle los pilares y lineamientos recién men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ás adelante en la presentación, cuando se expone el Nuevo Modelo Integrado de la SE haremos referencia a alguno de estos pu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3 Marcador de número de diapositiva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1FD2-399B-4DD5-8AE9-C1EDFF5E3F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A14-008F-408E-A5BC-612410C3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122-604B-4201-9793-C45A684B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F49-CAFA-4A79-B346-75DC5058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F73-9C68-494D-B0BA-10D6574B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FA39-3275-4320-A1BE-C1E16140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0086-16FE-467A-8A77-1F4CD5CB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5DBC-BD30-4947-843D-129C516A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C88-6091-42E7-8560-935C66BC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108F-CFB7-4A19-8D11-4E86C7B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1249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952D-860D-4B54-A031-4F301D46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381A-4A72-47C1-B463-F0B8629B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C5B-60B1-42A0-A3DD-66DBDA3E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9418-DAE3-4E89-AD92-319A1FFF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E3AC-FE39-485E-9B98-ADB1502E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F6F6-B4E1-48F0-8FA7-1EF3D70F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614-54EB-43E7-9AA2-D0876DC2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D5A1-A200-4031-9C4A-194B8721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B426-D034-4CEF-87F2-7BBC6BF7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8593C-DCB2-4BF2-BBA3-C4C300E5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4A69-7C4E-4E15-9ABD-FE00E293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121C-67DD-456B-A33F-087AA430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49A5-3F65-4F2A-A520-D33ACE9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39C-C359-454F-8F89-E78279B5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49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A34A-9B58-4A44-9EC3-234918E7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6D4D-7A75-45D2-84AC-0F993D36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98ED-F174-4152-A7B8-57CAF5D9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BDA2-C6C3-4EC4-9330-129CC2F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E20C-A212-43A2-9177-304AC57C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C417-BE66-49D4-84DC-858928C2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1BDA-9213-451E-9409-5745D857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9CFC-4B4A-46CC-A5AB-13FD8437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9A08-EE0E-4D67-9F9B-CA06E3EB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9CF4-77C8-4F3D-A207-FF01FA0F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0F7-FE17-4E88-B0F1-B43CF139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74A2-189B-4565-A50E-FBF07FF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8AA7-8238-4A3C-9591-93F7DA72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49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C6DAB-AABD-418D-9416-C1F7B06B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96105-8EAE-4073-95A5-5CF394D6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6972-E669-4A95-8C4E-E24D5B36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B435-93D9-40DD-A084-B4AB020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D96A-3CC4-470B-819A-DB3C419D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D113-A859-486F-B495-B102B394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D98B5-A4F4-4FF8-837F-8A051CB1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70061-0F8F-4558-AD00-D722F79C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2DC-B53E-4FF8-960C-706B15B1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6DFE-86B1-49CC-924B-5546D582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0FC4-30B0-41CE-AC99-7FF56780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863E-8218-4C9D-9398-C304C41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C1F83-0514-4265-886C-6330DB81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6840" y="1249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78ED6-A0DB-4AEA-AF6C-F05F1CB1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5F04-922B-4878-8677-F6D208D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9378-0636-4546-8C92-628D16DC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48DD-CA86-4CBF-917D-81750729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07A00-C513-4DA4-891F-D8242282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178B-5835-4D07-8677-BD3E2C3A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1249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26B-AABE-4E71-BAA3-F3FEC7F4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0A45-CC0A-471E-A7FE-4463A101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6D5B-E857-406D-9D43-BC34CDC4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CDC23-FE19-40EA-A10D-1BEB769B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2FF0-E404-4A4D-8535-C49B99FB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91836-3310-462A-B342-DF4047C9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86DB1-F10E-439A-90A9-E22E3449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6840" y="1249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FADE-3874-486C-88B0-45A0946A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FBBAA-A820-4B75-AE30-323BF77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4E9D-03E9-4AE2-8440-13C874A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8504-6536-4B89-961C-E53A171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726-8ADB-47FA-B33B-1F0BAE7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7E0D7-A35F-4D28-BF0F-083B409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3C090-E2EA-45BE-947D-60BA0755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E5549-F73C-4D2C-AEA7-826D32DB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7A8F-A9E7-46BE-A2F9-5D8570D5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D8522-862F-494C-936B-C81AA758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6B0BA-161A-4EBA-B61E-9C0BBE25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1FCB4-3C48-43C6-BAB6-0BD8FB7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B4B58-B09F-41D9-A68E-C8DE16CD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4920"/>
            <a:ext cx="72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E230F-9A2D-482E-B5BA-FF170897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33415-BCC3-4A46-80BC-ED4E60A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8E2-A7A7-42CA-8B8E-28C6BA9E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992C9-C082-4367-85D7-496950C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03AC1-1468-49B7-AFF9-1FDC665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29829-DEF2-42A8-AB99-2CF70F3F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0CAC2-E929-4DD7-86C5-201FF574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6677F-BBFD-4540-AB4E-295E2E49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7BF-4C26-4CDA-871E-096E3CC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3C9-06BE-49C6-AFD7-86BEFB99A2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46" descr="Logo_MTEySS"/>
          <p:cNvPicPr/>
          <p:nvPr/>
        </p:nvPicPr>
        <p:blipFill>
          <a:blip r:embed="rId4"/>
          <a:stretch/>
        </p:blipFill>
        <p:spPr>
          <a:xfrm>
            <a:off x="7394400" y="111240"/>
            <a:ext cx="1570320" cy="65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1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18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0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20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2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3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5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11-dic-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e8f0f4"/>
                </a:solidFill>
                <a:latin typeface="Times New Roman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90DD-3CE2-47E4-9D3E-5B1C7D3794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9280" y="6261120"/>
            <a:ext cx="12240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1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3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6" descr="Logo_MTEySS"/>
          <p:cNvPicPr/>
          <p:nvPr/>
        </p:nvPicPr>
        <p:blipFill>
          <a:blip r:embed="rId4"/>
          <a:stretch/>
        </p:blipFill>
        <p:spPr>
          <a:xfrm>
            <a:off x="7394400" y="111240"/>
            <a:ext cx="1570320" cy="653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C6E6-CE09-4AEC-AF6C-ED2D55F202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08000" y="6275520"/>
            <a:ext cx="136836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0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2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Logo_MTEySS"/>
          <p:cNvPicPr/>
          <p:nvPr/>
        </p:nvPicPr>
        <p:blipFill>
          <a:blip r:embed="rId4"/>
          <a:stretch/>
        </p:blipFill>
        <p:spPr>
          <a:xfrm>
            <a:off x="7394400" y="111240"/>
            <a:ext cx="1570320" cy="653760"/>
          </a:xfrm>
          <a:prstGeom prst="rect">
            <a:avLst/>
          </a:prstGeom>
          <a:ln w="0">
            <a:noFill/>
          </a:ln>
        </p:spPr>
      </p:pic>
      <p:sp>
        <p:nvSpPr>
          <p:cNvPr id="154" name="11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6D5-0D83-4C07-BB6C-2F8291B59E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1561-3A90-442C-8A94-53508F7169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2E39-84AF-4D94-AC34-237291998F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11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18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1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2" name="16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4" name="18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5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A4D-196C-4E80-88ED-CF7B43015D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7.png"/><Relationship Id="rId4" Type="http://schemas.openxmlformats.org/officeDocument/2006/relationships/hyperlink" Target="http://www.softwareag.com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4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SECRETARIA DE EMPLE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7" name="Picture 46" descr="Logo_MTEySS"/>
          <p:cNvPicPr/>
          <p:nvPr/>
        </p:nvPicPr>
        <p:blipFill>
          <a:blip r:embed="rId2"/>
          <a:stretch/>
        </p:blipFill>
        <p:spPr>
          <a:xfrm>
            <a:off x="6732720" y="463680"/>
            <a:ext cx="1962000" cy="81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2 Grupo"/>
          <p:cNvGrpSpPr/>
          <p:nvPr/>
        </p:nvGrpSpPr>
        <p:grpSpPr>
          <a:xfrm>
            <a:off x="2112840" y="2411280"/>
            <a:ext cx="4964400" cy="3459240"/>
            <a:chOff x="2112840" y="2411280"/>
            <a:chExt cx="4964400" cy="3459240"/>
          </a:xfrm>
        </p:grpSpPr>
        <p:sp>
          <p:nvSpPr>
            <p:cNvPr id="460" name="1 Rectángulo"/>
            <p:cNvSpPr/>
            <p:nvPr/>
          </p:nvSpPr>
          <p:spPr>
            <a:xfrm>
              <a:off x="2112840" y="2411280"/>
              <a:ext cx="4964400" cy="3459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ángulo 127"/>
            <p:cNvSpPr/>
            <p:nvPr/>
          </p:nvSpPr>
          <p:spPr>
            <a:xfrm>
              <a:off x="3957480" y="2792880"/>
              <a:ext cx="1261800" cy="392040"/>
            </a:xfrm>
            <a:prstGeom prst="rect">
              <a:avLst/>
            </a:prstGeom>
            <a:solidFill>
              <a:srgbClr val="dddddd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Verdana"/>
                </a:rPr>
                <a:t>Organism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ángulo 128"/>
            <p:cNvSpPr/>
            <p:nvPr/>
          </p:nvSpPr>
          <p:spPr>
            <a:xfrm>
              <a:off x="2494080" y="3602520"/>
              <a:ext cx="993600" cy="393480"/>
            </a:xfrm>
            <a:prstGeom prst="rect">
              <a:avLst/>
            </a:prstGeom>
            <a:solidFill>
              <a:srgbClr val="dddddd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Verdana"/>
                </a:rPr>
                <a:t>Función 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ángulo 129"/>
            <p:cNvSpPr/>
            <p:nvPr/>
          </p:nvSpPr>
          <p:spPr>
            <a:xfrm>
              <a:off x="4091040" y="3602520"/>
              <a:ext cx="991800" cy="393480"/>
            </a:xfrm>
            <a:prstGeom prst="rect">
              <a:avLst/>
            </a:prstGeom>
            <a:solidFill>
              <a:srgbClr val="dddddd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Verdana"/>
                </a:rPr>
                <a:t>Función B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64" name="Grupo 130"/>
            <p:cNvGrpSpPr/>
            <p:nvPr/>
          </p:nvGrpSpPr>
          <p:grpSpPr>
            <a:xfrm>
              <a:off x="2684520" y="4271040"/>
              <a:ext cx="4061880" cy="1453320"/>
              <a:chOff x="2684520" y="4271040"/>
              <a:chExt cx="4061880" cy="1453320"/>
            </a:xfrm>
          </p:grpSpPr>
          <p:grpSp>
            <p:nvGrpSpPr>
              <p:cNvPr id="465" name="Grupo 131"/>
              <p:cNvGrpSpPr/>
              <p:nvPr/>
            </p:nvGrpSpPr>
            <p:grpSpPr>
              <a:xfrm>
                <a:off x="2684520" y="4272840"/>
                <a:ext cx="106200" cy="1439640"/>
                <a:chOff x="2684520" y="4272840"/>
                <a:chExt cx="106200" cy="1439640"/>
              </a:xfrm>
            </p:grpSpPr>
            <p:sp>
              <p:nvSpPr>
                <p:cNvPr id="466" name="Línea 132"/>
                <p:cNvSpPr/>
                <p:nvPr/>
              </p:nvSpPr>
              <p:spPr>
                <a:xfrm>
                  <a:off x="2684520" y="4272840"/>
                  <a:ext cx="0" cy="143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Línea 133"/>
                <p:cNvSpPr/>
                <p:nvPr/>
              </p:nvSpPr>
              <p:spPr>
                <a:xfrm>
                  <a:off x="2684520" y="460224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8" name="Línea 134"/>
                <p:cNvSpPr/>
                <p:nvPr/>
              </p:nvSpPr>
              <p:spPr>
                <a:xfrm>
                  <a:off x="2684520" y="486864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9" name="Línea 135"/>
                <p:cNvSpPr/>
                <p:nvPr/>
              </p:nvSpPr>
              <p:spPr>
                <a:xfrm>
                  <a:off x="2684520" y="513252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0" name="Línea 136"/>
                <p:cNvSpPr/>
                <p:nvPr/>
              </p:nvSpPr>
              <p:spPr>
                <a:xfrm>
                  <a:off x="2684520" y="539928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1" name="Línea 137"/>
                <p:cNvSpPr/>
                <p:nvPr/>
              </p:nvSpPr>
              <p:spPr>
                <a:xfrm>
                  <a:off x="2684520" y="571248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2" name="Grupo 138"/>
              <p:cNvGrpSpPr/>
              <p:nvPr/>
            </p:nvGrpSpPr>
            <p:grpSpPr>
              <a:xfrm>
                <a:off x="3416040" y="4272840"/>
                <a:ext cx="106200" cy="1439640"/>
                <a:chOff x="3416040" y="4272840"/>
                <a:chExt cx="106200" cy="1439640"/>
              </a:xfrm>
            </p:grpSpPr>
            <p:sp>
              <p:nvSpPr>
                <p:cNvPr id="473" name="Línea 139"/>
                <p:cNvSpPr/>
                <p:nvPr/>
              </p:nvSpPr>
              <p:spPr>
                <a:xfrm>
                  <a:off x="3416040" y="4272840"/>
                  <a:ext cx="0" cy="143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4" name="Línea 140"/>
                <p:cNvSpPr/>
                <p:nvPr/>
              </p:nvSpPr>
              <p:spPr>
                <a:xfrm>
                  <a:off x="3416040" y="460224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5" name="Línea 141"/>
                <p:cNvSpPr/>
                <p:nvPr/>
              </p:nvSpPr>
              <p:spPr>
                <a:xfrm>
                  <a:off x="3416040" y="486864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6" name="Línea 142"/>
                <p:cNvSpPr/>
                <p:nvPr/>
              </p:nvSpPr>
              <p:spPr>
                <a:xfrm>
                  <a:off x="3416040" y="513252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7" name="Línea 143"/>
                <p:cNvSpPr/>
                <p:nvPr/>
              </p:nvSpPr>
              <p:spPr>
                <a:xfrm>
                  <a:off x="3416040" y="539928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8" name="Línea 144"/>
                <p:cNvSpPr/>
                <p:nvPr/>
              </p:nvSpPr>
              <p:spPr>
                <a:xfrm>
                  <a:off x="3416040" y="571248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9" name="Grupo 145"/>
              <p:cNvGrpSpPr/>
              <p:nvPr/>
            </p:nvGrpSpPr>
            <p:grpSpPr>
              <a:xfrm>
                <a:off x="4281840" y="4271040"/>
                <a:ext cx="104760" cy="1434960"/>
                <a:chOff x="4281840" y="4271040"/>
                <a:chExt cx="104760" cy="1434960"/>
              </a:xfrm>
            </p:grpSpPr>
            <p:sp>
              <p:nvSpPr>
                <p:cNvPr id="480" name="Línea 146"/>
                <p:cNvSpPr/>
                <p:nvPr/>
              </p:nvSpPr>
              <p:spPr>
                <a:xfrm>
                  <a:off x="4281840" y="4271040"/>
                  <a:ext cx="0" cy="143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1" name="Línea 147"/>
                <p:cNvSpPr/>
                <p:nvPr/>
              </p:nvSpPr>
              <p:spPr>
                <a:xfrm>
                  <a:off x="4281840" y="460116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2" name="Línea 148"/>
                <p:cNvSpPr/>
                <p:nvPr/>
              </p:nvSpPr>
              <p:spPr>
                <a:xfrm>
                  <a:off x="4281840" y="486720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3" name="Línea 149"/>
                <p:cNvSpPr/>
                <p:nvPr/>
              </p:nvSpPr>
              <p:spPr>
                <a:xfrm>
                  <a:off x="4281840" y="513108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4" name="Línea 150"/>
                <p:cNvSpPr/>
                <p:nvPr/>
              </p:nvSpPr>
              <p:spPr>
                <a:xfrm>
                  <a:off x="4281840" y="539712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5" name="Línea 151"/>
                <p:cNvSpPr/>
                <p:nvPr/>
              </p:nvSpPr>
              <p:spPr>
                <a:xfrm>
                  <a:off x="4281840" y="570600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6" name="Grupo 152"/>
              <p:cNvGrpSpPr/>
              <p:nvPr/>
            </p:nvGrpSpPr>
            <p:grpSpPr>
              <a:xfrm>
                <a:off x="4998600" y="4289400"/>
                <a:ext cx="105840" cy="1434960"/>
                <a:chOff x="4998600" y="4289400"/>
                <a:chExt cx="105840" cy="1434960"/>
              </a:xfrm>
            </p:grpSpPr>
            <p:sp>
              <p:nvSpPr>
                <p:cNvPr id="487" name="Línea 153"/>
                <p:cNvSpPr/>
                <p:nvPr/>
              </p:nvSpPr>
              <p:spPr>
                <a:xfrm>
                  <a:off x="4998600" y="4289400"/>
                  <a:ext cx="0" cy="143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8" name="Línea 154"/>
                <p:cNvSpPr/>
                <p:nvPr/>
              </p:nvSpPr>
              <p:spPr>
                <a:xfrm>
                  <a:off x="4998600" y="4619160"/>
                  <a:ext cx="10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9" name="Línea 155"/>
                <p:cNvSpPr/>
                <p:nvPr/>
              </p:nvSpPr>
              <p:spPr>
                <a:xfrm>
                  <a:off x="4998600" y="4885200"/>
                  <a:ext cx="10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0" name="Línea 156"/>
                <p:cNvSpPr/>
                <p:nvPr/>
              </p:nvSpPr>
              <p:spPr>
                <a:xfrm>
                  <a:off x="4998600" y="5149080"/>
                  <a:ext cx="10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1" name="Línea 157"/>
                <p:cNvSpPr/>
                <p:nvPr/>
              </p:nvSpPr>
              <p:spPr>
                <a:xfrm>
                  <a:off x="4998600" y="5415480"/>
                  <a:ext cx="10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2" name="Línea 158"/>
                <p:cNvSpPr/>
                <p:nvPr/>
              </p:nvSpPr>
              <p:spPr>
                <a:xfrm>
                  <a:off x="4998600" y="5724360"/>
                  <a:ext cx="10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3" name="Grupo 159"/>
              <p:cNvGrpSpPr/>
              <p:nvPr/>
            </p:nvGrpSpPr>
            <p:grpSpPr>
              <a:xfrm>
                <a:off x="5922360" y="4272840"/>
                <a:ext cx="104760" cy="1435680"/>
                <a:chOff x="5922360" y="4272840"/>
                <a:chExt cx="104760" cy="1435680"/>
              </a:xfrm>
            </p:grpSpPr>
            <p:sp>
              <p:nvSpPr>
                <p:cNvPr id="494" name="Línea 160"/>
                <p:cNvSpPr/>
                <p:nvPr/>
              </p:nvSpPr>
              <p:spPr>
                <a:xfrm>
                  <a:off x="5922360" y="4272840"/>
                  <a:ext cx="0" cy="143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5" name="Línea 161"/>
                <p:cNvSpPr/>
                <p:nvPr/>
              </p:nvSpPr>
              <p:spPr>
                <a:xfrm>
                  <a:off x="5922360" y="460260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6" name="Línea 162"/>
                <p:cNvSpPr/>
                <p:nvPr/>
              </p:nvSpPr>
              <p:spPr>
                <a:xfrm>
                  <a:off x="5922360" y="486900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Línea 163"/>
                <p:cNvSpPr/>
                <p:nvPr/>
              </p:nvSpPr>
              <p:spPr>
                <a:xfrm>
                  <a:off x="5922360" y="513324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8" name="Línea 164"/>
                <p:cNvSpPr/>
                <p:nvPr/>
              </p:nvSpPr>
              <p:spPr>
                <a:xfrm>
                  <a:off x="5922360" y="540000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9" name="Línea 165"/>
                <p:cNvSpPr/>
                <p:nvPr/>
              </p:nvSpPr>
              <p:spPr>
                <a:xfrm>
                  <a:off x="5922360" y="570852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0" name="Grupo 166"/>
              <p:cNvGrpSpPr/>
              <p:nvPr/>
            </p:nvGrpSpPr>
            <p:grpSpPr>
              <a:xfrm>
                <a:off x="6641640" y="4289400"/>
                <a:ext cx="104760" cy="1434960"/>
                <a:chOff x="6641640" y="4289400"/>
                <a:chExt cx="104760" cy="1434960"/>
              </a:xfrm>
            </p:grpSpPr>
            <p:sp>
              <p:nvSpPr>
                <p:cNvPr id="501" name="Línea 167"/>
                <p:cNvSpPr/>
                <p:nvPr/>
              </p:nvSpPr>
              <p:spPr>
                <a:xfrm>
                  <a:off x="6641640" y="4289400"/>
                  <a:ext cx="0" cy="143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2" name="Línea 168"/>
                <p:cNvSpPr/>
                <p:nvPr/>
              </p:nvSpPr>
              <p:spPr>
                <a:xfrm>
                  <a:off x="6641640" y="461916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3" name="Línea 169"/>
                <p:cNvSpPr/>
                <p:nvPr/>
              </p:nvSpPr>
              <p:spPr>
                <a:xfrm>
                  <a:off x="6641640" y="488520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4" name="Línea 170"/>
                <p:cNvSpPr/>
                <p:nvPr/>
              </p:nvSpPr>
              <p:spPr>
                <a:xfrm>
                  <a:off x="6641640" y="514908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5" name="Línea 171"/>
                <p:cNvSpPr/>
                <p:nvPr/>
              </p:nvSpPr>
              <p:spPr>
                <a:xfrm>
                  <a:off x="6641640" y="541548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6" name="Línea 172"/>
                <p:cNvSpPr/>
                <p:nvPr/>
              </p:nvSpPr>
              <p:spPr>
                <a:xfrm>
                  <a:off x="6641640" y="5724360"/>
                  <a:ext cx="10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07" name="Línea 173"/>
              <p:cNvSpPr/>
              <p:nvPr/>
            </p:nvSpPr>
            <p:spPr>
              <a:xfrm>
                <a:off x="2693880" y="4271040"/>
                <a:ext cx="70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Línea 174"/>
              <p:cNvSpPr/>
              <p:nvPr/>
            </p:nvSpPr>
            <p:spPr>
              <a:xfrm>
                <a:off x="4290480" y="4271040"/>
                <a:ext cx="70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9" name="Línea 175"/>
              <p:cNvSpPr/>
              <p:nvPr/>
            </p:nvSpPr>
            <p:spPr>
              <a:xfrm>
                <a:off x="5930640" y="427104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0" name="Línea 176"/>
            <p:cNvSpPr/>
            <p:nvPr/>
          </p:nvSpPr>
          <p:spPr>
            <a:xfrm flipV="1">
              <a:off x="3048120" y="401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Línea 177"/>
            <p:cNvSpPr/>
            <p:nvPr/>
          </p:nvSpPr>
          <p:spPr>
            <a:xfrm flipV="1">
              <a:off x="4624200" y="401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Línea 178"/>
            <p:cNvSpPr/>
            <p:nvPr/>
          </p:nvSpPr>
          <p:spPr>
            <a:xfrm flipV="1">
              <a:off x="6264000" y="401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513" name="Autoforma 179"/>
            <p:cNvCxnSpPr>
              <a:stCxn id="461" idx="2"/>
              <a:endCxn id="462" idx="0"/>
            </p:cNvCxnSpPr>
            <p:nvPr/>
          </p:nvCxnSpPr>
          <p:spPr>
            <a:xfrm rot="5400000">
              <a:off x="3580920" y="2594160"/>
              <a:ext cx="417960" cy="1599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4" name="Autoforma 180"/>
            <p:cNvCxnSpPr>
              <a:stCxn id="461" idx="2"/>
              <a:endCxn id="463" idx="0"/>
            </p:cNvCxnSpPr>
            <p:nvPr/>
          </p:nvCxnSpPr>
          <p:spPr>
            <a:xfrm rot="5400000">
              <a:off x="4379400" y="3392640"/>
              <a:ext cx="41796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Autoforma 181"/>
            <p:cNvCxnSpPr>
              <a:stCxn id="461" idx="2"/>
              <a:endCxn id="516" idx="0"/>
            </p:cNvCxnSpPr>
            <p:nvPr/>
          </p:nvCxnSpPr>
          <p:spPr>
            <a:xfrm flipH="1" rot="16200000">
              <a:off x="5200200" y="2572560"/>
              <a:ext cx="417960" cy="1641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517" name="Grupo 182"/>
            <p:cNvGrpSpPr/>
            <p:nvPr/>
          </p:nvGrpSpPr>
          <p:grpSpPr>
            <a:xfrm>
              <a:off x="2649960" y="4781520"/>
              <a:ext cx="193320" cy="403200"/>
              <a:chOff x="2649960" y="4781520"/>
              <a:chExt cx="193320" cy="403200"/>
            </a:xfrm>
          </p:grpSpPr>
          <p:sp>
            <p:nvSpPr>
              <p:cNvPr id="518" name="Elipse 183"/>
              <p:cNvSpPr/>
              <p:nvPr/>
            </p:nvSpPr>
            <p:spPr>
              <a:xfrm>
                <a:off x="2707200" y="4781520"/>
                <a:ext cx="79200" cy="61560"/>
              </a:xfrm>
              <a:prstGeom prst="ellipse">
                <a:avLst/>
              </a:prstGeom>
              <a:solidFill>
                <a:srgbClr val="00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Forma libre 184"/>
              <p:cNvSpPr/>
              <p:nvPr/>
            </p:nvSpPr>
            <p:spPr>
              <a:xfrm>
                <a:off x="2649960" y="4846680"/>
                <a:ext cx="193320" cy="33804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0" name="Grupo 190"/>
            <p:cNvGrpSpPr/>
            <p:nvPr/>
          </p:nvGrpSpPr>
          <p:grpSpPr>
            <a:xfrm>
              <a:off x="3138480" y="5233320"/>
              <a:ext cx="195120" cy="403200"/>
              <a:chOff x="3138480" y="5233320"/>
              <a:chExt cx="195120" cy="403200"/>
            </a:xfrm>
          </p:grpSpPr>
          <p:sp>
            <p:nvSpPr>
              <p:cNvPr id="521" name="Elipse 191"/>
              <p:cNvSpPr/>
              <p:nvPr/>
            </p:nvSpPr>
            <p:spPr>
              <a:xfrm>
                <a:off x="3196080" y="5233320"/>
                <a:ext cx="79920" cy="61560"/>
              </a:xfrm>
              <a:prstGeom prst="ellipse">
                <a:avLst/>
              </a:prstGeom>
              <a:solidFill>
                <a:srgbClr val="00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2" name="Forma libre 192"/>
              <p:cNvSpPr/>
              <p:nvPr/>
            </p:nvSpPr>
            <p:spPr>
              <a:xfrm>
                <a:off x="3138480" y="5298480"/>
                <a:ext cx="195120" cy="3380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3" name="Grupo 193"/>
            <p:cNvGrpSpPr/>
            <p:nvPr/>
          </p:nvGrpSpPr>
          <p:grpSpPr>
            <a:xfrm>
              <a:off x="4343400" y="4997520"/>
              <a:ext cx="193320" cy="403200"/>
              <a:chOff x="4343400" y="4997520"/>
              <a:chExt cx="193320" cy="403200"/>
            </a:xfrm>
          </p:grpSpPr>
          <p:sp>
            <p:nvSpPr>
              <p:cNvPr id="524" name="Elipse 194"/>
              <p:cNvSpPr/>
              <p:nvPr/>
            </p:nvSpPr>
            <p:spPr>
              <a:xfrm>
                <a:off x="4400640" y="4997520"/>
                <a:ext cx="79200" cy="61560"/>
              </a:xfrm>
              <a:prstGeom prst="ellipse">
                <a:avLst/>
              </a:prstGeom>
              <a:solidFill>
                <a:srgbClr val="f16d5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5" name="Forma libre 195"/>
              <p:cNvSpPr/>
              <p:nvPr/>
            </p:nvSpPr>
            <p:spPr>
              <a:xfrm>
                <a:off x="4343400" y="5062680"/>
                <a:ext cx="193320" cy="33804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f16d5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6" name="Grupo 196"/>
            <p:cNvGrpSpPr/>
            <p:nvPr/>
          </p:nvGrpSpPr>
          <p:grpSpPr>
            <a:xfrm>
              <a:off x="4632120" y="4593600"/>
              <a:ext cx="193320" cy="403200"/>
              <a:chOff x="4632120" y="4593600"/>
              <a:chExt cx="193320" cy="403200"/>
            </a:xfrm>
          </p:grpSpPr>
          <p:sp>
            <p:nvSpPr>
              <p:cNvPr id="527" name="Elipse 197"/>
              <p:cNvSpPr/>
              <p:nvPr/>
            </p:nvSpPr>
            <p:spPr>
              <a:xfrm>
                <a:off x="4689360" y="4593600"/>
                <a:ext cx="79200" cy="61560"/>
              </a:xfrm>
              <a:prstGeom prst="ellipse">
                <a:avLst/>
              </a:prstGeom>
              <a:solidFill>
                <a:srgbClr val="f16d5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Forma libre 198"/>
              <p:cNvSpPr/>
              <p:nvPr/>
            </p:nvSpPr>
            <p:spPr>
              <a:xfrm>
                <a:off x="4632120" y="4658760"/>
                <a:ext cx="193320" cy="33804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f16d5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9" name="Grupo 199"/>
            <p:cNvGrpSpPr/>
            <p:nvPr/>
          </p:nvGrpSpPr>
          <p:grpSpPr>
            <a:xfrm>
              <a:off x="5962680" y="4781520"/>
              <a:ext cx="193320" cy="403200"/>
              <a:chOff x="5962680" y="4781520"/>
              <a:chExt cx="193320" cy="403200"/>
            </a:xfrm>
          </p:grpSpPr>
          <p:sp>
            <p:nvSpPr>
              <p:cNvPr id="530" name="Elipse 200"/>
              <p:cNvSpPr/>
              <p:nvPr/>
            </p:nvSpPr>
            <p:spPr>
              <a:xfrm>
                <a:off x="6019920" y="4781520"/>
                <a:ext cx="79200" cy="6156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1" name="Forma libre 201"/>
              <p:cNvSpPr/>
              <p:nvPr/>
            </p:nvSpPr>
            <p:spPr>
              <a:xfrm>
                <a:off x="5962680" y="4846680"/>
                <a:ext cx="193320" cy="33804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2" name="Grupo 202"/>
            <p:cNvGrpSpPr/>
            <p:nvPr/>
          </p:nvGrpSpPr>
          <p:grpSpPr>
            <a:xfrm>
              <a:off x="6609240" y="4325400"/>
              <a:ext cx="195120" cy="403200"/>
              <a:chOff x="6609240" y="4325400"/>
              <a:chExt cx="195120" cy="403200"/>
            </a:xfrm>
          </p:grpSpPr>
          <p:sp>
            <p:nvSpPr>
              <p:cNvPr id="533" name="Elipse 203"/>
              <p:cNvSpPr/>
              <p:nvPr/>
            </p:nvSpPr>
            <p:spPr>
              <a:xfrm>
                <a:off x="6666840" y="4325400"/>
                <a:ext cx="79920" cy="6156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4" name="Forma libre 204"/>
              <p:cNvSpPr/>
              <p:nvPr/>
            </p:nvSpPr>
            <p:spPr>
              <a:xfrm>
                <a:off x="6609240" y="4390560"/>
                <a:ext cx="195120" cy="3380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5" name="Grupo 205"/>
            <p:cNvGrpSpPr/>
            <p:nvPr/>
          </p:nvGrpSpPr>
          <p:grpSpPr>
            <a:xfrm>
              <a:off x="3131640" y="4421160"/>
              <a:ext cx="195120" cy="403200"/>
              <a:chOff x="3131640" y="4421160"/>
              <a:chExt cx="195120" cy="403200"/>
            </a:xfrm>
          </p:grpSpPr>
          <p:sp>
            <p:nvSpPr>
              <p:cNvPr id="536" name="Elipse 206"/>
              <p:cNvSpPr/>
              <p:nvPr/>
            </p:nvSpPr>
            <p:spPr>
              <a:xfrm>
                <a:off x="3189240" y="4421160"/>
                <a:ext cx="79920" cy="61560"/>
              </a:xfrm>
              <a:prstGeom prst="ellipse">
                <a:avLst/>
              </a:prstGeom>
              <a:solidFill>
                <a:srgbClr val="00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7" name="Forma libre 207"/>
              <p:cNvSpPr/>
              <p:nvPr/>
            </p:nvSpPr>
            <p:spPr>
              <a:xfrm>
                <a:off x="3131640" y="4486320"/>
                <a:ext cx="195120" cy="3380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8" name="Grupo 208"/>
            <p:cNvGrpSpPr/>
            <p:nvPr/>
          </p:nvGrpSpPr>
          <p:grpSpPr>
            <a:xfrm>
              <a:off x="4954320" y="4286880"/>
              <a:ext cx="193320" cy="403200"/>
              <a:chOff x="4954320" y="4286880"/>
              <a:chExt cx="193320" cy="403200"/>
            </a:xfrm>
          </p:grpSpPr>
          <p:sp>
            <p:nvSpPr>
              <p:cNvPr id="539" name="Elipse 209"/>
              <p:cNvSpPr/>
              <p:nvPr/>
            </p:nvSpPr>
            <p:spPr>
              <a:xfrm>
                <a:off x="5011560" y="4286880"/>
                <a:ext cx="79200" cy="61560"/>
              </a:xfrm>
              <a:prstGeom prst="ellipse">
                <a:avLst/>
              </a:prstGeom>
              <a:solidFill>
                <a:srgbClr val="f16d5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0" name="Forma libre 210"/>
              <p:cNvSpPr/>
              <p:nvPr/>
            </p:nvSpPr>
            <p:spPr>
              <a:xfrm>
                <a:off x="4954320" y="4352040"/>
                <a:ext cx="193320" cy="33804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f16d5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1" name="Grupo 211"/>
            <p:cNvGrpSpPr/>
            <p:nvPr/>
          </p:nvGrpSpPr>
          <p:grpSpPr>
            <a:xfrm>
              <a:off x="6505560" y="5315760"/>
              <a:ext cx="196560" cy="401400"/>
              <a:chOff x="6505560" y="5315760"/>
              <a:chExt cx="196560" cy="401400"/>
            </a:xfrm>
          </p:grpSpPr>
          <p:sp>
            <p:nvSpPr>
              <p:cNvPr id="542" name="Elipse 212"/>
              <p:cNvSpPr/>
              <p:nvPr/>
            </p:nvSpPr>
            <p:spPr>
              <a:xfrm>
                <a:off x="6563520" y="5315760"/>
                <a:ext cx="80640" cy="6120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3" name="Forma libre 213"/>
              <p:cNvSpPr/>
              <p:nvPr/>
            </p:nvSpPr>
            <p:spPr>
              <a:xfrm>
                <a:off x="6505560" y="5380560"/>
                <a:ext cx="196560" cy="33660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4" name="Grupo 214"/>
            <p:cNvGrpSpPr/>
            <p:nvPr/>
          </p:nvGrpSpPr>
          <p:grpSpPr>
            <a:xfrm>
              <a:off x="4491000" y="2454480"/>
              <a:ext cx="193320" cy="403200"/>
              <a:chOff x="4491000" y="2454480"/>
              <a:chExt cx="193320" cy="403200"/>
            </a:xfrm>
          </p:grpSpPr>
          <p:sp>
            <p:nvSpPr>
              <p:cNvPr id="545" name="Elipse 215"/>
              <p:cNvSpPr/>
              <p:nvPr/>
            </p:nvSpPr>
            <p:spPr>
              <a:xfrm>
                <a:off x="4548240" y="2454480"/>
                <a:ext cx="79200" cy="61560"/>
              </a:xfrm>
              <a:prstGeom prst="ellipse">
                <a:avLst/>
              </a:prstGeom>
              <a:solidFill>
                <a:srgbClr val="9933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Forma libre 216"/>
              <p:cNvSpPr/>
              <p:nvPr/>
            </p:nvSpPr>
            <p:spPr>
              <a:xfrm>
                <a:off x="4491000" y="2519640"/>
                <a:ext cx="193320" cy="33804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9933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7" name="Grupo 217"/>
            <p:cNvGrpSpPr/>
            <p:nvPr/>
          </p:nvGrpSpPr>
          <p:grpSpPr>
            <a:xfrm>
              <a:off x="2897280" y="3238920"/>
              <a:ext cx="195120" cy="403200"/>
              <a:chOff x="2897280" y="3238920"/>
              <a:chExt cx="195120" cy="403200"/>
            </a:xfrm>
          </p:grpSpPr>
          <p:sp>
            <p:nvSpPr>
              <p:cNvPr id="548" name="Elipse 218"/>
              <p:cNvSpPr/>
              <p:nvPr/>
            </p:nvSpPr>
            <p:spPr>
              <a:xfrm>
                <a:off x="2954880" y="3238920"/>
                <a:ext cx="79920" cy="61560"/>
              </a:xfrm>
              <a:prstGeom prst="ellipse">
                <a:avLst/>
              </a:prstGeom>
              <a:solidFill>
                <a:srgbClr val="00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9" name="Forma libre 219"/>
              <p:cNvSpPr/>
              <p:nvPr/>
            </p:nvSpPr>
            <p:spPr>
              <a:xfrm>
                <a:off x="2897280" y="3304080"/>
                <a:ext cx="195120" cy="3380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0" name="Grupo 220"/>
            <p:cNvGrpSpPr/>
            <p:nvPr/>
          </p:nvGrpSpPr>
          <p:grpSpPr>
            <a:xfrm>
              <a:off x="4487760" y="3238920"/>
              <a:ext cx="191880" cy="403200"/>
              <a:chOff x="4487760" y="3238920"/>
              <a:chExt cx="191880" cy="403200"/>
            </a:xfrm>
          </p:grpSpPr>
          <p:sp>
            <p:nvSpPr>
              <p:cNvPr id="551" name="Elipse 221"/>
              <p:cNvSpPr/>
              <p:nvPr/>
            </p:nvSpPr>
            <p:spPr>
              <a:xfrm>
                <a:off x="4544280" y="3238920"/>
                <a:ext cx="78840" cy="61560"/>
              </a:xfrm>
              <a:prstGeom prst="ellipse">
                <a:avLst/>
              </a:prstGeom>
              <a:solidFill>
                <a:srgbClr val="f16d5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2" name="Forma libre 222"/>
              <p:cNvSpPr/>
              <p:nvPr/>
            </p:nvSpPr>
            <p:spPr>
              <a:xfrm>
                <a:off x="4487760" y="3304080"/>
                <a:ext cx="191880" cy="3380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f16d5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Rectángulo 242"/>
            <p:cNvSpPr/>
            <p:nvPr/>
          </p:nvSpPr>
          <p:spPr>
            <a:xfrm>
              <a:off x="5734080" y="3602520"/>
              <a:ext cx="992160" cy="393480"/>
            </a:xfrm>
            <a:prstGeom prst="rect">
              <a:avLst/>
            </a:prstGeom>
            <a:solidFill>
              <a:srgbClr val="dddddd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Verdana"/>
                </a:rPr>
                <a:t>Función C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3" name="Grupo 243"/>
            <p:cNvGrpSpPr/>
            <p:nvPr/>
          </p:nvGrpSpPr>
          <p:grpSpPr>
            <a:xfrm>
              <a:off x="6148440" y="3238920"/>
              <a:ext cx="195120" cy="403200"/>
              <a:chOff x="6148440" y="3238920"/>
              <a:chExt cx="195120" cy="403200"/>
            </a:xfrm>
          </p:grpSpPr>
          <p:sp>
            <p:nvSpPr>
              <p:cNvPr id="554" name="Elipse 244"/>
              <p:cNvSpPr/>
              <p:nvPr/>
            </p:nvSpPr>
            <p:spPr>
              <a:xfrm>
                <a:off x="6206040" y="3238920"/>
                <a:ext cx="79920" cy="6156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5" name="Forma libre 245"/>
              <p:cNvSpPr/>
              <p:nvPr/>
            </p:nvSpPr>
            <p:spPr>
              <a:xfrm>
                <a:off x="6148440" y="3304080"/>
                <a:ext cx="195120" cy="3380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811" h="3064">
                    <a:moveTo>
                      <a:pt x="859" y="0"/>
                    </a:moveTo>
                    <a:lnTo>
                      <a:pt x="1263" y="0"/>
                    </a:lnTo>
                    <a:lnTo>
                      <a:pt x="1335" y="1"/>
                    </a:lnTo>
                    <a:lnTo>
                      <a:pt x="1361" y="1"/>
                    </a:lnTo>
                    <a:lnTo>
                      <a:pt x="1389" y="2"/>
                    </a:lnTo>
                    <a:lnTo>
                      <a:pt x="1440" y="8"/>
                    </a:lnTo>
                    <a:lnTo>
                      <a:pt x="1533" y="28"/>
                    </a:lnTo>
                    <a:lnTo>
                      <a:pt x="1611" y="63"/>
                    </a:lnTo>
                    <a:lnTo>
                      <a:pt x="1680" y="112"/>
                    </a:lnTo>
                    <a:lnTo>
                      <a:pt x="1732" y="171"/>
                    </a:lnTo>
                    <a:lnTo>
                      <a:pt x="1772" y="245"/>
                    </a:lnTo>
                    <a:lnTo>
                      <a:pt x="1796" y="331"/>
                    </a:lnTo>
                    <a:lnTo>
                      <a:pt x="1808" y="427"/>
                    </a:lnTo>
                    <a:lnTo>
                      <a:pt x="1811" y="460"/>
                    </a:lnTo>
                    <a:lnTo>
                      <a:pt x="1811" y="1342"/>
                    </a:lnTo>
                    <a:lnTo>
                      <a:pt x="1811" y="1357"/>
                    </a:lnTo>
                    <a:lnTo>
                      <a:pt x="1801" y="1406"/>
                    </a:lnTo>
                    <a:lnTo>
                      <a:pt x="1773" y="1445"/>
                    </a:lnTo>
                    <a:lnTo>
                      <a:pt x="1722" y="1471"/>
                    </a:lnTo>
                    <a:lnTo>
                      <a:pt x="1636" y="1483"/>
                    </a:lnTo>
                    <a:lnTo>
                      <a:pt x="1586" y="1480"/>
                    </a:lnTo>
                    <a:lnTo>
                      <a:pt x="1547" y="1468"/>
                    </a:lnTo>
                    <a:lnTo>
                      <a:pt x="1500" y="1426"/>
                    </a:lnTo>
                    <a:lnTo>
                      <a:pt x="1484" y="1383"/>
                    </a:lnTo>
                    <a:lnTo>
                      <a:pt x="1479" y="1357"/>
                    </a:lnTo>
                    <a:lnTo>
                      <a:pt x="1475" y="1340"/>
                    </a:lnTo>
                    <a:lnTo>
                      <a:pt x="1472" y="527"/>
                    </a:lnTo>
                    <a:lnTo>
                      <a:pt x="1383" y="525"/>
                    </a:lnTo>
                    <a:lnTo>
                      <a:pt x="1382" y="2817"/>
                    </a:lnTo>
                    <a:lnTo>
                      <a:pt x="1381" y="2860"/>
                    </a:lnTo>
                    <a:lnTo>
                      <a:pt x="1381" y="2889"/>
                    </a:lnTo>
                    <a:lnTo>
                      <a:pt x="1381" y="2905"/>
                    </a:lnTo>
                    <a:lnTo>
                      <a:pt x="1378" y="2922"/>
                    </a:lnTo>
                    <a:lnTo>
                      <a:pt x="1347" y="2988"/>
                    </a:lnTo>
                    <a:lnTo>
                      <a:pt x="1322" y="3017"/>
                    </a:lnTo>
                    <a:lnTo>
                      <a:pt x="1286" y="3041"/>
                    </a:lnTo>
                    <a:lnTo>
                      <a:pt x="1184" y="3064"/>
                    </a:lnTo>
                    <a:lnTo>
                      <a:pt x="1095" y="3054"/>
                    </a:lnTo>
                    <a:lnTo>
                      <a:pt x="1032" y="3018"/>
                    </a:lnTo>
                    <a:lnTo>
                      <a:pt x="994" y="2958"/>
                    </a:lnTo>
                    <a:lnTo>
                      <a:pt x="978" y="2866"/>
                    </a:lnTo>
                    <a:lnTo>
                      <a:pt x="978" y="2819"/>
                    </a:lnTo>
                    <a:lnTo>
                      <a:pt x="977" y="1480"/>
                    </a:lnTo>
                    <a:lnTo>
                      <a:pt x="889" y="1476"/>
                    </a:lnTo>
                    <a:lnTo>
                      <a:pt x="921" y="1476"/>
                    </a:lnTo>
                    <a:lnTo>
                      <a:pt x="831" y="1480"/>
                    </a:lnTo>
                    <a:lnTo>
                      <a:pt x="830" y="2819"/>
                    </a:lnTo>
                    <a:lnTo>
                      <a:pt x="830" y="2866"/>
                    </a:lnTo>
                    <a:lnTo>
                      <a:pt x="817" y="2954"/>
                    </a:lnTo>
                    <a:lnTo>
                      <a:pt x="781" y="3017"/>
                    </a:lnTo>
                    <a:lnTo>
                      <a:pt x="721" y="3052"/>
                    </a:lnTo>
                    <a:lnTo>
                      <a:pt x="631" y="3064"/>
                    </a:lnTo>
                    <a:lnTo>
                      <a:pt x="529" y="3043"/>
                    </a:lnTo>
                    <a:lnTo>
                      <a:pt x="466" y="2990"/>
                    </a:lnTo>
                    <a:lnTo>
                      <a:pt x="435" y="2924"/>
                    </a:lnTo>
                    <a:lnTo>
                      <a:pt x="430" y="2891"/>
                    </a:lnTo>
                    <a:lnTo>
                      <a:pt x="430" y="2876"/>
                    </a:lnTo>
                    <a:lnTo>
                      <a:pt x="431" y="2860"/>
                    </a:lnTo>
                    <a:lnTo>
                      <a:pt x="431" y="2817"/>
                    </a:lnTo>
                    <a:lnTo>
                      <a:pt x="427" y="525"/>
                    </a:lnTo>
                    <a:lnTo>
                      <a:pt x="333" y="527"/>
                    </a:lnTo>
                    <a:lnTo>
                      <a:pt x="335" y="1340"/>
                    </a:lnTo>
                    <a:lnTo>
                      <a:pt x="332" y="1357"/>
                    </a:lnTo>
                    <a:lnTo>
                      <a:pt x="312" y="1425"/>
                    </a:lnTo>
                    <a:lnTo>
                      <a:pt x="265" y="1467"/>
                    </a:lnTo>
                    <a:lnTo>
                      <a:pt x="225" y="1479"/>
                    </a:lnTo>
                    <a:lnTo>
                      <a:pt x="200" y="1482"/>
                    </a:lnTo>
                    <a:lnTo>
                      <a:pt x="172" y="1483"/>
                    </a:lnTo>
                    <a:lnTo>
                      <a:pt x="91" y="1473"/>
                    </a:lnTo>
                    <a:lnTo>
                      <a:pt x="40" y="1447"/>
                    </a:lnTo>
                    <a:lnTo>
                      <a:pt x="12" y="1408"/>
                    </a:lnTo>
                    <a:lnTo>
                      <a:pt x="0" y="1357"/>
                    </a:lnTo>
                    <a:lnTo>
                      <a:pt x="0" y="1342"/>
                    </a:lnTo>
                    <a:lnTo>
                      <a:pt x="0" y="460"/>
                    </a:lnTo>
                    <a:lnTo>
                      <a:pt x="0" y="427"/>
                    </a:lnTo>
                    <a:lnTo>
                      <a:pt x="8" y="333"/>
                    </a:lnTo>
                    <a:lnTo>
                      <a:pt x="33" y="248"/>
                    </a:lnTo>
                    <a:lnTo>
                      <a:pt x="73" y="176"/>
                    </a:lnTo>
                    <a:lnTo>
                      <a:pt x="126" y="113"/>
                    </a:lnTo>
                    <a:lnTo>
                      <a:pt x="192" y="65"/>
                    </a:lnTo>
                    <a:lnTo>
                      <a:pt x="272" y="29"/>
                    </a:lnTo>
                    <a:lnTo>
                      <a:pt x="364" y="9"/>
                    </a:lnTo>
                    <a:lnTo>
                      <a:pt x="415" y="3"/>
                    </a:lnTo>
                    <a:lnTo>
                      <a:pt x="443" y="2"/>
                    </a:lnTo>
                    <a:lnTo>
                      <a:pt x="472" y="1"/>
                    </a:lnTo>
                    <a:lnTo>
                      <a:pt x="545" y="0"/>
                    </a:lnTo>
                    <a:lnTo>
                      <a:pt x="947" y="0"/>
                    </a:lnTo>
                    <a:lnTo>
                      <a:pt x="859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56" name="3 Grupo"/>
          <p:cNvGrpSpPr/>
          <p:nvPr/>
        </p:nvGrpSpPr>
        <p:grpSpPr>
          <a:xfrm>
            <a:off x="650880" y="3882960"/>
            <a:ext cx="8020800" cy="2411280"/>
            <a:chOff x="650880" y="3882960"/>
            <a:chExt cx="8020800" cy="2411280"/>
          </a:xfrm>
        </p:grpSpPr>
        <p:grpSp>
          <p:nvGrpSpPr>
            <p:cNvPr id="557" name="Grupo 250"/>
            <p:cNvGrpSpPr/>
            <p:nvPr/>
          </p:nvGrpSpPr>
          <p:grpSpPr>
            <a:xfrm>
              <a:off x="650880" y="4075200"/>
              <a:ext cx="8020800" cy="2219040"/>
              <a:chOff x="650880" y="4075200"/>
              <a:chExt cx="8020800" cy="2219040"/>
            </a:xfrm>
          </p:grpSpPr>
          <p:grpSp>
            <p:nvGrpSpPr>
              <p:cNvPr id="558" name="Grupo 223"/>
              <p:cNvGrpSpPr/>
              <p:nvPr/>
            </p:nvGrpSpPr>
            <p:grpSpPr>
              <a:xfrm>
                <a:off x="650880" y="5089680"/>
                <a:ext cx="1314720" cy="505440"/>
                <a:chOff x="650880" y="5089680"/>
                <a:chExt cx="1314720" cy="505440"/>
              </a:xfrm>
            </p:grpSpPr>
            <p:sp>
              <p:nvSpPr>
                <p:cNvPr id="559" name="Forma libre 224"/>
                <p:cNvSpPr/>
                <p:nvPr/>
              </p:nvSpPr>
              <p:spPr>
                <a:xfrm>
                  <a:off x="670320" y="5089680"/>
                  <a:ext cx="1295280" cy="50544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505440"/>
                    <a:gd name="textAreaBottom" fmla="*/ 505800 h 505440"/>
                  </a:gdLst>
                  <a:ahLst/>
                  <a:rect l="textAreaLeft" t="textAreaTop" r="textAreaRight" b="textAreaBottom"/>
                  <a:pathLst>
                    <a:path w="684" h="380">
                      <a:moveTo>
                        <a:pt x="512" y="0"/>
                      </a:moveTo>
                      <a:lnTo>
                        <a:pt x="0" y="0"/>
                      </a:lnTo>
                      <a:lnTo>
                        <a:pt x="0" y="380"/>
                      </a:lnTo>
                      <a:lnTo>
                        <a:pt x="512" y="380"/>
                      </a:lnTo>
                      <a:lnTo>
                        <a:pt x="684" y="190"/>
                      </a:lnTo>
                      <a:lnTo>
                        <a:pt x="512" y="0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Rectángulo 225"/>
                <p:cNvSpPr/>
                <p:nvPr/>
              </p:nvSpPr>
              <p:spPr>
                <a:xfrm>
                  <a:off x="650880" y="5239080"/>
                  <a:ext cx="1238040" cy="182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Requer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1" name="Grupo 226"/>
              <p:cNvGrpSpPr/>
              <p:nvPr/>
            </p:nvGrpSpPr>
            <p:grpSpPr>
              <a:xfrm>
                <a:off x="7498440" y="5117400"/>
                <a:ext cx="1173240" cy="492120"/>
                <a:chOff x="7498440" y="5117400"/>
                <a:chExt cx="1173240" cy="492120"/>
              </a:xfrm>
            </p:grpSpPr>
            <p:sp>
              <p:nvSpPr>
                <p:cNvPr id="562" name="Forma libre 227"/>
                <p:cNvSpPr/>
                <p:nvPr/>
              </p:nvSpPr>
              <p:spPr>
                <a:xfrm>
                  <a:off x="7498440" y="5117400"/>
                  <a:ext cx="1173240" cy="492120"/>
                </a:xfrm>
                <a:custGeom>
                  <a:avLst/>
                  <a:gdLst>
                    <a:gd name="textAreaLeft" fmla="*/ 0 w 1173240"/>
                    <a:gd name="textAreaRight" fmla="*/ 1173600 w 117324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772" h="381">
                      <a:moveTo>
                        <a:pt x="578" y="0"/>
                      </a:moveTo>
                      <a:lnTo>
                        <a:pt x="0" y="0"/>
                      </a:lnTo>
                      <a:lnTo>
                        <a:pt x="0" y="381"/>
                      </a:lnTo>
                      <a:lnTo>
                        <a:pt x="578" y="381"/>
                      </a:lnTo>
                      <a:lnTo>
                        <a:pt x="772" y="191"/>
                      </a:lnTo>
                      <a:lnTo>
                        <a:pt x="578" y="0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3" name="Rectángulo 228"/>
                <p:cNvSpPr/>
                <p:nvPr/>
              </p:nvSpPr>
              <p:spPr>
                <a:xfrm>
                  <a:off x="7596360" y="5275800"/>
                  <a:ext cx="773280" cy="182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Respuesta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4" name="Grupo 229"/>
              <p:cNvGrpSpPr/>
              <p:nvPr/>
            </p:nvGrpSpPr>
            <p:grpSpPr>
              <a:xfrm>
                <a:off x="1933920" y="4075200"/>
                <a:ext cx="5685120" cy="1426320"/>
                <a:chOff x="1933920" y="4075200"/>
                <a:chExt cx="5685120" cy="1426320"/>
              </a:xfrm>
            </p:grpSpPr>
            <p:sp>
              <p:nvSpPr>
                <p:cNvPr id="565" name="Línea 230"/>
                <p:cNvSpPr/>
                <p:nvPr/>
              </p:nvSpPr>
              <p:spPr>
                <a:xfrm flipV="1">
                  <a:off x="2871720" y="4788000"/>
                  <a:ext cx="239760" cy="451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6" name="Línea 231"/>
                <p:cNvSpPr/>
                <p:nvPr/>
              </p:nvSpPr>
              <p:spPr>
                <a:xfrm>
                  <a:off x="3098520" y="4782960"/>
                  <a:ext cx="314640" cy="54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7" name="Línea 232"/>
                <p:cNvSpPr/>
                <p:nvPr/>
              </p:nvSpPr>
              <p:spPr>
                <a:xfrm>
                  <a:off x="3420720" y="5337720"/>
                  <a:ext cx="110520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8" name="Línea 233"/>
                <p:cNvSpPr/>
                <p:nvPr/>
              </p:nvSpPr>
              <p:spPr>
                <a:xfrm flipV="1">
                  <a:off x="4543560" y="4936320"/>
                  <a:ext cx="291240" cy="5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9" name="Línea 234"/>
                <p:cNvSpPr/>
                <p:nvPr/>
              </p:nvSpPr>
              <p:spPr>
                <a:xfrm>
                  <a:off x="4852440" y="4915080"/>
                  <a:ext cx="1322280" cy="348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0" name="Línea 235"/>
                <p:cNvSpPr/>
                <p:nvPr/>
              </p:nvSpPr>
              <p:spPr>
                <a:xfrm flipV="1">
                  <a:off x="6157080" y="4079880"/>
                  <a:ext cx="174600" cy="11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1" name="Línea 236"/>
                <p:cNvSpPr/>
                <p:nvPr/>
              </p:nvSpPr>
              <p:spPr>
                <a:xfrm>
                  <a:off x="6337800" y="4075200"/>
                  <a:ext cx="331560" cy="819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2" name="Línea 237"/>
                <p:cNvSpPr/>
                <p:nvPr/>
              </p:nvSpPr>
              <p:spPr>
                <a:xfrm>
                  <a:off x="6658200" y="4878360"/>
                  <a:ext cx="96084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3" name="Línea 238"/>
                <p:cNvSpPr/>
                <p:nvPr/>
              </p:nvSpPr>
              <p:spPr>
                <a:xfrm flipV="1">
                  <a:off x="1933920" y="5233680"/>
                  <a:ext cx="908280" cy="126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74" name="Autoforma 240"/>
              <p:cNvSpPr/>
              <p:nvPr/>
            </p:nvSpPr>
            <p:spPr>
              <a:xfrm>
                <a:off x="1045440" y="5918040"/>
                <a:ext cx="7476840" cy="376200"/>
              </a:xfrm>
              <a:custGeom>
                <a:avLst/>
                <a:gdLst>
                  <a:gd name="textAreaLeft" fmla="*/ 0 w 7476840"/>
                  <a:gd name="textAreaRight" fmla="*/ 7477200 w 747684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278" y="0"/>
                    </a:lnTo>
                    <a:lnTo>
                      <a:pt x="21600" y="10800"/>
                    </a:lnTo>
                    <a:lnTo>
                      <a:pt x="2027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3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PROCESOS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75" name="Grupo 214" descr=""/>
            <p:cNvPicPr/>
            <p:nvPr/>
          </p:nvPicPr>
          <p:blipFill>
            <a:blip r:embed="rId1"/>
            <a:stretch/>
          </p:blipFill>
          <p:spPr>
            <a:xfrm>
              <a:off x="969120" y="4389120"/>
              <a:ext cx="487440" cy="61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Grupo 214" descr=""/>
            <p:cNvPicPr/>
            <p:nvPr/>
          </p:nvPicPr>
          <p:blipFill>
            <a:blip r:embed="rId2"/>
            <a:stretch/>
          </p:blipFill>
          <p:spPr>
            <a:xfrm>
              <a:off x="7839360" y="4389120"/>
              <a:ext cx="481320" cy="61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2 CuadroTexto"/>
            <p:cNvSpPr/>
            <p:nvPr/>
          </p:nvSpPr>
          <p:spPr>
            <a:xfrm>
              <a:off x="702000" y="4000680"/>
              <a:ext cx="9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udadano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128 CuadroTexto"/>
            <p:cNvSpPr/>
            <p:nvPr/>
          </p:nvSpPr>
          <p:spPr>
            <a:xfrm>
              <a:off x="7560000" y="3882960"/>
              <a:ext cx="9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iudadano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9" name="22 CuadroTexto"/>
          <p:cNvSpPr/>
          <p:nvPr/>
        </p:nvSpPr>
        <p:spPr>
          <a:xfrm>
            <a:off x="468360" y="1052640"/>
            <a:ext cx="82072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La organización por proces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complementa</a:t>
            </a: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 la organización funcional integrándola horizontal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129 Título" descr=""/>
          <p:cNvPicPr/>
          <p:nvPr/>
        </p:nvPicPr>
        <p:blipFill>
          <a:blip r:embed="rId3"/>
          <a:stretch/>
        </p:blipFill>
        <p:spPr>
          <a:xfrm>
            <a:off x="237960" y="128520"/>
            <a:ext cx="7431120" cy="1163880"/>
          </a:xfrm>
          <a:prstGeom prst="rect">
            <a:avLst/>
          </a:prstGeom>
          <a:ln w="0">
            <a:noFill/>
          </a:ln>
        </p:spPr>
      </p:pic>
      <p:sp>
        <p:nvSpPr>
          <p:cNvPr id="581" name="5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0042-ECF5-439B-A925-25566D2070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54a10"/>
                </a:solidFill>
                <a:latin typeface="Verdana"/>
              </a:rPr>
              <a:t>Un proceso es la suma de activid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54a10"/>
                </a:solidFill>
                <a:latin typeface="Verdana"/>
              </a:rPr>
              <a:t>Una organización es la suma de proce</a:t>
            </a:r>
            <a:r>
              <a:rPr b="1" i="1" lang="en-US" sz="2700" spc="-1" strike="noStrike">
                <a:solidFill>
                  <a:srgbClr val="b54a10"/>
                </a:solidFill>
                <a:latin typeface="Verdana"/>
              </a:rPr>
              <a:t>s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c767c"/>
                </a:solidFill>
                <a:latin typeface="Verdana"/>
              </a:rPr>
              <a:t>Dirigir una Organización consiste en liderar los proces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3" name="1 Título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7382160" cy="1163880"/>
          </a:xfrm>
          <a:prstGeom prst="rect">
            <a:avLst/>
          </a:prstGeom>
          <a:ln w="0">
            <a:noFill/>
          </a:ln>
        </p:spPr>
      </p:pic>
      <p:sp>
        <p:nvSpPr>
          <p:cNvPr id="584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1AB8-4EF3-40E2-937F-3C28BABB52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da0d0"/>
                </a:solidFill>
                <a:latin typeface="Verdana"/>
              </a:rPr>
              <a:t>El éxito reside en la EJECUC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da0d0"/>
                </a:solidFill>
                <a:latin typeface="Verdana"/>
              </a:rPr>
              <a:t>La EJECUCION es a través de la Estructura y los proces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1 Título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7285320" cy="1163880"/>
          </a:xfrm>
          <a:prstGeom prst="rect">
            <a:avLst/>
          </a:prstGeom>
          <a:ln w="0">
            <a:noFill/>
          </a:ln>
        </p:spPr>
      </p:pic>
      <p:sp>
        <p:nvSpPr>
          <p:cNvPr id="587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AFFD-DAD4-4F04-9D78-7FD46C8FCE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54a10"/>
                </a:solidFill>
                <a:latin typeface="Verdana"/>
              </a:rPr>
              <a:t>Una Organización es tan eficiente, como eficiente sea el diseño de: </a:t>
            </a:r>
            <a:r>
              <a:rPr b="1" i="1" lang="en-US" sz="3200" spc="-1" strike="noStrike">
                <a:solidFill>
                  <a:srgbClr val="227a8f"/>
                </a:solidFill>
                <a:latin typeface="Verdana"/>
              </a:rPr>
              <a:t>Los proces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7a8f"/>
                </a:solidFill>
                <a:latin typeface="Verdana"/>
              </a:rPr>
              <a:t>La Cadena de Va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reación de Ventajas Competitiv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9" name="1 Título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7285320" cy="1163880"/>
          </a:xfrm>
          <a:prstGeom prst="rect">
            <a:avLst/>
          </a:prstGeom>
          <a:ln w="0">
            <a:noFill/>
          </a:ln>
        </p:spPr>
      </p:pic>
      <p:sp>
        <p:nvSpPr>
          <p:cNvPr id="590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5542-D3E4-4781-B321-2233C72C9B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Down Arrow 1"/>
          <p:cNvSpPr/>
          <p:nvPr/>
        </p:nvSpPr>
        <p:spPr>
          <a:xfrm>
            <a:off x="3419640" y="3500280"/>
            <a:ext cx="1728720" cy="97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DEC5-BDF0-4281-A5B8-60CE65477C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56720" cy="5666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00800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2A9-CB59-4FEE-97BB-40EB425622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324000" y="1112760"/>
            <a:ext cx="8424720" cy="460080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108000" y="6303960"/>
            <a:ext cx="1295280" cy="5097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457200" y="1252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100" spc="-1" strike="noStrike">
                <a:solidFill>
                  <a:srgbClr val="464646"/>
                </a:solidFill>
                <a:latin typeface="Lucida Sans Unicode"/>
              </a:rPr>
              <a:t>Cadena de valor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7524720" y="1197000"/>
            <a:ext cx="13683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5DAA-7289-42AE-8564-D9793AE01B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1584360" y="371520"/>
            <a:ext cx="5975280" cy="61214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108000" y="6303960"/>
            <a:ext cx="1295280" cy="5097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13683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100" spc="-1" strike="noStrike">
                <a:solidFill>
                  <a:srgbClr val="464646"/>
                </a:solidFill>
                <a:latin typeface="Lucida Sans Unicode"/>
              </a:rPr>
              <a:t>Métricas de Proceso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734240" cy="48974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108000" y="6303960"/>
            <a:ext cx="129528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100" spc="-1" strike="noStrike">
                <a:solidFill>
                  <a:srgbClr val="464646"/>
                </a:solidFill>
                <a:latin typeface="Lucida Sans Unicode"/>
              </a:rPr>
              <a:t>Conclusiones: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Por qué un BPM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4960" indent="-343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Lucida Sans Unicode"/>
              </a:rPr>
              <a:t>Diseño y re-ingeniería de Proces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4960" indent="-343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Lucida Sans Unicode"/>
              </a:rPr>
              <a:t>Métricas de Proces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4960" indent="-343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Lucida Sans Unicode"/>
              </a:rPr>
              <a:t>Eficiencia del conocimient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4960" indent="-343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Lucida Sans Unicode"/>
              </a:rPr>
              <a:t>Mejorar la eficiencia en la gestión y la competitivida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23200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ángulo 4"/>
          <p:cNvSpPr/>
          <p:nvPr/>
        </p:nvSpPr>
        <p:spPr>
          <a:xfrm>
            <a:off x="2286000" y="3108240"/>
            <a:ext cx="45720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Verdana"/>
              </a:rPr>
              <a:t>¡Muchas gracia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Rectangle 4" descr=""/>
          <p:cNvPicPr/>
          <p:nvPr/>
        </p:nvPicPr>
        <p:blipFill>
          <a:blip r:embed="rId1"/>
          <a:stretch/>
        </p:blipFill>
        <p:spPr>
          <a:xfrm>
            <a:off x="785880" y="1047600"/>
            <a:ext cx="7235640" cy="17193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escudo-COLOR"/>
          <p:cNvPicPr/>
          <p:nvPr/>
        </p:nvPicPr>
        <p:blipFill>
          <a:blip r:embed="rId2"/>
          <a:stretch/>
        </p:blipFill>
        <p:spPr>
          <a:xfrm>
            <a:off x="2643120" y="214200"/>
            <a:ext cx="3475080" cy="14493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8172360" y="6037200"/>
            <a:ext cx="793800" cy="7048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3348000" y="6321600"/>
            <a:ext cx="2735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ff8119"/>
                </a:solidFill>
                <a:uFillTx/>
                <a:latin typeface="Verdana"/>
                <a:hlinkClick r:id="rId4"/>
              </a:rPr>
              <a:t>www.softwarea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39280" y="1668240"/>
            <a:ext cx="82076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ultura organizacional orientada al cumplimiento de la normati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Falta de enfoque en los resultad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ébil orientación al Ciudadano (Destinatari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9" name="1 Título" descr=""/>
          <p:cNvPicPr/>
          <p:nvPr/>
        </p:nvPicPr>
        <p:blipFill>
          <a:blip r:embed="rId1"/>
          <a:stretch/>
        </p:blipFill>
        <p:spPr>
          <a:xfrm>
            <a:off x="201600" y="128520"/>
            <a:ext cx="7467480" cy="1243080"/>
          </a:xfrm>
          <a:prstGeom prst="rect">
            <a:avLst/>
          </a:prstGeom>
          <a:ln w="0">
            <a:noFill/>
          </a:ln>
        </p:spPr>
      </p:pic>
      <p:sp>
        <p:nvSpPr>
          <p:cNvPr id="340" name="5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BFAE-7AC1-4436-94DA-CACCAA9487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11280" y="1668240"/>
            <a:ext cx="8136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otenciar la experiencia acumulad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provechar la madurez institucion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fundizar la gestión de manera feder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Generalizar las buenas práctic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2" name="1 Grupo"/>
          <p:cNvGrpSpPr/>
          <p:nvPr/>
        </p:nvGrpSpPr>
        <p:grpSpPr>
          <a:xfrm>
            <a:off x="611280" y="3684600"/>
            <a:ext cx="8136000" cy="2816280"/>
            <a:chOff x="611280" y="3684600"/>
            <a:chExt cx="8136000" cy="2816280"/>
          </a:xfrm>
        </p:grpSpPr>
        <p:sp>
          <p:nvSpPr>
            <p:cNvPr id="343" name="6 Flecha abajo"/>
            <p:cNvSpPr/>
            <p:nvPr/>
          </p:nvSpPr>
          <p:spPr>
            <a:xfrm>
              <a:off x="4030920" y="3684600"/>
              <a:ext cx="1296720" cy="100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0436c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2 Marcador de contenido"/>
            <p:cNvSpPr/>
            <p:nvPr/>
          </p:nvSpPr>
          <p:spPr>
            <a:xfrm>
              <a:off x="611280" y="4836960"/>
              <a:ext cx="8136000" cy="16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 Unicode"/>
                </a:rPr>
                <a:t>Lograr un salto de calidad institucional que consolide a la SE como promotora de políticas activas de empleo.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201600" y="128520"/>
            <a:ext cx="7467480" cy="1243080"/>
          </a:xfrm>
          <a:prstGeom prst="rect">
            <a:avLst/>
          </a:prstGeom>
          <a:ln w="0">
            <a:noFill/>
          </a:ln>
        </p:spPr>
      </p:pic>
      <p:sp>
        <p:nvSpPr>
          <p:cNvPr id="346" name="5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DCBD-8FBA-4CDC-B469-F7D2130DDA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4 Pentágono"/>
          <p:cNvSpPr/>
          <p:nvPr/>
        </p:nvSpPr>
        <p:spPr>
          <a:xfrm>
            <a:off x="1403280" y="5157720"/>
            <a:ext cx="6985080" cy="151308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61" y="0"/>
                </a:lnTo>
                <a:lnTo>
                  <a:pt x="21600" y="10800"/>
                </a:lnTo>
                <a:lnTo>
                  <a:pt x="192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5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E94F-BDD6-456A-8C03-AABA3C2F13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201600" y="128520"/>
            <a:ext cx="7467480" cy="1243080"/>
          </a:xfrm>
          <a:prstGeom prst="rect">
            <a:avLst/>
          </a:prstGeom>
          <a:ln w="0">
            <a:noFill/>
          </a:ln>
        </p:spPr>
      </p:pic>
      <p:sp>
        <p:nvSpPr>
          <p:cNvPr id="350" name="2 Pentágono"/>
          <p:cNvSpPr/>
          <p:nvPr/>
        </p:nvSpPr>
        <p:spPr>
          <a:xfrm>
            <a:off x="1549440" y="5253120"/>
            <a:ext cx="2330280" cy="130644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1306440"/>
              <a:gd name="textAreaBottom" fmla="*/ 1306800 h 13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45" y="0"/>
                </a:lnTo>
                <a:lnTo>
                  <a:pt x="21600" y="10800"/>
                </a:lnTo>
                <a:lnTo>
                  <a:pt x="155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Validación diagnós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3 Cheurón"/>
          <p:cNvSpPr/>
          <p:nvPr/>
        </p:nvSpPr>
        <p:spPr>
          <a:xfrm>
            <a:off x="3354480" y="5261040"/>
            <a:ext cx="2879640" cy="130644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306440"/>
              <a:gd name="textAreaBottom" fmla="*/ 1306800 h 13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0" y="0"/>
                </a:lnTo>
                <a:lnTo>
                  <a:pt x="21600" y="10800"/>
                </a:lnTo>
                <a:lnTo>
                  <a:pt x="16700" y="21600"/>
                </a:lnTo>
                <a:lnTo>
                  <a:pt x="0" y="21600"/>
                </a:lnTo>
                <a:lnTo>
                  <a:pt x="4900" y="108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Lucida Sans Unicode"/>
              </a:rPr>
              <a:t>Definición lineamiento rediseñ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9 Cheurón"/>
          <p:cNvSpPr/>
          <p:nvPr/>
        </p:nvSpPr>
        <p:spPr>
          <a:xfrm>
            <a:off x="5686560" y="5261040"/>
            <a:ext cx="2557440" cy="1306440"/>
          </a:xfrm>
          <a:custGeom>
            <a:avLst/>
            <a:gdLst>
              <a:gd name="textAreaLeft" fmla="*/ 0 w 2557440"/>
              <a:gd name="textAreaRight" fmla="*/ 2557440 w 2557440"/>
              <a:gd name="textAreaTop" fmla="*/ 0 h 1306440"/>
              <a:gd name="textAreaBottom" fmla="*/ 1306800 h 13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3" y="0"/>
                </a:lnTo>
                <a:lnTo>
                  <a:pt x="21600" y="10800"/>
                </a:lnTo>
                <a:lnTo>
                  <a:pt x="16083" y="21600"/>
                </a:lnTo>
                <a:lnTo>
                  <a:pt x="0" y="21600"/>
                </a:lnTo>
                <a:lnTo>
                  <a:pt x="5517" y="10800"/>
                </a:lnTo>
                <a:close/>
              </a:path>
            </a:pathLst>
          </a:custGeom>
          <a:solidFill>
            <a:srgbClr val="ffc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MODELO DE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1 Diagrama" descr=""/>
          <p:cNvPicPr/>
          <p:nvPr/>
        </p:nvPicPr>
        <p:blipFill>
          <a:blip r:embed="rId2"/>
          <a:stretch/>
        </p:blipFill>
        <p:spPr>
          <a:xfrm>
            <a:off x="1957320" y="1274760"/>
            <a:ext cx="5742000" cy="2913120"/>
          </a:xfrm>
          <a:prstGeom prst="rect">
            <a:avLst/>
          </a:prstGeom>
          <a:ln w="0">
            <a:noFill/>
          </a:ln>
        </p:spPr>
      </p:pic>
      <p:sp>
        <p:nvSpPr>
          <p:cNvPr id="354" name="6 CuadroTexto"/>
          <p:cNvSpPr/>
          <p:nvPr/>
        </p:nvSpPr>
        <p:spPr>
          <a:xfrm>
            <a:off x="1993680" y="4724280"/>
            <a:ext cx="58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eestructuracióm de la Secretaría de Emple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7 Flecha abajo"/>
          <p:cNvSpPr/>
          <p:nvPr/>
        </p:nvSpPr>
        <p:spPr>
          <a:xfrm>
            <a:off x="3894120" y="3860640"/>
            <a:ext cx="1316160" cy="8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3 Marcador de número de diapositiva"/>
          <p:cNvSpPr/>
          <p:nvPr/>
        </p:nvSpPr>
        <p:spPr>
          <a:xfrm>
            <a:off x="8663040" y="6232680"/>
            <a:ext cx="3668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4378-2A80-4D0F-896D-F3C1DC877EC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7" name="1 Grupo"/>
          <p:cNvGrpSpPr/>
          <p:nvPr/>
        </p:nvGrpSpPr>
        <p:grpSpPr>
          <a:xfrm>
            <a:off x="669960" y="1268280"/>
            <a:ext cx="7974000" cy="1616040"/>
            <a:chOff x="669960" y="1268280"/>
            <a:chExt cx="7974000" cy="1616040"/>
          </a:xfrm>
        </p:grpSpPr>
        <p:sp>
          <p:nvSpPr>
            <p:cNvPr id="358" name="13 Rectángulo"/>
            <p:cNvSpPr/>
            <p:nvPr/>
          </p:nvSpPr>
          <p:spPr>
            <a:xfrm>
              <a:off x="669960" y="1268280"/>
              <a:ext cx="1630080" cy="1605240"/>
            </a:xfrm>
            <a:prstGeom prst="rect">
              <a:avLst/>
            </a:prstGeom>
            <a:solidFill>
              <a:srgbClr val="002060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Gestión por Objetivos y Resultado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14 Rectángulo"/>
            <p:cNvSpPr/>
            <p:nvPr/>
          </p:nvSpPr>
          <p:spPr>
            <a:xfrm>
              <a:off x="2373120" y="1268280"/>
              <a:ext cx="6270840" cy="1616040"/>
            </a:xfrm>
            <a:prstGeom prst="rect">
              <a:avLst/>
            </a:prstGeom>
            <a:solidFill>
              <a:srgbClr val="fffff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Forma de conducción y organización en la administración publica que se basa en la previsión y preparación anticipada de logros, y en la delimitación y asignación de responsabilidades para conseguirlos (Secretaria de la Gestión Publica)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0" name="3 Grupo"/>
          <p:cNvGrpSpPr/>
          <p:nvPr/>
        </p:nvGrpSpPr>
        <p:grpSpPr>
          <a:xfrm>
            <a:off x="668160" y="4605480"/>
            <a:ext cx="7950240" cy="1998360"/>
            <a:chOff x="668160" y="4605480"/>
            <a:chExt cx="7950240" cy="1998360"/>
          </a:xfrm>
        </p:grpSpPr>
        <p:sp>
          <p:nvSpPr>
            <p:cNvPr id="361" name="16 Rectángulo"/>
            <p:cNvSpPr/>
            <p:nvPr/>
          </p:nvSpPr>
          <p:spPr>
            <a:xfrm>
              <a:off x="668160" y="4605480"/>
              <a:ext cx="1579320" cy="1998360"/>
            </a:xfrm>
            <a:prstGeom prst="rect">
              <a:avLst/>
            </a:prstGeom>
            <a:solidFill>
              <a:srgbClr val="0070c0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Gestión por Proceso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17 Rectángulo"/>
            <p:cNvSpPr/>
            <p:nvPr/>
          </p:nvSpPr>
          <p:spPr>
            <a:xfrm>
              <a:off x="2315880" y="4605480"/>
              <a:ext cx="6302520" cy="1998360"/>
            </a:xfrm>
            <a:prstGeom prst="rect">
              <a:avLst/>
            </a:prstGeom>
            <a:solidFill>
              <a:srgbClr val="fffff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Forma de conducción que tiene como aspectos centrales la integración horizontal de la organización, la mejora continua de los procesos y la facilitación de la tarea diaria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Los procesos (lo que se hace y como se hace) son el medio para el logro de los objetivos definidos y para la satisfacción de las necesidades de los destinatarios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3" name="2 Grupo"/>
          <p:cNvGrpSpPr/>
          <p:nvPr/>
        </p:nvGrpSpPr>
        <p:grpSpPr>
          <a:xfrm>
            <a:off x="669960" y="2957400"/>
            <a:ext cx="7948440" cy="1584360"/>
            <a:chOff x="669960" y="2957400"/>
            <a:chExt cx="7948440" cy="1584360"/>
          </a:xfrm>
        </p:grpSpPr>
        <p:sp>
          <p:nvSpPr>
            <p:cNvPr id="364" name="20 Rectángulo"/>
            <p:cNvSpPr/>
            <p:nvPr/>
          </p:nvSpPr>
          <p:spPr>
            <a:xfrm>
              <a:off x="669960" y="2957400"/>
              <a:ext cx="1579320" cy="1584360"/>
            </a:xfrm>
            <a:prstGeom prst="rect">
              <a:avLst/>
            </a:prstGeom>
            <a:solidFill>
              <a:srgbClr val="00b0f0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 Unicode"/>
                </a:rPr>
                <a:t>Gestión Orientada al Destinatar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21 Rectángulo"/>
            <p:cNvSpPr/>
            <p:nvPr/>
          </p:nvSpPr>
          <p:spPr>
            <a:xfrm>
              <a:off x="2315880" y="2957400"/>
              <a:ext cx="6302520" cy="1584360"/>
            </a:xfrm>
            <a:prstGeom prst="rect">
              <a:avLst/>
            </a:prstGeom>
            <a:solidFill>
              <a:srgbClr val="fffff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Lucida Sans Unicode"/>
                </a:rPr>
                <a:t>Forma de conducción que coloca a la satisfacción de las necesidades y expectativas de los destinatarios como el foco de la gestión pública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66" name="18 Título" descr=""/>
          <p:cNvPicPr/>
          <p:nvPr/>
        </p:nvPicPr>
        <p:blipFill>
          <a:blip r:embed="rId1"/>
          <a:stretch/>
        </p:blipFill>
        <p:spPr>
          <a:xfrm>
            <a:off x="231840" y="-19080"/>
            <a:ext cx="7437240" cy="161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a276"/>
                </a:solidFill>
                <a:latin typeface="Verdana"/>
              </a:rPr>
              <a:t>Es la descripción global de la forma en que se gestiona el negoci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8" name="1 Título" descr=""/>
          <p:cNvPicPr/>
          <p:nvPr/>
        </p:nvPicPr>
        <p:blipFill>
          <a:blip r:embed="rId1"/>
          <a:stretch/>
        </p:blipFill>
        <p:spPr>
          <a:xfrm>
            <a:off x="201600" y="128520"/>
            <a:ext cx="7246800" cy="1243080"/>
          </a:xfrm>
          <a:prstGeom prst="rect">
            <a:avLst/>
          </a:prstGeom>
          <a:ln w="0">
            <a:noFill/>
          </a:ln>
        </p:spPr>
      </p:pic>
      <p:sp>
        <p:nvSpPr>
          <p:cNvPr id="369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685-89E9-4A87-8BE9-C5EBAECC7B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Down Arrow Callout 2"/>
          <p:cNvSpPr/>
          <p:nvPr/>
        </p:nvSpPr>
        <p:spPr>
          <a:xfrm>
            <a:off x="2195640" y="1557360"/>
            <a:ext cx="5329080" cy="1511280"/>
          </a:xfrm>
          <a:prstGeom prst="downArrowCallout">
            <a:avLst>
              <a:gd name="adj1" fmla="val 25012"/>
              <a:gd name="adj2" fmla="val 24994"/>
              <a:gd name="adj3" fmla="val 25000"/>
              <a:gd name="adj4" fmla="val 6497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Down Arrow Callout 6" descr=""/>
          <p:cNvPicPr/>
          <p:nvPr/>
        </p:nvPicPr>
        <p:blipFill>
          <a:blip r:embed="rId2"/>
          <a:stretch/>
        </p:blipFill>
        <p:spPr>
          <a:xfrm>
            <a:off x="2457360" y="3114720"/>
            <a:ext cx="495468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201600" y="128520"/>
            <a:ext cx="724680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8423-1071-423E-8984-967A04CB79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Down Arrow Callout 2"/>
          <p:cNvSpPr/>
          <p:nvPr/>
        </p:nvSpPr>
        <p:spPr>
          <a:xfrm>
            <a:off x="3203640" y="1577880"/>
            <a:ext cx="5329080" cy="1511280"/>
          </a:xfrm>
          <a:prstGeom prst="downArrowCallout">
            <a:avLst>
              <a:gd name="adj1" fmla="val 25012"/>
              <a:gd name="adj2" fmla="val 24994"/>
              <a:gd name="adj3" fmla="val 25000"/>
              <a:gd name="adj4" fmla="val 6497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Modelado de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Down Arrow Callout 6" descr=""/>
          <p:cNvPicPr/>
          <p:nvPr/>
        </p:nvPicPr>
        <p:blipFill>
          <a:blip r:embed="rId2"/>
          <a:stretch/>
        </p:blipFill>
        <p:spPr>
          <a:xfrm>
            <a:off x="3468600" y="3187800"/>
            <a:ext cx="4950000" cy="1566720"/>
          </a:xfrm>
          <a:prstGeom prst="rect">
            <a:avLst/>
          </a:prstGeom>
          <a:ln w="0">
            <a:noFill/>
          </a:ln>
        </p:spPr>
      </p:pic>
      <p:pic>
        <p:nvPicPr>
          <p:cNvPr id="377" name="Right Arrow Callout 3" descr=""/>
          <p:cNvPicPr/>
          <p:nvPr/>
        </p:nvPicPr>
        <p:blipFill>
          <a:blip r:embed="rId3"/>
          <a:stretch/>
        </p:blipFill>
        <p:spPr>
          <a:xfrm>
            <a:off x="171360" y="1878120"/>
            <a:ext cx="2425680" cy="3724200"/>
          </a:xfrm>
          <a:prstGeom prst="rect">
            <a:avLst/>
          </a:prstGeom>
          <a:ln w="0">
            <a:noFill/>
          </a:ln>
        </p:spPr>
      </p:pic>
      <p:sp>
        <p:nvSpPr>
          <p:cNvPr id="378" name="Pentagon 14"/>
          <p:cNvSpPr/>
          <p:nvPr/>
        </p:nvSpPr>
        <p:spPr>
          <a:xfrm>
            <a:off x="3378240" y="5013360"/>
            <a:ext cx="1193760" cy="48420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entagon 15"/>
          <p:cNvSpPr/>
          <p:nvPr/>
        </p:nvSpPr>
        <p:spPr>
          <a:xfrm>
            <a:off x="4673520" y="5013360"/>
            <a:ext cx="1193760" cy="48420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entagon 16"/>
          <p:cNvSpPr/>
          <p:nvPr/>
        </p:nvSpPr>
        <p:spPr>
          <a:xfrm>
            <a:off x="5970600" y="5013360"/>
            <a:ext cx="1193760" cy="48420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entagon 17"/>
          <p:cNvSpPr/>
          <p:nvPr/>
        </p:nvSpPr>
        <p:spPr>
          <a:xfrm>
            <a:off x="7265880" y="5013360"/>
            <a:ext cx="1193760" cy="48420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Verdana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1297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3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982-6BE2-49CF-9B93-85137A0823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16 Título" descr=""/>
          <p:cNvPicPr/>
          <p:nvPr/>
        </p:nvPicPr>
        <p:blipFill>
          <a:blip r:embed="rId1"/>
          <a:stretch/>
        </p:blipFill>
        <p:spPr>
          <a:xfrm>
            <a:off x="109440" y="128520"/>
            <a:ext cx="7394760" cy="1139760"/>
          </a:xfrm>
          <a:prstGeom prst="rect">
            <a:avLst/>
          </a:prstGeom>
          <a:ln w="0">
            <a:noFill/>
          </a:ln>
        </p:spPr>
      </p:pic>
      <p:grpSp>
        <p:nvGrpSpPr>
          <p:cNvPr id="385" name="Freeform 4"/>
          <p:cNvGrpSpPr/>
          <p:nvPr/>
        </p:nvGrpSpPr>
        <p:grpSpPr>
          <a:xfrm>
            <a:off x="2309760" y="2004840"/>
            <a:ext cx="5200560" cy="1305000"/>
            <a:chOff x="2309760" y="2004840"/>
            <a:chExt cx="5200560" cy="1305000"/>
          </a:xfrm>
        </p:grpSpPr>
        <p:pic>
          <p:nvPicPr>
            <p:cNvPr id="386" name="Freeform 4" descr=""/>
            <p:cNvPicPr/>
            <p:nvPr/>
          </p:nvPicPr>
          <p:blipFill>
            <a:blip r:embed="rId2"/>
            <a:stretch/>
          </p:blipFill>
          <p:spPr>
            <a:xfrm>
              <a:off x="2309760" y="2004840"/>
              <a:ext cx="5200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390760" y="2050920"/>
              <a:ext cx="504036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8" name="Rectangle 5" descr=""/>
          <p:cNvPicPr/>
          <p:nvPr/>
        </p:nvPicPr>
        <p:blipFill>
          <a:blip r:embed="rId3"/>
          <a:stretch/>
        </p:blipFill>
        <p:spPr>
          <a:xfrm>
            <a:off x="3975120" y="2567160"/>
            <a:ext cx="2054160" cy="6397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6"/>
          <p:cNvSpPr/>
          <p:nvPr/>
        </p:nvSpPr>
        <p:spPr>
          <a:xfrm>
            <a:off x="2451240" y="3278160"/>
            <a:ext cx="1112760" cy="1650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2525760" y="3873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EGLAS Y PROCESOS DE GESTIO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3321000" y="4017960"/>
            <a:ext cx="824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3708360" y="3295800"/>
            <a:ext cx="1112760" cy="1612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3843360" y="3894120"/>
            <a:ext cx="914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ECNOLOGIA DE  INFORMACIO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2443320" y="5016600"/>
            <a:ext cx="50418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3473280" y="5087880"/>
            <a:ext cx="309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Verdana"/>
              </a:rPr>
              <a:t>REDISEÑO DE LOS LINEAMIENT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2627280" y="1149480"/>
            <a:ext cx="2032200" cy="457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2627280" y="1263600"/>
            <a:ext cx="195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O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STITUCION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19"/>
          <p:cNvSpPr/>
          <p:nvPr/>
        </p:nvSpPr>
        <p:spPr>
          <a:xfrm>
            <a:off x="4659480" y="1606680"/>
            <a:ext cx="68580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22"/>
          <p:cNvSpPr/>
          <p:nvPr/>
        </p:nvSpPr>
        <p:spPr>
          <a:xfrm rot="16200000">
            <a:off x="1293840" y="3934800"/>
            <a:ext cx="170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ILARES DEL MODELO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23"/>
          <p:cNvSpPr/>
          <p:nvPr/>
        </p:nvSpPr>
        <p:spPr>
          <a:xfrm rot="16200000">
            <a:off x="1772640" y="5150160"/>
            <a:ext cx="74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SPECT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ENTR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2443320" y="5373720"/>
            <a:ext cx="5041800" cy="28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3456000" y="5430960"/>
            <a:ext cx="309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Verdana"/>
              </a:rPr>
              <a:t>NORMATIVA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5019840" y="3278160"/>
            <a:ext cx="1112760" cy="1612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8" descr=""/>
          <p:cNvPicPr/>
          <p:nvPr/>
        </p:nvPicPr>
        <p:blipFill>
          <a:blip r:embed="rId4"/>
          <a:stretch/>
        </p:blipFill>
        <p:spPr>
          <a:xfrm>
            <a:off x="5084640" y="3879720"/>
            <a:ext cx="1036800" cy="341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9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1127160" cy="1622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"/>
          <p:cNvPicPr/>
          <p:nvPr/>
        </p:nvPicPr>
        <p:blipFill>
          <a:blip r:embed="rId6"/>
          <a:stretch/>
        </p:blipFill>
        <p:spPr>
          <a:xfrm>
            <a:off x="6459480" y="3782880"/>
            <a:ext cx="971640" cy="603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1" descr=""/>
          <p:cNvPicPr/>
          <p:nvPr/>
        </p:nvPicPr>
        <p:blipFill>
          <a:blip r:embed="rId7"/>
          <a:stretch/>
        </p:blipFill>
        <p:spPr>
          <a:xfrm>
            <a:off x="5575320" y="1171440"/>
            <a:ext cx="2043000" cy="470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"/>
          <p:cNvSpPr/>
          <p:nvPr/>
        </p:nvSpPr>
        <p:spPr>
          <a:xfrm>
            <a:off x="5867280" y="1263600"/>
            <a:ext cx="144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Verdana"/>
              </a:rPr>
              <a:t>LINEAMIENT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1"/>
          <p:cNvSpPr/>
          <p:nvPr/>
        </p:nvSpPr>
        <p:spPr>
          <a:xfrm>
            <a:off x="6727680" y="6149880"/>
            <a:ext cx="19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12-dic-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Footer Placeholder 2"/>
          <p:cNvSpPr/>
          <p:nvPr/>
        </p:nvSpPr>
        <p:spPr>
          <a:xfrm>
            <a:off x="4379760" y="6149880"/>
            <a:ext cx="235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Verdana"/>
              </a:rPr>
              <a:t>Coordinación de Proyectos, Procesos y Calida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647200" y="6149880"/>
            <a:ext cx="36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79FF-8C25-4065-84B6-893E3F5850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Group 106"/>
          <p:cNvGrpSpPr/>
          <p:nvPr/>
        </p:nvGrpSpPr>
        <p:grpSpPr>
          <a:xfrm>
            <a:off x="304920" y="981000"/>
            <a:ext cx="8534160" cy="1600200"/>
            <a:chOff x="304920" y="981000"/>
            <a:chExt cx="8534160" cy="1600200"/>
          </a:xfrm>
        </p:grpSpPr>
        <p:sp>
          <p:nvSpPr>
            <p:cNvPr id="413" name="AutoShape 64"/>
            <p:cNvSpPr/>
            <p:nvPr/>
          </p:nvSpPr>
          <p:spPr>
            <a:xfrm>
              <a:off x="3809880" y="981000"/>
              <a:ext cx="1752840" cy="609840"/>
            </a:xfrm>
            <a:prstGeom prst="flowChartProcess">
              <a:avLst/>
            </a:prstGeom>
            <a:solidFill>
              <a:srgbClr val="339966">
                <a:alpha val="3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d30571"/>
                  </a:solidFill>
                  <a:latin typeface="Verdana"/>
                </a:rPr>
                <a:t>GERENCIA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d30571"/>
                  </a:solidFill>
                  <a:latin typeface="Verdana"/>
                </a:rPr>
                <a:t>GENER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AutoShape 65"/>
            <p:cNvSpPr/>
            <p:nvPr/>
          </p:nvSpPr>
          <p:spPr>
            <a:xfrm>
              <a:off x="3581280" y="2048040"/>
              <a:ext cx="2133720" cy="533160"/>
            </a:xfrm>
            <a:prstGeom prst="flowChartProcess">
              <a:avLst/>
            </a:prstGeom>
            <a:solidFill>
              <a:srgbClr val="339966">
                <a:alpha val="3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d30571"/>
                  </a:solidFill>
                  <a:latin typeface="Verdana"/>
                </a:rPr>
                <a:t>DEPARTAMENT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d30571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AutoShape 66"/>
            <p:cNvSpPr/>
            <p:nvPr/>
          </p:nvSpPr>
          <p:spPr>
            <a:xfrm>
              <a:off x="6705720" y="2048040"/>
              <a:ext cx="2133360" cy="533160"/>
            </a:xfrm>
            <a:prstGeom prst="flowChartProcess">
              <a:avLst/>
            </a:prstGeom>
            <a:solidFill>
              <a:srgbClr val="339966">
                <a:alpha val="3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d30571"/>
                  </a:solidFill>
                  <a:latin typeface="Verdana"/>
                </a:rPr>
                <a:t>DEPARTAMENT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d30571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AutoShape 67"/>
            <p:cNvSpPr/>
            <p:nvPr/>
          </p:nvSpPr>
          <p:spPr>
            <a:xfrm>
              <a:off x="304920" y="2048040"/>
              <a:ext cx="2133360" cy="533160"/>
            </a:xfrm>
            <a:prstGeom prst="flowChartProcess">
              <a:avLst/>
            </a:prstGeom>
            <a:solidFill>
              <a:srgbClr val="339966">
                <a:alpha val="3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d30571"/>
                  </a:solidFill>
                  <a:latin typeface="Verdana"/>
                </a:rPr>
                <a:t>DEPARTAMENT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d30571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417" name="AutoShape 68"/>
            <p:cNvCxnSpPr/>
            <p:nvPr/>
          </p:nvCxnSpPr>
          <p:spPr>
            <a:xfrm flipH="1" rot="16200000">
              <a:off x="3009240" y="410040"/>
              <a:ext cx="2160" cy="327744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8" name="AutoShape 69"/>
            <p:cNvCxnSpPr/>
            <p:nvPr/>
          </p:nvCxnSpPr>
          <p:spPr>
            <a:xfrm flipH="1" rot="16200000">
              <a:off x="6209280" y="483840"/>
              <a:ext cx="2520" cy="312480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19" name="Line 70"/>
            <p:cNvSpPr/>
            <p:nvPr/>
          </p:nvSpPr>
          <p:spPr>
            <a:xfrm>
              <a:off x="4648320" y="159084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0" name="AutoShape 71"/>
          <p:cNvSpPr/>
          <p:nvPr/>
        </p:nvSpPr>
        <p:spPr>
          <a:xfrm>
            <a:off x="1905120" y="5989680"/>
            <a:ext cx="5257800" cy="380880"/>
          </a:xfrm>
          <a:custGeom>
            <a:avLst/>
            <a:gdLst>
              <a:gd name="textAreaLeft" fmla="*/ 44640 w 5257800"/>
              <a:gd name="textAreaRight" fmla="*/ 5213160 w 5257800"/>
              <a:gd name="textAreaTop" fmla="*/ 44640 h 380880"/>
              <a:gd name="textAreaBottom" fmla="*/ 336240 h 380880"/>
            </a:gdLst>
            <a:ahLst/>
            <a:rect l="textAreaLeft" t="textAreaTop" r="textAreaRight" b="textAreaBottom"/>
            <a:pathLst>
              <a:path w="2979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4313" y="21600"/>
                </a:lnTo>
                <a:arcTo wR="3600" hR="3600" stAng="10800000" swAng="5400000"/>
                <a:lnTo>
                  <a:pt x="297913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a1f28"/>
                </a:solidFill>
                <a:latin typeface="Verdana"/>
              </a:rPr>
              <a:t>FLUJO DE TRABAJO VERT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72"/>
          <p:cNvGrpSpPr/>
          <p:nvPr/>
        </p:nvGrpSpPr>
        <p:grpSpPr>
          <a:xfrm>
            <a:off x="2895480" y="2637000"/>
            <a:ext cx="228600" cy="3276360"/>
            <a:chOff x="2895480" y="2637000"/>
            <a:chExt cx="228600" cy="3276360"/>
          </a:xfrm>
        </p:grpSpPr>
        <p:sp>
          <p:nvSpPr>
            <p:cNvPr id="422" name="Rectangle 73"/>
            <p:cNvSpPr/>
            <p:nvPr/>
          </p:nvSpPr>
          <p:spPr>
            <a:xfrm>
              <a:off x="2895480" y="2637000"/>
              <a:ext cx="228600" cy="3276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Rectangle 74"/>
            <p:cNvSpPr/>
            <p:nvPr/>
          </p:nvSpPr>
          <p:spPr>
            <a:xfrm>
              <a:off x="2895480" y="5503680"/>
              <a:ext cx="228600" cy="25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4" name="Group 75"/>
          <p:cNvGrpSpPr/>
          <p:nvPr/>
        </p:nvGrpSpPr>
        <p:grpSpPr>
          <a:xfrm>
            <a:off x="6095880" y="2708280"/>
            <a:ext cx="228600" cy="3352680"/>
            <a:chOff x="6095880" y="2708280"/>
            <a:chExt cx="228600" cy="3352680"/>
          </a:xfrm>
        </p:grpSpPr>
        <p:sp>
          <p:nvSpPr>
            <p:cNvPr id="425" name="Rectangle 76"/>
            <p:cNvSpPr/>
            <p:nvPr/>
          </p:nvSpPr>
          <p:spPr>
            <a:xfrm>
              <a:off x="6095880" y="2708280"/>
              <a:ext cx="228600" cy="3352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Rectangle 77"/>
            <p:cNvSpPr/>
            <p:nvPr/>
          </p:nvSpPr>
          <p:spPr>
            <a:xfrm>
              <a:off x="6095880" y="5641920"/>
              <a:ext cx="228600" cy="26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7" name="Text Box 79"/>
          <p:cNvSpPr/>
          <p:nvPr/>
        </p:nvSpPr>
        <p:spPr>
          <a:xfrm>
            <a:off x="228600" y="533880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Verdana"/>
              </a:rPr>
              <a:t>Correcciones Nuevos Pases Lateral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Group 110"/>
          <p:cNvGrpSpPr/>
          <p:nvPr/>
        </p:nvGrpSpPr>
        <p:grpSpPr>
          <a:xfrm>
            <a:off x="6477120" y="3322800"/>
            <a:ext cx="2361960" cy="2638800"/>
            <a:chOff x="6477120" y="3322800"/>
            <a:chExt cx="2361960" cy="2638800"/>
          </a:xfrm>
        </p:grpSpPr>
        <p:grpSp>
          <p:nvGrpSpPr>
            <p:cNvPr id="429" name="Group 93"/>
            <p:cNvGrpSpPr/>
            <p:nvPr/>
          </p:nvGrpSpPr>
          <p:grpSpPr>
            <a:xfrm>
              <a:off x="6477120" y="5303880"/>
              <a:ext cx="457200" cy="304200"/>
              <a:chOff x="6477120" y="5303880"/>
              <a:chExt cx="457200" cy="304200"/>
            </a:xfrm>
          </p:grpSpPr>
          <p:sp>
            <p:nvSpPr>
              <p:cNvPr id="430" name="Line 94"/>
              <p:cNvSpPr/>
              <p:nvPr/>
            </p:nvSpPr>
            <p:spPr>
              <a:xfrm>
                <a:off x="6477120" y="530388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95"/>
              <p:cNvSpPr/>
              <p:nvPr/>
            </p:nvSpPr>
            <p:spPr>
              <a:xfrm>
                <a:off x="6477120" y="560808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96"/>
              <p:cNvSpPr/>
              <p:nvPr/>
            </p:nvSpPr>
            <p:spPr>
              <a:xfrm>
                <a:off x="6477120" y="545580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3" name="Text Box 98"/>
            <p:cNvSpPr/>
            <p:nvPr/>
          </p:nvSpPr>
          <p:spPr>
            <a:xfrm>
              <a:off x="7238880" y="3322800"/>
              <a:ext cx="1219320" cy="15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Tarea 1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Tarea 2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Verdana"/>
                </a:rPr>
                <a:t>Tarea n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Text Box 99"/>
            <p:cNvSpPr/>
            <p:nvPr/>
          </p:nvSpPr>
          <p:spPr>
            <a:xfrm>
              <a:off x="7543800" y="5608440"/>
              <a:ext cx="6094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FIN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Text Box 101"/>
            <p:cNvSpPr/>
            <p:nvPr/>
          </p:nvSpPr>
          <p:spPr>
            <a:xfrm>
              <a:off x="7010280" y="5075280"/>
              <a:ext cx="1828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CONTROL POR 0POSICION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6" name="Group 115"/>
          <p:cNvGrpSpPr/>
          <p:nvPr/>
        </p:nvGrpSpPr>
        <p:grpSpPr>
          <a:xfrm>
            <a:off x="3276720" y="5075280"/>
            <a:ext cx="2743200" cy="533160"/>
            <a:chOff x="3276720" y="5075280"/>
            <a:chExt cx="2743200" cy="533160"/>
          </a:xfrm>
        </p:grpSpPr>
        <p:grpSp>
          <p:nvGrpSpPr>
            <p:cNvPr id="437" name="Group 85"/>
            <p:cNvGrpSpPr/>
            <p:nvPr/>
          </p:nvGrpSpPr>
          <p:grpSpPr>
            <a:xfrm>
              <a:off x="3276720" y="5303880"/>
              <a:ext cx="457200" cy="304560"/>
              <a:chOff x="3276720" y="5303880"/>
              <a:chExt cx="457200" cy="304560"/>
            </a:xfrm>
          </p:grpSpPr>
          <p:sp>
            <p:nvSpPr>
              <p:cNvPr id="438" name="Line 86"/>
              <p:cNvSpPr/>
              <p:nvPr/>
            </p:nvSpPr>
            <p:spPr>
              <a:xfrm>
                <a:off x="3276720" y="530388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9" name="Line 87"/>
              <p:cNvSpPr/>
              <p:nvPr/>
            </p:nvSpPr>
            <p:spPr>
              <a:xfrm>
                <a:off x="3276720" y="560844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0" name="Line 88"/>
              <p:cNvSpPr/>
              <p:nvPr/>
            </p:nvSpPr>
            <p:spPr>
              <a:xfrm>
                <a:off x="3276720" y="545616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41" name="Group 89"/>
            <p:cNvGrpSpPr/>
            <p:nvPr/>
          </p:nvGrpSpPr>
          <p:grpSpPr>
            <a:xfrm>
              <a:off x="5562720" y="5303880"/>
              <a:ext cx="457200" cy="304560"/>
              <a:chOff x="5562720" y="5303880"/>
              <a:chExt cx="457200" cy="304560"/>
            </a:xfrm>
          </p:grpSpPr>
          <p:sp>
            <p:nvSpPr>
              <p:cNvPr id="442" name="Line 90"/>
              <p:cNvSpPr/>
              <p:nvPr/>
            </p:nvSpPr>
            <p:spPr>
              <a:xfrm>
                <a:off x="5562720" y="530388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3" name="Line 91"/>
              <p:cNvSpPr/>
              <p:nvPr/>
            </p:nvSpPr>
            <p:spPr>
              <a:xfrm>
                <a:off x="5562720" y="560844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4" name="Line 92"/>
              <p:cNvSpPr/>
              <p:nvPr/>
            </p:nvSpPr>
            <p:spPr>
              <a:xfrm>
                <a:off x="5562720" y="545616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5" name="Text Box 100"/>
            <p:cNvSpPr/>
            <p:nvPr/>
          </p:nvSpPr>
          <p:spPr>
            <a:xfrm>
              <a:off x="3733920" y="5075280"/>
              <a:ext cx="1828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CONTROL POR OPOSICION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6" name="Group 114"/>
          <p:cNvGrpSpPr/>
          <p:nvPr/>
        </p:nvGrpSpPr>
        <p:grpSpPr>
          <a:xfrm>
            <a:off x="3352680" y="2789280"/>
            <a:ext cx="2514600" cy="1992960"/>
            <a:chOff x="3352680" y="2789280"/>
            <a:chExt cx="2514600" cy="1992960"/>
          </a:xfrm>
        </p:grpSpPr>
        <p:sp>
          <p:nvSpPr>
            <p:cNvPr id="447" name="Text Box 97"/>
            <p:cNvSpPr/>
            <p:nvPr/>
          </p:nvSpPr>
          <p:spPr>
            <a:xfrm>
              <a:off x="3352680" y="2789280"/>
              <a:ext cx="2514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PROCEDIMIENTO 2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Text Box 102"/>
            <p:cNvSpPr/>
            <p:nvPr/>
          </p:nvSpPr>
          <p:spPr>
            <a:xfrm>
              <a:off x="3962520" y="3246480"/>
              <a:ext cx="1218960" cy="15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Tarea 1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Tarea 2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Verdana"/>
                </a:rPr>
                <a:t>Tarea n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9" name="Group 107"/>
          <p:cNvGrpSpPr/>
          <p:nvPr/>
        </p:nvGrpSpPr>
        <p:grpSpPr>
          <a:xfrm>
            <a:off x="228600" y="2900520"/>
            <a:ext cx="2514600" cy="1992960"/>
            <a:chOff x="228600" y="2900520"/>
            <a:chExt cx="2514600" cy="1992960"/>
          </a:xfrm>
        </p:grpSpPr>
        <p:sp>
          <p:nvSpPr>
            <p:cNvPr id="450" name="Text Box 78"/>
            <p:cNvSpPr/>
            <p:nvPr/>
          </p:nvSpPr>
          <p:spPr>
            <a:xfrm>
              <a:off x="228600" y="2900520"/>
              <a:ext cx="25146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PROCEDIMIENTO 1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Text Box 103"/>
            <p:cNvSpPr/>
            <p:nvPr/>
          </p:nvSpPr>
          <p:spPr>
            <a:xfrm>
              <a:off x="838080" y="3357720"/>
              <a:ext cx="1219320" cy="15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Tarea 1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Tarea 2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Verdana"/>
                </a:rPr>
                <a:t>...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Verdana"/>
                </a:rPr>
                <a:t>Tarea n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2" name="AutoShape 104"/>
          <p:cNvSpPr/>
          <p:nvPr/>
        </p:nvSpPr>
        <p:spPr>
          <a:xfrm>
            <a:off x="2050920" y="404640"/>
            <a:ext cx="5257800" cy="381240"/>
          </a:xfrm>
          <a:custGeom>
            <a:avLst/>
            <a:gdLst>
              <a:gd name="textAreaLeft" fmla="*/ 44640 w 5257800"/>
              <a:gd name="textAreaRight" fmla="*/ 5213160 w 5257800"/>
              <a:gd name="textAreaTop" fmla="*/ 44640 h 381240"/>
              <a:gd name="textAreaBottom" fmla="*/ 336600 h 381240"/>
            </a:gdLst>
            <a:ahLst/>
            <a:rect l="textAreaLeft" t="textAreaTop" r="textAreaRight" b="textAreaBottom"/>
            <a:pathLst>
              <a:path w="29763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4032" y="21600"/>
                </a:lnTo>
                <a:arcTo wR="3600" hR="3600" stAng="10800000" swAng="5400000"/>
                <a:lnTo>
                  <a:pt x="297632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a1f28"/>
                </a:solidFill>
                <a:latin typeface="Verdana"/>
              </a:rPr>
              <a:t>FLUJO DE TRABAJO TRADI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Group 113"/>
          <p:cNvGrpSpPr/>
          <p:nvPr/>
        </p:nvGrpSpPr>
        <p:grpSpPr>
          <a:xfrm>
            <a:off x="228600" y="4881600"/>
            <a:ext cx="2438280" cy="838080"/>
            <a:chOff x="228600" y="4881600"/>
            <a:chExt cx="2438280" cy="838080"/>
          </a:xfrm>
        </p:grpSpPr>
        <p:grpSp>
          <p:nvGrpSpPr>
            <p:cNvPr id="454" name="Group 80"/>
            <p:cNvGrpSpPr/>
            <p:nvPr/>
          </p:nvGrpSpPr>
          <p:grpSpPr>
            <a:xfrm>
              <a:off x="2209680" y="5415120"/>
              <a:ext cx="457200" cy="304560"/>
              <a:chOff x="2209680" y="5415120"/>
              <a:chExt cx="457200" cy="304560"/>
            </a:xfrm>
          </p:grpSpPr>
          <p:sp>
            <p:nvSpPr>
              <p:cNvPr id="455" name="Line 81"/>
              <p:cNvSpPr/>
              <p:nvPr/>
            </p:nvSpPr>
            <p:spPr>
              <a:xfrm>
                <a:off x="2209680" y="541512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6" name="Line 82"/>
              <p:cNvSpPr/>
              <p:nvPr/>
            </p:nvSpPr>
            <p:spPr>
              <a:xfrm>
                <a:off x="2209680" y="571968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Line 83"/>
              <p:cNvSpPr/>
              <p:nvPr/>
            </p:nvSpPr>
            <p:spPr>
              <a:xfrm>
                <a:off x="2209680" y="5567400"/>
                <a:ext cx="45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8" name="Text Box 111"/>
            <p:cNvSpPr/>
            <p:nvPr/>
          </p:nvSpPr>
          <p:spPr>
            <a:xfrm>
              <a:off x="228600" y="4881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1700" spc="-1" strike="noStrike">
                  <a:solidFill>
                    <a:srgbClr val="000000"/>
                  </a:solidFill>
                  <a:latin typeface="Verdana"/>
                </a:rPr>
                <a:t>Pases Laterales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37:52Z</dcterms:created>
  <dc:creator>Sandra Abraham</dc:creator>
  <dc:description/>
  <dc:language>en-US</dc:language>
  <cp:lastModifiedBy>Leandro Gimeno</cp:lastModifiedBy>
  <dcterms:modified xsi:type="dcterms:W3CDTF">2011-05-13T15:58:25Z</dcterms:modified>
  <cp:revision>367</cp:revision>
  <dc:subject/>
  <dc:title>Proyecto Sistema de Gestión de Servicios de la DSI orientados al Cliente</dc:title>
</cp:coreProperties>
</file>