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F5FA5-5043-4705-B931-C09C3DFB1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64800" y="-7668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8584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B4C7-32E7-4C66-815B-F84CC669F3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4800" y="-7668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2189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8584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8584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A7D84-ABBD-4858-95BD-7C5C0B2688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64800" y="-7668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2189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2189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8584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8584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8584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7B99-FBC9-497C-86EA-095DDDDD4C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64800" y="-7668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2189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8295B-496A-4508-AA3E-C2288B5FBF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64800" y="-7668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8287-D96E-4C61-85FC-25F4BCD55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64800" y="-7668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201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218960"/>
            <a:ext cx="4201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7357D-9235-4427-A955-25384D29F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4800" y="-7668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65FD7-25B3-4F62-8A65-E8632314F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64800" y="-76680"/>
            <a:ext cx="825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4FD54-CF9B-4E69-B925-E6E6F6559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64800" y="-7668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218960"/>
            <a:ext cx="4201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8584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8EBD4-252E-41E9-A621-3298F53B9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-7668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201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2189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8584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AFF0A-7CCE-4D89-8F4C-FC75F5BBD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64800" y="-7668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2189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8584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96640-E90F-4923-A96E-198FE462F9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64800" y="-7668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2189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buClr>
                <a:srgbClr val="000000"/>
              </a:buClr>
              <a:buSzPct val="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buClr>
                <a:srgbClr val="3333cc"/>
              </a:buClr>
              <a:buSzPct val="60000"/>
              <a:buFont typeface="Arial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buClr>
                <a:srgbClr val="660033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0000"/>
              </a:lnSpc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0000"/>
              </a:lnSpc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0000"/>
              </a:lnSpc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-1397160" y="654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20CD-2474-4A64-87BD-3F619C2183E0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977760"/>
            <a:ext cx="91440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36440" y="152280"/>
            <a:ext cx="581040" cy="641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77040" y="762120"/>
            <a:ext cx="741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33cc"/>
                </a:solidFill>
                <a:latin typeface="Arial"/>
              </a:rPr>
              <a:t>Americ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066680"/>
            <a:ext cx="9144000" cy="48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200" spc="-1" strike="noStrike">
                <a:solidFill>
                  <a:srgbClr val="660066"/>
                </a:solidFill>
                <a:latin typeface="Arial"/>
              </a:rPr>
              <a:t>IAE - CPCECAB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2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i="1" lang="es-AR" sz="2200" spc="-1" strike="noStrike">
                <a:solidFill>
                  <a:srgbClr val="660066"/>
                </a:solidFill>
                <a:latin typeface="Arial"/>
              </a:rPr>
              <a:t>Jornada sobre Planeamiento y Control de Gestió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200" spc="-1" strike="noStrike">
                <a:solidFill>
                  <a:srgbClr val="660066"/>
                </a:solidFill>
                <a:latin typeface="Arial"/>
              </a:rPr>
              <a:t>en Empresas de Servicios Público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000" spc="-1" strike="noStrike" baseline="8000">
                <a:solidFill>
                  <a:srgbClr val="003399"/>
                </a:solidFill>
                <a:latin typeface="Arial"/>
              </a:rPr>
              <a:t>Panel: “Crisis Energética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000" spc="-1" strike="noStrike" baseline="8000">
                <a:solidFill>
                  <a:srgbClr val="003399"/>
                </a:solidFill>
                <a:latin typeface="Arial"/>
              </a:rPr>
              <a:t>Implicancias del Planeamiento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Fernando Pona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uenos Aires, 22 de Setiembre de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6000" y="6570720"/>
            <a:ext cx="65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2 - 21.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267080" y="5745240"/>
            <a:ext cx="581040" cy="64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146480" y="5549760"/>
            <a:ext cx="110664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07680" y="6354720"/>
            <a:ext cx="741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33cc"/>
                </a:solidFill>
                <a:latin typeface="Arial"/>
              </a:rPr>
              <a:t>Americ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63C39-92C8-4582-BD86-B92FFD3B7682}" type="slidenum">
              <a:t>1</a:t>
            </a:fld>
          </a:p>
        </p:txBody>
      </p:sp>
    </p:spTree>
  </p:cSld>
  <mc:AlternateContent>
    <mc:Choice Requires="p14">
      <p:transition spd="slow" p14:dur="20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2057400" y="419040"/>
            <a:ext cx="9982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baseline="20000">
                <a:solidFill>
                  <a:srgbClr val="000000"/>
                </a:solidFill>
                <a:latin typeface="Arial"/>
              </a:rPr>
              <a:t>La experiencia en Argentina </a:t>
            </a:r>
            <a:r>
              <a:rPr b="1" lang="es-AR" sz="2000" spc="-1" strike="noStrike" baseline="20000">
                <a:solidFill>
                  <a:srgbClr val="000000"/>
                </a:solidFill>
                <a:latin typeface="Arial"/>
              </a:rPr>
              <a:t>(2)</a:t>
            </a:r>
            <a:r>
              <a:rPr b="1" lang="es-AR" sz="3200" spc="-1" strike="noStrike" baseline="20000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s-AR" sz="3200" spc="-1" strike="noStrike" baseline="20000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1200" spc="-1" strike="noStrike" baseline="20000">
                <a:solidFill>
                  <a:srgbClr val="000000"/>
                </a:solidFill>
                <a:latin typeface="Arial"/>
              </a:rPr>
              <a:t>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143000"/>
            <a:ext cx="853452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5000"/>
              </a:lnSpc>
              <a:spcBef>
                <a:spcPts val="624"/>
              </a:spcBef>
              <a:spcAft>
                <a:spcPts val="624"/>
              </a:spcAft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os principales resultados de la reforma del Sector Eléctrico y las privatizaciones fueron los siguie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cc"/>
                </a:solidFill>
                <a:latin typeface="Arial"/>
              </a:rPr>
              <a:t>El precio mayorista de la energía cayó sustancialmente, en un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Hubo un 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incremento en la demanda</a:t>
            </a: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 del 60%, seguido por la 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calidad del servicio</a:t>
            </a: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 mejoró en un 7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Se realizaron 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inversiones</a:t>
            </a: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 de 12.000 millones de dól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Se normalizaron 900.000 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usuarios</a:t>
            </a: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clandesti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El acceso al suministro de energía se amplió </a:t>
            </a: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al 97 % de la pob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El gobierno percibió 3.000 millones de dólares en 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impue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El sector tuvo una 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rentabilidad</a:t>
            </a: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 del 5.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A partir de 1997 las 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señales económicas no fueron suficientes</a:t>
            </a: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 para promover las inversiones en 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generación y transporte</a:t>
            </a: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 y el 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gobierno no reaccionó para su corr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133B1-A909-4D3B-BAA8-ED3110C10A57}" type="slidenum">
              <a:t>10</a:t>
            </a:fld>
          </a:p>
        </p:txBody>
      </p:sp>
    </p:spTree>
  </p:cSld>
  <mc:AlternateContent>
    <mc:Choice Requires="p14">
      <p:transition spd="slow" p14:dur="20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a crisis argentina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spcAft>
                <a:spcPts val="751"/>
              </a:spcAft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iciembre de 2001,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en medio de la crisis económica y política, el gobierno devaluó y cambió las reglas unilateral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spcAft>
                <a:spcPts val="751"/>
              </a:spcAft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tarifas de gas y electricitdad fueron congeladas y se distorsionaron las señales del mercado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. Esto modificó sustancialmente el equilibrio económico de las empre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Aft>
                <a:spcPts val="675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El cash flow cubre los 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salarios y parte de los costos de explotación</a:t>
            </a: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. La 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deuda financiera</a:t>
            </a: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 ha estado e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n default</a:t>
            </a: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 desde 2001.</a:t>
            </a:r>
            <a:endParaRPr b="0" i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spcAft>
                <a:spcPts val="751"/>
              </a:spcAft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n esta situación, no ha sido posible llevar a cabo un proceso racional de inversiones en el conjunto de la cadena energética gas-electri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5D5B5-4174-452E-81B5-BC5B82E027D4}" type="slidenum">
              <a:t>11</a:t>
            </a:fld>
          </a:p>
        </p:txBody>
      </p:sp>
    </p:spTree>
  </p:cSld>
  <mc:AlternateContent>
    <mc:Choice Requires="p14">
      <p:transition spd="slow" p14:dur="20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a crisis argentina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spcAft>
                <a:spcPts val="1250"/>
              </a:spcAft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Actualmente, el país está usando la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isponibilidad remanente de las inversiones y mejoras realizadas antes de la cri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spcAft>
                <a:spcPts val="1250"/>
              </a:spcAft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valor de las empresas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ha sufrido un importante impacto negativo debido a los actuales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niveles de tarifas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spcAft>
                <a:spcPts val="1250"/>
              </a:spcAft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l Gobierno ha tomado medidas para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esolver el corto pla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spcAft>
                <a:spcPts val="1250"/>
              </a:spcAft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No se han tomado medidas que promuevan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soluciones de largo plazo: las inver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1326-F6C7-4158-9630-4887490486E1}" type="slidenum">
              <a:t>12</a:t>
            </a:fld>
          </a:p>
        </p:txBody>
      </p:sp>
    </p:spTree>
  </p:cSld>
  <mc:AlternateContent>
    <mc:Choice Requires="p14">
      <p:transition spd="slow" p14:dur="20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368000"/>
            <a:ext cx="822960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ara satisfacer un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recimiento de la demanda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de 6%, es necesario invertir anualmente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1.000 millones de dóla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En generación y distribución, por partes iguales.</a:t>
            </a:r>
            <a:endParaRPr b="0" i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Adicionalmente, para poner en condiciones el sistema eléctrico, </a:t>
            </a:r>
            <a:br>
              <a:rPr sz="2000"/>
            </a:b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s necesario invertir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1.200 millones de dólares en transmisió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Además, para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lentar las inversiones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e requiere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Garantizar la seguridad jurídica para que las inversiones sean posibles.</a:t>
            </a:r>
            <a:endParaRPr b="0" i="1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Disminuir el nivel de riesgo para reducir el costo de capital.</a:t>
            </a:r>
            <a:endParaRPr b="0" i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325440"/>
            <a:ext cx="79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baseline="6000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 baseline="6000">
                <a:solidFill>
                  <a:srgbClr val="000000"/>
                </a:solidFill>
                <a:latin typeface="Arial"/>
              </a:rPr>
              <a:t>Las inversiones necesarias en Argentina</a:t>
            </a:r>
            <a:r>
              <a:rPr b="1" lang="fr-FR" sz="3200" spc="-1" strike="noStrike" baseline="6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F0665-177C-49CF-9177-E01FE83BF5DA}" type="slidenum">
              <a:t>13</a:t>
            </a:fld>
          </a:p>
        </p:txBody>
      </p:sp>
    </p:spTree>
  </p:cSld>
  <mc:AlternateContent>
    <mc:Choice Requires="p14">
      <p:transition spd="slow" p14:dur="20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43000" y="1143000"/>
            <a:ext cx="70102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01"/>
              </a:spcBef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01"/>
              </a:spcBef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laneamiento energético para un desarrollo susten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01"/>
              </a:spcBef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La transformación del Sector Eléct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Inversiones y Rie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01"/>
              </a:spcBef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ómo atraer nuevas inver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24CB3-32B6-42F1-B02E-A34A8F5E73F6}" type="slidenum">
              <a:t>14</a:t>
            </a:fld>
          </a:p>
        </p:txBody>
      </p:sp>
    </p:spTree>
  </p:cSld>
  <mc:AlternateContent>
    <mc:Choice Requires="p14">
      <p:transition spd="slow" p14:dur="20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2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os riesgos de las inversiones en los países emergente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453680"/>
            <a:ext cx="8076960" cy="50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l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última décad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e invirtiero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20.000 millones de dólar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infraestructura eléctric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 los países en desarro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partir de 1997 se ha registrado u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tinua reducción de las inversion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léctricas en estos países, debido al incremento de los riesg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cc"/>
                </a:solidFill>
                <a:latin typeface="Arial"/>
              </a:rPr>
              <a:t>En 2002,</a:t>
            </a:r>
            <a:r>
              <a:rPr b="0" i="1" lang="es-ES_tradnl" sz="1800" spc="-1" strike="noStrike">
                <a:solidFill>
                  <a:srgbClr val="3333cc"/>
                </a:solidFill>
                <a:latin typeface="Arial"/>
              </a:rPr>
              <a:t> las inversiones en electricidad totalizaron </a:t>
            </a:r>
            <a:r>
              <a:rPr b="1" i="1" lang="es-ES_tradnl" sz="1800" spc="-1" strike="noStrike">
                <a:solidFill>
                  <a:srgbClr val="3333cc"/>
                </a:solidFill>
                <a:latin typeface="Arial"/>
              </a:rPr>
              <a:t>un 10% de las realizadas en 1997.</a:t>
            </a:r>
            <a:endParaRPr b="0" i="1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3333cc"/>
                </a:solidFill>
                <a:latin typeface="Arial"/>
              </a:rPr>
              <a:t>Esto se ha debido a la visión negativa de inversores por el </a:t>
            </a:r>
            <a:r>
              <a:rPr b="1" i="1" lang="es-ES_tradnl" sz="1800" spc="-1" strike="noStrike">
                <a:solidFill>
                  <a:srgbClr val="3333cc"/>
                </a:solidFill>
                <a:latin typeface="Arial"/>
              </a:rPr>
              <a:t>aumento del riesgo, </a:t>
            </a:r>
            <a:r>
              <a:rPr b="0" i="1" lang="es-ES_tradnl" sz="1800" spc="-1" strike="noStrike">
                <a:solidFill>
                  <a:srgbClr val="3333cc"/>
                </a:solidFill>
                <a:latin typeface="Arial"/>
              </a:rPr>
              <a:t>que se ha potenciado luego de los sucesos del </a:t>
            </a:r>
            <a:r>
              <a:rPr b="1" i="1" lang="es-ES_tradnl" sz="1800" spc="-1" strike="noStrike">
                <a:solidFill>
                  <a:srgbClr val="3333cc"/>
                </a:solidFill>
                <a:latin typeface="Arial"/>
              </a:rPr>
              <a:t> 11 de Septiembre.</a:t>
            </a:r>
            <a:endParaRPr b="0" i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71760" y="3962520"/>
            <a:ext cx="6872040" cy="981720"/>
            <a:chOff x="671760" y="3962520"/>
            <a:chExt cx="6872040" cy="981720"/>
          </a:xfrm>
        </p:grpSpPr>
        <p:sp>
          <p:nvSpPr>
            <p:cNvPr id="77" name=""/>
            <p:cNvSpPr/>
            <p:nvPr/>
          </p:nvSpPr>
          <p:spPr>
            <a:xfrm>
              <a:off x="671760" y="396900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30920" y="396252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77560" y="396900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1760" y="430380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41760" y="429768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24920" y="43038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1760" y="463896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665280" y="5029200"/>
            <a:ext cx="5859360" cy="639720"/>
            <a:chOff x="665280" y="5029200"/>
            <a:chExt cx="5859360" cy="639720"/>
          </a:xfrm>
        </p:grpSpPr>
        <p:sp>
          <p:nvSpPr>
            <p:cNvPr id="85" name=""/>
            <p:cNvSpPr/>
            <p:nvPr/>
          </p:nvSpPr>
          <p:spPr>
            <a:xfrm>
              <a:off x="671760" y="503532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48120" y="502920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458400" y="503532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5280" y="53640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65280" y="4191120"/>
            <a:ext cx="4373640" cy="645840"/>
            <a:chOff x="665280" y="4191120"/>
            <a:chExt cx="4373640" cy="645840"/>
          </a:xfrm>
        </p:grpSpPr>
        <p:sp>
          <p:nvSpPr>
            <p:cNvPr id="90" name=""/>
            <p:cNvSpPr/>
            <p:nvPr/>
          </p:nvSpPr>
          <p:spPr>
            <a:xfrm>
              <a:off x="665280" y="419724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39720" y="419112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38560" y="419724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5280" y="453240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332080" y="6956280"/>
            <a:ext cx="6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434D4-6676-4130-A0E4-07B56EDA916C}" type="slidenum">
              <a:t>15</a:t>
            </a:fld>
          </a:p>
        </p:txBody>
      </p:sp>
    </p:spTree>
  </p:cSld>
  <mc:AlternateContent>
    <mc:Choice Requires="p14">
      <p:transition spd="slow" p14:dur="20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2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os riesgos de las inversiones en los países emergente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isten diverso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riesgos típic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relacionados con las inversiones, que están cubiertos en las respectivas cláusulas de los contratos de concesión, tales com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1800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3333cc"/>
                </a:solidFill>
                <a:latin typeface="Arial"/>
              </a:rPr>
              <a:t>estabilidad impositiva, devaluación, expropiación</a:t>
            </a:r>
            <a:endParaRPr b="0" i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o existen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tros tip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riesg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que no pueden ser fácilmente cubiertos, quedando la recuperación de las inversiones sujetas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cc"/>
                </a:solidFill>
                <a:latin typeface="Arial"/>
              </a:rPr>
              <a:t>Riesgos regulatorios:</a:t>
            </a:r>
            <a:r>
              <a:rPr b="0" i="1" lang="es-ES_tradnl" sz="1800" spc="-1" strike="noStrike">
                <a:solidFill>
                  <a:srgbClr val="3333cc"/>
                </a:solidFill>
                <a:latin typeface="Arial"/>
              </a:rPr>
              <a:t> relacionados con los criterios retributivos e interpretación arbitraria de las normas de la autoridad reguladora.</a:t>
            </a:r>
            <a:endParaRPr b="0" i="1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cc"/>
                </a:solidFill>
                <a:latin typeface="Arial"/>
              </a:rPr>
              <a:t>Apropiación de fondos por parte de las autoridades:</a:t>
            </a:r>
            <a:r>
              <a:rPr b="0" i="1" lang="es-ES_tradnl" sz="1800" spc="-1" strike="noStrike">
                <a:solidFill>
                  <a:srgbClr val="3333cc"/>
                </a:solidFill>
                <a:latin typeface="Arial"/>
              </a:rPr>
              <a:t> por el incumplimiento de obligaciones.</a:t>
            </a:r>
            <a:endParaRPr b="0" i="1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660033"/>
                </a:solidFill>
                <a:latin typeface="Arial"/>
              </a:rPr>
              <a:t>p.e.: no pago de subsidios comprometidos, </a:t>
            </a:r>
            <a:br>
              <a:rPr sz="1800"/>
            </a:br>
            <a:r>
              <a:rPr b="0" i="1" lang="es-ES_tradnl" sz="1800" spc="-1" strike="noStrike">
                <a:solidFill>
                  <a:srgbClr val="660033"/>
                </a:solidFill>
                <a:latin typeface="Arial"/>
              </a:rPr>
              <a:t>no pago del consumo oficial.</a:t>
            </a:r>
            <a:endParaRPr b="0" i="1" lang="en-US" sz="1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cc"/>
                </a:solidFill>
                <a:latin typeface="Arial"/>
              </a:rPr>
              <a:t>Cambios profundos en las condiciones económicas y sociales:</a:t>
            </a:r>
            <a:r>
              <a:rPr b="0" i="1" lang="es-ES_tradnl" sz="1800" spc="-1" strike="noStrike">
                <a:solidFill>
                  <a:srgbClr val="3333cc"/>
                </a:solidFill>
                <a:latin typeface="Arial"/>
              </a:rPr>
              <a:t> fuerte devaluación, recesión, incremento de la pobreza y marginalidad, todo lo cual impacta directamente en la morosidad y en las pérdidas no técnicas.</a:t>
            </a:r>
            <a:endParaRPr b="0" i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71760" y="3962520"/>
            <a:ext cx="6872040" cy="981720"/>
            <a:chOff x="671760" y="3962520"/>
            <a:chExt cx="6872040" cy="981720"/>
          </a:xfrm>
        </p:grpSpPr>
        <p:sp>
          <p:nvSpPr>
            <p:cNvPr id="98" name=""/>
            <p:cNvSpPr/>
            <p:nvPr/>
          </p:nvSpPr>
          <p:spPr>
            <a:xfrm>
              <a:off x="671760" y="396900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30920" y="396252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77560" y="396900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1760" y="430380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41760" y="429768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324920" y="43038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1760" y="463896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65280" y="5029200"/>
            <a:ext cx="5859360" cy="639720"/>
            <a:chOff x="665280" y="5029200"/>
            <a:chExt cx="5859360" cy="639720"/>
          </a:xfrm>
        </p:grpSpPr>
        <p:sp>
          <p:nvSpPr>
            <p:cNvPr id="106" name=""/>
            <p:cNvSpPr/>
            <p:nvPr/>
          </p:nvSpPr>
          <p:spPr>
            <a:xfrm>
              <a:off x="671760" y="503532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48120" y="502920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8400" y="503532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5280" y="53640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65280" y="4191120"/>
            <a:ext cx="4373640" cy="645840"/>
            <a:chOff x="665280" y="4191120"/>
            <a:chExt cx="4373640" cy="645840"/>
          </a:xfrm>
        </p:grpSpPr>
        <p:sp>
          <p:nvSpPr>
            <p:cNvPr id="111" name=""/>
            <p:cNvSpPr/>
            <p:nvPr/>
          </p:nvSpPr>
          <p:spPr>
            <a:xfrm>
              <a:off x="665280" y="419724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39720" y="419112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38560" y="419724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5280" y="453240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332080" y="6956280"/>
            <a:ext cx="6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5EAA2-573B-428D-AB64-7F4E8AED3542}" type="slidenum">
              <a:t>16</a:t>
            </a:fld>
          </a:p>
        </p:txBody>
      </p:sp>
    </p:spTree>
  </p:cSld>
  <mc:AlternateContent>
    <mc:Choice Requires="p14">
      <p:transition spd="slow" p14:dur="20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2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os riesgos de las inversiones en los países emergente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82320"/>
            <a:ext cx="830592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cc"/>
                </a:solidFill>
                <a:latin typeface="Arial"/>
              </a:rPr>
              <a:t>Riesgo de racionamiento de la electricidad:</a:t>
            </a:r>
            <a:r>
              <a:rPr b="0" i="1" lang="es-ES_tradnl" sz="1800" spc="-1" strike="noStrike">
                <a:solidFill>
                  <a:srgbClr val="3333cc"/>
                </a:solidFill>
                <a:latin typeface="Arial"/>
              </a:rPr>
              <a:t> causado por políticas inadecuadas de los gobiernos en materia energética.</a:t>
            </a:r>
            <a:endParaRPr b="0" i="1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cc"/>
                </a:solidFill>
                <a:latin typeface="Arial"/>
              </a:rPr>
              <a:t>Expropiación paulatina “creeping expropiation”:</a:t>
            </a:r>
            <a:r>
              <a:rPr b="0" i="1" lang="es-ES_tradnl" sz="1800" spc="-1" strike="noStrike">
                <a:solidFill>
                  <a:srgbClr val="3333cc"/>
                </a:solidFill>
                <a:latin typeface="Arial"/>
              </a:rPr>
              <a:t> proceso de despojo de los derechos por actos del gobierno y restricciones administrativas, generalmente ajenas a la autoridad regulatoria, en el cual el valor de la compañía se va reduciendo progresivamente </a:t>
            </a:r>
            <a:endParaRPr b="0" i="1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660033"/>
                </a:solidFill>
                <a:latin typeface="Arial"/>
              </a:rPr>
              <a:t>modificación unilateral de reglas contractuales </a:t>
            </a:r>
            <a:endParaRPr b="0" i="1" lang="en-US" sz="18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660033"/>
                </a:solidFill>
                <a:latin typeface="Arial"/>
              </a:rPr>
              <a:t>congelamiento de tarifas por decisiones judiciales </a:t>
            </a:r>
            <a:endParaRPr b="0" i="1" lang="en-US" sz="18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660033"/>
                </a:solidFill>
                <a:latin typeface="Arial"/>
              </a:rPr>
              <a:t>impedimento de la acción de corte </a:t>
            </a:r>
            <a:endParaRPr b="0" i="1" lang="en-US" sz="18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660033"/>
                </a:solidFill>
                <a:latin typeface="Arial"/>
              </a:rPr>
              <a:t>penalidades impuestas por autoridades regionales y locales</a:t>
            </a:r>
            <a:endParaRPr b="0" i="1" lang="en-US" sz="18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660033"/>
                </a:solidFill>
                <a:latin typeface="Arial"/>
              </a:rPr>
              <a:t>restricciones administrativas </a:t>
            </a:r>
            <a:endParaRPr b="0" i="1" lang="en-US" sz="18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660033"/>
                </a:solidFill>
                <a:latin typeface="Arial"/>
              </a:rPr>
              <a:t>restricciones medioambientales</a:t>
            </a:r>
            <a:endParaRPr b="0" i="1" lang="en-US" sz="1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71760" y="3962520"/>
            <a:ext cx="6872040" cy="981720"/>
            <a:chOff x="671760" y="3962520"/>
            <a:chExt cx="6872040" cy="981720"/>
          </a:xfrm>
        </p:grpSpPr>
        <p:sp>
          <p:nvSpPr>
            <p:cNvPr id="119" name=""/>
            <p:cNvSpPr/>
            <p:nvPr/>
          </p:nvSpPr>
          <p:spPr>
            <a:xfrm>
              <a:off x="671760" y="396900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30920" y="396252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77560" y="396900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1760" y="430380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41760" y="429768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24920" y="43038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1760" y="463896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65280" y="5029200"/>
            <a:ext cx="5859360" cy="639720"/>
            <a:chOff x="665280" y="5029200"/>
            <a:chExt cx="5859360" cy="639720"/>
          </a:xfrm>
        </p:grpSpPr>
        <p:sp>
          <p:nvSpPr>
            <p:cNvPr id="127" name=""/>
            <p:cNvSpPr/>
            <p:nvPr/>
          </p:nvSpPr>
          <p:spPr>
            <a:xfrm>
              <a:off x="671760" y="503532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502920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58400" y="503532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5280" y="53640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65280" y="4191120"/>
            <a:ext cx="4373640" cy="645840"/>
            <a:chOff x="665280" y="4191120"/>
            <a:chExt cx="4373640" cy="645840"/>
          </a:xfrm>
        </p:grpSpPr>
        <p:sp>
          <p:nvSpPr>
            <p:cNvPr id="132" name=""/>
            <p:cNvSpPr/>
            <p:nvPr/>
          </p:nvSpPr>
          <p:spPr>
            <a:xfrm>
              <a:off x="665280" y="419724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39720" y="419112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38560" y="419724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5280" y="453240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332080" y="6956280"/>
            <a:ext cx="6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76F9E-4174-44AC-87BA-E4F98466BF69}" type="slidenum">
              <a:t>17</a:t>
            </a:fld>
          </a:p>
        </p:txBody>
      </p:sp>
    </p:spTree>
  </p:cSld>
  <mc:AlternateContent>
    <mc:Choice Requires="p14">
      <p:transition spd="slow" p14:dur="20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-3204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os riesgos de las inversiones en los países emergente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391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nfraestructura eléctrica de América Latina requiere inversiones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200 millones de dólares por año por cada punto de crecimiento de la dema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3333cc"/>
                </a:solidFill>
                <a:latin typeface="Arial"/>
              </a:rPr>
              <a:t>Para un crecimiento de 5% anual, se necesitan 110.000 millones de dólares en 10 años.</a:t>
            </a:r>
            <a:endParaRPr b="0" i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o es un gra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safí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bido a las condiciones de la Región, actualment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co atractivas para las inversiones por los riesgos exist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falta de inversiones implicará la pérdida de l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guridad de abastecimient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la reducción de l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lidad de los servi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3333cc"/>
                </a:solidFill>
                <a:latin typeface="Arial"/>
              </a:rPr>
              <a:t>Afecta el desarrollo económico, la calidad de vida y la reducción de la pobreza y la marginalidad.</a:t>
            </a:r>
            <a:endParaRPr b="0" i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26705-C8FC-4370-8D1F-97F7AC893586}" type="slidenum">
              <a:t>18</a:t>
            </a:fld>
          </a:p>
        </p:txBody>
      </p:sp>
    </p:spTree>
  </p:cSld>
  <mc:AlternateContent>
    <mc:Choice Requires="p14">
      <p:transition spd="slow" p14:dur="20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1143000"/>
            <a:ext cx="70102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01"/>
              </a:spcBef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01"/>
              </a:spcBef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laneamiento energético para un desarrollo susten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01"/>
              </a:spcBef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La transformación del Sector Eléct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01"/>
              </a:spcBef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Inversiones y Ries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Cómo atraer nuevas inver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BF250-2ACB-4404-9187-0375A604C1A0}" type="slidenum">
              <a:t>19</a:t>
            </a:fld>
          </a:p>
        </p:txBody>
      </p:sp>
    </p:spTree>
  </p:cSld>
  <mc:AlternateContent>
    <mc:Choice Requires="p14">
      <p:transition spd="slow" p14:dur="20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43000" y="1143000"/>
            <a:ext cx="7086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01"/>
              </a:spcBef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Planeamiento energético </a:t>
            </a:r>
            <a:br>
              <a:rPr sz="2400"/>
            </a:b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para un desarrollo susten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01"/>
              </a:spcBef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La transformación del Sector Eléct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01"/>
              </a:spcBef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Inversiones y Ries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01"/>
              </a:spcBef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ómo atraer nuevas inver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CE9E-2A90-4D8C-936C-70A8AA8DD778}" type="slidenum">
              <a:t>2</a:t>
            </a:fld>
          </a:p>
        </p:txBody>
      </p:sp>
    </p:spTree>
  </p:cSld>
  <mc:AlternateContent>
    <mc:Choice Requires="p14">
      <p:transition spd="slow" p14:dur="20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1143000"/>
            <a:ext cx="8991720" cy="58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113"/>
              </a:spcBef>
              <a:buClr>
                <a:srgbClr val="0000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88840" y="130320"/>
            <a:ext cx="8251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baseline="20000">
                <a:solidFill>
                  <a:srgbClr val="000000"/>
                </a:solidFill>
                <a:latin typeface="Arial"/>
              </a:rPr>
              <a:t>Cómo atraer nuevas inversiones</a:t>
            </a:r>
            <a:r>
              <a:rPr b="0" lang="es-AR" sz="2800" spc="-1" strike="noStrike" baseline="20000">
                <a:solidFill>
                  <a:srgbClr val="808080"/>
                </a:solidFill>
                <a:latin typeface="Arial"/>
              </a:rPr>
              <a:t> </a:t>
            </a:r>
            <a:r>
              <a:rPr b="1" lang="en-GB" sz="3200" spc="-1" strike="noStrike" baseline="20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857680"/>
            <a:ext cx="2652840" cy="1828800"/>
          </a:xfrm>
          <a:prstGeom prst="rightArrow">
            <a:avLst>
              <a:gd name="adj1" fmla="val 50000"/>
              <a:gd name="adj2" fmla="val 36265"/>
            </a:avLst>
          </a:prstGeom>
          <a:solidFill>
            <a:srgbClr val="ffb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VER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2286000"/>
            <a:ext cx="441936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EFINIR LA RELACIO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O / PRIVADO (PP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3352680"/>
            <a:ext cx="441936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STAURAR LA CONFIA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4457880"/>
            <a:ext cx="441936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UMENTAR EL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OLUMEN DE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1F579-D29A-4F35-B3D6-5031B485A732}" type="slidenum">
              <a:t>20</a:t>
            </a:fld>
          </a:p>
        </p:txBody>
      </p:sp>
    </p:spTree>
  </p:cSld>
  <mc:AlternateContent>
    <mc:Choice Requires="p14">
      <p:transition spd="slow" p14:dur="2000">
        <p:split dir="out" orient="vert"/>
      </p:transition>
    </mc:Choice>
    <mc:Fallback>
      <p:transition spd="slow">
        <p:split dir="out" orient="vert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87"/>
              </a:spcBef>
              <a:spcAft>
                <a:spcPts val="587"/>
              </a:spcAft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Arial"/>
              </a:rPr>
              <a:t>El Estado es el responsable último de la provisión de servicios públicos esencia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87"/>
              </a:spcBef>
              <a:spcAft>
                <a:spcPts val="587"/>
              </a:spcAft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Arial"/>
              </a:rPr>
              <a:t>En algunos países, principios de los ‘90, el Estado desempeñó </a:t>
            </a:r>
            <a:r>
              <a:rPr b="1" lang="es-AR" sz="1900" spc="-1" strike="noStrike">
                <a:solidFill>
                  <a:srgbClr val="000000"/>
                </a:solidFill>
                <a:latin typeface="Arial"/>
              </a:rPr>
              <a:t>un rol dual</a:t>
            </a:r>
            <a:r>
              <a:rPr b="0" lang="es-AR" sz="1900" spc="-1" strike="noStrike">
                <a:solidFill>
                  <a:srgbClr val="000000"/>
                </a:solidFill>
                <a:latin typeface="Arial"/>
              </a:rPr>
              <a:t> como regulador y como prestador de servici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700" spc="-1" strike="noStrike">
                <a:solidFill>
                  <a:srgbClr val="3333cc"/>
                </a:solidFill>
                <a:latin typeface="Arial"/>
              </a:rPr>
              <a:t>En algunos casos, el Estado </a:t>
            </a:r>
            <a:r>
              <a:rPr b="1" i="1" lang="es-AR" sz="1700" spc="-1" strike="noStrike">
                <a:solidFill>
                  <a:srgbClr val="3333cc"/>
                </a:solidFill>
                <a:latin typeface="Arial"/>
              </a:rPr>
              <a:t>falló como prestador de servicios.</a:t>
            </a:r>
            <a:endParaRPr b="0" i="1" lang="en-US" sz="17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87"/>
              </a:spcBef>
              <a:spcAft>
                <a:spcPts val="587"/>
              </a:spcAft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Arial"/>
              </a:rPr>
              <a:t>En otros casos, </a:t>
            </a:r>
            <a:r>
              <a:rPr b="1" lang="es-AR" sz="1900" spc="-1" strike="noStrike">
                <a:solidFill>
                  <a:srgbClr val="000000"/>
                </a:solidFill>
                <a:latin typeface="Arial"/>
              </a:rPr>
              <a:t>el Estado se vio imposibilitado de hacer frente a las nuevas inversiones</a:t>
            </a:r>
            <a:r>
              <a:rPr b="0" lang="es-AR" sz="1900" spc="-1" strike="noStrike">
                <a:solidFill>
                  <a:srgbClr val="000000"/>
                </a:solidFill>
                <a:latin typeface="Arial"/>
              </a:rPr>
              <a:t> requeridas, lo cual condujo a crisis energética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87"/>
              </a:spcBef>
              <a:spcAft>
                <a:spcPts val="587"/>
              </a:spcAft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Arial"/>
              </a:rPr>
              <a:t>Esto dio origen a las </a:t>
            </a:r>
            <a:r>
              <a:rPr b="1" lang="es-AR" sz="1900" spc="-1" strike="noStrike">
                <a:solidFill>
                  <a:srgbClr val="000000"/>
                </a:solidFill>
                <a:latin typeface="Arial"/>
              </a:rPr>
              <a:t>reformas del Sector Eléctrico, que en muchos casos fueron exitosas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7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1" i="1" lang="es-AR" sz="1700" spc="-1" strike="noStrike">
                <a:solidFill>
                  <a:srgbClr val="3333cc"/>
                </a:solidFill>
                <a:latin typeface="Arial"/>
              </a:rPr>
              <a:t>Proporcionando tarifas competitivas a precios accesibles, aumentando la calidad de servicio, satisfaciendo una demanda creciente y, por último, proporcionando una nueva fuente de financiamiento a través de la inversión privada.</a:t>
            </a:r>
            <a:endParaRPr b="0" i="1" lang="en-US" sz="1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16640" y="177840"/>
            <a:ext cx="5542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baseline="6000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 baseline="6000">
                <a:solidFill>
                  <a:srgbClr val="000000"/>
                </a:solidFill>
                <a:latin typeface="Arial"/>
              </a:rPr>
              <a:t>Redefinir la Relación Público / Privado (PPP): </a:t>
            </a:r>
            <a:r>
              <a:rPr b="1" lang="es-AR" sz="1800" spc="-1" strike="noStrike" baseline="6000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baseline="6000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 baseline="6000">
                <a:solidFill>
                  <a:srgbClr val="000000"/>
                </a:solidFill>
                <a:latin typeface="Arial"/>
              </a:rPr>
              <a:t>Los servicios públicos y el 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41D69-500E-43CA-BDF5-1D38C48255D4}" type="slidenum">
              <a:t>21</a:t>
            </a:fld>
          </a:p>
        </p:txBody>
      </p:sp>
    </p:spTree>
  </p:cSld>
  <mc:AlternateContent>
    <mc:Choice Requires="p14">
      <p:transition spd="slow" p14:dur="20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52280" y="495252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901"/>
              </a:spcAft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gestión privada de los Servicios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úblicos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ignifica un cambio cultural muy importante: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tanto para el Estado, que debe asumir un nuevo rol (Regulador), como para la sociedad en su conju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901"/>
              </a:spcAft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quiere un compromiso y una relación madura entre todos los actores soc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02320" y="177840"/>
            <a:ext cx="54766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baseline="6000">
                <a:solidFill>
                  <a:srgbClr val="000000"/>
                </a:solidFill>
                <a:latin typeface="Arial"/>
              </a:rPr>
              <a:t>Redefinir la Relación Público / Privado (PPP): </a:t>
            </a:r>
            <a:r>
              <a:rPr b="1" lang="es-AR" sz="1800" spc="-1" strike="noStrike" baseline="6000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baseline="6000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 baseline="6000">
                <a:solidFill>
                  <a:srgbClr val="000000"/>
                </a:solidFill>
                <a:latin typeface="Arial"/>
              </a:rPr>
              <a:t>Los servicios públicos y el 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49920" y="1447920"/>
            <a:ext cx="1230840" cy="642600"/>
          </a:xfrm>
          <a:prstGeom prst="rect">
            <a:avLst/>
          </a:prstGeom>
          <a:gradFill rotWithShape="0">
            <a:gsLst>
              <a:gs pos="0">
                <a:srgbClr val="99bf72"/>
              </a:gs>
              <a:gs pos="50000">
                <a:srgbClr val="ccff99"/>
              </a:gs>
              <a:gs pos="100000">
                <a:srgbClr val="99bf7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gul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1760" y="3646440"/>
            <a:ext cx="1207800" cy="642600"/>
          </a:xfrm>
          <a:prstGeom prst="rect">
            <a:avLst/>
          </a:prstGeom>
          <a:gradFill rotWithShape="0">
            <a:gsLst>
              <a:gs pos="0">
                <a:srgbClr val="99bf72"/>
              </a:gs>
              <a:gs pos="50000">
                <a:srgbClr val="ccff99"/>
              </a:gs>
              <a:gs pos="100000">
                <a:srgbClr val="99bf7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perador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i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74640" y="3513240"/>
            <a:ext cx="2350800" cy="916920"/>
          </a:xfrm>
          <a:prstGeom prst="rect">
            <a:avLst/>
          </a:prstGeom>
          <a:gradFill rotWithShape="0">
            <a:gsLst>
              <a:gs pos="0">
                <a:srgbClr val="99bf72"/>
              </a:gs>
              <a:gs pos="50000">
                <a:srgbClr val="ccff99"/>
              </a:gs>
              <a:gs pos="100000">
                <a:srgbClr val="99bf7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eses de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Comunidades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presentes y fut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95640" y="2154240"/>
            <a:ext cx="2962440" cy="1828800"/>
            <a:chOff x="3095640" y="2154240"/>
            <a:chExt cx="2962440" cy="1828800"/>
          </a:xfrm>
        </p:grpSpPr>
        <p:sp>
          <p:nvSpPr>
            <p:cNvPr id="155" name=""/>
            <p:cNvSpPr/>
            <p:nvPr/>
          </p:nvSpPr>
          <p:spPr>
            <a:xfrm>
              <a:off x="3095640" y="2154240"/>
              <a:ext cx="2962440" cy="1828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66ff33"/>
                </a:gs>
                <a:gs pos="100000">
                  <a:srgbClr val="43a9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47960" y="2886120"/>
              <a:ext cx="162864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estión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legada de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os servicios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úbl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DE2BA-2405-4AE7-BD62-8157545AE1C6}" type="slidenum">
              <a:t>22</a:t>
            </a:fld>
          </a:p>
        </p:txBody>
      </p:sp>
    </p:spTree>
  </p:cSld>
  <mc:AlternateContent>
    <mc:Choice Requires="p14">
      <p:transition spd="slow" p14:dur="2000">
        <p:split dir="out" orient="vert"/>
      </p:transition>
    </mc:Choice>
    <mc:Fallback>
      <p:transition spd="slow">
        <p:split dir="out" orient="vert"/>
      </p:transition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5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Arial"/>
              </a:rPr>
              <a:t>Luego de las privatizaciones, las empresas mejoraron los servicios con inversiones, management y tecnologí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5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Arial"/>
              </a:rPr>
              <a:t>Pero… en algunos casos, el Estado concentró su rol regulador en el control de los parámetros de corto plazo (calidad de servicio y tarifas)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5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1900" spc="-1" strike="noStrike">
                <a:solidFill>
                  <a:srgbClr val="000000"/>
                </a:solidFill>
                <a:latin typeface="Arial"/>
              </a:rPr>
              <a:t>sin enviar señales claras que </a:t>
            </a:r>
            <a:r>
              <a:rPr b="1" lang="es-AR" sz="1900" spc="-1" strike="noStrike">
                <a:solidFill>
                  <a:srgbClr val="000000"/>
                </a:solidFill>
                <a:latin typeface="Arial"/>
              </a:rPr>
              <a:t>aseguraran la sustentabilidad del servicio a largo plaz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5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Arial"/>
              </a:rPr>
              <a:t>En algunos casos, el Estado </a:t>
            </a:r>
            <a:r>
              <a:rPr b="1" lang="es-AR" sz="1900" spc="-1" strike="noStrike">
                <a:solidFill>
                  <a:srgbClr val="000000"/>
                </a:solidFill>
                <a:latin typeface="Arial"/>
              </a:rPr>
              <a:t>pasó de ser un prestador de servicios deficientes a ser un regulador con poca pres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69280" y="272880"/>
            <a:ext cx="5482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baseline="6000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 baseline="6000">
                <a:solidFill>
                  <a:srgbClr val="000000"/>
                </a:solidFill>
                <a:latin typeface="Arial"/>
              </a:rPr>
              <a:t>Redefinir la Relación Público / Privado (PPP) </a:t>
            </a:r>
            <a:r>
              <a:rPr b="1" lang="fr-FR" sz="2000" spc="-1" strike="noStrike" baseline="6000">
                <a:solidFill>
                  <a:srgbClr val="000000"/>
                </a:solidFill>
                <a:latin typeface="Arial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3AE09-0F32-42EA-A10F-DE4FADBD3317}" type="slidenum">
              <a:t>23</a:t>
            </a:fld>
          </a:p>
        </p:txBody>
      </p:sp>
    </p:spTree>
  </p:cSld>
  <mc:AlternateContent>
    <mc:Choice Requires="p14">
      <p:transition spd="slow" p14:dur="20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64800" y="-7668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baseline="6000">
                <a:solidFill>
                  <a:srgbClr val="000000"/>
                </a:solidFill>
                <a:latin typeface="Arial"/>
              </a:rPr>
              <a:t>Redefinir la Relación Público / Privado (PPP)</a:t>
            </a:r>
            <a:r>
              <a:rPr b="0" lang="fr-FR" sz="2800" spc="-1" strike="noStrike" baseline="6000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 baseline="6000">
                <a:solidFill>
                  <a:srgbClr val="000000"/>
                </a:solidFill>
                <a:latin typeface="Arial"/>
              </a:rPr>
              <a:t>(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49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60066"/>
                </a:solidFill>
                <a:latin typeface="Arial"/>
              </a:rPr>
              <a:t>Cada comunidad debe </a:t>
            </a:r>
            <a:r>
              <a:rPr b="1" lang="es-AR" sz="2800" spc="-1" strike="noStrike">
                <a:solidFill>
                  <a:srgbClr val="660066"/>
                </a:solidFill>
                <a:latin typeface="Arial"/>
              </a:rPr>
              <a:t>definir qué modelo de PPP </a:t>
            </a:r>
            <a:r>
              <a:rPr b="0" lang="es-AR" sz="2800" spc="-1" strike="noStrike">
                <a:solidFill>
                  <a:srgbClr val="660066"/>
                </a:solidFill>
                <a:latin typeface="Arial"/>
              </a:rPr>
              <a:t>le gustaría ten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049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60066"/>
                </a:solidFill>
                <a:latin typeface="Arial"/>
              </a:rPr>
              <a:t>…</a:t>
            </a:r>
            <a:r>
              <a:rPr b="0" lang="es-AR" sz="2800" spc="-1" strike="noStrike">
                <a:solidFill>
                  <a:srgbClr val="660066"/>
                </a:solidFill>
                <a:latin typeface="Arial"/>
              </a:rPr>
              <a:t>y cuál es el modelo que puede sostener económic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n el caso de elegir el modelo con inversión privada, es necesario encontrar una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olución equilibrada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3333cc"/>
                </a:solidFill>
                <a:latin typeface="Arial"/>
              </a:rPr>
              <a:t>una relación adecuada entre el Estado como Regulador (estableciendo las normas y ejerciendo el control ), y las empresas privadas encargadas de prestar servicios públicos.</a:t>
            </a:r>
            <a:endParaRPr b="0" i="1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3333cc"/>
                </a:solidFill>
                <a:latin typeface="Arial"/>
              </a:rPr>
              <a:t>Ni estado interventor, ni estado ausente.</a:t>
            </a:r>
            <a:endParaRPr b="0" i="1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n todos los casos, el rol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ctivo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del Estado es absolutamente neces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77E2-ECCF-4093-8A8C-C789723E3694}" type="slidenum">
              <a:t>24</a:t>
            </a:fld>
          </a:p>
        </p:txBody>
      </p:sp>
    </p:spTree>
  </p:cSld>
  <mc:AlternateContent>
    <mc:Choice Requires="p14">
      <p:transition spd="slow" p14:dur="20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60066"/>
                </a:solidFill>
                <a:latin typeface="Arial"/>
              </a:rPr>
              <a:t>Para atraer nuevas inversiones, es necesario restablecer la confianza entre los “stakeholders”:</a:t>
            </a:r>
            <a:r>
              <a:rPr b="0" lang="es-AR" sz="2400" spc="-1" strike="noStrike">
                <a:solidFill>
                  <a:srgbClr val="660066"/>
                </a:solidFill>
                <a:latin typeface="Arial"/>
              </a:rPr>
              <a:t>  estados, sector privado, clientes, banco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Mantener 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reglas de juego</a:t>
            </a: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 claras y estables.</a:t>
            </a:r>
            <a:endParaRPr b="0" i="1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Asignar claramente los riesgos a las distintas partes involucradas.</a:t>
            </a:r>
            <a:endParaRPr b="0" i="1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Respetar los contratos actuales.</a:t>
            </a:r>
            <a:endParaRPr b="0" i="1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Asumir un compromiso a largo plazo con el modelo elegido de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 relación público-privado.</a:t>
            </a:r>
            <a:endParaRPr b="0" i="1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Elegir mecanismos factibles para realizar inversiones 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con la participación del World Bank Group,</a:t>
            </a: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 el gobierno y los inversores privados.</a:t>
            </a:r>
            <a:endParaRPr b="0" i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1200" y="27288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baseline="6000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 baseline="6000">
                <a:solidFill>
                  <a:srgbClr val="000000"/>
                </a:solidFill>
                <a:latin typeface="Arial"/>
              </a:rPr>
              <a:t>Restablecer la 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FB7E7-B2D9-4694-8BAD-1F7F12F9FDFF}" type="slidenum">
              <a:t>25</a:t>
            </a:fld>
          </a:p>
        </p:txBody>
      </p:sp>
    </p:spTree>
  </p:cSld>
  <mc:AlternateContent>
    <mc:Choice Requires="p14">
      <p:transition spd="slow" p14:dur="20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3520" y="1338120"/>
            <a:ext cx="8076960" cy="48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as interconexiones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hacen las inversiones más atractivas,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ya que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Aumentan el volumen del merc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demás,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mejoran las condiciones técnicas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de los mercad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Aumentan la 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cobertura de la oferta y las reservas,</a:t>
            </a: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Mejoran la 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confiabilidad del sistema</a:t>
            </a: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Complementan los recursos productivos</a:t>
            </a: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: Gas Natural e Hidroelectrc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ara lograr un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mercado integrado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, es necesari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Alcanzar un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 Consenso Regional, </a:t>
            </a: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negociando las estrategias de las partes involucradas en beneficio de un enfoque integ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Eliminar las 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barreras de entr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Homogeneizar los 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marcos regulato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Respetar los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 acuerdos y contratos previamente firm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-1022400" y="0"/>
            <a:ext cx="856620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baseline="6000">
                <a:solidFill>
                  <a:srgbClr val="000000"/>
                </a:solidFill>
                <a:latin typeface="Arial"/>
              </a:rPr>
              <a:t>Aumentar el volumen del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F3B04-1A3B-48D0-BCF8-2905840FD3BE}" type="slidenum">
              <a:t>26</a:t>
            </a:fld>
          </a:p>
        </p:txBody>
      </p:sp>
    </p:spTree>
  </p:cSld>
  <mc:AlternateContent>
    <mc:Choice Requires="p14">
      <p:transition spd="slow" p14:dur="20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1338120"/>
            <a:ext cx="7924680" cy="50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deera ha propuesto en reiteradas oportunidades al poder concedente la creación de un Consejo de Confiabilidad del Sistema Electrico Argenti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Su objetivo es velar por la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 seguridad y confiabilidad</a:t>
            </a: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 del Sistema a corto y mediano plaz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Un organismo autónomo sin estructura permanente constituído por especialistas en temas de sistemas eléctricos de potencia y mercados en competitiv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on capacidad de dar una opinión sobre los riesgos que se vislumbran y las soluciones necesarias para evitar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Una variante más ambiciosa es un Instituto de Investigaciones electroenergéticas que abarque gas, generación, transporte y distribu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a financiación podría ser del Fondo de Confiabilidad, o bien de un cargo sobre las tarifas eléctr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-31680" y="0"/>
            <a:ext cx="856620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baseline="6000">
                <a:solidFill>
                  <a:srgbClr val="000000"/>
                </a:solidFill>
                <a:latin typeface="Arial"/>
              </a:rPr>
              <a:t>El Consejo de Confiabilidad del Sistema Eléct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ABA3-2BAB-4619-AA1C-04D54CE185DA}" type="slidenum">
              <a:t>27</a:t>
            </a:fld>
          </a:p>
        </p:txBody>
      </p:sp>
    </p:spTree>
  </p:cSld>
  <mc:AlternateContent>
    <mc:Choice Requires="p14">
      <p:transition spd="slow" p14:dur="20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425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000000"/>
                </a:solidFill>
                <a:latin typeface="Arial"/>
              </a:rPr>
              <a:t>El mundo crece inexorablemente, pero no puede crecer de cualquier maner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425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700" spc="-1" strike="noStrike">
                <a:solidFill>
                  <a:srgbClr val="3333cc"/>
                </a:solidFill>
                <a:latin typeface="Arial"/>
              </a:rPr>
              <a:t>Necesita crear valor económico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 algn="just">
              <a:lnSpc>
                <a:spcPct val="105000"/>
              </a:lnSpc>
              <a:spcBef>
                <a:spcPts val="425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660033"/>
                </a:solidFill>
                <a:latin typeface="Arial"/>
              </a:rPr>
              <a:t>Para satisfacer las </a:t>
            </a:r>
            <a:r>
              <a:rPr b="1" lang="es-AR" sz="1700" spc="-1" strike="noStrike">
                <a:solidFill>
                  <a:srgbClr val="660033"/>
                </a:solidFill>
                <a:latin typeface="Arial"/>
              </a:rPr>
              <a:t>necesidades del crecimiento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 algn="just">
              <a:lnSpc>
                <a:spcPct val="105000"/>
              </a:lnSpc>
              <a:spcBef>
                <a:spcPts val="425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660033"/>
                </a:solidFill>
                <a:latin typeface="Arial"/>
              </a:rPr>
              <a:t>Para cubrir las </a:t>
            </a:r>
            <a:r>
              <a:rPr b="1" lang="es-AR" sz="1700" spc="-1" strike="noStrike">
                <a:solidFill>
                  <a:srgbClr val="660033"/>
                </a:solidFill>
                <a:latin typeface="Arial"/>
              </a:rPr>
              <a:t>necesidades insatisfech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425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425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000000"/>
                </a:solidFill>
                <a:latin typeface="Arial"/>
              </a:rPr>
              <a:t>Pero la sola creación de valor económico no alcanza, pues el crecimiento puede verse afectado por la existencia de </a:t>
            </a:r>
            <a:r>
              <a:rPr b="1" lang="es-AR" sz="1700" spc="-1" strike="noStrike">
                <a:solidFill>
                  <a:srgbClr val="000000"/>
                </a:solidFill>
                <a:latin typeface="Arial"/>
              </a:rPr>
              <a:t>otras necesidades</a:t>
            </a:r>
            <a:r>
              <a:rPr b="0" lang="es-A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1700" spc="-1" strike="noStrike">
                <a:solidFill>
                  <a:srgbClr val="000000"/>
                </a:solidFill>
                <a:latin typeface="Arial"/>
              </a:rPr>
              <a:t>que es necesario considerar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425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700" spc="-1" strike="noStrike">
                <a:solidFill>
                  <a:srgbClr val="3333cc"/>
                </a:solidFill>
                <a:latin typeface="Arial"/>
              </a:rPr>
              <a:t>Necesidad de mitigar las desigualdades sociale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5000"/>
              </a:lnSpc>
              <a:spcBef>
                <a:spcPts val="425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7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s-AR" sz="1700" spc="-1" strike="noStrike">
                <a:solidFill>
                  <a:srgbClr val="660033"/>
                </a:solidFill>
                <a:latin typeface="Arial"/>
              </a:rPr>
              <a:t>para evitar que las mismas sean </a:t>
            </a:r>
            <a:r>
              <a:rPr b="1" lang="es-AR" sz="1700" spc="-1" strike="noStrike">
                <a:solidFill>
                  <a:srgbClr val="660033"/>
                </a:solidFill>
                <a:latin typeface="Arial"/>
              </a:rPr>
              <a:t>fuente de conflicto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425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700" spc="-1" strike="noStrike">
                <a:solidFill>
                  <a:srgbClr val="3333cc"/>
                </a:solidFill>
                <a:latin typeface="Arial"/>
              </a:rPr>
              <a:t>Necesidad de preservar el medio amb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5000"/>
              </a:lnSpc>
              <a:spcBef>
                <a:spcPts val="425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660033"/>
                </a:solidFill>
                <a:latin typeface="Arial"/>
              </a:rPr>
              <a:t>para evitar el aumento de la </a:t>
            </a:r>
            <a:r>
              <a:rPr b="1" lang="es-AR" sz="1700" spc="-1" strike="noStrike">
                <a:solidFill>
                  <a:srgbClr val="660033"/>
                </a:solidFill>
                <a:latin typeface="Arial"/>
              </a:rPr>
              <a:t>polución y el cambio climátic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5000"/>
              </a:lnSpc>
              <a:spcBef>
                <a:spcPts val="425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003300"/>
                </a:solidFill>
                <a:latin typeface="Arial"/>
              </a:rPr>
              <a:t>debidos a la combustión masiva de energías fósiles que genera cambios climáticos debido al efecto invernader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5000"/>
              </a:lnSpc>
              <a:spcBef>
                <a:spcPts val="425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660033"/>
                </a:solidFill>
                <a:latin typeface="Arial"/>
              </a:rPr>
              <a:t>para evitar que se </a:t>
            </a:r>
            <a:r>
              <a:rPr b="1" lang="es-AR" sz="1700" spc="-1" strike="noStrike">
                <a:solidFill>
                  <a:srgbClr val="660033"/>
                </a:solidFill>
                <a:latin typeface="Arial"/>
              </a:rPr>
              <a:t>agoten los recursos</a:t>
            </a:r>
            <a:r>
              <a:rPr b="0" lang="es-AR" sz="1700" spc="-1" strike="noStrike">
                <a:solidFill>
                  <a:srgbClr val="660033"/>
                </a:solidFill>
                <a:latin typeface="Arial"/>
              </a:rPr>
              <a:t> con los que se nutre el crecimient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88840" y="88920"/>
            <a:ext cx="8251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baseline="20000">
                <a:solidFill>
                  <a:srgbClr val="000000"/>
                </a:solidFill>
                <a:latin typeface="Arial"/>
              </a:rPr>
              <a:t>Los desafíos del crecimiento</a:t>
            </a:r>
            <a:r>
              <a:rPr b="1" lang="en-GB" sz="3200" spc="-1" strike="noStrike" baseline="20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5240" y="4229280"/>
            <a:ext cx="8991360" cy="58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125"/>
              </a:spcBef>
              <a:buClr>
                <a:srgbClr val="000000"/>
              </a:buClr>
              <a:buSzPct val="4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5A9CC-F9F8-4D44-8C60-4ED5A467B9B7}" type="slidenum">
              <a:t>3</a:t>
            </a:fld>
          </a:p>
        </p:txBody>
      </p:sp>
    </p:spTree>
  </p:cSld>
  <mc:AlternateContent>
    <mc:Choice Requires="p14">
      <p:transition spd="slow" p14:dur="20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La importancia del servicio eléctrico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36240"/>
            <a:ext cx="80010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La energía, y en particular la electricidad, son parte de los desafíos de un desarrollo sustentable, por su importancia en la vida mod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La electricidad es un 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bien imprescindible para la existencia y la calidad de vida.</a:t>
            </a:r>
            <a:endParaRPr b="0" i="1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En 20 años, el 60% de la población vivirá en 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ciudades,</a:t>
            </a: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 que son 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altamente electro dependientes.</a:t>
            </a:r>
            <a:endParaRPr b="0" i="1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Su disponibilidad marca el 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umbral de una calidad de vida digna.</a:t>
            </a:r>
            <a:endParaRPr b="0" i="1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La electricidad es el 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vector insustituíble por su limpieza y versatilidad.</a:t>
            </a:r>
            <a:endParaRPr b="0" i="1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Es el 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servicio básico de todos los demás servicios.</a:t>
            </a:r>
            <a:endParaRPr b="0" i="1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Es el 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requisito imprescindible para todo desarrollo económico.</a:t>
            </a:r>
            <a:endParaRPr b="0" i="1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819000" indent="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B909A-18A8-4016-978D-2B090F01AA05}" type="slidenum">
              <a:t>4</a:t>
            </a:fld>
          </a:p>
        </p:txBody>
      </p:sp>
    </p:spTree>
  </p:cSld>
  <mc:AlternateContent>
    <mc:Choice Requires="p14">
      <p:transition spd="slow" p14:dur="20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64800" y="187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La importancia del servicio eléctrico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La participación del sector eléctrico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n la estructura de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stos productivos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y en la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anasta de consumos residenciales,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reducid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debido a la alta eficiencia de esta actividad: menor del 2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Sin embargo,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 la falta de servicio eléctrico </a:t>
            </a: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tiene un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</a:rPr>
              <a:t> alto impacto</a:t>
            </a: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: el costo de falla es ~20 veces el precio medio del kWh (más alto cuanto mayor desarrollo).</a:t>
            </a:r>
            <a:endParaRPr b="0" i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l mal funcionamiento puede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destruir valor económico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n forma considerable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por su efecto multiplic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</a:rPr>
              <a:t>Algunos ejemplos a nivel internacional : </a:t>
            </a:r>
            <a:endParaRPr b="0" i="1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60033"/>
                </a:solidFill>
                <a:latin typeface="Arial"/>
              </a:rPr>
              <a:t>-</a:t>
            </a:r>
            <a:r>
              <a:rPr b="1" lang="es-AR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660033"/>
                </a:solidFill>
                <a:latin typeface="Arial"/>
              </a:rPr>
              <a:t>las crisis estructurales en</a:t>
            </a:r>
            <a:r>
              <a:rPr b="1" lang="es-AR" sz="1800" spc="-1" strike="noStrike">
                <a:solidFill>
                  <a:srgbClr val="660033"/>
                </a:solidFill>
                <a:latin typeface="Arial"/>
              </a:rPr>
              <a:t> California, Brasil,</a:t>
            </a:r>
            <a:r>
              <a:rPr b="0" lang="es-AR" sz="1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Arial"/>
              </a:rPr>
              <a:t>- las crisis puntuales en la </a:t>
            </a:r>
            <a:r>
              <a:rPr b="1" lang="es-ES_tradnl" sz="1800" spc="-1" strike="noStrike">
                <a:solidFill>
                  <a:srgbClr val="660033"/>
                </a:solidFill>
                <a:latin typeface="Arial"/>
              </a:rPr>
              <a:t>Costa NE de EEUU y Canadá, Italia.</a:t>
            </a:r>
            <a:endParaRPr b="0" i="1" lang="en-US" sz="1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F31B8-CB07-4CA4-AA54-04B7206F8721}" type="slidenum">
              <a:t>5</a:t>
            </a:fld>
          </a:p>
        </p:txBody>
      </p:sp>
    </p:spTree>
  </p:cSld>
  <mc:AlternateContent>
    <mc:Choice Requires="p14">
      <p:transition spd="slow" p14:dur="20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66680" y="1143000"/>
            <a:ext cx="7086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01"/>
              </a:spcBef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01"/>
              </a:spcBef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laneamiento</a:t>
            </a: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nergético para un desarrollo susten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La transformación del Sector Eléc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01"/>
              </a:spcBef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Inversiones y Ries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01"/>
              </a:spcBef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ómo atraer nuevas inver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064A2-4926-4B47-864A-06163648961C}" type="slidenum">
              <a:t>6</a:t>
            </a:fld>
          </a:p>
        </p:txBody>
      </p:sp>
    </p:spTree>
  </p:cSld>
  <mc:AlternateContent>
    <mc:Choice Requires="p14">
      <p:transition spd="slow" p14:dur="20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905120" y="419040"/>
            <a:ext cx="9982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baseline="20000">
                <a:solidFill>
                  <a:srgbClr val="000000"/>
                </a:solidFill>
                <a:latin typeface="Arial"/>
              </a:rPr>
              <a:t>La experiencia en Latinoamérica</a:t>
            </a:r>
            <a:r>
              <a:rPr b="1" lang="es-AR" sz="1800" spc="-1" strike="noStrike" baseline="20000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 baseline="20000">
                <a:solidFill>
                  <a:srgbClr val="000000"/>
                </a:solidFill>
                <a:latin typeface="Arial"/>
              </a:rPr>
              <a:t>(1)</a:t>
            </a:r>
            <a:r>
              <a:rPr b="1" lang="es-AR" sz="3200" spc="-1" strike="noStrike" baseline="20000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rante los ‘90 se puso en práctica en Latinoamérica u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mplio programa de reform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n los sectores energét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45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cc"/>
                </a:solidFill>
                <a:latin typeface="Arial"/>
              </a:rPr>
              <a:t>25 países decidieron abrir su sector eléctrico a la inversión priv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45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cc"/>
                </a:solidFill>
                <a:latin typeface="Arial"/>
              </a:rPr>
              <a:t>ocurrió en Argentina, Brasil, Chile, Perú, Colombia, y en menor grado en Méx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45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cc"/>
                </a:solidFill>
                <a:latin typeface="Arial"/>
              </a:rPr>
              <a:t>Brasil es el que atrajo mayor inversión priv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formas estructura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daron en genera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conclusa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el impacto de las crisis políticas y económicas ocurr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s países han tenido una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spar evolución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n las reformas de sus sectores eléctricos, orientadas a la creación de mercados competitivos y la introducción de eficie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45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Sanción de 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marcos regulatorios</a:t>
            </a:r>
            <a:r>
              <a:rPr b="0" i="1" lang="es-AR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con distintos grados de perfe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45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Creación de 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entes reguladores</a:t>
            </a:r>
            <a:r>
              <a:rPr b="0" i="1" lang="es-AR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con distinto grado de independe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45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En general, </a:t>
            </a:r>
            <a:r>
              <a:rPr b="1" i="1" lang="es-AR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inversiones suficientes</a:t>
            </a:r>
            <a:r>
              <a:rPr b="0" i="1" lang="es-AR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para atender el crecimiento de la dema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D4F27-9152-4F52-A734-1647E7EE32D3}" type="slidenum">
              <a:t>7</a:t>
            </a:fld>
          </a:p>
        </p:txBody>
      </p:sp>
    </p:spTree>
  </p:cSld>
  <mc:AlternateContent>
    <mc:Choice Requires="p14">
      <p:transition spd="slow" p14:dur="20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33480" y="609480"/>
            <a:ext cx="8077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baseline="20000">
                <a:solidFill>
                  <a:srgbClr val="000000"/>
                </a:solidFill>
                <a:latin typeface="Arial"/>
              </a:rPr>
              <a:t>La experiencia en Latinoamérica</a:t>
            </a:r>
            <a:r>
              <a:rPr b="1" lang="es-AR" sz="1800" spc="-1" strike="noStrike" baseline="20000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 baseline="20000">
                <a:solidFill>
                  <a:srgbClr val="000000"/>
                </a:solidFill>
                <a:latin typeface="Arial"/>
              </a:rPr>
              <a:t>(2)</a:t>
            </a:r>
            <a:r>
              <a:rPr b="1" lang="es-AR" sz="3200" spc="-1" strike="noStrike" baseline="20000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143000"/>
            <a:ext cx="83822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587"/>
              </a:spcAft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Luego de varios años, </a:t>
            </a:r>
            <a:r>
              <a:rPr b="1" lang="es-A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algunas de las reglas de juego </a:t>
            </a:r>
            <a:r>
              <a:rPr b="0" lang="es-A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onvenidas </a:t>
            </a:r>
            <a:r>
              <a:rPr b="1" lang="es-A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no fueron aplicadas de manera consistent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587"/>
              </a:spcAft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Además, casi todos los modelos han tenido distintos tipos de problemas </a:t>
            </a:r>
            <a:r>
              <a:rPr b="1" lang="es-A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de ajust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587"/>
              </a:spcAft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La </a:t>
            </a:r>
            <a:r>
              <a:rPr b="1" lang="es-A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ción </a:t>
            </a:r>
            <a:r>
              <a:rPr b="0" lang="es-A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sólo progresó en la construcción de </a:t>
            </a:r>
            <a:r>
              <a:rPr b="1" lang="es-A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líneas de interconexión y en intercambios físic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587"/>
              </a:spcAft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Arial"/>
              </a:rPr>
              <a:t>Sin embargo, </a:t>
            </a:r>
            <a:r>
              <a:rPr b="1" lang="es-AR" sz="1900" spc="-1" strike="noStrike">
                <a:solidFill>
                  <a:srgbClr val="000000"/>
                </a:solidFill>
                <a:latin typeface="Arial"/>
              </a:rPr>
              <a:t>la tarea de compatibilizar los diferentes marcos legales y regulatorios ha quedado muy retrasad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587"/>
              </a:spcAft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crecimiento del stock de capital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del sector eléctrico fue </a:t>
            </a: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superior a la renta que permite remunerarl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587"/>
              </a:spcAft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Arial"/>
              </a:rPr>
              <a:t>En algunos países, la distribución regresiva del ingreso per capita </a:t>
            </a:r>
            <a:r>
              <a:rPr b="0" lang="es-AR" sz="1900" spc="-1" strike="noStrike">
                <a:solidFill>
                  <a:srgbClr val="000000"/>
                </a:solidFill>
                <a:latin typeface="Arial"/>
              </a:rPr>
              <a:t>obstaculizó la posibilidad de remunerar las inversiones, al tiempo que deterioró la aceptación social de tarifas razonabl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Las crisis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del sector eléctrico han sido debidas al </a:t>
            </a: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desajuste de las economías,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más que a deficiencias de los modelos de transformación del sector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3A32D-5EE7-4802-BDC6-0D2761FB3949}" type="slidenum">
              <a:t>8</a:t>
            </a:fld>
          </a:p>
        </p:txBody>
      </p:sp>
    </p:spTree>
  </p:cSld>
  <mc:AlternateContent>
    <mc:Choice Requires="p14">
      <p:transition spd="slow" p14:dur="20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2057400" y="419040"/>
            <a:ext cx="9982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baseline="20000">
                <a:solidFill>
                  <a:srgbClr val="000000"/>
                </a:solidFill>
                <a:latin typeface="Arial"/>
              </a:rPr>
              <a:t>La experiencia en Argentina </a:t>
            </a:r>
            <a:r>
              <a:rPr b="1" lang="es-AR" sz="2000" spc="-1" strike="noStrike" baseline="20000">
                <a:solidFill>
                  <a:srgbClr val="000000"/>
                </a:solidFill>
                <a:latin typeface="Arial"/>
              </a:rPr>
              <a:t>(1)</a:t>
            </a:r>
            <a:r>
              <a:rPr b="1" lang="es-AR" sz="3200" spc="-1" strike="noStrike" baseline="20000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219320"/>
            <a:ext cx="83059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24"/>
              </a:spcBef>
              <a:spcAft>
                <a:spcPts val="624"/>
              </a:spcAft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experiencia argentina está basada en un modelo que ha sido exitoso y fue tomado como ejemplo por varios paí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61"/>
              </a:spcBef>
              <a:spcAft>
                <a:spcPts val="561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3333cc"/>
                </a:solidFill>
                <a:latin typeface="Arial"/>
              </a:rPr>
              <a:t>Es un modelo que </a:t>
            </a:r>
            <a:r>
              <a:rPr b="1" i="1" lang="es-MX" sz="1800" spc="-1" strike="noStrike">
                <a:solidFill>
                  <a:srgbClr val="3333cc"/>
                </a:solidFill>
                <a:latin typeface="Arial"/>
              </a:rPr>
              <a:t>promueve la eficiencia</a:t>
            </a:r>
            <a:r>
              <a:rPr b="0" i="1" lang="es-MX" sz="1800" spc="-1" strike="noStrike">
                <a:solidFill>
                  <a:srgbClr val="3333cc"/>
                </a:solidFill>
                <a:latin typeface="Arial"/>
              </a:rPr>
              <a:t>, tanto de empresas </a:t>
            </a:r>
            <a:r>
              <a:rPr b="1" i="1" lang="es-MX" sz="1800" spc="-1" strike="noStrike">
                <a:solidFill>
                  <a:srgbClr val="3333cc"/>
                </a:solidFill>
                <a:latin typeface="Arial"/>
              </a:rPr>
              <a:t>privadas como de las estatales</a:t>
            </a:r>
            <a:r>
              <a:rPr b="0" i="1" lang="es-MX" sz="1800" spc="-1" strike="noStrike">
                <a:solidFill>
                  <a:srgbClr val="3333cc"/>
                </a:solidFill>
                <a:latin typeface="Arial"/>
              </a:rPr>
              <a:t> que tuvieran capacidad de introducir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24"/>
              </a:spcBef>
              <a:buClr>
                <a:srgbClr val="ff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Modelo Eléctrico tiene como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incip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6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3333cc"/>
                </a:solidFill>
                <a:latin typeface="Arial"/>
              </a:rPr>
              <a:t>Introducir la </a:t>
            </a:r>
            <a:r>
              <a:rPr b="1" i="1" lang="es-MX" sz="1800" spc="-1" strike="noStrike">
                <a:solidFill>
                  <a:srgbClr val="3333cc"/>
                </a:solidFill>
                <a:latin typeface="Arial"/>
              </a:rPr>
              <a:t>competencia</a:t>
            </a:r>
            <a:r>
              <a:rPr b="0" i="1" lang="es-MX" sz="1800" spc="-1" strike="noStrike">
                <a:solidFill>
                  <a:srgbClr val="3333cc"/>
                </a:solidFill>
                <a:latin typeface="Arial"/>
              </a:rPr>
              <a:t> donde sea posible </a:t>
            </a:r>
            <a:r>
              <a:rPr b="1" i="1" lang="es-MX" sz="1800" spc="-1" strike="noStrike">
                <a:solidFill>
                  <a:srgbClr val="3333cc"/>
                </a:solidFill>
                <a:latin typeface="Arial"/>
              </a:rPr>
              <a:t>(eficienc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5000"/>
              </a:lnSpc>
              <a:spcBef>
                <a:spcPts val="56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660033"/>
                </a:solidFill>
                <a:latin typeface="Arial"/>
              </a:rPr>
              <a:t>Incentivar las </a:t>
            </a:r>
            <a:r>
              <a:rPr b="1" i="1" lang="es-MX" sz="1800" spc="-1" strike="noStrike">
                <a:solidFill>
                  <a:srgbClr val="660033"/>
                </a:solidFill>
                <a:latin typeface="Arial"/>
              </a:rPr>
              <a:t>inversiones de riesgo</a:t>
            </a:r>
            <a:r>
              <a:rPr b="0" i="1" lang="es-MX" sz="1800" spc="-1" strike="noStrike">
                <a:solidFill>
                  <a:srgbClr val="660033"/>
                </a:solidFill>
                <a:latin typeface="Arial"/>
              </a:rPr>
              <a:t> de la actividad priv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5000"/>
              </a:lnSpc>
              <a:spcBef>
                <a:spcPts val="56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660033"/>
                </a:solidFill>
                <a:latin typeface="Arial"/>
              </a:rPr>
              <a:t>Desafiar a los inversores en los </a:t>
            </a:r>
            <a:r>
              <a:rPr b="1" i="1" lang="es-MX" sz="1800" spc="-1" strike="noStrike">
                <a:solidFill>
                  <a:srgbClr val="660033"/>
                </a:solidFill>
                <a:latin typeface="Arial"/>
              </a:rPr>
              <a:t>“períodos de gestió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6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3333cc"/>
                </a:solidFill>
                <a:latin typeface="Arial"/>
              </a:rPr>
              <a:t>Regular </a:t>
            </a:r>
            <a:r>
              <a:rPr b="0" i="1" lang="es-MX" sz="1800" spc="-1" strike="noStrike">
                <a:solidFill>
                  <a:srgbClr val="3333cc"/>
                </a:solidFill>
                <a:latin typeface="Arial"/>
              </a:rPr>
              <a:t>las actividades sujetas a concesión, con </a:t>
            </a:r>
            <a:r>
              <a:rPr b="1" i="1" lang="es-MX" sz="1800" spc="-1" strike="noStrike">
                <a:solidFill>
                  <a:srgbClr val="3333cc"/>
                </a:solidFill>
                <a:latin typeface="Arial"/>
              </a:rPr>
              <a:t>precios máximos y límites mínimos de calidad</a:t>
            </a:r>
            <a:r>
              <a:rPr b="0" i="1" lang="es-MX" sz="1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5000"/>
              </a:lnSpc>
              <a:spcBef>
                <a:spcPts val="56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660033"/>
                </a:solidFill>
                <a:latin typeface="Arial"/>
              </a:rPr>
              <a:t>Crear </a:t>
            </a:r>
            <a:r>
              <a:rPr b="1" i="1" lang="es-MX" sz="1800" spc="-1" strike="noStrike">
                <a:solidFill>
                  <a:srgbClr val="660033"/>
                </a:solidFill>
                <a:latin typeface="Arial"/>
              </a:rPr>
              <a:t>órganos de control independientes</a:t>
            </a:r>
            <a:r>
              <a:rPr b="0" i="1" lang="es-MX" sz="1800" spc="-1" strike="noStrike">
                <a:solidFill>
                  <a:srgbClr val="660033"/>
                </a:solidFill>
                <a:latin typeface="Arial"/>
              </a:rPr>
              <a:t> de la acción política de gobierno, para asegurar la equidad para usuarios y prestadores </a:t>
            </a:r>
            <a:r>
              <a:rPr b="1" i="1" lang="es-MX" sz="1800" spc="-1" strike="noStrike">
                <a:solidFill>
                  <a:srgbClr val="660033"/>
                </a:solidFill>
                <a:latin typeface="Arial"/>
              </a:rPr>
              <a:t>(el regulador reemplaza el accionar de la competencia</a:t>
            </a:r>
            <a:r>
              <a:rPr b="0" i="1" lang="es-MX" sz="18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6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3333cc"/>
                </a:solidFill>
                <a:latin typeface="Arial"/>
              </a:rPr>
              <a:t>Supervisar la evolución del modelo por parte del poder concedente para </a:t>
            </a:r>
            <a:r>
              <a:rPr b="1" i="1" lang="es-MX" sz="1800" spc="-1" strike="noStrike">
                <a:solidFill>
                  <a:srgbClr val="3333cc"/>
                </a:solidFill>
                <a:latin typeface="Arial"/>
              </a:rPr>
              <a:t>corregir sus falencias</a:t>
            </a:r>
            <a:r>
              <a:rPr b="0" i="1" lang="es-MX" sz="1800" spc="-1" strike="noStrike">
                <a:solidFill>
                  <a:srgbClr val="3333cc"/>
                </a:solidFill>
                <a:latin typeface="Arial"/>
              </a:rPr>
              <a:t> cuando se pongan en evi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72823-4C50-479E-AB8A-2266833B0703}" type="slidenum">
              <a:t>9</a:t>
            </a:fld>
          </a:p>
        </p:txBody>
      </p:sp>
    </p:spTree>
  </p:cSld>
  <mc:AlternateContent>
    <mc:Choice Requires="p14">
      <p:transition spd="slow" p14:dur="2000">
        <p:split dir="out" orient="vert"/>
      </p:transition>
    </mc:Choice>
    <mc:Fallback>
      <p:transition spd="slow">
        <p:split dir="out" orient="vert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1T18:29:45Z</dcterms:created>
  <dc:creator>MM</dc:creator>
  <dc:description/>
  <dc:language>en-US</dc:language>
  <cp:lastModifiedBy>C.P.C.E.C.A.B.A.</cp:lastModifiedBy>
  <cp:lastPrinted>2004-08-23T13:17:33Z</cp:lastPrinted>
  <dcterms:modified xsi:type="dcterms:W3CDTF">2004-09-28T14:55:43Z</dcterms:modified>
  <cp:revision>909</cp:revision>
  <dc:subject/>
  <dc:title>Sin título de diapositiva</dc:title>
</cp:coreProperties>
</file>