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6723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BD10-F15C-4F06-9746-DC5FB3A5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7E48-D502-41B5-8701-0DD684FB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6E60-27C2-495B-A645-62D3CCAD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A4F68-E3A7-4867-87D5-E606DD98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E93F-84EB-401D-9A54-D2B8AC76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2EC5-E139-4E77-AE82-AF181E61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7066-2C98-4647-81DF-B028F37A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6FF8-96C5-4A95-8663-9A282C41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EECF-847F-47B2-B7D7-6E2C325D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A4D0-F332-48EE-B4FB-B98F8982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DFA1-1764-4C5C-A3B4-338B19B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9D93-120B-43F1-AAF6-442C8A2E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B8CF-D7E9-4803-8AD7-5D9FE33C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4872-1E91-4D31-BB7D-E92EFE7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D062-11B5-46B5-810D-A5528D97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1E9A-AD1C-462B-B54E-FA9CF1DD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01E8-4721-4EB9-9B65-05FDADF9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A37C-92D7-4557-BF1F-5B5379F5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46CD-FF8D-4906-83C8-D597A369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B9CE-E2B6-4889-9241-FDFD5956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C281-CF95-4547-AC3C-2DE3AEB4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4A7E-559D-4B62-9F93-5EA6F10B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8CC1-DCA2-4A18-9C76-CAA9E63D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9930-8A0B-47FB-A98D-75CFDA17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8306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50A6-0091-499D-A9E1-F9378B4B3499}" type="slidenum">
              <a:rPr b="0" lang="es-AR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s-AR" sz="1300" spc="-1" strike="noStrike">
                <a:solidFill>
                  <a:srgbClr val="ffffff"/>
                </a:solidFill>
                <a:latin typeface="Arial"/>
              </a:rPr>
              <a:t> de 29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C7A0-D268-4EFE-AA13-D5901619EC6A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125360"/>
            <a:ext cx="8497800" cy="1224000"/>
          </a:xfrm>
          <a:prstGeom prst="rect">
            <a:avLst/>
          </a:prstGeom>
          <a:noFill/>
          <a:ln w="9360">
            <a:solidFill>
              <a:srgbClr val="e5e5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Jornada: “Planeamiento y Control de Gestión en Empresas de Servicios Públicos”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11200" y="551628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Jorge A. Olme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ffffff"/>
                </a:solidFill>
                <a:latin typeface="Century Gothic"/>
              </a:rPr>
              <a:t>Buenos Aires, Septiembre de 2004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360360" y="5373720"/>
            <a:ext cx="853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080" y="2709720"/>
            <a:ext cx="86040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800" spc="-1" strike="noStrike">
                <a:solidFill>
                  <a:srgbClr val="ebfa7a"/>
                </a:solidFill>
                <a:latin typeface="Century Gothic"/>
              </a:rPr>
              <a:t>Crisis Energética:</a:t>
            </a:r>
            <a:br>
              <a:rPr sz="4800"/>
            </a:br>
            <a:r>
              <a:rPr b="1" i="1" lang="es-AR" sz="4800" spc="-1" strike="noStrike">
                <a:solidFill>
                  <a:srgbClr val="ebfa7a"/>
                </a:solidFill>
                <a:latin typeface="Century Gothic"/>
              </a:rPr>
              <a:t>Implicancias del Planeamien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2915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Century Gothic"/>
              </a:rPr>
              <a:t>Proyección de Oferta y Demanda de Energía Eléctric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4599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908000" y="1773360"/>
            <a:ext cx="417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13bed"/>
                </a:solidFill>
                <a:latin typeface="Century Gothic"/>
              </a:rPr>
              <a:t>Máximo Generable ~ 103.200 GW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1197000"/>
            <a:ext cx="26067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entury Gothic"/>
              </a:rPr>
              <a:t>Agotamiento de la Ofer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308720" y="1412640"/>
            <a:ext cx="0" cy="718920"/>
          </a:xfrm>
          <a:prstGeom prst="line">
            <a:avLst/>
          </a:prstGeom>
          <a:ln w="38160">
            <a:solidFill>
              <a:srgbClr val="613bed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3080" y="5805360"/>
            <a:ext cx="7344000" cy="720720"/>
          </a:xfrm>
          <a:prstGeom prst="rect">
            <a:avLst/>
          </a:prstGeom>
          <a:noFill/>
          <a:ln w="38160">
            <a:solidFill>
              <a:srgbClr val="fddc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Máximo generable:    Térmico            77.600 GW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                 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Hidro (90% PE)  25.600 GW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1A87-0491-478F-8A81-6F4CD7AA2E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61920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entury Gothic"/>
              </a:rPr>
              <a:t>Argentina enfrentará en el corto plazo (año 2006/07)                 </a:t>
            </a:r>
            <a:r>
              <a:rPr b="1" lang="en-US" sz="3400" spc="-1" strike="noStrike">
                <a:solidFill>
                  <a:srgbClr val="edf141"/>
                </a:solidFill>
                <a:latin typeface="Century Gothic"/>
              </a:rPr>
              <a:t>serios limitantes en la oferta de energía eléctrica</a:t>
            </a:r>
            <a:r>
              <a:rPr b="1" lang="en-US" sz="3400" spc="-1" strike="noStrike">
                <a:solidFill>
                  <a:srgbClr val="ffffff"/>
                </a:solidFill>
                <a:latin typeface="Century Gothic"/>
              </a:rPr>
              <a:t>                             si se dieran circunstancias adversas en materia hidrológica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257040" y="4076640"/>
            <a:ext cx="8636040" cy="2376720"/>
          </a:xfrm>
          <a:prstGeom prst="rect">
            <a:avLst/>
          </a:prstGeom>
          <a:noFill/>
          <a:ln w="57240">
            <a:solidFill>
              <a:srgbClr val="e5e5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ffa9"/>
                </a:solidFill>
                <a:latin typeface="Century Gothic"/>
              </a:rPr>
              <a:t>No hay ampliación de la oferta de generación y transpor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ffa9"/>
                </a:solidFill>
                <a:latin typeface="Century Gothic"/>
              </a:rPr>
              <a:t>Importante crecimiento de la demand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9C43-1D64-49B8-AA57-C660F39BEE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838080"/>
            <a:ext cx="7345440" cy="511200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ebfa7a"/>
                </a:solidFill>
                <a:latin typeface="Century Gothic"/>
              </a:rPr>
              <a:t>Cuadro de Situación</a:t>
            </a:r>
            <a:br>
              <a:rPr sz="5400"/>
            </a:br>
            <a:r>
              <a:rPr b="1" lang="es-AR" sz="3000" spc="-1" strike="noStrike">
                <a:solidFill>
                  <a:srgbClr val="ebfa7a"/>
                </a:solidFill>
                <a:latin typeface="Century Gothic"/>
              </a:rPr>
              <a:t> </a:t>
            </a:r>
            <a:br>
              <a:rPr sz="5400"/>
            </a:br>
            <a:r>
              <a:rPr b="1" lang="es-AR" sz="5400" spc="-1" strike="noStrike">
                <a:solidFill>
                  <a:srgbClr val="ebfa7a"/>
                </a:solidFill>
                <a:latin typeface="Century Gothic"/>
              </a:rPr>
              <a:t>Factores de Riesg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06C9-653E-42B8-9971-4303E1F5F9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Financiamien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uso creciente de fondos públic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Técnic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crecimiento de demanda sin expansión de ofer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Institucional y Regulatori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- colapso del marco vigente por sucesivos cambios   parciales que lo desnaturaliz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- debilitamiento institucional de los Entes Regulad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Contractua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renegociaciones pendien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-171360"/>
            <a:ext cx="8937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ebfa7a"/>
                </a:solidFill>
                <a:latin typeface="Century Gothic"/>
              </a:rPr>
              <a:t>Factores de Riesg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F49B-68F7-43AA-AA90-A5BB6E5DA2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3640" y="335736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192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Para superar ese riesgo “macro”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192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necesitamos debatir ideas y sumar consensos sobre</a:t>
            </a: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192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19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una nueva política energética susten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192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98280" y="-171360"/>
            <a:ext cx="8937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ebfa7a"/>
                </a:solidFill>
                <a:latin typeface="Century Gothic"/>
              </a:rPr>
              <a:t>Factores de Riesg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197000"/>
            <a:ext cx="849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249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La Energía puede convertirse en un</a:t>
            </a: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limitante del Desarrollo sosten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468360" y="263700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1197000"/>
            <a:ext cx="6769440" cy="1224000"/>
          </a:xfrm>
          <a:prstGeom prst="rect">
            <a:avLst/>
          </a:prstGeom>
          <a:noFill/>
          <a:ln w="38160">
            <a:solidFill>
              <a:srgbClr val="72f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6901-2E4B-471D-B358-BEBE6B1344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71640" y="838080"/>
            <a:ext cx="7345440" cy="511200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ebfa7a"/>
                </a:solidFill>
                <a:latin typeface="Century Gothic"/>
              </a:rPr>
              <a:t>Medidas Urgentes</a:t>
            </a:r>
            <a:br>
              <a:rPr sz="5400"/>
            </a:br>
            <a:r>
              <a:rPr b="1" lang="es-AR" sz="3000" spc="-1" strike="noStrike">
                <a:solidFill>
                  <a:srgbClr val="ebfa7a"/>
                </a:solidFill>
                <a:latin typeface="Century Gothic"/>
              </a:rPr>
              <a:t> </a:t>
            </a:r>
            <a:br>
              <a:rPr sz="5400"/>
            </a:br>
            <a:r>
              <a:rPr b="1" lang="es-AR" sz="5400" spc="-1" strike="noStrike">
                <a:solidFill>
                  <a:srgbClr val="ebfa7a"/>
                </a:solidFill>
                <a:latin typeface="Century Gothic"/>
              </a:rPr>
              <a:t>y de Fond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CB31-F509-452F-B8DB-82EDCCFEFC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31280" y="1007640"/>
            <a:ext cx="838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Ley 25.561 (Emergencia Pública) – 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Enero de 200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CONCLUIR LA RENEGOCIACIÓN EN EL AÑO 200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(transporte y distribución de gas y electricida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ebfa7a"/>
              </a:buClr>
              <a:buSzPct val="7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df141"/>
                </a:solidFill>
                <a:latin typeface="Century Gothic"/>
              </a:rPr>
              <a:t>Requisito del desarrollo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adecuado y eficiente suministro de servicios públicos eléctrico y de gas natural y de combustibles líquidos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es necesaria una </a:t>
            </a:r>
            <a:r>
              <a:rPr b="1" lang="es-AR" sz="2400" spc="-1" strike="noStrike">
                <a:solidFill>
                  <a:srgbClr val="edf141"/>
                </a:solidFill>
                <a:latin typeface="Century Gothic"/>
              </a:rPr>
              <a:t>gestión eficiente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 y un proceso de </a:t>
            </a:r>
            <a:r>
              <a:rPr b="1" lang="es-AR" sz="2400" spc="-1" strike="noStrike">
                <a:solidFill>
                  <a:srgbClr val="edf141"/>
                </a:solidFill>
                <a:latin typeface="Century Gothic"/>
              </a:rPr>
              <a:t>inversión continua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 que aseguren la expansión de los servicio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El Estado, empresas y usuarios deben encontrar un </a:t>
            </a:r>
            <a:r>
              <a:rPr b="1" lang="es-AR" sz="2600" spc="-1" strike="noStrike">
                <a:solidFill>
                  <a:srgbClr val="edf141"/>
                </a:solidFill>
                <a:latin typeface="Century Gothic"/>
              </a:rPr>
              <a:t>justo equilibrio contractual</a:t>
            </a:r>
            <a:r>
              <a:rPr b="1" lang="es-AR" sz="2400" spc="-1" strike="noStrike">
                <a:solidFill>
                  <a:srgbClr val="d2ffa9"/>
                </a:solidFill>
                <a:latin typeface="Century Gothic"/>
              </a:rPr>
              <a:t>. 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(Tarifas razonabl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98280" y="-2700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Renegociación de los </a:t>
            </a:r>
            <a:br>
              <a:rPr sz="3200"/>
            </a:b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Contratos de Conce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7F38-A307-4407-9667-B7364ED8EB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4360" y="549360"/>
            <a:ext cx="8748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Sancionar </a:t>
            </a: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un régimen nacional de tarifa social</a:t>
            </a: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, para los servicios  de electricidad y de gas natur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Revisión integral y disminución de la                  carga impositiva </a:t>
            </a: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en las tarifas a usuarios fina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98280" y="11736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Protección a 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2F1C-61BB-4A86-BE1C-BE14E672FD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4920" y="838080"/>
            <a:ext cx="84978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Acuerdo con Bolivia</a:t>
            </a: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 de importación de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gas natural a largo plaz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Licitación de un </a:t>
            </a: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nuevo gasoducto troncal</a:t>
            </a: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, con reservas certificadas y abastecimiento al NE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Plan exploratorio nacional</a:t>
            </a: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 para detectar nuevas reservas de hidrocarburo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Auditoría general de reserva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Programa de licitaciones públicas internacional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Contratos de exploración basados en la asociación con el Estad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98280" y="-2700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Acciones de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C938-ACBF-437F-8135-2D977D5F62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Plan de Emergencia para la generación de energía eléctric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Adoptar “soluciones extraordinarias” para superar la crisis financiera y de expans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Recomposición gradual de precios mayoristas de electricida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(Horizonte: Costo Marginal de expansión a largo plazo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Plan de la Secretaría de Energía 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de incorporación de nueva capacidad en generación y transport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entury Gothic"/>
              </a:rPr>
              <a:t>1000/2000 MW térmic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entury Gothic"/>
              </a:rPr>
              <a:t>Tramos prioritarios de Redes Nacionales y Regionale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Century Gothic"/>
              </a:rPr>
              <a:t>Coordinar y compatibilizar con ampliación de gasoduct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/>
          <p:cNvSpPr/>
          <p:nvPr/>
        </p:nvSpPr>
        <p:spPr>
          <a:xfrm>
            <a:off x="98280" y="-2700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Acciones de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9D4C-ABC1-4C68-AFC8-DA6991230A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838080"/>
            <a:ext cx="7345440" cy="511200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ebfa7a"/>
                </a:solidFill>
                <a:latin typeface="Century Gothic"/>
              </a:rPr>
              <a:t>Diagnóstico </a:t>
            </a:r>
            <a:br>
              <a:rPr sz="5400"/>
            </a:br>
            <a:r>
              <a:rPr b="1" lang="es-AR" sz="5400" spc="-1" strike="noStrike">
                <a:solidFill>
                  <a:srgbClr val="ebfa7a"/>
                </a:solidFill>
                <a:latin typeface="Century Gothic"/>
              </a:rPr>
              <a:t>y Visión Genera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7AEA-2DE9-4FE7-9E1A-50B760CC59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Las Distribuidoras eléctricas y Grandes Usuarios</a:t>
            </a: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 licitan la instalación de nueva potencia, con contratos a largo plaz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Plan de Transporte Eléctrico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Financiamiento mixto: privado – públic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Fondos Fiduciarios (impuestos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Financiamiento Organismos Multilateral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98280" y="-2700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Acciones de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2187-C6EE-4889-B341-1E7DE5A217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15640" y="2637000"/>
            <a:ext cx="8497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fa7a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 </a:t>
            </a: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Yacyret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fa7a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 </a:t>
            </a: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Atucha I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98280" y="-27000"/>
            <a:ext cx="8937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d2ffa9"/>
                </a:solidFill>
                <a:latin typeface="Century Gothic"/>
              </a:rPr>
              <a:t>Grandes Proyecto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280" y="836640"/>
            <a:ext cx="8937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Century Gothic"/>
              </a:rPr>
              <a:t>Estudios, Negociaciones y Financi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8280" y="1701720"/>
            <a:ext cx="8937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cc"/>
                </a:solidFill>
                <a:uFillTx/>
                <a:latin typeface="Century Gothic"/>
              </a:rPr>
              <a:t>PLAZOS INCIER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653000"/>
            <a:ext cx="84978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fa7a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Definir la factibilidad de su incorporación hacia el 2009/20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D46E-E948-4EF4-A801-BD3FE30847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907920"/>
            <a:ext cx="8459640" cy="496908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5200" spc="-1" strike="noStrike">
                <a:solidFill>
                  <a:srgbClr val="d2ffa9"/>
                </a:solidFill>
                <a:latin typeface="Century Gothic"/>
              </a:rPr>
              <a:t>Temas de Fondo</a:t>
            </a:r>
            <a:endParaRPr b="0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4D3E-FB14-4CB1-A7EA-CAA744637A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928872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Reorganización y fortalecimiento institucional de la </a:t>
            </a: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Secretaría de Energí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Crear un </a:t>
            </a: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Consejo de Política Energética</a:t>
            </a: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 a nivel del Gabinete Nacional, coordinado por el Secretario de Energía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Diseñar y explicitar una </a:t>
            </a: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Política Energética Nacional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Elaborar un </a:t>
            </a: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Plan Estratégico Sectorial 2005-2020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Implementar un </a:t>
            </a: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Sistema de Información       Energética Integral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98280" y="-2700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Nuevo Rol del Estado </a:t>
            </a:r>
            <a:br>
              <a:rPr sz="3200"/>
            </a:b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Cambios Institucionales y Regulato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B19F-1E88-4A16-A255-1F1110E54B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4000" y="1557360"/>
            <a:ext cx="8820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ebfa7a"/>
                </a:solidFill>
                <a:latin typeface="Century Gothic"/>
              </a:rPr>
              <a:t>Promover reformas legislativas a los  Marcos Regulatorios Eléctrico (Leyes Nº 15.336 y 24.065) y del Gas Natural (Ley Nº 24.076) para: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implementar los cambios institucionales expuest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Century Gothic"/>
              </a:rPr>
              <a:t>generar nuevos mecanismos para garantizar una expansión sustentable y claridad regulatori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98280" y="-2700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Nuevo Rol del Estado </a:t>
            </a:r>
            <a:br>
              <a:rPr sz="3200"/>
            </a:b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Cambios Institucionales y Regulato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8197-5FBA-4B28-A30F-2AB01F2A4D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2360" y="691920"/>
            <a:ext cx="8856720" cy="67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Propuesta de Reform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Creación de un ente regulador único</a:t>
            </a: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 para los sectores gas natural, electricidad y gas licuado envasado. (Fusión y reorganización del ENRE y ENARG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Resulta imperioso </a:t>
            </a: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asegurarle autarquía e independencia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Debe tener plena capacidad para administrar sus presupuestos anua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Se propicia </a:t>
            </a:r>
            <a:r>
              <a:rPr b="1" lang="es-AR" sz="2400" spc="-1" strike="noStrike">
                <a:solidFill>
                  <a:srgbClr val="ebfa7a"/>
                </a:solidFill>
                <a:latin typeface="Century Gothic"/>
              </a:rPr>
              <a:t>suprimir el recurso de alzada ante la Secretaría de Energí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98280" y="-2700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Nuevo Rol del Estado </a:t>
            </a:r>
            <a:br>
              <a:rPr sz="3200"/>
            </a:b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Cambios Institucionales y Regulato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37ED-D9FD-4B26-8275-84BEE924B5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-181440" y="1512720"/>
            <a:ext cx="9325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120000"/>
              </a:lnSpc>
              <a:spcBef>
                <a:spcPts val="649"/>
              </a:spcBef>
              <a:buClr>
                <a:srgbClr val="ebfa7a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d2ffa9"/>
                </a:solidFill>
                <a:latin typeface="Century Gothic"/>
              </a:rPr>
              <a:t>Sancionar una moderna Ley de Hidrocarbur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Adaptando la legislación vigente (Ley 17.319) a lo dispuesto en la Constitución Nacional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que fije claramente los derechos y obligaciones de las empresas concesionarias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y defina el rol de Estado en la regulación y fiscalización de la actividad en todas sus etap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ebfa7a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d2ffa9"/>
                </a:solidFill>
                <a:latin typeface="Century Gothic"/>
              </a:rPr>
              <a:t>Aprobar una Ley de marco regulatorio del GLP      </a:t>
            </a:r>
            <a:r>
              <a:rPr b="1" lang="es-AR" sz="2400" spc="-1" strike="noStrike">
                <a:solidFill>
                  <a:srgbClr val="ffffff"/>
                </a:solidFill>
                <a:latin typeface="Century Gothic"/>
              </a:rPr>
              <a:t> (gas licuado de petróleo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98280" y="-2700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Nuevo Rol del Estado </a:t>
            </a:r>
            <a:br>
              <a:rPr sz="3200"/>
            </a:b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Cambios Institucionales y Regulato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BB77-DBF2-49D2-8216-61D3F49A64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58560" y="76500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Century Gothic"/>
              </a:rPr>
              <a:t>Los graves problemas nacionales constituyen     serios limitantes para elaborar rápidamente             un </a:t>
            </a:r>
            <a:r>
              <a:rPr b="1" lang="es-AR" sz="2500" spc="-1" strike="noStrike">
                <a:solidFill>
                  <a:srgbClr val="ebfa7a"/>
                </a:solidFill>
                <a:latin typeface="Century Gothic"/>
              </a:rPr>
              <a:t>Plan Energético sólido y factible</a:t>
            </a:r>
            <a:r>
              <a:rPr b="1" lang="es-AR" sz="25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Century Gothic"/>
              </a:rPr>
              <a:t>Se requiere </a:t>
            </a:r>
            <a:r>
              <a:rPr b="1" lang="es-AR" sz="2500" spc="-1" strike="noStrike">
                <a:solidFill>
                  <a:srgbClr val="ebfa7a"/>
                </a:solidFill>
                <a:latin typeface="Century Gothic"/>
              </a:rPr>
              <a:t>acotar las variables claves</a:t>
            </a:r>
            <a:r>
              <a:rPr b="1" lang="es-AR" sz="2500" spc="-1" strike="noStrike">
                <a:solidFill>
                  <a:srgbClr val="ffffff"/>
                </a:solidFill>
                <a:latin typeface="Century Gothic"/>
              </a:rPr>
              <a:t> y la probable evolución de los sectores de mayor incidencia en la </a:t>
            </a:r>
            <a:r>
              <a:rPr b="1" lang="es-AR" sz="2500" spc="-1" strike="noStrike">
                <a:solidFill>
                  <a:srgbClr val="ebfa7a"/>
                </a:solidFill>
                <a:latin typeface="Century Gothic"/>
              </a:rPr>
              <a:t>demanda energética</a:t>
            </a:r>
            <a:r>
              <a:rPr b="1" lang="es-AR" sz="25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Century Gothic"/>
              </a:rPr>
              <a:t>Diseñar y consensuar un </a:t>
            </a:r>
            <a:r>
              <a:rPr b="1" lang="es-AR" sz="2500" spc="-1" strike="noStrike">
                <a:solidFill>
                  <a:srgbClr val="ebfa7a"/>
                </a:solidFill>
                <a:latin typeface="Century Gothic"/>
              </a:rPr>
              <a:t>Plan Nacional de Desarrollo</a:t>
            </a:r>
            <a:r>
              <a:rPr b="1" lang="es-AR" sz="2500" spc="-1" strike="noStrike">
                <a:solidFill>
                  <a:srgbClr val="ffffff"/>
                </a:solidFill>
                <a:latin typeface="Century Gothic"/>
              </a:rPr>
              <a:t> (que excede largamente a un programa económico)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98280" y="-2700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Plan Energético Nacional</a:t>
            </a:r>
            <a:br>
              <a:rPr sz="3200"/>
            </a:b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2005 - 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38C8-5F9C-430C-96F8-A45D6249FA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7840" y="980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Objetivo de alta priorida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	</a:t>
            </a: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preservar y consolidar la integración energética con el MERCOSUR ampliad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	</a:t>
            </a: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Acuerdos de intercambio y complementación de energéticos con visión de largo plaz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Replantear la política de Importaciones y Exportacio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Reanalizar y fortalec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el rol de la Hidroelectric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98280" y="-2700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Plan Energético Nacional</a:t>
            </a:r>
            <a:br>
              <a:rPr sz="3200"/>
            </a:b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2005 - 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E788-047B-4E93-8947-21F140540C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7840" y="980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300" spc="-1" strike="noStrike">
                <a:solidFill>
                  <a:srgbClr val="ebfa7a"/>
                </a:solidFill>
                <a:latin typeface="Century Gothic"/>
              </a:rPr>
              <a:t>Programas Nacionales de: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2900" spc="-1" strike="noStrike">
                <a:solidFill>
                  <a:srgbClr val="ffffff"/>
                </a:solidFill>
                <a:latin typeface="Century Gothic"/>
              </a:rPr>
              <a:t>Ahorro y eficiencia energética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29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900" spc="-1" strike="noStrike">
                <a:solidFill>
                  <a:srgbClr val="ffffff"/>
                </a:solidFill>
                <a:latin typeface="Century Gothic"/>
              </a:rPr>
              <a:t>(gestión de demanda)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ffffff"/>
                </a:solidFill>
                <a:latin typeface="Century Gothic"/>
              </a:rPr>
              <a:t>Fuentes alternativas de energía eléctrica     (renovables)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2900" spc="-1" strike="noStrike">
                <a:solidFill>
                  <a:srgbClr val="ffffff"/>
                </a:solidFill>
                <a:latin typeface="Century Gothic"/>
              </a:rPr>
              <a:t>Desarrollo del Hidrógeno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300" spc="-1" strike="noStrike">
                <a:solidFill>
                  <a:srgbClr val="ebfa7a"/>
                </a:solidFill>
                <a:latin typeface="Century Gothic"/>
              </a:rPr>
              <a:t>Activa participación de la tecnología y de los proveedores nacionales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98280" y="-2700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Plan Energético Nacional</a:t>
            </a:r>
            <a:br>
              <a:rPr sz="3200"/>
            </a:b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2005 - 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0A8D-56AE-4FB8-A3F2-20B971B676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8920" y="2636640"/>
            <a:ext cx="8820360" cy="46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a7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bfa7a"/>
                </a:solidFill>
                <a:latin typeface="Century Gothic"/>
              </a:rPr>
              <a:t>Aparición de síntomas preocupant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caída de los indicadores de reservas de hidrocarburos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fuerte crecimiento de las exportaciones de energéticos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carencia de nuevas inversiones en la expansión de la capacidad de producción y transporte en los sectores eléctrico y de gas natur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125360"/>
            <a:ext cx="6264360" cy="119556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bfa7a"/>
                </a:solidFill>
                <a:latin typeface="Century Gothic"/>
              </a:rPr>
              <a:t>Fines de los ´9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280" y="-10008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ebfa7a"/>
                </a:solidFill>
                <a:latin typeface="Century Gothic"/>
              </a:rPr>
              <a:t>Diagnóstico y Visión Genera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4302-65FD-4D23-A39E-8BBA088679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8920" y="3124080"/>
            <a:ext cx="88203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bfa7a"/>
                </a:solidFill>
                <a:latin typeface="Century Gothic"/>
              </a:rPr>
              <a:t>El modelo energético argentin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bfa7a"/>
                </a:solidFill>
                <a:latin typeface="Century Gothic"/>
              </a:rPr>
              <a:t>	</a:t>
            </a:r>
            <a:r>
              <a:rPr b="1" lang="es-AR" sz="3200" spc="-1" strike="noStrike">
                <a:solidFill>
                  <a:srgbClr val="ebfa7a"/>
                </a:solidFill>
                <a:latin typeface="Century Gothic"/>
              </a:rPr>
              <a:t>de los `90 está ago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fa7a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bfa7a"/>
                </a:solidFill>
                <a:latin typeface="Century Gothic"/>
              </a:rPr>
              <a:t>	</a:t>
            </a:r>
            <a:r>
              <a:rPr b="1" lang="es-AR" sz="3200" spc="-1" strike="noStrike">
                <a:solidFill>
                  <a:srgbClr val="ebfa7a"/>
                </a:solidFill>
                <a:latin typeface="Century Gothic"/>
              </a:rPr>
              <a:t>Necesitamos una nueva política         </a:t>
            </a:r>
            <a:r>
              <a:rPr b="1" lang="es-AR" sz="3200" spc="-1" strike="noStrike">
                <a:solidFill>
                  <a:srgbClr val="ffffff"/>
                </a:solidFill>
                <a:latin typeface="Century Gothic"/>
              </a:rPr>
              <a:t>para lograr un desarrollo energético sustentable a mediano y largo plaz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1125360"/>
            <a:ext cx="6264360" cy="115128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bfa7a"/>
                </a:solidFill>
                <a:latin typeface="Century Gothic"/>
              </a:rPr>
              <a:t>Principios de 200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280" y="-100080"/>
            <a:ext cx="8937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ebfa7a"/>
                </a:solidFill>
                <a:latin typeface="Century Gothic"/>
              </a:rPr>
              <a:t>Diagnóstico y Visión General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AB74-0999-4151-B955-7205E12A6D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45820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a7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Century Gothic"/>
              </a:rPr>
              <a:t>Carencia de una clara política energét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a7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Century Gothic"/>
              </a:rPr>
              <a:t>Falta de planificación estratég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a7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Century Gothic"/>
              </a:rPr>
              <a:t>Existencia de serios “cuellos de botella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a7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Century Gothic"/>
              </a:rPr>
              <a:t>Débil rol del Es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98280" y="189000"/>
            <a:ext cx="8937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ebfa7a"/>
                </a:solidFill>
                <a:uFillTx/>
                <a:latin typeface="Century Gothic"/>
              </a:rPr>
              <a:t>Temas de Fon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69CC-A788-4D6F-88B4-FF890BE446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entury Gothic"/>
              </a:rPr>
              <a:t>Argentina ha ingresado en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df141"/>
                </a:solidFill>
                <a:latin typeface="Century Gothic"/>
              </a:rPr>
              <a:t>una crisis energética de características estructurales</a:t>
            </a:r>
            <a:r>
              <a:rPr b="1" lang="en-US" sz="3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entury Gothic"/>
              </a:rPr>
              <a:t>Afecta la normal provisión de </a:t>
            </a:r>
            <a:r>
              <a:rPr b="1" lang="en-US" sz="3400" spc="-1" strike="noStrike">
                <a:solidFill>
                  <a:srgbClr val="edf141"/>
                </a:solidFill>
                <a:latin typeface="Century Gothic"/>
              </a:rPr>
              <a:t>servicios públicos esenciales</a:t>
            </a:r>
            <a:r>
              <a:rPr b="1" lang="en-US" sz="3400" spc="-1" strike="noStrike">
                <a:solidFill>
                  <a:srgbClr val="ffffff"/>
                </a:solidFill>
                <a:latin typeface="Century Gothic"/>
              </a:rPr>
              <a:t> (gas natural y electricidad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757080" y="5084640"/>
            <a:ext cx="7775640" cy="1584360"/>
          </a:xfrm>
          <a:prstGeom prst="rect">
            <a:avLst/>
          </a:prstGeom>
          <a:noFill/>
          <a:ln w="57240">
            <a:solidFill>
              <a:srgbClr val="e5e5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entury Gothic"/>
              </a:rPr>
              <a:t>Superar esta crisis “anunciada” demandará tiempo y un sólido plan de medidas gubernamenta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115920"/>
            <a:ext cx="6264360" cy="93672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ebfa7a"/>
                </a:solidFill>
                <a:latin typeface="Century Gothic"/>
              </a:rPr>
              <a:t>Situación Actual 2004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A81A-AB50-4A3F-8DE3-A36B721DB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De ser un “país gasífero”, se ha convertido en un “país con gas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En riesgo la autonomía y seguridad energét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a7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De haber asumido un rol de </a:t>
            </a: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“exportador nato”</a:t>
            </a: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 de petróleo, gas y electricidad,           se ve obligado a convertirse en  </a:t>
            </a: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“importador”</a:t>
            </a:r>
            <a:r>
              <a:rPr b="1" lang="es-AR" sz="2800" spc="-1" strike="noStrike">
                <a:solidFill>
                  <a:srgbClr val="ebfa7a"/>
                </a:solidFill>
                <a:latin typeface="Century Gothic"/>
              </a:rPr>
              <a:t> desde Bolivia y Brasil.</a:t>
            </a:r>
            <a:r>
              <a:rPr b="1" lang="es-AR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-100080"/>
            <a:ext cx="77994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d2ffa9"/>
                </a:solidFill>
                <a:uFillTx/>
                <a:latin typeface="Century Gothic"/>
              </a:rPr>
              <a:t>Crisis Energétic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1640" y="668160"/>
            <a:ext cx="82440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 u="sng">
                <a:solidFill>
                  <a:srgbClr val="ffffff"/>
                </a:solidFill>
                <a:uFillTx/>
                <a:latin typeface="Century Gothic"/>
              </a:rPr>
              <a:t>Cambios de Paradigmas Energético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4DA9-BCE0-40CE-9A80-68AD385676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8280" y="-171360"/>
            <a:ext cx="89377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Evolución de la relación</a:t>
            </a:r>
            <a:br>
              <a:rPr sz="3200"/>
            </a:b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reservas – producción (R/P) </a:t>
            </a:r>
            <a:br>
              <a:rPr sz="3200"/>
            </a:br>
            <a:r>
              <a:rPr b="1" lang="es-AR" sz="3200" spc="-1" strike="noStrike">
                <a:solidFill>
                  <a:srgbClr val="d2ffa9"/>
                </a:solidFill>
                <a:latin typeface="Century Gothic"/>
              </a:rPr>
              <a:t>Petróleo y Gas Na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52464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entury Gothic"/>
              </a:rPr>
              <a:t>Fuente: Secretaría de Energ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8000" y="1739880"/>
            <a:ext cx="8939160" cy="464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19640" y="2349360"/>
            <a:ext cx="3168720" cy="1150920"/>
          </a:xfrm>
          <a:prstGeom prst="rect">
            <a:avLst/>
          </a:prstGeom>
          <a:solidFill>
            <a:srgbClr val="e5e5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Century Gothic"/>
              </a:rPr>
              <a:t>Producción de Gas Natu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Año 1988 – </a:t>
            </a: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22.734</a:t>
            </a: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 MMm</a:t>
            </a:r>
            <a:r>
              <a:rPr b="0" lang="es-AR" sz="18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Año 2003 – </a:t>
            </a:r>
            <a:r>
              <a:rPr b="1" lang="es-AR" sz="1800" spc="-1" strike="noStrike">
                <a:solidFill>
                  <a:srgbClr val="000000"/>
                </a:solidFill>
                <a:latin typeface="Century Gothic"/>
              </a:rPr>
              <a:t>50.644</a:t>
            </a: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 MMm</a:t>
            </a:r>
            <a:r>
              <a:rPr b="0" lang="es-AR" sz="18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9F94-D874-46ED-8A0E-909B2F99EC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779940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d2ffa9"/>
                </a:solidFill>
                <a:uFillTx/>
                <a:latin typeface="Century Gothic"/>
              </a:rPr>
              <a:t>Crisis Energética Estructural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201600" y="4662360"/>
            <a:ext cx="8763120" cy="1862280"/>
          </a:xfrm>
          <a:prstGeom prst="rect">
            <a:avLst/>
          </a:prstGeom>
          <a:noFill/>
          <a:ln w="38160">
            <a:solidFill>
              <a:srgbClr val="e5e5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Century Gothic"/>
              </a:rPr>
              <a:t>La realidad demuestra que un nuevo gasoducto troncal ya debería haber sido construi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7760" y="907920"/>
            <a:ext cx="75549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entury Gothic"/>
              </a:rPr>
              <a:t>Déficit de suministro de gas natural del orden de los                           </a:t>
            </a:r>
            <a:r>
              <a:rPr b="1" lang="en-US" sz="3400" spc="-1" strike="noStrike">
                <a:solidFill>
                  <a:srgbClr val="edf141"/>
                </a:solidFill>
                <a:latin typeface="Century Gothic"/>
              </a:rPr>
              <a:t>20 millones de m</a:t>
            </a:r>
            <a:r>
              <a:rPr b="1" lang="en-US" sz="3400" spc="-1" strike="noStrike" baseline="30000">
                <a:solidFill>
                  <a:srgbClr val="edf141"/>
                </a:solidFill>
                <a:latin typeface="Century Gothic"/>
              </a:rPr>
              <a:t>3</a:t>
            </a:r>
            <a:r>
              <a:rPr b="1" lang="en-US" sz="3400" spc="-1" strike="noStrike">
                <a:solidFill>
                  <a:srgbClr val="edf141"/>
                </a:solidFill>
                <a:latin typeface="Century Gothic"/>
              </a:rPr>
              <a:t>/día                en promedio</a:t>
            </a:r>
            <a:r>
              <a:rPr b="1" lang="en-US" sz="3400" spc="-1" strike="noStrike">
                <a:solidFill>
                  <a:srgbClr val="ffffff"/>
                </a:solidFill>
                <a:latin typeface="Century Gothic"/>
              </a:rPr>
              <a:t>                          (corte al sector eléctrico, industrias y exportaciones)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564A-36B8-4A33-8A79-6D9B3C9C1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9T17:56:57Z</dcterms:created>
  <dc:creator>Marcelo</dc:creator>
  <dc:description/>
  <dc:language>en-US</dc:language>
  <cp:lastModifiedBy>C.P.C.E.C.A.B.A.</cp:lastModifiedBy>
  <dcterms:modified xsi:type="dcterms:W3CDTF">2004-09-28T14:58:06Z</dcterms:modified>
  <cp:revision>207</cp:revision>
  <dc:subject/>
  <dc:title>Presentación de PowerPoint</dc:title>
</cp:coreProperties>
</file>