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A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729720" y="750960"/>
            <a:ext cx="54277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A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A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63AC1-C5FC-4780-AD88-539E83FA5C2C}" type="slidenum"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30080" y="750960"/>
            <a:ext cx="5427720" cy="3757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Se ha aportado mucha información, muchas ideas y discusiones muy r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Este aporte son sólo “Reflexiones” desde una óptica “no académica”, de “observador” como profesional actuante como GERENTE o como FUNCIO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2A4-4339-49CD-B834-B0778492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E5F-0611-4E3F-8A87-63B80905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B62-3670-4D76-A6B8-F790B1D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7DC-04C2-4CA4-912F-A1A12159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ED7-6631-4C7B-8B12-276CD869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C71-93B7-4FB5-90C0-E35E767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CD3-DCB5-48F3-8FA7-553955C8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102-5844-4829-A74A-E15582C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11C-936E-4F0B-B73B-C26C10CC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2964-D914-4BEC-B7A1-B720C5CB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6D7C-76B6-4371-841F-11A84A2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27F-9187-496F-A473-220376C8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C329-AA4E-4CC0-9BEC-3B2F040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430D-5CF8-469E-8339-50215623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5783-2098-4A97-A381-2AE3C7B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DFA4-97A4-454B-A3AD-1895E425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40A-84B1-4447-A22A-93AB7007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59D-CEC2-4A01-8041-04ACACD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E03-5DB5-4B93-96B7-6EA84E7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47F-8135-44D7-9443-60DB13E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124-BAA7-4AAA-A086-584B1CAD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8B5-5C1C-4442-A221-57D541F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8F3-4EE2-4F83-9A77-F0C7574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4C7-6075-4A8E-9F87-1D662E1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0C21-2148-4DDD-AF03-F0EFEC625088}" type="slidenum">
              <a:rPr b="0" lang="es-A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2920" y="228600"/>
            <a:ext cx="89154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A138-0B13-41AF-84C7-2E9C739E38B1}" type="slidenum">
              <a:rPr b="0" lang="es-A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0240" y="1219320"/>
            <a:ext cx="858528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5320" y="907560"/>
            <a:ext cx="8259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MX" sz="2900" spc="-1" strike="noStrike">
                <a:solidFill>
                  <a:srgbClr val="006633"/>
                </a:solidFill>
                <a:latin typeface="Arial"/>
              </a:rPr>
              <a:t>REFLEXIONES PARA UNA GESTION EFICIENTE</a:t>
            </a:r>
            <a:br>
              <a:rPr sz="2900"/>
            </a:br>
            <a:r>
              <a:rPr b="1" lang="es-MX" sz="2900" spc="-1" strike="noStrike">
                <a:solidFill>
                  <a:srgbClr val="006633"/>
                </a:solidFill>
                <a:latin typeface="Arial"/>
              </a:rPr>
              <a:t>LOS SERVICIOS PUBLICOS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66400" y="2924280"/>
            <a:ext cx="709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ornada so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LANEAMIENTO Y CONTROL DE GESTION EN EMPRESAS DE SERVICIOS PU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ejo Profesional de Ciencia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ego A. Gr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ptiembre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C603-B636-40D3-B53C-A9E09EDCD3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33"/>
                </a:solidFill>
                <a:latin typeface="Arial"/>
              </a:rPr>
              <a:t>Gestión de INVERSION: Los recursos  privados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62040" y="1197000"/>
          <a:ext cx="8756640" cy="4583160"/>
        </p:xfrm>
        <a:graphic>
          <a:graphicData uri="http://schemas.openxmlformats.org/drawingml/2006/table">
            <a:tbl>
              <a:tblPr/>
              <a:tblGrid>
                <a:gridCol w="3468600"/>
                <a:gridCol w="5288040"/>
              </a:tblGrid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as condicio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jurí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debe aportar el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ticas de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ilidad económica y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 mercad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concretos, con continu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s y organismos confiables y permanentes. Regulación clara y transpa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s políticas e imposi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iencia administ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679-D551-4237-ACB3-002D6E7B4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Asociación pública privada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62040" y="1268280"/>
          <a:ext cx="8786880" cy="4726080"/>
        </p:xfrm>
        <a:graphic>
          <a:graphicData uri="http://schemas.openxmlformats.org/drawingml/2006/table">
            <a:tbl>
              <a:tblPr/>
              <a:tblGrid>
                <a:gridCol w="2976480"/>
                <a:gridCol w="5810400"/>
              </a:tblGrid>
              <a:tr h="8424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ular mecanismos de inversión entre los sector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invita a financiar y ejecutar obras de infraestructura económica o soci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 y privad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stado paga una contraprestación en un plazo,  una vez concluidas las obra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 público planifica y define prioridad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incorpora un Auditor Técnico independiente para asegurar cumplimiento de las condiciones contractuales. Registro Nacional de Auditor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 privado gestor, operador, ejecuto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cuenta con un Fondo Fiduciario de Desarrollo de Infraestructur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1299/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jas: Menores costos financieros, y riesgos. Compatibilización de inversiones y plazos de amortiz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 en, Alemania, España, UK, Chil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ora en niveles de competitividad, factores de escala, asignación de recursos, productivida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Accesos Capital Fede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desequilibrios fiscales, más desarrollos regionales, mejoras comercio exterio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3C7-5A86-46C2-A00D-BA54FE6F37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H="1" flipV="1" rot="19487400">
            <a:off x="3095640" y="1631160"/>
            <a:ext cx="4291200" cy="365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3" y="228"/>
                </a:moveTo>
                <a:arcTo wR="10800" hR="10800" stAng="-6107646" swAng="6107646"/>
                <a:lnTo>
                  <a:pt x="10800" y="10800"/>
                </a:lnTo>
                <a:close/>
              </a:path>
              <a:path fill="none" w="21600" h="21600">
                <a:moveTo>
                  <a:pt x="8593" y="228"/>
                </a:moveTo>
                <a:arcTo wR="10800" hR="10800" stAng="-6107646" swAng="610764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6585120" y="1971360"/>
            <a:ext cx="2963520" cy="3097080"/>
          </a:xfrm>
          <a:custGeom>
            <a:avLst/>
            <a:gdLst>
              <a:gd name="textAreaLeft" fmla="*/ 0 w 2963520"/>
              <a:gd name="textAreaRight" fmla="*/ 2963880 w 2963520"/>
              <a:gd name="textAreaTop" fmla="*/ 0 h 3097080"/>
              <a:gd name="textAreaBottom" fmla="*/ 309744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1900080"/>
            <a:ext cx="2963880" cy="309744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Historia de modelos pendulares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803840" y="1836720"/>
            <a:ext cx="181620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40160" y="1844640"/>
            <a:ext cx="142560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92520" y="1628640"/>
            <a:ext cx="495360" cy="50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2880" y="4427640"/>
            <a:ext cx="4125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72360" y="4427640"/>
            <a:ext cx="4125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1400" y="5189400"/>
            <a:ext cx="41256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960" y="113364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 estat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73360" y="113364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 privat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280" y="2187720"/>
            <a:ext cx="2494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oriza teóric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conómico y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Estado Planific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rola y Ejec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maneja esencialmente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ormas y bur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53120" y="2403360"/>
            <a:ext cx="2559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oriza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Estado no planif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do prescin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maneja esencialmente por  resultados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17400" y="5692680"/>
            <a:ext cx="35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modelo de 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3840" y="4046400"/>
            <a:ext cx="247680" cy="99072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b4b7a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B0D-9C49-4004-ADC1-7F317DF58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00280" y="2997360"/>
            <a:ext cx="3301920" cy="1369800"/>
          </a:xfrm>
          <a:prstGeom prst="downArrowCallout">
            <a:avLst>
              <a:gd name="adj1" fmla="val 60268"/>
              <a:gd name="adj2" fmla="val 6026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5320" y="3068640"/>
            <a:ext cx="3122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Objetivos, Estrategi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35840" y="2873520"/>
            <a:ext cx="1833480" cy="92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1960" y="2873520"/>
            <a:ext cx="1833480" cy="92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2080" y="1425600"/>
            <a:ext cx="3137040" cy="1066680"/>
          </a:xfrm>
          <a:prstGeom prst="downArrowCallout">
            <a:avLst>
              <a:gd name="adj1" fmla="val 73530"/>
              <a:gd name="adj2" fmla="val 735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0400" y="4576680"/>
            <a:ext cx="272412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0400" y="1484280"/>
            <a:ext cx="2724120" cy="1295280"/>
          </a:xfrm>
          <a:prstGeom prst="downArrowCallout">
            <a:avLst>
              <a:gd name="adj1" fmla="val 52583"/>
              <a:gd name="adj2" fmla="val 52578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45120" y="4321080"/>
            <a:ext cx="1717920" cy="14065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760" y="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Proceso de decisiones y búsqueda de un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6760" y="1628640"/>
            <a:ext cx="2575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LEXIONES PA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1840" y="3049560"/>
            <a:ext cx="1306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N NUEV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06120" y="3068640"/>
            <a:ext cx="1576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NA 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51320" y="1677960"/>
            <a:ext cx="1570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DEOLOG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Misión, Vi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3680" y="4653000"/>
            <a:ext cx="2263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Implementación, Operación y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25760" y="4724280"/>
            <a:ext cx="1430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N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4B2-9D75-4C70-9946-48CE12206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ile"/>
          <p:cNvSpPr/>
          <p:nvPr/>
        </p:nvSpPr>
        <p:spPr>
          <a:xfrm>
            <a:off x="819000" y="1628640"/>
            <a:ext cx="2311560" cy="13622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8240" y="2708280"/>
            <a:ext cx="2146320" cy="1905120"/>
          </a:xfrm>
          <a:custGeom>
            <a:avLst/>
            <a:gdLst>
              <a:gd name="textAreaLeft" fmla="*/ 489960 w 2146320"/>
              <a:gd name="textAreaRight" fmla="*/ 1656360 w 214632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ile"/>
          <p:cNvSpPr/>
          <p:nvPr/>
        </p:nvSpPr>
        <p:spPr>
          <a:xfrm>
            <a:off x="819000" y="4079880"/>
            <a:ext cx="2311560" cy="13622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ile"/>
          <p:cNvSpPr/>
          <p:nvPr/>
        </p:nvSpPr>
        <p:spPr>
          <a:xfrm>
            <a:off x="5854680" y="3699000"/>
            <a:ext cx="3054240" cy="182880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ile"/>
          <p:cNvSpPr/>
          <p:nvPr/>
        </p:nvSpPr>
        <p:spPr>
          <a:xfrm>
            <a:off x="5772240" y="1717560"/>
            <a:ext cx="2311200" cy="13622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0"/>
            <a:ext cx="799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La  GESTION en el Estado</a:t>
            </a:r>
            <a:r>
              <a:rPr b="1" lang="es-MX" sz="2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7200" y="3213000"/>
            <a:ext cx="1325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4880" y="2060640"/>
            <a:ext cx="18795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rig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deología y é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8480" y="4437000"/>
            <a:ext cx="18752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inui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smo j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rrera de po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54680" y="1992240"/>
            <a:ext cx="16981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ministr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fici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68080" y="4076640"/>
            <a:ext cx="253332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líticas de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gur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ensos transver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F71-F3DA-4EF8-BCF7-C40CFE25D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1000" y="1052640"/>
            <a:ext cx="2417760" cy="5040360"/>
          </a:xfrm>
          <a:prstGeom prst="rect">
            <a:avLst/>
          </a:prstGeom>
          <a:solidFill>
            <a:srgbClr val="b4b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4280" y="2421000"/>
            <a:ext cx="3744720" cy="100800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Nuevas herramientas de GESTION para el Estado</a:t>
            </a:r>
            <a:br>
              <a:rPr sz="2000"/>
            </a:br>
            <a:r>
              <a:rPr b="1" lang="es-MX" sz="1700" spc="-1" strike="noStrike">
                <a:solidFill>
                  <a:srgbClr val="006633"/>
                </a:solidFill>
                <a:latin typeface="Arial"/>
              </a:rPr>
              <a:t>(ideas deGaebler, Osborne)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8520" y="1125000"/>
            <a:ext cx="3527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76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pacitación. Planes de carr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dministración por ob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ción y sistemas presupuest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fesionalización de puestos de gest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valuaciones de desempeñ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08520" y="2349360"/>
            <a:ext cx="47512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80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cción de las necesidades (relevamientos  y encuesta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iorización de infraestructura de 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canismos de participación y consul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so del mark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4280" y="1197000"/>
            <a:ext cx="3744720" cy="100800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4280" y="1268280"/>
            <a:ext cx="346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sarse más en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bjetivos y resultado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menos en normas burocrát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1240" y="263700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rigirse al ciudadano como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cliente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4280" y="3716280"/>
            <a:ext cx="3744720" cy="100800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4941720"/>
            <a:ext cx="3744720" cy="1008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1000" y="3789360"/>
            <a:ext cx="245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orizar la Planificación Estratég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400" y="525312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entralizar la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65600" y="3573360"/>
            <a:ext cx="424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nsos de Visión y Misión, y Políticas de Est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imiento de Objetivos y acuerdos de Mode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licación de Estrategias para priorizar y desarrol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lem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ol y corrección de desví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65600" y="4653000"/>
            <a:ext cx="45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nidades descentralizad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ienen mas flexibilidad  y pueden ser más efic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án más cerca de los ciudada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ueden mostrar resultados concretos, y motivar más fácilm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n más propensas al cambio y profesionaliz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controlar excesos de autonomía administra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umar a los sindica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125360"/>
            <a:ext cx="71640" cy="100836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276640"/>
            <a:ext cx="71640" cy="100800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573360"/>
            <a:ext cx="71640" cy="100800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797360"/>
            <a:ext cx="73080" cy="122400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68D-91F2-48DC-B6FF-2434ABFE4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86520" y="1484280"/>
            <a:ext cx="4135320" cy="4537080"/>
          </a:xfrm>
          <a:custGeom>
            <a:avLst/>
            <a:gdLst>
              <a:gd name="textAreaLeft" fmla="*/ 201600 w 4135320"/>
              <a:gd name="textAreaRight" fmla="*/ 3933720 w 4135320"/>
              <a:gd name="textAreaTop" fmla="*/ 201600 h 4537080"/>
              <a:gd name="textAreaBottom" fmla="*/ 4335480 h 4537080"/>
            </a:gdLst>
            <a:ahLst/>
            <a:rect l="textAreaLeft" t="textAreaTop" r="textAreaRight" b="textAreaBottom"/>
            <a:pathLst>
              <a:path w="21600" h="23698">
                <a:moveTo>
                  <a:pt x="3600" y="0"/>
                </a:moveTo>
                <a:arcTo wR="3600" hR="3600" stAng="16200000" swAng="-5400000"/>
                <a:lnTo>
                  <a:pt x="0" y="20098"/>
                </a:lnTo>
                <a:arcTo wR="3600" hR="3600" stAng="10800000" swAng="-5400000"/>
                <a:lnTo>
                  <a:pt x="18000" y="23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040" y="1484280"/>
            <a:ext cx="4133880" cy="4537080"/>
          </a:xfrm>
          <a:custGeom>
            <a:avLst/>
            <a:gdLst>
              <a:gd name="textAreaLeft" fmla="*/ 201600 w 4133880"/>
              <a:gd name="textAreaRight" fmla="*/ 3932280 w 4133880"/>
              <a:gd name="textAreaTop" fmla="*/ 201600 h 4537080"/>
              <a:gd name="textAreaBottom" fmla="*/ 4335480 h 4537080"/>
            </a:gdLst>
            <a:ahLst/>
            <a:rect l="textAreaLeft" t="textAreaTop" r="textAreaRight" b="textAreaBottom"/>
            <a:pathLst>
              <a:path w="21600" h="23707">
                <a:moveTo>
                  <a:pt x="3600" y="0"/>
                </a:moveTo>
                <a:arcTo wR="3600" hR="3600" stAng="16200000" swAng="-5400000"/>
                <a:lnTo>
                  <a:pt x="0" y="20107"/>
                </a:lnTo>
                <a:arcTo wR="3600" hR="3600" stAng="10800000" swAng="-5400000"/>
                <a:lnTo>
                  <a:pt x="18000" y="23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36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La GESTION de los Servicios Públicos en la Argentina: Los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960" y="1700280"/>
            <a:ext cx="41338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blemática general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olítica y Conceptual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Rol del Est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ocial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Interés General, Acceso e Igual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conómic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(Macro, modelos, competitivi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inanciera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inversores, rentabilidad y riesg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gulación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entes, marcos regulatorios, nueva reform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tratos y tarifas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seguridad jurídic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fensa de la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6520" y="1773360"/>
            <a:ext cx="38448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blemática sectorial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ectric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as natural y enva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errocarr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V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uertos y aeropu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ación y Provi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D06-5A35-4D21-82EC-CBDC7EFBD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28040" y="285840"/>
            <a:ext cx="859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33"/>
                </a:solidFill>
                <a:latin typeface="Arial"/>
              </a:rPr>
              <a:t>La GESTION de los Servicios Públicos en la Argentina: La AGENDA de tema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1000" y="836640"/>
            <a:ext cx="1481040" cy="5326200"/>
          </a:xfrm>
          <a:prstGeom prst="rect">
            <a:avLst/>
          </a:prstGeom>
          <a:solidFill>
            <a:srgbClr val="b4b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36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7960" y="979560"/>
            <a:ext cx="2495520" cy="5032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4280" y="1052640"/>
            <a:ext cx="187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ací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36760" y="836640"/>
            <a:ext cx="639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mbigüedad sobre definición de Servicios Públicos objetos de Regul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finiciones sobre Rol del Estado y Rol de los Privados: Propietario/ Concesion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ecesidad de LEYES para crear los organismos de  MARCOS REGULATORIOS y CONTRO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umplimiento y renegociación de los CONTRATOS. Se requiere amplio DEB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7960" y="1628640"/>
            <a:ext cx="2495520" cy="5032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7960" y="2276640"/>
            <a:ext cx="2495520" cy="50292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7960" y="2924280"/>
            <a:ext cx="2495520" cy="5032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960" y="3571920"/>
            <a:ext cx="2495520" cy="5032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7960" y="4221000"/>
            <a:ext cx="2495520" cy="5032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7960" y="4869000"/>
            <a:ext cx="2495520" cy="5032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5516640"/>
            <a:ext cx="2651040" cy="503280"/>
          </a:xfrm>
          <a:custGeom>
            <a:avLst/>
            <a:gdLst>
              <a:gd name="textAreaLeft" fmla="*/ 0 w 2651040"/>
              <a:gd name="textAreaRight" fmla="*/ 2651400 w 2651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760" y="1700280"/>
            <a:ext cx="153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al - 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040" y="2347920"/>
            <a:ext cx="1806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gulación -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3920" y="3645000"/>
            <a:ext cx="72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rif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558972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rsos 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2120" y="4292640"/>
            <a:ext cx="128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3200" y="4940280"/>
            <a:ext cx="1230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2120" y="299556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24160" y="1557360"/>
            <a:ext cx="702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ESENCIALES, IGUALDAD de ACCES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de INTERES GENERAL. Mecanismos de Audiencias Públ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lanes de contingencia. Indigencia. Tarifa social. Carácter ininterrumpible. Evitar DISCRECION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titución art. 4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36760" y="2205000"/>
            <a:ext cx="6669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segurar MARCOS REGULATORIOS por LEY. Roles de AUTORIDAD de APLICACIÓN y de 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ortalecer ENTES REGULADORES: Autarquía, Presupuestos, Independencia Financie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tabilidad y profesionalismo de los Directores. Concurs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utas técnicas de Regulación. Procedimientos de GES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4160" y="2852640"/>
            <a:ext cx="639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Que debe y que puede hacer el Estado y el Privado. Condiciones y posibilidades y costos financier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 CALIDAD de Servicios. Compromisos de inver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diciones de estabilidad y garantías: Inversión es rentabilidad y ries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lanes de Inversiones: Necesidad de PLANIFICACION FED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36760" y="5445000"/>
            <a:ext cx="639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 requiere amplio DEB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servas de Hidrocarburos/ gas. Ley de Hidrocarburos pendi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oblemas estructurales: Gasoductos troncales faltantes, centrales de generación eléctrica, sistemas de transmisión. Inversiones en ferrocarriles, rutas, autopistas. CRITERIO FED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4160" y="3500280"/>
            <a:ext cx="639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riterios de Utilidad JUSTA y RAZONABLE. Evitar subjetividad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istemas base tarifaria: Costo Plus, Costo de Capital, Price Cap. Análisis de invers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ifas sociales: Blanqueo de subsid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osibilidad o no de Ajustes automá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36760" y="4869000"/>
            <a:ext cx="639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nálisis y solución a problemática de monopolios en los Servic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portamiento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lternativas de intervención o no del Es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4160" y="4149720"/>
            <a:ext cx="639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finición precisa sobre rol de los Entes, Autoridades de Aplicación, y la Justi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rechos y Responsabilidades de los Usuarios, del Estado y de los Concesio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 renegociación de los CONTRATOS. Prioridad de la AGE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valuación de riesgos de judicialización interna e internacionales. CIAD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90792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276640"/>
            <a:ext cx="71280" cy="57600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924280"/>
            <a:ext cx="71280" cy="57600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57336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2100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869000"/>
            <a:ext cx="71280" cy="57600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551664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155736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DFC-C76A-49C5-A754-ADE3EEA673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19000" y="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33"/>
                </a:solidFill>
                <a:latin typeface="Arial"/>
              </a:rPr>
              <a:t>Gestión de INVERSION: Definiendo los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846520" y="1341360"/>
          <a:ext cx="6699240" cy="4421160"/>
        </p:xfrm>
        <a:graphic>
          <a:graphicData uri="http://schemas.openxmlformats.org/drawingml/2006/table">
            <a:tbl>
              <a:tblPr/>
              <a:tblGrid>
                <a:gridCol w="2205000"/>
                <a:gridCol w="4494240"/>
              </a:tblGrid>
              <a:tr h="249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 </a:t>
                      </a: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ert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 </a:t>
                      </a: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ert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 </a:t>
                      </a: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be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ert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bería invertir si puede hacerlo el mercado. Debe establecer condicion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I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 subsidia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 debe subsidiar. A veces n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 planificar. Y controla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 establecer condiciones. Y asegura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do hay negocio rentable y riesgo acept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ertir cuando puede hacerl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ones: Competencia, cumplimiento, calidad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s mecanismos de complem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662040" y="1989000"/>
            <a:ext cx="1716120" cy="12240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040" y="3933720"/>
            <a:ext cx="1716120" cy="12240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040" y="5373720"/>
            <a:ext cx="1716120" cy="50472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8F1-80CF-4F8C-927C-0B6ADA053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633"/>
                </a:solidFill>
                <a:latin typeface="Arial"/>
              </a:rPr>
              <a:t>Gestión de INVERSION: Los recursos  públicos</a:t>
            </a:r>
            <a:br>
              <a:rPr sz="2000"/>
            </a:br>
            <a:r>
              <a:rPr b="1" lang="es-MX" sz="1900" spc="-1" strike="noStrike">
                <a:solidFill>
                  <a:srgbClr val="006633"/>
                </a:solidFill>
                <a:latin typeface="Arial"/>
              </a:rPr>
              <a:t>(Plan presupuestario 2004 a 2006)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41240" y="1484280"/>
          <a:ext cx="8622000" cy="4314960"/>
        </p:xfrm>
        <a:graphic>
          <a:graphicData uri="http://schemas.openxmlformats.org/drawingml/2006/table">
            <a:tbl>
              <a:tblPr/>
              <a:tblGrid>
                <a:gridCol w="2873520"/>
                <a:gridCol w="2873520"/>
                <a:gridCol w="28749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a Provi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4b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espe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4b7a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3 MM$ - 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78 MM$ - 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00 MM$ (02 a 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: 3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vi 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vienda: 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art. Vial: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OFIM (Fideicomis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ocial. 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. Fedei 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idios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. y Cult. 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Social.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ia híd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a y saneam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recursos provin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72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nci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cional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bar los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, BM, C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ant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946-6BC8-4EFE-BE16-7E44826BE4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1:09:58Z</dcterms:created>
  <dc:creator>Diego A. Grau</dc:creator>
  <dc:description/>
  <dc:language>en-US</dc:language>
  <cp:lastModifiedBy>C.P.C.E.C.A.B.A.</cp:lastModifiedBy>
  <dcterms:modified xsi:type="dcterms:W3CDTF">2004-09-28T14:58:33Z</dcterms:modified>
  <cp:revision>39</cp:revision>
  <dc:subject/>
  <dc:title>INFRAESTRUCTURA Y SERVICIOS PUBLICOS REFLEXIONES PARA UN NUEVO MODELO Y UNA GESTION EFICIENTE</dc:title>
</cp:coreProperties>
</file>