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861-04D7-4CEB-80EC-A2CEB8B4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827-0554-486D-A41B-665752F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84B-A492-41DF-BA6E-1CAD464C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9EB-D6C0-4F43-899C-B1FEB38D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FEE-5224-4376-8699-3870799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B56-D2F9-4AFC-BBBB-FE06067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61D-BC91-47C5-9EEA-FF3F49D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A2F-15E0-4C37-9854-20E8456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A10-3E56-40CB-B004-349309FD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AFD-6A10-4E3F-8F46-3A6A1B2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B83-0641-4EA9-B135-A27E1B4E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863-C1C4-49D2-9AE2-AE67FBDD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3517-8334-4B28-A4A4-AF22A1668C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A JORNADA SOBRE PLANEAMIENTO Y CONTROL DE GESTIÓN EN EMPRES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2 de se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iembre de 2004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nsejo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consejo%20titulo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21333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consejo%20titulo%202" descr=""/>
          <p:cNvPicPr/>
          <p:nvPr/>
        </p:nvPicPr>
        <p:blipFill>
          <a:blip r:embed="rId3"/>
          <a:stretch/>
        </p:blipFill>
        <p:spPr>
          <a:xfrm>
            <a:off x="4038480" y="914400"/>
            <a:ext cx="300852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jandro González Escude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D0F-F013-434A-9546-7284DEBB85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rog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mo adecuar las decisiones actuales a un planeamiento que optimice la gesti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en el mediano y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mo hacer que el interés del directivo actual se alinee con los objetivos y políticas de mayor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bos, son problemas en todas las actividades y de mayor relevancia tratándose de servicio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onsejo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consejo%20titulo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213336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consejo%20titulo%202" descr=""/>
          <p:cNvPicPr/>
          <p:nvPr/>
        </p:nvPicPr>
        <p:blipFill>
          <a:blip r:embed="rId3"/>
          <a:stretch/>
        </p:blipFill>
        <p:spPr>
          <a:xfrm>
            <a:off x="4038480" y="914400"/>
            <a:ext cx="300852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jandro González Escude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04D-C1A8-4F65-9C3B-B98917749F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rog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mo controlar la gestión trantándose de entes privad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que brindan servicio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mo controlar la gestión cuando el servicio lo brinda el secto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nsejo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consejo%20titulo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21333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consejo%20titulo%202" descr=""/>
          <p:cNvPicPr/>
          <p:nvPr/>
        </p:nvPicPr>
        <p:blipFill>
          <a:blip r:embed="rId3"/>
          <a:stretch/>
        </p:blipFill>
        <p:spPr>
          <a:xfrm>
            <a:off x="4038480" y="914400"/>
            <a:ext cx="300852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jandro González Escude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DB0-AE69-459F-AB09-9060C7A53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19:56Z</dcterms:created>
  <dc:creator>Graciela Baldomir</dc:creator>
  <dc:description/>
  <dc:language>en-US</dc:language>
  <cp:lastModifiedBy>C.P.C.E.C.A.B.A.</cp:lastModifiedBy>
  <dcterms:modified xsi:type="dcterms:W3CDTF">2004-09-28T14:57:32Z</dcterms:modified>
  <cp:revision>5</cp:revision>
  <dc:subject/>
  <dc:title>Presentación de PowerPoint</dc:title>
</cp:coreProperties>
</file>