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339-64FE-4E9E-9ED6-B26C3B96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B11-1407-408C-80B4-AA24FFF9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109-A2F1-404F-8C9F-696B8674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224-EBAB-4B7C-A54C-D02C9D93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8A8-A06A-456B-BD4F-2FDE967B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388-5F72-47A5-B7AB-264F3118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D72-9B2A-4513-BAEB-1F67E69E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6C1-E1CB-4652-A8B3-7F2FDD1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486-8DE1-4377-B757-A63CA820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B8F-06E3-4597-BC76-F85675BC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23F-E2A5-49FB-A401-A082563F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D5D-2A93-4484-AC84-725941D8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CDC6-48C3-40E5-9C2E-05AB608E44D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lud.bayer.es/images/contactenos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aleriaexito.com/images/lamg/desafio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spm.com.ar/contenidos/spm_planes_individuales.php" TargetMode="External"/><Relationship Id="rId3" Type="http://schemas.openxmlformats.org/officeDocument/2006/relationships/image" Target="../media/image19.png"/><Relationship Id="rId4" Type="http://schemas.openxmlformats.org/officeDocument/2006/relationships/hyperlink" Target="http://images.google.com.ar/imgres?imgurl=www.agenciaperu.com/graficos/equipo.jpg&amp;imgrefurl=http://www.agenciaperu.com/agencia.htm&amp;h=201&amp;w=337&amp;prev=/images%3Fq%3Dequipo%26svnum%3D10%26hl%3Des%26lr%3D%26ie%3DUTF-8%26oe%3DUTF-8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alud.bayer.es/images/foro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89720" y="617220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913680"/>
            <a:chOff x="0" y="0"/>
            <a:chExt cx="9144000" cy="91368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9144000" cy="913680"/>
            </a:xfrm>
            <a:prstGeom prst="rect">
              <a:avLst/>
            </a:prstGeom>
            <a:solidFill>
              <a:srgbClr val="560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0"/>
              <a:ext cx="9144000" cy="913680"/>
            </a:xfrm>
            <a:prstGeom prst="rect">
              <a:avLst/>
            </a:prstGeom>
            <a:solidFill>
              <a:srgbClr val="560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Media Jornada sobre Planeamiento y Control de Gestión en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Empresas de Servicios Públ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838080"/>
            <a:ext cx="9144000" cy="244440"/>
            <a:chOff x="0" y="838080"/>
            <a:chExt cx="9144000" cy="244440"/>
          </a:xfrm>
        </p:grpSpPr>
        <p:sp>
          <p:nvSpPr>
            <p:cNvPr id="48" name=""/>
            <p:cNvSpPr/>
            <p:nvPr/>
          </p:nvSpPr>
          <p:spPr>
            <a:xfrm>
              <a:off x="0" y="838080"/>
              <a:ext cx="9144000" cy="244440"/>
            </a:xfrm>
            <a:prstGeom prst="rect">
              <a:avLst/>
            </a:prstGeom>
            <a:solidFill>
              <a:srgbClr val="f1b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838080"/>
              <a:ext cx="9144000" cy="244440"/>
            </a:xfrm>
            <a:prstGeom prst="rect">
              <a:avLst/>
            </a:prstGeom>
            <a:solidFill>
              <a:srgbClr val="f1b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iudad Autónoma de Buenos Aires, 22 de septiembre de 2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bd45"/>
                </a:solidFill>
                <a:latin typeface="Verdana"/>
                <a:ea typeface="Arial"/>
              </a:rPr>
              <a:t>Organizado por:</a:t>
            </a:r>
            <a:br>
              <a:rPr sz="1600"/>
            </a:br>
            <a:r>
              <a:rPr b="1" lang="en-US" sz="1600" spc="-1" strike="noStrike">
                <a:solidFill>
                  <a:srgbClr val="808080"/>
                </a:solidFill>
                <a:latin typeface="Verdana"/>
                <a:ea typeface="Arial"/>
              </a:rPr>
              <a:t>Instituto Argentino de la Energía Gral. Mosconi y</a:t>
            </a:r>
            <a:br>
              <a:rPr sz="1600"/>
            </a:br>
            <a:r>
              <a:rPr b="1" lang="en-US" sz="1600" spc="-1" strike="noStrike">
                <a:solidFill>
                  <a:srgbClr val="808080"/>
                </a:solidFill>
                <a:latin typeface="Verdana"/>
                <a:ea typeface="Arial"/>
              </a:rPr>
              <a:t>Consejo Profesional de Ciencias Económicas de la Ciudad de Buenos 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03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133720" cy="492120"/>
          </a:xfrm>
          <a:prstGeom prst="rect">
            <a:avLst/>
          </a:prstGeom>
          <a:ln w="0">
            <a:noFill/>
          </a:ln>
        </p:spPr>
      </p:pic>
      <p:pic>
        <p:nvPicPr>
          <p:cNvPr id="53" name="consejo%20profesional%20de%20ciencias%20ec.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7400" y="3733920"/>
            <a:ext cx="464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News Gothic MT"/>
              </a:rPr>
              <a:t>Responsabilidad Social Empres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457200"/>
            <a:ext cx="8953560" cy="5915160"/>
            <a:chOff x="0" y="457200"/>
            <a:chExt cx="8953560" cy="5915160"/>
          </a:xfrm>
        </p:grpSpPr>
        <p:sp>
          <p:nvSpPr>
            <p:cNvPr id="94" name=""/>
            <p:cNvSpPr/>
            <p:nvPr/>
          </p:nvSpPr>
          <p:spPr>
            <a:xfrm>
              <a:off x="228600" y="3840120"/>
              <a:ext cx="487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News Gothic MT"/>
                </a:rPr>
                <a:t>Fuente: 20 de Septiembre de 2004/ www.europapress.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457200"/>
              <a:ext cx="8953560" cy="5915160"/>
              <a:chOff x="0" y="457200"/>
              <a:chExt cx="8953560" cy="59151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0" y="2209680"/>
                <a:ext cx="6019560" cy="1143000"/>
                <a:chOff x="0" y="2209680"/>
                <a:chExt cx="6019560" cy="11430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0" y="2209680"/>
                  <a:ext cx="6019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0" y="2209680"/>
                  <a:ext cx="601956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News Gothic MT"/>
                      <a:ea typeface="Arial"/>
                    </a:rPr>
                    <a:t>        </a:t>
                  </a:r>
                  <a:r>
                    <a:rPr b="1" lang="en-US" sz="1600" spc="-1" strike="noStrike">
                      <a:solidFill>
                        <a:srgbClr val="3333cc"/>
                      </a:solidFill>
                      <a:latin typeface="News Gothic MT"/>
                      <a:ea typeface="Arial"/>
                    </a:rPr>
                    <a:t>Carrefour se convierte en la primera cadena de hipermercados en ofrecer bolsas reutilizables en toda su red</a:t>
                  </a:r>
                  <a:br>
                    <a:rPr sz="1600"/>
                  </a:b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200" y="2971800"/>
                <a:ext cx="8381520" cy="1143000"/>
                <a:chOff x="457200" y="2971800"/>
                <a:chExt cx="8381520" cy="1143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57200" y="2971800"/>
                  <a:ext cx="838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200" y="2971800"/>
                  <a:ext cx="838152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News Gothic MT"/>
                      <a:ea typeface="Arial"/>
                    </a:rPr>
                    <a:t>Los jueces australianos paralizan la construcción de una planta eléctrica de carbón debido a sus emisiones de gas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2" name="contactenos" descr="">
                <a:hlinkClick r:id="rId1"/>
              </p:cNvPr>
              <p:cNvPicPr/>
              <p:nvPr/>
            </p:nvPicPr>
            <p:blipFill>
              <a:blip r:embed="rId2"/>
              <a:srcRect l="0" t="0" r="0" b="17440"/>
              <a:stretch/>
            </p:blipFill>
            <p:spPr>
              <a:xfrm>
                <a:off x="6095880" y="457200"/>
                <a:ext cx="2857680" cy="21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274680" y="609480"/>
                <a:ext cx="370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News Gothic MT"/>
                  </a:rPr>
                  <a:t>Experiencias Concret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2960" y="4468680"/>
                <a:ext cx="80780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News Gothic MT"/>
                  </a:rPr>
                  <a:t>Walt Disney: establece conducta ética y responsable en sus operacion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News Gothic MT"/>
                  </a:rPr>
                  <a:t>( </a:t>
                </a:r>
                <a:r>
                  <a:rPr b="1" i="1" lang="es-ES" sz="1600" spc="-1" strike="noStrike">
                    <a:solidFill>
                      <a:srgbClr val="3333cc"/>
                    </a:solidFill>
                    <a:latin typeface="News Gothic MT"/>
                  </a:rPr>
                  <a:t>no emplear niños ni mano de obra forzada o involuntaria- tratar a los emple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3333cc"/>
                    </a:solidFill>
                    <a:latin typeface="News Gothic MT"/>
                  </a:rPr>
                  <a:t>Con dignidad y respeto- no discriminar al proceder a la contratación de personal 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4400" y="5769000"/>
                <a:ext cx="6548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News Gothic MT"/>
                  </a:rPr>
                  <a:t>  </a:t>
                </a:r>
                <a:r>
                  <a:rPr b="1" lang="es-ES" sz="1600" spc="-1" strike="noStrike">
                    <a:solidFill>
                      <a:srgbClr val="3333cc"/>
                    </a:solidFill>
                    <a:latin typeface="News Gothic MT"/>
                  </a:rPr>
                  <a:t>Ford: procura que los jóvenes mejoren su pericia en el manej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05320" y="6095880"/>
                <a:ext cx="449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8080"/>
                    </a:solidFill>
                    <a:latin typeface="News Gothic MT"/>
                  </a:rPr>
                  <a:t>Fuente: IARSE. Casos internacionales y nacionales.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457200" y="1295280"/>
                <a:ext cx="5562360" cy="856440"/>
                <a:chOff x="457200" y="1295280"/>
                <a:chExt cx="5562360" cy="8564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57200" y="1295280"/>
                  <a:ext cx="55623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News Gothic MT"/>
                    </a:rPr>
                    <a:t>Asociación de Distribuidores de Energía Eléc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News Gothic MT"/>
                    </a:rPr>
                    <a:t>de la República de la Argentina (ADEERA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950640" y="1814400"/>
                  <a:ext cx="1598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808080"/>
                      </a:solidFill>
                      <a:latin typeface="Times New Roman"/>
                    </a:rPr>
                    <a:t>www.adeera.co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80880" y="914400"/>
          <a:ext cx="8305920" cy="52624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5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Responsabilidad Social Empresaria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lementos estratégicos para su implement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6cc"/>
                    </a:solidFill>
                  </a:tcPr>
                </a:tc>
              </a:tr>
              <a:tr h="366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DERAZGO y DIRECCIÓN POR VAL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CION COMPARTIDA CON EL CONTEXTO DE LA ORGANIZ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CION Y MOTIVACIÓN A TODO EL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BORACION DE DOCUMENTOS/BASE DEL PROGR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 ORGANIZATIVA Y RECURSOS PARA EL PROGR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OCIMIENTOS Y SINTONIZACION CON EL ENTORNO INTERNO Y EXTERNO DE LA ORGAN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ORIENTACION DE LAS ACTIVIDADES DE RELEVANCIA PARA LA GESTION DE LA RESPONSABILIDAD SOCIAL EMPRESARIA EN LA ORGANIZ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ACION DE ACTIVIDADES ESPECIFICAS PARA MEJORAR EN FORMA TANGIBLE. MONITORIZ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6019920" y="6445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News Gothic MT"/>
              </a:rPr>
              <a:t>Dra. C.P. María Cristina</a:t>
            </a:r>
            <a:r>
              <a:rPr b="1" lang="es-MX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News Gothic MT"/>
              </a:rPr>
              <a:t>Ferr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52280" y="228600"/>
            <a:ext cx="8844120" cy="5600880"/>
            <a:chOff x="152280" y="228600"/>
            <a:chExt cx="8844120" cy="5600880"/>
          </a:xfrm>
        </p:grpSpPr>
        <p:sp>
          <p:nvSpPr>
            <p:cNvPr id="113" name=""/>
            <p:cNvSpPr/>
            <p:nvPr/>
          </p:nvSpPr>
          <p:spPr>
            <a:xfrm>
              <a:off x="457200" y="1219320"/>
              <a:ext cx="45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Demi Cond"/>
                </a:rPr>
                <a:t>Maestro del cambi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5410080"/>
              <a:ext cx="8381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 COMPARTEN EL MERITO Y EL RECONOC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" y="5029200"/>
              <a:ext cx="83818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) PERSISTIR, PERSEVER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" y="4626000"/>
              <a:ext cx="838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) HABILIDAD PARA CREAR EL EQUIPO QUE GESTIONARA EL CAMB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" y="4191120"/>
              <a:ext cx="8381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) HABILIDAD PARA CREAR UNA RED DE APOYO AL CAMB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3657600"/>
              <a:ext cx="8381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) HABILIDAD PARA COMUNICAR UNA VISION CONVINC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" y="3276720"/>
              <a:ext cx="8381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UESTIONAN EL FUNCIONAMIENTO DEL PROGRA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280" y="2819520"/>
              <a:ext cx="83822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 SINTONIZADOS CON EL MEDIO Y CONOCEDORES DEL MIS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desafio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86600" y="228600"/>
              <a:ext cx="1909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38200" y="45720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OL DEL LÍD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589720" y="6324480"/>
            <a:ext cx="35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2011320"/>
            <a:chOff x="0" y="0"/>
            <a:chExt cx="9144000" cy="2011320"/>
          </a:xfrm>
        </p:grpSpPr>
        <p:pic>
          <p:nvPicPr>
            <p:cNvPr id="125" name="01%20copy" descr=""/>
            <p:cNvPicPr/>
            <p:nvPr/>
          </p:nvPicPr>
          <p:blipFill>
            <a:blip r:embed="rId1"/>
            <a:stretch/>
          </p:blipFill>
          <p:spPr>
            <a:xfrm>
              <a:off x="6629400" y="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0" y="228600"/>
              <a:ext cx="735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News Gothic MT"/>
                </a:rPr>
                <a:t>Debe mi organización ser responsable de...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45440" y="4038480"/>
            <a:ext cx="9088560" cy="2288520"/>
            <a:chOff x="145440" y="4038480"/>
            <a:chExt cx="9088560" cy="2288520"/>
          </a:xfrm>
        </p:grpSpPr>
        <p:sp>
          <p:nvSpPr>
            <p:cNvPr id="128" name=""/>
            <p:cNvSpPr/>
            <p:nvPr/>
          </p:nvSpPr>
          <p:spPr>
            <a:xfrm>
              <a:off x="435960" y="4038480"/>
              <a:ext cx="289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News Gothic MT"/>
                </a:rPr>
                <a:t>Aspectos extern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440" y="4572000"/>
              <a:ext cx="908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News Gothic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Medio ambiente: </a:t>
              </a:r>
              <a:r>
                <a:rPr b="0" lang="en-US" sz="1800" spc="-1" strike="noStrike">
                  <a:solidFill>
                    <a:srgbClr val="000000"/>
                  </a:solidFill>
                  <a:latin typeface="News Gothic MT"/>
                </a:rPr>
                <a:t>reducir la contaminación, ahorrar energía, calidad de v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1040" y="5029200"/>
              <a:ext cx="76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News Gothic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Gestión del Producto/ Servicio: </a:t>
              </a:r>
              <a:r>
                <a:rPr b="0" lang="en-US" sz="1600" spc="-1" strike="noStrike">
                  <a:solidFill>
                    <a:srgbClr val="000000"/>
                  </a:solidFill>
                  <a:latin typeface="News Gothic MT"/>
                </a:rPr>
                <a:t>respeto por el cliente exter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3400" y="5486400"/>
              <a:ext cx="63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News Gothic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Mercados y Marketing: </a:t>
              </a:r>
              <a:r>
                <a:rPr b="0" lang="en-US" sz="1800" spc="-1" strike="noStrike">
                  <a:solidFill>
                    <a:srgbClr val="000000"/>
                  </a:solidFill>
                  <a:latin typeface="News Gothic MT"/>
                </a:rPr>
                <a:t>elección y plan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5440" y="5867280"/>
              <a:ext cx="551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News Gothic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Empleo: </a:t>
              </a:r>
              <a:r>
                <a:rPr b="0" lang="en-US" sz="1800" spc="-1" strike="noStrike">
                  <a:solidFill>
                    <a:srgbClr val="000000"/>
                  </a:solidFill>
                  <a:latin typeface="News Gothic MT"/>
                </a:rPr>
                <a:t>conservación de puestos de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9200" y="1676520"/>
            <a:ext cx="6020640" cy="1922760"/>
            <a:chOff x="259200" y="1676520"/>
            <a:chExt cx="6020640" cy="1922760"/>
          </a:xfrm>
        </p:grpSpPr>
        <p:sp>
          <p:nvSpPr>
            <p:cNvPr id="134" name=""/>
            <p:cNvSpPr/>
            <p:nvPr/>
          </p:nvSpPr>
          <p:spPr>
            <a:xfrm>
              <a:off x="259200" y="1676520"/>
              <a:ext cx="6020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News Gothic MT"/>
                </a:rPr>
                <a:t>Aspectos intern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News Gothic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Código de É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News Gothic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Bienestar y Condiciones labor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News Gothic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News Gothic MT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News Gothic MT"/>
                </a:rPr>
                <a:t>Desarrollo y participación de los emple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Diseño de los procesos             </a:t>
              </a:r>
              <a:r>
                <a:rPr b="1" lang="en-US" sz="2800" spc="-1" strike="noStrike">
                  <a:solidFill>
                    <a:srgbClr val="3333cc"/>
                  </a:solidFill>
                  <a:latin typeface="News Gothic MT"/>
                </a:rPr>
                <a:t>calid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38480" y="32767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791320" y="6553080"/>
            <a:ext cx="35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728000" y="-7920"/>
            <a:ext cx="4929480" cy="2087280"/>
            <a:chOff x="1728000" y="-7920"/>
            <a:chExt cx="4929480" cy="2087280"/>
          </a:xfrm>
        </p:grpSpPr>
        <p:sp>
          <p:nvSpPr>
            <p:cNvPr id="138" name=""/>
            <p:cNvSpPr/>
            <p:nvPr/>
          </p:nvSpPr>
          <p:spPr>
            <a:xfrm>
              <a:off x="1730520" y="-792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Cultura organizacion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8000" y="523080"/>
              <a:ext cx="4929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al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onocimi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reencias - Mitos - Utopí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858000" cy="3809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5560" y="5954760"/>
            <a:ext cx="86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 culturas fuertes no suelen cambiar fácilmente, el secreto cons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 lograr una fricción constructiva en la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948200">
            <a:off x="0" y="426672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News Gothic MT"/>
              </a:rPr>
              <a:t>Ética Empresa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2000" y="1270080"/>
            <a:ext cx="54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News Gothic MT"/>
              </a:rPr>
              <a:t>Cuadro de mando</a:t>
            </a:r>
            <a:r>
              <a:rPr b="1" lang="en-US" sz="3200" spc="-1" strike="noStrike">
                <a:solidFill>
                  <a:srgbClr val="0099cc"/>
                </a:solidFill>
                <a:latin typeface="News Gothic MT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News Gothic MT"/>
              </a:rPr>
              <a:t>integ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66680" y="1752480"/>
            <a:ext cx="6782040" cy="4899240"/>
            <a:chOff x="1066680" y="1752480"/>
            <a:chExt cx="6782040" cy="4899240"/>
          </a:xfrm>
        </p:grpSpPr>
        <p:sp>
          <p:nvSpPr>
            <p:cNvPr id="145" name=""/>
            <p:cNvSpPr/>
            <p:nvPr/>
          </p:nvSpPr>
          <p:spPr>
            <a:xfrm>
              <a:off x="1066680" y="2286000"/>
              <a:ext cx="6782040" cy="1295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82760" y="1752480"/>
              <a:ext cx="6163920" cy="48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News Gothic MT"/>
                </a:rPr>
                <a:t>MAPA ESTRATÉG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News Gothic MT"/>
                </a:rPr>
                <a:t>Indicadores de RSE*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Valores y transpar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Recursos humano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Satisfacción y retención del cl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Gestión por Procesos y tecnolo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Salud, seguridad y medio amb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Econom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News Gothic MT"/>
                </a:rPr>
                <a:t>Comun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buClr>
                  <a:srgbClr val="000000"/>
                </a:buClr>
                <a:buFont typeface="News Gothic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msotw9_temp0" descr=""/>
          <p:cNvPicPr/>
          <p:nvPr/>
        </p:nvPicPr>
        <p:blipFill>
          <a:blip r:embed="rId1"/>
          <a:srcRect l="0" t="7320" r="7626" b="0"/>
          <a:stretch/>
        </p:blipFill>
        <p:spPr>
          <a:xfrm>
            <a:off x="7088040" y="0"/>
            <a:ext cx="2055960" cy="327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440" y="6462720"/>
            <a:ext cx="72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Instituto Ethos de Empresas e Responsabilidade Social de Brasil. * ( 35 íte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438280"/>
            <a:ext cx="8229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News Gothic MT"/>
              </a:rPr>
              <a:t>La aplicación de la RSE perm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Mejorar la Imagen de “marca” y presti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Incrementar la lealtad del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Desarrollar la transparencia y confia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Aumentar la cohesión interna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Reducir los costos operativos y de la “no calida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Mejorar la productividad, rentabilidad y competi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1600200"/>
            <a:ext cx="43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News Gothic MT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89720" y="63244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Invierno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 Gothic MT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News Gothic MT"/>
              </a:rPr>
              <a:t>La Responsabilidad Social Empresaria aumenta la competitividad de la organización y las compañías que apoyan el trabajo voluntario de su plantel de empleados tienen mejor productividad, porque el personal se identifica más con ell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4%20copy" descr=""/>
          <p:cNvPicPr/>
          <p:nvPr/>
        </p:nvPicPr>
        <p:blipFill>
          <a:blip r:embed="rId1"/>
          <a:stretch/>
        </p:blipFill>
        <p:spPr>
          <a:xfrm>
            <a:off x="7086600" y="5210280"/>
            <a:ext cx="2057400" cy="1647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32480" y="4902120"/>
            <a:ext cx="54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ernardo Klisksberg. “ Más ética, más desarrollo”. Temas.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amsa_planes_indiv_image_cx" descr="Planes individual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4572000"/>
            <a:ext cx="2514600" cy="1500120"/>
          </a:xfrm>
          <a:prstGeom prst="rect">
            <a:avLst/>
          </a:prstGeom>
          <a:ln w="0">
            <a:noFill/>
          </a:ln>
        </p:spPr>
      </p:pic>
      <p:pic>
        <p:nvPicPr>
          <p:cNvPr id="158" name="nosotros1" descr=""/>
          <p:cNvPicPr/>
          <p:nvPr/>
        </p:nvPicPr>
        <p:blipFill>
          <a:blip r:embed="rId6"/>
          <a:stretch/>
        </p:blipFill>
        <p:spPr>
          <a:xfrm>
            <a:off x="609480" y="228600"/>
            <a:ext cx="1981440" cy="1892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6920" y="6348240"/>
            <a:ext cx="61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News Gothic MT"/>
              </a:rPr>
              <a:t>María Cristina Ferrari</a:t>
            </a:r>
            <a:r>
              <a:rPr b="0" lang="es-ES" sz="2800" spc="-1" strike="noStrike">
                <a:solidFill>
                  <a:srgbClr val="000000"/>
                </a:solidFill>
                <a:latin typeface="News Gothic MT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News Gothic MT"/>
              </a:rPr>
              <a:t> icem@icem.com.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linas%20azul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362320" y="3200400"/>
            <a:ext cx="447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News Gothic MT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1880" y="601992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María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Cristina 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1522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2749680"/>
            <a:ext cx="8307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News Gothic MT"/>
              </a:rPr>
              <a:t>La Responsabilidad Social Empresaria es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inclusión voluntaria en las estrategias empresariales de las preocupaciones sociales y medioambiental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Es una corriente humanista que hace transparente y ética la gestión de la empresa, desde el principio hasta el fin, cuando se procuran realizar fines </a:t>
            </a:r>
            <a:r>
              <a:rPr b="1" lang="en-US" sz="2400" spc="-1" strike="noStrike">
                <a:solidFill>
                  <a:srgbClr val="ff9900"/>
                </a:solidFill>
                <a:latin typeface="News Gothic MT"/>
              </a:rPr>
              <a:t>económicos, medioambientales y so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9720" y="624852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124080" y="1904760"/>
            <a:ext cx="5639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spiciado por el Secretario General de la O.N.U., Kofi Annan, a principios de 1999, el “Pacto Mundial”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Global Compact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 es una iniciativa conjunta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330120"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Organización Internacional del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330120"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grama de la O.N.U. para el Medio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330120"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Oficina del Alto Comisionado de la O.N.U. para los Derechos Hum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he%20Global%20Compact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32720" cy="934920"/>
          </a:xfrm>
          <a:prstGeom prst="rect">
            <a:avLst/>
          </a:prstGeom>
          <a:ln w="0">
            <a:noFill/>
          </a:ln>
        </p:spPr>
      </p:pic>
      <p:pic>
        <p:nvPicPr>
          <p:cNvPr id="60" name="globalcompactniños1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2895840" cy="288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89720" y="624852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24000" y="121896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he%20Global%20Compact" descr=""/>
          <p:cNvPicPr/>
          <p:nvPr/>
        </p:nvPicPr>
        <p:blipFill>
          <a:blip r:embed="rId1"/>
          <a:stretch/>
        </p:blipFill>
        <p:spPr>
          <a:xfrm>
            <a:off x="762120" y="0"/>
            <a:ext cx="7632720" cy="93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24360" y="1371600"/>
            <a:ext cx="6119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080" indent="-316800">
              <a:spcBef>
                <a:spcPts val="1049"/>
              </a:spcBef>
              <a:spcAft>
                <a:spcPts val="1049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Pacto global deseoso de acercar el mundo empresarial a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080" indent="-316800">
              <a:spcBef>
                <a:spcPts val="1049"/>
              </a:spcBef>
              <a:spcAft>
                <a:spcPts val="1049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acto intenta aglutinar a los grandes empresarios, organizaciones cívicas, públicas,  organizaciones laborales, pequeños y medianos empr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lobalcompactniños2red" descr=""/>
          <p:cNvPicPr/>
          <p:nvPr/>
        </p:nvPicPr>
        <p:blipFill>
          <a:blip r:embed="rId2"/>
          <a:stretch/>
        </p:blipFill>
        <p:spPr>
          <a:xfrm>
            <a:off x="141120" y="2133720"/>
            <a:ext cx="3024360" cy="317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89720" y="624852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13040" y="1828440"/>
            <a:ext cx="5943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acto Mundial busca el compromiso de las empresas en la promoció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330120">
              <a:spcBef>
                <a:spcPts val="3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ones de trabajo equi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330120">
              <a:spcBef>
                <a:spcPts val="3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eto de los derech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330120">
              <a:spcBef>
                <a:spcPts val="3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rotección del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330120">
              <a:spcBef>
                <a:spcPts val="3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ón con la comun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he%20Global%20Compact" descr=""/>
          <p:cNvPicPr/>
          <p:nvPr/>
        </p:nvPicPr>
        <p:blipFill>
          <a:blip r:embed="rId1"/>
          <a:stretch/>
        </p:blipFill>
        <p:spPr>
          <a:xfrm>
            <a:off x="771480" y="768240"/>
            <a:ext cx="7632720" cy="935280"/>
          </a:xfrm>
          <a:prstGeom prst="rect">
            <a:avLst/>
          </a:prstGeom>
          <a:ln w="0">
            <a:noFill/>
          </a:ln>
        </p:spPr>
      </p:pic>
      <p:pic>
        <p:nvPicPr>
          <p:cNvPr id="69" name="globe" descr=""/>
          <p:cNvPicPr/>
          <p:nvPr/>
        </p:nvPicPr>
        <p:blipFill>
          <a:blip r:embed="rId2"/>
          <a:stretch/>
        </p:blipFill>
        <p:spPr>
          <a:xfrm>
            <a:off x="210960" y="2133720"/>
            <a:ext cx="252108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2440" y="5181480"/>
            <a:ext cx="843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News Gothic MT"/>
              </a:rPr>
              <a:t>Las empresas deben convertir su compromiso con los principios generales en estas 4 áreas en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News Gothic MT"/>
              </a:rPr>
              <a:t>prácticas concretas de gestión</a:t>
            </a:r>
            <a:r>
              <a:rPr b="0" lang="es-ES_tradnl" sz="2400" spc="-1" strike="noStrike">
                <a:solidFill>
                  <a:srgbClr val="3333cc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9720" y="624852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657600" y="1600200"/>
            <a:ext cx="48052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</a:rPr>
              <a:t>Derech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Secretario General solicita al mundo empresar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etar integralmente los derechos humanos dentro de nuestra esfera de infl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2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ocurar que las personas, empresas y organizaciones en general con las cuales mantenemos relaciones respeten los derechos hum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he%20Global%20Compact" descr=""/>
          <p:cNvPicPr/>
          <p:nvPr/>
        </p:nvPicPr>
        <p:blipFill>
          <a:blip r:embed="rId1"/>
          <a:stretch/>
        </p:blipFill>
        <p:spPr>
          <a:xfrm>
            <a:off x="685800" y="704880"/>
            <a:ext cx="777240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3305160" cy="2465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521400"/>
            <a:ext cx="35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48120" y="1676520"/>
            <a:ext cx="5602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Ámbito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3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segurar el respeto a las leyes laborales, la libertad de asociación y el efectivo reconocimiento de los resultados de las negociaciones colectivas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4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liminar toda forma de trabajo for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5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segurar la total abolición del trabajo de menores de 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6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liminar todo tipo de discriminación en el emp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The%20Global%20Compact" descr=""/>
          <p:cNvPicPr/>
          <p:nvPr/>
        </p:nvPicPr>
        <p:blipFill>
          <a:blip r:embed="rId1"/>
          <a:stretch/>
        </p:blipFill>
        <p:spPr>
          <a:xfrm>
            <a:off x="685800" y="704880"/>
            <a:ext cx="777240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1120" y="2286000"/>
            <a:ext cx="2813040" cy="2300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89720" y="6553080"/>
            <a:ext cx="35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352680" y="1066680"/>
            <a:ext cx="5556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3333cc"/>
                </a:solidFill>
                <a:uFillTx/>
                <a:latin typeface="Times New Roman"/>
              </a:rPr>
              <a:t>Medio Amb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l Secretario General solicita al mundo empresarial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7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optar una actitud prudente ante los temas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8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doptar iniciativas que promuevan una actitud de mayor responsabilidad hacia el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9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oyar el desarrollo y la difusión de tecnologías que no dañen al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he%20Global%20Compact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0960" y="2362320"/>
            <a:ext cx="3094200" cy="244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8160" y="579132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io 1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s empresas deben trabajar en contra de todas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s de corrupción, incluyendo la extorsión y el sobo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6553080"/>
            <a:ext cx="35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Dra. CP María Cristina Ferr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0040" y="533412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nti- Corru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447920"/>
            <a:ext cx="91882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Conceptos cla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Liderazgo y Dirección por Val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 Gothic MT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News Gothic MT"/>
              </a:rPr>
              <a:t>Ético (compromiso) Económico (Calidad)  Emocional (calide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2. Ética empresarial: como parte de la dirección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3. Resultados de progreso: en términos de desarrollo hum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y no de producto br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4. Perspectivas a mediano y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5. Invertir en las com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99120" y="6273720"/>
            <a:ext cx="62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ro: el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spíritu de la empresa sigue v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43720" y="838080"/>
            <a:ext cx="70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News Gothic MT"/>
              </a:rPr>
              <a:t>¿Buenas palabras o buen trabaj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35520" y="0"/>
            <a:ext cx="5574240" cy="825120"/>
            <a:chOff x="2135520" y="0"/>
            <a:chExt cx="5574240" cy="825120"/>
          </a:xfrm>
        </p:grpSpPr>
        <p:sp>
          <p:nvSpPr>
            <p:cNvPr id="90" name=""/>
            <p:cNvSpPr/>
            <p:nvPr/>
          </p:nvSpPr>
          <p:spPr>
            <a:xfrm>
              <a:off x="3655080" y="228600"/>
              <a:ext cx="405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strategia de la Organiz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5520" y="0"/>
              <a:ext cx="1569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RSE: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foros" descr="">
            <a:hlinkClick r:id="rId1"/>
          </p:cNvPr>
          <p:cNvPicPr/>
          <p:nvPr/>
        </p:nvPicPr>
        <p:blipFill>
          <a:blip r:embed="rId2"/>
          <a:srcRect l="0" t="0" r="0" b="12041"/>
          <a:stretch/>
        </p:blipFill>
        <p:spPr>
          <a:xfrm>
            <a:off x="0" y="0"/>
            <a:ext cx="17524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8:35:43Z</dcterms:created>
  <dc:creator>Puesto 2</dc:creator>
  <dc:description/>
  <dc:language>en-US</dc:language>
  <cp:lastModifiedBy>C.P.C.E.C.A.B.A.</cp:lastModifiedBy>
  <dcterms:modified xsi:type="dcterms:W3CDTF">2004-09-28T15:07:43Z</dcterms:modified>
  <cp:revision>41</cp:revision>
  <dc:subject/>
  <dc:title>Presentación de PowerPoint</dc:title>
</cp:coreProperties>
</file>