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C01-2F39-4EB9-9515-10FF3D4D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09D-DC13-4F25-83E2-66180CB7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77EA-7BDD-472F-A5ED-EA43B32E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02D-6448-4E08-BB71-1552DDC7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E3A0-3246-4C12-A7F2-6322C9B2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5425-C70B-4E63-B160-2ADD2DCC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3DF5-6CEB-46C1-951D-5E13168C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D9B0-4414-48C2-9603-D68874A2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B8D2-EF11-4D9E-81A3-08856AD4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B538-6863-4108-8951-A4229F84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1F2F-5C20-47A6-8F68-5BBA853E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F6F-6AB2-4E3A-9DE3-4AB2E819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5D3E-8B4C-4536-8B2A-4DE4822D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F950-C6F5-4C8B-A72A-1882C298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EC29-81D5-4A53-B8EB-0AD1789D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4FC8-0153-49CA-862D-B232F594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FA52-FDAE-496A-9CE0-65F72729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794-410B-4F3F-A276-E185131E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383-E22F-4F0D-8268-7F558AA7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6B7-94E8-4B98-BA5D-362A18F3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7A7-5FAF-4073-884C-2274BE28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0C8-D8B2-42AB-8D41-5C562F20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EF2-F1CB-4FB1-8C63-29A95A93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85A-F6A2-48AC-9F72-DFFC11B4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1A5F-47C9-4751-81CD-F4F2C630DB9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0313-89F8-4332-930C-B834FA5BD9D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ADMINISTRACION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ASOCIACIONES CIVILES Y FUNDACI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609480"/>
            <a:ext cx="3352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ffffff"/>
                </a:solidFill>
                <a:latin typeface="Garamond"/>
                <a:ea typeface="Times New Roman"/>
              </a:rPr>
              <a:t>CONGRESO DE ADMINISTRACIÓN UB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i="1" lang="es-ES_tradnl" sz="1100" spc="-1" strike="noStrike">
                <a:solidFill>
                  <a:srgbClr val="ffffff"/>
                </a:solidFill>
                <a:latin typeface="Times New Roman"/>
              </a:rPr>
              <a:t>3 de Noviembre de 200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48000" y="2343240"/>
            <a:ext cx="7369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666880" cy="685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0120" y="609480"/>
            <a:ext cx="581040" cy="57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DISTRIBUCION PORCENTUAL DE LAS OSC DEL PAÍS</a:t>
            </a:r>
            <a:br>
              <a:rPr sz="3600"/>
            </a:b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0" lang="es-ES_tradnl" sz="2800" spc="-1" strike="noStrike">
                <a:solidFill>
                  <a:srgbClr val="ffcc66"/>
                </a:solidFill>
                <a:latin typeface="Arial"/>
              </a:rPr>
              <a:t>Por tipo de Organización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828800"/>
          <a:ext cx="8699400" cy="43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699400" cy="43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133720" y="624852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Fuente: Base de datos del CENOC.  Agosto de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52480" y="30132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24240" y="4537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62120" y="46101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1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5600" y="42051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8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4040" y="37958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37000" y="24526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3680" y="3086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75600" y="267804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4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4920" y="2498760"/>
            <a:ext cx="37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imes New Roman"/>
              </a:rPr>
              <a:t>3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7720" y="346536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cc66"/>
                </a:solidFill>
                <a:latin typeface="Arial"/>
              </a:rPr>
              <a:t>OSC DEL PAIS SEGÚN FUENTE DE FINANCIAMIENTO</a:t>
            </a:r>
            <a:endParaRPr b="0" lang="en-US" sz="3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195280" y="4384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23880" y="2708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3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62320" y="278460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19520" y="3262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48120" y="36226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24440" y="41004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6400800"/>
            <a:ext cx="60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Fuente: Base de datos del CENOC.  Agosto de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OSC DEL PAÍS SEGÚN PRINCIPALES ÁREAS TEMÁTICA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523880"/>
          <a:ext cx="887256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887256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914400" y="63244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6400800"/>
            <a:ext cx="60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Fuente: Base de datos del CENOC.  Agosto de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360" y="342900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38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99120" y="496404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17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08400" y="46594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14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8480" y="3809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80880" y="31608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480" y="25909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OSC DEL PAÍS SEGÚN PRINCIPAL POBLACIÓN OBJETIVO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9840" y="1973160"/>
          <a:ext cx="8589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1973160"/>
                    <a:ext cx="8589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914400" y="6324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6400800"/>
            <a:ext cx="60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Fuente: Base de datos del CENOC.  Agosto de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5000" y="2666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24080" y="42321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09680" y="49179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3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71600" y="49179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61400" y="29098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85800" y="40006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6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14400" y="45338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7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48280" y="24750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4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09840" y="34909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2880" y="25909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4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57760" y="227016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53200" y="227016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PERSONAS QUE TRABAJAN EN LAS OSC DEL PAÍS POR SEXO </a:t>
            </a:r>
            <a:br>
              <a:rPr sz="32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Y SEGÚN TIPO DE INSERCIÓ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9480" y="1981080"/>
          <a:ext cx="3998880" cy="42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3998880" cy="42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876920" y="2057400"/>
          <a:ext cx="3886200" cy="40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057400"/>
                    <a:ext cx="38862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525320" y="38862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9160" y="29718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1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1520" y="4114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8200" y="36576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632448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Fuente: Base de datos del CENOC.  Agosto de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IMPORTANCIA DEL TERCER SECTOR</a:t>
            </a:r>
            <a:br>
              <a:rPr sz="4000"/>
            </a:b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ALGUNOS DATOS DE INTER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 TRILLON DE DOLARES MUEVE EL TERCER SECTOR EN EL MUNDO (12.000 MILLONES EN GASTOS OPERATIVOS EN LA ARGENT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00.000 PERSONAS EMPLEADAS EN ESTE SECTOR EN LA ARGENTINA (19 MILLONES EN EL RESTO DEL MUN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 MILLONES DE VOLUNTARIOS (NO RENTADOS) PRESTAN SERVICIOS EN LA ARGENTINA (VARIOS CENTENARES EN EL RESTO DEL MUN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PARTICIPACION EN ESTAS ORGANIZACION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)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FES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ASESOR EXTERNO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Auditor Extern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Asesor en Obtención de Fon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Consultor Organiz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Diseño y Preparación de Proyectos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olida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ASESOR INTERNO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Cont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Auditor Inte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) MIEMBRO ORG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ISCALIZACION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Revisor de Cuen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PARTICIPACION EN ESTAS ORGANIZACION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I) PERS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MIEMBRO ORG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DIRECCION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Comisión Direct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Consejo de Adminis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Junta Ejecut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MIEMBRO DE 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STITUCION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* Asoci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Volunt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Don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Emple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OMISIONES DIRECTIV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CUMPLIMIENTO DE LA MIS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OGRAR LA SUSTENTABILIDAD           FINANCIER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BUSQUEDA DE VOLUNTAR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CUIDADO DE LA IMAGEN PUBLICA DE LA INSTITUC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MANTENER UNA BUENA RELACION CON EL STAFF DE LA ORGANIZA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VOLUNTARIADO</a:t>
            </a:r>
            <a:br>
              <a:rPr sz="4400"/>
            </a:b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ETAP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LE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CORPOR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ORMACION Y CAPACI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GU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UNICACIÓN Y PARTICIP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SECTOR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IMER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EST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PUBL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FINES NO LUCRA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ADHESION OBLIGAT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GUNDO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EMPRESA –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PRIV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FINES LUCRA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ADHESION VOLUNT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RCER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ORGANIZACIONES – ENT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PRIV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FINES NO LUCRATIVOS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* ADHESION VOLUNTARIA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ERFIL DEL VOLUNTARI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ONESTO, RESPONSABLE Y L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FUNDA CONV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ARROLLADA LA ACTITUD DE SERV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BILIDAD PARA COMUNICA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PACIDAD DE VISUALIZAR LOS OBJETIVOS DE LA 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1" i="1" lang="es-ES_tradnl" sz="1000" spc="-1" strike="noStrike">
                <a:solidFill>
                  <a:srgbClr val="ffffff"/>
                </a:solidFill>
                <a:latin typeface="Times New Roman"/>
              </a:rPr>
              <a:t>(G. Lanzetti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RECHOS DEL VOLUNTARI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 RESPETADO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RECIBIR APOYO PARA SU TARE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TENER ACCESO A LA INFORMACION RELACIONADA CON SU TARE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 RECONOCI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TENER LA OPORTUNIDAD PARA EXTERIORIZAR SUS CONOCIMIENTOS Y EXPERIENC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s-ES_tradnl" sz="1000" spc="-1" strike="noStrike">
                <a:solidFill>
                  <a:srgbClr val="ffffff"/>
                </a:solidFill>
                <a:latin typeface="Times New Roman"/>
              </a:rPr>
              <a:t>(G. Lanzetti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ALGUNOS DEBERES DEL VOLUNTARI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PETAR LOS VALORES Y CREENCIAS DE LAS PERSONAS PARA LAS CUALES TRABA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NTENER RESERVA SOBRE LA INFORMACION QUE MANE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UNICAR CON TIEMPO SU DESEO DE RETIRARSE </a:t>
            </a:r>
            <a:r>
              <a:rPr b="1" i="1" lang="es-ES_tradnl" sz="1000" spc="-1" strike="noStrike">
                <a:solidFill>
                  <a:srgbClr val="ffffff"/>
                </a:solidFill>
                <a:latin typeface="Times New Roman"/>
              </a:rPr>
              <a:t>(G. Lanzetti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OBTENCION DE FONDOS</a:t>
            </a:r>
            <a:br>
              <a:rPr sz="4000"/>
            </a:b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TIPOS DE APORT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PORTES DINER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PORTES NO DINER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BA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ONES O VINCUL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ACIONES EN ESPEC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FUENTES DE FINANCIAMIENT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DE 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UBSID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ENCIONES IMPOSITIVAS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INDIRECTAMEN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DE LA ORGAN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OTAS SO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V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STACION DE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FUENTES DE FINANCIAMIENTO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DE FUERA DE LA ORGAN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ONACIONES (PERSONAS / EMPRES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NG’S (NACIONALES / DEL EXTERI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TRAS FO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IANZAS ESTRATEG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TITUCIÓN DE FONDOS PATRIMON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LANIFICAC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RKETING FILANTRÓP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MPAÑAS DE RECAUDACIÓN DE FON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ADMINISTRACIÓN FINANCIER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N DE NEGO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UPUESTOS – PROYEC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LUJO DE FONDOS – EO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N DE INVER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ERRAMIENTAS DE GESTIÓN Y CONTROL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TABLERO DE COMANDO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MARKETING FILANTRÓP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U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HERENCIA CON LA M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DENTIFICACIÓN DEL USU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MARKETING 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FILANTRÓP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ARIABLES A TENER EN CU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EOGRÁF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MOGRÁF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SICOLÓG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OMINACI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idades u Organizaciones sin Fines de Luc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ganizaciones no Gubernamentales (O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ganizaciones de la Sociedad Civ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ganizaciones del Tercer S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ganizaciones con Fines So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ganizaciones de la Economía So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ganizaciones de la Comun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MARKETING 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FILANTRÓP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EMENTOS A CONSIDER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EL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PERSONAS EN CONTACTO CON EL PÚ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PACIO FÍSICO DONDE SE DESARROLLA LA A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USU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SERV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MARKETING 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FILANTRÓP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DENTIFICACIÓN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SUS NECES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GME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CONTEXTO EX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PLAN DE MARK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ETICA Y TRANSPARENC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...MIENTRAS LA ÉTICA TIENE QUE VER CON LA ACCIÓ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...LA TRANSPARENCIA TIENE QUE VER CON LA COMUN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1" i="1" lang="es-ES_tradnl" sz="1000" spc="-1" strike="noStrike">
                <a:solidFill>
                  <a:srgbClr val="ffffff"/>
                </a:solidFill>
                <a:latin typeface="Times New Roman"/>
              </a:rPr>
              <a:t>(G. Arboleya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ONDUCTA ÉTICA Y TRANSPAREN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MPLIR LA MIS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PETAR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ROLAR Y SANCIONAR A QUIENES NO CUMPLAN CON LAS NORM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NDIR CUENTAS MEDIANTE UNA ADECUADA INFORMACIÓN DE LA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COMPONENTES DE UNA ORGANIZACIÓN TRANSPARENT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STEMA DE INFORM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ISTENCIA DE CONTR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FESIONALIZACION DE LAS FUNCIONES CL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SISTEMAS DE INFORM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TA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U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FORME AN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TROS INFORMES INTER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CTAMENES AUDITORÍA EX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LIFICACIONES ORG. PUB. Y PRI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BLERO DE COMA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8298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MEMORIA ANUA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bor cumplida por las distintas Comisiones y resultados obten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ovimiento de Asociados del perío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s relevantes relacionados con la misión y soluciones impleme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mplementación de nuevos Programas y nuevos servicios a los asociados y/o a la Comun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lación con Organismos Públicos y con otras Instituciones similares, del país y del exteri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MEMORIA ANUA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mbios en la composición de la Comisión Direc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icaciones detalladas de algunos rubros del Balance Gener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puesta relacionada con los resultados del ejercicio, sean estos positivos o neg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yectos de la ent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adísticas varias y otras informaciones que se deseen hacer sab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ENCUADRE NORMATIV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SPECTOS JURÍDICOS MÁS RELEV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SOCIACIONES CIVILES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ART. 33 COD.CIVI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UNDACIONES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LEY 19.836/7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SPECCIÓN GENERAL DE JUSTI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NORMA MÁS RELEVANTE: RESOLUCIÓN 6/8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REGULACIONES Y NORMATIVAS EMANADAS DE LA IGJ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838080" y="1533600"/>
          <a:ext cx="7391520" cy="471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33600"/>
                    <a:ext cx="739152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ARACTERISTIC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UCTUR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esencia de cierto grado de forma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ermanencia en el 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IV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ormalmente separadas d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UTOGOBERN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apacidad de manejar sus propias activ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apacidad de elegir sus propias autor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ENCUADRE NORMATIV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SPECTOS CONTABLES MÁS RELEV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T 11 MODIFICADA POR RT 1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VIGEN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ENCUADRE NORMATIV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SPECTOS IMPOSITIVOS MÁS RELEV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MPUESTO A LAS GANA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UJETO DEL IMPUESTO - EXENTO POR ART.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INSCRIBIRSE Y SOLICITAR RECONOCI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BLIGACIONES DE RETE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BLIGACIONES DE INFOR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ADMINISTRACION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ASOCIACIONES CIVILES Y FUNDACI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609480"/>
            <a:ext cx="3352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ffffff"/>
                </a:solidFill>
                <a:latin typeface="Garamond"/>
                <a:ea typeface="Times New Roman"/>
              </a:rPr>
              <a:t>CONGRESO DE ADMINISTRACIÓN UB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i="1" lang="es-ES_tradnl" sz="1100" spc="-1" strike="noStrike">
                <a:solidFill>
                  <a:srgbClr val="ffffff"/>
                </a:solidFill>
                <a:latin typeface="Times New Roman"/>
              </a:rPr>
              <a:t>3 de Noviembre de 200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48000" y="2343240"/>
            <a:ext cx="7369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666880" cy="6858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620120" y="609480"/>
            <a:ext cx="581040" cy="57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ARACTERISTIC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N DISTRIBUCION DE BENEF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as ganancias de la institución no se distribuyen entre sus miemb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OLUNTAR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 libre afili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 FIN ALTRU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sociaciones Civiles: hacia adentro y afu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undaciones: hacia afuer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CARACTERISTICAS DE LAS ASOCIACIONES CIVILES Y FUNDACION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251424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BJETO DE BIEN COM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SENCIA DE FINALIDAD LUC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TRIMONIO PROP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4-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PACIDAD PARA ADQUIRIR DERECH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Y CONTRAER OBLIG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-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TORIZACION ESTATAL PARA FUNCION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-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MPOSIBILIDAD DE SUBSISTIR UNICAMEN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 ASIGNACIONES DEL ESTA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SIMILITUDES CON LAS</a:t>
            </a:r>
            <a:br>
              <a:rPr sz="3600"/>
            </a:b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EMPRESAS LUCRATIVA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TORIDAD DE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RGANO DE ADMINISTR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IBROS RUBRIC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SENTACION DE ESTADOS CONT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RUCTURA ORGANIZ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STEMAS Y PROCEDIMI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ON OPERATIVA Y GER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DIFERENCIAS CON LAS </a:t>
            </a:r>
            <a:br>
              <a:rPr sz="3600"/>
            </a:b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EMPRESAS </a:t>
            </a: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LUCRATIV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LTURA ORGANIZ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USENCIA DE FINALIDAD DE LUC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ORMA DE OBTENCION DE FON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CRITERIOS DE CLASIFICAC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IPO DE INSTITU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LCANCE TERRITORI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DENCIA DE FINANCI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REA TEMA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IPO DE ACTIV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IPO DE BENEFICI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RADO DE COMPLEJIDAD ORGANIZ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IPO DE PERSONAL CON EL QUE CUEN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              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00:14:23Z</dcterms:created>
  <dc:creator>PEDRO</dc:creator>
  <dc:description/>
  <dc:language>en-US</dc:language>
  <cp:lastModifiedBy>pagina</cp:lastModifiedBy>
  <dcterms:modified xsi:type="dcterms:W3CDTF">2003-11-12T20:42:23Z</dcterms:modified>
  <cp:revision>27</cp:revision>
  <dc:subject/>
  <dc:title>ADMINISTRACION DE ASOCIACIONES CIVILES Y FUNDACIONES</dc:title>
</cp:coreProperties>
</file>