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9EA-9927-4F0A-AE63-28E6CBE8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EF7-B80A-436C-9440-63A4D705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894-A4B8-48CE-943F-843ADB8F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80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778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982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380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778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C50-98BD-492C-A4DB-380AD74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E53-7ED0-4D5D-92B6-93DFA238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823D-39E8-482E-81EF-7D138CDA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365D-263D-486E-A74C-1451314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FAFD-6056-4BB5-A840-775C84D1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7D1B-E76B-4F02-9E5C-0F7F7B26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C4B8-049B-49F4-9E9A-097AA54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335-3148-4A28-8E2F-FB60E12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DB5-72E7-4669-B33E-ACDE32A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5799-02B4-4944-82E2-102F4BC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27D-0C3A-421D-BF8F-E3BD123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A56B-ED1D-48A7-86C3-D96FDFC2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5C39-552B-4129-BAF5-5F4B8706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380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977880" y="198108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982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380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977880" y="4130640"/>
            <a:ext cx="241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1E1-F240-486A-909E-528530BA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ED1-ADEB-4924-B303-771DA778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023-7AB8-4B5D-AD2F-654E748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BB3-11E1-4232-8F31-8D4AD25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B86-E3E3-4BC7-9419-08EE8E4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744-D5CE-4574-B11B-B2732AD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47760" y="413064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6AD-3B44-49FF-89E5-FBDE4A3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47760" y="1981080"/>
            <a:ext cx="366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98280" y="4130640"/>
            <a:ext cx="751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CDA-ECD7-4CCA-AC97-E5A440A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1" name=""/>
            <p:cNvSpPr/>
            <p:nvPr/>
          </p:nvSpPr>
          <p:spPr>
            <a:xfrm>
              <a:off x="1733400" y="0"/>
              <a:ext cx="8172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33400" cy="685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90576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330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20984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598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B455-420E-42DC-82B7-B7A6DAF36990}" type="slidenum">
              <a:rPr b="0" lang="en-US" sz="1400" spc="-1" strike="noStrike">
                <a:solidFill>
                  <a:srgbClr val="9966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46" name=""/>
            <p:cNvSpPr/>
            <p:nvPr/>
          </p:nvSpPr>
          <p:spPr>
            <a:xfrm>
              <a:off x="1733400" y="0"/>
              <a:ext cx="8172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733400" cy="685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90576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16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29264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B805-2D7E-4546-8621-ED8ACC5C0C2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ejandro@alejandrogonzalez.com.ar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c1c1c"/>
                </a:solidFill>
                <a:latin typeface="Tahoma"/>
              </a:rPr>
              <a:t>GESTIÓN DE CALIDAD EN LAS ORGANIZACIONES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PRESENTACIÓN EN EL CONGRESO DE ADMINISTRACIÓN U.B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ACTUALIDAD Y VISIÓN DE FUTURO DE LA ADMINISTRACIÓ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Por Alejandro González Escudero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99cc00"/>
                </a:solidFill>
                <a:uFillTx/>
                <a:latin typeface="Tahoma"/>
                <a:hlinkClick r:id="rId1"/>
              </a:rPr>
              <a:t>mailto:alejandro@alejandrogonzalez.com.ar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Coordinador: Alejandro Giacobini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360036"/>
                </a:solidFill>
                <a:uFillTx/>
                <a:latin typeface="Tahoma"/>
              </a:rPr>
              <a:t>mailto:agiaco@mecon.gov.ar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de </a:t>
            </a:r>
            <a:r>
              <a:rPr b="0" lang="es-MX" sz="2400" spc="-1" strike="noStrike">
                <a:solidFill>
                  <a:srgbClr val="360036"/>
                </a:solidFill>
                <a:latin typeface="Tahoma"/>
              </a:rPr>
              <a:t>noviembre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de 2003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698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Buenos Aires, Argentin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D70-E596-4C85-AF54-7FB7AE131B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INNOVACIÓN, CREATIVIDAD Y CAMBI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¿En que medida el management está comprometido con ellos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Resistencia al cambi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i siempre lo hicimos así y funcionó, ¿para qué cambiar?”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os directivos tienen a mantener el status quo porque están satisfechos” Andy Grov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34E-0DE9-4951-8A67-104C7246A5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LIDERAZGO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as viejas discusiones y dilemas siguen sin resolverse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Tipo de liderazgo de acuerdo con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ultura de la organizac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Actividad de la empres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Ambito social en el que se mueve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poca en que se actú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4B4-C5C1-45B7-A377-2D8031B70C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EMPOWERMENT, MOTIVACIÓN Y COACHING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¿En qué medida efectiva se delega el poder de decisión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n RRHH persisten viejas cuestiones, por ejemplo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Rendimiento restringido” experiencias de E. Mayo en Hawthorne (años ´30)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ueños de evasión”, Eli Chinoy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6F0-4E53-4E72-9FA7-480CD8E6CA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DESCENTRALIZACIÓN, TAMAÑO DE LA ORG. Y FLEXIBILIDAD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98280" y="1676160"/>
            <a:ext cx="7512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o pequeño es hermoso”.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in embargo, una gran empresa puede crear áreas que operen como PYME. 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Una PYME no se transforma en gran empres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e distribuyen las operaciones pero se concentran las decisiones y el core busines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e realizan fusiones para ganar en economías de escal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33D-F697-4E04-A082-D592B12535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SISTEMAS DE INFORMACIÓN Y COMUNICACIONES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Armonizar y estandarizar el uso de sistem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n gestión, en oficina y en aplicaciones más específic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Interfases para transferir información con clientes y provee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oncentración de ciertas funciones y de bases de da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56D-446D-47CA-9FBE-A4975AEB03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CRM Y FIDELIZACIÓN DE CLIENTES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Utilización de herramientas de sistemas para manejo de relación con los clientes (Customer relationsihip management)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Más allá de “satisfacer” a los clientes, “fidelizarlos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Ver: “El efecto de la lealtad”, F. Reichhel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0BB-BB3D-4D4D-8E4C-9769D01E13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TECNOLOGÍA. INV. Y DESARROLLO. CONOCIMIENTO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Dominio de la tecnología junto con el mercado son las claves del éxit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Tendencia a tercerizar la investigación, especialmente la “básica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Operaciones y logística totalmente co</a:t>
            </a: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n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troladas por sistemas y “trazables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apital intelectual y management del conocimient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593-EFE2-40BA-8F8B-FEABD30419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GESTIÓN DE CALIDAD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7512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0036"/>
                </a:solidFill>
                <a:latin typeface="Tahoma"/>
              </a:rPr>
              <a:t>Herramienta de gestión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0036"/>
                </a:solidFill>
                <a:latin typeface="Tahoma"/>
              </a:rPr>
              <a:t>Normas ISO 9000 en versión 2000 con un enfoque volcado al gerenciamiento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0036"/>
                </a:solidFill>
                <a:latin typeface="Tahoma"/>
              </a:rPr>
              <a:t>Modelos de los premios a la calidad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0036"/>
                </a:solidFill>
                <a:latin typeface="Tahoma"/>
              </a:rPr>
              <a:t>Valor diferenciador clav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0036"/>
                </a:solidFill>
                <a:latin typeface="Tahoma"/>
              </a:rPr>
              <a:t>Sobre encuestas en la Argentina referidas a calidad y competitividad, consultar investigaciones de la Comisión de Estudios de Administración del Consejo Profesion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012-E4A3-489B-964A-61A242B7F5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BALANCED SCORE CARD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7512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Para transformar estrategia en acciones y para controlar la gest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Perspectivas: Financiera, del cliente, del proceso interno y de formación y crecimient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uadro de mando integral”, Kaplan, R. Y Norton, 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B36-2FA8-449D-B467-4FA391ADD7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FINAL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7512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l management pasará de prácticas, recetas y leyendas a una disciplina con mayor base científic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so requiere elaborar leyes, teorías y modelos que puedan tener validación empíric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En los próximos años, debería investigarse con mayor intensidad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Calidad en la gestión y gestión de calidad.</a:t>
            </a:r>
            <a:br>
              <a:rPr sz="2800"/>
            </a:b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33480" y="1397160"/>
          <a:ext cx="624060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397160"/>
                    <a:ext cx="62406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386160" y="1400040"/>
          <a:ext cx="4727520" cy="420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6160" y="1400040"/>
                    <a:ext cx="47275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707-6AFF-4D54-8D47-1676BFC892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c1c1c"/>
                </a:solidFill>
                <a:latin typeface="Tahoma"/>
              </a:rPr>
              <a:t>LA CRISIS </a:t>
            </a:r>
            <a:r>
              <a:rPr b="0" lang="es-MX" sz="3600" spc="-1" strike="noStrike">
                <a:solidFill>
                  <a:srgbClr val="1c1c1c"/>
                </a:solidFill>
                <a:latin typeface="Tahoma"/>
              </a:rPr>
              <a:t>EN EL MANAGEMENT </a:t>
            </a:r>
            <a:r>
              <a:rPr b="0" lang="es-ES" sz="3600" spc="-1" strike="noStrike">
                <a:solidFill>
                  <a:srgbClr val="1c1c1c"/>
                </a:solidFill>
                <a:latin typeface="Tahoma"/>
              </a:rPr>
              <a:t>DE LAS GRANDES CORPORACIONES</a:t>
            </a: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as empresas y su información a tercer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¿Qué se espera de ellas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Información veraz sobre sus negocios y su situación económico-financier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Con esa información, los terceros toman decisiones, en particular, los mercados bursátiles y financier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F2E-2FE1-44C9-8FD2-2C0495C9F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¿Qué ideas, valores o creencias están en juego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14560" y="1752480"/>
          <a:ext cx="698976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1752480"/>
                    <a:ext cx="69897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9BE-8011-4960-80B7-F020643E3C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¿Qué ideas, valores o creencias están en juego? (cont.)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95480" y="1982880"/>
          <a:ext cx="7002360" cy="423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982880"/>
                    <a:ext cx="700236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126-9577-43D1-8CE0-32EBC6DEE7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¿Qué ideas, valores o creencias están en juego? (cont.)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82880" y="1595520"/>
          <a:ext cx="695016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1595520"/>
                    <a:ext cx="69501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E3A-9C55-4B97-8518-41745E7402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LAS ENSEÑANZAS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orporate governance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Controles sobre audit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Reglas sobre conflictos de intereses entre directivos y empres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Mayores penalidad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¿Hará más lento el proceso de toma de decisiones?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6B6-1D87-42BC-84D3-E0EC56939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LA CAÍDA DE LAS PUNTO COM.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e habló de una “nueva economía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os start up de las empresas obtuvieron fondos millonari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Una gran parte de ellas fracasaro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Apareció un nuevo perfil del “empresario tecnológico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Solo unas pocas sobrevivieron y en muchos casos adaptándose a las empresas “tradicionales”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92A-E361-47A7-B68D-A36BD397F4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Tahoma"/>
              </a:rPr>
              <a:t>LAS ENSEÑANZAS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a euforia no debe teñir la elaboración de un plan de negoci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No necesariamente todo lo nuevo funciona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os lanzamientos de empresas deben ser honestos y no solo buscar la riqueza de los fundad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0036"/>
                </a:solidFill>
                <a:latin typeface="Tahoma"/>
              </a:rPr>
              <a:t>Los mercados deben ser cautos y evitar financiar aventur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717-33F5-43E6-A2BC-B4F3FFE0E5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c1c1c"/>
                </a:solidFill>
                <a:latin typeface="Tahoma"/>
              </a:rPr>
              <a:t>QUÉ DEBE “SABER” Y CÓMO DEBE “SER UN “BUEN” DIRECTIVO PARA GESTIONAR ORGANZIACIONES</a:t>
            </a:r>
            <a:r>
              <a:rPr b="0" lang="es-ES" sz="3600" spc="-1" strike="noStrike">
                <a:solidFill>
                  <a:srgbClr val="1c1c1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9828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Peter Drucker: El líder debe reunir dos sencillas condiciones: Conocer sobre lo que hace y tener un discurso consistente con sus acto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0036"/>
                </a:solidFill>
                <a:latin typeface="Tahoma"/>
              </a:rPr>
              <a:t>REPASO DE LAS HERRAMIENTAS ACTUALES DE GESTI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ÓN DE CALIDAD EN LAS ORGANIZACIONES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3B7-AE3A-40C7-BC9B-A9E468EC3A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11/2003</a:t>
            </a: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3:21:04Z</dcterms:created>
  <dc:creator>Alejandro González Escudero.</dc:creator>
  <dc:description>para presentar en la Universidad de La Matanza.</dc:description>
  <dc:language>en-US</dc:language>
  <cp:lastModifiedBy>pagina</cp:lastModifiedBy>
  <cp:lastPrinted>2002-10-18T19:20:42Z</cp:lastPrinted>
  <dcterms:modified xsi:type="dcterms:W3CDTF">2003-11-17T20:34:04Z</dcterms:modified>
  <cp:revision>39</cp:revision>
  <dc:subject/>
  <dc:title>Calidad en el management actual</dc:title>
</cp:coreProperties>
</file>