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CFA-A463-42C7-9F0B-C7007B7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C85-1B0C-46B7-9695-E2A6882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6F9-7FFF-46EE-A2F2-5E84CE94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CE7-AF08-411F-A403-0C5A9B31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38E-C6D5-49E8-885B-D1FEF59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15C-F359-43E6-9D9B-1154E0F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8E9-C554-4F93-864A-8B28ABF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BB8-21B0-443E-9B53-D0A6DE1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6F7-3022-45BF-8FD6-C610FEC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4F6-4CE8-47F4-8053-A52E753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8C9-ED3F-462C-8698-3191E75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AAA-D39D-4474-922F-A6F21C0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C866-38BC-493A-BBD7-0C69DF5511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SEJO PROFESIONAL DE CIENCIAS ECONÓMICAS DE LA CIUDAD AUTÓNOM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III CONGRESO DE 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UNIVERSIDAD Y LAS PYM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200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R. GUILLERMO M. VINITZ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CIÓN Y APLICACIÓN DE NUEVAS TECNOLOG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 NIVEL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CIÓN DE NUEVAS EMPRESAS A PARTIR DE LOS CÚM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VENTAJAS ESTRATÉG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MAYOR INFORMACIÓN SOBRE 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ARRERAS DE ENTRADA” MÁS B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LIENTES POTENCIALES EN EL ÁMBITO DE INFLUENCIA DE LOS CÚM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RELACIONES PREEX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MENOR RIESGO PERCIBIDO EN LA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ARRERAS DE SALIDA” MÁS B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DESARROLLO DE UN CLIMA DE SAN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LA SOLIDEZ DEL BINOM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AR" sz="2800" spc="-1" strike="noStrike">
                <a:solidFill>
                  <a:srgbClr val="000000"/>
                </a:solidFill>
                <a:latin typeface="Times New Roman"/>
              </a:rPr>
              <a:t>UNIVERSIDAD-PYM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TRIBUIRÁ COMO PLATAFORMA DE LANZAMIENTO PARA DICHO SECTOR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UEVOS E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MBIOS DE PARADI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MPACTO SOBRE LAS MICRO, PEQUEÑAS Y MEDIAN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9600" y="655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SITU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OFUNDA BRECHA ENTRE LAS EXPECTATIVAS FUTURAS Y LA REALIDAD PRESENTE DE LAS 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FALTA DE ARMONIZACIÓN ENTRE LAS NECESIDADES DEL SECTOR Y LAS RESPUESTAS QUE GENERAN LAS UNIVER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LOS DESAFÍOS INSOSLAY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LA GENERACIÓN DE PLANES SU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L ROL DE LAS UNIVER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ÁREAS TEMÁTICA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INTERNACION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CNOLOGÍA DE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PRENDER A EMP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ETITIVIDAD PARA LA SUPERVIVENCIA Y EL DESARRO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FORMAS ASOCI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FORMACIÓN DE CÚM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VENTAJAS EM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MÁS ALTA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MAYOR INNO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 MEJOR ACCESO A LA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MAYOR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NACIONALIZACIÓN DENTRO DEL ESCENARIO DE LA GLOB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SORCIOS DE EXPOR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OPER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TECN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DE ABAST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DE SERVICIOS ESPECIA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RADING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IDENTIFICACIÓN Y DESARROLLO DE LOS MERCADO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GESTIÓN PROFESIONALIZADA DE LOS ASPECTOS COMERCIALES Y OPERATIVOS DEL COMERCIO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ERMITE UNA MAYOR CONCENTRACIÓN EN LOS ASPECTOS PRODUCTIVOS Y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IDEM RESPECTO DE LOS MERCADO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REDES VIR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DE LAS EMPRESAS DEL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ROPUESTA: DESARROLLO DE UN MERCADO DE CAPITALES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FLCR: OBTIENEN RECURSOS DEL SECTOR PRIVADO LOCAL E INTERNACIONAL Y LOS ORIENTAN HACIA PYMES VIABLES Y CON POTENCIAL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ENTAJAS PARA LOS BENEFICIARIOS: CAPTACIÓN DE INVERSIONES CON UN EFECTO MULTIPLICADOR ECONÓMICO Y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ENTAJAS PARA LOS INVERSORES: UNA SELECCCIÓN PRUDENTE Y RENTABLE DE LAS IN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LOS FLCR PUEDEN SER MOTORES DE CRECIMIENTO EN LOS PAÍSES EMER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FOQUE ESTRATÉGICO REQUER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 DISEÑO A LA MEDIDA DE LAS NECESIDADES SECTORIALES Y PARTI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 ENCUADRAMIENTO CONFORME AL PERFIL AMBIENTAL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ADECUACIÓN A LA REALIDAD EMPRESARIAL DE L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UNA CONCRECIÓN ACORDE CUANDO DE ESCENARIOS DE CRISIS SE 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13200" y="6553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,M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6:21:37Z</dcterms:created>
  <dc:creator>UB</dc:creator>
  <dc:description/>
  <dc:language>en-US</dc:language>
  <cp:lastModifiedBy>C.P.C.E.C.A.B.A.</cp:lastModifiedBy>
  <dcterms:modified xsi:type="dcterms:W3CDTF">2004-10-13T13:35:09Z</dcterms:modified>
  <cp:revision>14</cp:revision>
  <dc:subject/>
  <dc:title>ÁREAS TEMÁTICAS FUNDAMENTALES</dc:title>
</cp:coreProperties>
</file>