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18.gif" ContentType="image/gif"/>
  <Override PartName="/ppt/media/image16.wmf" ContentType="image/x-wmf"/>
  <Override PartName="/ppt/media/image15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AE4-8F3B-4E2E-921E-DE006107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85C-887B-45E2-A898-9BD25EF2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8BE-5030-48DB-8B67-DDBC577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DB6-D44D-4A84-A686-473D78BD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0823-A048-433F-AF5F-0FD59346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01CB-382A-4E0A-84A0-E79F48C2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D4D0-19FB-40ED-A2C4-EA23A73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903-F66E-41C2-A0BE-7FE607CC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260C-6CB2-4348-9D25-D6BFA2A9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908-16CF-4A34-8E19-707F936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376-CFA7-47DB-BA7F-A0D0034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709-6BC3-4FBE-B335-22DA3EEF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9A1-0FD7-497B-BCDE-193F431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17B9-581C-4E2F-87DB-13AEE222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EA8C-B7B2-427B-AC66-41F82E69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3931-DF86-42D1-A5A7-64986894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8E57-BD66-479D-BBCF-966DF645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755-C205-4314-8C39-B12698A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615-D848-45A5-9777-8854E409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4B9-CF9C-41FF-B783-522EBCE9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80A-A6A9-44A1-ACBB-F8E0246A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B28-32D8-4BC7-9D82-9AB5186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1AB-89D3-4180-8E12-30D5F295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6AF-A62C-43AD-90E3-682413E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440022"/>
              </a:gs>
              <a:gs pos="50000">
                <a:srgbClr val="b20059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D23-C906-479A-9C62-51DD4CFB0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440022"/>
              </a:gs>
              <a:gs pos="50000">
                <a:srgbClr val="b20059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44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D68E-E21A-4687-8D41-E8A6E5C64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0280" y="6242040"/>
            <a:ext cx="202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99"/>
                </a:solidFill>
                <a:latin typeface="Book Antiqua"/>
              </a:rPr>
              <a:t>GrupoAs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739880"/>
            <a:ext cx="7560000" cy="752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ff0066"/>
                  </a:outerShdw>
                </a:effectLst>
                <a:latin typeface="Book Antiqua"/>
              </a:rPr>
              <a:t>LOS COSTOS DE LA NO CALIDAD</a:t>
            </a:r>
            <a:endParaRPr b="1" lang="en-US" sz="4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7819" dir="2700000" blurRad="0" rotWithShape="0">
                  <a:srgbClr val="ff0066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3684600"/>
            <a:ext cx="8209080" cy="752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ff0066"/>
                  </a:outerShdw>
                </a:effectLst>
                <a:latin typeface="Book Antiqua"/>
              </a:rPr>
              <a:t>Herramienta del Sistema de Gestión</a:t>
            </a:r>
            <a:endParaRPr b="1" lang="en-US" sz="4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7819" dir="2700000" blurRad="0" rotWithShape="0">
                  <a:srgbClr val="ff0066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877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6699"/>
                </a:solidFill>
                <a:latin typeface="Book Antiqua"/>
              </a:rPr>
              <a:t>Lic.  Ana  M. Vazqu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10560" y="5235480"/>
            <a:ext cx="1082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440" y="1341000"/>
            <a:ext cx="80773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Identificar los Proceso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250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42920" y="2637000"/>
            <a:ext cx="1584360" cy="60948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20840" y="2790720"/>
            <a:ext cx="1009440" cy="24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RAS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708280"/>
            <a:ext cx="1584360" cy="60948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91280" y="2879640"/>
            <a:ext cx="1009800" cy="23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NTAS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80000" y="3645000"/>
            <a:ext cx="1584000" cy="609480"/>
            <a:chOff x="3780000" y="3645000"/>
            <a:chExt cx="1584000" cy="609480"/>
          </a:xfrm>
        </p:grpSpPr>
        <p:sp>
          <p:nvSpPr>
            <p:cNvPr id="258" name=""/>
            <p:cNvSpPr/>
            <p:nvPr/>
          </p:nvSpPr>
          <p:spPr>
            <a:xfrm>
              <a:off x="3780000" y="3645000"/>
              <a:ext cx="1584000" cy="60948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013280" y="3781440"/>
              <a:ext cx="1073160" cy="264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EXPEDICION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300720" y="3716280"/>
            <a:ext cx="1871640" cy="68580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88000" y="3776760"/>
            <a:ext cx="1308240" cy="56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CEPCION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PEDIDOS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5373720"/>
            <a:ext cx="1728720" cy="60948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40360" y="5516640"/>
            <a:ext cx="115236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DUCCION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588000" y="5373720"/>
            <a:ext cx="1943280" cy="71604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70600" y="5462640"/>
            <a:ext cx="1384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CEPCION DE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TERIALES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1476360" y="5445000"/>
            <a:ext cx="1871640" cy="68580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63640" y="5516640"/>
            <a:ext cx="1308240" cy="56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TROL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ALIDAD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3860640"/>
            <a:ext cx="1943280" cy="71604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65200" y="3932280"/>
            <a:ext cx="1308240" cy="560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POSITO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M.P.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3708360" y="2276640"/>
            <a:ext cx="1943280" cy="715680"/>
          </a:xfrm>
          <a:prstGeom prst="flowChartPredefinedProcess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68720" y="2347920"/>
            <a:ext cx="1308240" cy="560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POSITO DE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DUCTO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La Gestión por Proce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66"/>
                </a:solidFill>
                <a:latin typeface="Book Antiqua"/>
              </a:rPr>
              <a:t> </a:t>
            </a:r>
            <a:r>
              <a:rPr b="1" lang="es-MX" sz="3000" spc="-1" strike="noStrike">
                <a:solidFill>
                  <a:srgbClr val="ffcc66"/>
                </a:solidFill>
                <a:latin typeface="Book Antiqua"/>
              </a:rPr>
              <a:t>Secuencia e Interrelació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-181080" y="-169920"/>
            <a:ext cx="2592360" cy="1438200"/>
            <a:chOff x="-181080" y="-169920"/>
            <a:chExt cx="2592360" cy="1438200"/>
          </a:xfrm>
        </p:grpSpPr>
        <p:sp>
          <p:nvSpPr>
            <p:cNvPr id="275" name=""/>
            <p:cNvSpPr/>
            <p:nvPr/>
          </p:nvSpPr>
          <p:spPr>
            <a:xfrm>
              <a:off x="-181080" y="-7164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20" y="-16992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1360" y="40464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La Gestión por Proce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1600" y="967320"/>
            <a:ext cx="8883000" cy="5641200"/>
            <a:chOff x="21600" y="967320"/>
            <a:chExt cx="8883000" cy="5641200"/>
          </a:xfrm>
        </p:grpSpPr>
        <p:sp>
          <p:nvSpPr>
            <p:cNvPr id="280" name=""/>
            <p:cNvSpPr/>
            <p:nvPr/>
          </p:nvSpPr>
          <p:spPr>
            <a:xfrm>
              <a:off x="1042920" y="3213000"/>
              <a:ext cx="1584360" cy="6098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330200" y="3384720"/>
              <a:ext cx="1009800" cy="230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VENTAS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2920" y="4546440"/>
              <a:ext cx="1584360" cy="6098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1276200" y="4683240"/>
              <a:ext cx="1073160" cy="264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EXPEDICION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8360" y="2166840"/>
              <a:ext cx="1871640" cy="68580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995640" y="2227320"/>
              <a:ext cx="1308240" cy="560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RECEPCION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E PEDIDOS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80000" y="3395520"/>
              <a:ext cx="1728720" cy="6098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068720" y="3538440"/>
              <a:ext cx="1152720" cy="257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ODUCCION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80000" y="5661000"/>
              <a:ext cx="1871640" cy="68580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4067280" y="5732640"/>
              <a:ext cx="1307880" cy="560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ONTROL 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E CALIDAD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08360" y="4513320"/>
              <a:ext cx="1943280" cy="7160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4068720" y="4584600"/>
              <a:ext cx="1308240" cy="560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EPOSITO DE 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ODUCTO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75640" y="4546440"/>
              <a:ext cx="1584000" cy="6098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7153200" y="4700520"/>
              <a:ext cx="1009800" cy="247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OMPRAS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2720" y="5661000"/>
              <a:ext cx="1942920" cy="7160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7015320" y="5749920"/>
              <a:ext cx="138420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RECEPCION DE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MATERIALES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1080" y="3360600"/>
              <a:ext cx="1943280" cy="716040"/>
            </a:xfrm>
            <a:prstGeom prst="flowChartPredefinedProcess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7010280" y="3432240"/>
              <a:ext cx="1308240" cy="560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EPOSITO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E M.P.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cxnSp>
          <p:nvCxnSpPr>
            <p:cNvPr id="298" name=""/>
            <p:cNvCxnSpPr>
              <a:endCxn id="273" idx="1"/>
            </p:cNvCxnSpPr>
            <p:nvPr/>
          </p:nvCxnSpPr>
          <p:spPr>
            <a:xfrm rot="5400000">
              <a:off x="16920" y="2208600"/>
              <a:ext cx="2051640" cy="1585080"/>
            </a:xfrm>
            <a:prstGeom prst="bentConnector4">
              <a:avLst>
                <a:gd name="adj1" fmla="val -49140"/>
                <a:gd name="adj2" fmla="val 114425"/>
              </a:avLst>
            </a:prstGeom>
            <a:ln w="0">
              <a:noFill/>
            </a:ln>
          </p:spPr>
        </p:cxnSp>
        <p:cxnSp>
          <p:nvCxnSpPr>
            <p:cNvPr id="299" name=""/>
            <p:cNvCxnSpPr/>
            <p:nvPr/>
          </p:nvCxnSpPr>
          <p:spPr>
            <a:xfrm flipV="1">
              <a:off x="2566800" y="2133360"/>
              <a:ext cx="2005560" cy="140400"/>
            </a:xfrm>
            <a:prstGeom prst="bentConnector4">
              <a:avLst>
                <a:gd name="adj1" fmla="val 26283"/>
                <a:gd name="adj2" fmla="val 254498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0" name=""/>
            <p:cNvCxnSpPr>
              <a:stCxn id="280" idx="3"/>
              <a:endCxn id="284" idx="1"/>
            </p:cNvCxnSpPr>
            <p:nvPr/>
          </p:nvCxnSpPr>
          <p:spPr>
            <a:xfrm flipV="1">
              <a:off x="2639520" y="2509560"/>
              <a:ext cx="1056600" cy="1008720"/>
            </a:xfrm>
            <a:prstGeom prst="bentConnector3">
              <a:avLst>
                <a:gd name="adj1" fmla="val 49897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1" name=""/>
            <p:cNvCxnSpPr>
              <a:stCxn id="302" idx="2"/>
            </p:cNvCxnSpPr>
            <p:nvPr/>
          </p:nvCxnSpPr>
          <p:spPr>
            <a:xfrm flipV="1" rot="10800000">
              <a:off x="1834560" y="2577600"/>
              <a:ext cx="1080" cy="6357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303" name=""/>
            <p:cNvCxnSpPr>
              <a:stCxn id="282" idx="1"/>
            </p:cNvCxnSpPr>
            <p:nvPr/>
          </p:nvCxnSpPr>
          <p:spPr>
            <a:xfrm flipH="1" rot="10800000">
              <a:off x="1029960" y="2293920"/>
              <a:ext cx="2160" cy="2557800"/>
            </a:xfrm>
            <a:prstGeom prst="bentConnector3">
              <a:avLst>
                <a:gd name="adj1" fmla="val -1360000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4" name=""/>
            <p:cNvCxnSpPr>
              <a:endCxn id="282" idx="3"/>
            </p:cNvCxnSpPr>
            <p:nvPr/>
          </p:nvCxnSpPr>
          <p:spPr>
            <a:xfrm flipV="1" rot="10800000">
              <a:off x="2639160" y="4849560"/>
              <a:ext cx="1065960" cy="2160"/>
            </a:xfrm>
            <a:prstGeom prst="bentConnector3">
              <a:avLst>
                <a:gd name="adj1" fmla="val 50506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5" name=""/>
            <p:cNvCxnSpPr>
              <a:endCxn id="286" idx="0"/>
            </p:cNvCxnSpPr>
            <p:nvPr/>
          </p:nvCxnSpPr>
          <p:spPr>
            <a:xfrm flipV="1" rot="10800000">
              <a:off x="4644360" y="2852280"/>
              <a:ext cx="1080" cy="53100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6" name=""/>
            <p:cNvCxnSpPr/>
            <p:nvPr/>
          </p:nvCxnSpPr>
          <p:spPr>
            <a:xfrm rot="5400000">
              <a:off x="4430880" y="4271040"/>
              <a:ext cx="477000" cy="216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7" name=""/>
            <p:cNvCxnSpPr/>
            <p:nvPr/>
          </p:nvCxnSpPr>
          <p:spPr>
            <a:xfrm flipV="1">
              <a:off x="5522400" y="3693240"/>
              <a:ext cx="1112040" cy="252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ff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308" name=""/>
            <p:cNvCxnSpPr>
              <a:endCxn id="292" idx="0"/>
            </p:cNvCxnSpPr>
            <p:nvPr/>
          </p:nvCxnSpPr>
          <p:spPr>
            <a:xfrm rot="5400000">
              <a:off x="7446240" y="4309560"/>
              <a:ext cx="445320" cy="3960"/>
            </a:xfrm>
            <a:prstGeom prst="bentConnector3">
              <a:avLst>
                <a:gd name="adj1" fmla="val 5137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09" name=""/>
            <p:cNvCxnSpPr>
              <a:endCxn id="294" idx="0"/>
            </p:cNvCxnSpPr>
            <p:nvPr/>
          </p:nvCxnSpPr>
          <p:spPr>
            <a:xfrm rot="5400000">
              <a:off x="7462080" y="5405040"/>
              <a:ext cx="484920" cy="2520"/>
            </a:xfrm>
            <a:prstGeom prst="bentConnector3">
              <a:avLst>
                <a:gd name="adj1" fmla="val 51114"/>
              </a:avLst>
            </a:prstGeom>
            <a:ln w="31680">
              <a:solidFill>
                <a:srgbClr val="ff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310" name=""/>
            <p:cNvCxnSpPr>
              <a:stCxn id="294" idx="3"/>
              <a:endCxn id="296" idx="3"/>
            </p:cNvCxnSpPr>
            <p:nvPr/>
          </p:nvCxnSpPr>
          <p:spPr>
            <a:xfrm flipH="1" flipV="1">
              <a:off x="8616600" y="3719520"/>
              <a:ext cx="72000" cy="2300760"/>
            </a:xfrm>
            <a:prstGeom prst="bentConnector3">
              <a:avLst>
                <a:gd name="adj1" fmla="val -30201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11" name=""/>
            <p:cNvCxnSpPr>
              <a:endCxn id="288" idx="3"/>
            </p:cNvCxnSpPr>
            <p:nvPr/>
          </p:nvCxnSpPr>
          <p:spPr>
            <a:xfrm flipH="1" rot="16200000">
              <a:off x="4185360" y="4524840"/>
              <a:ext cx="1967760" cy="991440"/>
            </a:xfrm>
            <a:prstGeom prst="bentConnector4">
              <a:avLst>
                <a:gd name="adj1" fmla="val 7246"/>
                <a:gd name="adj2" fmla="val 121794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12" name=""/>
            <p:cNvCxnSpPr>
              <a:endCxn id="290" idx="2"/>
            </p:cNvCxnSpPr>
            <p:nvPr/>
          </p:nvCxnSpPr>
          <p:spPr>
            <a:xfrm flipH="1" flipV="1" rot="5400000">
              <a:off x="4485960" y="5431680"/>
              <a:ext cx="384840" cy="3960"/>
            </a:xfrm>
            <a:prstGeom prst="bentConnector3">
              <a:avLst>
                <a:gd name="adj1" fmla="val 51591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13" name=""/>
            <p:cNvCxnSpPr>
              <a:stCxn id="289" idx="2"/>
              <a:endCxn id="294" idx="2"/>
            </p:cNvCxnSpPr>
            <p:nvPr/>
          </p:nvCxnSpPr>
          <p:spPr>
            <a:xfrm flipH="1" rot="16200000">
              <a:off x="6163200" y="4849560"/>
              <a:ext cx="97560" cy="2983320"/>
            </a:xfrm>
            <a:prstGeom prst="bentConnector3">
              <a:avLst>
                <a:gd name="adj1" fmla="val 322592"/>
              </a:avLst>
            </a:prstGeom>
            <a:ln w="0">
              <a:noFill/>
            </a:ln>
          </p:spPr>
        </p:cxnSp>
        <p:cxnSp>
          <p:nvCxnSpPr>
            <p:cNvPr id="314" name=""/>
            <p:cNvCxnSpPr>
              <a:stCxn id="294" idx="2"/>
              <a:endCxn id="288" idx="2"/>
            </p:cNvCxnSpPr>
            <p:nvPr/>
          </p:nvCxnSpPr>
          <p:spPr>
            <a:xfrm flipV="1" rot="16200000">
              <a:off x="6194520" y="4880520"/>
              <a:ext cx="30600" cy="2988360"/>
            </a:xfrm>
            <a:prstGeom prst="bentConnector3">
              <a:avLst>
                <a:gd name="adj1" fmla="val -723809"/>
              </a:avLst>
            </a:prstGeom>
            <a:ln w="31680">
              <a:solidFill>
                <a:srgbClr val="ff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302" name=""/>
            <p:cNvSpPr/>
            <p:nvPr/>
          </p:nvSpPr>
          <p:spPr>
            <a:xfrm>
              <a:off x="1042920" y="2060640"/>
              <a:ext cx="1584360" cy="504720"/>
            </a:xfrm>
            <a:prstGeom prst="flowChartTerminator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332000" y="2173320"/>
              <a:ext cx="1000080" cy="247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LIENTE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 spd="med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17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851280" y="198360"/>
            <a:ext cx="5113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No Conform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2060640"/>
            <a:ext cx="8280360" cy="344556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cba9ba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Book Antiqua"/>
              </a:rPr>
              <a:t>Cuando no se cumplen los requisitos estamos frente a una situación de No Conformidad o de No C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24000" y="5084640"/>
            <a:ext cx="168264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-181080" y="7920"/>
            <a:ext cx="2592360" cy="1438200"/>
            <a:chOff x="-181080" y="7920"/>
            <a:chExt cx="2592360" cy="1438200"/>
          </a:xfrm>
        </p:grpSpPr>
        <p:sp>
          <p:nvSpPr>
            <p:cNvPr id="324" name=""/>
            <p:cNvSpPr/>
            <p:nvPr/>
          </p:nvSpPr>
          <p:spPr>
            <a:xfrm>
              <a:off x="-181080" y="10620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920" y="792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1360" y="5824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916360" y="173520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64000" y="3535200"/>
            <a:ext cx="2303280" cy="916920"/>
          </a:xfrm>
          <a:prstGeom prst="rect">
            <a:avLst/>
          </a:prstGeom>
          <a:solidFill>
            <a:srgbClr val="b2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IDENTIFICACION DE LA CAUS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RAI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7215840" y="4610880"/>
            <a:ext cx="792000" cy="485640"/>
          </a:xfrm>
          <a:prstGeom prst="rightArrow">
            <a:avLst>
              <a:gd name="adj1" fmla="val 50000"/>
              <a:gd name="adj2" fmla="val 40771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41760" y="1519200"/>
            <a:ext cx="2154240" cy="959040"/>
            <a:chOff x="3641760" y="1519200"/>
            <a:chExt cx="2154240" cy="959040"/>
          </a:xfrm>
        </p:grpSpPr>
        <p:grpSp>
          <p:nvGrpSpPr>
            <p:cNvPr id="331" name=""/>
            <p:cNvGrpSpPr/>
            <p:nvPr/>
          </p:nvGrpSpPr>
          <p:grpSpPr>
            <a:xfrm>
              <a:off x="3641760" y="1519200"/>
              <a:ext cx="2154240" cy="959040"/>
              <a:chOff x="3641760" y="1519200"/>
              <a:chExt cx="2154240" cy="959040"/>
            </a:xfrm>
          </p:grpSpPr>
          <p:sp>
            <p:nvSpPr>
              <p:cNvPr id="332" name=""/>
              <p:cNvSpPr/>
              <p:nvPr/>
            </p:nvSpPr>
            <p:spPr>
              <a:xfrm>
                <a:off x="3657600" y="1562040"/>
                <a:ext cx="2131920" cy="91620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41760" y="1519200"/>
                <a:ext cx="2154240" cy="916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660033"/>
                  </a:gs>
                  <a:gs pos="100000">
                    <a:srgbClr val="ffcc66"/>
                  </a:gs>
                </a:gsLst>
                <a:lin ang="5400000"/>
              </a:gradFill>
              <a:ln w="79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ffcc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4064760" y="1843200"/>
              <a:ext cx="1273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cc00"/>
                  </a:solidFill>
                  <a:latin typeface="Arial"/>
                </a:rPr>
                <a:t>PROCES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28720" y="1663560"/>
            <a:ext cx="1979640" cy="642600"/>
          </a:xfrm>
          <a:prstGeom prst="rect">
            <a:avLst/>
          </a:prstGeom>
          <a:solidFill>
            <a:srgbClr val="b2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ACCION CORRECTIVA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5672160"/>
            <a:ext cx="2160360" cy="978120"/>
          </a:xfrm>
          <a:prstGeom prst="rect">
            <a:avLst/>
          </a:prstGeom>
          <a:solidFill>
            <a:srgbClr val="b2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ACCION CONTINGENTE</a:t>
            </a:r>
            <a:r>
              <a:rPr b="1" lang="es-MX" sz="2000" spc="-1" strike="noStrike">
                <a:solidFill>
                  <a:srgbClr val="ffcc66"/>
                </a:solidFill>
                <a:latin typeface="Book Antiqu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49440" y="4686480"/>
            <a:ext cx="485640" cy="865080"/>
          </a:xfrm>
          <a:prstGeom prst="downArrow">
            <a:avLst>
              <a:gd name="adj1" fmla="val 50000"/>
              <a:gd name="adj2" fmla="val 44533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18000" y="2598840"/>
            <a:ext cx="485640" cy="865080"/>
          </a:xfrm>
          <a:prstGeom prst="downArrow">
            <a:avLst>
              <a:gd name="adj1" fmla="val 50000"/>
              <a:gd name="adj2" fmla="val 44533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80000" y="5572080"/>
            <a:ext cx="1908000" cy="916920"/>
          </a:xfrm>
          <a:prstGeom prst="rect">
            <a:avLst/>
          </a:prstGeom>
          <a:solidFill>
            <a:srgbClr val="b2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ELIMINA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 </a:t>
            </a: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DE LA CAUSA RAI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16720" y="5407200"/>
            <a:ext cx="2303280" cy="1191240"/>
          </a:xfrm>
          <a:prstGeom prst="rect">
            <a:avLst/>
          </a:prstGeom>
          <a:solidFill>
            <a:srgbClr val="b2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EVALUACION DE EFICACIA DE LA ACCION CORRE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1396080" y="2680200"/>
            <a:ext cx="792360" cy="485640"/>
          </a:xfrm>
          <a:prstGeom prst="rightArrow">
            <a:avLst>
              <a:gd name="adj1" fmla="val 50000"/>
              <a:gd name="adj2" fmla="val 40789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98920" y="4614840"/>
            <a:ext cx="486000" cy="865080"/>
          </a:xfrm>
          <a:prstGeom prst="downArrow">
            <a:avLst>
              <a:gd name="adj1" fmla="val 50000"/>
              <a:gd name="adj2" fmla="val 44500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04000" y="3319560"/>
            <a:ext cx="1490760" cy="969840"/>
          </a:xfrm>
          <a:prstGeom prst="flowChartDecision">
            <a:avLst/>
          </a:prstGeom>
          <a:solidFill>
            <a:srgbClr val="b2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¿EFICAZ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6000" y="57675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8360" y="353520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8000" y="166356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7155720" y="25358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6560" y="3556080"/>
            <a:ext cx="2592720" cy="880920"/>
          </a:xfrm>
          <a:prstGeom prst="flowChartTerminator">
            <a:avLst/>
          </a:prstGeom>
          <a:noFill/>
          <a:ln w="31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SITUACION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NO CONFORM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1484280"/>
            <a:ext cx="2592360" cy="809640"/>
          </a:xfrm>
          <a:prstGeom prst="flowChartTerminator">
            <a:avLst/>
          </a:prstGeom>
          <a:noFill/>
          <a:ln w="31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REDISEÑO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PROCESO - MEJO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Book Antiqua"/>
              </a:rPr>
              <a:t>Corrección – Análisis de Cau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52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1577880"/>
            <a:ext cx="3024360" cy="1059120"/>
          </a:xfrm>
          <a:prstGeom prst="ellipse">
            <a:avLst/>
          </a:prstGeom>
          <a:gradFill rotWithShape="0">
            <a:gsLst>
              <a:gs pos="0">
                <a:srgbClr val="007500"/>
              </a:gs>
              <a:gs pos="50000">
                <a:srgbClr val="00ff00">
                  <a:alpha val="81176"/>
                </a:srgbClr>
              </a:gs>
              <a:gs pos="100000">
                <a:srgbClr val="0075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1557360"/>
            <a:ext cx="3241800" cy="1130400"/>
          </a:xfrm>
          <a:prstGeom prst="ellipse">
            <a:avLst/>
          </a:prstGeom>
          <a:gradFill rotWithShape="0">
            <a:gsLst>
              <a:gs pos="0">
                <a:srgbClr val="007500"/>
              </a:gs>
              <a:gs pos="50000">
                <a:srgbClr val="00ff00">
                  <a:alpha val="81176"/>
                </a:srgbClr>
              </a:gs>
              <a:gs pos="100000">
                <a:srgbClr val="0075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ENFOQUE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56000" y="3068640"/>
            <a:ext cx="3960720" cy="127476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50000">
                <a:srgbClr val="ff9900">
                  <a:alpha val="81176"/>
                </a:srgbClr>
              </a:gs>
              <a:gs pos="100000">
                <a:srgbClr val="7546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GESTION DE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ORGANIZ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6680" y="2781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04000" y="2790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38160" y="5851440"/>
            <a:ext cx="3640320" cy="45972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NUEVOS INDIC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02000" y="465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64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1844640"/>
            <a:ext cx="8280360" cy="301860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ac7691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Los Costos de la No Calidad son los costos que se generan cuando no se hacen las cosas bien desde la primera vez, son los costos de los materiales, tiempo y esfuerzo  perdidos provocados por las situaciones de No Conform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95280" y="5124600"/>
            <a:ext cx="194616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71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530440"/>
            <a:ext cx="8280360" cy="228852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ac7691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Los Costos de la Calidad son los costos del conjunto de actividades que se realizan para prevenir situaciones de No Conform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236000" y="5141880"/>
            <a:ext cx="18349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78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1969920"/>
            <a:ext cx="8280360" cy="301860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ac7691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La detección y el análisis de los  Costos de la No Calidad permiten incorporar nuevos indicadores de gestión y abordar así los costos intangibles y los costos ocultos que minan la rentabilidad de las organiz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2073240" cy="19810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164360" y="4869000"/>
            <a:ext cx="1795320" cy="179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Los Costos relacionados con la Calidad eran mucho mayores que lo que mostraban los informes contables. Para la mayoría de las empresas estos costos estaban entre el 20 % y el 40% de las venta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Las operaciones administrativas eran grandes contribuyentes a los Costos de la No Calida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Muchos de los Costos de la No Calidad estaban incluidos dentro de los standards de desempeñ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A pesar que los Costos de la No Calidad eran evitables, no había clara responsabilidades asignadas para accionar sobre ellos. Tampoco había un enfoque estructurado para hacerl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87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250920" y="1523880"/>
            <a:ext cx="871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Book Antiqua"/>
              </a:rPr>
              <a:t>Primeras Conclusion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7773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Departamento de Defensa de los Estados Unid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1963  MIL-Q-9858A y enmienda 198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Norma MIL-STD-1520C</a:t>
            </a: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Norma ISO 9004:2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6.8 Finanza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8.2.1.4 Enfoques Financier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394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50920" y="1523880"/>
            <a:ext cx="871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Book Antiqua"/>
              </a:rPr>
              <a:t>“</a:t>
            </a:r>
            <a:r>
              <a:rPr b="1" lang="es-MX" sz="3200" spc="-1" strike="noStrike">
                <a:solidFill>
                  <a:srgbClr val="ff9900"/>
                </a:solidFill>
                <a:latin typeface="Book Antiqua"/>
              </a:rPr>
              <a:t>Oficialización” de los Costos de la No C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500"/>
                            </p:stCondLst>
                            <p:childTnLst>
                              <p:par>
                                <p:cTn id="41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06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893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cc66"/>
                </a:solidFill>
                <a:latin typeface="Book Antiqua"/>
              </a:rPr>
              <a:t>Conceptos Básico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Calid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La Gestión por Proces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No Conformid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Corrección – Análisis de Caus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cc66"/>
                </a:solidFill>
                <a:latin typeface="Book Antiqua"/>
              </a:rPr>
              <a:t>Costos de la No Calidad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Definiciones y Reseña Histór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Clasificación de los Costos de la No Calid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Los Costos Ocultos de la No Calid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Costos de la Inspección y la Prevenció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cc66"/>
                </a:solidFill>
                <a:latin typeface="Book Antiqua"/>
              </a:rPr>
              <a:t>Conclusione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3997440" y="260280"/>
            <a:ext cx="489564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Book Antiqua"/>
              </a:rPr>
              <a:t>CONTE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00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2452680"/>
            <a:ext cx="8280360" cy="283716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ac7691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No existe una “economía de la Calidad”, como tampoco existe “la Calidad necesaria”, los requisitos se cumplen o no se cumplen, no se pueden cumplir “más o menos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06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5640" y="1969920"/>
            <a:ext cx="7777080" cy="253116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ac7691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El verdadero valor de la Gestión de la Calidad está determinado por su capacidad de contribuir a la satisfacción de los clientes y a las ganancias de la organiz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995640" y="51642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9492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s de la No Cal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49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cc66"/>
                </a:solidFill>
                <a:latin typeface="Book Antiqua"/>
              </a:rPr>
              <a:t>Costos de No Conformidades Interna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49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cc66"/>
                </a:solidFill>
                <a:latin typeface="Book Antiqua"/>
              </a:rPr>
              <a:t>Costos de No Conformidades Externa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s de la Cal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49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cc66"/>
                </a:solidFill>
                <a:latin typeface="Book Antiqua"/>
              </a:rPr>
              <a:t>Costos de Prevenció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49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cc66"/>
                </a:solidFill>
                <a:latin typeface="Book Antiqua"/>
              </a:rPr>
              <a:t>Costos de Inspecció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 Total de la Cal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49"/>
              </a:spcBef>
              <a:buClr>
                <a:srgbClr val="cc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cc66"/>
                </a:solidFill>
                <a:latin typeface="Book Antiqua"/>
              </a:rPr>
              <a:t>Costos de la Calidad + Costos de la No Calida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14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50920" y="1523880"/>
            <a:ext cx="871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Book Antiqua"/>
              </a:rPr>
              <a:t>Categoría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500"/>
                            </p:stCondLst>
                            <p:childTnLst>
                              <p:par>
                                <p:cTn id="47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500"/>
                            </p:stCondLst>
                            <p:childTnLst>
                              <p:par>
                                <p:cTn id="48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s de No Conformidades Intern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on los costos de las no conformidades en los productos o servicios que ocurren </a:t>
            </a:r>
            <a:r>
              <a:rPr b="1" lang="es-MX" sz="2800" spc="-1" strike="noStrike">
                <a:solidFill>
                  <a:srgbClr val="33cc33"/>
                </a:solidFill>
                <a:latin typeface="Book Antiqua"/>
              </a:rPr>
              <a:t>antes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 de entregar el producto o de prestar el servicio al clien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s de No Conformidades Extern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on los costos de las no conformidades en los productos o servicios que ocurren </a:t>
            </a:r>
            <a:r>
              <a:rPr b="1" lang="es-MX" sz="2800" spc="-1" strike="noStrike">
                <a:solidFill>
                  <a:srgbClr val="33cc33"/>
                </a:solidFill>
                <a:latin typeface="Book Antiqua"/>
              </a:rPr>
              <a:t>después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 de entregar el producto, y </a:t>
            </a:r>
            <a:r>
              <a:rPr b="1" lang="es-MX" sz="2800" spc="-1" strike="noStrike">
                <a:solidFill>
                  <a:srgbClr val="33cc33"/>
                </a:solidFill>
                <a:latin typeface="Book Antiqua"/>
              </a:rPr>
              <a:t>después, o durante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 la prestación del servicio al clien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21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s de Prevenció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on los costos de todas las actividades destinadas a evitar las no conformidades en los productos y servicio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Costos de Inspecció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on los costos de todas las actividades destinadas a verificar la conformidad con los requisito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27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32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835280" y="198360"/>
            <a:ext cx="7129440" cy="128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Book Antiqua"/>
              </a:rPr>
              <a:t>Los Costos Ocultos de la No Calidad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2401920"/>
            <a:ext cx="7777080" cy="375012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ac7691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 </a:t>
            </a:r>
            <a:r>
              <a:rPr b="1" lang="es-MX" sz="3200" spc="-1" strike="noStrike">
                <a:solidFill>
                  <a:srgbClr val="ffcc66"/>
                </a:solidFill>
                <a:latin typeface="Book Antiqua"/>
              </a:rPr>
              <a:t>¿Cuál es el impacto de la falta de Calidad en la imagen del desempeño de la empresa a los ojos del clien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LOS COSTOS “INTANGIBLES” DE LA NO CALIDAD SON PARTE DE LOS COSTOS OCULTOS DE LA NO CALIDAD  Y ES DIFICIL EXPRESARLOS EN CIF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438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835280" y="198360"/>
            <a:ext cx="7129440" cy="128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Book Antiqua"/>
              </a:rPr>
              <a:t>Los Costos Ocultos de la No Calidad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600200" y="2514600"/>
            <a:ext cx="7238160" cy="3675240"/>
            <a:chOff x="1600200" y="2514600"/>
            <a:chExt cx="7238160" cy="3675240"/>
          </a:xfrm>
        </p:grpSpPr>
        <p:grpSp>
          <p:nvGrpSpPr>
            <p:cNvPr id="443" name=""/>
            <p:cNvGrpSpPr/>
            <p:nvPr/>
          </p:nvGrpSpPr>
          <p:grpSpPr>
            <a:xfrm>
              <a:off x="5443920" y="2974680"/>
              <a:ext cx="853920" cy="1079640"/>
              <a:chOff x="5443920" y="2974680"/>
              <a:chExt cx="853920" cy="10796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443920" y="3115080"/>
                <a:ext cx="639000" cy="795240"/>
                <a:chOff x="5443920" y="3115080"/>
                <a:chExt cx="639000" cy="79524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443920" y="3115080"/>
                  <a:ext cx="639000" cy="795240"/>
                  <a:chOff x="5443920" y="3115080"/>
                  <a:chExt cx="639000" cy="795240"/>
                </a:xfrm>
              </p:grpSpPr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443920" y="3212640"/>
                    <a:ext cx="475560" cy="646920"/>
                    <a:chOff x="5443920" y="3212640"/>
                    <a:chExt cx="475560" cy="646920"/>
                  </a:xfrm>
                </p:grpSpPr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5443920" y="3212640"/>
                      <a:ext cx="420480" cy="646920"/>
                      <a:chOff x="5443920" y="3212640"/>
                      <a:chExt cx="420480" cy="646920"/>
                    </a:xfrm>
                  </p:grpSpPr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5443920" y="3307680"/>
                        <a:ext cx="203040" cy="175320"/>
                      </a:xfrm>
                      <a:prstGeom prst="ellipse">
                        <a:avLst/>
                      </a:prstGeom>
                      <a:solidFill>
                        <a:srgbClr val="cecece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5553720" y="3212640"/>
                        <a:ext cx="256680" cy="217080"/>
                      </a:xfrm>
                      <a:prstGeom prst="ellipse">
                        <a:avLst/>
                      </a:prstGeom>
                      <a:solidFill>
                        <a:srgbClr val="cecece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5498640" y="3546360"/>
                        <a:ext cx="204480" cy="172800"/>
                      </a:xfrm>
                      <a:prstGeom prst="ellipse">
                        <a:avLst/>
                      </a:prstGeom>
                      <a:solidFill>
                        <a:srgbClr val="cecece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5603760" y="3640320"/>
                        <a:ext cx="260640" cy="219240"/>
                      </a:xfrm>
                      <a:prstGeom prst="ellipse">
                        <a:avLst/>
                      </a:prstGeom>
                      <a:solidFill>
                        <a:srgbClr val="cecece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5519520" y="3345480"/>
                        <a:ext cx="177120" cy="37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298">
                            <a:moveTo>
                              <a:pt x="0" y="2"/>
                            </a:moveTo>
                            <a:lnTo>
                              <a:pt x="56" y="0"/>
                            </a:lnTo>
                            <a:lnTo>
                              <a:pt x="134" y="297"/>
                            </a:lnTo>
                            <a:lnTo>
                              <a:pt x="51" y="274"/>
                            </a:lnTo>
                            <a:lnTo>
                              <a:pt x="49" y="128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cecec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5551200" y="3350520"/>
                      <a:ext cx="368280" cy="32112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5659920" y="3260160"/>
                      <a:ext cx="259560" cy="22320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5652360" y="3361680"/>
                      <a:ext cx="190080" cy="39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318">
                          <a:moveTo>
                            <a:pt x="13" y="264"/>
                          </a:moveTo>
                          <a:lnTo>
                            <a:pt x="30" y="195"/>
                          </a:lnTo>
                          <a:lnTo>
                            <a:pt x="0" y="43"/>
                          </a:lnTo>
                          <a:lnTo>
                            <a:pt x="57" y="0"/>
                          </a:lnTo>
                          <a:lnTo>
                            <a:pt x="144" y="183"/>
                          </a:lnTo>
                          <a:lnTo>
                            <a:pt x="75" y="317"/>
                          </a:lnTo>
                          <a:lnTo>
                            <a:pt x="13" y="264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5716800" y="3115080"/>
                    <a:ext cx="203040" cy="1742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821920" y="3685680"/>
                    <a:ext cx="261000" cy="2246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720400" y="3260160"/>
                    <a:ext cx="13896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60">
                        <a:moveTo>
                          <a:pt x="0" y="23"/>
                        </a:moveTo>
                        <a:lnTo>
                          <a:pt x="32" y="0"/>
                        </a:lnTo>
                        <a:lnTo>
                          <a:pt x="105" y="30"/>
                        </a:lnTo>
                        <a:lnTo>
                          <a:pt x="32" y="59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5797800" y="3681000"/>
                  <a:ext cx="79920" cy="122760"/>
                </a:xfrm>
                <a:custGeom>
                  <a:avLst/>
                  <a:gdLst/>
                  <a:ahLst/>
                  <a:rect l="l" t="t" r="r" b="b"/>
                  <a:pathLst>
                    <a:path w="61" h="98">
                      <a:moveTo>
                        <a:pt x="30" y="97"/>
                      </a:moveTo>
                      <a:lnTo>
                        <a:pt x="0" y="96"/>
                      </a:lnTo>
                      <a:lnTo>
                        <a:pt x="12" y="0"/>
                      </a:lnTo>
                      <a:lnTo>
                        <a:pt x="60" y="19"/>
                      </a:lnTo>
                      <a:lnTo>
                        <a:pt x="30" y="9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716800" y="3069720"/>
                <a:ext cx="580680" cy="984600"/>
                <a:chOff x="5716800" y="3069720"/>
                <a:chExt cx="580680" cy="9846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769000" y="3069720"/>
                  <a:ext cx="476280" cy="4136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716800" y="3350520"/>
                  <a:ext cx="474840" cy="4136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930640" y="3733200"/>
                  <a:ext cx="366840" cy="3211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876640" y="3685680"/>
                  <a:ext cx="205560" cy="17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868720" y="3537720"/>
                  <a:ext cx="321480" cy="360000"/>
                </a:xfrm>
                <a:custGeom>
                  <a:avLst/>
                  <a:gdLst/>
                  <a:ahLst/>
                  <a:rect l="l" t="t" r="r" b="b"/>
                  <a:pathLst>
                    <a:path w="245" h="287">
                      <a:moveTo>
                        <a:pt x="70" y="274"/>
                      </a:moveTo>
                      <a:lnTo>
                        <a:pt x="73" y="239"/>
                      </a:lnTo>
                      <a:lnTo>
                        <a:pt x="15" y="175"/>
                      </a:lnTo>
                      <a:lnTo>
                        <a:pt x="0" y="169"/>
                      </a:lnTo>
                      <a:lnTo>
                        <a:pt x="85" y="0"/>
                      </a:lnTo>
                      <a:lnTo>
                        <a:pt x="244" y="286"/>
                      </a:lnTo>
                      <a:lnTo>
                        <a:pt x="70" y="27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828040" y="3303000"/>
                  <a:ext cx="209520" cy="100080"/>
                </a:xfrm>
                <a:custGeom>
                  <a:avLst/>
                  <a:gdLst/>
                  <a:ahLst/>
                  <a:rect l="l" t="t" r="r" b="b"/>
                  <a:pathLst>
                    <a:path w="160" h="80">
                      <a:moveTo>
                        <a:pt x="18" y="68"/>
                      </a:moveTo>
                      <a:lnTo>
                        <a:pt x="0" y="44"/>
                      </a:lnTo>
                      <a:lnTo>
                        <a:pt x="159" y="0"/>
                      </a:lnTo>
                      <a:lnTo>
                        <a:pt x="154" y="79"/>
                      </a:lnTo>
                      <a:lnTo>
                        <a:pt x="18" y="6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6039720" y="2974680"/>
                <a:ext cx="258120" cy="219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89680" y="3101040"/>
                <a:ext cx="140400" cy="119160"/>
              </a:xfrm>
              <a:custGeom>
                <a:avLst/>
                <a:gdLst/>
                <a:ahLst/>
                <a:rect l="l" t="t" r="r" b="b"/>
                <a:pathLst>
                  <a:path w="107" h="95">
                    <a:moveTo>
                      <a:pt x="63" y="0"/>
                    </a:moveTo>
                    <a:lnTo>
                      <a:pt x="0" y="32"/>
                    </a:lnTo>
                    <a:lnTo>
                      <a:pt x="73" y="94"/>
                    </a:lnTo>
                    <a:lnTo>
                      <a:pt x="106" y="6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513840" y="2714040"/>
              <a:ext cx="313200" cy="2671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7920" y="2760120"/>
              <a:ext cx="262440" cy="2206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60320" y="2835720"/>
              <a:ext cx="258840" cy="2242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14600" y="2790360"/>
              <a:ext cx="521280" cy="303480"/>
            </a:xfrm>
            <a:custGeom>
              <a:avLst/>
              <a:gdLst/>
              <a:ahLst/>
              <a:rect l="l" t="t" r="r" b="b"/>
              <a:pathLst>
                <a:path w="398" h="242">
                  <a:moveTo>
                    <a:pt x="28" y="171"/>
                  </a:moveTo>
                  <a:lnTo>
                    <a:pt x="64" y="155"/>
                  </a:lnTo>
                  <a:lnTo>
                    <a:pt x="170" y="60"/>
                  </a:lnTo>
                  <a:lnTo>
                    <a:pt x="196" y="19"/>
                  </a:lnTo>
                  <a:lnTo>
                    <a:pt x="313" y="19"/>
                  </a:lnTo>
                  <a:lnTo>
                    <a:pt x="338" y="0"/>
                  </a:lnTo>
                  <a:lnTo>
                    <a:pt x="397" y="70"/>
                  </a:lnTo>
                  <a:lnTo>
                    <a:pt x="129" y="241"/>
                  </a:lnTo>
                  <a:lnTo>
                    <a:pt x="0" y="202"/>
                  </a:lnTo>
                  <a:lnTo>
                    <a:pt x="28" y="1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8317440" y="3351240"/>
              <a:ext cx="452160" cy="559080"/>
              <a:chOff x="8317440" y="3351240"/>
              <a:chExt cx="452160" cy="559080"/>
            </a:xfrm>
          </p:grpSpPr>
          <p:sp>
            <p:nvSpPr>
              <p:cNvPr id="474" name=""/>
              <p:cNvSpPr/>
              <p:nvPr/>
            </p:nvSpPr>
            <p:spPr>
              <a:xfrm>
                <a:off x="8566560" y="3546720"/>
                <a:ext cx="203040" cy="17280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476200" y="3351240"/>
                <a:ext cx="259560" cy="22572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17440" y="3593160"/>
                <a:ext cx="363240" cy="317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570160" y="3524040"/>
                <a:ext cx="136440" cy="17316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43" y="137"/>
                    </a:moveTo>
                    <a:lnTo>
                      <a:pt x="103" y="110"/>
                    </a:lnTo>
                    <a:lnTo>
                      <a:pt x="101" y="27"/>
                    </a:lnTo>
                    <a:lnTo>
                      <a:pt x="81" y="0"/>
                    </a:lnTo>
                    <a:lnTo>
                      <a:pt x="0" y="27"/>
                    </a:lnTo>
                    <a:lnTo>
                      <a:pt x="43" y="13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934760" y="3115440"/>
              <a:ext cx="693360" cy="927000"/>
              <a:chOff x="7934760" y="3115440"/>
              <a:chExt cx="693360" cy="927000"/>
            </a:xfrm>
          </p:grpSpPr>
          <p:sp>
            <p:nvSpPr>
              <p:cNvPr id="479" name=""/>
              <p:cNvSpPr/>
              <p:nvPr/>
            </p:nvSpPr>
            <p:spPr>
              <a:xfrm>
                <a:off x="7934760" y="3593520"/>
                <a:ext cx="475560" cy="4089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368560" y="3498120"/>
                <a:ext cx="259560" cy="2217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03320" y="3260520"/>
                <a:ext cx="369360" cy="31644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098560" y="3115440"/>
                <a:ext cx="367200" cy="31500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110440" y="3534480"/>
                <a:ext cx="326160" cy="272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61760" y="3870720"/>
                <a:ext cx="205920" cy="17172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01080" y="3725280"/>
                <a:ext cx="234360" cy="140400"/>
              </a:xfrm>
              <a:custGeom>
                <a:avLst/>
                <a:gdLst/>
                <a:ahLst/>
                <a:rect l="l" t="t" r="r" b="b"/>
                <a:pathLst>
                  <a:path w="179" h="112">
                    <a:moveTo>
                      <a:pt x="178" y="81"/>
                    </a:moveTo>
                    <a:lnTo>
                      <a:pt x="155" y="29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168" y="111"/>
                    </a:lnTo>
                    <a:lnTo>
                      <a:pt x="178" y="81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88280" y="3336120"/>
                <a:ext cx="266400" cy="281160"/>
              </a:xfrm>
              <a:custGeom>
                <a:avLst/>
                <a:gdLst/>
                <a:ahLst/>
                <a:rect l="l" t="t" r="r" b="b"/>
                <a:pathLst>
                  <a:path w="203" h="224">
                    <a:moveTo>
                      <a:pt x="77" y="223"/>
                    </a:moveTo>
                    <a:lnTo>
                      <a:pt x="202" y="167"/>
                    </a:lnTo>
                    <a:lnTo>
                      <a:pt x="150" y="122"/>
                    </a:lnTo>
                    <a:lnTo>
                      <a:pt x="142" y="13"/>
                    </a:lnTo>
                    <a:lnTo>
                      <a:pt x="112" y="0"/>
                    </a:lnTo>
                    <a:lnTo>
                      <a:pt x="8" y="70"/>
                    </a:lnTo>
                    <a:lnTo>
                      <a:pt x="0" y="200"/>
                    </a:lnTo>
                    <a:lnTo>
                      <a:pt x="77" y="22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8035200" y="3809520"/>
              <a:ext cx="145080" cy="13392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110" y="48"/>
                  </a:moveTo>
                  <a:lnTo>
                    <a:pt x="63" y="106"/>
                  </a:lnTo>
                  <a:lnTo>
                    <a:pt x="0" y="48"/>
                  </a:lnTo>
                  <a:lnTo>
                    <a:pt x="53" y="0"/>
                  </a:lnTo>
                  <a:lnTo>
                    <a:pt x="110" y="4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880" y="3641400"/>
              <a:ext cx="584280" cy="506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36240" y="3783960"/>
              <a:ext cx="473400" cy="4114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30640" y="3115440"/>
              <a:ext cx="747720" cy="6498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30600" y="2735280"/>
              <a:ext cx="856800" cy="7488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56080" y="2833200"/>
              <a:ext cx="640080" cy="5544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27120" y="2925720"/>
              <a:ext cx="476640" cy="4111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80400" y="3260880"/>
              <a:ext cx="478080" cy="4114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91520" y="3405240"/>
              <a:ext cx="749160" cy="6498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41360" y="2639880"/>
              <a:ext cx="747720" cy="6498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85000" y="3498120"/>
              <a:ext cx="585720" cy="5043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02800" y="3739320"/>
              <a:ext cx="527400" cy="4564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64920" y="2840400"/>
              <a:ext cx="2096280" cy="1230840"/>
            </a:xfrm>
            <a:custGeom>
              <a:avLst/>
              <a:gdLst/>
              <a:ahLst/>
              <a:rect l="l" t="t" r="r" b="b"/>
              <a:pathLst>
                <a:path w="1599" h="981">
                  <a:moveTo>
                    <a:pt x="1105" y="882"/>
                  </a:moveTo>
                  <a:lnTo>
                    <a:pt x="1038" y="952"/>
                  </a:lnTo>
                  <a:lnTo>
                    <a:pt x="740" y="948"/>
                  </a:lnTo>
                  <a:lnTo>
                    <a:pt x="529" y="980"/>
                  </a:lnTo>
                  <a:lnTo>
                    <a:pt x="262" y="863"/>
                  </a:lnTo>
                  <a:lnTo>
                    <a:pt x="129" y="896"/>
                  </a:lnTo>
                  <a:lnTo>
                    <a:pt x="57" y="882"/>
                  </a:lnTo>
                  <a:lnTo>
                    <a:pt x="41" y="591"/>
                  </a:lnTo>
                  <a:lnTo>
                    <a:pt x="0" y="545"/>
                  </a:lnTo>
                  <a:lnTo>
                    <a:pt x="123" y="318"/>
                  </a:lnTo>
                  <a:lnTo>
                    <a:pt x="257" y="473"/>
                  </a:lnTo>
                  <a:lnTo>
                    <a:pt x="294" y="393"/>
                  </a:lnTo>
                  <a:lnTo>
                    <a:pt x="483" y="85"/>
                  </a:lnTo>
                  <a:lnTo>
                    <a:pt x="1115" y="0"/>
                  </a:lnTo>
                  <a:lnTo>
                    <a:pt x="1444" y="60"/>
                  </a:lnTo>
                  <a:lnTo>
                    <a:pt x="1547" y="253"/>
                  </a:lnTo>
                  <a:lnTo>
                    <a:pt x="1547" y="450"/>
                  </a:lnTo>
                  <a:lnTo>
                    <a:pt x="1598" y="615"/>
                  </a:lnTo>
                  <a:lnTo>
                    <a:pt x="1105" y="8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2564640" y="2578320"/>
              <a:ext cx="2679120" cy="653400"/>
              <a:chOff x="2564640" y="2578320"/>
              <a:chExt cx="2679120" cy="653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132080" y="2609280"/>
                <a:ext cx="1111680" cy="560520"/>
                <a:chOff x="4132080" y="2609280"/>
                <a:chExt cx="1111680" cy="56052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4557960" y="2719440"/>
                  <a:ext cx="685800" cy="450360"/>
                  <a:chOff x="4557960" y="2719440"/>
                  <a:chExt cx="685800" cy="45036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4732200" y="2779560"/>
                    <a:ext cx="511560" cy="330840"/>
                    <a:chOff x="4732200" y="2779560"/>
                    <a:chExt cx="511560" cy="330840"/>
                  </a:xfrm>
                </p:grpSpPr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4732200" y="2779560"/>
                      <a:ext cx="511560" cy="330840"/>
                      <a:chOff x="4732200" y="2779560"/>
                      <a:chExt cx="511560" cy="330840"/>
                    </a:xfrm>
                  </p:grpSpPr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4863240" y="2820600"/>
                        <a:ext cx="380520" cy="267840"/>
                        <a:chOff x="4863240" y="2820600"/>
                        <a:chExt cx="380520" cy="267840"/>
                      </a:xfrm>
                    </p:grpSpPr>
                    <p:grpSp>
                      <p:nvGrpSpPr>
                        <p:cNvPr id="506" name=""/>
                        <p:cNvGrpSpPr/>
                        <p:nvPr/>
                      </p:nvGrpSpPr>
                      <p:grpSpPr>
                        <a:xfrm>
                          <a:off x="4906440" y="2820600"/>
                          <a:ext cx="337320" cy="267840"/>
                          <a:chOff x="4906440" y="2820600"/>
                          <a:chExt cx="337320" cy="267840"/>
                        </a:xfrm>
                      </p:grpSpPr>
                      <p:sp>
                        <p:nvSpPr>
                          <p:cNvPr id="507" name=""/>
                          <p:cNvSpPr/>
                          <p:nvPr/>
                        </p:nvSpPr>
                        <p:spPr>
                          <a:xfrm>
                            <a:off x="5081760" y="2860560"/>
                            <a:ext cx="162000" cy="67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080" bIns="1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8" name=""/>
                          <p:cNvSpPr/>
                          <p:nvPr/>
                        </p:nvSpPr>
                        <p:spPr>
                          <a:xfrm>
                            <a:off x="4949280" y="2820600"/>
                            <a:ext cx="205560" cy="86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4040" bIns="14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9" name=""/>
                          <p:cNvSpPr/>
                          <p:nvPr/>
                        </p:nvSpPr>
                        <p:spPr>
                          <a:xfrm>
                            <a:off x="5037120" y="2962080"/>
                            <a:ext cx="163440" cy="6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0" bIns="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4906440" y="3000960"/>
                            <a:ext cx="20808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5041080" y="2874240"/>
                            <a:ext cx="144000" cy="15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" h="126">
                                <a:moveTo>
                                  <a:pt x="109" y="1"/>
                                </a:moveTo>
                                <a:lnTo>
                                  <a:pt x="63" y="0"/>
                                </a:lnTo>
                                <a:lnTo>
                                  <a:pt x="0" y="125"/>
                                </a:lnTo>
                                <a:lnTo>
                                  <a:pt x="68" y="115"/>
                                </a:lnTo>
                                <a:lnTo>
                                  <a:pt x="69" y="54"/>
                                </a:lnTo>
                                <a:lnTo>
                                  <a:pt x="109" y="1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4863240" y="2879280"/>
                          <a:ext cx="294480" cy="129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4863240" y="2840760"/>
                          <a:ext cx="207000" cy="874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5480" bIns="15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>
                          <a:off x="4926240" y="2880720"/>
                          <a:ext cx="151560" cy="16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" h="135">
                              <a:moveTo>
                                <a:pt x="105" y="112"/>
                              </a:moveTo>
                              <a:lnTo>
                                <a:pt x="91" y="83"/>
                              </a:lnTo>
                              <a:lnTo>
                                <a:pt x="115" y="18"/>
                              </a:lnTo>
                              <a:lnTo>
                                <a:pt x="69" y="0"/>
                              </a:lnTo>
                              <a:lnTo>
                                <a:pt x="0" y="77"/>
                              </a:lnTo>
                              <a:lnTo>
                                <a:pt x="55" y="134"/>
                              </a:lnTo>
                              <a:lnTo>
                                <a:pt x="105" y="1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4863240" y="2779560"/>
                        <a:ext cx="162360" cy="67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80" bIns="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4732200" y="3021480"/>
                        <a:ext cx="207000" cy="88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6200" bIns="16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4911480" y="2836800"/>
                        <a:ext cx="11124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26">
                            <a:moveTo>
                              <a:pt x="84" y="10"/>
                            </a:moveTo>
                            <a:lnTo>
                              <a:pt x="59" y="0"/>
                            </a:lnTo>
                            <a:lnTo>
                              <a:pt x="0" y="13"/>
                            </a:lnTo>
                            <a:lnTo>
                              <a:pt x="59" y="25"/>
                            </a:lnTo>
                            <a:lnTo>
                              <a:pt x="84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896000" y="3016080"/>
                      <a:ext cx="6552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2">
                          <a:moveTo>
                            <a:pt x="25" y="41"/>
                          </a:moveTo>
                          <a:lnTo>
                            <a:pt x="49" y="41"/>
                          </a:lnTo>
                          <a:lnTo>
                            <a:pt x="39" y="0"/>
                          </a:lnTo>
                          <a:lnTo>
                            <a:pt x="0" y="8"/>
                          </a:lnTo>
                          <a:lnTo>
                            <a:pt x="25" y="4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4557960" y="2759400"/>
                    <a:ext cx="467640" cy="410400"/>
                    <a:chOff x="4557960" y="2759400"/>
                    <a:chExt cx="467640" cy="41040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4600800" y="2759400"/>
                      <a:ext cx="381240" cy="168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44360" y="2879280"/>
                      <a:ext cx="381240" cy="169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557960" y="3040920"/>
                      <a:ext cx="294840" cy="12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4732200" y="3021120"/>
                      <a:ext cx="162360" cy="67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4645440" y="2954520"/>
                      <a:ext cx="2581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22">
                          <a:moveTo>
                            <a:pt x="140" y="116"/>
                          </a:moveTo>
                          <a:lnTo>
                            <a:pt x="137" y="101"/>
                          </a:lnTo>
                          <a:lnTo>
                            <a:pt x="184" y="74"/>
                          </a:lnTo>
                          <a:lnTo>
                            <a:pt x="196" y="72"/>
                          </a:lnTo>
                          <a:lnTo>
                            <a:pt x="127" y="0"/>
                          </a:lnTo>
                          <a:lnTo>
                            <a:pt x="0" y="121"/>
                          </a:lnTo>
                          <a:lnTo>
                            <a:pt x="140" y="11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767480" y="2855880"/>
                      <a:ext cx="169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5">
                          <a:moveTo>
                            <a:pt x="114" y="29"/>
                          </a:moveTo>
                          <a:lnTo>
                            <a:pt x="128" y="19"/>
                          </a:lnTo>
                          <a:lnTo>
                            <a:pt x="0" y="0"/>
                          </a:lnTo>
                          <a:lnTo>
                            <a:pt x="4" y="34"/>
                          </a:lnTo>
                          <a:lnTo>
                            <a:pt x="114" y="29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4557960" y="2719440"/>
                    <a:ext cx="206640" cy="8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694040" y="2770560"/>
                    <a:ext cx="1141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35" y="0"/>
                        </a:moveTo>
                        <a:lnTo>
                          <a:pt x="86" y="13"/>
                        </a:lnTo>
                        <a:lnTo>
                          <a:pt x="27" y="39"/>
                        </a:lnTo>
                        <a:lnTo>
                          <a:pt x="0" y="25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8" name=""/>
                <p:cNvSpPr/>
                <p:nvPr/>
              </p:nvSpPr>
              <p:spPr>
                <a:xfrm>
                  <a:off x="4132080" y="2609280"/>
                  <a:ext cx="250200" cy="10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338720" y="2628000"/>
                  <a:ext cx="208440" cy="88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459680" y="2660400"/>
                  <a:ext cx="207000" cy="88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285080" y="2639160"/>
                  <a:ext cx="420840" cy="128880"/>
                </a:xfrm>
                <a:custGeom>
                  <a:avLst/>
                  <a:gdLst/>
                  <a:ahLst/>
                  <a:rect l="l" t="t" r="r" b="b"/>
                  <a:pathLst>
                    <a:path w="321" h="103">
                      <a:moveTo>
                        <a:pt x="298" y="72"/>
                      </a:moveTo>
                      <a:lnTo>
                        <a:pt x="268" y="66"/>
                      </a:lnTo>
                      <a:lnTo>
                        <a:pt x="183" y="25"/>
                      </a:lnTo>
                      <a:lnTo>
                        <a:pt x="162" y="8"/>
                      </a:lnTo>
                      <a:lnTo>
                        <a:pt x="68" y="8"/>
                      </a:lnTo>
                      <a:lnTo>
                        <a:pt x="48" y="0"/>
                      </a:lnTo>
                      <a:lnTo>
                        <a:pt x="0" y="30"/>
                      </a:lnTo>
                      <a:lnTo>
                        <a:pt x="216" y="102"/>
                      </a:lnTo>
                      <a:lnTo>
                        <a:pt x="320" y="85"/>
                      </a:lnTo>
                      <a:lnTo>
                        <a:pt x="298" y="7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2564640" y="2780280"/>
                <a:ext cx="671040" cy="387360"/>
                <a:chOff x="2564640" y="2780280"/>
                <a:chExt cx="671040" cy="38736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2564640" y="2880360"/>
                  <a:ext cx="363960" cy="230400"/>
                  <a:chOff x="2564640" y="2880360"/>
                  <a:chExt cx="363960" cy="2304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2564640" y="2962800"/>
                    <a:ext cx="162360" cy="66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591640" y="2880360"/>
                    <a:ext cx="207000" cy="8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635200" y="2981520"/>
                    <a:ext cx="293400" cy="12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615760" y="2950560"/>
                    <a:ext cx="1098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48" y="58"/>
                        </a:moveTo>
                        <a:lnTo>
                          <a:pt x="0" y="47"/>
                        </a:lnTo>
                        <a:lnTo>
                          <a:pt x="2" y="11"/>
                        </a:lnTo>
                        <a:lnTo>
                          <a:pt x="18" y="0"/>
                        </a:lnTo>
                        <a:lnTo>
                          <a:pt x="83" y="11"/>
                        </a:lnTo>
                        <a:lnTo>
                          <a:pt x="48" y="5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2678760" y="2780280"/>
                  <a:ext cx="556920" cy="387360"/>
                  <a:chOff x="2678760" y="2780280"/>
                  <a:chExt cx="556920" cy="3873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2854080" y="2981880"/>
                    <a:ext cx="38160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678760" y="2941560"/>
                    <a:ext cx="208080" cy="8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723040" y="2841480"/>
                    <a:ext cx="294840" cy="12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809800" y="2780280"/>
                    <a:ext cx="294480" cy="12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831760" y="2956680"/>
                    <a:ext cx="262080" cy="110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049200" y="3099960"/>
                    <a:ext cx="163800" cy="6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914200" y="3034800"/>
                    <a:ext cx="1886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">
                        <a:moveTo>
                          <a:pt x="0" y="34"/>
                        </a:moveTo>
                        <a:lnTo>
                          <a:pt x="18" y="12"/>
                        </a:lnTo>
                        <a:lnTo>
                          <a:pt x="143" y="0"/>
                        </a:lnTo>
                        <a:lnTo>
                          <a:pt x="143" y="30"/>
                        </a:lnTo>
                        <a:lnTo>
                          <a:pt x="8" y="47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737440" y="2870280"/>
                    <a:ext cx="21456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96">
                        <a:moveTo>
                          <a:pt x="101" y="95"/>
                        </a:moveTo>
                        <a:lnTo>
                          <a:pt x="0" y="71"/>
                        </a:lnTo>
                        <a:lnTo>
                          <a:pt x="42" y="52"/>
                        </a:lnTo>
                        <a:lnTo>
                          <a:pt x="48" y="6"/>
                        </a:lnTo>
                        <a:lnTo>
                          <a:pt x="72" y="0"/>
                        </a:lnTo>
                        <a:lnTo>
                          <a:pt x="157" y="30"/>
                        </a:lnTo>
                        <a:lnTo>
                          <a:pt x="163" y="85"/>
                        </a:lnTo>
                        <a:lnTo>
                          <a:pt x="101" y="9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3040560" y="3071160"/>
                  <a:ext cx="116280" cy="57240"/>
                </a:xfrm>
                <a:custGeom>
                  <a:avLst/>
                  <a:gdLst/>
                  <a:ahLst/>
                  <a:rect l="l" t="t" r="r" b="b"/>
                  <a:pathLst>
                    <a:path w="89" h="46">
                      <a:moveTo>
                        <a:pt x="0" y="21"/>
                      </a:moveTo>
                      <a:lnTo>
                        <a:pt x="37" y="45"/>
                      </a:lnTo>
                      <a:lnTo>
                        <a:pt x="88" y="21"/>
                      </a:lnTo>
                      <a:lnTo>
                        <a:pt x="45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2897640" y="2578320"/>
                <a:ext cx="1955160" cy="653400"/>
                <a:chOff x="2897640" y="2578320"/>
                <a:chExt cx="1955160" cy="6534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508560" y="3002040"/>
                  <a:ext cx="469440" cy="209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903480" y="3063600"/>
                  <a:ext cx="380160" cy="16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52320" y="2780280"/>
                  <a:ext cx="600480" cy="269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115080" y="2618280"/>
                  <a:ext cx="688320" cy="310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76640" y="2659680"/>
                  <a:ext cx="513000" cy="22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940480" y="2699640"/>
                  <a:ext cx="383040" cy="16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897640" y="2841480"/>
                  <a:ext cx="381240" cy="16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71880" y="2901600"/>
                  <a:ext cx="602280" cy="269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596400" y="2578320"/>
                  <a:ext cx="600480" cy="269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338720" y="2941560"/>
                  <a:ext cx="470520" cy="208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207680" y="3043440"/>
                  <a:ext cx="425880" cy="187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54960" y="2660760"/>
                  <a:ext cx="1692000" cy="521640"/>
                </a:xfrm>
                <a:custGeom>
                  <a:avLst/>
                  <a:gdLst/>
                  <a:ahLst/>
                  <a:rect l="l" t="t" r="r" b="b"/>
                  <a:pathLst>
                    <a:path w="1290" h="416">
                      <a:moveTo>
                        <a:pt x="397" y="373"/>
                      </a:moveTo>
                      <a:lnTo>
                        <a:pt x="452" y="403"/>
                      </a:lnTo>
                      <a:lnTo>
                        <a:pt x="692" y="401"/>
                      </a:lnTo>
                      <a:lnTo>
                        <a:pt x="862" y="415"/>
                      </a:lnTo>
                      <a:lnTo>
                        <a:pt x="1078" y="366"/>
                      </a:lnTo>
                      <a:lnTo>
                        <a:pt x="1185" y="380"/>
                      </a:lnTo>
                      <a:lnTo>
                        <a:pt x="1243" y="373"/>
                      </a:lnTo>
                      <a:lnTo>
                        <a:pt x="1256" y="250"/>
                      </a:lnTo>
                      <a:lnTo>
                        <a:pt x="1289" y="231"/>
                      </a:lnTo>
                      <a:lnTo>
                        <a:pt x="1189" y="135"/>
                      </a:lnTo>
                      <a:lnTo>
                        <a:pt x="1082" y="200"/>
                      </a:lnTo>
                      <a:lnTo>
                        <a:pt x="1052" y="167"/>
                      </a:lnTo>
                      <a:lnTo>
                        <a:pt x="899" y="36"/>
                      </a:lnTo>
                      <a:lnTo>
                        <a:pt x="390" y="0"/>
                      </a:lnTo>
                      <a:lnTo>
                        <a:pt x="124" y="26"/>
                      </a:lnTo>
                      <a:lnTo>
                        <a:pt x="41" y="107"/>
                      </a:lnTo>
                      <a:lnTo>
                        <a:pt x="41" y="191"/>
                      </a:lnTo>
                      <a:lnTo>
                        <a:pt x="0" y="260"/>
                      </a:lnTo>
                      <a:lnTo>
                        <a:pt x="397" y="37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1" name=""/>
            <p:cNvGrpSpPr/>
            <p:nvPr/>
          </p:nvGrpSpPr>
          <p:grpSpPr>
            <a:xfrm>
              <a:off x="5695560" y="3061440"/>
              <a:ext cx="2381040" cy="1134000"/>
              <a:chOff x="5695560" y="3061440"/>
              <a:chExt cx="2381040" cy="11340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5695560" y="3115440"/>
                <a:ext cx="988560" cy="976320"/>
                <a:chOff x="5695560" y="3115440"/>
                <a:chExt cx="988560" cy="97632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5695560" y="3305880"/>
                  <a:ext cx="608040" cy="785880"/>
                  <a:chOff x="5695560" y="3305880"/>
                  <a:chExt cx="608040" cy="785880"/>
                </a:xfrm>
              </p:grpSpPr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695560" y="3408480"/>
                    <a:ext cx="454320" cy="577440"/>
                    <a:chOff x="5695560" y="3408480"/>
                    <a:chExt cx="454320" cy="577440"/>
                  </a:xfrm>
                </p:grpSpPr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5695560" y="3408480"/>
                      <a:ext cx="454320" cy="577440"/>
                      <a:chOff x="5695560" y="3408480"/>
                      <a:chExt cx="454320" cy="577440"/>
                    </a:xfrm>
                  </p:grpSpPr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5695560" y="3479760"/>
                        <a:ext cx="337680" cy="469440"/>
                        <a:chOff x="5695560" y="3479760"/>
                        <a:chExt cx="337680" cy="469440"/>
                      </a:xfrm>
                    </p:grpSpPr>
                    <p:grpSp>
                      <p:nvGrpSpPr>
                        <p:cNvPr id="567" name=""/>
                        <p:cNvGrpSpPr/>
                        <p:nvPr/>
                      </p:nvGrpSpPr>
                      <p:grpSpPr>
                        <a:xfrm>
                          <a:off x="5695560" y="3479760"/>
                          <a:ext cx="298440" cy="469440"/>
                          <a:chOff x="5695560" y="3479760"/>
                          <a:chExt cx="298440" cy="469440"/>
                        </a:xfrm>
                      </p:grpSpPr>
                      <p:sp>
                        <p:nvSpPr>
                          <p:cNvPr id="568" name=""/>
                          <p:cNvSpPr/>
                          <p:nvPr/>
                        </p:nvSpPr>
                        <p:spPr>
                          <a:xfrm>
                            <a:off x="5695560" y="3549600"/>
                            <a:ext cx="142560" cy="1252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1760" bIns="41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>
                            <a:off x="5774040" y="3479760"/>
                            <a:ext cx="180360" cy="1551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>
                            <a:off x="5734800" y="3722760"/>
                            <a:ext cx="144000" cy="1238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1040" bIns="41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>
                            <a:off x="5809320" y="3791520"/>
                            <a:ext cx="184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>
                            <a:off x="5748120" y="3574800"/>
                            <a:ext cx="128160" cy="273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218">
                                <a:moveTo>
                                  <a:pt x="0" y="2"/>
                                </a:moveTo>
                                <a:lnTo>
                                  <a:pt x="41" y="0"/>
                                </a:lnTo>
                                <a:lnTo>
                                  <a:pt x="97" y="217"/>
                                </a:lnTo>
                                <a:lnTo>
                                  <a:pt x="37" y="200"/>
                                </a:lnTo>
                                <a:lnTo>
                                  <a:pt x="35" y="93"/>
                                </a:lnTo>
                                <a:lnTo>
                                  <a:pt x="0" y="2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5772600" y="3579840"/>
                          <a:ext cx="260640" cy="2314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5850000" y="3514680"/>
                          <a:ext cx="18324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5843520" y="3587400"/>
                          <a:ext cx="135720" cy="29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233">
                              <a:moveTo>
                                <a:pt x="9" y="193"/>
                              </a:moveTo>
                              <a:lnTo>
                                <a:pt x="21" y="143"/>
                              </a:lnTo>
                              <a:lnTo>
                                <a:pt x="0" y="32"/>
                              </a:lnTo>
                              <a:lnTo>
                                <a:pt x="41" y="0"/>
                              </a:lnTo>
                              <a:lnTo>
                                <a:pt x="103" y="134"/>
                              </a:lnTo>
                              <a:lnTo>
                                <a:pt x="54" y="232"/>
                              </a:lnTo>
                              <a:lnTo>
                                <a:pt x="9" y="19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5890680" y="3408480"/>
                        <a:ext cx="142920" cy="1238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040" bIns="41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5965560" y="3824280"/>
                        <a:ext cx="184320" cy="161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5892120" y="3513600"/>
                        <a:ext cx="9936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44">
                            <a:moveTo>
                              <a:pt x="0" y="16"/>
                            </a:moveTo>
                            <a:lnTo>
                              <a:pt x="23" y="0"/>
                            </a:lnTo>
                            <a:lnTo>
                              <a:pt x="75" y="22"/>
                            </a:lnTo>
                            <a:lnTo>
                              <a:pt x="23" y="43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947200" y="3819240"/>
                      <a:ext cx="576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72">
                          <a:moveTo>
                            <a:pt x="22" y="71"/>
                          </a:moveTo>
                          <a:lnTo>
                            <a:pt x="0" y="70"/>
                          </a:lnTo>
                          <a:lnTo>
                            <a:pt x="9" y="0"/>
                          </a:lnTo>
                          <a:lnTo>
                            <a:pt x="43" y="14"/>
                          </a:lnTo>
                          <a:lnTo>
                            <a:pt x="22" y="7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890680" y="3376080"/>
                    <a:ext cx="412920" cy="715680"/>
                    <a:chOff x="5890680" y="3376080"/>
                    <a:chExt cx="412920" cy="7156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928480" y="3376080"/>
                      <a:ext cx="338040" cy="299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890680" y="3580560"/>
                      <a:ext cx="336960" cy="299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044040" y="3859920"/>
                      <a:ext cx="259560" cy="231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6005880" y="3825000"/>
                      <a:ext cx="144000" cy="125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1760" bIns="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5997960" y="3715920"/>
                      <a:ext cx="23040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210">
                          <a:moveTo>
                            <a:pt x="50" y="200"/>
                          </a:moveTo>
                          <a:lnTo>
                            <a:pt x="52" y="175"/>
                          </a:lnTo>
                          <a:lnTo>
                            <a:pt x="11" y="128"/>
                          </a:lnTo>
                          <a:lnTo>
                            <a:pt x="0" y="124"/>
                          </a:lnTo>
                          <a:lnTo>
                            <a:pt x="61" y="0"/>
                          </a:lnTo>
                          <a:lnTo>
                            <a:pt x="175" y="209"/>
                          </a:lnTo>
                          <a:lnTo>
                            <a:pt x="50" y="20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5969160" y="3545280"/>
                      <a:ext cx="15048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8">
                          <a:moveTo>
                            <a:pt x="13" y="49"/>
                          </a:moveTo>
                          <a:lnTo>
                            <a:pt x="0" y="32"/>
                          </a:lnTo>
                          <a:lnTo>
                            <a:pt x="114" y="0"/>
                          </a:lnTo>
                          <a:lnTo>
                            <a:pt x="111" y="57"/>
                          </a:lnTo>
                          <a:lnTo>
                            <a:pt x="13" y="49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7" name=""/>
                  <p:cNvSpPr/>
                  <p:nvPr/>
                </p:nvSpPr>
                <p:spPr>
                  <a:xfrm>
                    <a:off x="6122880" y="3305880"/>
                    <a:ext cx="1807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085080" y="3397320"/>
                    <a:ext cx="1008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0">
                        <a:moveTo>
                          <a:pt x="45" y="0"/>
                        </a:moveTo>
                        <a:lnTo>
                          <a:pt x="0" y="23"/>
                        </a:lnTo>
                        <a:lnTo>
                          <a:pt x="52" y="69"/>
                        </a:lnTo>
                        <a:lnTo>
                          <a:pt x="76" y="44"/>
                        </a:lnTo>
                        <a:lnTo>
                          <a:pt x="4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>
                  <a:off x="6462720" y="3115440"/>
                  <a:ext cx="221400" cy="19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314760" y="3149280"/>
                  <a:ext cx="186120" cy="15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208560" y="3204360"/>
                  <a:ext cx="183240" cy="161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174360" y="3170520"/>
                  <a:ext cx="374760" cy="221760"/>
                </a:xfrm>
                <a:custGeom>
                  <a:avLst/>
                  <a:gdLst/>
                  <a:ahLst/>
                  <a:rect l="l" t="t" r="r" b="b"/>
                  <a:pathLst>
                    <a:path w="286" h="177">
                      <a:moveTo>
                        <a:pt x="20" y="125"/>
                      </a:moveTo>
                      <a:lnTo>
                        <a:pt x="46" y="113"/>
                      </a:lnTo>
                      <a:lnTo>
                        <a:pt x="122" y="44"/>
                      </a:lnTo>
                      <a:lnTo>
                        <a:pt x="141" y="14"/>
                      </a:lnTo>
                      <a:lnTo>
                        <a:pt x="225" y="14"/>
                      </a:lnTo>
                      <a:lnTo>
                        <a:pt x="243" y="0"/>
                      </a:lnTo>
                      <a:lnTo>
                        <a:pt x="285" y="51"/>
                      </a:lnTo>
                      <a:lnTo>
                        <a:pt x="93" y="176"/>
                      </a:lnTo>
                      <a:lnTo>
                        <a:pt x="0" y="147"/>
                      </a:lnTo>
                      <a:lnTo>
                        <a:pt x="20" y="1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7481880" y="3408840"/>
                <a:ext cx="594720" cy="674280"/>
                <a:chOff x="7481880" y="3408840"/>
                <a:chExt cx="594720" cy="67428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7755840" y="3580560"/>
                  <a:ext cx="320760" cy="406080"/>
                  <a:chOff x="7755840" y="3580560"/>
                  <a:chExt cx="320760" cy="4060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7934040" y="3723480"/>
                    <a:ext cx="142560" cy="123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869960" y="3580560"/>
                    <a:ext cx="182160" cy="16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755840" y="3757320"/>
                    <a:ext cx="256680" cy="22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935120" y="3705840"/>
                    <a:ext cx="982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1">
                        <a:moveTo>
                          <a:pt x="31" y="100"/>
                        </a:moveTo>
                        <a:lnTo>
                          <a:pt x="74" y="81"/>
                        </a:lnTo>
                        <a:lnTo>
                          <a:pt x="73" y="19"/>
                        </a:lnTo>
                        <a:lnTo>
                          <a:pt x="58" y="0"/>
                        </a:lnTo>
                        <a:lnTo>
                          <a:pt x="0" y="19"/>
                        </a:lnTo>
                        <a:lnTo>
                          <a:pt x="31" y="10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481880" y="3408840"/>
                  <a:ext cx="494280" cy="674280"/>
                  <a:chOff x="7481880" y="3408840"/>
                  <a:chExt cx="494280" cy="6742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7481880" y="3757320"/>
                    <a:ext cx="33840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792560" y="3688200"/>
                    <a:ext cx="183600" cy="159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7674840" y="3515400"/>
                    <a:ext cx="260640" cy="227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7598520" y="3408840"/>
                    <a:ext cx="26064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607880" y="3714840"/>
                    <a:ext cx="230760" cy="19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501320" y="3960360"/>
                    <a:ext cx="144360" cy="122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598520" y="3852720"/>
                    <a:ext cx="1692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82">
                        <a:moveTo>
                          <a:pt x="128" y="59"/>
                        </a:moveTo>
                        <a:lnTo>
                          <a:pt x="112" y="21"/>
                        </a:lnTo>
                        <a:lnTo>
                          <a:pt x="0" y="0"/>
                        </a:lnTo>
                        <a:lnTo>
                          <a:pt x="0" y="51"/>
                        </a:lnTo>
                        <a:lnTo>
                          <a:pt x="121" y="81"/>
                        </a:lnTo>
                        <a:lnTo>
                          <a:pt x="128" y="5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733520" y="3569040"/>
                    <a:ext cx="191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63">
                        <a:moveTo>
                          <a:pt x="56" y="162"/>
                        </a:moveTo>
                        <a:lnTo>
                          <a:pt x="145" y="122"/>
                        </a:lnTo>
                        <a:lnTo>
                          <a:pt x="108" y="89"/>
                        </a:lnTo>
                        <a:lnTo>
                          <a:pt x="102" y="9"/>
                        </a:lnTo>
                        <a:lnTo>
                          <a:pt x="81" y="0"/>
                        </a:lnTo>
                        <a:lnTo>
                          <a:pt x="5" y="51"/>
                        </a:lnTo>
                        <a:lnTo>
                          <a:pt x="0" y="146"/>
                        </a:lnTo>
                        <a:lnTo>
                          <a:pt x="56" y="16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7552440" y="3914280"/>
                  <a:ext cx="103680" cy="97560"/>
                </a:xfrm>
                <a:custGeom>
                  <a:avLst/>
                  <a:gdLst/>
                  <a:ahLst/>
                  <a:rect l="l" t="t" r="r" b="b"/>
                  <a:pathLst>
                    <a:path w="79" h="78">
                      <a:moveTo>
                        <a:pt x="78" y="35"/>
                      </a:moveTo>
                      <a:lnTo>
                        <a:pt x="45" y="77"/>
                      </a:lnTo>
                      <a:lnTo>
                        <a:pt x="0" y="35"/>
                      </a:lnTo>
                      <a:lnTo>
                        <a:pt x="38" y="0"/>
                      </a:lnTo>
                      <a:lnTo>
                        <a:pt x="78" y="3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6044400" y="3061440"/>
                <a:ext cx="1737360" cy="1134000"/>
                <a:chOff x="6044400" y="3061440"/>
                <a:chExt cx="1737360" cy="11340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6820920" y="3792960"/>
                  <a:ext cx="416880" cy="367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550560" y="3897000"/>
                  <a:ext cx="335520" cy="298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044400" y="3408840"/>
                  <a:ext cx="53244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976800" y="3131640"/>
                  <a:ext cx="6109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277680" y="3203280"/>
                  <a:ext cx="45504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04120" y="3270960"/>
                  <a:ext cx="33840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442280" y="3515760"/>
                  <a:ext cx="33948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092360" y="3620880"/>
                  <a:ext cx="5335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625440" y="3061440"/>
                  <a:ext cx="5335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082200" y="3688560"/>
                  <a:ext cx="418320" cy="365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238440" y="3864600"/>
                  <a:ext cx="376200" cy="33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138720" y="3206880"/>
                  <a:ext cx="1504080" cy="899640"/>
                </a:xfrm>
                <a:custGeom>
                  <a:avLst/>
                  <a:gdLst/>
                  <a:ahLst/>
                  <a:rect l="l" t="t" r="r" b="b"/>
                  <a:pathLst>
                    <a:path w="1147" h="717">
                      <a:moveTo>
                        <a:pt x="793" y="644"/>
                      </a:moveTo>
                      <a:lnTo>
                        <a:pt x="744" y="695"/>
                      </a:lnTo>
                      <a:lnTo>
                        <a:pt x="531" y="693"/>
                      </a:lnTo>
                      <a:lnTo>
                        <a:pt x="379" y="716"/>
                      </a:lnTo>
                      <a:lnTo>
                        <a:pt x="188" y="631"/>
                      </a:lnTo>
                      <a:lnTo>
                        <a:pt x="92" y="655"/>
                      </a:lnTo>
                      <a:lnTo>
                        <a:pt x="41" y="644"/>
                      </a:lnTo>
                      <a:lnTo>
                        <a:pt x="30" y="432"/>
                      </a:lnTo>
                      <a:lnTo>
                        <a:pt x="0" y="398"/>
                      </a:lnTo>
                      <a:lnTo>
                        <a:pt x="88" y="233"/>
                      </a:lnTo>
                      <a:lnTo>
                        <a:pt x="184" y="346"/>
                      </a:lnTo>
                      <a:lnTo>
                        <a:pt x="211" y="287"/>
                      </a:lnTo>
                      <a:lnTo>
                        <a:pt x="346" y="62"/>
                      </a:lnTo>
                      <a:lnTo>
                        <a:pt x="800" y="0"/>
                      </a:lnTo>
                      <a:lnTo>
                        <a:pt x="1035" y="44"/>
                      </a:lnTo>
                      <a:lnTo>
                        <a:pt x="1109" y="185"/>
                      </a:lnTo>
                      <a:lnTo>
                        <a:pt x="1109" y="329"/>
                      </a:lnTo>
                      <a:lnTo>
                        <a:pt x="1146" y="449"/>
                      </a:lnTo>
                      <a:lnTo>
                        <a:pt x="793" y="64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2" name=""/>
            <p:cNvSpPr/>
            <p:nvPr/>
          </p:nvSpPr>
          <p:spPr>
            <a:xfrm>
              <a:off x="2373120" y="2514600"/>
              <a:ext cx="5081040" cy="3675240"/>
            </a:xfrm>
            <a:custGeom>
              <a:avLst/>
              <a:gdLst/>
              <a:ahLst/>
              <a:rect l="l" t="t" r="r" b="b"/>
              <a:pathLst>
                <a:path w="3841" h="2929">
                  <a:moveTo>
                    <a:pt x="1609" y="221"/>
                  </a:moveTo>
                  <a:lnTo>
                    <a:pt x="1503" y="217"/>
                  </a:lnTo>
                  <a:lnTo>
                    <a:pt x="1448" y="261"/>
                  </a:lnTo>
                  <a:lnTo>
                    <a:pt x="1392" y="304"/>
                  </a:lnTo>
                  <a:lnTo>
                    <a:pt x="1336" y="363"/>
                  </a:lnTo>
                  <a:lnTo>
                    <a:pt x="1281" y="421"/>
                  </a:lnTo>
                  <a:lnTo>
                    <a:pt x="1198" y="450"/>
                  </a:lnTo>
                  <a:lnTo>
                    <a:pt x="1114" y="493"/>
                  </a:lnTo>
                  <a:lnTo>
                    <a:pt x="1058" y="537"/>
                  </a:lnTo>
                  <a:lnTo>
                    <a:pt x="975" y="595"/>
                  </a:lnTo>
                  <a:lnTo>
                    <a:pt x="891" y="652"/>
                  </a:lnTo>
                  <a:lnTo>
                    <a:pt x="835" y="711"/>
                  </a:lnTo>
                  <a:lnTo>
                    <a:pt x="781" y="754"/>
                  </a:lnTo>
                  <a:lnTo>
                    <a:pt x="724" y="798"/>
                  </a:lnTo>
                  <a:lnTo>
                    <a:pt x="641" y="855"/>
                  </a:lnTo>
                  <a:lnTo>
                    <a:pt x="557" y="885"/>
                  </a:lnTo>
                  <a:lnTo>
                    <a:pt x="474" y="913"/>
                  </a:lnTo>
                  <a:lnTo>
                    <a:pt x="390" y="972"/>
                  </a:lnTo>
                  <a:lnTo>
                    <a:pt x="307" y="1029"/>
                  </a:lnTo>
                  <a:lnTo>
                    <a:pt x="280" y="1073"/>
                  </a:lnTo>
                  <a:lnTo>
                    <a:pt x="223" y="1116"/>
                  </a:lnTo>
                  <a:lnTo>
                    <a:pt x="196" y="1174"/>
                  </a:lnTo>
                  <a:lnTo>
                    <a:pt x="167" y="1232"/>
                  </a:lnTo>
                  <a:lnTo>
                    <a:pt x="167" y="1290"/>
                  </a:lnTo>
                  <a:lnTo>
                    <a:pt x="167" y="1348"/>
                  </a:lnTo>
                  <a:lnTo>
                    <a:pt x="167" y="1406"/>
                  </a:lnTo>
                  <a:lnTo>
                    <a:pt x="140" y="1464"/>
                  </a:lnTo>
                  <a:lnTo>
                    <a:pt x="113" y="1522"/>
                  </a:lnTo>
                  <a:lnTo>
                    <a:pt x="56" y="1580"/>
                  </a:lnTo>
                  <a:lnTo>
                    <a:pt x="29" y="1638"/>
                  </a:lnTo>
                  <a:lnTo>
                    <a:pt x="29" y="1696"/>
                  </a:lnTo>
                  <a:lnTo>
                    <a:pt x="29" y="1739"/>
                  </a:lnTo>
                  <a:lnTo>
                    <a:pt x="0" y="1798"/>
                  </a:lnTo>
                  <a:lnTo>
                    <a:pt x="0" y="1869"/>
                  </a:lnTo>
                  <a:lnTo>
                    <a:pt x="0" y="1913"/>
                  </a:lnTo>
                  <a:lnTo>
                    <a:pt x="0" y="1986"/>
                  </a:lnTo>
                  <a:lnTo>
                    <a:pt x="0" y="2029"/>
                  </a:lnTo>
                  <a:lnTo>
                    <a:pt x="0" y="2102"/>
                  </a:lnTo>
                  <a:lnTo>
                    <a:pt x="29" y="2174"/>
                  </a:lnTo>
                  <a:lnTo>
                    <a:pt x="29" y="2217"/>
                  </a:lnTo>
                  <a:lnTo>
                    <a:pt x="83" y="2276"/>
                  </a:lnTo>
                  <a:lnTo>
                    <a:pt x="196" y="2333"/>
                  </a:lnTo>
                  <a:lnTo>
                    <a:pt x="250" y="2377"/>
                  </a:lnTo>
                  <a:lnTo>
                    <a:pt x="363" y="2435"/>
                  </a:lnTo>
                  <a:lnTo>
                    <a:pt x="447" y="2493"/>
                  </a:lnTo>
                  <a:lnTo>
                    <a:pt x="557" y="2551"/>
                  </a:lnTo>
                  <a:lnTo>
                    <a:pt x="668" y="2608"/>
                  </a:lnTo>
                  <a:lnTo>
                    <a:pt x="751" y="2624"/>
                  </a:lnTo>
                  <a:lnTo>
                    <a:pt x="808" y="2667"/>
                  </a:lnTo>
                  <a:lnTo>
                    <a:pt x="918" y="2711"/>
                  </a:lnTo>
                  <a:lnTo>
                    <a:pt x="1031" y="2725"/>
                  </a:lnTo>
                  <a:lnTo>
                    <a:pt x="1142" y="2754"/>
                  </a:lnTo>
                  <a:lnTo>
                    <a:pt x="1225" y="2782"/>
                  </a:lnTo>
                  <a:lnTo>
                    <a:pt x="1309" y="2812"/>
                  </a:lnTo>
                  <a:lnTo>
                    <a:pt x="1419" y="2841"/>
                  </a:lnTo>
                  <a:lnTo>
                    <a:pt x="1503" y="2869"/>
                  </a:lnTo>
                  <a:lnTo>
                    <a:pt x="1586" y="2885"/>
                  </a:lnTo>
                  <a:lnTo>
                    <a:pt x="1699" y="2899"/>
                  </a:lnTo>
                  <a:lnTo>
                    <a:pt x="1782" y="2899"/>
                  </a:lnTo>
                  <a:lnTo>
                    <a:pt x="1866" y="2899"/>
                  </a:lnTo>
                  <a:lnTo>
                    <a:pt x="2003" y="2913"/>
                  </a:lnTo>
                  <a:lnTo>
                    <a:pt x="2087" y="2928"/>
                  </a:lnTo>
                  <a:lnTo>
                    <a:pt x="2200" y="2928"/>
                  </a:lnTo>
                  <a:lnTo>
                    <a:pt x="2283" y="2928"/>
                  </a:lnTo>
                  <a:lnTo>
                    <a:pt x="2367" y="2913"/>
                  </a:lnTo>
                  <a:lnTo>
                    <a:pt x="2477" y="2913"/>
                  </a:lnTo>
                  <a:lnTo>
                    <a:pt x="2561" y="2913"/>
                  </a:lnTo>
                  <a:lnTo>
                    <a:pt x="2644" y="2913"/>
                  </a:lnTo>
                  <a:lnTo>
                    <a:pt x="2755" y="2913"/>
                  </a:lnTo>
                  <a:lnTo>
                    <a:pt x="2867" y="2899"/>
                  </a:lnTo>
                  <a:lnTo>
                    <a:pt x="2978" y="2869"/>
                  </a:lnTo>
                  <a:lnTo>
                    <a:pt x="3145" y="2841"/>
                  </a:lnTo>
                  <a:lnTo>
                    <a:pt x="3256" y="2798"/>
                  </a:lnTo>
                  <a:lnTo>
                    <a:pt x="3339" y="2768"/>
                  </a:lnTo>
                  <a:lnTo>
                    <a:pt x="3423" y="2739"/>
                  </a:lnTo>
                  <a:lnTo>
                    <a:pt x="3479" y="2695"/>
                  </a:lnTo>
                  <a:lnTo>
                    <a:pt x="3535" y="2652"/>
                  </a:lnTo>
                  <a:lnTo>
                    <a:pt x="3619" y="2594"/>
                  </a:lnTo>
                  <a:lnTo>
                    <a:pt x="3702" y="2537"/>
                  </a:lnTo>
                  <a:lnTo>
                    <a:pt x="3757" y="2478"/>
                  </a:lnTo>
                  <a:lnTo>
                    <a:pt x="3786" y="2435"/>
                  </a:lnTo>
                  <a:lnTo>
                    <a:pt x="3786" y="2391"/>
                  </a:lnTo>
                  <a:lnTo>
                    <a:pt x="3813" y="2333"/>
                  </a:lnTo>
                  <a:lnTo>
                    <a:pt x="3813" y="2276"/>
                  </a:lnTo>
                  <a:lnTo>
                    <a:pt x="3813" y="2232"/>
                  </a:lnTo>
                  <a:lnTo>
                    <a:pt x="3840" y="2174"/>
                  </a:lnTo>
                  <a:lnTo>
                    <a:pt x="3840" y="2130"/>
                  </a:lnTo>
                  <a:lnTo>
                    <a:pt x="3840" y="2043"/>
                  </a:lnTo>
                  <a:lnTo>
                    <a:pt x="3840" y="1986"/>
                  </a:lnTo>
                  <a:lnTo>
                    <a:pt x="3840" y="1928"/>
                  </a:lnTo>
                  <a:lnTo>
                    <a:pt x="3840" y="1869"/>
                  </a:lnTo>
                  <a:lnTo>
                    <a:pt x="3757" y="1812"/>
                  </a:lnTo>
                  <a:lnTo>
                    <a:pt x="3729" y="1768"/>
                  </a:lnTo>
                  <a:lnTo>
                    <a:pt x="3673" y="1725"/>
                  </a:lnTo>
                  <a:lnTo>
                    <a:pt x="3619" y="1667"/>
                  </a:lnTo>
                  <a:lnTo>
                    <a:pt x="3590" y="1624"/>
                  </a:lnTo>
                  <a:lnTo>
                    <a:pt x="3590" y="1580"/>
                  </a:lnTo>
                  <a:lnTo>
                    <a:pt x="3590" y="1522"/>
                  </a:lnTo>
                  <a:lnTo>
                    <a:pt x="3562" y="1464"/>
                  </a:lnTo>
                  <a:lnTo>
                    <a:pt x="3562" y="1406"/>
                  </a:lnTo>
                  <a:lnTo>
                    <a:pt x="3506" y="1348"/>
                  </a:lnTo>
                  <a:lnTo>
                    <a:pt x="3506" y="1290"/>
                  </a:lnTo>
                  <a:lnTo>
                    <a:pt x="3479" y="1232"/>
                  </a:lnTo>
                  <a:lnTo>
                    <a:pt x="3452" y="1174"/>
                  </a:lnTo>
                  <a:lnTo>
                    <a:pt x="3452" y="1102"/>
                  </a:lnTo>
                  <a:lnTo>
                    <a:pt x="3452" y="1059"/>
                  </a:lnTo>
                  <a:lnTo>
                    <a:pt x="3452" y="1000"/>
                  </a:lnTo>
                  <a:lnTo>
                    <a:pt x="3452" y="942"/>
                  </a:lnTo>
                  <a:lnTo>
                    <a:pt x="3452" y="885"/>
                  </a:lnTo>
                  <a:lnTo>
                    <a:pt x="3395" y="826"/>
                  </a:lnTo>
                  <a:lnTo>
                    <a:pt x="3368" y="783"/>
                  </a:lnTo>
                  <a:lnTo>
                    <a:pt x="3339" y="739"/>
                  </a:lnTo>
                  <a:lnTo>
                    <a:pt x="3285" y="681"/>
                  </a:lnTo>
                  <a:lnTo>
                    <a:pt x="3256" y="624"/>
                  </a:lnTo>
                  <a:lnTo>
                    <a:pt x="3201" y="565"/>
                  </a:lnTo>
                  <a:lnTo>
                    <a:pt x="3118" y="508"/>
                  </a:lnTo>
                  <a:lnTo>
                    <a:pt x="3062" y="450"/>
                  </a:lnTo>
                  <a:lnTo>
                    <a:pt x="3005" y="377"/>
                  </a:lnTo>
                  <a:lnTo>
                    <a:pt x="2951" y="334"/>
                  </a:lnTo>
                  <a:lnTo>
                    <a:pt x="2951" y="290"/>
                  </a:lnTo>
                  <a:lnTo>
                    <a:pt x="2895" y="233"/>
                  </a:lnTo>
                  <a:lnTo>
                    <a:pt x="2838" y="174"/>
                  </a:lnTo>
                  <a:lnTo>
                    <a:pt x="2728" y="116"/>
                  </a:lnTo>
                  <a:lnTo>
                    <a:pt x="2617" y="73"/>
                  </a:lnTo>
                  <a:lnTo>
                    <a:pt x="2504" y="43"/>
                  </a:lnTo>
                  <a:lnTo>
                    <a:pt x="2394" y="15"/>
                  </a:lnTo>
                  <a:lnTo>
                    <a:pt x="2310" y="0"/>
                  </a:lnTo>
                  <a:lnTo>
                    <a:pt x="2227" y="0"/>
                  </a:lnTo>
                  <a:lnTo>
                    <a:pt x="2087" y="0"/>
                  </a:lnTo>
                  <a:lnTo>
                    <a:pt x="2003" y="0"/>
                  </a:lnTo>
                  <a:lnTo>
                    <a:pt x="1920" y="0"/>
                  </a:lnTo>
                  <a:lnTo>
                    <a:pt x="1837" y="29"/>
                  </a:lnTo>
                  <a:lnTo>
                    <a:pt x="1837" y="73"/>
                  </a:lnTo>
                  <a:lnTo>
                    <a:pt x="1753" y="116"/>
                  </a:lnTo>
                  <a:lnTo>
                    <a:pt x="1670" y="160"/>
                  </a:lnTo>
                  <a:lnTo>
                    <a:pt x="1586" y="189"/>
                  </a:lnTo>
                  <a:lnTo>
                    <a:pt x="1503" y="189"/>
                  </a:lnTo>
                  <a:lnTo>
                    <a:pt x="1609" y="221"/>
                  </a:lnTo>
                </a:path>
              </a:pathLst>
            </a:custGeom>
            <a:gradFill rotWithShape="0">
              <a:gsLst>
                <a:gs pos="0">
                  <a:srgbClr val="9eb3ff"/>
                </a:gs>
                <a:gs pos="50000">
                  <a:srgbClr val="8da0e4"/>
                </a:gs>
                <a:gs pos="100000">
                  <a:srgbClr val="9eb3ff"/>
                </a:gs>
              </a:gsLst>
              <a:lin ang="5400000"/>
            </a:gradFill>
            <a:ln cap="rnd" w="12600">
              <a:solidFill>
                <a:srgbClr val="1c6d9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32760" y="4503240"/>
              <a:ext cx="484632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pérdidas de pedido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incrementos de sto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retras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disminución de la capacid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problemas de entreg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perdida de clien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600200" y="3589920"/>
              <a:ext cx="7238160" cy="792000"/>
              <a:chOff x="1600200" y="3589920"/>
              <a:chExt cx="7238160" cy="792000"/>
            </a:xfrm>
          </p:grpSpPr>
          <p:sp>
            <p:nvSpPr>
              <p:cNvPr id="625" name=""/>
              <p:cNvSpPr/>
              <p:nvPr/>
            </p:nvSpPr>
            <p:spPr>
              <a:xfrm>
                <a:off x="1788840" y="3695040"/>
                <a:ext cx="6924240" cy="584280"/>
              </a:xfrm>
              <a:custGeom>
                <a:avLst/>
                <a:gdLst/>
                <a:ahLst/>
                <a:rect l="l" t="t" r="r" b="b"/>
                <a:pathLst>
                  <a:path w="5281" h="466">
                    <a:moveTo>
                      <a:pt x="114" y="0"/>
                    </a:moveTo>
                    <a:lnTo>
                      <a:pt x="5259" y="0"/>
                    </a:lnTo>
                    <a:lnTo>
                      <a:pt x="5280" y="42"/>
                    </a:lnTo>
                    <a:lnTo>
                      <a:pt x="5280" y="74"/>
                    </a:lnTo>
                    <a:lnTo>
                      <a:pt x="5280" y="107"/>
                    </a:lnTo>
                    <a:lnTo>
                      <a:pt x="5267" y="139"/>
                    </a:lnTo>
                    <a:lnTo>
                      <a:pt x="5227" y="160"/>
                    </a:lnTo>
                    <a:lnTo>
                      <a:pt x="5188" y="193"/>
                    </a:lnTo>
                    <a:lnTo>
                      <a:pt x="5175" y="226"/>
                    </a:lnTo>
                    <a:lnTo>
                      <a:pt x="5135" y="248"/>
                    </a:lnTo>
                    <a:lnTo>
                      <a:pt x="5108" y="280"/>
                    </a:lnTo>
                    <a:lnTo>
                      <a:pt x="5069" y="302"/>
                    </a:lnTo>
                    <a:lnTo>
                      <a:pt x="5029" y="313"/>
                    </a:lnTo>
                    <a:lnTo>
                      <a:pt x="4976" y="345"/>
                    </a:lnTo>
                    <a:lnTo>
                      <a:pt x="4923" y="356"/>
                    </a:lnTo>
                    <a:lnTo>
                      <a:pt x="4870" y="388"/>
                    </a:lnTo>
                    <a:lnTo>
                      <a:pt x="4818" y="400"/>
                    </a:lnTo>
                    <a:lnTo>
                      <a:pt x="4764" y="400"/>
                    </a:lnTo>
                    <a:lnTo>
                      <a:pt x="4711" y="400"/>
                    </a:lnTo>
                    <a:lnTo>
                      <a:pt x="4659" y="400"/>
                    </a:lnTo>
                    <a:lnTo>
                      <a:pt x="4605" y="400"/>
                    </a:lnTo>
                    <a:lnTo>
                      <a:pt x="4553" y="421"/>
                    </a:lnTo>
                    <a:lnTo>
                      <a:pt x="4513" y="443"/>
                    </a:lnTo>
                    <a:lnTo>
                      <a:pt x="4473" y="454"/>
                    </a:lnTo>
                    <a:lnTo>
                      <a:pt x="4433" y="465"/>
                    </a:lnTo>
                    <a:lnTo>
                      <a:pt x="4394" y="465"/>
                    </a:lnTo>
                    <a:lnTo>
                      <a:pt x="4354" y="465"/>
                    </a:lnTo>
                    <a:lnTo>
                      <a:pt x="4288" y="465"/>
                    </a:lnTo>
                    <a:lnTo>
                      <a:pt x="4248" y="465"/>
                    </a:lnTo>
                    <a:lnTo>
                      <a:pt x="4195" y="454"/>
                    </a:lnTo>
                    <a:lnTo>
                      <a:pt x="4156" y="443"/>
                    </a:lnTo>
                    <a:lnTo>
                      <a:pt x="4116" y="432"/>
                    </a:lnTo>
                    <a:lnTo>
                      <a:pt x="4076" y="432"/>
                    </a:lnTo>
                    <a:lnTo>
                      <a:pt x="4024" y="443"/>
                    </a:lnTo>
                    <a:lnTo>
                      <a:pt x="3984" y="443"/>
                    </a:lnTo>
                    <a:lnTo>
                      <a:pt x="3930" y="443"/>
                    </a:lnTo>
                    <a:lnTo>
                      <a:pt x="3891" y="443"/>
                    </a:lnTo>
                    <a:lnTo>
                      <a:pt x="3851" y="443"/>
                    </a:lnTo>
                    <a:lnTo>
                      <a:pt x="3811" y="443"/>
                    </a:lnTo>
                    <a:lnTo>
                      <a:pt x="3759" y="443"/>
                    </a:lnTo>
                    <a:lnTo>
                      <a:pt x="3706" y="443"/>
                    </a:lnTo>
                    <a:lnTo>
                      <a:pt x="3652" y="443"/>
                    </a:lnTo>
                    <a:lnTo>
                      <a:pt x="3573" y="443"/>
                    </a:lnTo>
                    <a:lnTo>
                      <a:pt x="3533" y="443"/>
                    </a:lnTo>
                    <a:lnTo>
                      <a:pt x="3494" y="443"/>
                    </a:lnTo>
                    <a:lnTo>
                      <a:pt x="3441" y="443"/>
                    </a:lnTo>
                    <a:lnTo>
                      <a:pt x="3362" y="432"/>
                    </a:lnTo>
                    <a:lnTo>
                      <a:pt x="3322" y="421"/>
                    </a:lnTo>
                    <a:lnTo>
                      <a:pt x="3269" y="410"/>
                    </a:lnTo>
                    <a:lnTo>
                      <a:pt x="3136" y="400"/>
                    </a:lnTo>
                    <a:lnTo>
                      <a:pt x="3084" y="388"/>
                    </a:lnTo>
                    <a:lnTo>
                      <a:pt x="3031" y="378"/>
                    </a:lnTo>
                    <a:lnTo>
                      <a:pt x="2977" y="367"/>
                    </a:lnTo>
                    <a:lnTo>
                      <a:pt x="2938" y="367"/>
                    </a:lnTo>
                    <a:lnTo>
                      <a:pt x="2898" y="367"/>
                    </a:lnTo>
                    <a:lnTo>
                      <a:pt x="2845" y="367"/>
                    </a:lnTo>
                    <a:lnTo>
                      <a:pt x="2779" y="367"/>
                    </a:lnTo>
                    <a:lnTo>
                      <a:pt x="2739" y="367"/>
                    </a:lnTo>
                    <a:lnTo>
                      <a:pt x="2674" y="367"/>
                    </a:lnTo>
                    <a:lnTo>
                      <a:pt x="2634" y="367"/>
                    </a:lnTo>
                    <a:lnTo>
                      <a:pt x="2580" y="367"/>
                    </a:lnTo>
                    <a:lnTo>
                      <a:pt x="2515" y="367"/>
                    </a:lnTo>
                    <a:lnTo>
                      <a:pt x="2475" y="367"/>
                    </a:lnTo>
                    <a:lnTo>
                      <a:pt x="2422" y="367"/>
                    </a:lnTo>
                    <a:lnTo>
                      <a:pt x="2342" y="367"/>
                    </a:lnTo>
                    <a:lnTo>
                      <a:pt x="2303" y="367"/>
                    </a:lnTo>
                    <a:lnTo>
                      <a:pt x="2263" y="367"/>
                    </a:lnTo>
                    <a:lnTo>
                      <a:pt x="2210" y="367"/>
                    </a:lnTo>
                    <a:lnTo>
                      <a:pt x="2158" y="367"/>
                    </a:lnTo>
                    <a:lnTo>
                      <a:pt x="2091" y="378"/>
                    </a:lnTo>
                    <a:lnTo>
                      <a:pt x="2051" y="378"/>
                    </a:lnTo>
                    <a:lnTo>
                      <a:pt x="1985" y="378"/>
                    </a:lnTo>
                    <a:lnTo>
                      <a:pt x="1945" y="378"/>
                    </a:lnTo>
                    <a:lnTo>
                      <a:pt x="1893" y="378"/>
                    </a:lnTo>
                    <a:lnTo>
                      <a:pt x="1840" y="367"/>
                    </a:lnTo>
                    <a:lnTo>
                      <a:pt x="1774" y="345"/>
                    </a:lnTo>
                    <a:lnTo>
                      <a:pt x="1734" y="335"/>
                    </a:lnTo>
                    <a:lnTo>
                      <a:pt x="1667" y="323"/>
                    </a:lnTo>
                    <a:lnTo>
                      <a:pt x="1628" y="313"/>
                    </a:lnTo>
                    <a:lnTo>
                      <a:pt x="1575" y="302"/>
                    </a:lnTo>
                    <a:lnTo>
                      <a:pt x="1522" y="291"/>
                    </a:lnTo>
                    <a:lnTo>
                      <a:pt x="1456" y="280"/>
                    </a:lnTo>
                    <a:lnTo>
                      <a:pt x="1416" y="280"/>
                    </a:lnTo>
                    <a:lnTo>
                      <a:pt x="1350" y="280"/>
                    </a:lnTo>
                    <a:lnTo>
                      <a:pt x="1310" y="280"/>
                    </a:lnTo>
                    <a:lnTo>
                      <a:pt x="1257" y="280"/>
                    </a:lnTo>
                    <a:lnTo>
                      <a:pt x="1218" y="280"/>
                    </a:lnTo>
                    <a:lnTo>
                      <a:pt x="1178" y="280"/>
                    </a:lnTo>
                    <a:lnTo>
                      <a:pt x="1138" y="280"/>
                    </a:lnTo>
                    <a:lnTo>
                      <a:pt x="1099" y="280"/>
                    </a:lnTo>
                    <a:lnTo>
                      <a:pt x="1059" y="280"/>
                    </a:lnTo>
                    <a:lnTo>
                      <a:pt x="1019" y="270"/>
                    </a:lnTo>
                    <a:lnTo>
                      <a:pt x="967" y="270"/>
                    </a:lnTo>
                    <a:lnTo>
                      <a:pt x="913" y="258"/>
                    </a:lnTo>
                    <a:lnTo>
                      <a:pt x="873" y="258"/>
                    </a:lnTo>
                    <a:lnTo>
                      <a:pt x="834" y="258"/>
                    </a:lnTo>
                    <a:lnTo>
                      <a:pt x="781" y="258"/>
                    </a:lnTo>
                    <a:lnTo>
                      <a:pt x="715" y="258"/>
                    </a:lnTo>
                    <a:lnTo>
                      <a:pt x="675" y="258"/>
                    </a:lnTo>
                    <a:lnTo>
                      <a:pt x="635" y="270"/>
                    </a:lnTo>
                    <a:lnTo>
                      <a:pt x="595" y="270"/>
                    </a:lnTo>
                    <a:lnTo>
                      <a:pt x="556" y="291"/>
                    </a:lnTo>
                    <a:lnTo>
                      <a:pt x="503" y="302"/>
                    </a:lnTo>
                    <a:lnTo>
                      <a:pt x="451" y="313"/>
                    </a:lnTo>
                    <a:lnTo>
                      <a:pt x="411" y="302"/>
                    </a:lnTo>
                    <a:lnTo>
                      <a:pt x="357" y="302"/>
                    </a:lnTo>
                    <a:lnTo>
                      <a:pt x="305" y="280"/>
                    </a:lnTo>
                    <a:lnTo>
                      <a:pt x="265" y="270"/>
                    </a:lnTo>
                    <a:lnTo>
                      <a:pt x="225" y="248"/>
                    </a:lnTo>
                    <a:lnTo>
                      <a:pt x="173" y="237"/>
                    </a:lnTo>
                    <a:lnTo>
                      <a:pt x="133" y="226"/>
                    </a:lnTo>
                    <a:lnTo>
                      <a:pt x="93" y="226"/>
                    </a:lnTo>
                    <a:lnTo>
                      <a:pt x="54" y="215"/>
                    </a:lnTo>
                    <a:lnTo>
                      <a:pt x="14" y="204"/>
                    </a:lnTo>
                    <a:lnTo>
                      <a:pt x="14" y="172"/>
                    </a:lnTo>
                    <a:lnTo>
                      <a:pt x="14" y="139"/>
                    </a:lnTo>
                    <a:lnTo>
                      <a:pt x="14" y="107"/>
                    </a:lnTo>
                    <a:lnTo>
                      <a:pt x="0" y="74"/>
                    </a:lnTo>
                    <a:lnTo>
                      <a:pt x="0" y="42"/>
                    </a:lnTo>
                    <a:lnTo>
                      <a:pt x="40" y="30"/>
                    </a:lnTo>
                    <a:lnTo>
                      <a:pt x="79" y="20"/>
                    </a:lnTo>
                    <a:lnTo>
                      <a:pt x="119" y="9"/>
                    </a:lnTo>
                    <a:lnTo>
                      <a:pt x="114" y="0"/>
                    </a:lnTo>
                  </a:path>
                </a:pathLst>
              </a:custGeom>
              <a:solidFill>
                <a:srgbClr val="0033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1726200" y="3589920"/>
                <a:ext cx="7049520" cy="596520"/>
                <a:chOff x="1726200" y="3589920"/>
                <a:chExt cx="7049520" cy="5965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3762000" y="3673800"/>
                  <a:ext cx="819360" cy="87840"/>
                </a:xfrm>
                <a:custGeom>
                  <a:avLst/>
                  <a:gdLst/>
                  <a:ahLst/>
                  <a:rect l="l" t="t" r="r" b="b"/>
                  <a:pathLst>
                    <a:path w="625" h="70">
                      <a:moveTo>
                        <a:pt x="0" y="35"/>
                      </a:moveTo>
                      <a:lnTo>
                        <a:pt x="43" y="27"/>
                      </a:lnTo>
                      <a:lnTo>
                        <a:pt x="54" y="18"/>
                      </a:lnTo>
                      <a:lnTo>
                        <a:pt x="72" y="15"/>
                      </a:lnTo>
                      <a:lnTo>
                        <a:pt x="85" y="13"/>
                      </a:lnTo>
                      <a:lnTo>
                        <a:pt x="101" y="11"/>
                      </a:lnTo>
                      <a:lnTo>
                        <a:pt x="118" y="11"/>
                      </a:lnTo>
                      <a:lnTo>
                        <a:pt x="139" y="11"/>
                      </a:lnTo>
                      <a:lnTo>
                        <a:pt x="157" y="7"/>
                      </a:lnTo>
                      <a:lnTo>
                        <a:pt x="172" y="6"/>
                      </a:lnTo>
                      <a:lnTo>
                        <a:pt x="197" y="7"/>
                      </a:lnTo>
                      <a:lnTo>
                        <a:pt x="213" y="3"/>
                      </a:lnTo>
                      <a:lnTo>
                        <a:pt x="230" y="0"/>
                      </a:lnTo>
                      <a:lnTo>
                        <a:pt x="244" y="0"/>
                      </a:lnTo>
                      <a:lnTo>
                        <a:pt x="261" y="4"/>
                      </a:lnTo>
                      <a:lnTo>
                        <a:pt x="276" y="11"/>
                      </a:lnTo>
                      <a:lnTo>
                        <a:pt x="296" y="15"/>
                      </a:lnTo>
                      <a:lnTo>
                        <a:pt x="326" y="18"/>
                      </a:lnTo>
                      <a:lnTo>
                        <a:pt x="340" y="14"/>
                      </a:lnTo>
                      <a:lnTo>
                        <a:pt x="359" y="15"/>
                      </a:lnTo>
                      <a:lnTo>
                        <a:pt x="373" y="18"/>
                      </a:lnTo>
                      <a:lnTo>
                        <a:pt x="393" y="27"/>
                      </a:lnTo>
                      <a:lnTo>
                        <a:pt x="409" y="38"/>
                      </a:lnTo>
                      <a:lnTo>
                        <a:pt x="435" y="44"/>
                      </a:lnTo>
                      <a:lnTo>
                        <a:pt x="473" y="41"/>
                      </a:lnTo>
                      <a:lnTo>
                        <a:pt x="492" y="48"/>
                      </a:lnTo>
                      <a:lnTo>
                        <a:pt x="508" y="52"/>
                      </a:lnTo>
                      <a:lnTo>
                        <a:pt x="531" y="54"/>
                      </a:lnTo>
                      <a:lnTo>
                        <a:pt x="624" y="65"/>
                      </a:lnTo>
                      <a:lnTo>
                        <a:pt x="523" y="61"/>
                      </a:lnTo>
                      <a:lnTo>
                        <a:pt x="504" y="65"/>
                      </a:lnTo>
                      <a:lnTo>
                        <a:pt x="488" y="69"/>
                      </a:lnTo>
                      <a:lnTo>
                        <a:pt x="475" y="68"/>
                      </a:lnTo>
                      <a:lnTo>
                        <a:pt x="461" y="65"/>
                      </a:lnTo>
                      <a:lnTo>
                        <a:pt x="442" y="59"/>
                      </a:lnTo>
                      <a:lnTo>
                        <a:pt x="415" y="57"/>
                      </a:lnTo>
                      <a:lnTo>
                        <a:pt x="389" y="51"/>
                      </a:lnTo>
                      <a:lnTo>
                        <a:pt x="373" y="52"/>
                      </a:lnTo>
                      <a:lnTo>
                        <a:pt x="354" y="54"/>
                      </a:lnTo>
                      <a:lnTo>
                        <a:pt x="312" y="48"/>
                      </a:lnTo>
                      <a:lnTo>
                        <a:pt x="292" y="46"/>
                      </a:lnTo>
                      <a:lnTo>
                        <a:pt x="265" y="38"/>
                      </a:lnTo>
                      <a:lnTo>
                        <a:pt x="238" y="38"/>
                      </a:lnTo>
                      <a:lnTo>
                        <a:pt x="205" y="38"/>
                      </a:lnTo>
                      <a:lnTo>
                        <a:pt x="182" y="39"/>
                      </a:lnTo>
                      <a:lnTo>
                        <a:pt x="161" y="37"/>
                      </a:lnTo>
                      <a:lnTo>
                        <a:pt x="139" y="30"/>
                      </a:lnTo>
                      <a:lnTo>
                        <a:pt x="118" y="35"/>
                      </a:lnTo>
                      <a:lnTo>
                        <a:pt x="99" y="28"/>
                      </a:lnTo>
                      <a:lnTo>
                        <a:pt x="82" y="30"/>
                      </a:lnTo>
                      <a:lnTo>
                        <a:pt x="59" y="31"/>
                      </a:lnTo>
                      <a:lnTo>
                        <a:pt x="35" y="32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852280" y="3648600"/>
                  <a:ext cx="3450600" cy="298440"/>
                </a:xfrm>
                <a:custGeom>
                  <a:avLst/>
                  <a:gdLst/>
                  <a:ahLst/>
                  <a:rect l="l" t="t" r="r" b="b"/>
                  <a:pathLst>
                    <a:path w="2632" h="238">
                      <a:moveTo>
                        <a:pt x="492" y="0"/>
                      </a:moveTo>
                      <a:lnTo>
                        <a:pt x="472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8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40"/>
                      </a:lnTo>
                      <a:lnTo>
                        <a:pt x="365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7"/>
                      </a:lnTo>
                      <a:lnTo>
                        <a:pt x="289" y="67"/>
                      </a:lnTo>
                      <a:lnTo>
                        <a:pt x="258" y="68"/>
                      </a:lnTo>
                      <a:lnTo>
                        <a:pt x="234" y="62"/>
                      </a:lnTo>
                      <a:lnTo>
                        <a:pt x="207" y="74"/>
                      </a:lnTo>
                      <a:lnTo>
                        <a:pt x="182" y="67"/>
                      </a:lnTo>
                      <a:lnTo>
                        <a:pt x="175" y="68"/>
                      </a:lnTo>
                      <a:lnTo>
                        <a:pt x="169" y="73"/>
                      </a:lnTo>
                      <a:lnTo>
                        <a:pt x="160" y="78"/>
                      </a:lnTo>
                      <a:lnTo>
                        <a:pt x="155" y="86"/>
                      </a:lnTo>
                      <a:lnTo>
                        <a:pt x="145" y="92"/>
                      </a:lnTo>
                      <a:lnTo>
                        <a:pt x="138" y="96"/>
                      </a:lnTo>
                      <a:lnTo>
                        <a:pt x="122" y="96"/>
                      </a:lnTo>
                      <a:lnTo>
                        <a:pt x="104" y="96"/>
                      </a:lnTo>
                      <a:lnTo>
                        <a:pt x="96" y="102"/>
                      </a:lnTo>
                      <a:lnTo>
                        <a:pt x="84" y="108"/>
                      </a:lnTo>
                      <a:lnTo>
                        <a:pt x="73" y="108"/>
                      </a:lnTo>
                      <a:lnTo>
                        <a:pt x="56" y="109"/>
                      </a:lnTo>
                      <a:lnTo>
                        <a:pt x="36" y="109"/>
                      </a:lnTo>
                      <a:lnTo>
                        <a:pt x="16" y="116"/>
                      </a:lnTo>
                      <a:lnTo>
                        <a:pt x="0" y="133"/>
                      </a:lnTo>
                      <a:lnTo>
                        <a:pt x="14" y="132"/>
                      </a:lnTo>
                      <a:lnTo>
                        <a:pt x="36" y="126"/>
                      </a:lnTo>
                      <a:lnTo>
                        <a:pt x="58" y="125"/>
                      </a:lnTo>
                      <a:lnTo>
                        <a:pt x="74" y="126"/>
                      </a:lnTo>
                      <a:lnTo>
                        <a:pt x="89" y="133"/>
                      </a:lnTo>
                      <a:lnTo>
                        <a:pt x="106" y="135"/>
                      </a:lnTo>
                      <a:lnTo>
                        <a:pt x="122" y="132"/>
                      </a:lnTo>
                      <a:lnTo>
                        <a:pt x="140" y="126"/>
                      </a:lnTo>
                      <a:lnTo>
                        <a:pt x="156" y="122"/>
                      </a:lnTo>
                      <a:lnTo>
                        <a:pt x="171" y="122"/>
                      </a:lnTo>
                      <a:lnTo>
                        <a:pt x="182" y="132"/>
                      </a:lnTo>
                      <a:lnTo>
                        <a:pt x="192" y="139"/>
                      </a:lnTo>
                      <a:lnTo>
                        <a:pt x="210" y="139"/>
                      </a:lnTo>
                      <a:lnTo>
                        <a:pt x="226" y="136"/>
                      </a:lnTo>
                      <a:lnTo>
                        <a:pt x="245" y="132"/>
                      </a:lnTo>
                      <a:lnTo>
                        <a:pt x="262" y="128"/>
                      </a:lnTo>
                      <a:lnTo>
                        <a:pt x="278" y="135"/>
                      </a:lnTo>
                      <a:lnTo>
                        <a:pt x="295" y="143"/>
                      </a:lnTo>
                      <a:lnTo>
                        <a:pt x="311" y="147"/>
                      </a:lnTo>
                      <a:lnTo>
                        <a:pt x="328" y="150"/>
                      </a:lnTo>
                      <a:lnTo>
                        <a:pt x="350" y="152"/>
                      </a:lnTo>
                      <a:lnTo>
                        <a:pt x="372" y="154"/>
                      </a:lnTo>
                      <a:lnTo>
                        <a:pt x="392" y="152"/>
                      </a:lnTo>
                      <a:lnTo>
                        <a:pt x="417" y="148"/>
                      </a:lnTo>
                      <a:lnTo>
                        <a:pt x="406" y="133"/>
                      </a:lnTo>
                      <a:lnTo>
                        <a:pt x="409" y="125"/>
                      </a:lnTo>
                      <a:lnTo>
                        <a:pt x="420" y="120"/>
                      </a:lnTo>
                      <a:lnTo>
                        <a:pt x="422" y="130"/>
                      </a:lnTo>
                      <a:lnTo>
                        <a:pt x="436" y="139"/>
                      </a:lnTo>
                      <a:lnTo>
                        <a:pt x="450" y="143"/>
                      </a:lnTo>
                      <a:lnTo>
                        <a:pt x="465" y="147"/>
                      </a:lnTo>
                      <a:lnTo>
                        <a:pt x="483" y="152"/>
                      </a:lnTo>
                      <a:lnTo>
                        <a:pt x="500" y="155"/>
                      </a:lnTo>
                      <a:lnTo>
                        <a:pt x="526" y="158"/>
                      </a:lnTo>
                      <a:lnTo>
                        <a:pt x="543" y="156"/>
                      </a:lnTo>
                      <a:lnTo>
                        <a:pt x="563" y="158"/>
                      </a:lnTo>
                      <a:lnTo>
                        <a:pt x="596" y="163"/>
                      </a:lnTo>
                      <a:lnTo>
                        <a:pt x="585" y="170"/>
                      </a:lnTo>
                      <a:lnTo>
                        <a:pt x="570" y="178"/>
                      </a:lnTo>
                      <a:lnTo>
                        <a:pt x="542" y="192"/>
                      </a:lnTo>
                      <a:lnTo>
                        <a:pt x="559" y="193"/>
                      </a:lnTo>
                      <a:lnTo>
                        <a:pt x="576" y="194"/>
                      </a:lnTo>
                      <a:lnTo>
                        <a:pt x="599" y="198"/>
                      </a:lnTo>
                      <a:lnTo>
                        <a:pt x="624" y="200"/>
                      </a:lnTo>
                      <a:lnTo>
                        <a:pt x="638" y="199"/>
                      </a:lnTo>
                      <a:lnTo>
                        <a:pt x="648" y="193"/>
                      </a:lnTo>
                      <a:lnTo>
                        <a:pt x="664" y="189"/>
                      </a:lnTo>
                      <a:lnTo>
                        <a:pt x="684" y="188"/>
                      </a:lnTo>
                      <a:lnTo>
                        <a:pt x="712" y="187"/>
                      </a:lnTo>
                      <a:lnTo>
                        <a:pt x="731" y="178"/>
                      </a:lnTo>
                      <a:lnTo>
                        <a:pt x="757" y="171"/>
                      </a:lnTo>
                      <a:lnTo>
                        <a:pt x="779" y="166"/>
                      </a:lnTo>
                      <a:lnTo>
                        <a:pt x="794" y="167"/>
                      </a:lnTo>
                      <a:lnTo>
                        <a:pt x="847" y="169"/>
                      </a:lnTo>
                      <a:lnTo>
                        <a:pt x="888" y="173"/>
                      </a:lnTo>
                      <a:lnTo>
                        <a:pt x="916" y="173"/>
                      </a:lnTo>
                      <a:lnTo>
                        <a:pt x="938" y="175"/>
                      </a:lnTo>
                      <a:lnTo>
                        <a:pt x="975" y="191"/>
                      </a:lnTo>
                      <a:lnTo>
                        <a:pt x="993" y="191"/>
                      </a:lnTo>
                      <a:lnTo>
                        <a:pt x="1013" y="187"/>
                      </a:lnTo>
                      <a:lnTo>
                        <a:pt x="1035" y="181"/>
                      </a:lnTo>
                      <a:lnTo>
                        <a:pt x="1053" y="178"/>
                      </a:lnTo>
                      <a:lnTo>
                        <a:pt x="1116" y="173"/>
                      </a:lnTo>
                      <a:lnTo>
                        <a:pt x="1159" y="171"/>
                      </a:lnTo>
                      <a:lnTo>
                        <a:pt x="1186" y="169"/>
                      </a:lnTo>
                      <a:lnTo>
                        <a:pt x="1208" y="167"/>
                      </a:lnTo>
                      <a:lnTo>
                        <a:pt x="1230" y="165"/>
                      </a:lnTo>
                      <a:lnTo>
                        <a:pt x="1256" y="162"/>
                      </a:lnTo>
                      <a:lnTo>
                        <a:pt x="1274" y="158"/>
                      </a:lnTo>
                      <a:lnTo>
                        <a:pt x="1300" y="151"/>
                      </a:lnTo>
                      <a:lnTo>
                        <a:pt x="1315" y="159"/>
                      </a:lnTo>
                      <a:lnTo>
                        <a:pt x="1323" y="167"/>
                      </a:lnTo>
                      <a:lnTo>
                        <a:pt x="1313" y="177"/>
                      </a:lnTo>
                      <a:lnTo>
                        <a:pt x="1294" y="183"/>
                      </a:lnTo>
                      <a:lnTo>
                        <a:pt x="1318" y="183"/>
                      </a:lnTo>
                      <a:lnTo>
                        <a:pt x="1305" y="191"/>
                      </a:lnTo>
                      <a:lnTo>
                        <a:pt x="1287" y="198"/>
                      </a:lnTo>
                      <a:lnTo>
                        <a:pt x="1263" y="208"/>
                      </a:lnTo>
                      <a:lnTo>
                        <a:pt x="1239" y="215"/>
                      </a:lnTo>
                      <a:lnTo>
                        <a:pt x="1268" y="212"/>
                      </a:lnTo>
                      <a:lnTo>
                        <a:pt x="1293" y="208"/>
                      </a:lnTo>
                      <a:lnTo>
                        <a:pt x="1318" y="202"/>
                      </a:lnTo>
                      <a:lnTo>
                        <a:pt x="1334" y="196"/>
                      </a:lnTo>
                      <a:lnTo>
                        <a:pt x="1342" y="194"/>
                      </a:lnTo>
                      <a:lnTo>
                        <a:pt x="1356" y="193"/>
                      </a:lnTo>
                      <a:lnTo>
                        <a:pt x="1372" y="193"/>
                      </a:lnTo>
                      <a:lnTo>
                        <a:pt x="1393" y="194"/>
                      </a:lnTo>
                      <a:lnTo>
                        <a:pt x="1411" y="198"/>
                      </a:lnTo>
                      <a:lnTo>
                        <a:pt x="1427" y="199"/>
                      </a:lnTo>
                      <a:lnTo>
                        <a:pt x="1449" y="198"/>
                      </a:lnTo>
                      <a:lnTo>
                        <a:pt x="1433" y="212"/>
                      </a:lnTo>
                      <a:lnTo>
                        <a:pt x="1415" y="222"/>
                      </a:lnTo>
                      <a:lnTo>
                        <a:pt x="1394" y="228"/>
                      </a:lnTo>
                      <a:lnTo>
                        <a:pt x="1418" y="225"/>
                      </a:lnTo>
                      <a:lnTo>
                        <a:pt x="1440" y="222"/>
                      </a:lnTo>
                      <a:lnTo>
                        <a:pt x="1463" y="221"/>
                      </a:lnTo>
                      <a:lnTo>
                        <a:pt x="1482" y="216"/>
                      </a:lnTo>
                      <a:lnTo>
                        <a:pt x="1507" y="214"/>
                      </a:lnTo>
                      <a:lnTo>
                        <a:pt x="1536" y="211"/>
                      </a:lnTo>
                      <a:lnTo>
                        <a:pt x="1562" y="211"/>
                      </a:lnTo>
                      <a:lnTo>
                        <a:pt x="1582" y="206"/>
                      </a:lnTo>
                      <a:lnTo>
                        <a:pt x="1588" y="202"/>
                      </a:lnTo>
                      <a:lnTo>
                        <a:pt x="1595" y="198"/>
                      </a:lnTo>
                      <a:lnTo>
                        <a:pt x="1610" y="198"/>
                      </a:lnTo>
                      <a:lnTo>
                        <a:pt x="1636" y="203"/>
                      </a:lnTo>
                      <a:lnTo>
                        <a:pt x="1667" y="206"/>
                      </a:lnTo>
                      <a:lnTo>
                        <a:pt x="1697" y="211"/>
                      </a:lnTo>
                      <a:lnTo>
                        <a:pt x="1714" y="214"/>
                      </a:lnTo>
                      <a:lnTo>
                        <a:pt x="1743" y="214"/>
                      </a:lnTo>
                      <a:lnTo>
                        <a:pt x="1775" y="215"/>
                      </a:lnTo>
                      <a:lnTo>
                        <a:pt x="1800" y="219"/>
                      </a:lnTo>
                      <a:lnTo>
                        <a:pt x="1830" y="225"/>
                      </a:lnTo>
                      <a:lnTo>
                        <a:pt x="1856" y="229"/>
                      </a:lnTo>
                      <a:lnTo>
                        <a:pt x="1878" y="232"/>
                      </a:lnTo>
                      <a:lnTo>
                        <a:pt x="1900" y="229"/>
                      </a:lnTo>
                      <a:lnTo>
                        <a:pt x="1935" y="222"/>
                      </a:lnTo>
                      <a:lnTo>
                        <a:pt x="1963" y="225"/>
                      </a:lnTo>
                      <a:lnTo>
                        <a:pt x="1989" y="225"/>
                      </a:lnTo>
                      <a:lnTo>
                        <a:pt x="2017" y="225"/>
                      </a:lnTo>
                      <a:lnTo>
                        <a:pt x="2044" y="224"/>
                      </a:lnTo>
                      <a:lnTo>
                        <a:pt x="2081" y="218"/>
                      </a:lnTo>
                      <a:lnTo>
                        <a:pt x="2099" y="218"/>
                      </a:lnTo>
                      <a:lnTo>
                        <a:pt x="2120" y="216"/>
                      </a:lnTo>
                      <a:lnTo>
                        <a:pt x="2158" y="221"/>
                      </a:lnTo>
                      <a:lnTo>
                        <a:pt x="2177" y="222"/>
                      </a:lnTo>
                      <a:lnTo>
                        <a:pt x="2194" y="222"/>
                      </a:lnTo>
                      <a:lnTo>
                        <a:pt x="2216" y="219"/>
                      </a:lnTo>
                      <a:lnTo>
                        <a:pt x="2238" y="218"/>
                      </a:lnTo>
                      <a:lnTo>
                        <a:pt x="2254" y="218"/>
                      </a:lnTo>
                      <a:lnTo>
                        <a:pt x="2261" y="221"/>
                      </a:lnTo>
                      <a:lnTo>
                        <a:pt x="2261" y="229"/>
                      </a:lnTo>
                      <a:lnTo>
                        <a:pt x="2269" y="232"/>
                      </a:lnTo>
                      <a:lnTo>
                        <a:pt x="2283" y="232"/>
                      </a:lnTo>
                      <a:lnTo>
                        <a:pt x="2296" y="229"/>
                      </a:lnTo>
                      <a:lnTo>
                        <a:pt x="2309" y="222"/>
                      </a:lnTo>
                      <a:lnTo>
                        <a:pt x="2317" y="214"/>
                      </a:lnTo>
                      <a:lnTo>
                        <a:pt x="2325" y="210"/>
                      </a:lnTo>
                      <a:lnTo>
                        <a:pt x="2347" y="210"/>
                      </a:lnTo>
                      <a:lnTo>
                        <a:pt x="2364" y="210"/>
                      </a:lnTo>
                      <a:lnTo>
                        <a:pt x="2384" y="218"/>
                      </a:lnTo>
                      <a:lnTo>
                        <a:pt x="2401" y="222"/>
                      </a:lnTo>
                      <a:lnTo>
                        <a:pt x="2420" y="229"/>
                      </a:lnTo>
                      <a:lnTo>
                        <a:pt x="2432" y="230"/>
                      </a:lnTo>
                      <a:lnTo>
                        <a:pt x="2445" y="232"/>
                      </a:lnTo>
                      <a:lnTo>
                        <a:pt x="2458" y="232"/>
                      </a:lnTo>
                      <a:lnTo>
                        <a:pt x="2480" y="229"/>
                      </a:lnTo>
                      <a:lnTo>
                        <a:pt x="2554" y="237"/>
                      </a:lnTo>
                      <a:lnTo>
                        <a:pt x="2532" y="229"/>
                      </a:lnTo>
                      <a:lnTo>
                        <a:pt x="2519" y="225"/>
                      </a:lnTo>
                      <a:lnTo>
                        <a:pt x="2513" y="218"/>
                      </a:lnTo>
                      <a:lnTo>
                        <a:pt x="2519" y="212"/>
                      </a:lnTo>
                      <a:lnTo>
                        <a:pt x="2545" y="207"/>
                      </a:lnTo>
                      <a:lnTo>
                        <a:pt x="2562" y="203"/>
                      </a:lnTo>
                      <a:lnTo>
                        <a:pt x="2584" y="198"/>
                      </a:lnTo>
                      <a:lnTo>
                        <a:pt x="2602" y="191"/>
                      </a:lnTo>
                      <a:lnTo>
                        <a:pt x="2631" y="181"/>
                      </a:lnTo>
                      <a:lnTo>
                        <a:pt x="2588" y="181"/>
                      </a:lnTo>
                      <a:lnTo>
                        <a:pt x="2561" y="180"/>
                      </a:lnTo>
                      <a:lnTo>
                        <a:pt x="2535" y="177"/>
                      </a:lnTo>
                      <a:lnTo>
                        <a:pt x="2513" y="175"/>
                      </a:lnTo>
                      <a:lnTo>
                        <a:pt x="2498" y="175"/>
                      </a:lnTo>
                      <a:lnTo>
                        <a:pt x="2486" y="177"/>
                      </a:lnTo>
                      <a:lnTo>
                        <a:pt x="2473" y="178"/>
                      </a:lnTo>
                      <a:lnTo>
                        <a:pt x="2457" y="183"/>
                      </a:lnTo>
                      <a:lnTo>
                        <a:pt x="2442" y="187"/>
                      </a:lnTo>
                      <a:lnTo>
                        <a:pt x="2464" y="192"/>
                      </a:lnTo>
                      <a:lnTo>
                        <a:pt x="2480" y="198"/>
                      </a:lnTo>
                      <a:lnTo>
                        <a:pt x="2491" y="206"/>
                      </a:lnTo>
                      <a:lnTo>
                        <a:pt x="2495" y="214"/>
                      </a:lnTo>
                      <a:lnTo>
                        <a:pt x="2491" y="222"/>
                      </a:lnTo>
                      <a:lnTo>
                        <a:pt x="2475" y="219"/>
                      </a:lnTo>
                      <a:lnTo>
                        <a:pt x="2462" y="216"/>
                      </a:lnTo>
                      <a:lnTo>
                        <a:pt x="2453" y="210"/>
                      </a:lnTo>
                      <a:lnTo>
                        <a:pt x="2436" y="203"/>
                      </a:lnTo>
                      <a:lnTo>
                        <a:pt x="2416" y="200"/>
                      </a:lnTo>
                      <a:lnTo>
                        <a:pt x="2398" y="198"/>
                      </a:lnTo>
                      <a:lnTo>
                        <a:pt x="2373" y="200"/>
                      </a:lnTo>
                      <a:lnTo>
                        <a:pt x="2357" y="199"/>
                      </a:lnTo>
                      <a:lnTo>
                        <a:pt x="2342" y="198"/>
                      </a:lnTo>
                      <a:lnTo>
                        <a:pt x="2325" y="194"/>
                      </a:lnTo>
                      <a:lnTo>
                        <a:pt x="2307" y="189"/>
                      </a:lnTo>
                      <a:lnTo>
                        <a:pt x="2292" y="183"/>
                      </a:lnTo>
                      <a:lnTo>
                        <a:pt x="2277" y="178"/>
                      </a:lnTo>
                      <a:lnTo>
                        <a:pt x="2264" y="178"/>
                      </a:lnTo>
                      <a:lnTo>
                        <a:pt x="2250" y="183"/>
                      </a:lnTo>
                      <a:lnTo>
                        <a:pt x="2233" y="187"/>
                      </a:lnTo>
                      <a:lnTo>
                        <a:pt x="2217" y="187"/>
                      </a:lnTo>
                      <a:lnTo>
                        <a:pt x="2195" y="187"/>
                      </a:lnTo>
                      <a:lnTo>
                        <a:pt x="2177" y="184"/>
                      </a:lnTo>
                      <a:lnTo>
                        <a:pt x="2159" y="181"/>
                      </a:lnTo>
                      <a:lnTo>
                        <a:pt x="2143" y="180"/>
                      </a:lnTo>
                      <a:lnTo>
                        <a:pt x="2129" y="181"/>
                      </a:lnTo>
                      <a:lnTo>
                        <a:pt x="2109" y="183"/>
                      </a:lnTo>
                      <a:lnTo>
                        <a:pt x="2092" y="185"/>
                      </a:lnTo>
                      <a:lnTo>
                        <a:pt x="2072" y="183"/>
                      </a:lnTo>
                      <a:lnTo>
                        <a:pt x="2048" y="181"/>
                      </a:lnTo>
                      <a:lnTo>
                        <a:pt x="2022" y="180"/>
                      </a:lnTo>
                      <a:lnTo>
                        <a:pt x="1996" y="178"/>
                      </a:lnTo>
                      <a:lnTo>
                        <a:pt x="1978" y="174"/>
                      </a:lnTo>
                      <a:lnTo>
                        <a:pt x="1961" y="169"/>
                      </a:lnTo>
                      <a:lnTo>
                        <a:pt x="1945" y="163"/>
                      </a:lnTo>
                      <a:lnTo>
                        <a:pt x="1932" y="162"/>
                      </a:lnTo>
                      <a:lnTo>
                        <a:pt x="1921" y="162"/>
                      </a:lnTo>
                      <a:lnTo>
                        <a:pt x="1907" y="163"/>
                      </a:lnTo>
                      <a:lnTo>
                        <a:pt x="1873" y="166"/>
                      </a:lnTo>
                      <a:lnTo>
                        <a:pt x="1911" y="169"/>
                      </a:lnTo>
                      <a:lnTo>
                        <a:pt x="1902" y="178"/>
                      </a:lnTo>
                      <a:lnTo>
                        <a:pt x="1888" y="188"/>
                      </a:lnTo>
                      <a:lnTo>
                        <a:pt x="1874" y="189"/>
                      </a:lnTo>
                      <a:lnTo>
                        <a:pt x="1692" y="167"/>
                      </a:lnTo>
                      <a:lnTo>
                        <a:pt x="1681" y="163"/>
                      </a:lnTo>
                      <a:lnTo>
                        <a:pt x="1714" y="155"/>
                      </a:lnTo>
                      <a:lnTo>
                        <a:pt x="1690" y="151"/>
                      </a:lnTo>
                      <a:lnTo>
                        <a:pt x="1675" y="150"/>
                      </a:lnTo>
                      <a:lnTo>
                        <a:pt x="1664" y="143"/>
                      </a:lnTo>
                      <a:lnTo>
                        <a:pt x="1649" y="139"/>
                      </a:lnTo>
                      <a:lnTo>
                        <a:pt x="1632" y="142"/>
                      </a:lnTo>
                      <a:lnTo>
                        <a:pt x="1614" y="144"/>
                      </a:lnTo>
                      <a:lnTo>
                        <a:pt x="1597" y="150"/>
                      </a:lnTo>
                      <a:lnTo>
                        <a:pt x="1582" y="143"/>
                      </a:lnTo>
                      <a:lnTo>
                        <a:pt x="1566" y="133"/>
                      </a:lnTo>
                      <a:lnTo>
                        <a:pt x="1549" y="125"/>
                      </a:lnTo>
                      <a:lnTo>
                        <a:pt x="1533" y="120"/>
                      </a:lnTo>
                      <a:lnTo>
                        <a:pt x="1515" y="116"/>
                      </a:lnTo>
                      <a:lnTo>
                        <a:pt x="1497" y="114"/>
                      </a:lnTo>
                      <a:lnTo>
                        <a:pt x="1468" y="116"/>
                      </a:lnTo>
                      <a:lnTo>
                        <a:pt x="1445" y="118"/>
                      </a:lnTo>
                      <a:lnTo>
                        <a:pt x="1422" y="121"/>
                      </a:lnTo>
                      <a:lnTo>
                        <a:pt x="1394" y="124"/>
                      </a:lnTo>
                      <a:lnTo>
                        <a:pt x="1367" y="128"/>
                      </a:lnTo>
                      <a:lnTo>
                        <a:pt x="1345" y="130"/>
                      </a:lnTo>
                      <a:lnTo>
                        <a:pt x="1326" y="136"/>
                      </a:lnTo>
                      <a:lnTo>
                        <a:pt x="1305" y="140"/>
                      </a:lnTo>
                      <a:lnTo>
                        <a:pt x="1286" y="140"/>
                      </a:lnTo>
                      <a:lnTo>
                        <a:pt x="1267" y="144"/>
                      </a:lnTo>
                      <a:lnTo>
                        <a:pt x="1246" y="148"/>
                      </a:lnTo>
                      <a:lnTo>
                        <a:pt x="1224" y="152"/>
                      </a:lnTo>
                      <a:lnTo>
                        <a:pt x="1202" y="152"/>
                      </a:lnTo>
                      <a:lnTo>
                        <a:pt x="1180" y="152"/>
                      </a:lnTo>
                      <a:lnTo>
                        <a:pt x="1164" y="151"/>
                      </a:lnTo>
                      <a:lnTo>
                        <a:pt x="1149" y="155"/>
                      </a:lnTo>
                      <a:lnTo>
                        <a:pt x="1128" y="160"/>
                      </a:lnTo>
                      <a:lnTo>
                        <a:pt x="1106" y="160"/>
                      </a:lnTo>
                      <a:lnTo>
                        <a:pt x="1080" y="160"/>
                      </a:lnTo>
                      <a:lnTo>
                        <a:pt x="1058" y="160"/>
                      </a:lnTo>
                      <a:lnTo>
                        <a:pt x="1031" y="160"/>
                      </a:lnTo>
                      <a:lnTo>
                        <a:pt x="980" y="166"/>
                      </a:lnTo>
                      <a:lnTo>
                        <a:pt x="969" y="163"/>
                      </a:lnTo>
                      <a:lnTo>
                        <a:pt x="958" y="156"/>
                      </a:lnTo>
                      <a:lnTo>
                        <a:pt x="943" y="152"/>
                      </a:lnTo>
                      <a:lnTo>
                        <a:pt x="930" y="151"/>
                      </a:lnTo>
                      <a:lnTo>
                        <a:pt x="910" y="152"/>
                      </a:lnTo>
                      <a:lnTo>
                        <a:pt x="888" y="156"/>
                      </a:lnTo>
                      <a:lnTo>
                        <a:pt x="853" y="159"/>
                      </a:lnTo>
                      <a:lnTo>
                        <a:pt x="838" y="154"/>
                      </a:lnTo>
                      <a:lnTo>
                        <a:pt x="827" y="148"/>
                      </a:lnTo>
                      <a:lnTo>
                        <a:pt x="814" y="146"/>
                      </a:lnTo>
                      <a:lnTo>
                        <a:pt x="798" y="144"/>
                      </a:lnTo>
                      <a:lnTo>
                        <a:pt x="784" y="140"/>
                      </a:lnTo>
                      <a:lnTo>
                        <a:pt x="779" y="133"/>
                      </a:lnTo>
                      <a:lnTo>
                        <a:pt x="768" y="121"/>
                      </a:lnTo>
                      <a:lnTo>
                        <a:pt x="755" y="117"/>
                      </a:lnTo>
                      <a:lnTo>
                        <a:pt x="739" y="114"/>
                      </a:lnTo>
                      <a:lnTo>
                        <a:pt x="724" y="114"/>
                      </a:lnTo>
                      <a:lnTo>
                        <a:pt x="717" y="120"/>
                      </a:lnTo>
                      <a:lnTo>
                        <a:pt x="707" y="133"/>
                      </a:lnTo>
                      <a:lnTo>
                        <a:pt x="696" y="130"/>
                      </a:lnTo>
                      <a:lnTo>
                        <a:pt x="684" y="129"/>
                      </a:lnTo>
                      <a:lnTo>
                        <a:pt x="669" y="130"/>
                      </a:lnTo>
                      <a:lnTo>
                        <a:pt x="655" y="135"/>
                      </a:lnTo>
                      <a:lnTo>
                        <a:pt x="638" y="139"/>
                      </a:lnTo>
                      <a:lnTo>
                        <a:pt x="616" y="139"/>
                      </a:lnTo>
                      <a:lnTo>
                        <a:pt x="632" y="128"/>
                      </a:lnTo>
                      <a:lnTo>
                        <a:pt x="639" y="120"/>
                      </a:lnTo>
                      <a:lnTo>
                        <a:pt x="624" y="122"/>
                      </a:lnTo>
                      <a:lnTo>
                        <a:pt x="595" y="128"/>
                      </a:lnTo>
                      <a:lnTo>
                        <a:pt x="570" y="126"/>
                      </a:lnTo>
                      <a:lnTo>
                        <a:pt x="569" y="120"/>
                      </a:lnTo>
                      <a:lnTo>
                        <a:pt x="565" y="113"/>
                      </a:lnTo>
                      <a:lnTo>
                        <a:pt x="559" y="108"/>
                      </a:lnTo>
                      <a:lnTo>
                        <a:pt x="546" y="104"/>
                      </a:lnTo>
                      <a:lnTo>
                        <a:pt x="531" y="104"/>
                      </a:lnTo>
                      <a:lnTo>
                        <a:pt x="511" y="105"/>
                      </a:lnTo>
                      <a:lnTo>
                        <a:pt x="494" y="108"/>
                      </a:lnTo>
                      <a:lnTo>
                        <a:pt x="476" y="104"/>
                      </a:lnTo>
                      <a:lnTo>
                        <a:pt x="455" y="98"/>
                      </a:lnTo>
                      <a:lnTo>
                        <a:pt x="441" y="90"/>
                      </a:lnTo>
                      <a:lnTo>
                        <a:pt x="457" y="74"/>
                      </a:lnTo>
                      <a:lnTo>
                        <a:pt x="472" y="69"/>
                      </a:lnTo>
                      <a:lnTo>
                        <a:pt x="488" y="62"/>
                      </a:lnTo>
                      <a:lnTo>
                        <a:pt x="499" y="58"/>
                      </a:lnTo>
                      <a:lnTo>
                        <a:pt x="509" y="50"/>
                      </a:lnTo>
                      <a:lnTo>
                        <a:pt x="514" y="43"/>
                      </a:lnTo>
                      <a:lnTo>
                        <a:pt x="517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321160" y="3673800"/>
                  <a:ext cx="820800" cy="87840"/>
                </a:xfrm>
                <a:custGeom>
                  <a:avLst/>
                  <a:gdLst/>
                  <a:ahLst/>
                  <a:rect l="l" t="t" r="r" b="b"/>
                  <a:pathLst>
                    <a:path w="626" h="70">
                      <a:moveTo>
                        <a:pt x="0" y="35"/>
                      </a:moveTo>
                      <a:lnTo>
                        <a:pt x="43" y="27"/>
                      </a:lnTo>
                      <a:lnTo>
                        <a:pt x="54" y="18"/>
                      </a:lnTo>
                      <a:lnTo>
                        <a:pt x="72" y="15"/>
                      </a:lnTo>
                      <a:lnTo>
                        <a:pt x="85" y="13"/>
                      </a:lnTo>
                      <a:lnTo>
                        <a:pt x="101" y="11"/>
                      </a:lnTo>
                      <a:lnTo>
                        <a:pt x="118" y="11"/>
                      </a:lnTo>
                      <a:lnTo>
                        <a:pt x="139" y="11"/>
                      </a:lnTo>
                      <a:lnTo>
                        <a:pt x="157" y="7"/>
                      </a:lnTo>
                      <a:lnTo>
                        <a:pt x="172" y="6"/>
                      </a:lnTo>
                      <a:lnTo>
                        <a:pt x="198" y="7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4"/>
                      </a:lnTo>
                      <a:lnTo>
                        <a:pt x="276" y="11"/>
                      </a:lnTo>
                      <a:lnTo>
                        <a:pt x="296" y="15"/>
                      </a:lnTo>
                      <a:lnTo>
                        <a:pt x="326" y="18"/>
                      </a:lnTo>
                      <a:lnTo>
                        <a:pt x="341" y="14"/>
                      </a:lnTo>
                      <a:lnTo>
                        <a:pt x="360" y="15"/>
                      </a:lnTo>
                      <a:lnTo>
                        <a:pt x="373" y="18"/>
                      </a:lnTo>
                      <a:lnTo>
                        <a:pt x="394" y="27"/>
                      </a:lnTo>
                      <a:lnTo>
                        <a:pt x="410" y="38"/>
                      </a:lnTo>
                      <a:lnTo>
                        <a:pt x="436" y="44"/>
                      </a:lnTo>
                      <a:lnTo>
                        <a:pt x="473" y="41"/>
                      </a:lnTo>
                      <a:lnTo>
                        <a:pt x="492" y="48"/>
                      </a:lnTo>
                      <a:lnTo>
                        <a:pt x="509" y="52"/>
                      </a:lnTo>
                      <a:lnTo>
                        <a:pt x="532" y="54"/>
                      </a:lnTo>
                      <a:lnTo>
                        <a:pt x="625" y="65"/>
                      </a:lnTo>
                      <a:lnTo>
                        <a:pt x="524" y="61"/>
                      </a:lnTo>
                      <a:lnTo>
                        <a:pt x="505" y="65"/>
                      </a:lnTo>
                      <a:lnTo>
                        <a:pt x="488" y="69"/>
                      </a:lnTo>
                      <a:lnTo>
                        <a:pt x="476" y="68"/>
                      </a:lnTo>
                      <a:lnTo>
                        <a:pt x="461" y="65"/>
                      </a:lnTo>
                      <a:lnTo>
                        <a:pt x="442" y="59"/>
                      </a:lnTo>
                      <a:lnTo>
                        <a:pt x="415" y="57"/>
                      </a:lnTo>
                      <a:lnTo>
                        <a:pt x="390" y="51"/>
                      </a:lnTo>
                      <a:lnTo>
                        <a:pt x="373" y="52"/>
                      </a:lnTo>
                      <a:lnTo>
                        <a:pt x="354" y="54"/>
                      </a:lnTo>
                      <a:lnTo>
                        <a:pt x="313" y="48"/>
                      </a:lnTo>
                      <a:lnTo>
                        <a:pt x="292" y="46"/>
                      </a:lnTo>
                      <a:lnTo>
                        <a:pt x="265" y="38"/>
                      </a:lnTo>
                      <a:lnTo>
                        <a:pt x="238" y="38"/>
                      </a:lnTo>
                      <a:lnTo>
                        <a:pt x="206" y="38"/>
                      </a:lnTo>
                      <a:lnTo>
                        <a:pt x="183" y="39"/>
                      </a:lnTo>
                      <a:lnTo>
                        <a:pt x="161" y="37"/>
                      </a:lnTo>
                      <a:lnTo>
                        <a:pt x="139" y="30"/>
                      </a:lnTo>
                      <a:lnTo>
                        <a:pt x="118" y="35"/>
                      </a:lnTo>
                      <a:lnTo>
                        <a:pt x="99" y="28"/>
                      </a:lnTo>
                      <a:lnTo>
                        <a:pt x="83" y="30"/>
                      </a:lnTo>
                      <a:lnTo>
                        <a:pt x="60" y="31"/>
                      </a:lnTo>
                      <a:lnTo>
                        <a:pt x="35" y="32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411080" y="3648600"/>
                  <a:ext cx="3449520" cy="298440"/>
                </a:xfrm>
                <a:custGeom>
                  <a:avLst/>
                  <a:gdLst/>
                  <a:ahLst/>
                  <a:rect l="l" t="t" r="r" b="b"/>
                  <a:pathLst>
                    <a:path w="2631" h="238">
                      <a:moveTo>
                        <a:pt x="492" y="0"/>
                      </a:moveTo>
                      <a:lnTo>
                        <a:pt x="471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8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40"/>
                      </a:lnTo>
                      <a:lnTo>
                        <a:pt x="365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7"/>
                      </a:lnTo>
                      <a:lnTo>
                        <a:pt x="289" y="67"/>
                      </a:lnTo>
                      <a:lnTo>
                        <a:pt x="258" y="68"/>
                      </a:lnTo>
                      <a:lnTo>
                        <a:pt x="234" y="62"/>
                      </a:lnTo>
                      <a:lnTo>
                        <a:pt x="207" y="74"/>
                      </a:lnTo>
                      <a:lnTo>
                        <a:pt x="182" y="67"/>
                      </a:lnTo>
                      <a:lnTo>
                        <a:pt x="175" y="68"/>
                      </a:lnTo>
                      <a:lnTo>
                        <a:pt x="169" y="73"/>
                      </a:lnTo>
                      <a:lnTo>
                        <a:pt x="160" y="78"/>
                      </a:lnTo>
                      <a:lnTo>
                        <a:pt x="155" y="86"/>
                      </a:lnTo>
                      <a:lnTo>
                        <a:pt x="145" y="92"/>
                      </a:lnTo>
                      <a:lnTo>
                        <a:pt x="138" y="96"/>
                      </a:lnTo>
                      <a:lnTo>
                        <a:pt x="122" y="96"/>
                      </a:lnTo>
                      <a:lnTo>
                        <a:pt x="104" y="96"/>
                      </a:lnTo>
                      <a:lnTo>
                        <a:pt x="96" y="102"/>
                      </a:lnTo>
                      <a:lnTo>
                        <a:pt x="84" y="108"/>
                      </a:lnTo>
                      <a:lnTo>
                        <a:pt x="73" y="108"/>
                      </a:lnTo>
                      <a:lnTo>
                        <a:pt x="56" y="109"/>
                      </a:lnTo>
                      <a:lnTo>
                        <a:pt x="36" y="109"/>
                      </a:lnTo>
                      <a:lnTo>
                        <a:pt x="16" y="116"/>
                      </a:lnTo>
                      <a:lnTo>
                        <a:pt x="0" y="133"/>
                      </a:lnTo>
                      <a:lnTo>
                        <a:pt x="14" y="132"/>
                      </a:lnTo>
                      <a:lnTo>
                        <a:pt x="36" y="126"/>
                      </a:lnTo>
                      <a:lnTo>
                        <a:pt x="58" y="125"/>
                      </a:lnTo>
                      <a:lnTo>
                        <a:pt x="74" y="126"/>
                      </a:lnTo>
                      <a:lnTo>
                        <a:pt x="89" y="133"/>
                      </a:lnTo>
                      <a:lnTo>
                        <a:pt x="106" y="135"/>
                      </a:lnTo>
                      <a:lnTo>
                        <a:pt x="122" y="132"/>
                      </a:lnTo>
                      <a:lnTo>
                        <a:pt x="140" y="126"/>
                      </a:lnTo>
                      <a:lnTo>
                        <a:pt x="156" y="122"/>
                      </a:lnTo>
                      <a:lnTo>
                        <a:pt x="171" y="122"/>
                      </a:lnTo>
                      <a:lnTo>
                        <a:pt x="182" y="132"/>
                      </a:lnTo>
                      <a:lnTo>
                        <a:pt x="192" y="139"/>
                      </a:lnTo>
                      <a:lnTo>
                        <a:pt x="210" y="139"/>
                      </a:lnTo>
                      <a:lnTo>
                        <a:pt x="226" y="136"/>
                      </a:lnTo>
                      <a:lnTo>
                        <a:pt x="245" y="132"/>
                      </a:lnTo>
                      <a:lnTo>
                        <a:pt x="262" y="128"/>
                      </a:lnTo>
                      <a:lnTo>
                        <a:pt x="278" y="135"/>
                      </a:lnTo>
                      <a:lnTo>
                        <a:pt x="295" y="143"/>
                      </a:lnTo>
                      <a:lnTo>
                        <a:pt x="311" y="147"/>
                      </a:lnTo>
                      <a:lnTo>
                        <a:pt x="328" y="150"/>
                      </a:lnTo>
                      <a:lnTo>
                        <a:pt x="349" y="152"/>
                      </a:lnTo>
                      <a:lnTo>
                        <a:pt x="371" y="154"/>
                      </a:lnTo>
                      <a:lnTo>
                        <a:pt x="392" y="152"/>
                      </a:lnTo>
                      <a:lnTo>
                        <a:pt x="417" y="148"/>
                      </a:lnTo>
                      <a:lnTo>
                        <a:pt x="406" y="133"/>
                      </a:lnTo>
                      <a:lnTo>
                        <a:pt x="408" y="125"/>
                      </a:lnTo>
                      <a:lnTo>
                        <a:pt x="419" y="120"/>
                      </a:lnTo>
                      <a:lnTo>
                        <a:pt x="422" y="130"/>
                      </a:lnTo>
                      <a:lnTo>
                        <a:pt x="436" y="139"/>
                      </a:lnTo>
                      <a:lnTo>
                        <a:pt x="450" y="143"/>
                      </a:lnTo>
                      <a:lnTo>
                        <a:pt x="465" y="147"/>
                      </a:lnTo>
                      <a:lnTo>
                        <a:pt x="482" y="152"/>
                      </a:lnTo>
                      <a:lnTo>
                        <a:pt x="500" y="155"/>
                      </a:lnTo>
                      <a:lnTo>
                        <a:pt x="526" y="158"/>
                      </a:lnTo>
                      <a:lnTo>
                        <a:pt x="543" y="156"/>
                      </a:lnTo>
                      <a:lnTo>
                        <a:pt x="563" y="158"/>
                      </a:lnTo>
                      <a:lnTo>
                        <a:pt x="596" y="163"/>
                      </a:lnTo>
                      <a:lnTo>
                        <a:pt x="585" y="170"/>
                      </a:lnTo>
                      <a:lnTo>
                        <a:pt x="570" y="178"/>
                      </a:lnTo>
                      <a:lnTo>
                        <a:pt x="541" y="192"/>
                      </a:lnTo>
                      <a:lnTo>
                        <a:pt x="559" y="193"/>
                      </a:lnTo>
                      <a:lnTo>
                        <a:pt x="576" y="194"/>
                      </a:lnTo>
                      <a:lnTo>
                        <a:pt x="599" y="198"/>
                      </a:lnTo>
                      <a:lnTo>
                        <a:pt x="624" y="200"/>
                      </a:lnTo>
                      <a:lnTo>
                        <a:pt x="637" y="199"/>
                      </a:lnTo>
                      <a:lnTo>
                        <a:pt x="648" y="193"/>
                      </a:lnTo>
                      <a:lnTo>
                        <a:pt x="663" y="189"/>
                      </a:lnTo>
                      <a:lnTo>
                        <a:pt x="684" y="188"/>
                      </a:lnTo>
                      <a:lnTo>
                        <a:pt x="711" y="187"/>
                      </a:lnTo>
                      <a:lnTo>
                        <a:pt x="730" y="178"/>
                      </a:lnTo>
                      <a:lnTo>
                        <a:pt x="757" y="171"/>
                      </a:lnTo>
                      <a:lnTo>
                        <a:pt x="778" y="166"/>
                      </a:lnTo>
                      <a:lnTo>
                        <a:pt x="794" y="167"/>
                      </a:lnTo>
                      <a:lnTo>
                        <a:pt x="847" y="169"/>
                      </a:lnTo>
                      <a:lnTo>
                        <a:pt x="888" y="173"/>
                      </a:lnTo>
                      <a:lnTo>
                        <a:pt x="915" y="173"/>
                      </a:lnTo>
                      <a:lnTo>
                        <a:pt x="937" y="175"/>
                      </a:lnTo>
                      <a:lnTo>
                        <a:pt x="974" y="191"/>
                      </a:lnTo>
                      <a:lnTo>
                        <a:pt x="992" y="191"/>
                      </a:lnTo>
                      <a:lnTo>
                        <a:pt x="1013" y="187"/>
                      </a:lnTo>
                      <a:lnTo>
                        <a:pt x="1035" y="181"/>
                      </a:lnTo>
                      <a:lnTo>
                        <a:pt x="1053" y="178"/>
                      </a:lnTo>
                      <a:lnTo>
                        <a:pt x="1116" y="173"/>
                      </a:lnTo>
                      <a:lnTo>
                        <a:pt x="1158" y="171"/>
                      </a:lnTo>
                      <a:lnTo>
                        <a:pt x="1185" y="169"/>
                      </a:lnTo>
                      <a:lnTo>
                        <a:pt x="1207" y="167"/>
                      </a:lnTo>
                      <a:lnTo>
                        <a:pt x="1229" y="165"/>
                      </a:lnTo>
                      <a:lnTo>
                        <a:pt x="1255" y="162"/>
                      </a:lnTo>
                      <a:lnTo>
                        <a:pt x="1273" y="158"/>
                      </a:lnTo>
                      <a:lnTo>
                        <a:pt x="1299" y="151"/>
                      </a:lnTo>
                      <a:lnTo>
                        <a:pt x="1314" y="159"/>
                      </a:lnTo>
                      <a:lnTo>
                        <a:pt x="1323" y="167"/>
                      </a:lnTo>
                      <a:lnTo>
                        <a:pt x="1313" y="177"/>
                      </a:lnTo>
                      <a:lnTo>
                        <a:pt x="1294" y="183"/>
                      </a:lnTo>
                      <a:lnTo>
                        <a:pt x="1317" y="183"/>
                      </a:lnTo>
                      <a:lnTo>
                        <a:pt x="1305" y="191"/>
                      </a:lnTo>
                      <a:lnTo>
                        <a:pt x="1287" y="198"/>
                      </a:lnTo>
                      <a:lnTo>
                        <a:pt x="1262" y="208"/>
                      </a:lnTo>
                      <a:lnTo>
                        <a:pt x="1239" y="215"/>
                      </a:lnTo>
                      <a:lnTo>
                        <a:pt x="1268" y="212"/>
                      </a:lnTo>
                      <a:lnTo>
                        <a:pt x="1292" y="208"/>
                      </a:lnTo>
                      <a:lnTo>
                        <a:pt x="1317" y="202"/>
                      </a:lnTo>
                      <a:lnTo>
                        <a:pt x="1334" y="196"/>
                      </a:lnTo>
                      <a:lnTo>
                        <a:pt x="1342" y="194"/>
                      </a:lnTo>
                      <a:lnTo>
                        <a:pt x="1355" y="193"/>
                      </a:lnTo>
                      <a:lnTo>
                        <a:pt x="1372" y="193"/>
                      </a:lnTo>
                      <a:lnTo>
                        <a:pt x="1392" y="194"/>
                      </a:lnTo>
                      <a:lnTo>
                        <a:pt x="1410" y="198"/>
                      </a:lnTo>
                      <a:lnTo>
                        <a:pt x="1427" y="199"/>
                      </a:lnTo>
                      <a:lnTo>
                        <a:pt x="1449" y="198"/>
                      </a:lnTo>
                      <a:lnTo>
                        <a:pt x="1432" y="212"/>
                      </a:lnTo>
                      <a:lnTo>
                        <a:pt x="1414" y="222"/>
                      </a:lnTo>
                      <a:lnTo>
                        <a:pt x="1394" y="228"/>
                      </a:lnTo>
                      <a:lnTo>
                        <a:pt x="1417" y="225"/>
                      </a:lnTo>
                      <a:lnTo>
                        <a:pt x="1439" y="222"/>
                      </a:lnTo>
                      <a:lnTo>
                        <a:pt x="1462" y="221"/>
                      </a:lnTo>
                      <a:lnTo>
                        <a:pt x="1482" y="216"/>
                      </a:lnTo>
                      <a:lnTo>
                        <a:pt x="1506" y="214"/>
                      </a:lnTo>
                      <a:lnTo>
                        <a:pt x="1535" y="211"/>
                      </a:lnTo>
                      <a:lnTo>
                        <a:pt x="1561" y="211"/>
                      </a:lnTo>
                      <a:lnTo>
                        <a:pt x="1582" y="206"/>
                      </a:lnTo>
                      <a:lnTo>
                        <a:pt x="1587" y="202"/>
                      </a:lnTo>
                      <a:lnTo>
                        <a:pt x="1594" y="198"/>
                      </a:lnTo>
                      <a:lnTo>
                        <a:pt x="1609" y="198"/>
                      </a:lnTo>
                      <a:lnTo>
                        <a:pt x="1635" y="203"/>
                      </a:lnTo>
                      <a:lnTo>
                        <a:pt x="1667" y="206"/>
                      </a:lnTo>
                      <a:lnTo>
                        <a:pt x="1697" y="211"/>
                      </a:lnTo>
                      <a:lnTo>
                        <a:pt x="1713" y="214"/>
                      </a:lnTo>
                      <a:lnTo>
                        <a:pt x="1742" y="214"/>
                      </a:lnTo>
                      <a:lnTo>
                        <a:pt x="1775" y="215"/>
                      </a:lnTo>
                      <a:lnTo>
                        <a:pt x="1799" y="219"/>
                      </a:lnTo>
                      <a:lnTo>
                        <a:pt x="1830" y="225"/>
                      </a:lnTo>
                      <a:lnTo>
                        <a:pt x="1856" y="229"/>
                      </a:lnTo>
                      <a:lnTo>
                        <a:pt x="1878" y="232"/>
                      </a:lnTo>
                      <a:lnTo>
                        <a:pt x="1900" y="229"/>
                      </a:lnTo>
                      <a:lnTo>
                        <a:pt x="1934" y="222"/>
                      </a:lnTo>
                      <a:lnTo>
                        <a:pt x="1963" y="225"/>
                      </a:lnTo>
                      <a:lnTo>
                        <a:pt x="1989" y="225"/>
                      </a:lnTo>
                      <a:lnTo>
                        <a:pt x="2016" y="225"/>
                      </a:lnTo>
                      <a:lnTo>
                        <a:pt x="2043" y="224"/>
                      </a:lnTo>
                      <a:lnTo>
                        <a:pt x="2080" y="218"/>
                      </a:lnTo>
                      <a:lnTo>
                        <a:pt x="2098" y="218"/>
                      </a:lnTo>
                      <a:lnTo>
                        <a:pt x="2119" y="216"/>
                      </a:lnTo>
                      <a:lnTo>
                        <a:pt x="2157" y="221"/>
                      </a:lnTo>
                      <a:lnTo>
                        <a:pt x="2176" y="222"/>
                      </a:lnTo>
                      <a:lnTo>
                        <a:pt x="2193" y="222"/>
                      </a:lnTo>
                      <a:lnTo>
                        <a:pt x="2215" y="219"/>
                      </a:lnTo>
                      <a:lnTo>
                        <a:pt x="2237" y="218"/>
                      </a:lnTo>
                      <a:lnTo>
                        <a:pt x="2253" y="218"/>
                      </a:lnTo>
                      <a:lnTo>
                        <a:pt x="2260" y="221"/>
                      </a:lnTo>
                      <a:lnTo>
                        <a:pt x="2260" y="229"/>
                      </a:lnTo>
                      <a:lnTo>
                        <a:pt x="2268" y="232"/>
                      </a:lnTo>
                      <a:lnTo>
                        <a:pt x="2282" y="232"/>
                      </a:lnTo>
                      <a:lnTo>
                        <a:pt x="2296" y="229"/>
                      </a:lnTo>
                      <a:lnTo>
                        <a:pt x="2308" y="222"/>
                      </a:lnTo>
                      <a:lnTo>
                        <a:pt x="2316" y="214"/>
                      </a:lnTo>
                      <a:lnTo>
                        <a:pt x="2324" y="210"/>
                      </a:lnTo>
                      <a:lnTo>
                        <a:pt x="2346" y="210"/>
                      </a:lnTo>
                      <a:lnTo>
                        <a:pt x="2363" y="210"/>
                      </a:lnTo>
                      <a:lnTo>
                        <a:pt x="2383" y="218"/>
                      </a:lnTo>
                      <a:lnTo>
                        <a:pt x="2400" y="222"/>
                      </a:lnTo>
                      <a:lnTo>
                        <a:pt x="2419" y="229"/>
                      </a:lnTo>
                      <a:lnTo>
                        <a:pt x="2431" y="230"/>
                      </a:lnTo>
                      <a:lnTo>
                        <a:pt x="2444" y="232"/>
                      </a:lnTo>
                      <a:lnTo>
                        <a:pt x="2457" y="232"/>
                      </a:lnTo>
                      <a:lnTo>
                        <a:pt x="2479" y="229"/>
                      </a:lnTo>
                      <a:lnTo>
                        <a:pt x="2553" y="237"/>
                      </a:lnTo>
                      <a:lnTo>
                        <a:pt x="2531" y="229"/>
                      </a:lnTo>
                      <a:lnTo>
                        <a:pt x="2518" y="225"/>
                      </a:lnTo>
                      <a:lnTo>
                        <a:pt x="2512" y="218"/>
                      </a:lnTo>
                      <a:lnTo>
                        <a:pt x="2518" y="212"/>
                      </a:lnTo>
                      <a:lnTo>
                        <a:pt x="2544" y="207"/>
                      </a:lnTo>
                      <a:lnTo>
                        <a:pt x="2561" y="203"/>
                      </a:lnTo>
                      <a:lnTo>
                        <a:pt x="2583" y="198"/>
                      </a:lnTo>
                      <a:lnTo>
                        <a:pt x="2601" y="191"/>
                      </a:lnTo>
                      <a:lnTo>
                        <a:pt x="2630" y="181"/>
                      </a:lnTo>
                      <a:lnTo>
                        <a:pt x="2588" y="181"/>
                      </a:lnTo>
                      <a:lnTo>
                        <a:pt x="2560" y="180"/>
                      </a:lnTo>
                      <a:lnTo>
                        <a:pt x="2534" y="177"/>
                      </a:lnTo>
                      <a:lnTo>
                        <a:pt x="2512" y="175"/>
                      </a:lnTo>
                      <a:lnTo>
                        <a:pt x="2497" y="175"/>
                      </a:lnTo>
                      <a:lnTo>
                        <a:pt x="2485" y="177"/>
                      </a:lnTo>
                      <a:lnTo>
                        <a:pt x="2472" y="178"/>
                      </a:lnTo>
                      <a:lnTo>
                        <a:pt x="2456" y="183"/>
                      </a:lnTo>
                      <a:lnTo>
                        <a:pt x="2441" y="187"/>
                      </a:lnTo>
                      <a:lnTo>
                        <a:pt x="2463" y="192"/>
                      </a:lnTo>
                      <a:lnTo>
                        <a:pt x="2479" y="198"/>
                      </a:lnTo>
                      <a:lnTo>
                        <a:pt x="2490" y="206"/>
                      </a:lnTo>
                      <a:lnTo>
                        <a:pt x="2494" y="214"/>
                      </a:lnTo>
                      <a:lnTo>
                        <a:pt x="2490" y="222"/>
                      </a:lnTo>
                      <a:lnTo>
                        <a:pt x="2474" y="219"/>
                      </a:lnTo>
                      <a:lnTo>
                        <a:pt x="2461" y="216"/>
                      </a:lnTo>
                      <a:lnTo>
                        <a:pt x="2452" y="210"/>
                      </a:lnTo>
                      <a:lnTo>
                        <a:pt x="2435" y="203"/>
                      </a:lnTo>
                      <a:lnTo>
                        <a:pt x="2415" y="200"/>
                      </a:lnTo>
                      <a:lnTo>
                        <a:pt x="2397" y="198"/>
                      </a:lnTo>
                      <a:lnTo>
                        <a:pt x="2372" y="200"/>
                      </a:lnTo>
                      <a:lnTo>
                        <a:pt x="2356" y="199"/>
                      </a:lnTo>
                      <a:lnTo>
                        <a:pt x="2341" y="198"/>
                      </a:lnTo>
                      <a:lnTo>
                        <a:pt x="2324" y="194"/>
                      </a:lnTo>
                      <a:lnTo>
                        <a:pt x="2307" y="189"/>
                      </a:lnTo>
                      <a:lnTo>
                        <a:pt x="2291" y="183"/>
                      </a:lnTo>
                      <a:lnTo>
                        <a:pt x="2276" y="178"/>
                      </a:lnTo>
                      <a:lnTo>
                        <a:pt x="2263" y="178"/>
                      </a:lnTo>
                      <a:lnTo>
                        <a:pt x="2249" y="183"/>
                      </a:lnTo>
                      <a:lnTo>
                        <a:pt x="2233" y="187"/>
                      </a:lnTo>
                      <a:lnTo>
                        <a:pt x="2216" y="187"/>
                      </a:lnTo>
                      <a:lnTo>
                        <a:pt x="2194" y="187"/>
                      </a:lnTo>
                      <a:lnTo>
                        <a:pt x="2176" y="184"/>
                      </a:lnTo>
                      <a:lnTo>
                        <a:pt x="2159" y="181"/>
                      </a:lnTo>
                      <a:lnTo>
                        <a:pt x="2142" y="180"/>
                      </a:lnTo>
                      <a:lnTo>
                        <a:pt x="2128" y="181"/>
                      </a:lnTo>
                      <a:lnTo>
                        <a:pt x="2108" y="183"/>
                      </a:lnTo>
                      <a:lnTo>
                        <a:pt x="2091" y="185"/>
                      </a:lnTo>
                      <a:lnTo>
                        <a:pt x="2071" y="183"/>
                      </a:lnTo>
                      <a:lnTo>
                        <a:pt x="2048" y="181"/>
                      </a:lnTo>
                      <a:lnTo>
                        <a:pt x="2021" y="180"/>
                      </a:lnTo>
                      <a:lnTo>
                        <a:pt x="1995" y="178"/>
                      </a:lnTo>
                      <a:lnTo>
                        <a:pt x="1978" y="174"/>
                      </a:lnTo>
                      <a:lnTo>
                        <a:pt x="1960" y="169"/>
                      </a:lnTo>
                      <a:lnTo>
                        <a:pt x="1945" y="163"/>
                      </a:lnTo>
                      <a:lnTo>
                        <a:pt x="1931" y="162"/>
                      </a:lnTo>
                      <a:lnTo>
                        <a:pt x="1920" y="162"/>
                      </a:lnTo>
                      <a:lnTo>
                        <a:pt x="1906" y="163"/>
                      </a:lnTo>
                      <a:lnTo>
                        <a:pt x="1872" y="166"/>
                      </a:lnTo>
                      <a:lnTo>
                        <a:pt x="1910" y="169"/>
                      </a:lnTo>
                      <a:lnTo>
                        <a:pt x="1901" y="178"/>
                      </a:lnTo>
                      <a:lnTo>
                        <a:pt x="1887" y="188"/>
                      </a:lnTo>
                      <a:lnTo>
                        <a:pt x="1873" y="189"/>
                      </a:lnTo>
                      <a:lnTo>
                        <a:pt x="1691" y="167"/>
                      </a:lnTo>
                      <a:lnTo>
                        <a:pt x="1680" y="163"/>
                      </a:lnTo>
                      <a:lnTo>
                        <a:pt x="1713" y="155"/>
                      </a:lnTo>
                      <a:lnTo>
                        <a:pt x="1690" y="151"/>
                      </a:lnTo>
                      <a:lnTo>
                        <a:pt x="1675" y="150"/>
                      </a:lnTo>
                      <a:lnTo>
                        <a:pt x="1664" y="143"/>
                      </a:lnTo>
                      <a:lnTo>
                        <a:pt x="1649" y="139"/>
                      </a:lnTo>
                      <a:lnTo>
                        <a:pt x="1631" y="142"/>
                      </a:lnTo>
                      <a:lnTo>
                        <a:pt x="1613" y="144"/>
                      </a:lnTo>
                      <a:lnTo>
                        <a:pt x="1597" y="150"/>
                      </a:lnTo>
                      <a:lnTo>
                        <a:pt x="1582" y="143"/>
                      </a:lnTo>
                      <a:lnTo>
                        <a:pt x="1565" y="133"/>
                      </a:lnTo>
                      <a:lnTo>
                        <a:pt x="1549" y="125"/>
                      </a:lnTo>
                      <a:lnTo>
                        <a:pt x="1532" y="120"/>
                      </a:lnTo>
                      <a:lnTo>
                        <a:pt x="1514" y="116"/>
                      </a:lnTo>
                      <a:lnTo>
                        <a:pt x="1497" y="114"/>
                      </a:lnTo>
                      <a:lnTo>
                        <a:pt x="1468" y="116"/>
                      </a:lnTo>
                      <a:lnTo>
                        <a:pt x="1445" y="118"/>
                      </a:lnTo>
                      <a:lnTo>
                        <a:pt x="1421" y="121"/>
                      </a:lnTo>
                      <a:lnTo>
                        <a:pt x="1394" y="124"/>
                      </a:lnTo>
                      <a:lnTo>
                        <a:pt x="1366" y="128"/>
                      </a:lnTo>
                      <a:lnTo>
                        <a:pt x="1344" y="130"/>
                      </a:lnTo>
                      <a:lnTo>
                        <a:pt x="1325" y="136"/>
                      </a:lnTo>
                      <a:lnTo>
                        <a:pt x="1305" y="140"/>
                      </a:lnTo>
                      <a:lnTo>
                        <a:pt x="1286" y="140"/>
                      </a:lnTo>
                      <a:lnTo>
                        <a:pt x="1266" y="144"/>
                      </a:lnTo>
                      <a:lnTo>
                        <a:pt x="1246" y="148"/>
                      </a:lnTo>
                      <a:lnTo>
                        <a:pt x="1224" y="152"/>
                      </a:lnTo>
                      <a:lnTo>
                        <a:pt x="1202" y="152"/>
                      </a:lnTo>
                      <a:lnTo>
                        <a:pt x="1180" y="152"/>
                      </a:lnTo>
                      <a:lnTo>
                        <a:pt x="1164" y="151"/>
                      </a:lnTo>
                      <a:lnTo>
                        <a:pt x="1148" y="155"/>
                      </a:lnTo>
                      <a:lnTo>
                        <a:pt x="1128" y="160"/>
                      </a:lnTo>
                      <a:lnTo>
                        <a:pt x="1106" y="160"/>
                      </a:lnTo>
                      <a:lnTo>
                        <a:pt x="1080" y="160"/>
                      </a:lnTo>
                      <a:lnTo>
                        <a:pt x="1058" y="160"/>
                      </a:lnTo>
                      <a:lnTo>
                        <a:pt x="1031" y="160"/>
                      </a:lnTo>
                      <a:lnTo>
                        <a:pt x="980" y="166"/>
                      </a:lnTo>
                      <a:lnTo>
                        <a:pt x="969" y="163"/>
                      </a:lnTo>
                      <a:lnTo>
                        <a:pt x="958" y="156"/>
                      </a:lnTo>
                      <a:lnTo>
                        <a:pt x="943" y="152"/>
                      </a:lnTo>
                      <a:lnTo>
                        <a:pt x="929" y="151"/>
                      </a:lnTo>
                      <a:lnTo>
                        <a:pt x="910" y="152"/>
                      </a:lnTo>
                      <a:lnTo>
                        <a:pt x="888" y="156"/>
                      </a:lnTo>
                      <a:lnTo>
                        <a:pt x="852" y="159"/>
                      </a:lnTo>
                      <a:lnTo>
                        <a:pt x="837" y="154"/>
                      </a:lnTo>
                      <a:lnTo>
                        <a:pt x="826" y="148"/>
                      </a:lnTo>
                      <a:lnTo>
                        <a:pt x="814" y="146"/>
                      </a:lnTo>
                      <a:lnTo>
                        <a:pt x="798" y="144"/>
                      </a:lnTo>
                      <a:lnTo>
                        <a:pt x="784" y="140"/>
                      </a:lnTo>
                      <a:lnTo>
                        <a:pt x="778" y="133"/>
                      </a:lnTo>
                      <a:lnTo>
                        <a:pt x="767" y="121"/>
                      </a:lnTo>
                      <a:lnTo>
                        <a:pt x="755" y="117"/>
                      </a:lnTo>
                      <a:lnTo>
                        <a:pt x="739" y="114"/>
                      </a:lnTo>
                      <a:lnTo>
                        <a:pt x="724" y="114"/>
                      </a:lnTo>
                      <a:lnTo>
                        <a:pt x="717" y="120"/>
                      </a:lnTo>
                      <a:lnTo>
                        <a:pt x="707" y="133"/>
                      </a:lnTo>
                      <a:lnTo>
                        <a:pt x="696" y="130"/>
                      </a:lnTo>
                      <a:lnTo>
                        <a:pt x="684" y="129"/>
                      </a:lnTo>
                      <a:lnTo>
                        <a:pt x="669" y="130"/>
                      </a:lnTo>
                      <a:lnTo>
                        <a:pt x="655" y="135"/>
                      </a:lnTo>
                      <a:lnTo>
                        <a:pt x="637" y="139"/>
                      </a:lnTo>
                      <a:lnTo>
                        <a:pt x="615" y="139"/>
                      </a:lnTo>
                      <a:lnTo>
                        <a:pt x="632" y="128"/>
                      </a:lnTo>
                      <a:lnTo>
                        <a:pt x="639" y="120"/>
                      </a:lnTo>
                      <a:lnTo>
                        <a:pt x="624" y="122"/>
                      </a:lnTo>
                      <a:lnTo>
                        <a:pt x="595" y="128"/>
                      </a:lnTo>
                      <a:lnTo>
                        <a:pt x="570" y="126"/>
                      </a:lnTo>
                      <a:lnTo>
                        <a:pt x="569" y="120"/>
                      </a:lnTo>
                      <a:lnTo>
                        <a:pt x="565" y="113"/>
                      </a:lnTo>
                      <a:lnTo>
                        <a:pt x="559" y="108"/>
                      </a:lnTo>
                      <a:lnTo>
                        <a:pt x="545" y="104"/>
                      </a:lnTo>
                      <a:lnTo>
                        <a:pt x="530" y="104"/>
                      </a:lnTo>
                      <a:lnTo>
                        <a:pt x="511" y="105"/>
                      </a:lnTo>
                      <a:lnTo>
                        <a:pt x="493" y="108"/>
                      </a:lnTo>
                      <a:lnTo>
                        <a:pt x="476" y="104"/>
                      </a:lnTo>
                      <a:lnTo>
                        <a:pt x="455" y="98"/>
                      </a:lnTo>
                      <a:lnTo>
                        <a:pt x="441" y="90"/>
                      </a:lnTo>
                      <a:lnTo>
                        <a:pt x="456" y="74"/>
                      </a:lnTo>
                      <a:lnTo>
                        <a:pt x="471" y="69"/>
                      </a:lnTo>
                      <a:lnTo>
                        <a:pt x="488" y="62"/>
                      </a:lnTo>
                      <a:lnTo>
                        <a:pt x="499" y="58"/>
                      </a:lnTo>
                      <a:lnTo>
                        <a:pt x="508" y="50"/>
                      </a:lnTo>
                      <a:lnTo>
                        <a:pt x="514" y="43"/>
                      </a:lnTo>
                      <a:lnTo>
                        <a:pt x="517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201760" y="3733920"/>
                  <a:ext cx="82080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0" y="34"/>
                      </a:moveTo>
                      <a:lnTo>
                        <a:pt x="43" y="26"/>
                      </a:lnTo>
                      <a:lnTo>
                        <a:pt x="54" y="18"/>
                      </a:lnTo>
                      <a:lnTo>
                        <a:pt x="72" y="15"/>
                      </a:lnTo>
                      <a:lnTo>
                        <a:pt x="85" y="13"/>
                      </a:lnTo>
                      <a:lnTo>
                        <a:pt x="101" y="11"/>
                      </a:lnTo>
                      <a:lnTo>
                        <a:pt x="118" y="11"/>
                      </a:lnTo>
                      <a:lnTo>
                        <a:pt x="139" y="11"/>
                      </a:lnTo>
                      <a:lnTo>
                        <a:pt x="157" y="7"/>
                      </a:lnTo>
                      <a:lnTo>
                        <a:pt x="172" y="6"/>
                      </a:lnTo>
                      <a:lnTo>
                        <a:pt x="198" y="7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4"/>
                      </a:lnTo>
                      <a:lnTo>
                        <a:pt x="276" y="11"/>
                      </a:lnTo>
                      <a:lnTo>
                        <a:pt x="296" y="15"/>
                      </a:lnTo>
                      <a:lnTo>
                        <a:pt x="326" y="18"/>
                      </a:lnTo>
                      <a:lnTo>
                        <a:pt x="341" y="14"/>
                      </a:lnTo>
                      <a:lnTo>
                        <a:pt x="360" y="15"/>
                      </a:lnTo>
                      <a:lnTo>
                        <a:pt x="373" y="18"/>
                      </a:lnTo>
                      <a:lnTo>
                        <a:pt x="394" y="26"/>
                      </a:lnTo>
                      <a:lnTo>
                        <a:pt x="410" y="37"/>
                      </a:lnTo>
                      <a:lnTo>
                        <a:pt x="436" y="43"/>
                      </a:lnTo>
                      <a:lnTo>
                        <a:pt x="473" y="41"/>
                      </a:lnTo>
                      <a:lnTo>
                        <a:pt x="492" y="48"/>
                      </a:lnTo>
                      <a:lnTo>
                        <a:pt x="509" y="51"/>
                      </a:lnTo>
                      <a:lnTo>
                        <a:pt x="532" y="53"/>
                      </a:lnTo>
                      <a:lnTo>
                        <a:pt x="625" y="64"/>
                      </a:lnTo>
                      <a:lnTo>
                        <a:pt x="524" y="60"/>
                      </a:lnTo>
                      <a:lnTo>
                        <a:pt x="505" y="64"/>
                      </a:lnTo>
                      <a:lnTo>
                        <a:pt x="488" y="68"/>
                      </a:lnTo>
                      <a:lnTo>
                        <a:pt x="476" y="67"/>
                      </a:lnTo>
                      <a:lnTo>
                        <a:pt x="461" y="64"/>
                      </a:lnTo>
                      <a:lnTo>
                        <a:pt x="442" y="58"/>
                      </a:lnTo>
                      <a:lnTo>
                        <a:pt x="415" y="57"/>
                      </a:lnTo>
                      <a:lnTo>
                        <a:pt x="390" y="50"/>
                      </a:lnTo>
                      <a:lnTo>
                        <a:pt x="373" y="51"/>
                      </a:lnTo>
                      <a:lnTo>
                        <a:pt x="354" y="53"/>
                      </a:lnTo>
                      <a:lnTo>
                        <a:pt x="313" y="48"/>
                      </a:lnTo>
                      <a:lnTo>
                        <a:pt x="292" y="45"/>
                      </a:lnTo>
                      <a:lnTo>
                        <a:pt x="265" y="37"/>
                      </a:lnTo>
                      <a:lnTo>
                        <a:pt x="238" y="37"/>
                      </a:lnTo>
                      <a:lnTo>
                        <a:pt x="206" y="37"/>
                      </a:lnTo>
                      <a:lnTo>
                        <a:pt x="183" y="38"/>
                      </a:lnTo>
                      <a:lnTo>
                        <a:pt x="161" y="36"/>
                      </a:lnTo>
                      <a:lnTo>
                        <a:pt x="139" y="30"/>
                      </a:lnTo>
                      <a:lnTo>
                        <a:pt x="118" y="34"/>
                      </a:lnTo>
                      <a:lnTo>
                        <a:pt x="99" y="27"/>
                      </a:lnTo>
                      <a:lnTo>
                        <a:pt x="83" y="30"/>
                      </a:lnTo>
                      <a:lnTo>
                        <a:pt x="60" y="31"/>
                      </a:lnTo>
                      <a:lnTo>
                        <a:pt x="35" y="32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726200" y="3710160"/>
                  <a:ext cx="3449520" cy="295920"/>
                </a:xfrm>
                <a:custGeom>
                  <a:avLst/>
                  <a:gdLst/>
                  <a:ahLst/>
                  <a:rect l="l" t="t" r="r" b="b"/>
                  <a:pathLst>
                    <a:path w="2631" h="236">
                      <a:moveTo>
                        <a:pt x="492" y="0"/>
                      </a:moveTo>
                      <a:lnTo>
                        <a:pt x="471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8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39"/>
                      </a:lnTo>
                      <a:lnTo>
                        <a:pt x="365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6"/>
                      </a:lnTo>
                      <a:lnTo>
                        <a:pt x="289" y="66"/>
                      </a:lnTo>
                      <a:lnTo>
                        <a:pt x="258" y="67"/>
                      </a:lnTo>
                      <a:lnTo>
                        <a:pt x="234" y="61"/>
                      </a:lnTo>
                      <a:lnTo>
                        <a:pt x="207" y="74"/>
                      </a:lnTo>
                      <a:lnTo>
                        <a:pt x="182" y="66"/>
                      </a:lnTo>
                      <a:lnTo>
                        <a:pt x="175" y="67"/>
                      </a:lnTo>
                      <a:lnTo>
                        <a:pt x="169" y="72"/>
                      </a:lnTo>
                      <a:lnTo>
                        <a:pt x="160" y="78"/>
                      </a:lnTo>
                      <a:lnTo>
                        <a:pt x="155" y="85"/>
                      </a:lnTo>
                      <a:lnTo>
                        <a:pt x="145" y="91"/>
                      </a:lnTo>
                      <a:lnTo>
                        <a:pt x="138" y="95"/>
                      </a:lnTo>
                      <a:lnTo>
                        <a:pt x="122" y="95"/>
                      </a:lnTo>
                      <a:lnTo>
                        <a:pt x="104" y="95"/>
                      </a:lnTo>
                      <a:lnTo>
                        <a:pt x="96" y="101"/>
                      </a:lnTo>
                      <a:lnTo>
                        <a:pt x="84" y="107"/>
                      </a:lnTo>
                      <a:lnTo>
                        <a:pt x="73" y="107"/>
                      </a:lnTo>
                      <a:lnTo>
                        <a:pt x="56" y="108"/>
                      </a:lnTo>
                      <a:lnTo>
                        <a:pt x="36" y="108"/>
                      </a:lnTo>
                      <a:lnTo>
                        <a:pt x="16" y="115"/>
                      </a:lnTo>
                      <a:lnTo>
                        <a:pt x="0" y="131"/>
                      </a:lnTo>
                      <a:lnTo>
                        <a:pt x="14" y="130"/>
                      </a:lnTo>
                      <a:lnTo>
                        <a:pt x="36" y="125"/>
                      </a:lnTo>
                      <a:lnTo>
                        <a:pt x="58" y="124"/>
                      </a:lnTo>
                      <a:lnTo>
                        <a:pt x="74" y="125"/>
                      </a:lnTo>
                      <a:lnTo>
                        <a:pt x="89" y="131"/>
                      </a:lnTo>
                      <a:lnTo>
                        <a:pt x="106" y="134"/>
                      </a:lnTo>
                      <a:lnTo>
                        <a:pt x="122" y="130"/>
                      </a:lnTo>
                      <a:lnTo>
                        <a:pt x="140" y="125"/>
                      </a:lnTo>
                      <a:lnTo>
                        <a:pt x="156" y="121"/>
                      </a:lnTo>
                      <a:lnTo>
                        <a:pt x="171" y="121"/>
                      </a:lnTo>
                      <a:lnTo>
                        <a:pt x="182" y="130"/>
                      </a:lnTo>
                      <a:lnTo>
                        <a:pt x="192" y="138"/>
                      </a:lnTo>
                      <a:lnTo>
                        <a:pt x="210" y="138"/>
                      </a:lnTo>
                      <a:lnTo>
                        <a:pt x="226" y="135"/>
                      </a:lnTo>
                      <a:lnTo>
                        <a:pt x="245" y="130"/>
                      </a:lnTo>
                      <a:lnTo>
                        <a:pt x="262" y="127"/>
                      </a:lnTo>
                      <a:lnTo>
                        <a:pt x="278" y="134"/>
                      </a:lnTo>
                      <a:lnTo>
                        <a:pt x="295" y="142"/>
                      </a:lnTo>
                      <a:lnTo>
                        <a:pt x="311" y="146"/>
                      </a:lnTo>
                      <a:lnTo>
                        <a:pt x="328" y="149"/>
                      </a:lnTo>
                      <a:lnTo>
                        <a:pt x="349" y="151"/>
                      </a:lnTo>
                      <a:lnTo>
                        <a:pt x="371" y="153"/>
                      </a:lnTo>
                      <a:lnTo>
                        <a:pt x="392" y="151"/>
                      </a:lnTo>
                      <a:lnTo>
                        <a:pt x="417" y="147"/>
                      </a:lnTo>
                      <a:lnTo>
                        <a:pt x="406" y="132"/>
                      </a:lnTo>
                      <a:lnTo>
                        <a:pt x="408" y="124"/>
                      </a:lnTo>
                      <a:lnTo>
                        <a:pt x="419" y="119"/>
                      </a:lnTo>
                      <a:lnTo>
                        <a:pt x="422" y="129"/>
                      </a:lnTo>
                      <a:lnTo>
                        <a:pt x="436" y="138"/>
                      </a:lnTo>
                      <a:lnTo>
                        <a:pt x="450" y="142"/>
                      </a:lnTo>
                      <a:lnTo>
                        <a:pt x="465" y="146"/>
                      </a:lnTo>
                      <a:lnTo>
                        <a:pt x="482" y="151"/>
                      </a:lnTo>
                      <a:lnTo>
                        <a:pt x="500" y="153"/>
                      </a:lnTo>
                      <a:lnTo>
                        <a:pt x="526" y="156"/>
                      </a:lnTo>
                      <a:lnTo>
                        <a:pt x="543" y="154"/>
                      </a:lnTo>
                      <a:lnTo>
                        <a:pt x="563" y="156"/>
                      </a:lnTo>
                      <a:lnTo>
                        <a:pt x="596" y="162"/>
                      </a:lnTo>
                      <a:lnTo>
                        <a:pt x="585" y="169"/>
                      </a:lnTo>
                      <a:lnTo>
                        <a:pt x="570" y="176"/>
                      </a:lnTo>
                      <a:lnTo>
                        <a:pt x="541" y="190"/>
                      </a:lnTo>
                      <a:lnTo>
                        <a:pt x="559" y="191"/>
                      </a:lnTo>
                      <a:lnTo>
                        <a:pt x="576" y="193"/>
                      </a:lnTo>
                      <a:lnTo>
                        <a:pt x="599" y="197"/>
                      </a:lnTo>
                      <a:lnTo>
                        <a:pt x="624" y="199"/>
                      </a:lnTo>
                      <a:lnTo>
                        <a:pt x="637" y="198"/>
                      </a:lnTo>
                      <a:lnTo>
                        <a:pt x="648" y="191"/>
                      </a:lnTo>
                      <a:lnTo>
                        <a:pt x="663" y="187"/>
                      </a:lnTo>
                      <a:lnTo>
                        <a:pt x="684" y="186"/>
                      </a:lnTo>
                      <a:lnTo>
                        <a:pt x="711" y="185"/>
                      </a:lnTo>
                      <a:lnTo>
                        <a:pt x="730" y="176"/>
                      </a:lnTo>
                      <a:lnTo>
                        <a:pt x="757" y="170"/>
                      </a:lnTo>
                      <a:lnTo>
                        <a:pt x="778" y="165"/>
                      </a:lnTo>
                      <a:lnTo>
                        <a:pt x="794" y="166"/>
                      </a:lnTo>
                      <a:lnTo>
                        <a:pt x="847" y="168"/>
                      </a:lnTo>
                      <a:lnTo>
                        <a:pt x="888" y="172"/>
                      </a:lnTo>
                      <a:lnTo>
                        <a:pt x="915" y="172"/>
                      </a:lnTo>
                      <a:lnTo>
                        <a:pt x="937" y="174"/>
                      </a:lnTo>
                      <a:lnTo>
                        <a:pt x="974" y="189"/>
                      </a:lnTo>
                      <a:lnTo>
                        <a:pt x="992" y="189"/>
                      </a:lnTo>
                      <a:lnTo>
                        <a:pt x="1013" y="185"/>
                      </a:lnTo>
                      <a:lnTo>
                        <a:pt x="1035" y="179"/>
                      </a:lnTo>
                      <a:lnTo>
                        <a:pt x="1053" y="176"/>
                      </a:lnTo>
                      <a:lnTo>
                        <a:pt x="1116" y="172"/>
                      </a:lnTo>
                      <a:lnTo>
                        <a:pt x="1158" y="170"/>
                      </a:lnTo>
                      <a:lnTo>
                        <a:pt x="1185" y="168"/>
                      </a:lnTo>
                      <a:lnTo>
                        <a:pt x="1207" y="166"/>
                      </a:lnTo>
                      <a:lnTo>
                        <a:pt x="1229" y="164"/>
                      </a:lnTo>
                      <a:lnTo>
                        <a:pt x="1255" y="160"/>
                      </a:lnTo>
                      <a:lnTo>
                        <a:pt x="1273" y="156"/>
                      </a:lnTo>
                      <a:lnTo>
                        <a:pt x="1299" y="150"/>
                      </a:lnTo>
                      <a:lnTo>
                        <a:pt x="1314" y="157"/>
                      </a:lnTo>
                      <a:lnTo>
                        <a:pt x="1323" y="166"/>
                      </a:lnTo>
                      <a:lnTo>
                        <a:pt x="1313" y="176"/>
                      </a:lnTo>
                      <a:lnTo>
                        <a:pt x="1294" y="181"/>
                      </a:lnTo>
                      <a:lnTo>
                        <a:pt x="1317" y="181"/>
                      </a:lnTo>
                      <a:lnTo>
                        <a:pt x="1305" y="189"/>
                      </a:lnTo>
                      <a:lnTo>
                        <a:pt x="1287" y="197"/>
                      </a:lnTo>
                      <a:lnTo>
                        <a:pt x="1262" y="206"/>
                      </a:lnTo>
                      <a:lnTo>
                        <a:pt x="1239" y="213"/>
                      </a:lnTo>
                      <a:lnTo>
                        <a:pt x="1268" y="210"/>
                      </a:lnTo>
                      <a:lnTo>
                        <a:pt x="1292" y="206"/>
                      </a:lnTo>
                      <a:lnTo>
                        <a:pt x="1317" y="200"/>
                      </a:lnTo>
                      <a:lnTo>
                        <a:pt x="1334" y="195"/>
                      </a:lnTo>
                      <a:lnTo>
                        <a:pt x="1342" y="193"/>
                      </a:lnTo>
                      <a:lnTo>
                        <a:pt x="1355" y="191"/>
                      </a:lnTo>
                      <a:lnTo>
                        <a:pt x="1372" y="191"/>
                      </a:lnTo>
                      <a:lnTo>
                        <a:pt x="1392" y="193"/>
                      </a:lnTo>
                      <a:lnTo>
                        <a:pt x="1410" y="197"/>
                      </a:lnTo>
                      <a:lnTo>
                        <a:pt x="1427" y="198"/>
                      </a:lnTo>
                      <a:lnTo>
                        <a:pt x="1449" y="197"/>
                      </a:lnTo>
                      <a:lnTo>
                        <a:pt x="1432" y="210"/>
                      </a:lnTo>
                      <a:lnTo>
                        <a:pt x="1414" y="220"/>
                      </a:lnTo>
                      <a:lnTo>
                        <a:pt x="1394" y="226"/>
                      </a:lnTo>
                      <a:lnTo>
                        <a:pt x="1417" y="223"/>
                      </a:lnTo>
                      <a:lnTo>
                        <a:pt x="1439" y="221"/>
                      </a:lnTo>
                      <a:lnTo>
                        <a:pt x="1462" y="219"/>
                      </a:lnTo>
                      <a:lnTo>
                        <a:pt x="1482" y="214"/>
                      </a:lnTo>
                      <a:lnTo>
                        <a:pt x="1506" y="212"/>
                      </a:lnTo>
                      <a:lnTo>
                        <a:pt x="1535" y="209"/>
                      </a:lnTo>
                      <a:lnTo>
                        <a:pt x="1561" y="209"/>
                      </a:lnTo>
                      <a:lnTo>
                        <a:pt x="1582" y="204"/>
                      </a:lnTo>
                      <a:lnTo>
                        <a:pt x="1587" y="200"/>
                      </a:lnTo>
                      <a:lnTo>
                        <a:pt x="1594" y="197"/>
                      </a:lnTo>
                      <a:lnTo>
                        <a:pt x="1609" y="197"/>
                      </a:lnTo>
                      <a:lnTo>
                        <a:pt x="1635" y="201"/>
                      </a:lnTo>
                      <a:lnTo>
                        <a:pt x="1667" y="204"/>
                      </a:lnTo>
                      <a:lnTo>
                        <a:pt x="1697" y="209"/>
                      </a:lnTo>
                      <a:lnTo>
                        <a:pt x="1713" y="212"/>
                      </a:lnTo>
                      <a:lnTo>
                        <a:pt x="1742" y="212"/>
                      </a:lnTo>
                      <a:lnTo>
                        <a:pt x="1775" y="213"/>
                      </a:lnTo>
                      <a:lnTo>
                        <a:pt x="1799" y="217"/>
                      </a:lnTo>
                      <a:lnTo>
                        <a:pt x="1830" y="223"/>
                      </a:lnTo>
                      <a:lnTo>
                        <a:pt x="1856" y="227"/>
                      </a:lnTo>
                      <a:lnTo>
                        <a:pt x="1878" y="230"/>
                      </a:lnTo>
                      <a:lnTo>
                        <a:pt x="1900" y="227"/>
                      </a:lnTo>
                      <a:lnTo>
                        <a:pt x="1934" y="220"/>
                      </a:lnTo>
                      <a:lnTo>
                        <a:pt x="1963" y="223"/>
                      </a:lnTo>
                      <a:lnTo>
                        <a:pt x="1989" y="223"/>
                      </a:lnTo>
                      <a:lnTo>
                        <a:pt x="2016" y="223"/>
                      </a:lnTo>
                      <a:lnTo>
                        <a:pt x="2043" y="223"/>
                      </a:lnTo>
                      <a:lnTo>
                        <a:pt x="2080" y="216"/>
                      </a:lnTo>
                      <a:lnTo>
                        <a:pt x="2098" y="216"/>
                      </a:lnTo>
                      <a:lnTo>
                        <a:pt x="2119" y="214"/>
                      </a:lnTo>
                      <a:lnTo>
                        <a:pt x="2157" y="219"/>
                      </a:lnTo>
                      <a:lnTo>
                        <a:pt x="2176" y="221"/>
                      </a:lnTo>
                      <a:lnTo>
                        <a:pt x="2193" y="220"/>
                      </a:lnTo>
                      <a:lnTo>
                        <a:pt x="2215" y="217"/>
                      </a:lnTo>
                      <a:lnTo>
                        <a:pt x="2237" y="216"/>
                      </a:lnTo>
                      <a:lnTo>
                        <a:pt x="2253" y="216"/>
                      </a:lnTo>
                      <a:lnTo>
                        <a:pt x="2260" y="219"/>
                      </a:lnTo>
                      <a:lnTo>
                        <a:pt x="2260" y="227"/>
                      </a:lnTo>
                      <a:lnTo>
                        <a:pt x="2268" y="230"/>
                      </a:lnTo>
                      <a:lnTo>
                        <a:pt x="2282" y="230"/>
                      </a:lnTo>
                      <a:lnTo>
                        <a:pt x="2296" y="227"/>
                      </a:lnTo>
                      <a:lnTo>
                        <a:pt x="2308" y="220"/>
                      </a:lnTo>
                      <a:lnTo>
                        <a:pt x="2316" y="212"/>
                      </a:lnTo>
                      <a:lnTo>
                        <a:pt x="2324" y="208"/>
                      </a:lnTo>
                      <a:lnTo>
                        <a:pt x="2346" y="208"/>
                      </a:lnTo>
                      <a:lnTo>
                        <a:pt x="2363" y="208"/>
                      </a:lnTo>
                      <a:lnTo>
                        <a:pt x="2383" y="216"/>
                      </a:lnTo>
                      <a:lnTo>
                        <a:pt x="2400" y="221"/>
                      </a:lnTo>
                      <a:lnTo>
                        <a:pt x="2419" y="227"/>
                      </a:lnTo>
                      <a:lnTo>
                        <a:pt x="2431" y="228"/>
                      </a:lnTo>
                      <a:lnTo>
                        <a:pt x="2444" y="230"/>
                      </a:lnTo>
                      <a:lnTo>
                        <a:pt x="2457" y="230"/>
                      </a:lnTo>
                      <a:lnTo>
                        <a:pt x="2479" y="227"/>
                      </a:lnTo>
                      <a:lnTo>
                        <a:pt x="2553" y="235"/>
                      </a:lnTo>
                      <a:lnTo>
                        <a:pt x="2531" y="227"/>
                      </a:lnTo>
                      <a:lnTo>
                        <a:pt x="2518" y="223"/>
                      </a:lnTo>
                      <a:lnTo>
                        <a:pt x="2512" y="216"/>
                      </a:lnTo>
                      <a:lnTo>
                        <a:pt x="2518" y="210"/>
                      </a:lnTo>
                      <a:lnTo>
                        <a:pt x="2544" y="205"/>
                      </a:lnTo>
                      <a:lnTo>
                        <a:pt x="2561" y="201"/>
                      </a:lnTo>
                      <a:lnTo>
                        <a:pt x="2583" y="197"/>
                      </a:lnTo>
                      <a:lnTo>
                        <a:pt x="2601" y="189"/>
                      </a:lnTo>
                      <a:lnTo>
                        <a:pt x="2630" y="179"/>
                      </a:lnTo>
                      <a:lnTo>
                        <a:pt x="2588" y="179"/>
                      </a:lnTo>
                      <a:lnTo>
                        <a:pt x="2560" y="178"/>
                      </a:lnTo>
                      <a:lnTo>
                        <a:pt x="2534" y="176"/>
                      </a:lnTo>
                      <a:lnTo>
                        <a:pt x="2512" y="174"/>
                      </a:lnTo>
                      <a:lnTo>
                        <a:pt x="2497" y="174"/>
                      </a:lnTo>
                      <a:lnTo>
                        <a:pt x="2485" y="176"/>
                      </a:lnTo>
                      <a:lnTo>
                        <a:pt x="2472" y="176"/>
                      </a:lnTo>
                      <a:lnTo>
                        <a:pt x="2456" y="181"/>
                      </a:lnTo>
                      <a:lnTo>
                        <a:pt x="2441" y="185"/>
                      </a:lnTo>
                      <a:lnTo>
                        <a:pt x="2463" y="190"/>
                      </a:lnTo>
                      <a:lnTo>
                        <a:pt x="2479" y="197"/>
                      </a:lnTo>
                      <a:lnTo>
                        <a:pt x="2490" y="204"/>
                      </a:lnTo>
                      <a:lnTo>
                        <a:pt x="2494" y="212"/>
                      </a:lnTo>
                      <a:lnTo>
                        <a:pt x="2490" y="220"/>
                      </a:lnTo>
                      <a:lnTo>
                        <a:pt x="2474" y="217"/>
                      </a:lnTo>
                      <a:lnTo>
                        <a:pt x="2461" y="214"/>
                      </a:lnTo>
                      <a:lnTo>
                        <a:pt x="2452" y="208"/>
                      </a:lnTo>
                      <a:lnTo>
                        <a:pt x="2435" y="201"/>
                      </a:lnTo>
                      <a:lnTo>
                        <a:pt x="2415" y="199"/>
                      </a:lnTo>
                      <a:lnTo>
                        <a:pt x="2397" y="197"/>
                      </a:lnTo>
                      <a:lnTo>
                        <a:pt x="2372" y="199"/>
                      </a:lnTo>
                      <a:lnTo>
                        <a:pt x="2356" y="198"/>
                      </a:lnTo>
                      <a:lnTo>
                        <a:pt x="2341" y="197"/>
                      </a:lnTo>
                      <a:lnTo>
                        <a:pt x="2324" y="193"/>
                      </a:lnTo>
                      <a:lnTo>
                        <a:pt x="2307" y="187"/>
                      </a:lnTo>
                      <a:lnTo>
                        <a:pt x="2291" y="181"/>
                      </a:lnTo>
                      <a:lnTo>
                        <a:pt x="2276" y="176"/>
                      </a:lnTo>
                      <a:lnTo>
                        <a:pt x="2263" y="176"/>
                      </a:lnTo>
                      <a:lnTo>
                        <a:pt x="2249" y="181"/>
                      </a:lnTo>
                      <a:lnTo>
                        <a:pt x="2233" y="185"/>
                      </a:lnTo>
                      <a:lnTo>
                        <a:pt x="2216" y="185"/>
                      </a:lnTo>
                      <a:lnTo>
                        <a:pt x="2194" y="185"/>
                      </a:lnTo>
                      <a:lnTo>
                        <a:pt x="2176" y="182"/>
                      </a:lnTo>
                      <a:lnTo>
                        <a:pt x="2159" y="179"/>
                      </a:lnTo>
                      <a:lnTo>
                        <a:pt x="2142" y="178"/>
                      </a:lnTo>
                      <a:lnTo>
                        <a:pt x="2128" y="179"/>
                      </a:lnTo>
                      <a:lnTo>
                        <a:pt x="2108" y="181"/>
                      </a:lnTo>
                      <a:lnTo>
                        <a:pt x="2091" y="183"/>
                      </a:lnTo>
                      <a:lnTo>
                        <a:pt x="2071" y="181"/>
                      </a:lnTo>
                      <a:lnTo>
                        <a:pt x="2048" y="179"/>
                      </a:lnTo>
                      <a:lnTo>
                        <a:pt x="2021" y="178"/>
                      </a:lnTo>
                      <a:lnTo>
                        <a:pt x="1995" y="176"/>
                      </a:lnTo>
                      <a:lnTo>
                        <a:pt x="1978" y="173"/>
                      </a:lnTo>
                      <a:lnTo>
                        <a:pt x="1960" y="168"/>
                      </a:lnTo>
                      <a:lnTo>
                        <a:pt x="1945" y="162"/>
                      </a:lnTo>
                      <a:lnTo>
                        <a:pt x="1931" y="160"/>
                      </a:lnTo>
                      <a:lnTo>
                        <a:pt x="1920" y="160"/>
                      </a:lnTo>
                      <a:lnTo>
                        <a:pt x="1906" y="161"/>
                      </a:lnTo>
                      <a:lnTo>
                        <a:pt x="1872" y="165"/>
                      </a:lnTo>
                      <a:lnTo>
                        <a:pt x="1910" y="168"/>
                      </a:lnTo>
                      <a:lnTo>
                        <a:pt x="1901" y="176"/>
                      </a:lnTo>
                      <a:lnTo>
                        <a:pt x="1887" y="186"/>
                      </a:lnTo>
                      <a:lnTo>
                        <a:pt x="1873" y="187"/>
                      </a:lnTo>
                      <a:lnTo>
                        <a:pt x="1691" y="166"/>
                      </a:lnTo>
                      <a:lnTo>
                        <a:pt x="1680" y="162"/>
                      </a:lnTo>
                      <a:lnTo>
                        <a:pt x="1713" y="153"/>
                      </a:lnTo>
                      <a:lnTo>
                        <a:pt x="1690" y="150"/>
                      </a:lnTo>
                      <a:lnTo>
                        <a:pt x="1675" y="149"/>
                      </a:lnTo>
                      <a:lnTo>
                        <a:pt x="1664" y="142"/>
                      </a:lnTo>
                      <a:lnTo>
                        <a:pt x="1649" y="138"/>
                      </a:lnTo>
                      <a:lnTo>
                        <a:pt x="1631" y="141"/>
                      </a:lnTo>
                      <a:lnTo>
                        <a:pt x="1613" y="143"/>
                      </a:lnTo>
                      <a:lnTo>
                        <a:pt x="1597" y="149"/>
                      </a:lnTo>
                      <a:lnTo>
                        <a:pt x="1582" y="142"/>
                      </a:lnTo>
                      <a:lnTo>
                        <a:pt x="1565" y="131"/>
                      </a:lnTo>
                      <a:lnTo>
                        <a:pt x="1549" y="124"/>
                      </a:lnTo>
                      <a:lnTo>
                        <a:pt x="1532" y="119"/>
                      </a:lnTo>
                      <a:lnTo>
                        <a:pt x="1514" y="115"/>
                      </a:lnTo>
                      <a:lnTo>
                        <a:pt x="1497" y="113"/>
                      </a:lnTo>
                      <a:lnTo>
                        <a:pt x="1468" y="115"/>
                      </a:lnTo>
                      <a:lnTo>
                        <a:pt x="1445" y="117"/>
                      </a:lnTo>
                      <a:lnTo>
                        <a:pt x="1421" y="120"/>
                      </a:lnTo>
                      <a:lnTo>
                        <a:pt x="1394" y="123"/>
                      </a:lnTo>
                      <a:lnTo>
                        <a:pt x="1366" y="127"/>
                      </a:lnTo>
                      <a:lnTo>
                        <a:pt x="1344" y="129"/>
                      </a:lnTo>
                      <a:lnTo>
                        <a:pt x="1325" y="135"/>
                      </a:lnTo>
                      <a:lnTo>
                        <a:pt x="1305" y="139"/>
                      </a:lnTo>
                      <a:lnTo>
                        <a:pt x="1286" y="139"/>
                      </a:lnTo>
                      <a:lnTo>
                        <a:pt x="1266" y="143"/>
                      </a:lnTo>
                      <a:lnTo>
                        <a:pt x="1246" y="147"/>
                      </a:lnTo>
                      <a:lnTo>
                        <a:pt x="1224" y="151"/>
                      </a:lnTo>
                      <a:lnTo>
                        <a:pt x="1202" y="151"/>
                      </a:lnTo>
                      <a:lnTo>
                        <a:pt x="1180" y="151"/>
                      </a:lnTo>
                      <a:lnTo>
                        <a:pt x="1164" y="150"/>
                      </a:lnTo>
                      <a:lnTo>
                        <a:pt x="1148" y="153"/>
                      </a:lnTo>
                      <a:lnTo>
                        <a:pt x="1128" y="158"/>
                      </a:lnTo>
                      <a:lnTo>
                        <a:pt x="1106" y="158"/>
                      </a:lnTo>
                      <a:lnTo>
                        <a:pt x="1080" y="158"/>
                      </a:lnTo>
                      <a:lnTo>
                        <a:pt x="1058" y="158"/>
                      </a:lnTo>
                      <a:lnTo>
                        <a:pt x="1031" y="158"/>
                      </a:lnTo>
                      <a:lnTo>
                        <a:pt x="980" y="165"/>
                      </a:lnTo>
                      <a:lnTo>
                        <a:pt x="969" y="161"/>
                      </a:lnTo>
                      <a:lnTo>
                        <a:pt x="958" y="154"/>
                      </a:lnTo>
                      <a:lnTo>
                        <a:pt x="943" y="151"/>
                      </a:lnTo>
                      <a:lnTo>
                        <a:pt x="929" y="150"/>
                      </a:lnTo>
                      <a:lnTo>
                        <a:pt x="910" y="151"/>
                      </a:lnTo>
                      <a:lnTo>
                        <a:pt x="888" y="154"/>
                      </a:lnTo>
                      <a:lnTo>
                        <a:pt x="852" y="157"/>
                      </a:lnTo>
                      <a:lnTo>
                        <a:pt x="837" y="153"/>
                      </a:lnTo>
                      <a:lnTo>
                        <a:pt x="826" y="147"/>
                      </a:lnTo>
                      <a:lnTo>
                        <a:pt x="814" y="145"/>
                      </a:lnTo>
                      <a:lnTo>
                        <a:pt x="798" y="143"/>
                      </a:lnTo>
                      <a:lnTo>
                        <a:pt x="784" y="139"/>
                      </a:lnTo>
                      <a:lnTo>
                        <a:pt x="778" y="131"/>
                      </a:lnTo>
                      <a:lnTo>
                        <a:pt x="767" y="120"/>
                      </a:lnTo>
                      <a:lnTo>
                        <a:pt x="755" y="116"/>
                      </a:lnTo>
                      <a:lnTo>
                        <a:pt x="739" y="113"/>
                      </a:lnTo>
                      <a:lnTo>
                        <a:pt x="724" y="113"/>
                      </a:lnTo>
                      <a:lnTo>
                        <a:pt x="717" y="119"/>
                      </a:lnTo>
                      <a:lnTo>
                        <a:pt x="707" y="131"/>
                      </a:lnTo>
                      <a:lnTo>
                        <a:pt x="696" y="129"/>
                      </a:lnTo>
                      <a:lnTo>
                        <a:pt x="684" y="128"/>
                      </a:lnTo>
                      <a:lnTo>
                        <a:pt x="669" y="129"/>
                      </a:lnTo>
                      <a:lnTo>
                        <a:pt x="655" y="134"/>
                      </a:lnTo>
                      <a:lnTo>
                        <a:pt x="637" y="138"/>
                      </a:lnTo>
                      <a:lnTo>
                        <a:pt x="615" y="138"/>
                      </a:lnTo>
                      <a:lnTo>
                        <a:pt x="632" y="127"/>
                      </a:lnTo>
                      <a:lnTo>
                        <a:pt x="639" y="119"/>
                      </a:lnTo>
                      <a:lnTo>
                        <a:pt x="624" y="121"/>
                      </a:lnTo>
                      <a:lnTo>
                        <a:pt x="595" y="127"/>
                      </a:lnTo>
                      <a:lnTo>
                        <a:pt x="570" y="125"/>
                      </a:lnTo>
                      <a:lnTo>
                        <a:pt x="569" y="119"/>
                      </a:lnTo>
                      <a:lnTo>
                        <a:pt x="565" y="112"/>
                      </a:lnTo>
                      <a:lnTo>
                        <a:pt x="559" y="107"/>
                      </a:lnTo>
                      <a:lnTo>
                        <a:pt x="545" y="104"/>
                      </a:lnTo>
                      <a:lnTo>
                        <a:pt x="530" y="104"/>
                      </a:lnTo>
                      <a:lnTo>
                        <a:pt x="511" y="105"/>
                      </a:lnTo>
                      <a:lnTo>
                        <a:pt x="493" y="107"/>
                      </a:lnTo>
                      <a:lnTo>
                        <a:pt x="476" y="104"/>
                      </a:lnTo>
                      <a:lnTo>
                        <a:pt x="455" y="97"/>
                      </a:lnTo>
                      <a:lnTo>
                        <a:pt x="441" y="89"/>
                      </a:lnTo>
                      <a:lnTo>
                        <a:pt x="456" y="74"/>
                      </a:lnTo>
                      <a:lnTo>
                        <a:pt x="471" y="68"/>
                      </a:lnTo>
                      <a:lnTo>
                        <a:pt x="488" y="61"/>
                      </a:lnTo>
                      <a:lnTo>
                        <a:pt x="499" y="58"/>
                      </a:lnTo>
                      <a:lnTo>
                        <a:pt x="508" y="50"/>
                      </a:lnTo>
                      <a:lnTo>
                        <a:pt x="514" y="42"/>
                      </a:lnTo>
                      <a:lnTo>
                        <a:pt x="517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935160" y="3792960"/>
                  <a:ext cx="82080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0" y="34"/>
                      </a:moveTo>
                      <a:lnTo>
                        <a:pt x="43" y="26"/>
                      </a:lnTo>
                      <a:lnTo>
                        <a:pt x="54" y="18"/>
                      </a:lnTo>
                      <a:lnTo>
                        <a:pt x="72" y="15"/>
                      </a:lnTo>
                      <a:lnTo>
                        <a:pt x="85" y="13"/>
                      </a:lnTo>
                      <a:lnTo>
                        <a:pt x="101" y="11"/>
                      </a:lnTo>
                      <a:lnTo>
                        <a:pt x="118" y="11"/>
                      </a:lnTo>
                      <a:lnTo>
                        <a:pt x="139" y="11"/>
                      </a:lnTo>
                      <a:lnTo>
                        <a:pt x="157" y="7"/>
                      </a:lnTo>
                      <a:lnTo>
                        <a:pt x="172" y="6"/>
                      </a:lnTo>
                      <a:lnTo>
                        <a:pt x="198" y="7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4"/>
                      </a:lnTo>
                      <a:lnTo>
                        <a:pt x="276" y="11"/>
                      </a:lnTo>
                      <a:lnTo>
                        <a:pt x="296" y="15"/>
                      </a:lnTo>
                      <a:lnTo>
                        <a:pt x="326" y="18"/>
                      </a:lnTo>
                      <a:lnTo>
                        <a:pt x="341" y="14"/>
                      </a:lnTo>
                      <a:lnTo>
                        <a:pt x="360" y="15"/>
                      </a:lnTo>
                      <a:lnTo>
                        <a:pt x="373" y="18"/>
                      </a:lnTo>
                      <a:lnTo>
                        <a:pt x="394" y="26"/>
                      </a:lnTo>
                      <a:lnTo>
                        <a:pt x="410" y="37"/>
                      </a:lnTo>
                      <a:lnTo>
                        <a:pt x="436" y="43"/>
                      </a:lnTo>
                      <a:lnTo>
                        <a:pt x="473" y="41"/>
                      </a:lnTo>
                      <a:lnTo>
                        <a:pt x="492" y="48"/>
                      </a:lnTo>
                      <a:lnTo>
                        <a:pt x="509" y="51"/>
                      </a:lnTo>
                      <a:lnTo>
                        <a:pt x="532" y="53"/>
                      </a:lnTo>
                      <a:lnTo>
                        <a:pt x="625" y="64"/>
                      </a:lnTo>
                      <a:lnTo>
                        <a:pt x="524" y="60"/>
                      </a:lnTo>
                      <a:lnTo>
                        <a:pt x="505" y="64"/>
                      </a:lnTo>
                      <a:lnTo>
                        <a:pt x="488" y="68"/>
                      </a:lnTo>
                      <a:lnTo>
                        <a:pt x="476" y="67"/>
                      </a:lnTo>
                      <a:lnTo>
                        <a:pt x="461" y="64"/>
                      </a:lnTo>
                      <a:lnTo>
                        <a:pt x="442" y="58"/>
                      </a:lnTo>
                      <a:lnTo>
                        <a:pt x="415" y="57"/>
                      </a:lnTo>
                      <a:lnTo>
                        <a:pt x="390" y="50"/>
                      </a:lnTo>
                      <a:lnTo>
                        <a:pt x="373" y="51"/>
                      </a:lnTo>
                      <a:lnTo>
                        <a:pt x="354" y="53"/>
                      </a:lnTo>
                      <a:lnTo>
                        <a:pt x="313" y="48"/>
                      </a:lnTo>
                      <a:lnTo>
                        <a:pt x="292" y="45"/>
                      </a:lnTo>
                      <a:lnTo>
                        <a:pt x="265" y="37"/>
                      </a:lnTo>
                      <a:lnTo>
                        <a:pt x="238" y="37"/>
                      </a:lnTo>
                      <a:lnTo>
                        <a:pt x="206" y="37"/>
                      </a:lnTo>
                      <a:lnTo>
                        <a:pt x="183" y="38"/>
                      </a:lnTo>
                      <a:lnTo>
                        <a:pt x="161" y="36"/>
                      </a:lnTo>
                      <a:lnTo>
                        <a:pt x="139" y="30"/>
                      </a:lnTo>
                      <a:lnTo>
                        <a:pt x="118" y="34"/>
                      </a:lnTo>
                      <a:lnTo>
                        <a:pt x="99" y="27"/>
                      </a:lnTo>
                      <a:lnTo>
                        <a:pt x="83" y="30"/>
                      </a:lnTo>
                      <a:lnTo>
                        <a:pt x="60" y="31"/>
                      </a:lnTo>
                      <a:lnTo>
                        <a:pt x="35" y="32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25440" y="3768840"/>
                  <a:ext cx="3449520" cy="297000"/>
                </a:xfrm>
                <a:custGeom>
                  <a:avLst/>
                  <a:gdLst/>
                  <a:ahLst/>
                  <a:rect l="l" t="t" r="r" b="b"/>
                  <a:pathLst>
                    <a:path w="2631" h="237">
                      <a:moveTo>
                        <a:pt x="492" y="0"/>
                      </a:moveTo>
                      <a:lnTo>
                        <a:pt x="471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8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39"/>
                      </a:lnTo>
                      <a:lnTo>
                        <a:pt x="365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6"/>
                      </a:lnTo>
                      <a:lnTo>
                        <a:pt x="289" y="66"/>
                      </a:lnTo>
                      <a:lnTo>
                        <a:pt x="258" y="67"/>
                      </a:lnTo>
                      <a:lnTo>
                        <a:pt x="234" y="62"/>
                      </a:lnTo>
                      <a:lnTo>
                        <a:pt x="207" y="74"/>
                      </a:lnTo>
                      <a:lnTo>
                        <a:pt x="182" y="66"/>
                      </a:lnTo>
                      <a:lnTo>
                        <a:pt x="175" y="67"/>
                      </a:lnTo>
                      <a:lnTo>
                        <a:pt x="169" y="72"/>
                      </a:lnTo>
                      <a:lnTo>
                        <a:pt x="160" y="78"/>
                      </a:lnTo>
                      <a:lnTo>
                        <a:pt x="155" y="86"/>
                      </a:lnTo>
                      <a:lnTo>
                        <a:pt x="145" y="92"/>
                      </a:lnTo>
                      <a:lnTo>
                        <a:pt x="138" y="95"/>
                      </a:lnTo>
                      <a:lnTo>
                        <a:pt x="122" y="95"/>
                      </a:lnTo>
                      <a:lnTo>
                        <a:pt x="104" y="95"/>
                      </a:lnTo>
                      <a:lnTo>
                        <a:pt x="96" y="101"/>
                      </a:lnTo>
                      <a:lnTo>
                        <a:pt x="84" y="108"/>
                      </a:lnTo>
                      <a:lnTo>
                        <a:pt x="73" y="108"/>
                      </a:lnTo>
                      <a:lnTo>
                        <a:pt x="56" y="109"/>
                      </a:lnTo>
                      <a:lnTo>
                        <a:pt x="36" y="109"/>
                      </a:lnTo>
                      <a:lnTo>
                        <a:pt x="16" y="116"/>
                      </a:lnTo>
                      <a:lnTo>
                        <a:pt x="0" y="132"/>
                      </a:lnTo>
                      <a:lnTo>
                        <a:pt x="14" y="131"/>
                      </a:lnTo>
                      <a:lnTo>
                        <a:pt x="36" y="125"/>
                      </a:lnTo>
                      <a:lnTo>
                        <a:pt x="58" y="124"/>
                      </a:lnTo>
                      <a:lnTo>
                        <a:pt x="74" y="125"/>
                      </a:lnTo>
                      <a:lnTo>
                        <a:pt x="89" y="132"/>
                      </a:lnTo>
                      <a:lnTo>
                        <a:pt x="106" y="135"/>
                      </a:lnTo>
                      <a:lnTo>
                        <a:pt x="122" y="131"/>
                      </a:lnTo>
                      <a:lnTo>
                        <a:pt x="140" y="125"/>
                      </a:lnTo>
                      <a:lnTo>
                        <a:pt x="156" y="121"/>
                      </a:lnTo>
                      <a:lnTo>
                        <a:pt x="171" y="121"/>
                      </a:lnTo>
                      <a:lnTo>
                        <a:pt x="182" y="131"/>
                      </a:lnTo>
                      <a:lnTo>
                        <a:pt x="192" y="139"/>
                      </a:lnTo>
                      <a:lnTo>
                        <a:pt x="210" y="139"/>
                      </a:lnTo>
                      <a:lnTo>
                        <a:pt x="226" y="136"/>
                      </a:lnTo>
                      <a:lnTo>
                        <a:pt x="245" y="131"/>
                      </a:lnTo>
                      <a:lnTo>
                        <a:pt x="262" y="127"/>
                      </a:lnTo>
                      <a:lnTo>
                        <a:pt x="278" y="135"/>
                      </a:lnTo>
                      <a:lnTo>
                        <a:pt x="295" y="143"/>
                      </a:lnTo>
                      <a:lnTo>
                        <a:pt x="311" y="146"/>
                      </a:lnTo>
                      <a:lnTo>
                        <a:pt x="328" y="149"/>
                      </a:lnTo>
                      <a:lnTo>
                        <a:pt x="349" y="151"/>
                      </a:lnTo>
                      <a:lnTo>
                        <a:pt x="371" y="153"/>
                      </a:lnTo>
                      <a:lnTo>
                        <a:pt x="392" y="151"/>
                      </a:lnTo>
                      <a:lnTo>
                        <a:pt x="417" y="147"/>
                      </a:lnTo>
                      <a:lnTo>
                        <a:pt x="406" y="133"/>
                      </a:lnTo>
                      <a:lnTo>
                        <a:pt x="408" y="124"/>
                      </a:lnTo>
                      <a:lnTo>
                        <a:pt x="419" y="119"/>
                      </a:lnTo>
                      <a:lnTo>
                        <a:pt x="422" y="129"/>
                      </a:lnTo>
                      <a:lnTo>
                        <a:pt x="436" y="139"/>
                      </a:lnTo>
                      <a:lnTo>
                        <a:pt x="450" y="143"/>
                      </a:lnTo>
                      <a:lnTo>
                        <a:pt x="465" y="146"/>
                      </a:lnTo>
                      <a:lnTo>
                        <a:pt x="482" y="151"/>
                      </a:lnTo>
                      <a:lnTo>
                        <a:pt x="500" y="154"/>
                      </a:lnTo>
                      <a:lnTo>
                        <a:pt x="526" y="157"/>
                      </a:lnTo>
                      <a:lnTo>
                        <a:pt x="543" y="155"/>
                      </a:lnTo>
                      <a:lnTo>
                        <a:pt x="563" y="157"/>
                      </a:lnTo>
                      <a:lnTo>
                        <a:pt x="596" y="163"/>
                      </a:lnTo>
                      <a:lnTo>
                        <a:pt x="585" y="170"/>
                      </a:lnTo>
                      <a:lnTo>
                        <a:pt x="570" y="177"/>
                      </a:lnTo>
                      <a:lnTo>
                        <a:pt x="541" y="191"/>
                      </a:lnTo>
                      <a:lnTo>
                        <a:pt x="559" y="192"/>
                      </a:lnTo>
                      <a:lnTo>
                        <a:pt x="576" y="194"/>
                      </a:lnTo>
                      <a:lnTo>
                        <a:pt x="599" y="197"/>
                      </a:lnTo>
                      <a:lnTo>
                        <a:pt x="624" y="199"/>
                      </a:lnTo>
                      <a:lnTo>
                        <a:pt x="637" y="198"/>
                      </a:lnTo>
                      <a:lnTo>
                        <a:pt x="648" y="192"/>
                      </a:lnTo>
                      <a:lnTo>
                        <a:pt x="663" y="188"/>
                      </a:lnTo>
                      <a:lnTo>
                        <a:pt x="684" y="187"/>
                      </a:lnTo>
                      <a:lnTo>
                        <a:pt x="711" y="186"/>
                      </a:lnTo>
                      <a:lnTo>
                        <a:pt x="730" y="177"/>
                      </a:lnTo>
                      <a:lnTo>
                        <a:pt x="757" y="170"/>
                      </a:lnTo>
                      <a:lnTo>
                        <a:pt x="778" y="166"/>
                      </a:lnTo>
                      <a:lnTo>
                        <a:pt x="794" y="167"/>
                      </a:lnTo>
                      <a:lnTo>
                        <a:pt x="847" y="169"/>
                      </a:lnTo>
                      <a:lnTo>
                        <a:pt x="888" y="172"/>
                      </a:lnTo>
                      <a:lnTo>
                        <a:pt x="915" y="172"/>
                      </a:lnTo>
                      <a:lnTo>
                        <a:pt x="937" y="174"/>
                      </a:lnTo>
                      <a:lnTo>
                        <a:pt x="974" y="190"/>
                      </a:lnTo>
                      <a:lnTo>
                        <a:pt x="992" y="190"/>
                      </a:lnTo>
                      <a:lnTo>
                        <a:pt x="1013" y="186"/>
                      </a:lnTo>
                      <a:lnTo>
                        <a:pt x="1035" y="180"/>
                      </a:lnTo>
                      <a:lnTo>
                        <a:pt x="1053" y="177"/>
                      </a:lnTo>
                      <a:lnTo>
                        <a:pt x="1116" y="172"/>
                      </a:lnTo>
                      <a:lnTo>
                        <a:pt x="1158" y="170"/>
                      </a:lnTo>
                      <a:lnTo>
                        <a:pt x="1185" y="169"/>
                      </a:lnTo>
                      <a:lnTo>
                        <a:pt x="1207" y="167"/>
                      </a:lnTo>
                      <a:lnTo>
                        <a:pt x="1229" y="165"/>
                      </a:lnTo>
                      <a:lnTo>
                        <a:pt x="1255" y="161"/>
                      </a:lnTo>
                      <a:lnTo>
                        <a:pt x="1273" y="157"/>
                      </a:lnTo>
                      <a:lnTo>
                        <a:pt x="1299" y="150"/>
                      </a:lnTo>
                      <a:lnTo>
                        <a:pt x="1314" y="158"/>
                      </a:lnTo>
                      <a:lnTo>
                        <a:pt x="1323" y="167"/>
                      </a:lnTo>
                      <a:lnTo>
                        <a:pt x="1313" y="176"/>
                      </a:lnTo>
                      <a:lnTo>
                        <a:pt x="1294" y="182"/>
                      </a:lnTo>
                      <a:lnTo>
                        <a:pt x="1317" y="182"/>
                      </a:lnTo>
                      <a:lnTo>
                        <a:pt x="1305" y="190"/>
                      </a:lnTo>
                      <a:lnTo>
                        <a:pt x="1287" y="197"/>
                      </a:lnTo>
                      <a:lnTo>
                        <a:pt x="1262" y="207"/>
                      </a:lnTo>
                      <a:lnTo>
                        <a:pt x="1239" y="214"/>
                      </a:lnTo>
                      <a:lnTo>
                        <a:pt x="1268" y="211"/>
                      </a:lnTo>
                      <a:lnTo>
                        <a:pt x="1292" y="207"/>
                      </a:lnTo>
                      <a:lnTo>
                        <a:pt x="1317" y="201"/>
                      </a:lnTo>
                      <a:lnTo>
                        <a:pt x="1334" y="196"/>
                      </a:lnTo>
                      <a:lnTo>
                        <a:pt x="1342" y="194"/>
                      </a:lnTo>
                      <a:lnTo>
                        <a:pt x="1355" y="192"/>
                      </a:lnTo>
                      <a:lnTo>
                        <a:pt x="1372" y="192"/>
                      </a:lnTo>
                      <a:lnTo>
                        <a:pt x="1392" y="194"/>
                      </a:lnTo>
                      <a:lnTo>
                        <a:pt x="1410" y="197"/>
                      </a:lnTo>
                      <a:lnTo>
                        <a:pt x="1427" y="198"/>
                      </a:lnTo>
                      <a:lnTo>
                        <a:pt x="1449" y="197"/>
                      </a:lnTo>
                      <a:lnTo>
                        <a:pt x="1432" y="211"/>
                      </a:lnTo>
                      <a:lnTo>
                        <a:pt x="1414" y="221"/>
                      </a:lnTo>
                      <a:lnTo>
                        <a:pt x="1394" y="227"/>
                      </a:lnTo>
                      <a:lnTo>
                        <a:pt x="1417" y="224"/>
                      </a:lnTo>
                      <a:lnTo>
                        <a:pt x="1439" y="222"/>
                      </a:lnTo>
                      <a:lnTo>
                        <a:pt x="1462" y="220"/>
                      </a:lnTo>
                      <a:lnTo>
                        <a:pt x="1482" y="215"/>
                      </a:lnTo>
                      <a:lnTo>
                        <a:pt x="1506" y="213"/>
                      </a:lnTo>
                      <a:lnTo>
                        <a:pt x="1535" y="210"/>
                      </a:lnTo>
                      <a:lnTo>
                        <a:pt x="1561" y="210"/>
                      </a:lnTo>
                      <a:lnTo>
                        <a:pt x="1582" y="205"/>
                      </a:lnTo>
                      <a:lnTo>
                        <a:pt x="1587" y="201"/>
                      </a:lnTo>
                      <a:lnTo>
                        <a:pt x="1594" y="197"/>
                      </a:lnTo>
                      <a:lnTo>
                        <a:pt x="1609" y="197"/>
                      </a:lnTo>
                      <a:lnTo>
                        <a:pt x="1635" y="202"/>
                      </a:lnTo>
                      <a:lnTo>
                        <a:pt x="1667" y="205"/>
                      </a:lnTo>
                      <a:lnTo>
                        <a:pt x="1697" y="210"/>
                      </a:lnTo>
                      <a:lnTo>
                        <a:pt x="1713" y="213"/>
                      </a:lnTo>
                      <a:lnTo>
                        <a:pt x="1742" y="213"/>
                      </a:lnTo>
                      <a:lnTo>
                        <a:pt x="1775" y="214"/>
                      </a:lnTo>
                      <a:lnTo>
                        <a:pt x="1799" y="218"/>
                      </a:lnTo>
                      <a:lnTo>
                        <a:pt x="1830" y="224"/>
                      </a:lnTo>
                      <a:lnTo>
                        <a:pt x="1856" y="228"/>
                      </a:lnTo>
                      <a:lnTo>
                        <a:pt x="1878" y="231"/>
                      </a:lnTo>
                      <a:lnTo>
                        <a:pt x="1900" y="228"/>
                      </a:lnTo>
                      <a:lnTo>
                        <a:pt x="1934" y="221"/>
                      </a:lnTo>
                      <a:lnTo>
                        <a:pt x="1963" y="224"/>
                      </a:lnTo>
                      <a:lnTo>
                        <a:pt x="1989" y="224"/>
                      </a:lnTo>
                      <a:lnTo>
                        <a:pt x="2016" y="224"/>
                      </a:lnTo>
                      <a:lnTo>
                        <a:pt x="2043" y="223"/>
                      </a:lnTo>
                      <a:lnTo>
                        <a:pt x="2080" y="217"/>
                      </a:lnTo>
                      <a:lnTo>
                        <a:pt x="2098" y="217"/>
                      </a:lnTo>
                      <a:lnTo>
                        <a:pt x="2119" y="215"/>
                      </a:lnTo>
                      <a:lnTo>
                        <a:pt x="2157" y="220"/>
                      </a:lnTo>
                      <a:lnTo>
                        <a:pt x="2176" y="222"/>
                      </a:lnTo>
                      <a:lnTo>
                        <a:pt x="2193" y="221"/>
                      </a:lnTo>
                      <a:lnTo>
                        <a:pt x="2215" y="218"/>
                      </a:lnTo>
                      <a:lnTo>
                        <a:pt x="2237" y="217"/>
                      </a:lnTo>
                      <a:lnTo>
                        <a:pt x="2253" y="217"/>
                      </a:lnTo>
                      <a:lnTo>
                        <a:pt x="2260" y="220"/>
                      </a:lnTo>
                      <a:lnTo>
                        <a:pt x="2260" y="228"/>
                      </a:lnTo>
                      <a:lnTo>
                        <a:pt x="2268" y="231"/>
                      </a:lnTo>
                      <a:lnTo>
                        <a:pt x="2282" y="231"/>
                      </a:lnTo>
                      <a:lnTo>
                        <a:pt x="2296" y="228"/>
                      </a:lnTo>
                      <a:lnTo>
                        <a:pt x="2308" y="221"/>
                      </a:lnTo>
                      <a:lnTo>
                        <a:pt x="2316" y="213"/>
                      </a:lnTo>
                      <a:lnTo>
                        <a:pt x="2324" y="209"/>
                      </a:lnTo>
                      <a:lnTo>
                        <a:pt x="2346" y="209"/>
                      </a:lnTo>
                      <a:lnTo>
                        <a:pt x="2363" y="209"/>
                      </a:lnTo>
                      <a:lnTo>
                        <a:pt x="2383" y="217"/>
                      </a:lnTo>
                      <a:lnTo>
                        <a:pt x="2400" y="222"/>
                      </a:lnTo>
                      <a:lnTo>
                        <a:pt x="2419" y="228"/>
                      </a:lnTo>
                      <a:lnTo>
                        <a:pt x="2431" y="229"/>
                      </a:lnTo>
                      <a:lnTo>
                        <a:pt x="2444" y="231"/>
                      </a:lnTo>
                      <a:lnTo>
                        <a:pt x="2457" y="231"/>
                      </a:lnTo>
                      <a:lnTo>
                        <a:pt x="2479" y="228"/>
                      </a:lnTo>
                      <a:lnTo>
                        <a:pt x="2553" y="236"/>
                      </a:lnTo>
                      <a:lnTo>
                        <a:pt x="2531" y="228"/>
                      </a:lnTo>
                      <a:lnTo>
                        <a:pt x="2518" y="224"/>
                      </a:lnTo>
                      <a:lnTo>
                        <a:pt x="2512" y="217"/>
                      </a:lnTo>
                      <a:lnTo>
                        <a:pt x="2518" y="211"/>
                      </a:lnTo>
                      <a:lnTo>
                        <a:pt x="2544" y="206"/>
                      </a:lnTo>
                      <a:lnTo>
                        <a:pt x="2561" y="202"/>
                      </a:lnTo>
                      <a:lnTo>
                        <a:pt x="2583" y="197"/>
                      </a:lnTo>
                      <a:lnTo>
                        <a:pt x="2601" y="190"/>
                      </a:lnTo>
                      <a:lnTo>
                        <a:pt x="2630" y="180"/>
                      </a:lnTo>
                      <a:lnTo>
                        <a:pt x="2588" y="180"/>
                      </a:lnTo>
                      <a:lnTo>
                        <a:pt x="2560" y="179"/>
                      </a:lnTo>
                      <a:lnTo>
                        <a:pt x="2534" y="176"/>
                      </a:lnTo>
                      <a:lnTo>
                        <a:pt x="2512" y="174"/>
                      </a:lnTo>
                      <a:lnTo>
                        <a:pt x="2497" y="174"/>
                      </a:lnTo>
                      <a:lnTo>
                        <a:pt x="2485" y="176"/>
                      </a:lnTo>
                      <a:lnTo>
                        <a:pt x="2472" y="177"/>
                      </a:lnTo>
                      <a:lnTo>
                        <a:pt x="2456" y="182"/>
                      </a:lnTo>
                      <a:lnTo>
                        <a:pt x="2441" y="186"/>
                      </a:lnTo>
                      <a:lnTo>
                        <a:pt x="2463" y="191"/>
                      </a:lnTo>
                      <a:lnTo>
                        <a:pt x="2479" y="197"/>
                      </a:lnTo>
                      <a:lnTo>
                        <a:pt x="2490" y="205"/>
                      </a:lnTo>
                      <a:lnTo>
                        <a:pt x="2494" y="213"/>
                      </a:lnTo>
                      <a:lnTo>
                        <a:pt x="2490" y="221"/>
                      </a:lnTo>
                      <a:lnTo>
                        <a:pt x="2474" y="218"/>
                      </a:lnTo>
                      <a:lnTo>
                        <a:pt x="2461" y="215"/>
                      </a:lnTo>
                      <a:lnTo>
                        <a:pt x="2452" y="209"/>
                      </a:lnTo>
                      <a:lnTo>
                        <a:pt x="2435" y="202"/>
                      </a:lnTo>
                      <a:lnTo>
                        <a:pt x="2415" y="199"/>
                      </a:lnTo>
                      <a:lnTo>
                        <a:pt x="2397" y="197"/>
                      </a:lnTo>
                      <a:lnTo>
                        <a:pt x="2372" y="199"/>
                      </a:lnTo>
                      <a:lnTo>
                        <a:pt x="2356" y="198"/>
                      </a:lnTo>
                      <a:lnTo>
                        <a:pt x="2341" y="197"/>
                      </a:lnTo>
                      <a:lnTo>
                        <a:pt x="2324" y="194"/>
                      </a:lnTo>
                      <a:lnTo>
                        <a:pt x="2307" y="188"/>
                      </a:lnTo>
                      <a:lnTo>
                        <a:pt x="2291" y="182"/>
                      </a:lnTo>
                      <a:lnTo>
                        <a:pt x="2276" y="177"/>
                      </a:lnTo>
                      <a:lnTo>
                        <a:pt x="2263" y="177"/>
                      </a:lnTo>
                      <a:lnTo>
                        <a:pt x="2249" y="182"/>
                      </a:lnTo>
                      <a:lnTo>
                        <a:pt x="2233" y="186"/>
                      </a:lnTo>
                      <a:lnTo>
                        <a:pt x="2216" y="186"/>
                      </a:lnTo>
                      <a:lnTo>
                        <a:pt x="2194" y="186"/>
                      </a:lnTo>
                      <a:lnTo>
                        <a:pt x="2176" y="183"/>
                      </a:lnTo>
                      <a:lnTo>
                        <a:pt x="2159" y="180"/>
                      </a:lnTo>
                      <a:lnTo>
                        <a:pt x="2142" y="179"/>
                      </a:lnTo>
                      <a:lnTo>
                        <a:pt x="2128" y="180"/>
                      </a:lnTo>
                      <a:lnTo>
                        <a:pt x="2108" y="182"/>
                      </a:lnTo>
                      <a:lnTo>
                        <a:pt x="2091" y="184"/>
                      </a:lnTo>
                      <a:lnTo>
                        <a:pt x="2071" y="182"/>
                      </a:lnTo>
                      <a:lnTo>
                        <a:pt x="2048" y="180"/>
                      </a:lnTo>
                      <a:lnTo>
                        <a:pt x="2021" y="179"/>
                      </a:lnTo>
                      <a:lnTo>
                        <a:pt x="1995" y="177"/>
                      </a:lnTo>
                      <a:lnTo>
                        <a:pt x="1978" y="173"/>
                      </a:lnTo>
                      <a:lnTo>
                        <a:pt x="1960" y="169"/>
                      </a:lnTo>
                      <a:lnTo>
                        <a:pt x="1945" y="163"/>
                      </a:lnTo>
                      <a:lnTo>
                        <a:pt x="1931" y="161"/>
                      </a:lnTo>
                      <a:lnTo>
                        <a:pt x="1920" y="161"/>
                      </a:lnTo>
                      <a:lnTo>
                        <a:pt x="1906" y="162"/>
                      </a:lnTo>
                      <a:lnTo>
                        <a:pt x="1872" y="166"/>
                      </a:lnTo>
                      <a:lnTo>
                        <a:pt x="1910" y="169"/>
                      </a:lnTo>
                      <a:lnTo>
                        <a:pt x="1901" y="177"/>
                      </a:lnTo>
                      <a:lnTo>
                        <a:pt x="1887" y="187"/>
                      </a:lnTo>
                      <a:lnTo>
                        <a:pt x="1873" y="188"/>
                      </a:lnTo>
                      <a:lnTo>
                        <a:pt x="1691" y="167"/>
                      </a:lnTo>
                      <a:lnTo>
                        <a:pt x="1680" y="163"/>
                      </a:lnTo>
                      <a:lnTo>
                        <a:pt x="1713" y="154"/>
                      </a:lnTo>
                      <a:lnTo>
                        <a:pt x="1690" y="150"/>
                      </a:lnTo>
                      <a:lnTo>
                        <a:pt x="1675" y="149"/>
                      </a:lnTo>
                      <a:lnTo>
                        <a:pt x="1664" y="143"/>
                      </a:lnTo>
                      <a:lnTo>
                        <a:pt x="1649" y="139"/>
                      </a:lnTo>
                      <a:lnTo>
                        <a:pt x="1631" y="142"/>
                      </a:lnTo>
                      <a:lnTo>
                        <a:pt x="1613" y="144"/>
                      </a:lnTo>
                      <a:lnTo>
                        <a:pt x="1597" y="149"/>
                      </a:lnTo>
                      <a:lnTo>
                        <a:pt x="1582" y="143"/>
                      </a:lnTo>
                      <a:lnTo>
                        <a:pt x="1565" y="132"/>
                      </a:lnTo>
                      <a:lnTo>
                        <a:pt x="1549" y="124"/>
                      </a:lnTo>
                      <a:lnTo>
                        <a:pt x="1532" y="119"/>
                      </a:lnTo>
                      <a:lnTo>
                        <a:pt x="1514" y="116"/>
                      </a:lnTo>
                      <a:lnTo>
                        <a:pt x="1497" y="114"/>
                      </a:lnTo>
                      <a:lnTo>
                        <a:pt x="1468" y="116"/>
                      </a:lnTo>
                      <a:lnTo>
                        <a:pt x="1445" y="118"/>
                      </a:lnTo>
                      <a:lnTo>
                        <a:pt x="1421" y="120"/>
                      </a:lnTo>
                      <a:lnTo>
                        <a:pt x="1394" y="123"/>
                      </a:lnTo>
                      <a:lnTo>
                        <a:pt x="1366" y="127"/>
                      </a:lnTo>
                      <a:lnTo>
                        <a:pt x="1344" y="129"/>
                      </a:lnTo>
                      <a:lnTo>
                        <a:pt x="1325" y="136"/>
                      </a:lnTo>
                      <a:lnTo>
                        <a:pt x="1305" y="140"/>
                      </a:lnTo>
                      <a:lnTo>
                        <a:pt x="1286" y="140"/>
                      </a:lnTo>
                      <a:lnTo>
                        <a:pt x="1266" y="144"/>
                      </a:lnTo>
                      <a:lnTo>
                        <a:pt x="1246" y="147"/>
                      </a:lnTo>
                      <a:lnTo>
                        <a:pt x="1224" y="151"/>
                      </a:lnTo>
                      <a:lnTo>
                        <a:pt x="1202" y="151"/>
                      </a:lnTo>
                      <a:lnTo>
                        <a:pt x="1180" y="151"/>
                      </a:lnTo>
                      <a:lnTo>
                        <a:pt x="1164" y="150"/>
                      </a:lnTo>
                      <a:lnTo>
                        <a:pt x="1148" y="154"/>
                      </a:lnTo>
                      <a:lnTo>
                        <a:pt x="1128" y="159"/>
                      </a:lnTo>
                      <a:lnTo>
                        <a:pt x="1106" y="159"/>
                      </a:lnTo>
                      <a:lnTo>
                        <a:pt x="1080" y="159"/>
                      </a:lnTo>
                      <a:lnTo>
                        <a:pt x="1058" y="159"/>
                      </a:lnTo>
                      <a:lnTo>
                        <a:pt x="1031" y="159"/>
                      </a:lnTo>
                      <a:lnTo>
                        <a:pt x="980" y="166"/>
                      </a:lnTo>
                      <a:lnTo>
                        <a:pt x="969" y="162"/>
                      </a:lnTo>
                      <a:lnTo>
                        <a:pt x="958" y="155"/>
                      </a:lnTo>
                      <a:lnTo>
                        <a:pt x="943" y="151"/>
                      </a:lnTo>
                      <a:lnTo>
                        <a:pt x="929" y="150"/>
                      </a:lnTo>
                      <a:lnTo>
                        <a:pt x="910" y="151"/>
                      </a:lnTo>
                      <a:lnTo>
                        <a:pt x="888" y="155"/>
                      </a:lnTo>
                      <a:lnTo>
                        <a:pt x="852" y="158"/>
                      </a:lnTo>
                      <a:lnTo>
                        <a:pt x="837" y="153"/>
                      </a:lnTo>
                      <a:lnTo>
                        <a:pt x="826" y="147"/>
                      </a:lnTo>
                      <a:lnTo>
                        <a:pt x="814" y="145"/>
                      </a:lnTo>
                      <a:lnTo>
                        <a:pt x="798" y="144"/>
                      </a:lnTo>
                      <a:lnTo>
                        <a:pt x="784" y="140"/>
                      </a:lnTo>
                      <a:lnTo>
                        <a:pt x="778" y="132"/>
                      </a:lnTo>
                      <a:lnTo>
                        <a:pt x="767" y="120"/>
                      </a:lnTo>
                      <a:lnTo>
                        <a:pt x="755" y="117"/>
                      </a:lnTo>
                      <a:lnTo>
                        <a:pt x="739" y="114"/>
                      </a:lnTo>
                      <a:lnTo>
                        <a:pt x="724" y="114"/>
                      </a:lnTo>
                      <a:lnTo>
                        <a:pt x="717" y="119"/>
                      </a:lnTo>
                      <a:lnTo>
                        <a:pt x="707" y="132"/>
                      </a:lnTo>
                      <a:lnTo>
                        <a:pt x="696" y="129"/>
                      </a:lnTo>
                      <a:lnTo>
                        <a:pt x="684" y="128"/>
                      </a:lnTo>
                      <a:lnTo>
                        <a:pt x="669" y="129"/>
                      </a:lnTo>
                      <a:lnTo>
                        <a:pt x="655" y="135"/>
                      </a:lnTo>
                      <a:lnTo>
                        <a:pt x="637" y="139"/>
                      </a:lnTo>
                      <a:lnTo>
                        <a:pt x="615" y="139"/>
                      </a:lnTo>
                      <a:lnTo>
                        <a:pt x="632" y="127"/>
                      </a:lnTo>
                      <a:lnTo>
                        <a:pt x="639" y="119"/>
                      </a:lnTo>
                      <a:lnTo>
                        <a:pt x="624" y="121"/>
                      </a:lnTo>
                      <a:lnTo>
                        <a:pt x="595" y="127"/>
                      </a:lnTo>
                      <a:lnTo>
                        <a:pt x="570" y="125"/>
                      </a:lnTo>
                      <a:lnTo>
                        <a:pt x="569" y="119"/>
                      </a:lnTo>
                      <a:lnTo>
                        <a:pt x="565" y="113"/>
                      </a:lnTo>
                      <a:lnTo>
                        <a:pt x="559" y="108"/>
                      </a:lnTo>
                      <a:lnTo>
                        <a:pt x="545" y="104"/>
                      </a:lnTo>
                      <a:lnTo>
                        <a:pt x="530" y="104"/>
                      </a:lnTo>
                      <a:lnTo>
                        <a:pt x="511" y="105"/>
                      </a:lnTo>
                      <a:lnTo>
                        <a:pt x="493" y="108"/>
                      </a:lnTo>
                      <a:lnTo>
                        <a:pt x="476" y="104"/>
                      </a:lnTo>
                      <a:lnTo>
                        <a:pt x="455" y="97"/>
                      </a:lnTo>
                      <a:lnTo>
                        <a:pt x="441" y="90"/>
                      </a:lnTo>
                      <a:lnTo>
                        <a:pt x="456" y="74"/>
                      </a:lnTo>
                      <a:lnTo>
                        <a:pt x="471" y="68"/>
                      </a:lnTo>
                      <a:lnTo>
                        <a:pt x="488" y="62"/>
                      </a:lnTo>
                      <a:lnTo>
                        <a:pt x="499" y="58"/>
                      </a:lnTo>
                      <a:lnTo>
                        <a:pt x="508" y="50"/>
                      </a:lnTo>
                      <a:lnTo>
                        <a:pt x="514" y="42"/>
                      </a:lnTo>
                      <a:lnTo>
                        <a:pt x="517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40280" y="3613680"/>
                  <a:ext cx="82080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0" y="34"/>
                      </a:moveTo>
                      <a:lnTo>
                        <a:pt x="43" y="26"/>
                      </a:lnTo>
                      <a:lnTo>
                        <a:pt x="54" y="18"/>
                      </a:lnTo>
                      <a:lnTo>
                        <a:pt x="72" y="15"/>
                      </a:lnTo>
                      <a:lnTo>
                        <a:pt x="85" y="13"/>
                      </a:lnTo>
                      <a:lnTo>
                        <a:pt x="101" y="11"/>
                      </a:lnTo>
                      <a:lnTo>
                        <a:pt x="118" y="11"/>
                      </a:lnTo>
                      <a:lnTo>
                        <a:pt x="139" y="11"/>
                      </a:lnTo>
                      <a:lnTo>
                        <a:pt x="157" y="7"/>
                      </a:lnTo>
                      <a:lnTo>
                        <a:pt x="172" y="6"/>
                      </a:lnTo>
                      <a:lnTo>
                        <a:pt x="198" y="7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4"/>
                      </a:lnTo>
                      <a:lnTo>
                        <a:pt x="276" y="11"/>
                      </a:lnTo>
                      <a:lnTo>
                        <a:pt x="296" y="15"/>
                      </a:lnTo>
                      <a:lnTo>
                        <a:pt x="326" y="18"/>
                      </a:lnTo>
                      <a:lnTo>
                        <a:pt x="341" y="14"/>
                      </a:lnTo>
                      <a:lnTo>
                        <a:pt x="360" y="15"/>
                      </a:lnTo>
                      <a:lnTo>
                        <a:pt x="373" y="18"/>
                      </a:lnTo>
                      <a:lnTo>
                        <a:pt x="394" y="26"/>
                      </a:lnTo>
                      <a:lnTo>
                        <a:pt x="410" y="37"/>
                      </a:lnTo>
                      <a:lnTo>
                        <a:pt x="436" y="43"/>
                      </a:lnTo>
                      <a:lnTo>
                        <a:pt x="473" y="41"/>
                      </a:lnTo>
                      <a:lnTo>
                        <a:pt x="492" y="48"/>
                      </a:lnTo>
                      <a:lnTo>
                        <a:pt x="509" y="51"/>
                      </a:lnTo>
                      <a:lnTo>
                        <a:pt x="532" y="53"/>
                      </a:lnTo>
                      <a:lnTo>
                        <a:pt x="625" y="64"/>
                      </a:lnTo>
                      <a:lnTo>
                        <a:pt x="524" y="60"/>
                      </a:lnTo>
                      <a:lnTo>
                        <a:pt x="505" y="64"/>
                      </a:lnTo>
                      <a:lnTo>
                        <a:pt x="488" y="68"/>
                      </a:lnTo>
                      <a:lnTo>
                        <a:pt x="476" y="67"/>
                      </a:lnTo>
                      <a:lnTo>
                        <a:pt x="461" y="64"/>
                      </a:lnTo>
                      <a:lnTo>
                        <a:pt x="442" y="58"/>
                      </a:lnTo>
                      <a:lnTo>
                        <a:pt x="415" y="57"/>
                      </a:lnTo>
                      <a:lnTo>
                        <a:pt x="390" y="50"/>
                      </a:lnTo>
                      <a:lnTo>
                        <a:pt x="373" y="51"/>
                      </a:lnTo>
                      <a:lnTo>
                        <a:pt x="354" y="53"/>
                      </a:lnTo>
                      <a:lnTo>
                        <a:pt x="313" y="48"/>
                      </a:lnTo>
                      <a:lnTo>
                        <a:pt x="292" y="45"/>
                      </a:lnTo>
                      <a:lnTo>
                        <a:pt x="265" y="37"/>
                      </a:lnTo>
                      <a:lnTo>
                        <a:pt x="238" y="37"/>
                      </a:lnTo>
                      <a:lnTo>
                        <a:pt x="206" y="37"/>
                      </a:lnTo>
                      <a:lnTo>
                        <a:pt x="183" y="38"/>
                      </a:lnTo>
                      <a:lnTo>
                        <a:pt x="161" y="36"/>
                      </a:lnTo>
                      <a:lnTo>
                        <a:pt x="139" y="30"/>
                      </a:lnTo>
                      <a:lnTo>
                        <a:pt x="118" y="34"/>
                      </a:lnTo>
                      <a:lnTo>
                        <a:pt x="99" y="27"/>
                      </a:lnTo>
                      <a:lnTo>
                        <a:pt x="83" y="30"/>
                      </a:lnTo>
                      <a:lnTo>
                        <a:pt x="60" y="31"/>
                      </a:lnTo>
                      <a:lnTo>
                        <a:pt x="35" y="32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324680" y="3710160"/>
                  <a:ext cx="3449520" cy="295920"/>
                </a:xfrm>
                <a:custGeom>
                  <a:avLst/>
                  <a:gdLst/>
                  <a:ahLst/>
                  <a:rect l="l" t="t" r="r" b="b"/>
                  <a:pathLst>
                    <a:path w="2631" h="236">
                      <a:moveTo>
                        <a:pt x="492" y="0"/>
                      </a:moveTo>
                      <a:lnTo>
                        <a:pt x="471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8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39"/>
                      </a:lnTo>
                      <a:lnTo>
                        <a:pt x="365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6"/>
                      </a:lnTo>
                      <a:lnTo>
                        <a:pt x="289" y="66"/>
                      </a:lnTo>
                      <a:lnTo>
                        <a:pt x="258" y="67"/>
                      </a:lnTo>
                      <a:lnTo>
                        <a:pt x="234" y="61"/>
                      </a:lnTo>
                      <a:lnTo>
                        <a:pt x="207" y="74"/>
                      </a:lnTo>
                      <a:lnTo>
                        <a:pt x="182" y="66"/>
                      </a:lnTo>
                      <a:lnTo>
                        <a:pt x="175" y="67"/>
                      </a:lnTo>
                      <a:lnTo>
                        <a:pt x="169" y="72"/>
                      </a:lnTo>
                      <a:lnTo>
                        <a:pt x="160" y="78"/>
                      </a:lnTo>
                      <a:lnTo>
                        <a:pt x="155" y="85"/>
                      </a:lnTo>
                      <a:lnTo>
                        <a:pt x="145" y="91"/>
                      </a:lnTo>
                      <a:lnTo>
                        <a:pt x="138" y="95"/>
                      </a:lnTo>
                      <a:lnTo>
                        <a:pt x="122" y="95"/>
                      </a:lnTo>
                      <a:lnTo>
                        <a:pt x="104" y="95"/>
                      </a:lnTo>
                      <a:lnTo>
                        <a:pt x="96" y="101"/>
                      </a:lnTo>
                      <a:lnTo>
                        <a:pt x="84" y="107"/>
                      </a:lnTo>
                      <a:lnTo>
                        <a:pt x="73" y="107"/>
                      </a:lnTo>
                      <a:lnTo>
                        <a:pt x="56" y="108"/>
                      </a:lnTo>
                      <a:lnTo>
                        <a:pt x="36" y="108"/>
                      </a:lnTo>
                      <a:lnTo>
                        <a:pt x="16" y="115"/>
                      </a:lnTo>
                      <a:lnTo>
                        <a:pt x="0" y="131"/>
                      </a:lnTo>
                      <a:lnTo>
                        <a:pt x="14" y="130"/>
                      </a:lnTo>
                      <a:lnTo>
                        <a:pt x="36" y="125"/>
                      </a:lnTo>
                      <a:lnTo>
                        <a:pt x="58" y="124"/>
                      </a:lnTo>
                      <a:lnTo>
                        <a:pt x="74" y="125"/>
                      </a:lnTo>
                      <a:lnTo>
                        <a:pt x="89" y="131"/>
                      </a:lnTo>
                      <a:lnTo>
                        <a:pt x="106" y="134"/>
                      </a:lnTo>
                      <a:lnTo>
                        <a:pt x="122" y="130"/>
                      </a:lnTo>
                      <a:lnTo>
                        <a:pt x="140" y="125"/>
                      </a:lnTo>
                      <a:lnTo>
                        <a:pt x="156" y="121"/>
                      </a:lnTo>
                      <a:lnTo>
                        <a:pt x="171" y="121"/>
                      </a:lnTo>
                      <a:lnTo>
                        <a:pt x="182" y="130"/>
                      </a:lnTo>
                      <a:lnTo>
                        <a:pt x="192" y="138"/>
                      </a:lnTo>
                      <a:lnTo>
                        <a:pt x="210" y="138"/>
                      </a:lnTo>
                      <a:lnTo>
                        <a:pt x="226" y="135"/>
                      </a:lnTo>
                      <a:lnTo>
                        <a:pt x="245" y="130"/>
                      </a:lnTo>
                      <a:lnTo>
                        <a:pt x="262" y="127"/>
                      </a:lnTo>
                      <a:lnTo>
                        <a:pt x="278" y="134"/>
                      </a:lnTo>
                      <a:lnTo>
                        <a:pt x="295" y="142"/>
                      </a:lnTo>
                      <a:lnTo>
                        <a:pt x="311" y="146"/>
                      </a:lnTo>
                      <a:lnTo>
                        <a:pt x="328" y="149"/>
                      </a:lnTo>
                      <a:lnTo>
                        <a:pt x="349" y="151"/>
                      </a:lnTo>
                      <a:lnTo>
                        <a:pt x="371" y="153"/>
                      </a:lnTo>
                      <a:lnTo>
                        <a:pt x="392" y="151"/>
                      </a:lnTo>
                      <a:lnTo>
                        <a:pt x="417" y="147"/>
                      </a:lnTo>
                      <a:lnTo>
                        <a:pt x="406" y="132"/>
                      </a:lnTo>
                      <a:lnTo>
                        <a:pt x="408" y="124"/>
                      </a:lnTo>
                      <a:lnTo>
                        <a:pt x="419" y="119"/>
                      </a:lnTo>
                      <a:lnTo>
                        <a:pt x="422" y="129"/>
                      </a:lnTo>
                      <a:lnTo>
                        <a:pt x="436" y="138"/>
                      </a:lnTo>
                      <a:lnTo>
                        <a:pt x="450" y="142"/>
                      </a:lnTo>
                      <a:lnTo>
                        <a:pt x="465" y="146"/>
                      </a:lnTo>
                      <a:lnTo>
                        <a:pt x="482" y="151"/>
                      </a:lnTo>
                      <a:lnTo>
                        <a:pt x="500" y="153"/>
                      </a:lnTo>
                      <a:lnTo>
                        <a:pt x="526" y="156"/>
                      </a:lnTo>
                      <a:lnTo>
                        <a:pt x="543" y="154"/>
                      </a:lnTo>
                      <a:lnTo>
                        <a:pt x="563" y="156"/>
                      </a:lnTo>
                      <a:lnTo>
                        <a:pt x="596" y="162"/>
                      </a:lnTo>
                      <a:lnTo>
                        <a:pt x="585" y="169"/>
                      </a:lnTo>
                      <a:lnTo>
                        <a:pt x="570" y="176"/>
                      </a:lnTo>
                      <a:lnTo>
                        <a:pt x="541" y="190"/>
                      </a:lnTo>
                      <a:lnTo>
                        <a:pt x="559" y="191"/>
                      </a:lnTo>
                      <a:lnTo>
                        <a:pt x="576" y="193"/>
                      </a:lnTo>
                      <a:lnTo>
                        <a:pt x="599" y="197"/>
                      </a:lnTo>
                      <a:lnTo>
                        <a:pt x="624" y="199"/>
                      </a:lnTo>
                      <a:lnTo>
                        <a:pt x="637" y="198"/>
                      </a:lnTo>
                      <a:lnTo>
                        <a:pt x="648" y="191"/>
                      </a:lnTo>
                      <a:lnTo>
                        <a:pt x="663" y="187"/>
                      </a:lnTo>
                      <a:lnTo>
                        <a:pt x="684" y="186"/>
                      </a:lnTo>
                      <a:lnTo>
                        <a:pt x="711" y="185"/>
                      </a:lnTo>
                      <a:lnTo>
                        <a:pt x="730" y="176"/>
                      </a:lnTo>
                      <a:lnTo>
                        <a:pt x="757" y="170"/>
                      </a:lnTo>
                      <a:lnTo>
                        <a:pt x="778" y="165"/>
                      </a:lnTo>
                      <a:lnTo>
                        <a:pt x="794" y="166"/>
                      </a:lnTo>
                      <a:lnTo>
                        <a:pt x="847" y="168"/>
                      </a:lnTo>
                      <a:lnTo>
                        <a:pt x="888" y="172"/>
                      </a:lnTo>
                      <a:lnTo>
                        <a:pt x="915" y="172"/>
                      </a:lnTo>
                      <a:lnTo>
                        <a:pt x="937" y="174"/>
                      </a:lnTo>
                      <a:lnTo>
                        <a:pt x="974" y="189"/>
                      </a:lnTo>
                      <a:lnTo>
                        <a:pt x="992" y="189"/>
                      </a:lnTo>
                      <a:lnTo>
                        <a:pt x="1013" y="185"/>
                      </a:lnTo>
                      <a:lnTo>
                        <a:pt x="1035" y="179"/>
                      </a:lnTo>
                      <a:lnTo>
                        <a:pt x="1053" y="176"/>
                      </a:lnTo>
                      <a:lnTo>
                        <a:pt x="1116" y="172"/>
                      </a:lnTo>
                      <a:lnTo>
                        <a:pt x="1158" y="170"/>
                      </a:lnTo>
                      <a:lnTo>
                        <a:pt x="1185" y="168"/>
                      </a:lnTo>
                      <a:lnTo>
                        <a:pt x="1207" y="166"/>
                      </a:lnTo>
                      <a:lnTo>
                        <a:pt x="1229" y="164"/>
                      </a:lnTo>
                      <a:lnTo>
                        <a:pt x="1255" y="160"/>
                      </a:lnTo>
                      <a:lnTo>
                        <a:pt x="1273" y="156"/>
                      </a:lnTo>
                      <a:lnTo>
                        <a:pt x="1299" y="150"/>
                      </a:lnTo>
                      <a:lnTo>
                        <a:pt x="1314" y="157"/>
                      </a:lnTo>
                      <a:lnTo>
                        <a:pt x="1323" y="166"/>
                      </a:lnTo>
                      <a:lnTo>
                        <a:pt x="1313" y="176"/>
                      </a:lnTo>
                      <a:lnTo>
                        <a:pt x="1294" y="181"/>
                      </a:lnTo>
                      <a:lnTo>
                        <a:pt x="1317" y="181"/>
                      </a:lnTo>
                      <a:lnTo>
                        <a:pt x="1305" y="189"/>
                      </a:lnTo>
                      <a:lnTo>
                        <a:pt x="1287" y="197"/>
                      </a:lnTo>
                      <a:lnTo>
                        <a:pt x="1262" y="206"/>
                      </a:lnTo>
                      <a:lnTo>
                        <a:pt x="1239" y="213"/>
                      </a:lnTo>
                      <a:lnTo>
                        <a:pt x="1268" y="210"/>
                      </a:lnTo>
                      <a:lnTo>
                        <a:pt x="1292" y="206"/>
                      </a:lnTo>
                      <a:lnTo>
                        <a:pt x="1317" y="200"/>
                      </a:lnTo>
                      <a:lnTo>
                        <a:pt x="1334" y="195"/>
                      </a:lnTo>
                      <a:lnTo>
                        <a:pt x="1342" y="193"/>
                      </a:lnTo>
                      <a:lnTo>
                        <a:pt x="1355" y="191"/>
                      </a:lnTo>
                      <a:lnTo>
                        <a:pt x="1372" y="191"/>
                      </a:lnTo>
                      <a:lnTo>
                        <a:pt x="1392" y="193"/>
                      </a:lnTo>
                      <a:lnTo>
                        <a:pt x="1410" y="197"/>
                      </a:lnTo>
                      <a:lnTo>
                        <a:pt x="1427" y="198"/>
                      </a:lnTo>
                      <a:lnTo>
                        <a:pt x="1449" y="197"/>
                      </a:lnTo>
                      <a:lnTo>
                        <a:pt x="1432" y="210"/>
                      </a:lnTo>
                      <a:lnTo>
                        <a:pt x="1414" y="220"/>
                      </a:lnTo>
                      <a:lnTo>
                        <a:pt x="1394" y="226"/>
                      </a:lnTo>
                      <a:lnTo>
                        <a:pt x="1417" y="223"/>
                      </a:lnTo>
                      <a:lnTo>
                        <a:pt x="1439" y="221"/>
                      </a:lnTo>
                      <a:lnTo>
                        <a:pt x="1462" y="219"/>
                      </a:lnTo>
                      <a:lnTo>
                        <a:pt x="1482" y="214"/>
                      </a:lnTo>
                      <a:lnTo>
                        <a:pt x="1506" y="212"/>
                      </a:lnTo>
                      <a:lnTo>
                        <a:pt x="1535" y="209"/>
                      </a:lnTo>
                      <a:lnTo>
                        <a:pt x="1561" y="209"/>
                      </a:lnTo>
                      <a:lnTo>
                        <a:pt x="1582" y="204"/>
                      </a:lnTo>
                      <a:lnTo>
                        <a:pt x="1587" y="200"/>
                      </a:lnTo>
                      <a:lnTo>
                        <a:pt x="1594" y="197"/>
                      </a:lnTo>
                      <a:lnTo>
                        <a:pt x="1609" y="197"/>
                      </a:lnTo>
                      <a:lnTo>
                        <a:pt x="1635" y="201"/>
                      </a:lnTo>
                      <a:lnTo>
                        <a:pt x="1667" y="204"/>
                      </a:lnTo>
                      <a:lnTo>
                        <a:pt x="1697" y="209"/>
                      </a:lnTo>
                      <a:lnTo>
                        <a:pt x="1713" y="212"/>
                      </a:lnTo>
                      <a:lnTo>
                        <a:pt x="1742" y="212"/>
                      </a:lnTo>
                      <a:lnTo>
                        <a:pt x="1775" y="213"/>
                      </a:lnTo>
                      <a:lnTo>
                        <a:pt x="1799" y="217"/>
                      </a:lnTo>
                      <a:lnTo>
                        <a:pt x="1830" y="223"/>
                      </a:lnTo>
                      <a:lnTo>
                        <a:pt x="1856" y="227"/>
                      </a:lnTo>
                      <a:lnTo>
                        <a:pt x="1878" y="230"/>
                      </a:lnTo>
                      <a:lnTo>
                        <a:pt x="1900" y="227"/>
                      </a:lnTo>
                      <a:lnTo>
                        <a:pt x="1934" y="220"/>
                      </a:lnTo>
                      <a:lnTo>
                        <a:pt x="1963" y="223"/>
                      </a:lnTo>
                      <a:lnTo>
                        <a:pt x="1989" y="223"/>
                      </a:lnTo>
                      <a:lnTo>
                        <a:pt x="2016" y="223"/>
                      </a:lnTo>
                      <a:lnTo>
                        <a:pt x="2043" y="223"/>
                      </a:lnTo>
                      <a:lnTo>
                        <a:pt x="2080" y="216"/>
                      </a:lnTo>
                      <a:lnTo>
                        <a:pt x="2098" y="216"/>
                      </a:lnTo>
                      <a:lnTo>
                        <a:pt x="2119" y="214"/>
                      </a:lnTo>
                      <a:lnTo>
                        <a:pt x="2157" y="219"/>
                      </a:lnTo>
                      <a:lnTo>
                        <a:pt x="2176" y="221"/>
                      </a:lnTo>
                      <a:lnTo>
                        <a:pt x="2193" y="220"/>
                      </a:lnTo>
                      <a:lnTo>
                        <a:pt x="2215" y="217"/>
                      </a:lnTo>
                      <a:lnTo>
                        <a:pt x="2237" y="216"/>
                      </a:lnTo>
                      <a:lnTo>
                        <a:pt x="2253" y="216"/>
                      </a:lnTo>
                      <a:lnTo>
                        <a:pt x="2260" y="219"/>
                      </a:lnTo>
                      <a:lnTo>
                        <a:pt x="2260" y="227"/>
                      </a:lnTo>
                      <a:lnTo>
                        <a:pt x="2268" y="230"/>
                      </a:lnTo>
                      <a:lnTo>
                        <a:pt x="2282" y="230"/>
                      </a:lnTo>
                      <a:lnTo>
                        <a:pt x="2296" y="227"/>
                      </a:lnTo>
                      <a:lnTo>
                        <a:pt x="2308" y="220"/>
                      </a:lnTo>
                      <a:lnTo>
                        <a:pt x="2316" y="212"/>
                      </a:lnTo>
                      <a:lnTo>
                        <a:pt x="2324" y="208"/>
                      </a:lnTo>
                      <a:lnTo>
                        <a:pt x="2346" y="208"/>
                      </a:lnTo>
                      <a:lnTo>
                        <a:pt x="2363" y="208"/>
                      </a:lnTo>
                      <a:lnTo>
                        <a:pt x="2383" y="216"/>
                      </a:lnTo>
                      <a:lnTo>
                        <a:pt x="2400" y="221"/>
                      </a:lnTo>
                      <a:lnTo>
                        <a:pt x="2419" y="227"/>
                      </a:lnTo>
                      <a:lnTo>
                        <a:pt x="2431" y="228"/>
                      </a:lnTo>
                      <a:lnTo>
                        <a:pt x="2444" y="230"/>
                      </a:lnTo>
                      <a:lnTo>
                        <a:pt x="2457" y="230"/>
                      </a:lnTo>
                      <a:lnTo>
                        <a:pt x="2479" y="227"/>
                      </a:lnTo>
                      <a:lnTo>
                        <a:pt x="2553" y="235"/>
                      </a:lnTo>
                      <a:lnTo>
                        <a:pt x="2531" y="227"/>
                      </a:lnTo>
                      <a:lnTo>
                        <a:pt x="2518" y="223"/>
                      </a:lnTo>
                      <a:lnTo>
                        <a:pt x="2512" y="216"/>
                      </a:lnTo>
                      <a:lnTo>
                        <a:pt x="2518" y="210"/>
                      </a:lnTo>
                      <a:lnTo>
                        <a:pt x="2544" y="205"/>
                      </a:lnTo>
                      <a:lnTo>
                        <a:pt x="2561" y="201"/>
                      </a:lnTo>
                      <a:lnTo>
                        <a:pt x="2583" y="197"/>
                      </a:lnTo>
                      <a:lnTo>
                        <a:pt x="2601" y="189"/>
                      </a:lnTo>
                      <a:lnTo>
                        <a:pt x="2630" y="179"/>
                      </a:lnTo>
                      <a:lnTo>
                        <a:pt x="2588" y="179"/>
                      </a:lnTo>
                      <a:lnTo>
                        <a:pt x="2560" y="178"/>
                      </a:lnTo>
                      <a:lnTo>
                        <a:pt x="2534" y="176"/>
                      </a:lnTo>
                      <a:lnTo>
                        <a:pt x="2512" y="174"/>
                      </a:lnTo>
                      <a:lnTo>
                        <a:pt x="2497" y="174"/>
                      </a:lnTo>
                      <a:lnTo>
                        <a:pt x="2485" y="176"/>
                      </a:lnTo>
                      <a:lnTo>
                        <a:pt x="2472" y="176"/>
                      </a:lnTo>
                      <a:lnTo>
                        <a:pt x="2456" y="181"/>
                      </a:lnTo>
                      <a:lnTo>
                        <a:pt x="2441" y="185"/>
                      </a:lnTo>
                      <a:lnTo>
                        <a:pt x="2463" y="190"/>
                      </a:lnTo>
                      <a:lnTo>
                        <a:pt x="2479" y="197"/>
                      </a:lnTo>
                      <a:lnTo>
                        <a:pt x="2490" y="204"/>
                      </a:lnTo>
                      <a:lnTo>
                        <a:pt x="2494" y="212"/>
                      </a:lnTo>
                      <a:lnTo>
                        <a:pt x="2490" y="220"/>
                      </a:lnTo>
                      <a:lnTo>
                        <a:pt x="2474" y="217"/>
                      </a:lnTo>
                      <a:lnTo>
                        <a:pt x="2461" y="214"/>
                      </a:lnTo>
                      <a:lnTo>
                        <a:pt x="2452" y="208"/>
                      </a:lnTo>
                      <a:lnTo>
                        <a:pt x="2435" y="201"/>
                      </a:lnTo>
                      <a:lnTo>
                        <a:pt x="2415" y="199"/>
                      </a:lnTo>
                      <a:lnTo>
                        <a:pt x="2397" y="197"/>
                      </a:lnTo>
                      <a:lnTo>
                        <a:pt x="2372" y="199"/>
                      </a:lnTo>
                      <a:lnTo>
                        <a:pt x="2356" y="198"/>
                      </a:lnTo>
                      <a:lnTo>
                        <a:pt x="2341" y="197"/>
                      </a:lnTo>
                      <a:lnTo>
                        <a:pt x="2324" y="193"/>
                      </a:lnTo>
                      <a:lnTo>
                        <a:pt x="2307" y="187"/>
                      </a:lnTo>
                      <a:lnTo>
                        <a:pt x="2291" y="181"/>
                      </a:lnTo>
                      <a:lnTo>
                        <a:pt x="2276" y="176"/>
                      </a:lnTo>
                      <a:lnTo>
                        <a:pt x="2263" y="176"/>
                      </a:lnTo>
                      <a:lnTo>
                        <a:pt x="2249" y="181"/>
                      </a:lnTo>
                      <a:lnTo>
                        <a:pt x="2233" y="185"/>
                      </a:lnTo>
                      <a:lnTo>
                        <a:pt x="2216" y="185"/>
                      </a:lnTo>
                      <a:lnTo>
                        <a:pt x="2194" y="185"/>
                      </a:lnTo>
                      <a:lnTo>
                        <a:pt x="2176" y="182"/>
                      </a:lnTo>
                      <a:lnTo>
                        <a:pt x="2159" y="179"/>
                      </a:lnTo>
                      <a:lnTo>
                        <a:pt x="2142" y="178"/>
                      </a:lnTo>
                      <a:lnTo>
                        <a:pt x="2128" y="179"/>
                      </a:lnTo>
                      <a:lnTo>
                        <a:pt x="2108" y="181"/>
                      </a:lnTo>
                      <a:lnTo>
                        <a:pt x="2091" y="183"/>
                      </a:lnTo>
                      <a:lnTo>
                        <a:pt x="2071" y="181"/>
                      </a:lnTo>
                      <a:lnTo>
                        <a:pt x="2048" y="179"/>
                      </a:lnTo>
                      <a:lnTo>
                        <a:pt x="2021" y="178"/>
                      </a:lnTo>
                      <a:lnTo>
                        <a:pt x="1995" y="176"/>
                      </a:lnTo>
                      <a:lnTo>
                        <a:pt x="1978" y="173"/>
                      </a:lnTo>
                      <a:lnTo>
                        <a:pt x="1960" y="168"/>
                      </a:lnTo>
                      <a:lnTo>
                        <a:pt x="1945" y="162"/>
                      </a:lnTo>
                      <a:lnTo>
                        <a:pt x="1931" y="160"/>
                      </a:lnTo>
                      <a:lnTo>
                        <a:pt x="1920" y="160"/>
                      </a:lnTo>
                      <a:lnTo>
                        <a:pt x="1906" y="161"/>
                      </a:lnTo>
                      <a:lnTo>
                        <a:pt x="1872" y="165"/>
                      </a:lnTo>
                      <a:lnTo>
                        <a:pt x="1910" y="168"/>
                      </a:lnTo>
                      <a:lnTo>
                        <a:pt x="1901" y="176"/>
                      </a:lnTo>
                      <a:lnTo>
                        <a:pt x="1887" y="186"/>
                      </a:lnTo>
                      <a:lnTo>
                        <a:pt x="1873" y="187"/>
                      </a:lnTo>
                      <a:lnTo>
                        <a:pt x="1691" y="166"/>
                      </a:lnTo>
                      <a:lnTo>
                        <a:pt x="1680" y="162"/>
                      </a:lnTo>
                      <a:lnTo>
                        <a:pt x="1713" y="153"/>
                      </a:lnTo>
                      <a:lnTo>
                        <a:pt x="1690" y="150"/>
                      </a:lnTo>
                      <a:lnTo>
                        <a:pt x="1675" y="149"/>
                      </a:lnTo>
                      <a:lnTo>
                        <a:pt x="1664" y="142"/>
                      </a:lnTo>
                      <a:lnTo>
                        <a:pt x="1649" y="138"/>
                      </a:lnTo>
                      <a:lnTo>
                        <a:pt x="1631" y="141"/>
                      </a:lnTo>
                      <a:lnTo>
                        <a:pt x="1613" y="143"/>
                      </a:lnTo>
                      <a:lnTo>
                        <a:pt x="1597" y="149"/>
                      </a:lnTo>
                      <a:lnTo>
                        <a:pt x="1582" y="142"/>
                      </a:lnTo>
                      <a:lnTo>
                        <a:pt x="1565" y="131"/>
                      </a:lnTo>
                      <a:lnTo>
                        <a:pt x="1549" y="124"/>
                      </a:lnTo>
                      <a:lnTo>
                        <a:pt x="1532" y="119"/>
                      </a:lnTo>
                      <a:lnTo>
                        <a:pt x="1514" y="115"/>
                      </a:lnTo>
                      <a:lnTo>
                        <a:pt x="1497" y="113"/>
                      </a:lnTo>
                      <a:lnTo>
                        <a:pt x="1468" y="115"/>
                      </a:lnTo>
                      <a:lnTo>
                        <a:pt x="1445" y="117"/>
                      </a:lnTo>
                      <a:lnTo>
                        <a:pt x="1421" y="120"/>
                      </a:lnTo>
                      <a:lnTo>
                        <a:pt x="1394" y="123"/>
                      </a:lnTo>
                      <a:lnTo>
                        <a:pt x="1366" y="127"/>
                      </a:lnTo>
                      <a:lnTo>
                        <a:pt x="1344" y="129"/>
                      </a:lnTo>
                      <a:lnTo>
                        <a:pt x="1325" y="135"/>
                      </a:lnTo>
                      <a:lnTo>
                        <a:pt x="1305" y="139"/>
                      </a:lnTo>
                      <a:lnTo>
                        <a:pt x="1286" y="139"/>
                      </a:lnTo>
                      <a:lnTo>
                        <a:pt x="1266" y="143"/>
                      </a:lnTo>
                      <a:lnTo>
                        <a:pt x="1246" y="147"/>
                      </a:lnTo>
                      <a:lnTo>
                        <a:pt x="1224" y="151"/>
                      </a:lnTo>
                      <a:lnTo>
                        <a:pt x="1202" y="151"/>
                      </a:lnTo>
                      <a:lnTo>
                        <a:pt x="1180" y="151"/>
                      </a:lnTo>
                      <a:lnTo>
                        <a:pt x="1164" y="150"/>
                      </a:lnTo>
                      <a:lnTo>
                        <a:pt x="1148" y="153"/>
                      </a:lnTo>
                      <a:lnTo>
                        <a:pt x="1128" y="158"/>
                      </a:lnTo>
                      <a:lnTo>
                        <a:pt x="1106" y="158"/>
                      </a:lnTo>
                      <a:lnTo>
                        <a:pt x="1080" y="158"/>
                      </a:lnTo>
                      <a:lnTo>
                        <a:pt x="1058" y="158"/>
                      </a:lnTo>
                      <a:lnTo>
                        <a:pt x="1031" y="158"/>
                      </a:lnTo>
                      <a:lnTo>
                        <a:pt x="980" y="165"/>
                      </a:lnTo>
                      <a:lnTo>
                        <a:pt x="969" y="161"/>
                      </a:lnTo>
                      <a:lnTo>
                        <a:pt x="958" y="154"/>
                      </a:lnTo>
                      <a:lnTo>
                        <a:pt x="943" y="151"/>
                      </a:lnTo>
                      <a:lnTo>
                        <a:pt x="929" y="150"/>
                      </a:lnTo>
                      <a:lnTo>
                        <a:pt x="910" y="151"/>
                      </a:lnTo>
                      <a:lnTo>
                        <a:pt x="888" y="154"/>
                      </a:lnTo>
                      <a:lnTo>
                        <a:pt x="852" y="157"/>
                      </a:lnTo>
                      <a:lnTo>
                        <a:pt x="837" y="153"/>
                      </a:lnTo>
                      <a:lnTo>
                        <a:pt x="826" y="147"/>
                      </a:lnTo>
                      <a:lnTo>
                        <a:pt x="814" y="145"/>
                      </a:lnTo>
                      <a:lnTo>
                        <a:pt x="798" y="143"/>
                      </a:lnTo>
                      <a:lnTo>
                        <a:pt x="784" y="139"/>
                      </a:lnTo>
                      <a:lnTo>
                        <a:pt x="778" y="131"/>
                      </a:lnTo>
                      <a:lnTo>
                        <a:pt x="767" y="120"/>
                      </a:lnTo>
                      <a:lnTo>
                        <a:pt x="755" y="116"/>
                      </a:lnTo>
                      <a:lnTo>
                        <a:pt x="739" y="113"/>
                      </a:lnTo>
                      <a:lnTo>
                        <a:pt x="724" y="113"/>
                      </a:lnTo>
                      <a:lnTo>
                        <a:pt x="717" y="119"/>
                      </a:lnTo>
                      <a:lnTo>
                        <a:pt x="707" y="131"/>
                      </a:lnTo>
                      <a:lnTo>
                        <a:pt x="696" y="129"/>
                      </a:lnTo>
                      <a:lnTo>
                        <a:pt x="684" y="128"/>
                      </a:lnTo>
                      <a:lnTo>
                        <a:pt x="669" y="129"/>
                      </a:lnTo>
                      <a:lnTo>
                        <a:pt x="655" y="134"/>
                      </a:lnTo>
                      <a:lnTo>
                        <a:pt x="637" y="138"/>
                      </a:lnTo>
                      <a:lnTo>
                        <a:pt x="615" y="138"/>
                      </a:lnTo>
                      <a:lnTo>
                        <a:pt x="632" y="127"/>
                      </a:lnTo>
                      <a:lnTo>
                        <a:pt x="639" y="119"/>
                      </a:lnTo>
                      <a:lnTo>
                        <a:pt x="624" y="121"/>
                      </a:lnTo>
                      <a:lnTo>
                        <a:pt x="595" y="127"/>
                      </a:lnTo>
                      <a:lnTo>
                        <a:pt x="570" y="125"/>
                      </a:lnTo>
                      <a:lnTo>
                        <a:pt x="569" y="119"/>
                      </a:lnTo>
                      <a:lnTo>
                        <a:pt x="565" y="112"/>
                      </a:lnTo>
                      <a:lnTo>
                        <a:pt x="559" y="107"/>
                      </a:lnTo>
                      <a:lnTo>
                        <a:pt x="545" y="104"/>
                      </a:lnTo>
                      <a:lnTo>
                        <a:pt x="530" y="104"/>
                      </a:lnTo>
                      <a:lnTo>
                        <a:pt x="511" y="105"/>
                      </a:lnTo>
                      <a:lnTo>
                        <a:pt x="493" y="107"/>
                      </a:lnTo>
                      <a:lnTo>
                        <a:pt x="476" y="104"/>
                      </a:lnTo>
                      <a:lnTo>
                        <a:pt x="455" y="97"/>
                      </a:lnTo>
                      <a:lnTo>
                        <a:pt x="441" y="89"/>
                      </a:lnTo>
                      <a:lnTo>
                        <a:pt x="456" y="74"/>
                      </a:lnTo>
                      <a:lnTo>
                        <a:pt x="471" y="68"/>
                      </a:lnTo>
                      <a:lnTo>
                        <a:pt x="488" y="61"/>
                      </a:lnTo>
                      <a:lnTo>
                        <a:pt x="499" y="58"/>
                      </a:lnTo>
                      <a:lnTo>
                        <a:pt x="508" y="50"/>
                      </a:lnTo>
                      <a:lnTo>
                        <a:pt x="514" y="42"/>
                      </a:lnTo>
                      <a:lnTo>
                        <a:pt x="517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930200" y="3589920"/>
                  <a:ext cx="3450600" cy="295560"/>
                </a:xfrm>
                <a:custGeom>
                  <a:avLst/>
                  <a:gdLst/>
                  <a:ahLst/>
                  <a:rect l="l" t="t" r="r" b="b"/>
                  <a:pathLst>
                    <a:path w="2632" h="236">
                      <a:moveTo>
                        <a:pt x="492" y="0"/>
                      </a:moveTo>
                      <a:lnTo>
                        <a:pt x="472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8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39"/>
                      </a:lnTo>
                      <a:lnTo>
                        <a:pt x="365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6"/>
                      </a:lnTo>
                      <a:lnTo>
                        <a:pt x="289" y="66"/>
                      </a:lnTo>
                      <a:lnTo>
                        <a:pt x="258" y="67"/>
                      </a:lnTo>
                      <a:lnTo>
                        <a:pt x="234" y="61"/>
                      </a:lnTo>
                      <a:lnTo>
                        <a:pt x="207" y="74"/>
                      </a:lnTo>
                      <a:lnTo>
                        <a:pt x="182" y="66"/>
                      </a:lnTo>
                      <a:lnTo>
                        <a:pt x="175" y="67"/>
                      </a:lnTo>
                      <a:lnTo>
                        <a:pt x="169" y="72"/>
                      </a:lnTo>
                      <a:lnTo>
                        <a:pt x="160" y="78"/>
                      </a:lnTo>
                      <a:lnTo>
                        <a:pt x="155" y="85"/>
                      </a:lnTo>
                      <a:lnTo>
                        <a:pt x="145" y="91"/>
                      </a:lnTo>
                      <a:lnTo>
                        <a:pt x="138" y="95"/>
                      </a:lnTo>
                      <a:lnTo>
                        <a:pt x="122" y="95"/>
                      </a:lnTo>
                      <a:lnTo>
                        <a:pt x="104" y="95"/>
                      </a:lnTo>
                      <a:lnTo>
                        <a:pt x="96" y="101"/>
                      </a:lnTo>
                      <a:lnTo>
                        <a:pt x="84" y="107"/>
                      </a:lnTo>
                      <a:lnTo>
                        <a:pt x="73" y="107"/>
                      </a:lnTo>
                      <a:lnTo>
                        <a:pt x="56" y="108"/>
                      </a:lnTo>
                      <a:lnTo>
                        <a:pt x="36" y="108"/>
                      </a:lnTo>
                      <a:lnTo>
                        <a:pt x="16" y="115"/>
                      </a:lnTo>
                      <a:lnTo>
                        <a:pt x="0" y="131"/>
                      </a:lnTo>
                      <a:lnTo>
                        <a:pt x="14" y="130"/>
                      </a:lnTo>
                      <a:lnTo>
                        <a:pt x="36" y="125"/>
                      </a:lnTo>
                      <a:lnTo>
                        <a:pt x="58" y="124"/>
                      </a:lnTo>
                      <a:lnTo>
                        <a:pt x="74" y="125"/>
                      </a:lnTo>
                      <a:lnTo>
                        <a:pt x="89" y="131"/>
                      </a:lnTo>
                      <a:lnTo>
                        <a:pt x="106" y="134"/>
                      </a:lnTo>
                      <a:lnTo>
                        <a:pt x="122" y="130"/>
                      </a:lnTo>
                      <a:lnTo>
                        <a:pt x="140" y="125"/>
                      </a:lnTo>
                      <a:lnTo>
                        <a:pt x="156" y="121"/>
                      </a:lnTo>
                      <a:lnTo>
                        <a:pt x="171" y="121"/>
                      </a:lnTo>
                      <a:lnTo>
                        <a:pt x="182" y="130"/>
                      </a:lnTo>
                      <a:lnTo>
                        <a:pt x="192" y="138"/>
                      </a:lnTo>
                      <a:lnTo>
                        <a:pt x="210" y="138"/>
                      </a:lnTo>
                      <a:lnTo>
                        <a:pt x="226" y="135"/>
                      </a:lnTo>
                      <a:lnTo>
                        <a:pt x="245" y="130"/>
                      </a:lnTo>
                      <a:lnTo>
                        <a:pt x="262" y="127"/>
                      </a:lnTo>
                      <a:lnTo>
                        <a:pt x="278" y="134"/>
                      </a:lnTo>
                      <a:lnTo>
                        <a:pt x="295" y="142"/>
                      </a:lnTo>
                      <a:lnTo>
                        <a:pt x="311" y="146"/>
                      </a:lnTo>
                      <a:lnTo>
                        <a:pt x="328" y="149"/>
                      </a:lnTo>
                      <a:lnTo>
                        <a:pt x="350" y="151"/>
                      </a:lnTo>
                      <a:lnTo>
                        <a:pt x="372" y="153"/>
                      </a:lnTo>
                      <a:lnTo>
                        <a:pt x="392" y="151"/>
                      </a:lnTo>
                      <a:lnTo>
                        <a:pt x="417" y="147"/>
                      </a:lnTo>
                      <a:lnTo>
                        <a:pt x="406" y="132"/>
                      </a:lnTo>
                      <a:lnTo>
                        <a:pt x="409" y="124"/>
                      </a:lnTo>
                      <a:lnTo>
                        <a:pt x="420" y="119"/>
                      </a:lnTo>
                      <a:lnTo>
                        <a:pt x="422" y="129"/>
                      </a:lnTo>
                      <a:lnTo>
                        <a:pt x="436" y="138"/>
                      </a:lnTo>
                      <a:lnTo>
                        <a:pt x="450" y="142"/>
                      </a:lnTo>
                      <a:lnTo>
                        <a:pt x="465" y="146"/>
                      </a:lnTo>
                      <a:lnTo>
                        <a:pt x="483" y="151"/>
                      </a:lnTo>
                      <a:lnTo>
                        <a:pt x="500" y="153"/>
                      </a:lnTo>
                      <a:lnTo>
                        <a:pt x="526" y="156"/>
                      </a:lnTo>
                      <a:lnTo>
                        <a:pt x="543" y="154"/>
                      </a:lnTo>
                      <a:lnTo>
                        <a:pt x="563" y="156"/>
                      </a:lnTo>
                      <a:lnTo>
                        <a:pt x="596" y="162"/>
                      </a:lnTo>
                      <a:lnTo>
                        <a:pt x="585" y="169"/>
                      </a:lnTo>
                      <a:lnTo>
                        <a:pt x="570" y="176"/>
                      </a:lnTo>
                      <a:lnTo>
                        <a:pt x="542" y="190"/>
                      </a:lnTo>
                      <a:lnTo>
                        <a:pt x="559" y="191"/>
                      </a:lnTo>
                      <a:lnTo>
                        <a:pt x="576" y="193"/>
                      </a:lnTo>
                      <a:lnTo>
                        <a:pt x="599" y="197"/>
                      </a:lnTo>
                      <a:lnTo>
                        <a:pt x="624" y="199"/>
                      </a:lnTo>
                      <a:lnTo>
                        <a:pt x="638" y="198"/>
                      </a:lnTo>
                      <a:lnTo>
                        <a:pt x="648" y="191"/>
                      </a:lnTo>
                      <a:lnTo>
                        <a:pt x="664" y="187"/>
                      </a:lnTo>
                      <a:lnTo>
                        <a:pt x="684" y="186"/>
                      </a:lnTo>
                      <a:lnTo>
                        <a:pt x="712" y="185"/>
                      </a:lnTo>
                      <a:lnTo>
                        <a:pt x="731" y="176"/>
                      </a:lnTo>
                      <a:lnTo>
                        <a:pt x="757" y="170"/>
                      </a:lnTo>
                      <a:lnTo>
                        <a:pt x="779" y="165"/>
                      </a:lnTo>
                      <a:lnTo>
                        <a:pt x="794" y="166"/>
                      </a:lnTo>
                      <a:lnTo>
                        <a:pt x="847" y="168"/>
                      </a:lnTo>
                      <a:lnTo>
                        <a:pt x="888" y="172"/>
                      </a:lnTo>
                      <a:lnTo>
                        <a:pt x="916" y="172"/>
                      </a:lnTo>
                      <a:lnTo>
                        <a:pt x="938" y="174"/>
                      </a:lnTo>
                      <a:lnTo>
                        <a:pt x="975" y="189"/>
                      </a:lnTo>
                      <a:lnTo>
                        <a:pt x="993" y="189"/>
                      </a:lnTo>
                      <a:lnTo>
                        <a:pt x="1013" y="185"/>
                      </a:lnTo>
                      <a:lnTo>
                        <a:pt x="1035" y="179"/>
                      </a:lnTo>
                      <a:lnTo>
                        <a:pt x="1053" y="176"/>
                      </a:lnTo>
                      <a:lnTo>
                        <a:pt x="1116" y="172"/>
                      </a:lnTo>
                      <a:lnTo>
                        <a:pt x="1159" y="170"/>
                      </a:lnTo>
                      <a:lnTo>
                        <a:pt x="1186" y="168"/>
                      </a:lnTo>
                      <a:lnTo>
                        <a:pt x="1208" y="166"/>
                      </a:lnTo>
                      <a:lnTo>
                        <a:pt x="1230" y="164"/>
                      </a:lnTo>
                      <a:lnTo>
                        <a:pt x="1256" y="160"/>
                      </a:lnTo>
                      <a:lnTo>
                        <a:pt x="1274" y="156"/>
                      </a:lnTo>
                      <a:lnTo>
                        <a:pt x="1300" y="150"/>
                      </a:lnTo>
                      <a:lnTo>
                        <a:pt x="1315" y="157"/>
                      </a:lnTo>
                      <a:lnTo>
                        <a:pt x="1323" y="166"/>
                      </a:lnTo>
                      <a:lnTo>
                        <a:pt x="1313" y="176"/>
                      </a:lnTo>
                      <a:lnTo>
                        <a:pt x="1294" y="181"/>
                      </a:lnTo>
                      <a:lnTo>
                        <a:pt x="1318" y="181"/>
                      </a:lnTo>
                      <a:lnTo>
                        <a:pt x="1305" y="189"/>
                      </a:lnTo>
                      <a:lnTo>
                        <a:pt x="1287" y="197"/>
                      </a:lnTo>
                      <a:lnTo>
                        <a:pt x="1263" y="206"/>
                      </a:lnTo>
                      <a:lnTo>
                        <a:pt x="1239" y="213"/>
                      </a:lnTo>
                      <a:lnTo>
                        <a:pt x="1268" y="210"/>
                      </a:lnTo>
                      <a:lnTo>
                        <a:pt x="1293" y="206"/>
                      </a:lnTo>
                      <a:lnTo>
                        <a:pt x="1318" y="200"/>
                      </a:lnTo>
                      <a:lnTo>
                        <a:pt x="1334" y="195"/>
                      </a:lnTo>
                      <a:lnTo>
                        <a:pt x="1342" y="193"/>
                      </a:lnTo>
                      <a:lnTo>
                        <a:pt x="1356" y="191"/>
                      </a:lnTo>
                      <a:lnTo>
                        <a:pt x="1372" y="191"/>
                      </a:lnTo>
                      <a:lnTo>
                        <a:pt x="1393" y="193"/>
                      </a:lnTo>
                      <a:lnTo>
                        <a:pt x="1411" y="197"/>
                      </a:lnTo>
                      <a:lnTo>
                        <a:pt x="1427" y="198"/>
                      </a:lnTo>
                      <a:lnTo>
                        <a:pt x="1449" y="197"/>
                      </a:lnTo>
                      <a:lnTo>
                        <a:pt x="1433" y="210"/>
                      </a:lnTo>
                      <a:lnTo>
                        <a:pt x="1415" y="220"/>
                      </a:lnTo>
                      <a:lnTo>
                        <a:pt x="1394" y="226"/>
                      </a:lnTo>
                      <a:lnTo>
                        <a:pt x="1418" y="223"/>
                      </a:lnTo>
                      <a:lnTo>
                        <a:pt x="1440" y="221"/>
                      </a:lnTo>
                      <a:lnTo>
                        <a:pt x="1463" y="219"/>
                      </a:lnTo>
                      <a:lnTo>
                        <a:pt x="1482" y="214"/>
                      </a:lnTo>
                      <a:lnTo>
                        <a:pt x="1507" y="212"/>
                      </a:lnTo>
                      <a:lnTo>
                        <a:pt x="1536" y="209"/>
                      </a:lnTo>
                      <a:lnTo>
                        <a:pt x="1562" y="209"/>
                      </a:lnTo>
                      <a:lnTo>
                        <a:pt x="1582" y="204"/>
                      </a:lnTo>
                      <a:lnTo>
                        <a:pt x="1588" y="200"/>
                      </a:lnTo>
                      <a:lnTo>
                        <a:pt x="1595" y="197"/>
                      </a:lnTo>
                      <a:lnTo>
                        <a:pt x="1610" y="197"/>
                      </a:lnTo>
                      <a:lnTo>
                        <a:pt x="1636" y="201"/>
                      </a:lnTo>
                      <a:lnTo>
                        <a:pt x="1667" y="204"/>
                      </a:lnTo>
                      <a:lnTo>
                        <a:pt x="1697" y="209"/>
                      </a:lnTo>
                      <a:lnTo>
                        <a:pt x="1714" y="212"/>
                      </a:lnTo>
                      <a:lnTo>
                        <a:pt x="1743" y="212"/>
                      </a:lnTo>
                      <a:lnTo>
                        <a:pt x="1775" y="213"/>
                      </a:lnTo>
                      <a:lnTo>
                        <a:pt x="1800" y="217"/>
                      </a:lnTo>
                      <a:lnTo>
                        <a:pt x="1830" y="223"/>
                      </a:lnTo>
                      <a:lnTo>
                        <a:pt x="1856" y="227"/>
                      </a:lnTo>
                      <a:lnTo>
                        <a:pt x="1878" y="230"/>
                      </a:lnTo>
                      <a:lnTo>
                        <a:pt x="1900" y="227"/>
                      </a:lnTo>
                      <a:lnTo>
                        <a:pt x="1935" y="220"/>
                      </a:lnTo>
                      <a:lnTo>
                        <a:pt x="1963" y="223"/>
                      </a:lnTo>
                      <a:lnTo>
                        <a:pt x="1989" y="223"/>
                      </a:lnTo>
                      <a:lnTo>
                        <a:pt x="2017" y="223"/>
                      </a:lnTo>
                      <a:lnTo>
                        <a:pt x="2044" y="223"/>
                      </a:lnTo>
                      <a:lnTo>
                        <a:pt x="2081" y="216"/>
                      </a:lnTo>
                      <a:lnTo>
                        <a:pt x="2099" y="216"/>
                      </a:lnTo>
                      <a:lnTo>
                        <a:pt x="2120" y="214"/>
                      </a:lnTo>
                      <a:lnTo>
                        <a:pt x="2158" y="219"/>
                      </a:lnTo>
                      <a:lnTo>
                        <a:pt x="2177" y="221"/>
                      </a:lnTo>
                      <a:lnTo>
                        <a:pt x="2194" y="220"/>
                      </a:lnTo>
                      <a:lnTo>
                        <a:pt x="2216" y="217"/>
                      </a:lnTo>
                      <a:lnTo>
                        <a:pt x="2238" y="216"/>
                      </a:lnTo>
                      <a:lnTo>
                        <a:pt x="2254" y="216"/>
                      </a:lnTo>
                      <a:lnTo>
                        <a:pt x="2261" y="219"/>
                      </a:lnTo>
                      <a:lnTo>
                        <a:pt x="2261" y="227"/>
                      </a:lnTo>
                      <a:lnTo>
                        <a:pt x="2269" y="230"/>
                      </a:lnTo>
                      <a:lnTo>
                        <a:pt x="2283" y="230"/>
                      </a:lnTo>
                      <a:lnTo>
                        <a:pt x="2296" y="227"/>
                      </a:lnTo>
                      <a:lnTo>
                        <a:pt x="2309" y="220"/>
                      </a:lnTo>
                      <a:lnTo>
                        <a:pt x="2317" y="212"/>
                      </a:lnTo>
                      <a:lnTo>
                        <a:pt x="2325" y="208"/>
                      </a:lnTo>
                      <a:lnTo>
                        <a:pt x="2347" y="208"/>
                      </a:lnTo>
                      <a:lnTo>
                        <a:pt x="2364" y="208"/>
                      </a:lnTo>
                      <a:lnTo>
                        <a:pt x="2384" y="216"/>
                      </a:lnTo>
                      <a:lnTo>
                        <a:pt x="2401" y="221"/>
                      </a:lnTo>
                      <a:lnTo>
                        <a:pt x="2420" y="227"/>
                      </a:lnTo>
                      <a:lnTo>
                        <a:pt x="2432" y="228"/>
                      </a:lnTo>
                      <a:lnTo>
                        <a:pt x="2445" y="230"/>
                      </a:lnTo>
                      <a:lnTo>
                        <a:pt x="2458" y="230"/>
                      </a:lnTo>
                      <a:lnTo>
                        <a:pt x="2480" y="227"/>
                      </a:lnTo>
                      <a:lnTo>
                        <a:pt x="2554" y="235"/>
                      </a:lnTo>
                      <a:lnTo>
                        <a:pt x="2532" y="227"/>
                      </a:lnTo>
                      <a:lnTo>
                        <a:pt x="2519" y="223"/>
                      </a:lnTo>
                      <a:lnTo>
                        <a:pt x="2513" y="216"/>
                      </a:lnTo>
                      <a:lnTo>
                        <a:pt x="2519" y="210"/>
                      </a:lnTo>
                      <a:lnTo>
                        <a:pt x="2545" y="205"/>
                      </a:lnTo>
                      <a:lnTo>
                        <a:pt x="2562" y="201"/>
                      </a:lnTo>
                      <a:lnTo>
                        <a:pt x="2584" y="197"/>
                      </a:lnTo>
                      <a:lnTo>
                        <a:pt x="2602" y="189"/>
                      </a:lnTo>
                      <a:lnTo>
                        <a:pt x="2631" y="179"/>
                      </a:lnTo>
                      <a:lnTo>
                        <a:pt x="2588" y="179"/>
                      </a:lnTo>
                      <a:lnTo>
                        <a:pt x="2561" y="178"/>
                      </a:lnTo>
                      <a:lnTo>
                        <a:pt x="2535" y="176"/>
                      </a:lnTo>
                      <a:lnTo>
                        <a:pt x="2513" y="174"/>
                      </a:lnTo>
                      <a:lnTo>
                        <a:pt x="2498" y="174"/>
                      </a:lnTo>
                      <a:lnTo>
                        <a:pt x="2486" y="176"/>
                      </a:lnTo>
                      <a:lnTo>
                        <a:pt x="2473" y="176"/>
                      </a:lnTo>
                      <a:lnTo>
                        <a:pt x="2457" y="181"/>
                      </a:lnTo>
                      <a:lnTo>
                        <a:pt x="2442" y="185"/>
                      </a:lnTo>
                      <a:lnTo>
                        <a:pt x="2464" y="190"/>
                      </a:lnTo>
                      <a:lnTo>
                        <a:pt x="2480" y="197"/>
                      </a:lnTo>
                      <a:lnTo>
                        <a:pt x="2491" y="204"/>
                      </a:lnTo>
                      <a:lnTo>
                        <a:pt x="2495" y="212"/>
                      </a:lnTo>
                      <a:lnTo>
                        <a:pt x="2491" y="220"/>
                      </a:lnTo>
                      <a:lnTo>
                        <a:pt x="2475" y="217"/>
                      </a:lnTo>
                      <a:lnTo>
                        <a:pt x="2462" y="214"/>
                      </a:lnTo>
                      <a:lnTo>
                        <a:pt x="2453" y="208"/>
                      </a:lnTo>
                      <a:lnTo>
                        <a:pt x="2436" y="201"/>
                      </a:lnTo>
                      <a:lnTo>
                        <a:pt x="2416" y="199"/>
                      </a:lnTo>
                      <a:lnTo>
                        <a:pt x="2398" y="197"/>
                      </a:lnTo>
                      <a:lnTo>
                        <a:pt x="2373" y="199"/>
                      </a:lnTo>
                      <a:lnTo>
                        <a:pt x="2357" y="198"/>
                      </a:lnTo>
                      <a:lnTo>
                        <a:pt x="2342" y="197"/>
                      </a:lnTo>
                      <a:lnTo>
                        <a:pt x="2325" y="193"/>
                      </a:lnTo>
                      <a:lnTo>
                        <a:pt x="2307" y="187"/>
                      </a:lnTo>
                      <a:lnTo>
                        <a:pt x="2292" y="181"/>
                      </a:lnTo>
                      <a:lnTo>
                        <a:pt x="2277" y="176"/>
                      </a:lnTo>
                      <a:lnTo>
                        <a:pt x="2264" y="176"/>
                      </a:lnTo>
                      <a:lnTo>
                        <a:pt x="2250" y="181"/>
                      </a:lnTo>
                      <a:lnTo>
                        <a:pt x="2233" y="185"/>
                      </a:lnTo>
                      <a:lnTo>
                        <a:pt x="2217" y="185"/>
                      </a:lnTo>
                      <a:lnTo>
                        <a:pt x="2195" y="185"/>
                      </a:lnTo>
                      <a:lnTo>
                        <a:pt x="2177" y="182"/>
                      </a:lnTo>
                      <a:lnTo>
                        <a:pt x="2159" y="179"/>
                      </a:lnTo>
                      <a:lnTo>
                        <a:pt x="2143" y="178"/>
                      </a:lnTo>
                      <a:lnTo>
                        <a:pt x="2129" y="179"/>
                      </a:lnTo>
                      <a:lnTo>
                        <a:pt x="2109" y="181"/>
                      </a:lnTo>
                      <a:lnTo>
                        <a:pt x="2092" y="183"/>
                      </a:lnTo>
                      <a:lnTo>
                        <a:pt x="2072" y="181"/>
                      </a:lnTo>
                      <a:lnTo>
                        <a:pt x="2048" y="179"/>
                      </a:lnTo>
                      <a:lnTo>
                        <a:pt x="2022" y="178"/>
                      </a:lnTo>
                      <a:lnTo>
                        <a:pt x="1996" y="176"/>
                      </a:lnTo>
                      <a:lnTo>
                        <a:pt x="1978" y="173"/>
                      </a:lnTo>
                      <a:lnTo>
                        <a:pt x="1961" y="168"/>
                      </a:lnTo>
                      <a:lnTo>
                        <a:pt x="1945" y="162"/>
                      </a:lnTo>
                      <a:lnTo>
                        <a:pt x="1932" y="160"/>
                      </a:lnTo>
                      <a:lnTo>
                        <a:pt x="1921" y="160"/>
                      </a:lnTo>
                      <a:lnTo>
                        <a:pt x="1907" y="161"/>
                      </a:lnTo>
                      <a:lnTo>
                        <a:pt x="1873" y="165"/>
                      </a:lnTo>
                      <a:lnTo>
                        <a:pt x="1911" y="168"/>
                      </a:lnTo>
                      <a:lnTo>
                        <a:pt x="1902" y="176"/>
                      </a:lnTo>
                      <a:lnTo>
                        <a:pt x="1888" y="186"/>
                      </a:lnTo>
                      <a:lnTo>
                        <a:pt x="1874" y="187"/>
                      </a:lnTo>
                      <a:lnTo>
                        <a:pt x="1692" y="166"/>
                      </a:lnTo>
                      <a:lnTo>
                        <a:pt x="1681" y="162"/>
                      </a:lnTo>
                      <a:lnTo>
                        <a:pt x="1714" y="153"/>
                      </a:lnTo>
                      <a:lnTo>
                        <a:pt x="1690" y="150"/>
                      </a:lnTo>
                      <a:lnTo>
                        <a:pt x="1675" y="149"/>
                      </a:lnTo>
                      <a:lnTo>
                        <a:pt x="1664" y="142"/>
                      </a:lnTo>
                      <a:lnTo>
                        <a:pt x="1649" y="138"/>
                      </a:lnTo>
                      <a:lnTo>
                        <a:pt x="1632" y="141"/>
                      </a:lnTo>
                      <a:lnTo>
                        <a:pt x="1614" y="143"/>
                      </a:lnTo>
                      <a:lnTo>
                        <a:pt x="1597" y="149"/>
                      </a:lnTo>
                      <a:lnTo>
                        <a:pt x="1582" y="142"/>
                      </a:lnTo>
                      <a:lnTo>
                        <a:pt x="1566" y="131"/>
                      </a:lnTo>
                      <a:lnTo>
                        <a:pt x="1549" y="124"/>
                      </a:lnTo>
                      <a:lnTo>
                        <a:pt x="1533" y="119"/>
                      </a:lnTo>
                      <a:lnTo>
                        <a:pt x="1515" y="115"/>
                      </a:lnTo>
                      <a:lnTo>
                        <a:pt x="1497" y="113"/>
                      </a:lnTo>
                      <a:lnTo>
                        <a:pt x="1468" y="115"/>
                      </a:lnTo>
                      <a:lnTo>
                        <a:pt x="1445" y="117"/>
                      </a:lnTo>
                      <a:lnTo>
                        <a:pt x="1422" y="120"/>
                      </a:lnTo>
                      <a:lnTo>
                        <a:pt x="1394" y="123"/>
                      </a:lnTo>
                      <a:lnTo>
                        <a:pt x="1367" y="127"/>
                      </a:lnTo>
                      <a:lnTo>
                        <a:pt x="1345" y="129"/>
                      </a:lnTo>
                      <a:lnTo>
                        <a:pt x="1326" y="135"/>
                      </a:lnTo>
                      <a:lnTo>
                        <a:pt x="1305" y="139"/>
                      </a:lnTo>
                      <a:lnTo>
                        <a:pt x="1286" y="139"/>
                      </a:lnTo>
                      <a:lnTo>
                        <a:pt x="1267" y="143"/>
                      </a:lnTo>
                      <a:lnTo>
                        <a:pt x="1246" y="147"/>
                      </a:lnTo>
                      <a:lnTo>
                        <a:pt x="1224" y="151"/>
                      </a:lnTo>
                      <a:lnTo>
                        <a:pt x="1202" y="151"/>
                      </a:lnTo>
                      <a:lnTo>
                        <a:pt x="1180" y="151"/>
                      </a:lnTo>
                      <a:lnTo>
                        <a:pt x="1164" y="150"/>
                      </a:lnTo>
                      <a:lnTo>
                        <a:pt x="1149" y="153"/>
                      </a:lnTo>
                      <a:lnTo>
                        <a:pt x="1128" y="158"/>
                      </a:lnTo>
                      <a:lnTo>
                        <a:pt x="1106" y="158"/>
                      </a:lnTo>
                      <a:lnTo>
                        <a:pt x="1080" y="158"/>
                      </a:lnTo>
                      <a:lnTo>
                        <a:pt x="1058" y="158"/>
                      </a:lnTo>
                      <a:lnTo>
                        <a:pt x="1031" y="158"/>
                      </a:lnTo>
                      <a:lnTo>
                        <a:pt x="980" y="165"/>
                      </a:lnTo>
                      <a:lnTo>
                        <a:pt x="969" y="161"/>
                      </a:lnTo>
                      <a:lnTo>
                        <a:pt x="958" y="154"/>
                      </a:lnTo>
                      <a:lnTo>
                        <a:pt x="943" y="151"/>
                      </a:lnTo>
                      <a:lnTo>
                        <a:pt x="930" y="150"/>
                      </a:lnTo>
                      <a:lnTo>
                        <a:pt x="910" y="151"/>
                      </a:lnTo>
                      <a:lnTo>
                        <a:pt x="888" y="154"/>
                      </a:lnTo>
                      <a:lnTo>
                        <a:pt x="853" y="157"/>
                      </a:lnTo>
                      <a:lnTo>
                        <a:pt x="838" y="153"/>
                      </a:lnTo>
                      <a:lnTo>
                        <a:pt x="827" y="147"/>
                      </a:lnTo>
                      <a:lnTo>
                        <a:pt x="814" y="145"/>
                      </a:lnTo>
                      <a:lnTo>
                        <a:pt x="798" y="143"/>
                      </a:lnTo>
                      <a:lnTo>
                        <a:pt x="784" y="139"/>
                      </a:lnTo>
                      <a:lnTo>
                        <a:pt x="779" y="131"/>
                      </a:lnTo>
                      <a:lnTo>
                        <a:pt x="768" y="120"/>
                      </a:lnTo>
                      <a:lnTo>
                        <a:pt x="755" y="116"/>
                      </a:lnTo>
                      <a:lnTo>
                        <a:pt x="739" y="113"/>
                      </a:lnTo>
                      <a:lnTo>
                        <a:pt x="724" y="113"/>
                      </a:lnTo>
                      <a:lnTo>
                        <a:pt x="717" y="119"/>
                      </a:lnTo>
                      <a:lnTo>
                        <a:pt x="707" y="131"/>
                      </a:lnTo>
                      <a:lnTo>
                        <a:pt x="696" y="129"/>
                      </a:lnTo>
                      <a:lnTo>
                        <a:pt x="684" y="128"/>
                      </a:lnTo>
                      <a:lnTo>
                        <a:pt x="669" y="129"/>
                      </a:lnTo>
                      <a:lnTo>
                        <a:pt x="655" y="134"/>
                      </a:lnTo>
                      <a:lnTo>
                        <a:pt x="638" y="138"/>
                      </a:lnTo>
                      <a:lnTo>
                        <a:pt x="616" y="138"/>
                      </a:lnTo>
                      <a:lnTo>
                        <a:pt x="632" y="127"/>
                      </a:lnTo>
                      <a:lnTo>
                        <a:pt x="639" y="119"/>
                      </a:lnTo>
                      <a:lnTo>
                        <a:pt x="624" y="121"/>
                      </a:lnTo>
                      <a:lnTo>
                        <a:pt x="595" y="127"/>
                      </a:lnTo>
                      <a:lnTo>
                        <a:pt x="570" y="125"/>
                      </a:lnTo>
                      <a:lnTo>
                        <a:pt x="569" y="119"/>
                      </a:lnTo>
                      <a:lnTo>
                        <a:pt x="565" y="112"/>
                      </a:lnTo>
                      <a:lnTo>
                        <a:pt x="559" y="107"/>
                      </a:lnTo>
                      <a:lnTo>
                        <a:pt x="546" y="104"/>
                      </a:lnTo>
                      <a:lnTo>
                        <a:pt x="531" y="104"/>
                      </a:lnTo>
                      <a:lnTo>
                        <a:pt x="511" y="105"/>
                      </a:lnTo>
                      <a:lnTo>
                        <a:pt x="494" y="107"/>
                      </a:lnTo>
                      <a:lnTo>
                        <a:pt x="476" y="104"/>
                      </a:lnTo>
                      <a:lnTo>
                        <a:pt x="455" y="97"/>
                      </a:lnTo>
                      <a:lnTo>
                        <a:pt x="441" y="89"/>
                      </a:lnTo>
                      <a:lnTo>
                        <a:pt x="457" y="74"/>
                      </a:lnTo>
                      <a:lnTo>
                        <a:pt x="472" y="68"/>
                      </a:lnTo>
                      <a:lnTo>
                        <a:pt x="488" y="61"/>
                      </a:lnTo>
                      <a:lnTo>
                        <a:pt x="499" y="58"/>
                      </a:lnTo>
                      <a:lnTo>
                        <a:pt x="509" y="50"/>
                      </a:lnTo>
                      <a:lnTo>
                        <a:pt x="514" y="42"/>
                      </a:lnTo>
                      <a:lnTo>
                        <a:pt x="517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367880" y="3613680"/>
                  <a:ext cx="1265400" cy="86400"/>
                </a:xfrm>
                <a:custGeom>
                  <a:avLst/>
                  <a:gdLst/>
                  <a:ahLst/>
                  <a:rect l="l" t="t" r="r" b="b"/>
                  <a:pathLst>
                    <a:path w="965" h="69">
                      <a:moveTo>
                        <a:pt x="0" y="34"/>
                      </a:moveTo>
                      <a:lnTo>
                        <a:pt x="67" y="26"/>
                      </a:lnTo>
                      <a:lnTo>
                        <a:pt x="83" y="18"/>
                      </a:lnTo>
                      <a:lnTo>
                        <a:pt x="111" y="15"/>
                      </a:lnTo>
                      <a:lnTo>
                        <a:pt x="131" y="13"/>
                      </a:lnTo>
                      <a:lnTo>
                        <a:pt x="156" y="11"/>
                      </a:lnTo>
                      <a:lnTo>
                        <a:pt x="182" y="11"/>
                      </a:lnTo>
                      <a:lnTo>
                        <a:pt x="215" y="11"/>
                      </a:lnTo>
                      <a:lnTo>
                        <a:pt x="242" y="7"/>
                      </a:lnTo>
                      <a:lnTo>
                        <a:pt x="265" y="6"/>
                      </a:lnTo>
                      <a:lnTo>
                        <a:pt x="305" y="7"/>
                      </a:lnTo>
                      <a:lnTo>
                        <a:pt x="330" y="3"/>
                      </a:lnTo>
                      <a:lnTo>
                        <a:pt x="355" y="0"/>
                      </a:lnTo>
                      <a:lnTo>
                        <a:pt x="378" y="0"/>
                      </a:lnTo>
                      <a:lnTo>
                        <a:pt x="403" y="4"/>
                      </a:lnTo>
                      <a:lnTo>
                        <a:pt x="426" y="11"/>
                      </a:lnTo>
                      <a:lnTo>
                        <a:pt x="457" y="15"/>
                      </a:lnTo>
                      <a:lnTo>
                        <a:pt x="503" y="18"/>
                      </a:lnTo>
                      <a:lnTo>
                        <a:pt x="526" y="14"/>
                      </a:lnTo>
                      <a:lnTo>
                        <a:pt x="555" y="15"/>
                      </a:lnTo>
                      <a:lnTo>
                        <a:pt x="576" y="18"/>
                      </a:lnTo>
                      <a:lnTo>
                        <a:pt x="607" y="26"/>
                      </a:lnTo>
                      <a:lnTo>
                        <a:pt x="632" y="37"/>
                      </a:lnTo>
                      <a:lnTo>
                        <a:pt x="672" y="43"/>
                      </a:lnTo>
                      <a:lnTo>
                        <a:pt x="730" y="41"/>
                      </a:lnTo>
                      <a:lnTo>
                        <a:pt x="760" y="48"/>
                      </a:lnTo>
                      <a:lnTo>
                        <a:pt x="785" y="51"/>
                      </a:lnTo>
                      <a:lnTo>
                        <a:pt x="820" y="53"/>
                      </a:lnTo>
                      <a:lnTo>
                        <a:pt x="964" y="64"/>
                      </a:lnTo>
                      <a:lnTo>
                        <a:pt x="808" y="60"/>
                      </a:lnTo>
                      <a:lnTo>
                        <a:pt x="778" y="64"/>
                      </a:lnTo>
                      <a:lnTo>
                        <a:pt x="753" y="68"/>
                      </a:lnTo>
                      <a:lnTo>
                        <a:pt x="734" y="67"/>
                      </a:lnTo>
                      <a:lnTo>
                        <a:pt x="712" y="64"/>
                      </a:lnTo>
                      <a:lnTo>
                        <a:pt x="682" y="58"/>
                      </a:lnTo>
                      <a:lnTo>
                        <a:pt x="641" y="57"/>
                      </a:lnTo>
                      <a:lnTo>
                        <a:pt x="601" y="50"/>
                      </a:lnTo>
                      <a:lnTo>
                        <a:pt x="576" y="51"/>
                      </a:lnTo>
                      <a:lnTo>
                        <a:pt x="547" y="53"/>
                      </a:lnTo>
                      <a:lnTo>
                        <a:pt x="482" y="48"/>
                      </a:lnTo>
                      <a:lnTo>
                        <a:pt x="451" y="45"/>
                      </a:lnTo>
                      <a:lnTo>
                        <a:pt x="409" y="37"/>
                      </a:lnTo>
                      <a:lnTo>
                        <a:pt x="367" y="37"/>
                      </a:lnTo>
                      <a:lnTo>
                        <a:pt x="317" y="37"/>
                      </a:lnTo>
                      <a:lnTo>
                        <a:pt x="282" y="38"/>
                      </a:lnTo>
                      <a:lnTo>
                        <a:pt x="248" y="36"/>
                      </a:lnTo>
                      <a:lnTo>
                        <a:pt x="215" y="30"/>
                      </a:lnTo>
                      <a:lnTo>
                        <a:pt x="182" y="34"/>
                      </a:lnTo>
                      <a:lnTo>
                        <a:pt x="152" y="27"/>
                      </a:lnTo>
                      <a:lnTo>
                        <a:pt x="127" y="30"/>
                      </a:lnTo>
                      <a:lnTo>
                        <a:pt x="92" y="31"/>
                      </a:lnTo>
                      <a:lnTo>
                        <a:pt x="54" y="32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59240" y="3589920"/>
                  <a:ext cx="5316480" cy="295560"/>
                </a:xfrm>
                <a:custGeom>
                  <a:avLst/>
                  <a:gdLst/>
                  <a:ahLst/>
                  <a:rect l="l" t="t" r="r" b="b"/>
                  <a:pathLst>
                    <a:path w="4055" h="236">
                      <a:moveTo>
                        <a:pt x="758" y="0"/>
                      </a:moveTo>
                      <a:lnTo>
                        <a:pt x="727" y="5"/>
                      </a:lnTo>
                      <a:lnTo>
                        <a:pt x="701" y="9"/>
                      </a:lnTo>
                      <a:lnTo>
                        <a:pt x="680" y="15"/>
                      </a:lnTo>
                      <a:lnTo>
                        <a:pt x="668" y="21"/>
                      </a:lnTo>
                      <a:lnTo>
                        <a:pt x="659" y="31"/>
                      </a:lnTo>
                      <a:lnTo>
                        <a:pt x="625" y="32"/>
                      </a:lnTo>
                      <a:lnTo>
                        <a:pt x="604" y="35"/>
                      </a:lnTo>
                      <a:lnTo>
                        <a:pt x="587" y="39"/>
                      </a:lnTo>
                      <a:lnTo>
                        <a:pt x="562" y="45"/>
                      </a:lnTo>
                      <a:lnTo>
                        <a:pt x="534" y="45"/>
                      </a:lnTo>
                      <a:lnTo>
                        <a:pt x="501" y="55"/>
                      </a:lnTo>
                      <a:lnTo>
                        <a:pt x="461" y="46"/>
                      </a:lnTo>
                      <a:lnTo>
                        <a:pt x="484" y="66"/>
                      </a:lnTo>
                      <a:lnTo>
                        <a:pt x="446" y="66"/>
                      </a:lnTo>
                      <a:lnTo>
                        <a:pt x="397" y="67"/>
                      </a:lnTo>
                      <a:lnTo>
                        <a:pt x="361" y="61"/>
                      </a:lnTo>
                      <a:lnTo>
                        <a:pt x="319" y="74"/>
                      </a:lnTo>
                      <a:lnTo>
                        <a:pt x="281" y="66"/>
                      </a:lnTo>
                      <a:lnTo>
                        <a:pt x="270" y="67"/>
                      </a:lnTo>
                      <a:lnTo>
                        <a:pt x="260" y="72"/>
                      </a:lnTo>
                      <a:lnTo>
                        <a:pt x="247" y="78"/>
                      </a:lnTo>
                      <a:lnTo>
                        <a:pt x="239" y="85"/>
                      </a:lnTo>
                      <a:lnTo>
                        <a:pt x="224" y="91"/>
                      </a:lnTo>
                      <a:lnTo>
                        <a:pt x="213" y="95"/>
                      </a:lnTo>
                      <a:lnTo>
                        <a:pt x="188" y="95"/>
                      </a:lnTo>
                      <a:lnTo>
                        <a:pt x="161" y="95"/>
                      </a:lnTo>
                      <a:lnTo>
                        <a:pt x="148" y="101"/>
                      </a:lnTo>
                      <a:lnTo>
                        <a:pt x="129" y="107"/>
                      </a:lnTo>
                      <a:lnTo>
                        <a:pt x="112" y="107"/>
                      </a:lnTo>
                      <a:lnTo>
                        <a:pt x="87" y="108"/>
                      </a:lnTo>
                      <a:lnTo>
                        <a:pt x="55" y="108"/>
                      </a:lnTo>
                      <a:lnTo>
                        <a:pt x="25" y="115"/>
                      </a:lnTo>
                      <a:lnTo>
                        <a:pt x="0" y="131"/>
                      </a:lnTo>
                      <a:lnTo>
                        <a:pt x="21" y="130"/>
                      </a:lnTo>
                      <a:lnTo>
                        <a:pt x="55" y="125"/>
                      </a:lnTo>
                      <a:lnTo>
                        <a:pt x="89" y="124"/>
                      </a:lnTo>
                      <a:lnTo>
                        <a:pt x="114" y="125"/>
                      </a:lnTo>
                      <a:lnTo>
                        <a:pt x="137" y="131"/>
                      </a:lnTo>
                      <a:lnTo>
                        <a:pt x="163" y="134"/>
                      </a:lnTo>
                      <a:lnTo>
                        <a:pt x="188" y="130"/>
                      </a:lnTo>
                      <a:lnTo>
                        <a:pt x="215" y="125"/>
                      </a:lnTo>
                      <a:lnTo>
                        <a:pt x="241" y="121"/>
                      </a:lnTo>
                      <a:lnTo>
                        <a:pt x="264" y="121"/>
                      </a:lnTo>
                      <a:lnTo>
                        <a:pt x="281" y="130"/>
                      </a:lnTo>
                      <a:lnTo>
                        <a:pt x="296" y="138"/>
                      </a:lnTo>
                      <a:lnTo>
                        <a:pt x="323" y="138"/>
                      </a:lnTo>
                      <a:lnTo>
                        <a:pt x="349" y="135"/>
                      </a:lnTo>
                      <a:lnTo>
                        <a:pt x="378" y="130"/>
                      </a:lnTo>
                      <a:lnTo>
                        <a:pt x="403" y="127"/>
                      </a:lnTo>
                      <a:lnTo>
                        <a:pt x="429" y="134"/>
                      </a:lnTo>
                      <a:lnTo>
                        <a:pt x="454" y="142"/>
                      </a:lnTo>
                      <a:lnTo>
                        <a:pt x="480" y="146"/>
                      </a:lnTo>
                      <a:lnTo>
                        <a:pt x="505" y="149"/>
                      </a:lnTo>
                      <a:lnTo>
                        <a:pt x="539" y="151"/>
                      </a:lnTo>
                      <a:lnTo>
                        <a:pt x="573" y="153"/>
                      </a:lnTo>
                      <a:lnTo>
                        <a:pt x="604" y="151"/>
                      </a:lnTo>
                      <a:lnTo>
                        <a:pt x="642" y="147"/>
                      </a:lnTo>
                      <a:lnTo>
                        <a:pt x="625" y="132"/>
                      </a:lnTo>
                      <a:lnTo>
                        <a:pt x="630" y="124"/>
                      </a:lnTo>
                      <a:lnTo>
                        <a:pt x="646" y="119"/>
                      </a:lnTo>
                      <a:lnTo>
                        <a:pt x="651" y="129"/>
                      </a:lnTo>
                      <a:lnTo>
                        <a:pt x="672" y="138"/>
                      </a:lnTo>
                      <a:lnTo>
                        <a:pt x="693" y="142"/>
                      </a:lnTo>
                      <a:lnTo>
                        <a:pt x="716" y="146"/>
                      </a:lnTo>
                      <a:lnTo>
                        <a:pt x="744" y="151"/>
                      </a:lnTo>
                      <a:lnTo>
                        <a:pt x="771" y="153"/>
                      </a:lnTo>
                      <a:lnTo>
                        <a:pt x="811" y="156"/>
                      </a:lnTo>
                      <a:lnTo>
                        <a:pt x="837" y="154"/>
                      </a:lnTo>
                      <a:lnTo>
                        <a:pt x="868" y="156"/>
                      </a:lnTo>
                      <a:lnTo>
                        <a:pt x="919" y="162"/>
                      </a:lnTo>
                      <a:lnTo>
                        <a:pt x="902" y="169"/>
                      </a:lnTo>
                      <a:lnTo>
                        <a:pt x="879" y="176"/>
                      </a:lnTo>
                      <a:lnTo>
                        <a:pt x="834" y="190"/>
                      </a:lnTo>
                      <a:lnTo>
                        <a:pt x="862" y="191"/>
                      </a:lnTo>
                      <a:lnTo>
                        <a:pt x="887" y="193"/>
                      </a:lnTo>
                      <a:lnTo>
                        <a:pt x="923" y="197"/>
                      </a:lnTo>
                      <a:lnTo>
                        <a:pt x="961" y="199"/>
                      </a:lnTo>
                      <a:lnTo>
                        <a:pt x="982" y="198"/>
                      </a:lnTo>
                      <a:lnTo>
                        <a:pt x="999" y="191"/>
                      </a:lnTo>
                      <a:lnTo>
                        <a:pt x="1022" y="187"/>
                      </a:lnTo>
                      <a:lnTo>
                        <a:pt x="1054" y="186"/>
                      </a:lnTo>
                      <a:lnTo>
                        <a:pt x="1096" y="185"/>
                      </a:lnTo>
                      <a:lnTo>
                        <a:pt x="1126" y="176"/>
                      </a:lnTo>
                      <a:lnTo>
                        <a:pt x="1166" y="170"/>
                      </a:lnTo>
                      <a:lnTo>
                        <a:pt x="1200" y="165"/>
                      </a:lnTo>
                      <a:lnTo>
                        <a:pt x="1223" y="166"/>
                      </a:lnTo>
                      <a:lnTo>
                        <a:pt x="1306" y="168"/>
                      </a:lnTo>
                      <a:lnTo>
                        <a:pt x="1369" y="172"/>
                      </a:lnTo>
                      <a:lnTo>
                        <a:pt x="1411" y="172"/>
                      </a:lnTo>
                      <a:lnTo>
                        <a:pt x="1445" y="174"/>
                      </a:lnTo>
                      <a:lnTo>
                        <a:pt x="1502" y="189"/>
                      </a:lnTo>
                      <a:lnTo>
                        <a:pt x="1529" y="189"/>
                      </a:lnTo>
                      <a:lnTo>
                        <a:pt x="1561" y="185"/>
                      </a:lnTo>
                      <a:lnTo>
                        <a:pt x="1595" y="179"/>
                      </a:lnTo>
                      <a:lnTo>
                        <a:pt x="1622" y="176"/>
                      </a:lnTo>
                      <a:lnTo>
                        <a:pt x="1720" y="172"/>
                      </a:lnTo>
                      <a:lnTo>
                        <a:pt x="1785" y="170"/>
                      </a:lnTo>
                      <a:lnTo>
                        <a:pt x="1827" y="168"/>
                      </a:lnTo>
                      <a:lnTo>
                        <a:pt x="1861" y="166"/>
                      </a:lnTo>
                      <a:lnTo>
                        <a:pt x="1895" y="164"/>
                      </a:lnTo>
                      <a:lnTo>
                        <a:pt x="1935" y="160"/>
                      </a:lnTo>
                      <a:lnTo>
                        <a:pt x="1963" y="156"/>
                      </a:lnTo>
                      <a:lnTo>
                        <a:pt x="2003" y="150"/>
                      </a:lnTo>
                      <a:lnTo>
                        <a:pt x="2026" y="157"/>
                      </a:lnTo>
                      <a:lnTo>
                        <a:pt x="2039" y="166"/>
                      </a:lnTo>
                      <a:lnTo>
                        <a:pt x="2024" y="176"/>
                      </a:lnTo>
                      <a:lnTo>
                        <a:pt x="1994" y="181"/>
                      </a:lnTo>
                      <a:lnTo>
                        <a:pt x="2030" y="181"/>
                      </a:lnTo>
                      <a:lnTo>
                        <a:pt x="2011" y="189"/>
                      </a:lnTo>
                      <a:lnTo>
                        <a:pt x="1984" y="197"/>
                      </a:lnTo>
                      <a:lnTo>
                        <a:pt x="1946" y="206"/>
                      </a:lnTo>
                      <a:lnTo>
                        <a:pt x="1910" y="213"/>
                      </a:lnTo>
                      <a:lnTo>
                        <a:pt x="1954" y="210"/>
                      </a:lnTo>
                      <a:lnTo>
                        <a:pt x="1992" y="206"/>
                      </a:lnTo>
                      <a:lnTo>
                        <a:pt x="2030" y="200"/>
                      </a:lnTo>
                      <a:lnTo>
                        <a:pt x="2056" y="195"/>
                      </a:lnTo>
                      <a:lnTo>
                        <a:pt x="2068" y="193"/>
                      </a:lnTo>
                      <a:lnTo>
                        <a:pt x="2089" y="191"/>
                      </a:lnTo>
                      <a:lnTo>
                        <a:pt x="2115" y="191"/>
                      </a:lnTo>
                      <a:lnTo>
                        <a:pt x="2146" y="193"/>
                      </a:lnTo>
                      <a:lnTo>
                        <a:pt x="2174" y="197"/>
                      </a:lnTo>
                      <a:lnTo>
                        <a:pt x="2199" y="198"/>
                      </a:lnTo>
                      <a:lnTo>
                        <a:pt x="2233" y="197"/>
                      </a:lnTo>
                      <a:lnTo>
                        <a:pt x="2208" y="210"/>
                      </a:lnTo>
                      <a:lnTo>
                        <a:pt x="2180" y="220"/>
                      </a:lnTo>
                      <a:lnTo>
                        <a:pt x="2148" y="226"/>
                      </a:lnTo>
                      <a:lnTo>
                        <a:pt x="2184" y="223"/>
                      </a:lnTo>
                      <a:lnTo>
                        <a:pt x="2218" y="221"/>
                      </a:lnTo>
                      <a:lnTo>
                        <a:pt x="2254" y="219"/>
                      </a:lnTo>
                      <a:lnTo>
                        <a:pt x="2284" y="214"/>
                      </a:lnTo>
                      <a:lnTo>
                        <a:pt x="2322" y="212"/>
                      </a:lnTo>
                      <a:lnTo>
                        <a:pt x="2366" y="209"/>
                      </a:lnTo>
                      <a:lnTo>
                        <a:pt x="2406" y="209"/>
                      </a:lnTo>
                      <a:lnTo>
                        <a:pt x="2438" y="204"/>
                      </a:lnTo>
                      <a:lnTo>
                        <a:pt x="2446" y="200"/>
                      </a:lnTo>
                      <a:lnTo>
                        <a:pt x="2457" y="197"/>
                      </a:lnTo>
                      <a:lnTo>
                        <a:pt x="2480" y="197"/>
                      </a:lnTo>
                      <a:lnTo>
                        <a:pt x="2520" y="201"/>
                      </a:lnTo>
                      <a:lnTo>
                        <a:pt x="2569" y="204"/>
                      </a:lnTo>
                      <a:lnTo>
                        <a:pt x="2615" y="209"/>
                      </a:lnTo>
                      <a:lnTo>
                        <a:pt x="2641" y="212"/>
                      </a:lnTo>
                      <a:lnTo>
                        <a:pt x="2685" y="212"/>
                      </a:lnTo>
                      <a:lnTo>
                        <a:pt x="2736" y="213"/>
                      </a:lnTo>
                      <a:lnTo>
                        <a:pt x="2774" y="217"/>
                      </a:lnTo>
                      <a:lnTo>
                        <a:pt x="2820" y="223"/>
                      </a:lnTo>
                      <a:lnTo>
                        <a:pt x="2860" y="227"/>
                      </a:lnTo>
                      <a:lnTo>
                        <a:pt x="2894" y="230"/>
                      </a:lnTo>
                      <a:lnTo>
                        <a:pt x="2928" y="227"/>
                      </a:lnTo>
                      <a:lnTo>
                        <a:pt x="2981" y="220"/>
                      </a:lnTo>
                      <a:lnTo>
                        <a:pt x="3025" y="223"/>
                      </a:lnTo>
                      <a:lnTo>
                        <a:pt x="3065" y="223"/>
                      </a:lnTo>
                      <a:lnTo>
                        <a:pt x="3108" y="223"/>
                      </a:lnTo>
                      <a:lnTo>
                        <a:pt x="3150" y="223"/>
                      </a:lnTo>
                      <a:lnTo>
                        <a:pt x="3207" y="216"/>
                      </a:lnTo>
                      <a:lnTo>
                        <a:pt x="3234" y="216"/>
                      </a:lnTo>
                      <a:lnTo>
                        <a:pt x="3266" y="214"/>
                      </a:lnTo>
                      <a:lnTo>
                        <a:pt x="3325" y="219"/>
                      </a:lnTo>
                      <a:lnTo>
                        <a:pt x="3355" y="221"/>
                      </a:lnTo>
                      <a:lnTo>
                        <a:pt x="3380" y="220"/>
                      </a:lnTo>
                      <a:lnTo>
                        <a:pt x="3414" y="217"/>
                      </a:lnTo>
                      <a:lnTo>
                        <a:pt x="3448" y="216"/>
                      </a:lnTo>
                      <a:lnTo>
                        <a:pt x="3473" y="216"/>
                      </a:lnTo>
                      <a:lnTo>
                        <a:pt x="3484" y="219"/>
                      </a:lnTo>
                      <a:lnTo>
                        <a:pt x="3484" y="227"/>
                      </a:lnTo>
                      <a:lnTo>
                        <a:pt x="3496" y="230"/>
                      </a:lnTo>
                      <a:lnTo>
                        <a:pt x="3517" y="230"/>
                      </a:lnTo>
                      <a:lnTo>
                        <a:pt x="3539" y="227"/>
                      </a:lnTo>
                      <a:lnTo>
                        <a:pt x="3558" y="220"/>
                      </a:lnTo>
                      <a:lnTo>
                        <a:pt x="3570" y="212"/>
                      </a:lnTo>
                      <a:lnTo>
                        <a:pt x="3583" y="208"/>
                      </a:lnTo>
                      <a:lnTo>
                        <a:pt x="3617" y="208"/>
                      </a:lnTo>
                      <a:lnTo>
                        <a:pt x="3642" y="208"/>
                      </a:lnTo>
                      <a:lnTo>
                        <a:pt x="3674" y="216"/>
                      </a:lnTo>
                      <a:lnTo>
                        <a:pt x="3699" y="221"/>
                      </a:lnTo>
                      <a:lnTo>
                        <a:pt x="3729" y="227"/>
                      </a:lnTo>
                      <a:lnTo>
                        <a:pt x="3748" y="228"/>
                      </a:lnTo>
                      <a:lnTo>
                        <a:pt x="3767" y="230"/>
                      </a:lnTo>
                      <a:lnTo>
                        <a:pt x="3788" y="230"/>
                      </a:lnTo>
                      <a:lnTo>
                        <a:pt x="3822" y="227"/>
                      </a:lnTo>
                      <a:lnTo>
                        <a:pt x="3936" y="235"/>
                      </a:lnTo>
                      <a:lnTo>
                        <a:pt x="3902" y="227"/>
                      </a:lnTo>
                      <a:lnTo>
                        <a:pt x="3881" y="223"/>
                      </a:lnTo>
                      <a:lnTo>
                        <a:pt x="3872" y="216"/>
                      </a:lnTo>
                      <a:lnTo>
                        <a:pt x="3881" y="210"/>
                      </a:lnTo>
                      <a:lnTo>
                        <a:pt x="3921" y="205"/>
                      </a:lnTo>
                      <a:lnTo>
                        <a:pt x="3948" y="201"/>
                      </a:lnTo>
                      <a:lnTo>
                        <a:pt x="3982" y="197"/>
                      </a:lnTo>
                      <a:lnTo>
                        <a:pt x="4010" y="189"/>
                      </a:lnTo>
                      <a:lnTo>
                        <a:pt x="4054" y="179"/>
                      </a:lnTo>
                      <a:lnTo>
                        <a:pt x="3989" y="179"/>
                      </a:lnTo>
                      <a:lnTo>
                        <a:pt x="3946" y="178"/>
                      </a:lnTo>
                      <a:lnTo>
                        <a:pt x="3906" y="176"/>
                      </a:lnTo>
                      <a:lnTo>
                        <a:pt x="3872" y="174"/>
                      </a:lnTo>
                      <a:lnTo>
                        <a:pt x="3849" y="174"/>
                      </a:lnTo>
                      <a:lnTo>
                        <a:pt x="3830" y="176"/>
                      </a:lnTo>
                      <a:lnTo>
                        <a:pt x="3811" y="176"/>
                      </a:lnTo>
                      <a:lnTo>
                        <a:pt x="3786" y="181"/>
                      </a:lnTo>
                      <a:lnTo>
                        <a:pt x="3762" y="185"/>
                      </a:lnTo>
                      <a:lnTo>
                        <a:pt x="3796" y="190"/>
                      </a:lnTo>
                      <a:lnTo>
                        <a:pt x="3822" y="197"/>
                      </a:lnTo>
                      <a:lnTo>
                        <a:pt x="3839" y="204"/>
                      </a:lnTo>
                      <a:lnTo>
                        <a:pt x="3845" y="212"/>
                      </a:lnTo>
                      <a:lnTo>
                        <a:pt x="3839" y="220"/>
                      </a:lnTo>
                      <a:lnTo>
                        <a:pt x="3813" y="217"/>
                      </a:lnTo>
                      <a:lnTo>
                        <a:pt x="3794" y="214"/>
                      </a:lnTo>
                      <a:lnTo>
                        <a:pt x="3779" y="208"/>
                      </a:lnTo>
                      <a:lnTo>
                        <a:pt x="3754" y="201"/>
                      </a:lnTo>
                      <a:lnTo>
                        <a:pt x="3722" y="199"/>
                      </a:lnTo>
                      <a:lnTo>
                        <a:pt x="3695" y="197"/>
                      </a:lnTo>
                      <a:lnTo>
                        <a:pt x="3657" y="199"/>
                      </a:lnTo>
                      <a:lnTo>
                        <a:pt x="3631" y="198"/>
                      </a:lnTo>
                      <a:lnTo>
                        <a:pt x="3608" y="197"/>
                      </a:lnTo>
                      <a:lnTo>
                        <a:pt x="3583" y="193"/>
                      </a:lnTo>
                      <a:lnTo>
                        <a:pt x="3555" y="187"/>
                      </a:lnTo>
                      <a:lnTo>
                        <a:pt x="3532" y="181"/>
                      </a:lnTo>
                      <a:lnTo>
                        <a:pt x="3509" y="176"/>
                      </a:lnTo>
                      <a:lnTo>
                        <a:pt x="3488" y="176"/>
                      </a:lnTo>
                      <a:lnTo>
                        <a:pt x="3467" y="181"/>
                      </a:lnTo>
                      <a:lnTo>
                        <a:pt x="3441" y="185"/>
                      </a:lnTo>
                      <a:lnTo>
                        <a:pt x="3416" y="185"/>
                      </a:lnTo>
                      <a:lnTo>
                        <a:pt x="3382" y="185"/>
                      </a:lnTo>
                      <a:lnTo>
                        <a:pt x="3355" y="182"/>
                      </a:lnTo>
                      <a:lnTo>
                        <a:pt x="3327" y="179"/>
                      </a:lnTo>
                      <a:lnTo>
                        <a:pt x="3302" y="178"/>
                      </a:lnTo>
                      <a:lnTo>
                        <a:pt x="3281" y="179"/>
                      </a:lnTo>
                      <a:lnTo>
                        <a:pt x="3249" y="181"/>
                      </a:lnTo>
                      <a:lnTo>
                        <a:pt x="3224" y="183"/>
                      </a:lnTo>
                      <a:lnTo>
                        <a:pt x="3192" y="181"/>
                      </a:lnTo>
                      <a:lnTo>
                        <a:pt x="3156" y="179"/>
                      </a:lnTo>
                      <a:lnTo>
                        <a:pt x="3116" y="178"/>
                      </a:lnTo>
                      <a:lnTo>
                        <a:pt x="3076" y="176"/>
                      </a:lnTo>
                      <a:lnTo>
                        <a:pt x="3048" y="173"/>
                      </a:lnTo>
                      <a:lnTo>
                        <a:pt x="3021" y="168"/>
                      </a:lnTo>
                      <a:lnTo>
                        <a:pt x="2998" y="162"/>
                      </a:lnTo>
                      <a:lnTo>
                        <a:pt x="2977" y="160"/>
                      </a:lnTo>
                      <a:lnTo>
                        <a:pt x="2960" y="160"/>
                      </a:lnTo>
                      <a:lnTo>
                        <a:pt x="2939" y="161"/>
                      </a:lnTo>
                      <a:lnTo>
                        <a:pt x="2886" y="165"/>
                      </a:lnTo>
                      <a:lnTo>
                        <a:pt x="2945" y="168"/>
                      </a:lnTo>
                      <a:lnTo>
                        <a:pt x="2930" y="176"/>
                      </a:lnTo>
                      <a:lnTo>
                        <a:pt x="2909" y="186"/>
                      </a:lnTo>
                      <a:lnTo>
                        <a:pt x="2888" y="187"/>
                      </a:lnTo>
                      <a:lnTo>
                        <a:pt x="2607" y="166"/>
                      </a:lnTo>
                      <a:lnTo>
                        <a:pt x="2590" y="162"/>
                      </a:lnTo>
                      <a:lnTo>
                        <a:pt x="2641" y="153"/>
                      </a:lnTo>
                      <a:lnTo>
                        <a:pt x="2605" y="150"/>
                      </a:lnTo>
                      <a:lnTo>
                        <a:pt x="2582" y="149"/>
                      </a:lnTo>
                      <a:lnTo>
                        <a:pt x="2565" y="142"/>
                      </a:lnTo>
                      <a:lnTo>
                        <a:pt x="2541" y="138"/>
                      </a:lnTo>
                      <a:lnTo>
                        <a:pt x="2514" y="141"/>
                      </a:lnTo>
                      <a:lnTo>
                        <a:pt x="2486" y="143"/>
                      </a:lnTo>
                      <a:lnTo>
                        <a:pt x="2461" y="149"/>
                      </a:lnTo>
                      <a:lnTo>
                        <a:pt x="2438" y="142"/>
                      </a:lnTo>
                      <a:lnTo>
                        <a:pt x="2413" y="131"/>
                      </a:lnTo>
                      <a:lnTo>
                        <a:pt x="2387" y="124"/>
                      </a:lnTo>
                      <a:lnTo>
                        <a:pt x="2362" y="119"/>
                      </a:lnTo>
                      <a:lnTo>
                        <a:pt x="2334" y="115"/>
                      </a:lnTo>
                      <a:lnTo>
                        <a:pt x="2307" y="113"/>
                      </a:lnTo>
                      <a:lnTo>
                        <a:pt x="2263" y="115"/>
                      </a:lnTo>
                      <a:lnTo>
                        <a:pt x="2227" y="117"/>
                      </a:lnTo>
                      <a:lnTo>
                        <a:pt x="2191" y="120"/>
                      </a:lnTo>
                      <a:lnTo>
                        <a:pt x="2148" y="123"/>
                      </a:lnTo>
                      <a:lnTo>
                        <a:pt x="2106" y="127"/>
                      </a:lnTo>
                      <a:lnTo>
                        <a:pt x="2072" y="129"/>
                      </a:lnTo>
                      <a:lnTo>
                        <a:pt x="2043" y="135"/>
                      </a:lnTo>
                      <a:lnTo>
                        <a:pt x="2011" y="139"/>
                      </a:lnTo>
                      <a:lnTo>
                        <a:pt x="1982" y="139"/>
                      </a:lnTo>
                      <a:lnTo>
                        <a:pt x="1952" y="143"/>
                      </a:lnTo>
                      <a:lnTo>
                        <a:pt x="1920" y="147"/>
                      </a:lnTo>
                      <a:lnTo>
                        <a:pt x="1887" y="151"/>
                      </a:lnTo>
                      <a:lnTo>
                        <a:pt x="1853" y="151"/>
                      </a:lnTo>
                      <a:lnTo>
                        <a:pt x="1819" y="151"/>
                      </a:lnTo>
                      <a:lnTo>
                        <a:pt x="1794" y="150"/>
                      </a:lnTo>
                      <a:lnTo>
                        <a:pt x="1770" y="153"/>
                      </a:lnTo>
                      <a:lnTo>
                        <a:pt x="1739" y="158"/>
                      </a:lnTo>
                      <a:lnTo>
                        <a:pt x="1705" y="158"/>
                      </a:lnTo>
                      <a:lnTo>
                        <a:pt x="1665" y="158"/>
                      </a:lnTo>
                      <a:lnTo>
                        <a:pt x="1631" y="158"/>
                      </a:lnTo>
                      <a:lnTo>
                        <a:pt x="1589" y="158"/>
                      </a:lnTo>
                      <a:lnTo>
                        <a:pt x="1510" y="165"/>
                      </a:lnTo>
                      <a:lnTo>
                        <a:pt x="1494" y="161"/>
                      </a:lnTo>
                      <a:lnTo>
                        <a:pt x="1477" y="154"/>
                      </a:lnTo>
                      <a:lnTo>
                        <a:pt x="1453" y="151"/>
                      </a:lnTo>
                      <a:lnTo>
                        <a:pt x="1432" y="150"/>
                      </a:lnTo>
                      <a:lnTo>
                        <a:pt x="1403" y="151"/>
                      </a:lnTo>
                      <a:lnTo>
                        <a:pt x="1369" y="154"/>
                      </a:lnTo>
                      <a:lnTo>
                        <a:pt x="1314" y="157"/>
                      </a:lnTo>
                      <a:lnTo>
                        <a:pt x="1291" y="153"/>
                      </a:lnTo>
                      <a:lnTo>
                        <a:pt x="1274" y="147"/>
                      </a:lnTo>
                      <a:lnTo>
                        <a:pt x="1255" y="145"/>
                      </a:lnTo>
                      <a:lnTo>
                        <a:pt x="1230" y="143"/>
                      </a:lnTo>
                      <a:lnTo>
                        <a:pt x="1208" y="139"/>
                      </a:lnTo>
                      <a:lnTo>
                        <a:pt x="1200" y="131"/>
                      </a:lnTo>
                      <a:lnTo>
                        <a:pt x="1183" y="120"/>
                      </a:lnTo>
                      <a:lnTo>
                        <a:pt x="1164" y="116"/>
                      </a:lnTo>
                      <a:lnTo>
                        <a:pt x="1139" y="113"/>
                      </a:lnTo>
                      <a:lnTo>
                        <a:pt x="1115" y="113"/>
                      </a:lnTo>
                      <a:lnTo>
                        <a:pt x="1105" y="119"/>
                      </a:lnTo>
                      <a:lnTo>
                        <a:pt x="1090" y="131"/>
                      </a:lnTo>
                      <a:lnTo>
                        <a:pt x="1073" y="129"/>
                      </a:lnTo>
                      <a:lnTo>
                        <a:pt x="1054" y="128"/>
                      </a:lnTo>
                      <a:lnTo>
                        <a:pt x="1031" y="129"/>
                      </a:lnTo>
                      <a:lnTo>
                        <a:pt x="1010" y="134"/>
                      </a:lnTo>
                      <a:lnTo>
                        <a:pt x="982" y="138"/>
                      </a:lnTo>
                      <a:lnTo>
                        <a:pt x="949" y="138"/>
                      </a:lnTo>
                      <a:lnTo>
                        <a:pt x="974" y="127"/>
                      </a:lnTo>
                      <a:lnTo>
                        <a:pt x="984" y="119"/>
                      </a:lnTo>
                      <a:lnTo>
                        <a:pt x="961" y="121"/>
                      </a:lnTo>
                      <a:lnTo>
                        <a:pt x="917" y="127"/>
                      </a:lnTo>
                      <a:lnTo>
                        <a:pt x="879" y="125"/>
                      </a:lnTo>
                      <a:lnTo>
                        <a:pt x="877" y="119"/>
                      </a:lnTo>
                      <a:lnTo>
                        <a:pt x="870" y="112"/>
                      </a:lnTo>
                      <a:lnTo>
                        <a:pt x="862" y="107"/>
                      </a:lnTo>
                      <a:lnTo>
                        <a:pt x="841" y="104"/>
                      </a:lnTo>
                      <a:lnTo>
                        <a:pt x="818" y="104"/>
                      </a:lnTo>
                      <a:lnTo>
                        <a:pt x="788" y="105"/>
                      </a:lnTo>
                      <a:lnTo>
                        <a:pt x="761" y="107"/>
                      </a:lnTo>
                      <a:lnTo>
                        <a:pt x="733" y="104"/>
                      </a:lnTo>
                      <a:lnTo>
                        <a:pt x="701" y="97"/>
                      </a:lnTo>
                      <a:lnTo>
                        <a:pt x="680" y="89"/>
                      </a:lnTo>
                      <a:lnTo>
                        <a:pt x="703" y="74"/>
                      </a:lnTo>
                      <a:lnTo>
                        <a:pt x="727" y="68"/>
                      </a:lnTo>
                      <a:lnTo>
                        <a:pt x="752" y="61"/>
                      </a:lnTo>
                      <a:lnTo>
                        <a:pt x="769" y="58"/>
                      </a:lnTo>
                      <a:lnTo>
                        <a:pt x="784" y="50"/>
                      </a:lnTo>
                      <a:lnTo>
                        <a:pt x="792" y="42"/>
                      </a:lnTo>
                      <a:lnTo>
                        <a:pt x="796" y="35"/>
                      </a:lnTo>
                      <a:lnTo>
                        <a:pt x="803" y="26"/>
                      </a:lnTo>
                      <a:lnTo>
                        <a:pt x="758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8320" y="3913560"/>
                  <a:ext cx="82080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0" y="34"/>
                      </a:moveTo>
                      <a:lnTo>
                        <a:pt x="43" y="26"/>
                      </a:lnTo>
                      <a:lnTo>
                        <a:pt x="54" y="18"/>
                      </a:lnTo>
                      <a:lnTo>
                        <a:pt x="72" y="15"/>
                      </a:lnTo>
                      <a:lnTo>
                        <a:pt x="85" y="13"/>
                      </a:lnTo>
                      <a:lnTo>
                        <a:pt x="101" y="11"/>
                      </a:lnTo>
                      <a:lnTo>
                        <a:pt x="118" y="11"/>
                      </a:lnTo>
                      <a:lnTo>
                        <a:pt x="139" y="11"/>
                      </a:lnTo>
                      <a:lnTo>
                        <a:pt x="157" y="7"/>
                      </a:lnTo>
                      <a:lnTo>
                        <a:pt x="172" y="6"/>
                      </a:lnTo>
                      <a:lnTo>
                        <a:pt x="198" y="7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4"/>
                      </a:lnTo>
                      <a:lnTo>
                        <a:pt x="276" y="11"/>
                      </a:lnTo>
                      <a:lnTo>
                        <a:pt x="296" y="15"/>
                      </a:lnTo>
                      <a:lnTo>
                        <a:pt x="326" y="18"/>
                      </a:lnTo>
                      <a:lnTo>
                        <a:pt x="341" y="14"/>
                      </a:lnTo>
                      <a:lnTo>
                        <a:pt x="360" y="15"/>
                      </a:lnTo>
                      <a:lnTo>
                        <a:pt x="373" y="18"/>
                      </a:lnTo>
                      <a:lnTo>
                        <a:pt x="394" y="26"/>
                      </a:lnTo>
                      <a:lnTo>
                        <a:pt x="410" y="37"/>
                      </a:lnTo>
                      <a:lnTo>
                        <a:pt x="436" y="43"/>
                      </a:lnTo>
                      <a:lnTo>
                        <a:pt x="473" y="41"/>
                      </a:lnTo>
                      <a:lnTo>
                        <a:pt x="492" y="48"/>
                      </a:lnTo>
                      <a:lnTo>
                        <a:pt x="509" y="51"/>
                      </a:lnTo>
                      <a:lnTo>
                        <a:pt x="532" y="53"/>
                      </a:lnTo>
                      <a:lnTo>
                        <a:pt x="625" y="64"/>
                      </a:lnTo>
                      <a:lnTo>
                        <a:pt x="524" y="60"/>
                      </a:lnTo>
                      <a:lnTo>
                        <a:pt x="505" y="64"/>
                      </a:lnTo>
                      <a:lnTo>
                        <a:pt x="488" y="68"/>
                      </a:lnTo>
                      <a:lnTo>
                        <a:pt x="476" y="67"/>
                      </a:lnTo>
                      <a:lnTo>
                        <a:pt x="461" y="64"/>
                      </a:lnTo>
                      <a:lnTo>
                        <a:pt x="442" y="58"/>
                      </a:lnTo>
                      <a:lnTo>
                        <a:pt x="415" y="57"/>
                      </a:lnTo>
                      <a:lnTo>
                        <a:pt x="390" y="50"/>
                      </a:lnTo>
                      <a:lnTo>
                        <a:pt x="373" y="51"/>
                      </a:lnTo>
                      <a:lnTo>
                        <a:pt x="354" y="53"/>
                      </a:lnTo>
                      <a:lnTo>
                        <a:pt x="313" y="48"/>
                      </a:lnTo>
                      <a:lnTo>
                        <a:pt x="292" y="45"/>
                      </a:lnTo>
                      <a:lnTo>
                        <a:pt x="265" y="37"/>
                      </a:lnTo>
                      <a:lnTo>
                        <a:pt x="238" y="37"/>
                      </a:lnTo>
                      <a:lnTo>
                        <a:pt x="206" y="37"/>
                      </a:lnTo>
                      <a:lnTo>
                        <a:pt x="183" y="38"/>
                      </a:lnTo>
                      <a:lnTo>
                        <a:pt x="161" y="36"/>
                      </a:lnTo>
                      <a:lnTo>
                        <a:pt x="139" y="30"/>
                      </a:lnTo>
                      <a:lnTo>
                        <a:pt x="118" y="34"/>
                      </a:lnTo>
                      <a:lnTo>
                        <a:pt x="99" y="27"/>
                      </a:lnTo>
                      <a:lnTo>
                        <a:pt x="83" y="30"/>
                      </a:lnTo>
                      <a:lnTo>
                        <a:pt x="60" y="31"/>
                      </a:lnTo>
                      <a:lnTo>
                        <a:pt x="35" y="32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199680" y="3889440"/>
                  <a:ext cx="3448080" cy="297000"/>
                </a:xfrm>
                <a:custGeom>
                  <a:avLst/>
                  <a:gdLst/>
                  <a:ahLst/>
                  <a:rect l="l" t="t" r="r" b="b"/>
                  <a:pathLst>
                    <a:path w="2630" h="237">
                      <a:moveTo>
                        <a:pt x="492" y="0"/>
                      </a:moveTo>
                      <a:lnTo>
                        <a:pt x="471" y="5"/>
                      </a:lnTo>
                      <a:lnTo>
                        <a:pt x="455" y="9"/>
                      </a:lnTo>
                      <a:lnTo>
                        <a:pt x="441" y="15"/>
                      </a:lnTo>
                      <a:lnTo>
                        <a:pt x="433" y="21"/>
                      </a:lnTo>
                      <a:lnTo>
                        <a:pt x="427" y="31"/>
                      </a:lnTo>
                      <a:lnTo>
                        <a:pt x="406" y="32"/>
                      </a:lnTo>
                      <a:lnTo>
                        <a:pt x="392" y="35"/>
                      </a:lnTo>
                      <a:lnTo>
                        <a:pt x="381" y="39"/>
                      </a:lnTo>
                      <a:lnTo>
                        <a:pt x="364" y="45"/>
                      </a:lnTo>
                      <a:lnTo>
                        <a:pt x="347" y="45"/>
                      </a:lnTo>
                      <a:lnTo>
                        <a:pt x="325" y="55"/>
                      </a:lnTo>
                      <a:lnTo>
                        <a:pt x="299" y="46"/>
                      </a:lnTo>
                      <a:lnTo>
                        <a:pt x="314" y="66"/>
                      </a:lnTo>
                      <a:lnTo>
                        <a:pt x="289" y="66"/>
                      </a:lnTo>
                      <a:lnTo>
                        <a:pt x="258" y="67"/>
                      </a:lnTo>
                      <a:lnTo>
                        <a:pt x="234" y="62"/>
                      </a:lnTo>
                      <a:lnTo>
                        <a:pt x="207" y="74"/>
                      </a:lnTo>
                      <a:lnTo>
                        <a:pt x="182" y="66"/>
                      </a:lnTo>
                      <a:lnTo>
                        <a:pt x="175" y="67"/>
                      </a:lnTo>
                      <a:lnTo>
                        <a:pt x="169" y="72"/>
                      </a:lnTo>
                      <a:lnTo>
                        <a:pt x="160" y="78"/>
                      </a:lnTo>
                      <a:lnTo>
                        <a:pt x="155" y="86"/>
                      </a:lnTo>
                      <a:lnTo>
                        <a:pt x="145" y="92"/>
                      </a:lnTo>
                      <a:lnTo>
                        <a:pt x="138" y="95"/>
                      </a:lnTo>
                      <a:lnTo>
                        <a:pt x="122" y="95"/>
                      </a:lnTo>
                      <a:lnTo>
                        <a:pt x="104" y="95"/>
                      </a:lnTo>
                      <a:lnTo>
                        <a:pt x="96" y="101"/>
                      </a:lnTo>
                      <a:lnTo>
                        <a:pt x="84" y="108"/>
                      </a:lnTo>
                      <a:lnTo>
                        <a:pt x="73" y="108"/>
                      </a:lnTo>
                      <a:lnTo>
                        <a:pt x="56" y="109"/>
                      </a:lnTo>
                      <a:lnTo>
                        <a:pt x="36" y="109"/>
                      </a:lnTo>
                      <a:lnTo>
                        <a:pt x="16" y="116"/>
                      </a:lnTo>
                      <a:lnTo>
                        <a:pt x="0" y="132"/>
                      </a:lnTo>
                      <a:lnTo>
                        <a:pt x="14" y="131"/>
                      </a:lnTo>
                      <a:lnTo>
                        <a:pt x="36" y="125"/>
                      </a:lnTo>
                      <a:lnTo>
                        <a:pt x="58" y="124"/>
                      </a:lnTo>
                      <a:lnTo>
                        <a:pt x="74" y="125"/>
                      </a:lnTo>
                      <a:lnTo>
                        <a:pt x="89" y="132"/>
                      </a:lnTo>
                      <a:lnTo>
                        <a:pt x="105" y="135"/>
                      </a:lnTo>
                      <a:lnTo>
                        <a:pt x="122" y="131"/>
                      </a:lnTo>
                      <a:lnTo>
                        <a:pt x="140" y="125"/>
                      </a:lnTo>
                      <a:lnTo>
                        <a:pt x="156" y="121"/>
                      </a:lnTo>
                      <a:lnTo>
                        <a:pt x="171" y="121"/>
                      </a:lnTo>
                      <a:lnTo>
                        <a:pt x="182" y="131"/>
                      </a:lnTo>
                      <a:lnTo>
                        <a:pt x="192" y="139"/>
                      </a:lnTo>
                      <a:lnTo>
                        <a:pt x="210" y="139"/>
                      </a:lnTo>
                      <a:lnTo>
                        <a:pt x="226" y="136"/>
                      </a:lnTo>
                      <a:lnTo>
                        <a:pt x="245" y="131"/>
                      </a:lnTo>
                      <a:lnTo>
                        <a:pt x="262" y="127"/>
                      </a:lnTo>
                      <a:lnTo>
                        <a:pt x="278" y="135"/>
                      </a:lnTo>
                      <a:lnTo>
                        <a:pt x="295" y="143"/>
                      </a:lnTo>
                      <a:lnTo>
                        <a:pt x="311" y="146"/>
                      </a:lnTo>
                      <a:lnTo>
                        <a:pt x="327" y="149"/>
                      </a:lnTo>
                      <a:lnTo>
                        <a:pt x="349" y="151"/>
                      </a:lnTo>
                      <a:lnTo>
                        <a:pt x="371" y="153"/>
                      </a:lnTo>
                      <a:lnTo>
                        <a:pt x="392" y="151"/>
                      </a:lnTo>
                      <a:lnTo>
                        <a:pt x="416" y="147"/>
                      </a:lnTo>
                      <a:lnTo>
                        <a:pt x="406" y="133"/>
                      </a:lnTo>
                      <a:lnTo>
                        <a:pt x="408" y="124"/>
                      </a:lnTo>
                      <a:lnTo>
                        <a:pt x="419" y="119"/>
                      </a:lnTo>
                      <a:lnTo>
                        <a:pt x="422" y="129"/>
                      </a:lnTo>
                      <a:lnTo>
                        <a:pt x="436" y="139"/>
                      </a:lnTo>
                      <a:lnTo>
                        <a:pt x="449" y="143"/>
                      </a:lnTo>
                      <a:lnTo>
                        <a:pt x="464" y="146"/>
                      </a:lnTo>
                      <a:lnTo>
                        <a:pt x="482" y="151"/>
                      </a:lnTo>
                      <a:lnTo>
                        <a:pt x="500" y="154"/>
                      </a:lnTo>
                      <a:lnTo>
                        <a:pt x="526" y="157"/>
                      </a:lnTo>
                      <a:lnTo>
                        <a:pt x="543" y="155"/>
                      </a:lnTo>
                      <a:lnTo>
                        <a:pt x="563" y="157"/>
                      </a:lnTo>
                      <a:lnTo>
                        <a:pt x="596" y="163"/>
                      </a:lnTo>
                      <a:lnTo>
                        <a:pt x="585" y="170"/>
                      </a:lnTo>
                      <a:lnTo>
                        <a:pt x="570" y="177"/>
                      </a:lnTo>
                      <a:lnTo>
                        <a:pt x="541" y="191"/>
                      </a:lnTo>
                      <a:lnTo>
                        <a:pt x="559" y="192"/>
                      </a:lnTo>
                      <a:lnTo>
                        <a:pt x="575" y="194"/>
                      </a:lnTo>
                      <a:lnTo>
                        <a:pt x="599" y="197"/>
                      </a:lnTo>
                      <a:lnTo>
                        <a:pt x="623" y="199"/>
                      </a:lnTo>
                      <a:lnTo>
                        <a:pt x="637" y="198"/>
                      </a:lnTo>
                      <a:lnTo>
                        <a:pt x="648" y="192"/>
                      </a:lnTo>
                      <a:lnTo>
                        <a:pt x="663" y="188"/>
                      </a:lnTo>
                      <a:lnTo>
                        <a:pt x="684" y="187"/>
                      </a:lnTo>
                      <a:lnTo>
                        <a:pt x="711" y="186"/>
                      </a:lnTo>
                      <a:lnTo>
                        <a:pt x="730" y="177"/>
                      </a:lnTo>
                      <a:lnTo>
                        <a:pt x="756" y="170"/>
                      </a:lnTo>
                      <a:lnTo>
                        <a:pt x="778" y="166"/>
                      </a:lnTo>
                      <a:lnTo>
                        <a:pt x="793" y="167"/>
                      </a:lnTo>
                      <a:lnTo>
                        <a:pt x="847" y="169"/>
                      </a:lnTo>
                      <a:lnTo>
                        <a:pt x="888" y="172"/>
                      </a:lnTo>
                      <a:lnTo>
                        <a:pt x="915" y="172"/>
                      </a:lnTo>
                      <a:lnTo>
                        <a:pt x="937" y="174"/>
                      </a:lnTo>
                      <a:lnTo>
                        <a:pt x="974" y="190"/>
                      </a:lnTo>
                      <a:lnTo>
                        <a:pt x="992" y="190"/>
                      </a:lnTo>
                      <a:lnTo>
                        <a:pt x="1012" y="186"/>
                      </a:lnTo>
                      <a:lnTo>
                        <a:pt x="1034" y="180"/>
                      </a:lnTo>
                      <a:lnTo>
                        <a:pt x="1052" y="177"/>
                      </a:lnTo>
                      <a:lnTo>
                        <a:pt x="1115" y="172"/>
                      </a:lnTo>
                      <a:lnTo>
                        <a:pt x="1158" y="170"/>
                      </a:lnTo>
                      <a:lnTo>
                        <a:pt x="1185" y="169"/>
                      </a:lnTo>
                      <a:lnTo>
                        <a:pt x="1207" y="167"/>
                      </a:lnTo>
                      <a:lnTo>
                        <a:pt x="1229" y="165"/>
                      </a:lnTo>
                      <a:lnTo>
                        <a:pt x="1255" y="161"/>
                      </a:lnTo>
                      <a:lnTo>
                        <a:pt x="1273" y="157"/>
                      </a:lnTo>
                      <a:lnTo>
                        <a:pt x="1299" y="150"/>
                      </a:lnTo>
                      <a:lnTo>
                        <a:pt x="1314" y="158"/>
                      </a:lnTo>
                      <a:lnTo>
                        <a:pt x="1322" y="167"/>
                      </a:lnTo>
                      <a:lnTo>
                        <a:pt x="1312" y="176"/>
                      </a:lnTo>
                      <a:lnTo>
                        <a:pt x="1293" y="182"/>
                      </a:lnTo>
                      <a:lnTo>
                        <a:pt x="1317" y="182"/>
                      </a:lnTo>
                      <a:lnTo>
                        <a:pt x="1304" y="190"/>
                      </a:lnTo>
                      <a:lnTo>
                        <a:pt x="1286" y="197"/>
                      </a:lnTo>
                      <a:lnTo>
                        <a:pt x="1262" y="207"/>
                      </a:lnTo>
                      <a:lnTo>
                        <a:pt x="1238" y="214"/>
                      </a:lnTo>
                      <a:lnTo>
                        <a:pt x="1267" y="211"/>
                      </a:lnTo>
                      <a:lnTo>
                        <a:pt x="1292" y="207"/>
                      </a:lnTo>
                      <a:lnTo>
                        <a:pt x="1317" y="201"/>
                      </a:lnTo>
                      <a:lnTo>
                        <a:pt x="1333" y="196"/>
                      </a:lnTo>
                      <a:lnTo>
                        <a:pt x="1341" y="194"/>
                      </a:lnTo>
                      <a:lnTo>
                        <a:pt x="1355" y="192"/>
                      </a:lnTo>
                      <a:lnTo>
                        <a:pt x="1371" y="192"/>
                      </a:lnTo>
                      <a:lnTo>
                        <a:pt x="1392" y="194"/>
                      </a:lnTo>
                      <a:lnTo>
                        <a:pt x="1410" y="197"/>
                      </a:lnTo>
                      <a:lnTo>
                        <a:pt x="1426" y="198"/>
                      </a:lnTo>
                      <a:lnTo>
                        <a:pt x="1448" y="197"/>
                      </a:lnTo>
                      <a:lnTo>
                        <a:pt x="1432" y="211"/>
                      </a:lnTo>
                      <a:lnTo>
                        <a:pt x="1414" y="221"/>
                      </a:lnTo>
                      <a:lnTo>
                        <a:pt x="1393" y="227"/>
                      </a:lnTo>
                      <a:lnTo>
                        <a:pt x="1417" y="224"/>
                      </a:lnTo>
                      <a:lnTo>
                        <a:pt x="1438" y="222"/>
                      </a:lnTo>
                      <a:lnTo>
                        <a:pt x="1462" y="220"/>
                      </a:lnTo>
                      <a:lnTo>
                        <a:pt x="1481" y="215"/>
                      </a:lnTo>
                      <a:lnTo>
                        <a:pt x="1506" y="213"/>
                      </a:lnTo>
                      <a:lnTo>
                        <a:pt x="1534" y="210"/>
                      </a:lnTo>
                      <a:lnTo>
                        <a:pt x="1560" y="210"/>
                      </a:lnTo>
                      <a:lnTo>
                        <a:pt x="1581" y="205"/>
                      </a:lnTo>
                      <a:lnTo>
                        <a:pt x="1586" y="201"/>
                      </a:lnTo>
                      <a:lnTo>
                        <a:pt x="1593" y="197"/>
                      </a:lnTo>
                      <a:lnTo>
                        <a:pt x="1608" y="197"/>
                      </a:lnTo>
                      <a:lnTo>
                        <a:pt x="1634" y="202"/>
                      </a:lnTo>
                      <a:lnTo>
                        <a:pt x="1666" y="205"/>
                      </a:lnTo>
                      <a:lnTo>
                        <a:pt x="1696" y="210"/>
                      </a:lnTo>
                      <a:lnTo>
                        <a:pt x="1712" y="213"/>
                      </a:lnTo>
                      <a:lnTo>
                        <a:pt x="1741" y="213"/>
                      </a:lnTo>
                      <a:lnTo>
                        <a:pt x="1774" y="214"/>
                      </a:lnTo>
                      <a:lnTo>
                        <a:pt x="1799" y="218"/>
                      </a:lnTo>
                      <a:lnTo>
                        <a:pt x="1829" y="224"/>
                      </a:lnTo>
                      <a:lnTo>
                        <a:pt x="1855" y="228"/>
                      </a:lnTo>
                      <a:lnTo>
                        <a:pt x="1877" y="231"/>
                      </a:lnTo>
                      <a:lnTo>
                        <a:pt x="1899" y="228"/>
                      </a:lnTo>
                      <a:lnTo>
                        <a:pt x="1933" y="221"/>
                      </a:lnTo>
                      <a:lnTo>
                        <a:pt x="1962" y="224"/>
                      </a:lnTo>
                      <a:lnTo>
                        <a:pt x="1988" y="224"/>
                      </a:lnTo>
                      <a:lnTo>
                        <a:pt x="2015" y="224"/>
                      </a:lnTo>
                      <a:lnTo>
                        <a:pt x="2043" y="223"/>
                      </a:lnTo>
                      <a:lnTo>
                        <a:pt x="2080" y="217"/>
                      </a:lnTo>
                      <a:lnTo>
                        <a:pt x="2097" y="217"/>
                      </a:lnTo>
                      <a:lnTo>
                        <a:pt x="2118" y="215"/>
                      </a:lnTo>
                      <a:lnTo>
                        <a:pt x="2156" y="220"/>
                      </a:lnTo>
                      <a:lnTo>
                        <a:pt x="2176" y="222"/>
                      </a:lnTo>
                      <a:lnTo>
                        <a:pt x="2192" y="221"/>
                      </a:lnTo>
                      <a:lnTo>
                        <a:pt x="2214" y="218"/>
                      </a:lnTo>
                      <a:lnTo>
                        <a:pt x="2236" y="217"/>
                      </a:lnTo>
                      <a:lnTo>
                        <a:pt x="2252" y="217"/>
                      </a:lnTo>
                      <a:lnTo>
                        <a:pt x="2259" y="220"/>
                      </a:lnTo>
                      <a:lnTo>
                        <a:pt x="2259" y="228"/>
                      </a:lnTo>
                      <a:lnTo>
                        <a:pt x="2267" y="231"/>
                      </a:lnTo>
                      <a:lnTo>
                        <a:pt x="2281" y="231"/>
                      </a:lnTo>
                      <a:lnTo>
                        <a:pt x="2295" y="228"/>
                      </a:lnTo>
                      <a:lnTo>
                        <a:pt x="2307" y="221"/>
                      </a:lnTo>
                      <a:lnTo>
                        <a:pt x="2315" y="213"/>
                      </a:lnTo>
                      <a:lnTo>
                        <a:pt x="2323" y="209"/>
                      </a:lnTo>
                      <a:lnTo>
                        <a:pt x="2345" y="209"/>
                      </a:lnTo>
                      <a:lnTo>
                        <a:pt x="2362" y="209"/>
                      </a:lnTo>
                      <a:lnTo>
                        <a:pt x="2382" y="217"/>
                      </a:lnTo>
                      <a:lnTo>
                        <a:pt x="2399" y="222"/>
                      </a:lnTo>
                      <a:lnTo>
                        <a:pt x="2418" y="228"/>
                      </a:lnTo>
                      <a:lnTo>
                        <a:pt x="2430" y="229"/>
                      </a:lnTo>
                      <a:lnTo>
                        <a:pt x="2443" y="231"/>
                      </a:lnTo>
                      <a:lnTo>
                        <a:pt x="2456" y="231"/>
                      </a:lnTo>
                      <a:lnTo>
                        <a:pt x="2478" y="228"/>
                      </a:lnTo>
                      <a:lnTo>
                        <a:pt x="2552" y="236"/>
                      </a:lnTo>
                      <a:lnTo>
                        <a:pt x="2530" y="228"/>
                      </a:lnTo>
                      <a:lnTo>
                        <a:pt x="2517" y="224"/>
                      </a:lnTo>
                      <a:lnTo>
                        <a:pt x="2511" y="217"/>
                      </a:lnTo>
                      <a:lnTo>
                        <a:pt x="2517" y="211"/>
                      </a:lnTo>
                      <a:lnTo>
                        <a:pt x="2543" y="206"/>
                      </a:lnTo>
                      <a:lnTo>
                        <a:pt x="2561" y="202"/>
                      </a:lnTo>
                      <a:lnTo>
                        <a:pt x="2582" y="197"/>
                      </a:lnTo>
                      <a:lnTo>
                        <a:pt x="2600" y="190"/>
                      </a:lnTo>
                      <a:lnTo>
                        <a:pt x="2629" y="180"/>
                      </a:lnTo>
                      <a:lnTo>
                        <a:pt x="2587" y="180"/>
                      </a:lnTo>
                      <a:lnTo>
                        <a:pt x="2559" y="179"/>
                      </a:lnTo>
                      <a:lnTo>
                        <a:pt x="2533" y="176"/>
                      </a:lnTo>
                      <a:lnTo>
                        <a:pt x="2511" y="174"/>
                      </a:lnTo>
                      <a:lnTo>
                        <a:pt x="2496" y="174"/>
                      </a:lnTo>
                      <a:lnTo>
                        <a:pt x="2484" y="176"/>
                      </a:lnTo>
                      <a:lnTo>
                        <a:pt x="2471" y="177"/>
                      </a:lnTo>
                      <a:lnTo>
                        <a:pt x="2455" y="182"/>
                      </a:lnTo>
                      <a:lnTo>
                        <a:pt x="2440" y="186"/>
                      </a:lnTo>
                      <a:lnTo>
                        <a:pt x="2462" y="191"/>
                      </a:lnTo>
                      <a:lnTo>
                        <a:pt x="2478" y="197"/>
                      </a:lnTo>
                      <a:lnTo>
                        <a:pt x="2489" y="205"/>
                      </a:lnTo>
                      <a:lnTo>
                        <a:pt x="2493" y="213"/>
                      </a:lnTo>
                      <a:lnTo>
                        <a:pt x="2489" y="221"/>
                      </a:lnTo>
                      <a:lnTo>
                        <a:pt x="2473" y="218"/>
                      </a:lnTo>
                      <a:lnTo>
                        <a:pt x="2460" y="215"/>
                      </a:lnTo>
                      <a:lnTo>
                        <a:pt x="2451" y="209"/>
                      </a:lnTo>
                      <a:lnTo>
                        <a:pt x="2434" y="202"/>
                      </a:lnTo>
                      <a:lnTo>
                        <a:pt x="2414" y="199"/>
                      </a:lnTo>
                      <a:lnTo>
                        <a:pt x="2396" y="197"/>
                      </a:lnTo>
                      <a:lnTo>
                        <a:pt x="2371" y="199"/>
                      </a:lnTo>
                      <a:lnTo>
                        <a:pt x="2355" y="198"/>
                      </a:lnTo>
                      <a:lnTo>
                        <a:pt x="2340" y="197"/>
                      </a:lnTo>
                      <a:lnTo>
                        <a:pt x="2323" y="194"/>
                      </a:lnTo>
                      <a:lnTo>
                        <a:pt x="2306" y="188"/>
                      </a:lnTo>
                      <a:lnTo>
                        <a:pt x="2291" y="182"/>
                      </a:lnTo>
                      <a:lnTo>
                        <a:pt x="2276" y="177"/>
                      </a:lnTo>
                      <a:lnTo>
                        <a:pt x="2262" y="177"/>
                      </a:lnTo>
                      <a:lnTo>
                        <a:pt x="2248" y="182"/>
                      </a:lnTo>
                      <a:lnTo>
                        <a:pt x="2232" y="186"/>
                      </a:lnTo>
                      <a:lnTo>
                        <a:pt x="2215" y="186"/>
                      </a:lnTo>
                      <a:lnTo>
                        <a:pt x="2193" y="186"/>
                      </a:lnTo>
                      <a:lnTo>
                        <a:pt x="2176" y="183"/>
                      </a:lnTo>
                      <a:lnTo>
                        <a:pt x="2158" y="180"/>
                      </a:lnTo>
                      <a:lnTo>
                        <a:pt x="2141" y="179"/>
                      </a:lnTo>
                      <a:lnTo>
                        <a:pt x="2128" y="180"/>
                      </a:lnTo>
                      <a:lnTo>
                        <a:pt x="2107" y="182"/>
                      </a:lnTo>
                      <a:lnTo>
                        <a:pt x="2091" y="184"/>
                      </a:lnTo>
                      <a:lnTo>
                        <a:pt x="2070" y="182"/>
                      </a:lnTo>
                      <a:lnTo>
                        <a:pt x="2047" y="180"/>
                      </a:lnTo>
                      <a:lnTo>
                        <a:pt x="2021" y="179"/>
                      </a:lnTo>
                      <a:lnTo>
                        <a:pt x="1995" y="177"/>
                      </a:lnTo>
                      <a:lnTo>
                        <a:pt x="1977" y="173"/>
                      </a:lnTo>
                      <a:lnTo>
                        <a:pt x="1959" y="169"/>
                      </a:lnTo>
                      <a:lnTo>
                        <a:pt x="1944" y="163"/>
                      </a:lnTo>
                      <a:lnTo>
                        <a:pt x="1930" y="161"/>
                      </a:lnTo>
                      <a:lnTo>
                        <a:pt x="1919" y="161"/>
                      </a:lnTo>
                      <a:lnTo>
                        <a:pt x="1906" y="162"/>
                      </a:lnTo>
                      <a:lnTo>
                        <a:pt x="1871" y="166"/>
                      </a:lnTo>
                      <a:lnTo>
                        <a:pt x="1910" y="169"/>
                      </a:lnTo>
                      <a:lnTo>
                        <a:pt x="1900" y="177"/>
                      </a:lnTo>
                      <a:lnTo>
                        <a:pt x="1886" y="187"/>
                      </a:lnTo>
                      <a:lnTo>
                        <a:pt x="1873" y="188"/>
                      </a:lnTo>
                      <a:lnTo>
                        <a:pt x="1691" y="167"/>
                      </a:lnTo>
                      <a:lnTo>
                        <a:pt x="1680" y="163"/>
                      </a:lnTo>
                      <a:lnTo>
                        <a:pt x="1712" y="154"/>
                      </a:lnTo>
                      <a:lnTo>
                        <a:pt x="1689" y="150"/>
                      </a:lnTo>
                      <a:lnTo>
                        <a:pt x="1674" y="149"/>
                      </a:lnTo>
                      <a:lnTo>
                        <a:pt x="1663" y="143"/>
                      </a:lnTo>
                      <a:lnTo>
                        <a:pt x="1648" y="139"/>
                      </a:lnTo>
                      <a:lnTo>
                        <a:pt x="1630" y="142"/>
                      </a:lnTo>
                      <a:lnTo>
                        <a:pt x="1612" y="144"/>
                      </a:lnTo>
                      <a:lnTo>
                        <a:pt x="1596" y="149"/>
                      </a:lnTo>
                      <a:lnTo>
                        <a:pt x="1581" y="143"/>
                      </a:lnTo>
                      <a:lnTo>
                        <a:pt x="1565" y="132"/>
                      </a:lnTo>
                      <a:lnTo>
                        <a:pt x="1548" y="124"/>
                      </a:lnTo>
                      <a:lnTo>
                        <a:pt x="1532" y="119"/>
                      </a:lnTo>
                      <a:lnTo>
                        <a:pt x="1514" y="116"/>
                      </a:lnTo>
                      <a:lnTo>
                        <a:pt x="1496" y="114"/>
                      </a:lnTo>
                      <a:lnTo>
                        <a:pt x="1467" y="116"/>
                      </a:lnTo>
                      <a:lnTo>
                        <a:pt x="1444" y="118"/>
                      </a:lnTo>
                      <a:lnTo>
                        <a:pt x="1421" y="120"/>
                      </a:lnTo>
                      <a:lnTo>
                        <a:pt x="1393" y="123"/>
                      </a:lnTo>
                      <a:lnTo>
                        <a:pt x="1366" y="127"/>
                      </a:lnTo>
                      <a:lnTo>
                        <a:pt x="1344" y="129"/>
                      </a:lnTo>
                      <a:lnTo>
                        <a:pt x="1325" y="136"/>
                      </a:lnTo>
                      <a:lnTo>
                        <a:pt x="1304" y="140"/>
                      </a:lnTo>
                      <a:lnTo>
                        <a:pt x="1285" y="140"/>
                      </a:lnTo>
                      <a:lnTo>
                        <a:pt x="1266" y="144"/>
                      </a:lnTo>
                      <a:lnTo>
                        <a:pt x="1245" y="147"/>
                      </a:lnTo>
                      <a:lnTo>
                        <a:pt x="1223" y="151"/>
                      </a:lnTo>
                      <a:lnTo>
                        <a:pt x="1201" y="151"/>
                      </a:lnTo>
                      <a:lnTo>
                        <a:pt x="1180" y="151"/>
                      </a:lnTo>
                      <a:lnTo>
                        <a:pt x="1163" y="150"/>
                      </a:lnTo>
                      <a:lnTo>
                        <a:pt x="1148" y="154"/>
                      </a:lnTo>
                      <a:lnTo>
                        <a:pt x="1127" y="159"/>
                      </a:lnTo>
                      <a:lnTo>
                        <a:pt x="1106" y="159"/>
                      </a:lnTo>
                      <a:lnTo>
                        <a:pt x="1080" y="159"/>
                      </a:lnTo>
                      <a:lnTo>
                        <a:pt x="1058" y="159"/>
                      </a:lnTo>
                      <a:lnTo>
                        <a:pt x="1030" y="159"/>
                      </a:lnTo>
                      <a:lnTo>
                        <a:pt x="980" y="166"/>
                      </a:lnTo>
                      <a:lnTo>
                        <a:pt x="969" y="162"/>
                      </a:lnTo>
                      <a:lnTo>
                        <a:pt x="958" y="155"/>
                      </a:lnTo>
                      <a:lnTo>
                        <a:pt x="943" y="151"/>
                      </a:lnTo>
                      <a:lnTo>
                        <a:pt x="929" y="150"/>
                      </a:lnTo>
                      <a:lnTo>
                        <a:pt x="910" y="151"/>
                      </a:lnTo>
                      <a:lnTo>
                        <a:pt x="888" y="155"/>
                      </a:lnTo>
                      <a:lnTo>
                        <a:pt x="852" y="158"/>
                      </a:lnTo>
                      <a:lnTo>
                        <a:pt x="837" y="153"/>
                      </a:lnTo>
                      <a:lnTo>
                        <a:pt x="826" y="147"/>
                      </a:lnTo>
                      <a:lnTo>
                        <a:pt x="814" y="145"/>
                      </a:lnTo>
                      <a:lnTo>
                        <a:pt x="797" y="144"/>
                      </a:lnTo>
                      <a:lnTo>
                        <a:pt x="784" y="140"/>
                      </a:lnTo>
                      <a:lnTo>
                        <a:pt x="778" y="132"/>
                      </a:lnTo>
                      <a:lnTo>
                        <a:pt x="767" y="120"/>
                      </a:lnTo>
                      <a:lnTo>
                        <a:pt x="755" y="117"/>
                      </a:lnTo>
                      <a:lnTo>
                        <a:pt x="738" y="114"/>
                      </a:lnTo>
                      <a:lnTo>
                        <a:pt x="723" y="114"/>
                      </a:lnTo>
                      <a:lnTo>
                        <a:pt x="717" y="119"/>
                      </a:lnTo>
                      <a:lnTo>
                        <a:pt x="707" y="132"/>
                      </a:lnTo>
                      <a:lnTo>
                        <a:pt x="696" y="129"/>
                      </a:lnTo>
                      <a:lnTo>
                        <a:pt x="684" y="128"/>
                      </a:lnTo>
                      <a:lnTo>
                        <a:pt x="669" y="129"/>
                      </a:lnTo>
                      <a:lnTo>
                        <a:pt x="655" y="135"/>
                      </a:lnTo>
                      <a:lnTo>
                        <a:pt x="637" y="139"/>
                      </a:lnTo>
                      <a:lnTo>
                        <a:pt x="615" y="139"/>
                      </a:lnTo>
                      <a:lnTo>
                        <a:pt x="632" y="127"/>
                      </a:lnTo>
                      <a:lnTo>
                        <a:pt x="638" y="119"/>
                      </a:lnTo>
                      <a:lnTo>
                        <a:pt x="623" y="121"/>
                      </a:lnTo>
                      <a:lnTo>
                        <a:pt x="595" y="127"/>
                      </a:lnTo>
                      <a:lnTo>
                        <a:pt x="570" y="125"/>
                      </a:lnTo>
                      <a:lnTo>
                        <a:pt x="569" y="119"/>
                      </a:lnTo>
                      <a:lnTo>
                        <a:pt x="564" y="113"/>
                      </a:lnTo>
                      <a:lnTo>
                        <a:pt x="559" y="108"/>
                      </a:lnTo>
                      <a:lnTo>
                        <a:pt x="545" y="104"/>
                      </a:lnTo>
                      <a:lnTo>
                        <a:pt x="530" y="104"/>
                      </a:lnTo>
                      <a:lnTo>
                        <a:pt x="511" y="105"/>
                      </a:lnTo>
                      <a:lnTo>
                        <a:pt x="493" y="108"/>
                      </a:lnTo>
                      <a:lnTo>
                        <a:pt x="475" y="104"/>
                      </a:lnTo>
                      <a:lnTo>
                        <a:pt x="455" y="97"/>
                      </a:lnTo>
                      <a:lnTo>
                        <a:pt x="441" y="90"/>
                      </a:lnTo>
                      <a:lnTo>
                        <a:pt x="456" y="74"/>
                      </a:lnTo>
                      <a:lnTo>
                        <a:pt x="471" y="68"/>
                      </a:lnTo>
                      <a:lnTo>
                        <a:pt x="488" y="62"/>
                      </a:lnTo>
                      <a:lnTo>
                        <a:pt x="499" y="58"/>
                      </a:lnTo>
                      <a:lnTo>
                        <a:pt x="508" y="50"/>
                      </a:lnTo>
                      <a:lnTo>
                        <a:pt x="514" y="42"/>
                      </a:lnTo>
                      <a:lnTo>
                        <a:pt x="516" y="35"/>
                      </a:lnTo>
                      <a:lnTo>
                        <a:pt x="521" y="26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788840" y="3638520"/>
                <a:ext cx="7049520" cy="596520"/>
                <a:chOff x="1788840" y="3638520"/>
                <a:chExt cx="7049520" cy="5965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983200" y="3722400"/>
                  <a:ext cx="819360" cy="87840"/>
                </a:xfrm>
                <a:custGeom>
                  <a:avLst/>
                  <a:gdLst/>
                  <a:ahLst/>
                  <a:rect l="l" t="t" r="r" b="b"/>
                  <a:pathLst>
                    <a:path w="625" h="70">
                      <a:moveTo>
                        <a:pt x="624" y="35"/>
                      </a:moveTo>
                      <a:lnTo>
                        <a:pt x="581" y="27"/>
                      </a:lnTo>
                      <a:lnTo>
                        <a:pt x="570" y="18"/>
                      </a:lnTo>
                      <a:lnTo>
                        <a:pt x="552" y="15"/>
                      </a:lnTo>
                      <a:lnTo>
                        <a:pt x="539" y="13"/>
                      </a:lnTo>
                      <a:lnTo>
                        <a:pt x="523" y="11"/>
                      </a:lnTo>
                      <a:lnTo>
                        <a:pt x="506" y="11"/>
                      </a:lnTo>
                      <a:lnTo>
                        <a:pt x="485" y="11"/>
                      </a:lnTo>
                      <a:lnTo>
                        <a:pt x="467" y="7"/>
                      </a:lnTo>
                      <a:lnTo>
                        <a:pt x="452" y="6"/>
                      </a:lnTo>
                      <a:lnTo>
                        <a:pt x="427" y="7"/>
                      </a:lnTo>
                      <a:lnTo>
                        <a:pt x="411" y="3"/>
                      </a:lnTo>
                      <a:lnTo>
                        <a:pt x="394" y="0"/>
                      </a:lnTo>
                      <a:lnTo>
                        <a:pt x="380" y="0"/>
                      </a:lnTo>
                      <a:lnTo>
                        <a:pt x="363" y="4"/>
                      </a:lnTo>
                      <a:lnTo>
                        <a:pt x="348" y="11"/>
                      </a:lnTo>
                      <a:lnTo>
                        <a:pt x="328" y="15"/>
                      </a:lnTo>
                      <a:lnTo>
                        <a:pt x="298" y="18"/>
                      </a:lnTo>
                      <a:lnTo>
                        <a:pt x="284" y="14"/>
                      </a:lnTo>
                      <a:lnTo>
                        <a:pt x="265" y="15"/>
                      </a:lnTo>
                      <a:lnTo>
                        <a:pt x="251" y="18"/>
                      </a:lnTo>
                      <a:lnTo>
                        <a:pt x="231" y="27"/>
                      </a:lnTo>
                      <a:lnTo>
                        <a:pt x="215" y="38"/>
                      </a:lnTo>
                      <a:lnTo>
                        <a:pt x="189" y="44"/>
                      </a:lnTo>
                      <a:lnTo>
                        <a:pt x="151" y="41"/>
                      </a:lnTo>
                      <a:lnTo>
                        <a:pt x="132" y="48"/>
                      </a:lnTo>
                      <a:lnTo>
                        <a:pt x="116" y="52"/>
                      </a:lnTo>
                      <a:lnTo>
                        <a:pt x="93" y="54"/>
                      </a:lnTo>
                      <a:lnTo>
                        <a:pt x="0" y="65"/>
                      </a:lnTo>
                      <a:lnTo>
                        <a:pt x="101" y="61"/>
                      </a:lnTo>
                      <a:lnTo>
                        <a:pt x="120" y="65"/>
                      </a:lnTo>
                      <a:lnTo>
                        <a:pt x="136" y="69"/>
                      </a:lnTo>
                      <a:lnTo>
                        <a:pt x="149" y="68"/>
                      </a:lnTo>
                      <a:lnTo>
                        <a:pt x="163" y="65"/>
                      </a:lnTo>
                      <a:lnTo>
                        <a:pt x="182" y="59"/>
                      </a:lnTo>
                      <a:lnTo>
                        <a:pt x="209" y="57"/>
                      </a:lnTo>
                      <a:lnTo>
                        <a:pt x="235" y="51"/>
                      </a:lnTo>
                      <a:lnTo>
                        <a:pt x="251" y="52"/>
                      </a:lnTo>
                      <a:lnTo>
                        <a:pt x="270" y="54"/>
                      </a:lnTo>
                      <a:lnTo>
                        <a:pt x="312" y="48"/>
                      </a:lnTo>
                      <a:lnTo>
                        <a:pt x="332" y="46"/>
                      </a:lnTo>
                      <a:lnTo>
                        <a:pt x="359" y="38"/>
                      </a:lnTo>
                      <a:lnTo>
                        <a:pt x="386" y="38"/>
                      </a:lnTo>
                      <a:lnTo>
                        <a:pt x="419" y="38"/>
                      </a:lnTo>
                      <a:lnTo>
                        <a:pt x="442" y="39"/>
                      </a:lnTo>
                      <a:lnTo>
                        <a:pt x="463" y="37"/>
                      </a:lnTo>
                      <a:lnTo>
                        <a:pt x="485" y="30"/>
                      </a:lnTo>
                      <a:lnTo>
                        <a:pt x="506" y="35"/>
                      </a:lnTo>
                      <a:lnTo>
                        <a:pt x="525" y="28"/>
                      </a:lnTo>
                      <a:lnTo>
                        <a:pt x="542" y="30"/>
                      </a:lnTo>
                      <a:lnTo>
                        <a:pt x="565" y="31"/>
                      </a:lnTo>
                      <a:lnTo>
                        <a:pt x="589" y="32"/>
                      </a:lnTo>
                      <a:lnTo>
                        <a:pt x="624" y="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61680" y="3697200"/>
                  <a:ext cx="3450600" cy="298440"/>
                </a:xfrm>
                <a:custGeom>
                  <a:avLst/>
                  <a:gdLst/>
                  <a:ahLst/>
                  <a:rect l="l" t="t" r="r" b="b"/>
                  <a:pathLst>
                    <a:path w="2632" h="238">
                      <a:moveTo>
                        <a:pt x="2139" y="0"/>
                      </a:moveTo>
                      <a:lnTo>
                        <a:pt x="2159" y="5"/>
                      </a:lnTo>
                      <a:lnTo>
                        <a:pt x="2176" y="9"/>
                      </a:lnTo>
                      <a:lnTo>
                        <a:pt x="2190" y="15"/>
                      </a:lnTo>
                      <a:lnTo>
                        <a:pt x="2198" y="21"/>
                      </a:lnTo>
                      <a:lnTo>
                        <a:pt x="2203" y="31"/>
                      </a:lnTo>
                      <a:lnTo>
                        <a:pt x="2225" y="32"/>
                      </a:lnTo>
                      <a:lnTo>
                        <a:pt x="2239" y="35"/>
                      </a:lnTo>
                      <a:lnTo>
                        <a:pt x="2250" y="40"/>
                      </a:lnTo>
                      <a:lnTo>
                        <a:pt x="2266" y="45"/>
                      </a:lnTo>
                      <a:lnTo>
                        <a:pt x="2284" y="45"/>
                      </a:lnTo>
                      <a:lnTo>
                        <a:pt x="2306" y="55"/>
                      </a:lnTo>
                      <a:lnTo>
                        <a:pt x="2332" y="46"/>
                      </a:lnTo>
                      <a:lnTo>
                        <a:pt x="2317" y="67"/>
                      </a:lnTo>
                      <a:lnTo>
                        <a:pt x="2342" y="67"/>
                      </a:lnTo>
                      <a:lnTo>
                        <a:pt x="2373" y="68"/>
                      </a:lnTo>
                      <a:lnTo>
                        <a:pt x="2397" y="62"/>
                      </a:lnTo>
                      <a:lnTo>
                        <a:pt x="2424" y="74"/>
                      </a:lnTo>
                      <a:lnTo>
                        <a:pt x="2449" y="67"/>
                      </a:lnTo>
                      <a:lnTo>
                        <a:pt x="2456" y="68"/>
                      </a:lnTo>
                      <a:lnTo>
                        <a:pt x="2462" y="73"/>
                      </a:lnTo>
                      <a:lnTo>
                        <a:pt x="2471" y="78"/>
                      </a:lnTo>
                      <a:lnTo>
                        <a:pt x="2476" y="86"/>
                      </a:lnTo>
                      <a:lnTo>
                        <a:pt x="2486" y="92"/>
                      </a:lnTo>
                      <a:lnTo>
                        <a:pt x="2493" y="96"/>
                      </a:lnTo>
                      <a:lnTo>
                        <a:pt x="2509" y="96"/>
                      </a:lnTo>
                      <a:lnTo>
                        <a:pt x="2527" y="96"/>
                      </a:lnTo>
                      <a:lnTo>
                        <a:pt x="2535" y="102"/>
                      </a:lnTo>
                      <a:lnTo>
                        <a:pt x="2547" y="108"/>
                      </a:lnTo>
                      <a:lnTo>
                        <a:pt x="2558" y="108"/>
                      </a:lnTo>
                      <a:lnTo>
                        <a:pt x="2575" y="109"/>
                      </a:lnTo>
                      <a:lnTo>
                        <a:pt x="2595" y="109"/>
                      </a:lnTo>
                      <a:lnTo>
                        <a:pt x="2615" y="116"/>
                      </a:lnTo>
                      <a:lnTo>
                        <a:pt x="2631" y="133"/>
                      </a:lnTo>
                      <a:lnTo>
                        <a:pt x="2617" y="132"/>
                      </a:lnTo>
                      <a:lnTo>
                        <a:pt x="2595" y="126"/>
                      </a:lnTo>
                      <a:lnTo>
                        <a:pt x="2573" y="125"/>
                      </a:lnTo>
                      <a:lnTo>
                        <a:pt x="2557" y="126"/>
                      </a:lnTo>
                      <a:lnTo>
                        <a:pt x="2542" y="133"/>
                      </a:lnTo>
                      <a:lnTo>
                        <a:pt x="2525" y="135"/>
                      </a:lnTo>
                      <a:lnTo>
                        <a:pt x="2509" y="132"/>
                      </a:lnTo>
                      <a:lnTo>
                        <a:pt x="2491" y="126"/>
                      </a:lnTo>
                      <a:lnTo>
                        <a:pt x="2475" y="122"/>
                      </a:lnTo>
                      <a:lnTo>
                        <a:pt x="2460" y="122"/>
                      </a:lnTo>
                      <a:lnTo>
                        <a:pt x="2449" y="132"/>
                      </a:lnTo>
                      <a:lnTo>
                        <a:pt x="2439" y="139"/>
                      </a:lnTo>
                      <a:lnTo>
                        <a:pt x="2421" y="139"/>
                      </a:lnTo>
                      <a:lnTo>
                        <a:pt x="2405" y="136"/>
                      </a:lnTo>
                      <a:lnTo>
                        <a:pt x="2386" y="132"/>
                      </a:lnTo>
                      <a:lnTo>
                        <a:pt x="2369" y="128"/>
                      </a:lnTo>
                      <a:lnTo>
                        <a:pt x="2353" y="135"/>
                      </a:lnTo>
                      <a:lnTo>
                        <a:pt x="2336" y="143"/>
                      </a:lnTo>
                      <a:lnTo>
                        <a:pt x="2320" y="147"/>
                      </a:lnTo>
                      <a:lnTo>
                        <a:pt x="2303" y="150"/>
                      </a:lnTo>
                      <a:lnTo>
                        <a:pt x="2281" y="152"/>
                      </a:lnTo>
                      <a:lnTo>
                        <a:pt x="2259" y="154"/>
                      </a:lnTo>
                      <a:lnTo>
                        <a:pt x="2239" y="152"/>
                      </a:lnTo>
                      <a:lnTo>
                        <a:pt x="2214" y="148"/>
                      </a:lnTo>
                      <a:lnTo>
                        <a:pt x="2225" y="133"/>
                      </a:lnTo>
                      <a:lnTo>
                        <a:pt x="2222" y="125"/>
                      </a:lnTo>
                      <a:lnTo>
                        <a:pt x="2211" y="120"/>
                      </a:lnTo>
                      <a:lnTo>
                        <a:pt x="2209" y="130"/>
                      </a:lnTo>
                      <a:lnTo>
                        <a:pt x="2195" y="139"/>
                      </a:lnTo>
                      <a:lnTo>
                        <a:pt x="2181" y="143"/>
                      </a:lnTo>
                      <a:lnTo>
                        <a:pt x="2166" y="147"/>
                      </a:lnTo>
                      <a:lnTo>
                        <a:pt x="2148" y="152"/>
                      </a:lnTo>
                      <a:lnTo>
                        <a:pt x="2131" y="155"/>
                      </a:lnTo>
                      <a:lnTo>
                        <a:pt x="2105" y="158"/>
                      </a:lnTo>
                      <a:lnTo>
                        <a:pt x="2088" y="156"/>
                      </a:lnTo>
                      <a:lnTo>
                        <a:pt x="2068" y="158"/>
                      </a:lnTo>
                      <a:lnTo>
                        <a:pt x="2035" y="163"/>
                      </a:lnTo>
                      <a:lnTo>
                        <a:pt x="2046" y="170"/>
                      </a:lnTo>
                      <a:lnTo>
                        <a:pt x="2061" y="178"/>
                      </a:lnTo>
                      <a:lnTo>
                        <a:pt x="2089" y="192"/>
                      </a:lnTo>
                      <a:lnTo>
                        <a:pt x="2072" y="193"/>
                      </a:lnTo>
                      <a:lnTo>
                        <a:pt x="2055" y="194"/>
                      </a:lnTo>
                      <a:lnTo>
                        <a:pt x="2032" y="198"/>
                      </a:lnTo>
                      <a:lnTo>
                        <a:pt x="2007" y="200"/>
                      </a:lnTo>
                      <a:lnTo>
                        <a:pt x="1993" y="199"/>
                      </a:lnTo>
                      <a:lnTo>
                        <a:pt x="1983" y="193"/>
                      </a:lnTo>
                      <a:lnTo>
                        <a:pt x="1967" y="189"/>
                      </a:lnTo>
                      <a:lnTo>
                        <a:pt x="1947" y="188"/>
                      </a:lnTo>
                      <a:lnTo>
                        <a:pt x="1919" y="187"/>
                      </a:lnTo>
                      <a:lnTo>
                        <a:pt x="1900" y="178"/>
                      </a:lnTo>
                      <a:lnTo>
                        <a:pt x="1874" y="171"/>
                      </a:lnTo>
                      <a:lnTo>
                        <a:pt x="1852" y="166"/>
                      </a:lnTo>
                      <a:lnTo>
                        <a:pt x="1837" y="167"/>
                      </a:lnTo>
                      <a:lnTo>
                        <a:pt x="1784" y="169"/>
                      </a:lnTo>
                      <a:lnTo>
                        <a:pt x="1743" y="173"/>
                      </a:lnTo>
                      <a:lnTo>
                        <a:pt x="1715" y="173"/>
                      </a:lnTo>
                      <a:lnTo>
                        <a:pt x="1693" y="175"/>
                      </a:lnTo>
                      <a:lnTo>
                        <a:pt x="1656" y="191"/>
                      </a:lnTo>
                      <a:lnTo>
                        <a:pt x="1638" y="191"/>
                      </a:lnTo>
                      <a:lnTo>
                        <a:pt x="1618" y="187"/>
                      </a:lnTo>
                      <a:lnTo>
                        <a:pt x="1596" y="181"/>
                      </a:lnTo>
                      <a:lnTo>
                        <a:pt x="1578" y="178"/>
                      </a:lnTo>
                      <a:lnTo>
                        <a:pt x="1515" y="173"/>
                      </a:lnTo>
                      <a:lnTo>
                        <a:pt x="1472" y="171"/>
                      </a:lnTo>
                      <a:lnTo>
                        <a:pt x="1445" y="169"/>
                      </a:lnTo>
                      <a:lnTo>
                        <a:pt x="1423" y="167"/>
                      </a:lnTo>
                      <a:lnTo>
                        <a:pt x="1401" y="165"/>
                      </a:lnTo>
                      <a:lnTo>
                        <a:pt x="1375" y="162"/>
                      </a:lnTo>
                      <a:lnTo>
                        <a:pt x="1357" y="158"/>
                      </a:lnTo>
                      <a:lnTo>
                        <a:pt x="1331" y="151"/>
                      </a:lnTo>
                      <a:lnTo>
                        <a:pt x="1316" y="159"/>
                      </a:lnTo>
                      <a:lnTo>
                        <a:pt x="1308" y="167"/>
                      </a:lnTo>
                      <a:lnTo>
                        <a:pt x="1318" y="177"/>
                      </a:lnTo>
                      <a:lnTo>
                        <a:pt x="1337" y="183"/>
                      </a:lnTo>
                      <a:lnTo>
                        <a:pt x="1313" y="183"/>
                      </a:lnTo>
                      <a:lnTo>
                        <a:pt x="1326" y="191"/>
                      </a:lnTo>
                      <a:lnTo>
                        <a:pt x="1344" y="198"/>
                      </a:lnTo>
                      <a:lnTo>
                        <a:pt x="1368" y="208"/>
                      </a:lnTo>
                      <a:lnTo>
                        <a:pt x="1392" y="215"/>
                      </a:lnTo>
                      <a:lnTo>
                        <a:pt x="1363" y="212"/>
                      </a:lnTo>
                      <a:lnTo>
                        <a:pt x="1338" y="208"/>
                      </a:lnTo>
                      <a:lnTo>
                        <a:pt x="1313" y="202"/>
                      </a:lnTo>
                      <a:lnTo>
                        <a:pt x="1297" y="196"/>
                      </a:lnTo>
                      <a:lnTo>
                        <a:pt x="1289" y="194"/>
                      </a:lnTo>
                      <a:lnTo>
                        <a:pt x="1275" y="193"/>
                      </a:lnTo>
                      <a:lnTo>
                        <a:pt x="1259" y="193"/>
                      </a:lnTo>
                      <a:lnTo>
                        <a:pt x="1238" y="194"/>
                      </a:lnTo>
                      <a:lnTo>
                        <a:pt x="1220" y="198"/>
                      </a:lnTo>
                      <a:lnTo>
                        <a:pt x="1204" y="199"/>
                      </a:lnTo>
                      <a:lnTo>
                        <a:pt x="1182" y="198"/>
                      </a:lnTo>
                      <a:lnTo>
                        <a:pt x="1198" y="212"/>
                      </a:lnTo>
                      <a:lnTo>
                        <a:pt x="1216" y="222"/>
                      </a:lnTo>
                      <a:lnTo>
                        <a:pt x="1237" y="228"/>
                      </a:lnTo>
                      <a:lnTo>
                        <a:pt x="1213" y="225"/>
                      </a:lnTo>
                      <a:lnTo>
                        <a:pt x="1191" y="222"/>
                      </a:lnTo>
                      <a:lnTo>
                        <a:pt x="1168" y="221"/>
                      </a:lnTo>
                      <a:lnTo>
                        <a:pt x="1149" y="216"/>
                      </a:lnTo>
                      <a:lnTo>
                        <a:pt x="1124" y="214"/>
                      </a:lnTo>
                      <a:lnTo>
                        <a:pt x="1095" y="211"/>
                      </a:lnTo>
                      <a:lnTo>
                        <a:pt x="1069" y="211"/>
                      </a:lnTo>
                      <a:lnTo>
                        <a:pt x="1049" y="206"/>
                      </a:lnTo>
                      <a:lnTo>
                        <a:pt x="1043" y="202"/>
                      </a:lnTo>
                      <a:lnTo>
                        <a:pt x="1036" y="198"/>
                      </a:lnTo>
                      <a:lnTo>
                        <a:pt x="1021" y="198"/>
                      </a:lnTo>
                      <a:lnTo>
                        <a:pt x="995" y="203"/>
                      </a:lnTo>
                      <a:lnTo>
                        <a:pt x="964" y="206"/>
                      </a:lnTo>
                      <a:lnTo>
                        <a:pt x="934" y="211"/>
                      </a:lnTo>
                      <a:lnTo>
                        <a:pt x="917" y="214"/>
                      </a:lnTo>
                      <a:lnTo>
                        <a:pt x="888" y="214"/>
                      </a:lnTo>
                      <a:lnTo>
                        <a:pt x="856" y="215"/>
                      </a:lnTo>
                      <a:lnTo>
                        <a:pt x="831" y="219"/>
                      </a:lnTo>
                      <a:lnTo>
                        <a:pt x="801" y="225"/>
                      </a:lnTo>
                      <a:lnTo>
                        <a:pt x="775" y="229"/>
                      </a:lnTo>
                      <a:lnTo>
                        <a:pt x="753" y="232"/>
                      </a:lnTo>
                      <a:lnTo>
                        <a:pt x="731" y="229"/>
                      </a:lnTo>
                      <a:lnTo>
                        <a:pt x="696" y="222"/>
                      </a:lnTo>
                      <a:lnTo>
                        <a:pt x="668" y="225"/>
                      </a:lnTo>
                      <a:lnTo>
                        <a:pt x="642" y="225"/>
                      </a:lnTo>
                      <a:lnTo>
                        <a:pt x="614" y="225"/>
                      </a:lnTo>
                      <a:lnTo>
                        <a:pt x="587" y="224"/>
                      </a:lnTo>
                      <a:lnTo>
                        <a:pt x="550" y="218"/>
                      </a:lnTo>
                      <a:lnTo>
                        <a:pt x="532" y="218"/>
                      </a:lnTo>
                      <a:lnTo>
                        <a:pt x="511" y="216"/>
                      </a:lnTo>
                      <a:lnTo>
                        <a:pt x="473" y="221"/>
                      </a:lnTo>
                      <a:lnTo>
                        <a:pt x="454" y="222"/>
                      </a:lnTo>
                      <a:lnTo>
                        <a:pt x="437" y="222"/>
                      </a:lnTo>
                      <a:lnTo>
                        <a:pt x="415" y="219"/>
                      </a:lnTo>
                      <a:lnTo>
                        <a:pt x="393" y="218"/>
                      </a:lnTo>
                      <a:lnTo>
                        <a:pt x="377" y="218"/>
                      </a:lnTo>
                      <a:lnTo>
                        <a:pt x="370" y="221"/>
                      </a:lnTo>
                      <a:lnTo>
                        <a:pt x="370" y="229"/>
                      </a:lnTo>
                      <a:lnTo>
                        <a:pt x="362" y="232"/>
                      </a:lnTo>
                      <a:lnTo>
                        <a:pt x="348" y="232"/>
                      </a:lnTo>
                      <a:lnTo>
                        <a:pt x="335" y="229"/>
                      </a:lnTo>
                      <a:lnTo>
                        <a:pt x="322" y="222"/>
                      </a:lnTo>
                      <a:lnTo>
                        <a:pt x="314" y="214"/>
                      </a:lnTo>
                      <a:lnTo>
                        <a:pt x="306" y="210"/>
                      </a:lnTo>
                      <a:lnTo>
                        <a:pt x="284" y="210"/>
                      </a:lnTo>
                      <a:lnTo>
                        <a:pt x="267" y="210"/>
                      </a:lnTo>
                      <a:lnTo>
                        <a:pt x="247" y="218"/>
                      </a:lnTo>
                      <a:lnTo>
                        <a:pt x="230" y="222"/>
                      </a:lnTo>
                      <a:lnTo>
                        <a:pt x="211" y="229"/>
                      </a:lnTo>
                      <a:lnTo>
                        <a:pt x="199" y="230"/>
                      </a:lnTo>
                      <a:lnTo>
                        <a:pt x="186" y="232"/>
                      </a:lnTo>
                      <a:lnTo>
                        <a:pt x="173" y="232"/>
                      </a:lnTo>
                      <a:lnTo>
                        <a:pt x="151" y="229"/>
                      </a:lnTo>
                      <a:lnTo>
                        <a:pt x="77" y="237"/>
                      </a:lnTo>
                      <a:lnTo>
                        <a:pt x="99" y="229"/>
                      </a:lnTo>
                      <a:lnTo>
                        <a:pt x="112" y="225"/>
                      </a:lnTo>
                      <a:lnTo>
                        <a:pt x="118" y="218"/>
                      </a:lnTo>
                      <a:lnTo>
                        <a:pt x="112" y="212"/>
                      </a:lnTo>
                      <a:lnTo>
                        <a:pt x="86" y="207"/>
                      </a:lnTo>
                      <a:lnTo>
                        <a:pt x="69" y="203"/>
                      </a:lnTo>
                      <a:lnTo>
                        <a:pt x="47" y="198"/>
                      </a:lnTo>
                      <a:lnTo>
                        <a:pt x="29" y="191"/>
                      </a:lnTo>
                      <a:lnTo>
                        <a:pt x="0" y="181"/>
                      </a:lnTo>
                      <a:lnTo>
                        <a:pt x="43" y="181"/>
                      </a:lnTo>
                      <a:lnTo>
                        <a:pt x="70" y="180"/>
                      </a:lnTo>
                      <a:lnTo>
                        <a:pt x="96" y="177"/>
                      </a:lnTo>
                      <a:lnTo>
                        <a:pt x="118" y="175"/>
                      </a:lnTo>
                      <a:lnTo>
                        <a:pt x="133" y="175"/>
                      </a:lnTo>
                      <a:lnTo>
                        <a:pt x="145" y="177"/>
                      </a:lnTo>
                      <a:lnTo>
                        <a:pt x="158" y="178"/>
                      </a:lnTo>
                      <a:lnTo>
                        <a:pt x="174" y="183"/>
                      </a:lnTo>
                      <a:lnTo>
                        <a:pt x="189" y="187"/>
                      </a:lnTo>
                      <a:lnTo>
                        <a:pt x="167" y="192"/>
                      </a:lnTo>
                      <a:lnTo>
                        <a:pt x="151" y="198"/>
                      </a:lnTo>
                      <a:lnTo>
                        <a:pt x="140" y="206"/>
                      </a:lnTo>
                      <a:lnTo>
                        <a:pt x="136" y="214"/>
                      </a:lnTo>
                      <a:lnTo>
                        <a:pt x="140" y="222"/>
                      </a:lnTo>
                      <a:lnTo>
                        <a:pt x="156" y="219"/>
                      </a:lnTo>
                      <a:lnTo>
                        <a:pt x="169" y="216"/>
                      </a:lnTo>
                      <a:lnTo>
                        <a:pt x="178" y="210"/>
                      </a:lnTo>
                      <a:lnTo>
                        <a:pt x="195" y="203"/>
                      </a:lnTo>
                      <a:lnTo>
                        <a:pt x="215" y="200"/>
                      </a:lnTo>
                      <a:lnTo>
                        <a:pt x="233" y="198"/>
                      </a:lnTo>
                      <a:lnTo>
                        <a:pt x="258" y="200"/>
                      </a:lnTo>
                      <a:lnTo>
                        <a:pt x="274" y="199"/>
                      </a:lnTo>
                      <a:lnTo>
                        <a:pt x="289" y="198"/>
                      </a:lnTo>
                      <a:lnTo>
                        <a:pt x="306" y="194"/>
                      </a:lnTo>
                      <a:lnTo>
                        <a:pt x="324" y="189"/>
                      </a:lnTo>
                      <a:lnTo>
                        <a:pt x="339" y="183"/>
                      </a:lnTo>
                      <a:lnTo>
                        <a:pt x="354" y="178"/>
                      </a:lnTo>
                      <a:lnTo>
                        <a:pt x="367" y="178"/>
                      </a:lnTo>
                      <a:lnTo>
                        <a:pt x="381" y="183"/>
                      </a:lnTo>
                      <a:lnTo>
                        <a:pt x="398" y="187"/>
                      </a:lnTo>
                      <a:lnTo>
                        <a:pt x="414" y="187"/>
                      </a:lnTo>
                      <a:lnTo>
                        <a:pt x="436" y="187"/>
                      </a:lnTo>
                      <a:lnTo>
                        <a:pt x="454" y="184"/>
                      </a:lnTo>
                      <a:lnTo>
                        <a:pt x="472" y="181"/>
                      </a:lnTo>
                      <a:lnTo>
                        <a:pt x="488" y="180"/>
                      </a:lnTo>
                      <a:lnTo>
                        <a:pt x="502" y="181"/>
                      </a:lnTo>
                      <a:lnTo>
                        <a:pt x="522" y="183"/>
                      </a:lnTo>
                      <a:lnTo>
                        <a:pt x="539" y="185"/>
                      </a:lnTo>
                      <a:lnTo>
                        <a:pt x="559" y="183"/>
                      </a:lnTo>
                      <a:lnTo>
                        <a:pt x="583" y="181"/>
                      </a:lnTo>
                      <a:lnTo>
                        <a:pt x="609" y="180"/>
                      </a:lnTo>
                      <a:lnTo>
                        <a:pt x="635" y="178"/>
                      </a:lnTo>
                      <a:lnTo>
                        <a:pt x="653" y="174"/>
                      </a:lnTo>
                      <a:lnTo>
                        <a:pt x="670" y="169"/>
                      </a:lnTo>
                      <a:lnTo>
                        <a:pt x="686" y="163"/>
                      </a:lnTo>
                      <a:lnTo>
                        <a:pt x="699" y="162"/>
                      </a:lnTo>
                      <a:lnTo>
                        <a:pt x="710" y="162"/>
                      </a:lnTo>
                      <a:lnTo>
                        <a:pt x="724" y="163"/>
                      </a:lnTo>
                      <a:lnTo>
                        <a:pt x="758" y="166"/>
                      </a:lnTo>
                      <a:lnTo>
                        <a:pt x="720" y="169"/>
                      </a:lnTo>
                      <a:lnTo>
                        <a:pt x="729" y="178"/>
                      </a:lnTo>
                      <a:lnTo>
                        <a:pt x="743" y="188"/>
                      </a:lnTo>
                      <a:lnTo>
                        <a:pt x="757" y="189"/>
                      </a:lnTo>
                      <a:lnTo>
                        <a:pt x="939" y="167"/>
                      </a:lnTo>
                      <a:lnTo>
                        <a:pt x="950" y="163"/>
                      </a:lnTo>
                      <a:lnTo>
                        <a:pt x="917" y="155"/>
                      </a:lnTo>
                      <a:lnTo>
                        <a:pt x="941" y="151"/>
                      </a:lnTo>
                      <a:lnTo>
                        <a:pt x="956" y="150"/>
                      </a:lnTo>
                      <a:lnTo>
                        <a:pt x="967" y="143"/>
                      </a:lnTo>
                      <a:lnTo>
                        <a:pt x="982" y="139"/>
                      </a:lnTo>
                      <a:lnTo>
                        <a:pt x="999" y="142"/>
                      </a:lnTo>
                      <a:lnTo>
                        <a:pt x="1017" y="144"/>
                      </a:lnTo>
                      <a:lnTo>
                        <a:pt x="1034" y="150"/>
                      </a:lnTo>
                      <a:lnTo>
                        <a:pt x="1049" y="143"/>
                      </a:lnTo>
                      <a:lnTo>
                        <a:pt x="1065" y="133"/>
                      </a:lnTo>
                      <a:lnTo>
                        <a:pt x="1082" y="125"/>
                      </a:lnTo>
                      <a:lnTo>
                        <a:pt x="1098" y="120"/>
                      </a:lnTo>
                      <a:lnTo>
                        <a:pt x="1116" y="116"/>
                      </a:lnTo>
                      <a:lnTo>
                        <a:pt x="1134" y="114"/>
                      </a:lnTo>
                      <a:lnTo>
                        <a:pt x="1163" y="116"/>
                      </a:lnTo>
                      <a:lnTo>
                        <a:pt x="1186" y="118"/>
                      </a:lnTo>
                      <a:lnTo>
                        <a:pt x="1209" y="121"/>
                      </a:lnTo>
                      <a:lnTo>
                        <a:pt x="1237" y="124"/>
                      </a:lnTo>
                      <a:lnTo>
                        <a:pt x="1264" y="128"/>
                      </a:lnTo>
                      <a:lnTo>
                        <a:pt x="1286" y="130"/>
                      </a:lnTo>
                      <a:lnTo>
                        <a:pt x="1305" y="136"/>
                      </a:lnTo>
                      <a:lnTo>
                        <a:pt x="1326" y="140"/>
                      </a:lnTo>
                      <a:lnTo>
                        <a:pt x="1345" y="140"/>
                      </a:lnTo>
                      <a:lnTo>
                        <a:pt x="1364" y="144"/>
                      </a:lnTo>
                      <a:lnTo>
                        <a:pt x="1385" y="148"/>
                      </a:lnTo>
                      <a:lnTo>
                        <a:pt x="1407" y="152"/>
                      </a:lnTo>
                      <a:lnTo>
                        <a:pt x="1429" y="152"/>
                      </a:lnTo>
                      <a:lnTo>
                        <a:pt x="1451" y="152"/>
                      </a:lnTo>
                      <a:lnTo>
                        <a:pt x="1467" y="151"/>
                      </a:lnTo>
                      <a:lnTo>
                        <a:pt x="1482" y="155"/>
                      </a:lnTo>
                      <a:lnTo>
                        <a:pt x="1503" y="160"/>
                      </a:lnTo>
                      <a:lnTo>
                        <a:pt x="1525" y="160"/>
                      </a:lnTo>
                      <a:lnTo>
                        <a:pt x="1551" y="160"/>
                      </a:lnTo>
                      <a:lnTo>
                        <a:pt x="1573" y="160"/>
                      </a:lnTo>
                      <a:lnTo>
                        <a:pt x="1600" y="160"/>
                      </a:lnTo>
                      <a:lnTo>
                        <a:pt x="1651" y="166"/>
                      </a:lnTo>
                      <a:lnTo>
                        <a:pt x="1662" y="163"/>
                      </a:lnTo>
                      <a:lnTo>
                        <a:pt x="1673" y="156"/>
                      </a:lnTo>
                      <a:lnTo>
                        <a:pt x="1688" y="152"/>
                      </a:lnTo>
                      <a:lnTo>
                        <a:pt x="1701" y="151"/>
                      </a:lnTo>
                      <a:lnTo>
                        <a:pt x="1721" y="152"/>
                      </a:lnTo>
                      <a:lnTo>
                        <a:pt x="1743" y="156"/>
                      </a:lnTo>
                      <a:lnTo>
                        <a:pt x="1778" y="159"/>
                      </a:lnTo>
                      <a:lnTo>
                        <a:pt x="1793" y="154"/>
                      </a:lnTo>
                      <a:lnTo>
                        <a:pt x="1804" y="148"/>
                      </a:lnTo>
                      <a:lnTo>
                        <a:pt x="1817" y="146"/>
                      </a:lnTo>
                      <a:lnTo>
                        <a:pt x="1833" y="144"/>
                      </a:lnTo>
                      <a:lnTo>
                        <a:pt x="1847" y="140"/>
                      </a:lnTo>
                      <a:lnTo>
                        <a:pt x="1852" y="133"/>
                      </a:lnTo>
                      <a:lnTo>
                        <a:pt x="1863" y="121"/>
                      </a:lnTo>
                      <a:lnTo>
                        <a:pt x="1876" y="117"/>
                      </a:lnTo>
                      <a:lnTo>
                        <a:pt x="1892" y="114"/>
                      </a:lnTo>
                      <a:lnTo>
                        <a:pt x="1907" y="114"/>
                      </a:lnTo>
                      <a:lnTo>
                        <a:pt x="1914" y="120"/>
                      </a:lnTo>
                      <a:lnTo>
                        <a:pt x="1924" y="133"/>
                      </a:lnTo>
                      <a:lnTo>
                        <a:pt x="1935" y="130"/>
                      </a:lnTo>
                      <a:lnTo>
                        <a:pt x="1947" y="129"/>
                      </a:lnTo>
                      <a:lnTo>
                        <a:pt x="1962" y="130"/>
                      </a:lnTo>
                      <a:lnTo>
                        <a:pt x="1976" y="135"/>
                      </a:lnTo>
                      <a:lnTo>
                        <a:pt x="1993" y="139"/>
                      </a:lnTo>
                      <a:lnTo>
                        <a:pt x="2015" y="139"/>
                      </a:lnTo>
                      <a:lnTo>
                        <a:pt x="1999" y="128"/>
                      </a:lnTo>
                      <a:lnTo>
                        <a:pt x="1992" y="120"/>
                      </a:lnTo>
                      <a:lnTo>
                        <a:pt x="2007" y="122"/>
                      </a:lnTo>
                      <a:lnTo>
                        <a:pt x="2036" y="128"/>
                      </a:lnTo>
                      <a:lnTo>
                        <a:pt x="2061" y="126"/>
                      </a:lnTo>
                      <a:lnTo>
                        <a:pt x="2062" y="120"/>
                      </a:lnTo>
                      <a:lnTo>
                        <a:pt x="2066" y="113"/>
                      </a:lnTo>
                      <a:lnTo>
                        <a:pt x="2072" y="108"/>
                      </a:lnTo>
                      <a:lnTo>
                        <a:pt x="2085" y="104"/>
                      </a:lnTo>
                      <a:lnTo>
                        <a:pt x="2100" y="104"/>
                      </a:lnTo>
                      <a:lnTo>
                        <a:pt x="2120" y="105"/>
                      </a:lnTo>
                      <a:lnTo>
                        <a:pt x="2137" y="108"/>
                      </a:lnTo>
                      <a:lnTo>
                        <a:pt x="2155" y="104"/>
                      </a:lnTo>
                      <a:lnTo>
                        <a:pt x="2176" y="98"/>
                      </a:lnTo>
                      <a:lnTo>
                        <a:pt x="2190" y="90"/>
                      </a:lnTo>
                      <a:lnTo>
                        <a:pt x="2174" y="74"/>
                      </a:lnTo>
                      <a:lnTo>
                        <a:pt x="2159" y="69"/>
                      </a:lnTo>
                      <a:lnTo>
                        <a:pt x="2143" y="62"/>
                      </a:lnTo>
                      <a:lnTo>
                        <a:pt x="2132" y="58"/>
                      </a:lnTo>
                      <a:lnTo>
                        <a:pt x="2122" y="50"/>
                      </a:lnTo>
                      <a:lnTo>
                        <a:pt x="2117" y="43"/>
                      </a:lnTo>
                      <a:lnTo>
                        <a:pt x="2114" y="35"/>
                      </a:lnTo>
                      <a:lnTo>
                        <a:pt x="2110" y="26"/>
                      </a:lnTo>
                      <a:lnTo>
                        <a:pt x="2139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422600" y="3722400"/>
                  <a:ext cx="820800" cy="87840"/>
                </a:xfrm>
                <a:custGeom>
                  <a:avLst/>
                  <a:gdLst/>
                  <a:ahLst/>
                  <a:rect l="l" t="t" r="r" b="b"/>
                  <a:pathLst>
                    <a:path w="626" h="70">
                      <a:moveTo>
                        <a:pt x="625" y="35"/>
                      </a:moveTo>
                      <a:lnTo>
                        <a:pt x="582" y="27"/>
                      </a:lnTo>
                      <a:lnTo>
                        <a:pt x="571" y="18"/>
                      </a:lnTo>
                      <a:lnTo>
                        <a:pt x="553" y="15"/>
                      </a:lnTo>
                      <a:lnTo>
                        <a:pt x="540" y="13"/>
                      </a:lnTo>
                      <a:lnTo>
                        <a:pt x="524" y="11"/>
                      </a:lnTo>
                      <a:lnTo>
                        <a:pt x="507" y="11"/>
                      </a:lnTo>
                      <a:lnTo>
                        <a:pt x="486" y="11"/>
                      </a:lnTo>
                      <a:lnTo>
                        <a:pt x="468" y="7"/>
                      </a:lnTo>
                      <a:lnTo>
                        <a:pt x="453" y="6"/>
                      </a:lnTo>
                      <a:lnTo>
                        <a:pt x="427" y="7"/>
                      </a:lnTo>
                      <a:lnTo>
                        <a:pt x="411" y="3"/>
                      </a:lnTo>
                      <a:lnTo>
                        <a:pt x="395" y="0"/>
                      </a:lnTo>
                      <a:lnTo>
                        <a:pt x="380" y="0"/>
                      </a:lnTo>
                      <a:lnTo>
                        <a:pt x="364" y="4"/>
                      </a:lnTo>
                      <a:lnTo>
                        <a:pt x="349" y="11"/>
                      </a:lnTo>
                      <a:lnTo>
                        <a:pt x="329" y="15"/>
                      </a:lnTo>
                      <a:lnTo>
                        <a:pt x="299" y="18"/>
                      </a:lnTo>
                      <a:lnTo>
                        <a:pt x="284" y="14"/>
                      </a:lnTo>
                      <a:lnTo>
                        <a:pt x="265" y="15"/>
                      </a:lnTo>
                      <a:lnTo>
                        <a:pt x="252" y="18"/>
                      </a:lnTo>
                      <a:lnTo>
                        <a:pt x="231" y="27"/>
                      </a:lnTo>
                      <a:lnTo>
                        <a:pt x="215" y="38"/>
                      </a:lnTo>
                      <a:lnTo>
                        <a:pt x="189" y="44"/>
                      </a:lnTo>
                      <a:lnTo>
                        <a:pt x="152" y="41"/>
                      </a:lnTo>
                      <a:lnTo>
                        <a:pt x="133" y="48"/>
                      </a:lnTo>
                      <a:lnTo>
                        <a:pt x="116" y="52"/>
                      </a:lnTo>
                      <a:lnTo>
                        <a:pt x="93" y="54"/>
                      </a:lnTo>
                      <a:lnTo>
                        <a:pt x="0" y="65"/>
                      </a:lnTo>
                      <a:lnTo>
                        <a:pt x="101" y="61"/>
                      </a:lnTo>
                      <a:lnTo>
                        <a:pt x="120" y="65"/>
                      </a:lnTo>
                      <a:lnTo>
                        <a:pt x="137" y="69"/>
                      </a:lnTo>
                      <a:lnTo>
                        <a:pt x="149" y="68"/>
                      </a:lnTo>
                      <a:lnTo>
                        <a:pt x="164" y="65"/>
                      </a:lnTo>
                      <a:lnTo>
                        <a:pt x="183" y="59"/>
                      </a:lnTo>
                      <a:lnTo>
                        <a:pt x="210" y="57"/>
                      </a:lnTo>
                      <a:lnTo>
                        <a:pt x="235" y="51"/>
                      </a:lnTo>
                      <a:lnTo>
                        <a:pt x="252" y="52"/>
                      </a:lnTo>
                      <a:lnTo>
                        <a:pt x="271" y="54"/>
                      </a:lnTo>
                      <a:lnTo>
                        <a:pt x="313" y="48"/>
                      </a:lnTo>
                      <a:lnTo>
                        <a:pt x="333" y="46"/>
                      </a:lnTo>
                      <a:lnTo>
                        <a:pt x="360" y="38"/>
                      </a:lnTo>
                      <a:lnTo>
                        <a:pt x="387" y="38"/>
                      </a:lnTo>
                      <a:lnTo>
                        <a:pt x="419" y="38"/>
                      </a:lnTo>
                      <a:lnTo>
                        <a:pt x="442" y="39"/>
                      </a:lnTo>
                      <a:lnTo>
                        <a:pt x="464" y="37"/>
                      </a:lnTo>
                      <a:lnTo>
                        <a:pt x="486" y="30"/>
                      </a:lnTo>
                      <a:lnTo>
                        <a:pt x="507" y="35"/>
                      </a:lnTo>
                      <a:lnTo>
                        <a:pt x="526" y="28"/>
                      </a:lnTo>
                      <a:lnTo>
                        <a:pt x="542" y="30"/>
                      </a:lnTo>
                      <a:lnTo>
                        <a:pt x="565" y="31"/>
                      </a:lnTo>
                      <a:lnTo>
                        <a:pt x="590" y="32"/>
                      </a:lnTo>
                      <a:lnTo>
                        <a:pt x="625" y="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703960" y="3697200"/>
                  <a:ext cx="3449520" cy="298440"/>
                </a:xfrm>
                <a:custGeom>
                  <a:avLst/>
                  <a:gdLst/>
                  <a:ahLst/>
                  <a:rect l="l" t="t" r="r" b="b"/>
                  <a:pathLst>
                    <a:path w="2631" h="238">
                      <a:moveTo>
                        <a:pt x="2138" y="0"/>
                      </a:moveTo>
                      <a:lnTo>
                        <a:pt x="2159" y="5"/>
                      </a:lnTo>
                      <a:lnTo>
                        <a:pt x="2175" y="9"/>
                      </a:lnTo>
                      <a:lnTo>
                        <a:pt x="2189" y="15"/>
                      </a:lnTo>
                      <a:lnTo>
                        <a:pt x="2197" y="21"/>
                      </a:lnTo>
                      <a:lnTo>
                        <a:pt x="2202" y="31"/>
                      </a:lnTo>
                      <a:lnTo>
                        <a:pt x="2224" y="32"/>
                      </a:lnTo>
                      <a:lnTo>
                        <a:pt x="2238" y="35"/>
                      </a:lnTo>
                      <a:lnTo>
                        <a:pt x="2249" y="40"/>
                      </a:lnTo>
                      <a:lnTo>
                        <a:pt x="2265" y="45"/>
                      </a:lnTo>
                      <a:lnTo>
                        <a:pt x="2283" y="45"/>
                      </a:lnTo>
                      <a:lnTo>
                        <a:pt x="2305" y="55"/>
                      </a:lnTo>
                      <a:lnTo>
                        <a:pt x="2331" y="46"/>
                      </a:lnTo>
                      <a:lnTo>
                        <a:pt x="2316" y="67"/>
                      </a:lnTo>
                      <a:lnTo>
                        <a:pt x="2341" y="67"/>
                      </a:lnTo>
                      <a:lnTo>
                        <a:pt x="2372" y="68"/>
                      </a:lnTo>
                      <a:lnTo>
                        <a:pt x="2396" y="62"/>
                      </a:lnTo>
                      <a:lnTo>
                        <a:pt x="2423" y="74"/>
                      </a:lnTo>
                      <a:lnTo>
                        <a:pt x="2448" y="67"/>
                      </a:lnTo>
                      <a:lnTo>
                        <a:pt x="2455" y="68"/>
                      </a:lnTo>
                      <a:lnTo>
                        <a:pt x="2461" y="73"/>
                      </a:lnTo>
                      <a:lnTo>
                        <a:pt x="2470" y="78"/>
                      </a:lnTo>
                      <a:lnTo>
                        <a:pt x="2475" y="86"/>
                      </a:lnTo>
                      <a:lnTo>
                        <a:pt x="2485" y="92"/>
                      </a:lnTo>
                      <a:lnTo>
                        <a:pt x="2492" y="96"/>
                      </a:lnTo>
                      <a:lnTo>
                        <a:pt x="2508" y="96"/>
                      </a:lnTo>
                      <a:lnTo>
                        <a:pt x="2526" y="96"/>
                      </a:lnTo>
                      <a:lnTo>
                        <a:pt x="2534" y="102"/>
                      </a:lnTo>
                      <a:lnTo>
                        <a:pt x="2546" y="108"/>
                      </a:lnTo>
                      <a:lnTo>
                        <a:pt x="2557" y="108"/>
                      </a:lnTo>
                      <a:lnTo>
                        <a:pt x="2574" y="109"/>
                      </a:lnTo>
                      <a:lnTo>
                        <a:pt x="2594" y="109"/>
                      </a:lnTo>
                      <a:lnTo>
                        <a:pt x="2614" y="116"/>
                      </a:lnTo>
                      <a:lnTo>
                        <a:pt x="2630" y="133"/>
                      </a:lnTo>
                      <a:lnTo>
                        <a:pt x="2616" y="132"/>
                      </a:lnTo>
                      <a:lnTo>
                        <a:pt x="2594" y="126"/>
                      </a:lnTo>
                      <a:lnTo>
                        <a:pt x="2572" y="125"/>
                      </a:lnTo>
                      <a:lnTo>
                        <a:pt x="2556" y="126"/>
                      </a:lnTo>
                      <a:lnTo>
                        <a:pt x="2541" y="133"/>
                      </a:lnTo>
                      <a:lnTo>
                        <a:pt x="2524" y="135"/>
                      </a:lnTo>
                      <a:lnTo>
                        <a:pt x="2508" y="132"/>
                      </a:lnTo>
                      <a:lnTo>
                        <a:pt x="2490" y="126"/>
                      </a:lnTo>
                      <a:lnTo>
                        <a:pt x="2474" y="122"/>
                      </a:lnTo>
                      <a:lnTo>
                        <a:pt x="2459" y="122"/>
                      </a:lnTo>
                      <a:lnTo>
                        <a:pt x="2448" y="132"/>
                      </a:lnTo>
                      <a:lnTo>
                        <a:pt x="2438" y="139"/>
                      </a:lnTo>
                      <a:lnTo>
                        <a:pt x="2420" y="139"/>
                      </a:lnTo>
                      <a:lnTo>
                        <a:pt x="2404" y="136"/>
                      </a:lnTo>
                      <a:lnTo>
                        <a:pt x="2385" y="132"/>
                      </a:lnTo>
                      <a:lnTo>
                        <a:pt x="2368" y="128"/>
                      </a:lnTo>
                      <a:lnTo>
                        <a:pt x="2352" y="135"/>
                      </a:lnTo>
                      <a:lnTo>
                        <a:pt x="2335" y="143"/>
                      </a:lnTo>
                      <a:lnTo>
                        <a:pt x="2319" y="147"/>
                      </a:lnTo>
                      <a:lnTo>
                        <a:pt x="2302" y="150"/>
                      </a:lnTo>
                      <a:lnTo>
                        <a:pt x="2281" y="152"/>
                      </a:lnTo>
                      <a:lnTo>
                        <a:pt x="2259" y="154"/>
                      </a:lnTo>
                      <a:lnTo>
                        <a:pt x="2238" y="152"/>
                      </a:lnTo>
                      <a:lnTo>
                        <a:pt x="2213" y="148"/>
                      </a:lnTo>
                      <a:lnTo>
                        <a:pt x="2224" y="133"/>
                      </a:lnTo>
                      <a:lnTo>
                        <a:pt x="2222" y="125"/>
                      </a:lnTo>
                      <a:lnTo>
                        <a:pt x="2211" y="120"/>
                      </a:lnTo>
                      <a:lnTo>
                        <a:pt x="2208" y="130"/>
                      </a:lnTo>
                      <a:lnTo>
                        <a:pt x="2194" y="139"/>
                      </a:lnTo>
                      <a:lnTo>
                        <a:pt x="2180" y="143"/>
                      </a:lnTo>
                      <a:lnTo>
                        <a:pt x="2165" y="147"/>
                      </a:lnTo>
                      <a:lnTo>
                        <a:pt x="2148" y="152"/>
                      </a:lnTo>
                      <a:lnTo>
                        <a:pt x="2130" y="155"/>
                      </a:lnTo>
                      <a:lnTo>
                        <a:pt x="2104" y="158"/>
                      </a:lnTo>
                      <a:lnTo>
                        <a:pt x="2087" y="156"/>
                      </a:lnTo>
                      <a:lnTo>
                        <a:pt x="2067" y="158"/>
                      </a:lnTo>
                      <a:lnTo>
                        <a:pt x="2034" y="163"/>
                      </a:lnTo>
                      <a:lnTo>
                        <a:pt x="2045" y="170"/>
                      </a:lnTo>
                      <a:lnTo>
                        <a:pt x="2060" y="178"/>
                      </a:lnTo>
                      <a:lnTo>
                        <a:pt x="2089" y="192"/>
                      </a:lnTo>
                      <a:lnTo>
                        <a:pt x="2071" y="193"/>
                      </a:lnTo>
                      <a:lnTo>
                        <a:pt x="2054" y="194"/>
                      </a:lnTo>
                      <a:lnTo>
                        <a:pt x="2031" y="198"/>
                      </a:lnTo>
                      <a:lnTo>
                        <a:pt x="2006" y="200"/>
                      </a:lnTo>
                      <a:lnTo>
                        <a:pt x="1993" y="199"/>
                      </a:lnTo>
                      <a:lnTo>
                        <a:pt x="1982" y="193"/>
                      </a:lnTo>
                      <a:lnTo>
                        <a:pt x="1967" y="189"/>
                      </a:lnTo>
                      <a:lnTo>
                        <a:pt x="1946" y="188"/>
                      </a:lnTo>
                      <a:lnTo>
                        <a:pt x="1919" y="187"/>
                      </a:lnTo>
                      <a:lnTo>
                        <a:pt x="1900" y="178"/>
                      </a:lnTo>
                      <a:lnTo>
                        <a:pt x="1873" y="171"/>
                      </a:lnTo>
                      <a:lnTo>
                        <a:pt x="1852" y="166"/>
                      </a:lnTo>
                      <a:lnTo>
                        <a:pt x="1836" y="167"/>
                      </a:lnTo>
                      <a:lnTo>
                        <a:pt x="1783" y="169"/>
                      </a:lnTo>
                      <a:lnTo>
                        <a:pt x="1742" y="173"/>
                      </a:lnTo>
                      <a:lnTo>
                        <a:pt x="1715" y="173"/>
                      </a:lnTo>
                      <a:lnTo>
                        <a:pt x="1693" y="175"/>
                      </a:lnTo>
                      <a:lnTo>
                        <a:pt x="1656" y="191"/>
                      </a:lnTo>
                      <a:lnTo>
                        <a:pt x="1638" y="191"/>
                      </a:lnTo>
                      <a:lnTo>
                        <a:pt x="1617" y="187"/>
                      </a:lnTo>
                      <a:lnTo>
                        <a:pt x="1595" y="181"/>
                      </a:lnTo>
                      <a:lnTo>
                        <a:pt x="1577" y="178"/>
                      </a:lnTo>
                      <a:lnTo>
                        <a:pt x="1514" y="173"/>
                      </a:lnTo>
                      <a:lnTo>
                        <a:pt x="1472" y="171"/>
                      </a:lnTo>
                      <a:lnTo>
                        <a:pt x="1445" y="169"/>
                      </a:lnTo>
                      <a:lnTo>
                        <a:pt x="1423" y="167"/>
                      </a:lnTo>
                      <a:lnTo>
                        <a:pt x="1401" y="165"/>
                      </a:lnTo>
                      <a:lnTo>
                        <a:pt x="1375" y="162"/>
                      </a:lnTo>
                      <a:lnTo>
                        <a:pt x="1357" y="158"/>
                      </a:lnTo>
                      <a:lnTo>
                        <a:pt x="1331" y="151"/>
                      </a:lnTo>
                      <a:lnTo>
                        <a:pt x="1316" y="159"/>
                      </a:lnTo>
                      <a:lnTo>
                        <a:pt x="1307" y="167"/>
                      </a:lnTo>
                      <a:lnTo>
                        <a:pt x="1317" y="177"/>
                      </a:lnTo>
                      <a:lnTo>
                        <a:pt x="1336" y="183"/>
                      </a:lnTo>
                      <a:lnTo>
                        <a:pt x="1313" y="183"/>
                      </a:lnTo>
                      <a:lnTo>
                        <a:pt x="1325" y="191"/>
                      </a:lnTo>
                      <a:lnTo>
                        <a:pt x="1343" y="198"/>
                      </a:lnTo>
                      <a:lnTo>
                        <a:pt x="1368" y="208"/>
                      </a:lnTo>
                      <a:lnTo>
                        <a:pt x="1391" y="215"/>
                      </a:lnTo>
                      <a:lnTo>
                        <a:pt x="1362" y="212"/>
                      </a:lnTo>
                      <a:lnTo>
                        <a:pt x="1338" y="208"/>
                      </a:lnTo>
                      <a:lnTo>
                        <a:pt x="1313" y="202"/>
                      </a:lnTo>
                      <a:lnTo>
                        <a:pt x="1296" y="196"/>
                      </a:lnTo>
                      <a:lnTo>
                        <a:pt x="1288" y="194"/>
                      </a:lnTo>
                      <a:lnTo>
                        <a:pt x="1275" y="193"/>
                      </a:lnTo>
                      <a:lnTo>
                        <a:pt x="1258" y="193"/>
                      </a:lnTo>
                      <a:lnTo>
                        <a:pt x="1238" y="194"/>
                      </a:lnTo>
                      <a:lnTo>
                        <a:pt x="1220" y="198"/>
                      </a:lnTo>
                      <a:lnTo>
                        <a:pt x="1203" y="199"/>
                      </a:lnTo>
                      <a:lnTo>
                        <a:pt x="1181" y="198"/>
                      </a:lnTo>
                      <a:lnTo>
                        <a:pt x="1198" y="212"/>
                      </a:lnTo>
                      <a:lnTo>
                        <a:pt x="1216" y="222"/>
                      </a:lnTo>
                      <a:lnTo>
                        <a:pt x="1236" y="228"/>
                      </a:lnTo>
                      <a:lnTo>
                        <a:pt x="1213" y="225"/>
                      </a:lnTo>
                      <a:lnTo>
                        <a:pt x="1191" y="222"/>
                      </a:lnTo>
                      <a:lnTo>
                        <a:pt x="1168" y="221"/>
                      </a:lnTo>
                      <a:lnTo>
                        <a:pt x="1148" y="216"/>
                      </a:lnTo>
                      <a:lnTo>
                        <a:pt x="1124" y="214"/>
                      </a:lnTo>
                      <a:lnTo>
                        <a:pt x="1095" y="211"/>
                      </a:lnTo>
                      <a:lnTo>
                        <a:pt x="1069" y="211"/>
                      </a:lnTo>
                      <a:lnTo>
                        <a:pt x="1048" y="206"/>
                      </a:lnTo>
                      <a:lnTo>
                        <a:pt x="1043" y="202"/>
                      </a:lnTo>
                      <a:lnTo>
                        <a:pt x="1036" y="198"/>
                      </a:lnTo>
                      <a:lnTo>
                        <a:pt x="1021" y="198"/>
                      </a:lnTo>
                      <a:lnTo>
                        <a:pt x="995" y="203"/>
                      </a:lnTo>
                      <a:lnTo>
                        <a:pt x="963" y="206"/>
                      </a:lnTo>
                      <a:lnTo>
                        <a:pt x="933" y="211"/>
                      </a:lnTo>
                      <a:lnTo>
                        <a:pt x="917" y="214"/>
                      </a:lnTo>
                      <a:lnTo>
                        <a:pt x="888" y="214"/>
                      </a:lnTo>
                      <a:lnTo>
                        <a:pt x="855" y="215"/>
                      </a:lnTo>
                      <a:lnTo>
                        <a:pt x="831" y="219"/>
                      </a:lnTo>
                      <a:lnTo>
                        <a:pt x="800" y="225"/>
                      </a:lnTo>
                      <a:lnTo>
                        <a:pt x="774" y="229"/>
                      </a:lnTo>
                      <a:lnTo>
                        <a:pt x="752" y="232"/>
                      </a:lnTo>
                      <a:lnTo>
                        <a:pt x="730" y="229"/>
                      </a:lnTo>
                      <a:lnTo>
                        <a:pt x="696" y="222"/>
                      </a:lnTo>
                      <a:lnTo>
                        <a:pt x="667" y="225"/>
                      </a:lnTo>
                      <a:lnTo>
                        <a:pt x="641" y="225"/>
                      </a:lnTo>
                      <a:lnTo>
                        <a:pt x="614" y="225"/>
                      </a:lnTo>
                      <a:lnTo>
                        <a:pt x="587" y="224"/>
                      </a:lnTo>
                      <a:lnTo>
                        <a:pt x="550" y="218"/>
                      </a:lnTo>
                      <a:lnTo>
                        <a:pt x="532" y="218"/>
                      </a:lnTo>
                      <a:lnTo>
                        <a:pt x="511" y="216"/>
                      </a:lnTo>
                      <a:lnTo>
                        <a:pt x="473" y="221"/>
                      </a:lnTo>
                      <a:lnTo>
                        <a:pt x="454" y="222"/>
                      </a:lnTo>
                      <a:lnTo>
                        <a:pt x="437" y="222"/>
                      </a:lnTo>
                      <a:lnTo>
                        <a:pt x="415" y="219"/>
                      </a:lnTo>
                      <a:lnTo>
                        <a:pt x="393" y="218"/>
                      </a:lnTo>
                      <a:lnTo>
                        <a:pt x="377" y="218"/>
                      </a:lnTo>
                      <a:lnTo>
                        <a:pt x="370" y="221"/>
                      </a:lnTo>
                      <a:lnTo>
                        <a:pt x="370" y="229"/>
                      </a:lnTo>
                      <a:lnTo>
                        <a:pt x="362" y="232"/>
                      </a:lnTo>
                      <a:lnTo>
                        <a:pt x="348" y="232"/>
                      </a:lnTo>
                      <a:lnTo>
                        <a:pt x="334" y="229"/>
                      </a:lnTo>
                      <a:lnTo>
                        <a:pt x="322" y="222"/>
                      </a:lnTo>
                      <a:lnTo>
                        <a:pt x="314" y="214"/>
                      </a:lnTo>
                      <a:lnTo>
                        <a:pt x="306" y="210"/>
                      </a:lnTo>
                      <a:lnTo>
                        <a:pt x="284" y="210"/>
                      </a:lnTo>
                      <a:lnTo>
                        <a:pt x="267" y="210"/>
                      </a:lnTo>
                      <a:lnTo>
                        <a:pt x="247" y="218"/>
                      </a:lnTo>
                      <a:lnTo>
                        <a:pt x="230" y="222"/>
                      </a:lnTo>
                      <a:lnTo>
                        <a:pt x="211" y="229"/>
                      </a:lnTo>
                      <a:lnTo>
                        <a:pt x="199" y="230"/>
                      </a:lnTo>
                      <a:lnTo>
                        <a:pt x="186" y="232"/>
                      </a:lnTo>
                      <a:lnTo>
                        <a:pt x="173" y="232"/>
                      </a:lnTo>
                      <a:lnTo>
                        <a:pt x="151" y="229"/>
                      </a:lnTo>
                      <a:lnTo>
                        <a:pt x="77" y="237"/>
                      </a:lnTo>
                      <a:lnTo>
                        <a:pt x="99" y="229"/>
                      </a:lnTo>
                      <a:lnTo>
                        <a:pt x="112" y="225"/>
                      </a:lnTo>
                      <a:lnTo>
                        <a:pt x="118" y="218"/>
                      </a:lnTo>
                      <a:lnTo>
                        <a:pt x="112" y="212"/>
                      </a:lnTo>
                      <a:lnTo>
                        <a:pt x="86" y="207"/>
                      </a:lnTo>
                      <a:lnTo>
                        <a:pt x="69" y="203"/>
                      </a:lnTo>
                      <a:lnTo>
                        <a:pt x="47" y="198"/>
                      </a:lnTo>
                      <a:lnTo>
                        <a:pt x="29" y="191"/>
                      </a:lnTo>
                      <a:lnTo>
                        <a:pt x="0" y="181"/>
                      </a:lnTo>
                      <a:lnTo>
                        <a:pt x="42" y="181"/>
                      </a:lnTo>
                      <a:lnTo>
                        <a:pt x="70" y="180"/>
                      </a:lnTo>
                      <a:lnTo>
                        <a:pt x="96" y="177"/>
                      </a:lnTo>
                      <a:lnTo>
                        <a:pt x="118" y="175"/>
                      </a:lnTo>
                      <a:lnTo>
                        <a:pt x="133" y="175"/>
                      </a:lnTo>
                      <a:lnTo>
                        <a:pt x="145" y="177"/>
                      </a:lnTo>
                      <a:lnTo>
                        <a:pt x="158" y="178"/>
                      </a:lnTo>
                      <a:lnTo>
                        <a:pt x="174" y="183"/>
                      </a:lnTo>
                      <a:lnTo>
                        <a:pt x="189" y="187"/>
                      </a:lnTo>
                      <a:lnTo>
                        <a:pt x="167" y="192"/>
                      </a:lnTo>
                      <a:lnTo>
                        <a:pt x="151" y="198"/>
                      </a:lnTo>
                      <a:lnTo>
                        <a:pt x="140" y="206"/>
                      </a:lnTo>
                      <a:lnTo>
                        <a:pt x="136" y="214"/>
                      </a:lnTo>
                      <a:lnTo>
                        <a:pt x="140" y="222"/>
                      </a:lnTo>
                      <a:lnTo>
                        <a:pt x="156" y="219"/>
                      </a:lnTo>
                      <a:lnTo>
                        <a:pt x="169" y="216"/>
                      </a:lnTo>
                      <a:lnTo>
                        <a:pt x="178" y="210"/>
                      </a:lnTo>
                      <a:lnTo>
                        <a:pt x="195" y="203"/>
                      </a:lnTo>
                      <a:lnTo>
                        <a:pt x="215" y="200"/>
                      </a:lnTo>
                      <a:lnTo>
                        <a:pt x="233" y="198"/>
                      </a:lnTo>
                      <a:lnTo>
                        <a:pt x="258" y="200"/>
                      </a:lnTo>
                      <a:lnTo>
                        <a:pt x="274" y="199"/>
                      </a:lnTo>
                      <a:lnTo>
                        <a:pt x="289" y="198"/>
                      </a:lnTo>
                      <a:lnTo>
                        <a:pt x="306" y="194"/>
                      </a:lnTo>
                      <a:lnTo>
                        <a:pt x="323" y="189"/>
                      </a:lnTo>
                      <a:lnTo>
                        <a:pt x="339" y="183"/>
                      </a:lnTo>
                      <a:lnTo>
                        <a:pt x="354" y="178"/>
                      </a:lnTo>
                      <a:lnTo>
                        <a:pt x="367" y="178"/>
                      </a:lnTo>
                      <a:lnTo>
                        <a:pt x="381" y="183"/>
                      </a:lnTo>
                      <a:lnTo>
                        <a:pt x="397" y="187"/>
                      </a:lnTo>
                      <a:lnTo>
                        <a:pt x="414" y="187"/>
                      </a:lnTo>
                      <a:lnTo>
                        <a:pt x="436" y="187"/>
                      </a:lnTo>
                      <a:lnTo>
                        <a:pt x="454" y="184"/>
                      </a:lnTo>
                      <a:lnTo>
                        <a:pt x="471" y="181"/>
                      </a:lnTo>
                      <a:lnTo>
                        <a:pt x="488" y="180"/>
                      </a:lnTo>
                      <a:lnTo>
                        <a:pt x="502" y="181"/>
                      </a:lnTo>
                      <a:lnTo>
                        <a:pt x="522" y="183"/>
                      </a:lnTo>
                      <a:lnTo>
                        <a:pt x="539" y="185"/>
                      </a:lnTo>
                      <a:lnTo>
                        <a:pt x="559" y="183"/>
                      </a:lnTo>
                      <a:lnTo>
                        <a:pt x="582" y="181"/>
                      </a:lnTo>
                      <a:lnTo>
                        <a:pt x="609" y="180"/>
                      </a:lnTo>
                      <a:lnTo>
                        <a:pt x="635" y="178"/>
                      </a:lnTo>
                      <a:lnTo>
                        <a:pt x="652" y="174"/>
                      </a:lnTo>
                      <a:lnTo>
                        <a:pt x="670" y="169"/>
                      </a:lnTo>
                      <a:lnTo>
                        <a:pt x="685" y="163"/>
                      </a:lnTo>
                      <a:lnTo>
                        <a:pt x="699" y="162"/>
                      </a:lnTo>
                      <a:lnTo>
                        <a:pt x="710" y="162"/>
                      </a:lnTo>
                      <a:lnTo>
                        <a:pt x="724" y="163"/>
                      </a:lnTo>
                      <a:lnTo>
                        <a:pt x="758" y="166"/>
                      </a:lnTo>
                      <a:lnTo>
                        <a:pt x="720" y="169"/>
                      </a:lnTo>
                      <a:lnTo>
                        <a:pt x="729" y="178"/>
                      </a:lnTo>
                      <a:lnTo>
                        <a:pt x="743" y="188"/>
                      </a:lnTo>
                      <a:lnTo>
                        <a:pt x="757" y="189"/>
                      </a:lnTo>
                      <a:lnTo>
                        <a:pt x="939" y="167"/>
                      </a:lnTo>
                      <a:lnTo>
                        <a:pt x="950" y="163"/>
                      </a:lnTo>
                      <a:lnTo>
                        <a:pt x="917" y="155"/>
                      </a:lnTo>
                      <a:lnTo>
                        <a:pt x="940" y="151"/>
                      </a:lnTo>
                      <a:lnTo>
                        <a:pt x="955" y="150"/>
                      </a:lnTo>
                      <a:lnTo>
                        <a:pt x="966" y="143"/>
                      </a:lnTo>
                      <a:lnTo>
                        <a:pt x="981" y="139"/>
                      </a:lnTo>
                      <a:lnTo>
                        <a:pt x="999" y="142"/>
                      </a:lnTo>
                      <a:lnTo>
                        <a:pt x="1017" y="144"/>
                      </a:lnTo>
                      <a:lnTo>
                        <a:pt x="1033" y="150"/>
                      </a:lnTo>
                      <a:lnTo>
                        <a:pt x="1048" y="143"/>
                      </a:lnTo>
                      <a:lnTo>
                        <a:pt x="1065" y="133"/>
                      </a:lnTo>
                      <a:lnTo>
                        <a:pt x="1081" y="125"/>
                      </a:lnTo>
                      <a:lnTo>
                        <a:pt x="1098" y="120"/>
                      </a:lnTo>
                      <a:lnTo>
                        <a:pt x="1116" y="116"/>
                      </a:lnTo>
                      <a:lnTo>
                        <a:pt x="1133" y="114"/>
                      </a:lnTo>
                      <a:lnTo>
                        <a:pt x="1162" y="116"/>
                      </a:lnTo>
                      <a:lnTo>
                        <a:pt x="1185" y="118"/>
                      </a:lnTo>
                      <a:lnTo>
                        <a:pt x="1209" y="121"/>
                      </a:lnTo>
                      <a:lnTo>
                        <a:pt x="1236" y="124"/>
                      </a:lnTo>
                      <a:lnTo>
                        <a:pt x="1264" y="128"/>
                      </a:lnTo>
                      <a:lnTo>
                        <a:pt x="1286" y="130"/>
                      </a:lnTo>
                      <a:lnTo>
                        <a:pt x="1305" y="136"/>
                      </a:lnTo>
                      <a:lnTo>
                        <a:pt x="1325" y="140"/>
                      </a:lnTo>
                      <a:lnTo>
                        <a:pt x="1344" y="140"/>
                      </a:lnTo>
                      <a:lnTo>
                        <a:pt x="1364" y="144"/>
                      </a:lnTo>
                      <a:lnTo>
                        <a:pt x="1384" y="148"/>
                      </a:lnTo>
                      <a:lnTo>
                        <a:pt x="1406" y="152"/>
                      </a:lnTo>
                      <a:lnTo>
                        <a:pt x="1428" y="152"/>
                      </a:lnTo>
                      <a:lnTo>
                        <a:pt x="1450" y="152"/>
                      </a:lnTo>
                      <a:lnTo>
                        <a:pt x="1466" y="151"/>
                      </a:lnTo>
                      <a:lnTo>
                        <a:pt x="1482" y="155"/>
                      </a:lnTo>
                      <a:lnTo>
                        <a:pt x="1502" y="160"/>
                      </a:lnTo>
                      <a:lnTo>
                        <a:pt x="1524" y="160"/>
                      </a:lnTo>
                      <a:lnTo>
                        <a:pt x="1550" y="160"/>
                      </a:lnTo>
                      <a:lnTo>
                        <a:pt x="1572" y="160"/>
                      </a:lnTo>
                      <a:lnTo>
                        <a:pt x="1599" y="160"/>
                      </a:lnTo>
                      <a:lnTo>
                        <a:pt x="1650" y="166"/>
                      </a:lnTo>
                      <a:lnTo>
                        <a:pt x="1661" y="163"/>
                      </a:lnTo>
                      <a:lnTo>
                        <a:pt x="1672" y="156"/>
                      </a:lnTo>
                      <a:lnTo>
                        <a:pt x="1687" y="152"/>
                      </a:lnTo>
                      <a:lnTo>
                        <a:pt x="1701" y="151"/>
                      </a:lnTo>
                      <a:lnTo>
                        <a:pt x="1720" y="152"/>
                      </a:lnTo>
                      <a:lnTo>
                        <a:pt x="1742" y="156"/>
                      </a:lnTo>
                      <a:lnTo>
                        <a:pt x="1778" y="159"/>
                      </a:lnTo>
                      <a:lnTo>
                        <a:pt x="1793" y="154"/>
                      </a:lnTo>
                      <a:lnTo>
                        <a:pt x="1804" y="148"/>
                      </a:lnTo>
                      <a:lnTo>
                        <a:pt x="1816" y="146"/>
                      </a:lnTo>
                      <a:lnTo>
                        <a:pt x="1832" y="144"/>
                      </a:lnTo>
                      <a:lnTo>
                        <a:pt x="1846" y="140"/>
                      </a:lnTo>
                      <a:lnTo>
                        <a:pt x="1852" y="133"/>
                      </a:lnTo>
                      <a:lnTo>
                        <a:pt x="1863" y="121"/>
                      </a:lnTo>
                      <a:lnTo>
                        <a:pt x="1875" y="117"/>
                      </a:lnTo>
                      <a:lnTo>
                        <a:pt x="1891" y="114"/>
                      </a:lnTo>
                      <a:lnTo>
                        <a:pt x="1906" y="114"/>
                      </a:lnTo>
                      <a:lnTo>
                        <a:pt x="1913" y="120"/>
                      </a:lnTo>
                      <a:lnTo>
                        <a:pt x="1923" y="133"/>
                      </a:lnTo>
                      <a:lnTo>
                        <a:pt x="1934" y="130"/>
                      </a:lnTo>
                      <a:lnTo>
                        <a:pt x="1946" y="129"/>
                      </a:lnTo>
                      <a:lnTo>
                        <a:pt x="1961" y="130"/>
                      </a:lnTo>
                      <a:lnTo>
                        <a:pt x="1975" y="135"/>
                      </a:lnTo>
                      <a:lnTo>
                        <a:pt x="1993" y="139"/>
                      </a:lnTo>
                      <a:lnTo>
                        <a:pt x="2015" y="139"/>
                      </a:lnTo>
                      <a:lnTo>
                        <a:pt x="1998" y="128"/>
                      </a:lnTo>
                      <a:lnTo>
                        <a:pt x="1991" y="120"/>
                      </a:lnTo>
                      <a:lnTo>
                        <a:pt x="2006" y="122"/>
                      </a:lnTo>
                      <a:lnTo>
                        <a:pt x="2035" y="128"/>
                      </a:lnTo>
                      <a:lnTo>
                        <a:pt x="2060" y="126"/>
                      </a:lnTo>
                      <a:lnTo>
                        <a:pt x="2061" y="120"/>
                      </a:lnTo>
                      <a:lnTo>
                        <a:pt x="2065" y="113"/>
                      </a:lnTo>
                      <a:lnTo>
                        <a:pt x="2071" y="108"/>
                      </a:lnTo>
                      <a:lnTo>
                        <a:pt x="2085" y="104"/>
                      </a:lnTo>
                      <a:lnTo>
                        <a:pt x="2100" y="104"/>
                      </a:lnTo>
                      <a:lnTo>
                        <a:pt x="2119" y="105"/>
                      </a:lnTo>
                      <a:lnTo>
                        <a:pt x="2137" y="108"/>
                      </a:lnTo>
                      <a:lnTo>
                        <a:pt x="2154" y="104"/>
                      </a:lnTo>
                      <a:lnTo>
                        <a:pt x="2175" y="98"/>
                      </a:lnTo>
                      <a:lnTo>
                        <a:pt x="2189" y="90"/>
                      </a:lnTo>
                      <a:lnTo>
                        <a:pt x="2174" y="74"/>
                      </a:lnTo>
                      <a:lnTo>
                        <a:pt x="2159" y="69"/>
                      </a:lnTo>
                      <a:lnTo>
                        <a:pt x="2142" y="62"/>
                      </a:lnTo>
                      <a:lnTo>
                        <a:pt x="2131" y="58"/>
                      </a:lnTo>
                      <a:lnTo>
                        <a:pt x="2122" y="50"/>
                      </a:lnTo>
                      <a:lnTo>
                        <a:pt x="2116" y="43"/>
                      </a:lnTo>
                      <a:lnTo>
                        <a:pt x="2113" y="35"/>
                      </a:lnTo>
                      <a:lnTo>
                        <a:pt x="2109" y="26"/>
                      </a:lnTo>
                      <a:lnTo>
                        <a:pt x="2138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542000" y="3782520"/>
                  <a:ext cx="82080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625" y="34"/>
                      </a:moveTo>
                      <a:lnTo>
                        <a:pt x="582" y="26"/>
                      </a:lnTo>
                      <a:lnTo>
                        <a:pt x="571" y="18"/>
                      </a:lnTo>
                      <a:lnTo>
                        <a:pt x="553" y="15"/>
                      </a:lnTo>
                      <a:lnTo>
                        <a:pt x="540" y="13"/>
                      </a:lnTo>
                      <a:lnTo>
                        <a:pt x="524" y="11"/>
                      </a:lnTo>
                      <a:lnTo>
                        <a:pt x="507" y="11"/>
                      </a:lnTo>
                      <a:lnTo>
                        <a:pt x="486" y="11"/>
                      </a:lnTo>
                      <a:lnTo>
                        <a:pt x="468" y="7"/>
                      </a:lnTo>
                      <a:lnTo>
                        <a:pt x="453" y="6"/>
                      </a:lnTo>
                      <a:lnTo>
                        <a:pt x="427" y="7"/>
                      </a:lnTo>
                      <a:lnTo>
                        <a:pt x="411" y="3"/>
                      </a:lnTo>
                      <a:lnTo>
                        <a:pt x="395" y="0"/>
                      </a:lnTo>
                      <a:lnTo>
                        <a:pt x="380" y="0"/>
                      </a:lnTo>
                      <a:lnTo>
                        <a:pt x="364" y="4"/>
                      </a:lnTo>
                      <a:lnTo>
                        <a:pt x="349" y="11"/>
                      </a:lnTo>
                      <a:lnTo>
                        <a:pt x="329" y="15"/>
                      </a:lnTo>
                      <a:lnTo>
                        <a:pt x="299" y="18"/>
                      </a:lnTo>
                      <a:lnTo>
                        <a:pt x="284" y="14"/>
                      </a:lnTo>
                      <a:lnTo>
                        <a:pt x="265" y="15"/>
                      </a:lnTo>
                      <a:lnTo>
                        <a:pt x="252" y="18"/>
                      </a:lnTo>
                      <a:lnTo>
                        <a:pt x="231" y="26"/>
                      </a:lnTo>
                      <a:lnTo>
                        <a:pt x="215" y="37"/>
                      </a:lnTo>
                      <a:lnTo>
                        <a:pt x="189" y="43"/>
                      </a:lnTo>
                      <a:lnTo>
                        <a:pt x="152" y="41"/>
                      </a:lnTo>
                      <a:lnTo>
                        <a:pt x="133" y="48"/>
                      </a:lnTo>
                      <a:lnTo>
                        <a:pt x="116" y="51"/>
                      </a:lnTo>
                      <a:lnTo>
                        <a:pt x="93" y="53"/>
                      </a:lnTo>
                      <a:lnTo>
                        <a:pt x="0" y="64"/>
                      </a:lnTo>
                      <a:lnTo>
                        <a:pt x="101" y="60"/>
                      </a:lnTo>
                      <a:lnTo>
                        <a:pt x="120" y="64"/>
                      </a:lnTo>
                      <a:lnTo>
                        <a:pt x="137" y="68"/>
                      </a:lnTo>
                      <a:lnTo>
                        <a:pt x="149" y="67"/>
                      </a:lnTo>
                      <a:lnTo>
                        <a:pt x="164" y="64"/>
                      </a:lnTo>
                      <a:lnTo>
                        <a:pt x="183" y="58"/>
                      </a:lnTo>
                      <a:lnTo>
                        <a:pt x="210" y="57"/>
                      </a:lnTo>
                      <a:lnTo>
                        <a:pt x="235" y="50"/>
                      </a:lnTo>
                      <a:lnTo>
                        <a:pt x="252" y="51"/>
                      </a:lnTo>
                      <a:lnTo>
                        <a:pt x="271" y="53"/>
                      </a:lnTo>
                      <a:lnTo>
                        <a:pt x="313" y="48"/>
                      </a:lnTo>
                      <a:lnTo>
                        <a:pt x="333" y="45"/>
                      </a:lnTo>
                      <a:lnTo>
                        <a:pt x="360" y="37"/>
                      </a:lnTo>
                      <a:lnTo>
                        <a:pt x="387" y="37"/>
                      </a:lnTo>
                      <a:lnTo>
                        <a:pt x="419" y="37"/>
                      </a:lnTo>
                      <a:lnTo>
                        <a:pt x="442" y="38"/>
                      </a:lnTo>
                      <a:lnTo>
                        <a:pt x="464" y="36"/>
                      </a:lnTo>
                      <a:lnTo>
                        <a:pt x="486" y="30"/>
                      </a:lnTo>
                      <a:lnTo>
                        <a:pt x="507" y="34"/>
                      </a:lnTo>
                      <a:lnTo>
                        <a:pt x="526" y="27"/>
                      </a:lnTo>
                      <a:lnTo>
                        <a:pt x="542" y="30"/>
                      </a:lnTo>
                      <a:lnTo>
                        <a:pt x="565" y="31"/>
                      </a:lnTo>
                      <a:lnTo>
                        <a:pt x="590" y="32"/>
                      </a:lnTo>
                      <a:lnTo>
                        <a:pt x="625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388840" y="3758760"/>
                  <a:ext cx="3449520" cy="295920"/>
                </a:xfrm>
                <a:custGeom>
                  <a:avLst/>
                  <a:gdLst/>
                  <a:ahLst/>
                  <a:rect l="l" t="t" r="r" b="b"/>
                  <a:pathLst>
                    <a:path w="2631" h="236">
                      <a:moveTo>
                        <a:pt x="2138" y="0"/>
                      </a:moveTo>
                      <a:lnTo>
                        <a:pt x="2159" y="5"/>
                      </a:lnTo>
                      <a:lnTo>
                        <a:pt x="2175" y="9"/>
                      </a:lnTo>
                      <a:lnTo>
                        <a:pt x="2189" y="15"/>
                      </a:lnTo>
                      <a:lnTo>
                        <a:pt x="2197" y="21"/>
                      </a:lnTo>
                      <a:lnTo>
                        <a:pt x="2202" y="31"/>
                      </a:lnTo>
                      <a:lnTo>
                        <a:pt x="2224" y="32"/>
                      </a:lnTo>
                      <a:lnTo>
                        <a:pt x="2238" y="35"/>
                      </a:lnTo>
                      <a:lnTo>
                        <a:pt x="2249" y="39"/>
                      </a:lnTo>
                      <a:lnTo>
                        <a:pt x="2265" y="45"/>
                      </a:lnTo>
                      <a:lnTo>
                        <a:pt x="2283" y="45"/>
                      </a:lnTo>
                      <a:lnTo>
                        <a:pt x="2305" y="55"/>
                      </a:lnTo>
                      <a:lnTo>
                        <a:pt x="2331" y="46"/>
                      </a:lnTo>
                      <a:lnTo>
                        <a:pt x="2316" y="66"/>
                      </a:lnTo>
                      <a:lnTo>
                        <a:pt x="2341" y="66"/>
                      </a:lnTo>
                      <a:lnTo>
                        <a:pt x="2372" y="67"/>
                      </a:lnTo>
                      <a:lnTo>
                        <a:pt x="2396" y="61"/>
                      </a:lnTo>
                      <a:lnTo>
                        <a:pt x="2423" y="74"/>
                      </a:lnTo>
                      <a:lnTo>
                        <a:pt x="2448" y="66"/>
                      </a:lnTo>
                      <a:lnTo>
                        <a:pt x="2455" y="67"/>
                      </a:lnTo>
                      <a:lnTo>
                        <a:pt x="2461" y="72"/>
                      </a:lnTo>
                      <a:lnTo>
                        <a:pt x="2470" y="78"/>
                      </a:lnTo>
                      <a:lnTo>
                        <a:pt x="2475" y="85"/>
                      </a:lnTo>
                      <a:lnTo>
                        <a:pt x="2485" y="91"/>
                      </a:lnTo>
                      <a:lnTo>
                        <a:pt x="2492" y="95"/>
                      </a:lnTo>
                      <a:lnTo>
                        <a:pt x="2508" y="95"/>
                      </a:lnTo>
                      <a:lnTo>
                        <a:pt x="2526" y="95"/>
                      </a:lnTo>
                      <a:lnTo>
                        <a:pt x="2534" y="101"/>
                      </a:lnTo>
                      <a:lnTo>
                        <a:pt x="2546" y="107"/>
                      </a:lnTo>
                      <a:lnTo>
                        <a:pt x="2557" y="107"/>
                      </a:lnTo>
                      <a:lnTo>
                        <a:pt x="2574" y="108"/>
                      </a:lnTo>
                      <a:lnTo>
                        <a:pt x="2594" y="108"/>
                      </a:lnTo>
                      <a:lnTo>
                        <a:pt x="2614" y="115"/>
                      </a:lnTo>
                      <a:lnTo>
                        <a:pt x="2630" y="131"/>
                      </a:lnTo>
                      <a:lnTo>
                        <a:pt x="2616" y="130"/>
                      </a:lnTo>
                      <a:lnTo>
                        <a:pt x="2594" y="125"/>
                      </a:lnTo>
                      <a:lnTo>
                        <a:pt x="2572" y="124"/>
                      </a:lnTo>
                      <a:lnTo>
                        <a:pt x="2556" y="125"/>
                      </a:lnTo>
                      <a:lnTo>
                        <a:pt x="2541" y="131"/>
                      </a:lnTo>
                      <a:lnTo>
                        <a:pt x="2524" y="134"/>
                      </a:lnTo>
                      <a:lnTo>
                        <a:pt x="2508" y="130"/>
                      </a:lnTo>
                      <a:lnTo>
                        <a:pt x="2490" y="125"/>
                      </a:lnTo>
                      <a:lnTo>
                        <a:pt x="2474" y="121"/>
                      </a:lnTo>
                      <a:lnTo>
                        <a:pt x="2459" y="121"/>
                      </a:lnTo>
                      <a:lnTo>
                        <a:pt x="2448" y="130"/>
                      </a:lnTo>
                      <a:lnTo>
                        <a:pt x="2438" y="138"/>
                      </a:lnTo>
                      <a:lnTo>
                        <a:pt x="2420" y="138"/>
                      </a:lnTo>
                      <a:lnTo>
                        <a:pt x="2404" y="135"/>
                      </a:lnTo>
                      <a:lnTo>
                        <a:pt x="2385" y="130"/>
                      </a:lnTo>
                      <a:lnTo>
                        <a:pt x="2368" y="127"/>
                      </a:lnTo>
                      <a:lnTo>
                        <a:pt x="2352" y="134"/>
                      </a:lnTo>
                      <a:lnTo>
                        <a:pt x="2335" y="142"/>
                      </a:lnTo>
                      <a:lnTo>
                        <a:pt x="2319" y="146"/>
                      </a:lnTo>
                      <a:lnTo>
                        <a:pt x="2302" y="149"/>
                      </a:lnTo>
                      <a:lnTo>
                        <a:pt x="2281" y="151"/>
                      </a:lnTo>
                      <a:lnTo>
                        <a:pt x="2259" y="153"/>
                      </a:lnTo>
                      <a:lnTo>
                        <a:pt x="2238" y="151"/>
                      </a:lnTo>
                      <a:lnTo>
                        <a:pt x="2213" y="147"/>
                      </a:lnTo>
                      <a:lnTo>
                        <a:pt x="2224" y="132"/>
                      </a:lnTo>
                      <a:lnTo>
                        <a:pt x="2222" y="124"/>
                      </a:lnTo>
                      <a:lnTo>
                        <a:pt x="2211" y="119"/>
                      </a:lnTo>
                      <a:lnTo>
                        <a:pt x="2208" y="129"/>
                      </a:lnTo>
                      <a:lnTo>
                        <a:pt x="2194" y="138"/>
                      </a:lnTo>
                      <a:lnTo>
                        <a:pt x="2180" y="142"/>
                      </a:lnTo>
                      <a:lnTo>
                        <a:pt x="2165" y="146"/>
                      </a:lnTo>
                      <a:lnTo>
                        <a:pt x="2148" y="151"/>
                      </a:lnTo>
                      <a:lnTo>
                        <a:pt x="2130" y="153"/>
                      </a:lnTo>
                      <a:lnTo>
                        <a:pt x="2104" y="156"/>
                      </a:lnTo>
                      <a:lnTo>
                        <a:pt x="2087" y="154"/>
                      </a:lnTo>
                      <a:lnTo>
                        <a:pt x="2067" y="156"/>
                      </a:lnTo>
                      <a:lnTo>
                        <a:pt x="2034" y="162"/>
                      </a:lnTo>
                      <a:lnTo>
                        <a:pt x="2045" y="169"/>
                      </a:lnTo>
                      <a:lnTo>
                        <a:pt x="2060" y="176"/>
                      </a:lnTo>
                      <a:lnTo>
                        <a:pt x="2089" y="190"/>
                      </a:lnTo>
                      <a:lnTo>
                        <a:pt x="2071" y="191"/>
                      </a:lnTo>
                      <a:lnTo>
                        <a:pt x="2054" y="193"/>
                      </a:lnTo>
                      <a:lnTo>
                        <a:pt x="2031" y="197"/>
                      </a:lnTo>
                      <a:lnTo>
                        <a:pt x="2006" y="199"/>
                      </a:lnTo>
                      <a:lnTo>
                        <a:pt x="1993" y="198"/>
                      </a:lnTo>
                      <a:lnTo>
                        <a:pt x="1982" y="191"/>
                      </a:lnTo>
                      <a:lnTo>
                        <a:pt x="1967" y="187"/>
                      </a:lnTo>
                      <a:lnTo>
                        <a:pt x="1946" y="186"/>
                      </a:lnTo>
                      <a:lnTo>
                        <a:pt x="1919" y="185"/>
                      </a:lnTo>
                      <a:lnTo>
                        <a:pt x="1900" y="176"/>
                      </a:lnTo>
                      <a:lnTo>
                        <a:pt x="1873" y="170"/>
                      </a:lnTo>
                      <a:lnTo>
                        <a:pt x="1852" y="165"/>
                      </a:lnTo>
                      <a:lnTo>
                        <a:pt x="1836" y="166"/>
                      </a:lnTo>
                      <a:lnTo>
                        <a:pt x="1783" y="168"/>
                      </a:lnTo>
                      <a:lnTo>
                        <a:pt x="1742" y="172"/>
                      </a:lnTo>
                      <a:lnTo>
                        <a:pt x="1715" y="172"/>
                      </a:lnTo>
                      <a:lnTo>
                        <a:pt x="1693" y="174"/>
                      </a:lnTo>
                      <a:lnTo>
                        <a:pt x="1656" y="189"/>
                      </a:lnTo>
                      <a:lnTo>
                        <a:pt x="1638" y="189"/>
                      </a:lnTo>
                      <a:lnTo>
                        <a:pt x="1617" y="185"/>
                      </a:lnTo>
                      <a:lnTo>
                        <a:pt x="1595" y="179"/>
                      </a:lnTo>
                      <a:lnTo>
                        <a:pt x="1577" y="176"/>
                      </a:lnTo>
                      <a:lnTo>
                        <a:pt x="1514" y="172"/>
                      </a:lnTo>
                      <a:lnTo>
                        <a:pt x="1472" y="170"/>
                      </a:lnTo>
                      <a:lnTo>
                        <a:pt x="1445" y="168"/>
                      </a:lnTo>
                      <a:lnTo>
                        <a:pt x="1423" y="166"/>
                      </a:lnTo>
                      <a:lnTo>
                        <a:pt x="1401" y="164"/>
                      </a:lnTo>
                      <a:lnTo>
                        <a:pt x="1375" y="160"/>
                      </a:lnTo>
                      <a:lnTo>
                        <a:pt x="1357" y="156"/>
                      </a:lnTo>
                      <a:lnTo>
                        <a:pt x="1331" y="150"/>
                      </a:lnTo>
                      <a:lnTo>
                        <a:pt x="1316" y="157"/>
                      </a:lnTo>
                      <a:lnTo>
                        <a:pt x="1307" y="166"/>
                      </a:lnTo>
                      <a:lnTo>
                        <a:pt x="1317" y="176"/>
                      </a:lnTo>
                      <a:lnTo>
                        <a:pt x="1336" y="181"/>
                      </a:lnTo>
                      <a:lnTo>
                        <a:pt x="1313" y="181"/>
                      </a:lnTo>
                      <a:lnTo>
                        <a:pt x="1325" y="189"/>
                      </a:lnTo>
                      <a:lnTo>
                        <a:pt x="1343" y="197"/>
                      </a:lnTo>
                      <a:lnTo>
                        <a:pt x="1368" y="206"/>
                      </a:lnTo>
                      <a:lnTo>
                        <a:pt x="1391" y="213"/>
                      </a:lnTo>
                      <a:lnTo>
                        <a:pt x="1362" y="210"/>
                      </a:lnTo>
                      <a:lnTo>
                        <a:pt x="1338" y="206"/>
                      </a:lnTo>
                      <a:lnTo>
                        <a:pt x="1313" y="200"/>
                      </a:lnTo>
                      <a:lnTo>
                        <a:pt x="1296" y="195"/>
                      </a:lnTo>
                      <a:lnTo>
                        <a:pt x="1288" y="193"/>
                      </a:lnTo>
                      <a:lnTo>
                        <a:pt x="1275" y="191"/>
                      </a:lnTo>
                      <a:lnTo>
                        <a:pt x="1258" y="191"/>
                      </a:lnTo>
                      <a:lnTo>
                        <a:pt x="1238" y="193"/>
                      </a:lnTo>
                      <a:lnTo>
                        <a:pt x="1220" y="197"/>
                      </a:lnTo>
                      <a:lnTo>
                        <a:pt x="1203" y="198"/>
                      </a:lnTo>
                      <a:lnTo>
                        <a:pt x="1181" y="197"/>
                      </a:lnTo>
                      <a:lnTo>
                        <a:pt x="1198" y="210"/>
                      </a:lnTo>
                      <a:lnTo>
                        <a:pt x="1216" y="220"/>
                      </a:lnTo>
                      <a:lnTo>
                        <a:pt x="1236" y="226"/>
                      </a:lnTo>
                      <a:lnTo>
                        <a:pt x="1213" y="223"/>
                      </a:lnTo>
                      <a:lnTo>
                        <a:pt x="1191" y="221"/>
                      </a:lnTo>
                      <a:lnTo>
                        <a:pt x="1168" y="219"/>
                      </a:lnTo>
                      <a:lnTo>
                        <a:pt x="1148" y="214"/>
                      </a:lnTo>
                      <a:lnTo>
                        <a:pt x="1124" y="212"/>
                      </a:lnTo>
                      <a:lnTo>
                        <a:pt x="1095" y="209"/>
                      </a:lnTo>
                      <a:lnTo>
                        <a:pt x="1069" y="209"/>
                      </a:lnTo>
                      <a:lnTo>
                        <a:pt x="1048" y="204"/>
                      </a:lnTo>
                      <a:lnTo>
                        <a:pt x="1043" y="200"/>
                      </a:lnTo>
                      <a:lnTo>
                        <a:pt x="1036" y="197"/>
                      </a:lnTo>
                      <a:lnTo>
                        <a:pt x="1021" y="197"/>
                      </a:lnTo>
                      <a:lnTo>
                        <a:pt x="995" y="201"/>
                      </a:lnTo>
                      <a:lnTo>
                        <a:pt x="963" y="204"/>
                      </a:lnTo>
                      <a:lnTo>
                        <a:pt x="933" y="209"/>
                      </a:lnTo>
                      <a:lnTo>
                        <a:pt x="917" y="212"/>
                      </a:lnTo>
                      <a:lnTo>
                        <a:pt x="888" y="212"/>
                      </a:lnTo>
                      <a:lnTo>
                        <a:pt x="855" y="213"/>
                      </a:lnTo>
                      <a:lnTo>
                        <a:pt x="831" y="217"/>
                      </a:lnTo>
                      <a:lnTo>
                        <a:pt x="800" y="223"/>
                      </a:lnTo>
                      <a:lnTo>
                        <a:pt x="774" y="227"/>
                      </a:lnTo>
                      <a:lnTo>
                        <a:pt x="752" y="230"/>
                      </a:lnTo>
                      <a:lnTo>
                        <a:pt x="730" y="227"/>
                      </a:lnTo>
                      <a:lnTo>
                        <a:pt x="696" y="220"/>
                      </a:lnTo>
                      <a:lnTo>
                        <a:pt x="667" y="223"/>
                      </a:lnTo>
                      <a:lnTo>
                        <a:pt x="641" y="223"/>
                      </a:lnTo>
                      <a:lnTo>
                        <a:pt x="614" y="223"/>
                      </a:lnTo>
                      <a:lnTo>
                        <a:pt x="587" y="223"/>
                      </a:lnTo>
                      <a:lnTo>
                        <a:pt x="550" y="216"/>
                      </a:lnTo>
                      <a:lnTo>
                        <a:pt x="532" y="216"/>
                      </a:lnTo>
                      <a:lnTo>
                        <a:pt x="511" y="214"/>
                      </a:lnTo>
                      <a:lnTo>
                        <a:pt x="473" y="219"/>
                      </a:lnTo>
                      <a:lnTo>
                        <a:pt x="454" y="221"/>
                      </a:lnTo>
                      <a:lnTo>
                        <a:pt x="437" y="220"/>
                      </a:lnTo>
                      <a:lnTo>
                        <a:pt x="415" y="217"/>
                      </a:lnTo>
                      <a:lnTo>
                        <a:pt x="393" y="216"/>
                      </a:lnTo>
                      <a:lnTo>
                        <a:pt x="377" y="216"/>
                      </a:lnTo>
                      <a:lnTo>
                        <a:pt x="370" y="219"/>
                      </a:lnTo>
                      <a:lnTo>
                        <a:pt x="370" y="227"/>
                      </a:lnTo>
                      <a:lnTo>
                        <a:pt x="362" y="230"/>
                      </a:lnTo>
                      <a:lnTo>
                        <a:pt x="348" y="230"/>
                      </a:lnTo>
                      <a:lnTo>
                        <a:pt x="334" y="227"/>
                      </a:lnTo>
                      <a:lnTo>
                        <a:pt x="322" y="220"/>
                      </a:lnTo>
                      <a:lnTo>
                        <a:pt x="314" y="212"/>
                      </a:lnTo>
                      <a:lnTo>
                        <a:pt x="306" y="208"/>
                      </a:lnTo>
                      <a:lnTo>
                        <a:pt x="284" y="208"/>
                      </a:lnTo>
                      <a:lnTo>
                        <a:pt x="267" y="208"/>
                      </a:lnTo>
                      <a:lnTo>
                        <a:pt x="247" y="216"/>
                      </a:lnTo>
                      <a:lnTo>
                        <a:pt x="230" y="221"/>
                      </a:lnTo>
                      <a:lnTo>
                        <a:pt x="211" y="227"/>
                      </a:lnTo>
                      <a:lnTo>
                        <a:pt x="199" y="228"/>
                      </a:lnTo>
                      <a:lnTo>
                        <a:pt x="186" y="230"/>
                      </a:lnTo>
                      <a:lnTo>
                        <a:pt x="173" y="230"/>
                      </a:lnTo>
                      <a:lnTo>
                        <a:pt x="151" y="227"/>
                      </a:lnTo>
                      <a:lnTo>
                        <a:pt x="77" y="235"/>
                      </a:lnTo>
                      <a:lnTo>
                        <a:pt x="99" y="227"/>
                      </a:lnTo>
                      <a:lnTo>
                        <a:pt x="112" y="223"/>
                      </a:lnTo>
                      <a:lnTo>
                        <a:pt x="118" y="216"/>
                      </a:lnTo>
                      <a:lnTo>
                        <a:pt x="112" y="210"/>
                      </a:lnTo>
                      <a:lnTo>
                        <a:pt x="86" y="205"/>
                      </a:lnTo>
                      <a:lnTo>
                        <a:pt x="69" y="201"/>
                      </a:lnTo>
                      <a:lnTo>
                        <a:pt x="47" y="197"/>
                      </a:lnTo>
                      <a:lnTo>
                        <a:pt x="29" y="189"/>
                      </a:lnTo>
                      <a:lnTo>
                        <a:pt x="0" y="179"/>
                      </a:lnTo>
                      <a:lnTo>
                        <a:pt x="42" y="179"/>
                      </a:lnTo>
                      <a:lnTo>
                        <a:pt x="70" y="178"/>
                      </a:lnTo>
                      <a:lnTo>
                        <a:pt x="96" y="176"/>
                      </a:lnTo>
                      <a:lnTo>
                        <a:pt x="118" y="174"/>
                      </a:lnTo>
                      <a:lnTo>
                        <a:pt x="133" y="174"/>
                      </a:lnTo>
                      <a:lnTo>
                        <a:pt x="145" y="176"/>
                      </a:lnTo>
                      <a:lnTo>
                        <a:pt x="158" y="176"/>
                      </a:lnTo>
                      <a:lnTo>
                        <a:pt x="174" y="181"/>
                      </a:lnTo>
                      <a:lnTo>
                        <a:pt x="189" y="185"/>
                      </a:lnTo>
                      <a:lnTo>
                        <a:pt x="167" y="190"/>
                      </a:lnTo>
                      <a:lnTo>
                        <a:pt x="151" y="197"/>
                      </a:lnTo>
                      <a:lnTo>
                        <a:pt x="140" y="204"/>
                      </a:lnTo>
                      <a:lnTo>
                        <a:pt x="136" y="212"/>
                      </a:lnTo>
                      <a:lnTo>
                        <a:pt x="140" y="220"/>
                      </a:lnTo>
                      <a:lnTo>
                        <a:pt x="156" y="217"/>
                      </a:lnTo>
                      <a:lnTo>
                        <a:pt x="169" y="214"/>
                      </a:lnTo>
                      <a:lnTo>
                        <a:pt x="178" y="208"/>
                      </a:lnTo>
                      <a:lnTo>
                        <a:pt x="195" y="201"/>
                      </a:lnTo>
                      <a:lnTo>
                        <a:pt x="215" y="199"/>
                      </a:lnTo>
                      <a:lnTo>
                        <a:pt x="233" y="197"/>
                      </a:lnTo>
                      <a:lnTo>
                        <a:pt x="258" y="199"/>
                      </a:lnTo>
                      <a:lnTo>
                        <a:pt x="274" y="198"/>
                      </a:lnTo>
                      <a:lnTo>
                        <a:pt x="289" y="197"/>
                      </a:lnTo>
                      <a:lnTo>
                        <a:pt x="306" y="193"/>
                      </a:lnTo>
                      <a:lnTo>
                        <a:pt x="323" y="187"/>
                      </a:lnTo>
                      <a:lnTo>
                        <a:pt x="339" y="181"/>
                      </a:lnTo>
                      <a:lnTo>
                        <a:pt x="354" y="176"/>
                      </a:lnTo>
                      <a:lnTo>
                        <a:pt x="367" y="176"/>
                      </a:lnTo>
                      <a:lnTo>
                        <a:pt x="381" y="181"/>
                      </a:lnTo>
                      <a:lnTo>
                        <a:pt x="397" y="185"/>
                      </a:lnTo>
                      <a:lnTo>
                        <a:pt x="414" y="185"/>
                      </a:lnTo>
                      <a:lnTo>
                        <a:pt x="436" y="185"/>
                      </a:lnTo>
                      <a:lnTo>
                        <a:pt x="454" y="182"/>
                      </a:lnTo>
                      <a:lnTo>
                        <a:pt x="471" y="179"/>
                      </a:lnTo>
                      <a:lnTo>
                        <a:pt x="488" y="178"/>
                      </a:lnTo>
                      <a:lnTo>
                        <a:pt x="502" y="179"/>
                      </a:lnTo>
                      <a:lnTo>
                        <a:pt x="522" y="181"/>
                      </a:lnTo>
                      <a:lnTo>
                        <a:pt x="539" y="183"/>
                      </a:lnTo>
                      <a:lnTo>
                        <a:pt x="559" y="181"/>
                      </a:lnTo>
                      <a:lnTo>
                        <a:pt x="582" y="179"/>
                      </a:lnTo>
                      <a:lnTo>
                        <a:pt x="609" y="178"/>
                      </a:lnTo>
                      <a:lnTo>
                        <a:pt x="635" y="176"/>
                      </a:lnTo>
                      <a:lnTo>
                        <a:pt x="652" y="173"/>
                      </a:lnTo>
                      <a:lnTo>
                        <a:pt x="670" y="168"/>
                      </a:lnTo>
                      <a:lnTo>
                        <a:pt x="685" y="162"/>
                      </a:lnTo>
                      <a:lnTo>
                        <a:pt x="699" y="160"/>
                      </a:lnTo>
                      <a:lnTo>
                        <a:pt x="710" y="160"/>
                      </a:lnTo>
                      <a:lnTo>
                        <a:pt x="724" y="161"/>
                      </a:lnTo>
                      <a:lnTo>
                        <a:pt x="758" y="165"/>
                      </a:lnTo>
                      <a:lnTo>
                        <a:pt x="720" y="168"/>
                      </a:lnTo>
                      <a:lnTo>
                        <a:pt x="729" y="176"/>
                      </a:lnTo>
                      <a:lnTo>
                        <a:pt x="743" y="186"/>
                      </a:lnTo>
                      <a:lnTo>
                        <a:pt x="757" y="187"/>
                      </a:lnTo>
                      <a:lnTo>
                        <a:pt x="939" y="166"/>
                      </a:lnTo>
                      <a:lnTo>
                        <a:pt x="950" y="162"/>
                      </a:lnTo>
                      <a:lnTo>
                        <a:pt x="917" y="153"/>
                      </a:lnTo>
                      <a:lnTo>
                        <a:pt x="940" y="150"/>
                      </a:lnTo>
                      <a:lnTo>
                        <a:pt x="955" y="149"/>
                      </a:lnTo>
                      <a:lnTo>
                        <a:pt x="966" y="142"/>
                      </a:lnTo>
                      <a:lnTo>
                        <a:pt x="981" y="138"/>
                      </a:lnTo>
                      <a:lnTo>
                        <a:pt x="999" y="141"/>
                      </a:lnTo>
                      <a:lnTo>
                        <a:pt x="1017" y="143"/>
                      </a:lnTo>
                      <a:lnTo>
                        <a:pt x="1033" y="149"/>
                      </a:lnTo>
                      <a:lnTo>
                        <a:pt x="1048" y="142"/>
                      </a:lnTo>
                      <a:lnTo>
                        <a:pt x="1065" y="131"/>
                      </a:lnTo>
                      <a:lnTo>
                        <a:pt x="1081" y="124"/>
                      </a:lnTo>
                      <a:lnTo>
                        <a:pt x="1098" y="119"/>
                      </a:lnTo>
                      <a:lnTo>
                        <a:pt x="1116" y="115"/>
                      </a:lnTo>
                      <a:lnTo>
                        <a:pt x="1133" y="113"/>
                      </a:lnTo>
                      <a:lnTo>
                        <a:pt x="1162" y="115"/>
                      </a:lnTo>
                      <a:lnTo>
                        <a:pt x="1185" y="117"/>
                      </a:lnTo>
                      <a:lnTo>
                        <a:pt x="1209" y="120"/>
                      </a:lnTo>
                      <a:lnTo>
                        <a:pt x="1236" y="123"/>
                      </a:lnTo>
                      <a:lnTo>
                        <a:pt x="1264" y="127"/>
                      </a:lnTo>
                      <a:lnTo>
                        <a:pt x="1286" y="129"/>
                      </a:lnTo>
                      <a:lnTo>
                        <a:pt x="1305" y="135"/>
                      </a:lnTo>
                      <a:lnTo>
                        <a:pt x="1325" y="139"/>
                      </a:lnTo>
                      <a:lnTo>
                        <a:pt x="1344" y="139"/>
                      </a:lnTo>
                      <a:lnTo>
                        <a:pt x="1364" y="143"/>
                      </a:lnTo>
                      <a:lnTo>
                        <a:pt x="1384" y="147"/>
                      </a:lnTo>
                      <a:lnTo>
                        <a:pt x="1406" y="151"/>
                      </a:lnTo>
                      <a:lnTo>
                        <a:pt x="1428" y="151"/>
                      </a:lnTo>
                      <a:lnTo>
                        <a:pt x="1450" y="151"/>
                      </a:lnTo>
                      <a:lnTo>
                        <a:pt x="1466" y="150"/>
                      </a:lnTo>
                      <a:lnTo>
                        <a:pt x="1482" y="153"/>
                      </a:lnTo>
                      <a:lnTo>
                        <a:pt x="1502" y="158"/>
                      </a:lnTo>
                      <a:lnTo>
                        <a:pt x="1524" y="158"/>
                      </a:lnTo>
                      <a:lnTo>
                        <a:pt x="1550" y="158"/>
                      </a:lnTo>
                      <a:lnTo>
                        <a:pt x="1572" y="158"/>
                      </a:lnTo>
                      <a:lnTo>
                        <a:pt x="1599" y="158"/>
                      </a:lnTo>
                      <a:lnTo>
                        <a:pt x="1650" y="165"/>
                      </a:lnTo>
                      <a:lnTo>
                        <a:pt x="1661" y="161"/>
                      </a:lnTo>
                      <a:lnTo>
                        <a:pt x="1672" y="154"/>
                      </a:lnTo>
                      <a:lnTo>
                        <a:pt x="1687" y="151"/>
                      </a:lnTo>
                      <a:lnTo>
                        <a:pt x="1701" y="150"/>
                      </a:lnTo>
                      <a:lnTo>
                        <a:pt x="1720" y="151"/>
                      </a:lnTo>
                      <a:lnTo>
                        <a:pt x="1742" y="154"/>
                      </a:lnTo>
                      <a:lnTo>
                        <a:pt x="1778" y="157"/>
                      </a:lnTo>
                      <a:lnTo>
                        <a:pt x="1793" y="153"/>
                      </a:lnTo>
                      <a:lnTo>
                        <a:pt x="1804" y="147"/>
                      </a:lnTo>
                      <a:lnTo>
                        <a:pt x="1816" y="145"/>
                      </a:lnTo>
                      <a:lnTo>
                        <a:pt x="1832" y="143"/>
                      </a:lnTo>
                      <a:lnTo>
                        <a:pt x="1846" y="139"/>
                      </a:lnTo>
                      <a:lnTo>
                        <a:pt x="1852" y="131"/>
                      </a:lnTo>
                      <a:lnTo>
                        <a:pt x="1863" y="120"/>
                      </a:lnTo>
                      <a:lnTo>
                        <a:pt x="1875" y="116"/>
                      </a:lnTo>
                      <a:lnTo>
                        <a:pt x="1891" y="113"/>
                      </a:lnTo>
                      <a:lnTo>
                        <a:pt x="1906" y="113"/>
                      </a:lnTo>
                      <a:lnTo>
                        <a:pt x="1913" y="119"/>
                      </a:lnTo>
                      <a:lnTo>
                        <a:pt x="1923" y="131"/>
                      </a:lnTo>
                      <a:lnTo>
                        <a:pt x="1934" y="129"/>
                      </a:lnTo>
                      <a:lnTo>
                        <a:pt x="1946" y="128"/>
                      </a:lnTo>
                      <a:lnTo>
                        <a:pt x="1961" y="129"/>
                      </a:lnTo>
                      <a:lnTo>
                        <a:pt x="1975" y="134"/>
                      </a:lnTo>
                      <a:lnTo>
                        <a:pt x="1993" y="138"/>
                      </a:lnTo>
                      <a:lnTo>
                        <a:pt x="2015" y="138"/>
                      </a:lnTo>
                      <a:lnTo>
                        <a:pt x="1998" y="127"/>
                      </a:lnTo>
                      <a:lnTo>
                        <a:pt x="1991" y="119"/>
                      </a:lnTo>
                      <a:lnTo>
                        <a:pt x="2006" y="121"/>
                      </a:lnTo>
                      <a:lnTo>
                        <a:pt x="2035" y="127"/>
                      </a:lnTo>
                      <a:lnTo>
                        <a:pt x="2060" y="125"/>
                      </a:lnTo>
                      <a:lnTo>
                        <a:pt x="2061" y="119"/>
                      </a:lnTo>
                      <a:lnTo>
                        <a:pt x="2065" y="112"/>
                      </a:lnTo>
                      <a:lnTo>
                        <a:pt x="2071" y="107"/>
                      </a:lnTo>
                      <a:lnTo>
                        <a:pt x="2085" y="104"/>
                      </a:lnTo>
                      <a:lnTo>
                        <a:pt x="2100" y="104"/>
                      </a:lnTo>
                      <a:lnTo>
                        <a:pt x="2119" y="105"/>
                      </a:lnTo>
                      <a:lnTo>
                        <a:pt x="2137" y="107"/>
                      </a:lnTo>
                      <a:lnTo>
                        <a:pt x="2154" y="104"/>
                      </a:lnTo>
                      <a:lnTo>
                        <a:pt x="2175" y="97"/>
                      </a:lnTo>
                      <a:lnTo>
                        <a:pt x="2189" y="89"/>
                      </a:lnTo>
                      <a:lnTo>
                        <a:pt x="2174" y="74"/>
                      </a:lnTo>
                      <a:lnTo>
                        <a:pt x="2159" y="68"/>
                      </a:lnTo>
                      <a:lnTo>
                        <a:pt x="2142" y="61"/>
                      </a:lnTo>
                      <a:lnTo>
                        <a:pt x="2131" y="58"/>
                      </a:lnTo>
                      <a:lnTo>
                        <a:pt x="2122" y="50"/>
                      </a:lnTo>
                      <a:lnTo>
                        <a:pt x="2116" y="42"/>
                      </a:lnTo>
                      <a:lnTo>
                        <a:pt x="2113" y="35"/>
                      </a:lnTo>
                      <a:lnTo>
                        <a:pt x="2109" y="26"/>
                      </a:lnTo>
                      <a:lnTo>
                        <a:pt x="2138" y="0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08960" y="3841560"/>
                  <a:ext cx="82044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625" y="34"/>
                      </a:moveTo>
                      <a:lnTo>
                        <a:pt x="582" y="26"/>
                      </a:lnTo>
                      <a:lnTo>
                        <a:pt x="571" y="18"/>
                      </a:lnTo>
                      <a:lnTo>
                        <a:pt x="553" y="15"/>
                      </a:lnTo>
                      <a:lnTo>
                        <a:pt x="540" y="13"/>
                      </a:lnTo>
                      <a:lnTo>
                        <a:pt x="524" y="11"/>
                      </a:lnTo>
                      <a:lnTo>
                        <a:pt x="507" y="11"/>
                      </a:lnTo>
                      <a:lnTo>
                        <a:pt x="486" y="11"/>
                      </a:lnTo>
                      <a:lnTo>
                        <a:pt x="468" y="7"/>
                      </a:lnTo>
                      <a:lnTo>
                        <a:pt x="453" y="6"/>
                      </a:lnTo>
                      <a:lnTo>
                        <a:pt x="427" y="7"/>
                      </a:lnTo>
                      <a:lnTo>
                        <a:pt x="411" y="3"/>
                      </a:lnTo>
                      <a:lnTo>
                        <a:pt x="395" y="0"/>
                      </a:lnTo>
                      <a:lnTo>
                        <a:pt x="380" y="0"/>
                      </a:lnTo>
                      <a:lnTo>
                        <a:pt x="364" y="4"/>
                      </a:lnTo>
                      <a:lnTo>
                        <a:pt x="349" y="11"/>
                      </a:lnTo>
                      <a:lnTo>
                        <a:pt x="329" y="15"/>
                      </a:lnTo>
                      <a:lnTo>
                        <a:pt x="299" y="18"/>
                      </a:lnTo>
                      <a:lnTo>
                        <a:pt x="284" y="14"/>
                      </a:lnTo>
                      <a:lnTo>
                        <a:pt x="265" y="15"/>
                      </a:lnTo>
                      <a:lnTo>
                        <a:pt x="252" y="18"/>
                      </a:lnTo>
                      <a:lnTo>
                        <a:pt x="231" y="26"/>
                      </a:lnTo>
                      <a:lnTo>
                        <a:pt x="215" y="37"/>
                      </a:lnTo>
                      <a:lnTo>
                        <a:pt x="189" y="43"/>
                      </a:lnTo>
                      <a:lnTo>
                        <a:pt x="152" y="41"/>
                      </a:lnTo>
                      <a:lnTo>
                        <a:pt x="133" y="48"/>
                      </a:lnTo>
                      <a:lnTo>
                        <a:pt x="116" y="51"/>
                      </a:lnTo>
                      <a:lnTo>
                        <a:pt x="93" y="53"/>
                      </a:lnTo>
                      <a:lnTo>
                        <a:pt x="0" y="64"/>
                      </a:lnTo>
                      <a:lnTo>
                        <a:pt x="101" y="60"/>
                      </a:lnTo>
                      <a:lnTo>
                        <a:pt x="120" y="64"/>
                      </a:lnTo>
                      <a:lnTo>
                        <a:pt x="137" y="68"/>
                      </a:lnTo>
                      <a:lnTo>
                        <a:pt x="149" y="67"/>
                      </a:lnTo>
                      <a:lnTo>
                        <a:pt x="164" y="64"/>
                      </a:lnTo>
                      <a:lnTo>
                        <a:pt x="183" y="58"/>
                      </a:lnTo>
                      <a:lnTo>
                        <a:pt x="210" y="57"/>
                      </a:lnTo>
                      <a:lnTo>
                        <a:pt x="235" y="50"/>
                      </a:lnTo>
                      <a:lnTo>
                        <a:pt x="252" y="51"/>
                      </a:lnTo>
                      <a:lnTo>
                        <a:pt x="271" y="53"/>
                      </a:lnTo>
                      <a:lnTo>
                        <a:pt x="313" y="48"/>
                      </a:lnTo>
                      <a:lnTo>
                        <a:pt x="333" y="45"/>
                      </a:lnTo>
                      <a:lnTo>
                        <a:pt x="360" y="37"/>
                      </a:lnTo>
                      <a:lnTo>
                        <a:pt x="387" y="37"/>
                      </a:lnTo>
                      <a:lnTo>
                        <a:pt x="419" y="37"/>
                      </a:lnTo>
                      <a:lnTo>
                        <a:pt x="442" y="38"/>
                      </a:lnTo>
                      <a:lnTo>
                        <a:pt x="464" y="36"/>
                      </a:lnTo>
                      <a:lnTo>
                        <a:pt x="486" y="30"/>
                      </a:lnTo>
                      <a:lnTo>
                        <a:pt x="507" y="34"/>
                      </a:lnTo>
                      <a:lnTo>
                        <a:pt x="526" y="27"/>
                      </a:lnTo>
                      <a:lnTo>
                        <a:pt x="542" y="30"/>
                      </a:lnTo>
                      <a:lnTo>
                        <a:pt x="565" y="31"/>
                      </a:lnTo>
                      <a:lnTo>
                        <a:pt x="590" y="32"/>
                      </a:lnTo>
                      <a:lnTo>
                        <a:pt x="625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89600" y="3817440"/>
                  <a:ext cx="3449520" cy="297000"/>
                </a:xfrm>
                <a:custGeom>
                  <a:avLst/>
                  <a:gdLst/>
                  <a:ahLst/>
                  <a:rect l="l" t="t" r="r" b="b"/>
                  <a:pathLst>
                    <a:path w="2631" h="237">
                      <a:moveTo>
                        <a:pt x="2138" y="0"/>
                      </a:moveTo>
                      <a:lnTo>
                        <a:pt x="2159" y="5"/>
                      </a:lnTo>
                      <a:lnTo>
                        <a:pt x="2175" y="9"/>
                      </a:lnTo>
                      <a:lnTo>
                        <a:pt x="2189" y="15"/>
                      </a:lnTo>
                      <a:lnTo>
                        <a:pt x="2197" y="21"/>
                      </a:lnTo>
                      <a:lnTo>
                        <a:pt x="2202" y="31"/>
                      </a:lnTo>
                      <a:lnTo>
                        <a:pt x="2224" y="32"/>
                      </a:lnTo>
                      <a:lnTo>
                        <a:pt x="2238" y="35"/>
                      </a:lnTo>
                      <a:lnTo>
                        <a:pt x="2249" y="39"/>
                      </a:lnTo>
                      <a:lnTo>
                        <a:pt x="2265" y="45"/>
                      </a:lnTo>
                      <a:lnTo>
                        <a:pt x="2283" y="45"/>
                      </a:lnTo>
                      <a:lnTo>
                        <a:pt x="2305" y="55"/>
                      </a:lnTo>
                      <a:lnTo>
                        <a:pt x="2331" y="46"/>
                      </a:lnTo>
                      <a:lnTo>
                        <a:pt x="2316" y="66"/>
                      </a:lnTo>
                      <a:lnTo>
                        <a:pt x="2341" y="66"/>
                      </a:lnTo>
                      <a:lnTo>
                        <a:pt x="2372" y="67"/>
                      </a:lnTo>
                      <a:lnTo>
                        <a:pt x="2396" y="62"/>
                      </a:lnTo>
                      <a:lnTo>
                        <a:pt x="2423" y="74"/>
                      </a:lnTo>
                      <a:lnTo>
                        <a:pt x="2448" y="66"/>
                      </a:lnTo>
                      <a:lnTo>
                        <a:pt x="2455" y="67"/>
                      </a:lnTo>
                      <a:lnTo>
                        <a:pt x="2461" y="72"/>
                      </a:lnTo>
                      <a:lnTo>
                        <a:pt x="2470" y="78"/>
                      </a:lnTo>
                      <a:lnTo>
                        <a:pt x="2475" y="86"/>
                      </a:lnTo>
                      <a:lnTo>
                        <a:pt x="2485" y="92"/>
                      </a:lnTo>
                      <a:lnTo>
                        <a:pt x="2492" y="95"/>
                      </a:lnTo>
                      <a:lnTo>
                        <a:pt x="2508" y="95"/>
                      </a:lnTo>
                      <a:lnTo>
                        <a:pt x="2526" y="95"/>
                      </a:lnTo>
                      <a:lnTo>
                        <a:pt x="2534" y="101"/>
                      </a:lnTo>
                      <a:lnTo>
                        <a:pt x="2546" y="108"/>
                      </a:lnTo>
                      <a:lnTo>
                        <a:pt x="2557" y="108"/>
                      </a:lnTo>
                      <a:lnTo>
                        <a:pt x="2574" y="109"/>
                      </a:lnTo>
                      <a:lnTo>
                        <a:pt x="2594" y="109"/>
                      </a:lnTo>
                      <a:lnTo>
                        <a:pt x="2614" y="116"/>
                      </a:lnTo>
                      <a:lnTo>
                        <a:pt x="2630" y="132"/>
                      </a:lnTo>
                      <a:lnTo>
                        <a:pt x="2616" y="131"/>
                      </a:lnTo>
                      <a:lnTo>
                        <a:pt x="2594" y="125"/>
                      </a:lnTo>
                      <a:lnTo>
                        <a:pt x="2572" y="124"/>
                      </a:lnTo>
                      <a:lnTo>
                        <a:pt x="2556" y="125"/>
                      </a:lnTo>
                      <a:lnTo>
                        <a:pt x="2541" y="132"/>
                      </a:lnTo>
                      <a:lnTo>
                        <a:pt x="2524" y="135"/>
                      </a:lnTo>
                      <a:lnTo>
                        <a:pt x="2508" y="131"/>
                      </a:lnTo>
                      <a:lnTo>
                        <a:pt x="2490" y="125"/>
                      </a:lnTo>
                      <a:lnTo>
                        <a:pt x="2474" y="121"/>
                      </a:lnTo>
                      <a:lnTo>
                        <a:pt x="2459" y="121"/>
                      </a:lnTo>
                      <a:lnTo>
                        <a:pt x="2448" y="131"/>
                      </a:lnTo>
                      <a:lnTo>
                        <a:pt x="2438" y="139"/>
                      </a:lnTo>
                      <a:lnTo>
                        <a:pt x="2420" y="139"/>
                      </a:lnTo>
                      <a:lnTo>
                        <a:pt x="2404" y="136"/>
                      </a:lnTo>
                      <a:lnTo>
                        <a:pt x="2385" y="131"/>
                      </a:lnTo>
                      <a:lnTo>
                        <a:pt x="2368" y="127"/>
                      </a:lnTo>
                      <a:lnTo>
                        <a:pt x="2352" y="135"/>
                      </a:lnTo>
                      <a:lnTo>
                        <a:pt x="2335" y="143"/>
                      </a:lnTo>
                      <a:lnTo>
                        <a:pt x="2319" y="146"/>
                      </a:lnTo>
                      <a:lnTo>
                        <a:pt x="2302" y="149"/>
                      </a:lnTo>
                      <a:lnTo>
                        <a:pt x="2281" y="151"/>
                      </a:lnTo>
                      <a:lnTo>
                        <a:pt x="2259" y="153"/>
                      </a:lnTo>
                      <a:lnTo>
                        <a:pt x="2238" y="151"/>
                      </a:lnTo>
                      <a:lnTo>
                        <a:pt x="2213" y="147"/>
                      </a:lnTo>
                      <a:lnTo>
                        <a:pt x="2224" y="133"/>
                      </a:lnTo>
                      <a:lnTo>
                        <a:pt x="2222" y="124"/>
                      </a:lnTo>
                      <a:lnTo>
                        <a:pt x="2211" y="119"/>
                      </a:lnTo>
                      <a:lnTo>
                        <a:pt x="2208" y="129"/>
                      </a:lnTo>
                      <a:lnTo>
                        <a:pt x="2194" y="139"/>
                      </a:lnTo>
                      <a:lnTo>
                        <a:pt x="2180" y="143"/>
                      </a:lnTo>
                      <a:lnTo>
                        <a:pt x="2165" y="146"/>
                      </a:lnTo>
                      <a:lnTo>
                        <a:pt x="2148" y="151"/>
                      </a:lnTo>
                      <a:lnTo>
                        <a:pt x="2130" y="154"/>
                      </a:lnTo>
                      <a:lnTo>
                        <a:pt x="2104" y="157"/>
                      </a:lnTo>
                      <a:lnTo>
                        <a:pt x="2087" y="155"/>
                      </a:lnTo>
                      <a:lnTo>
                        <a:pt x="2067" y="157"/>
                      </a:lnTo>
                      <a:lnTo>
                        <a:pt x="2034" y="163"/>
                      </a:lnTo>
                      <a:lnTo>
                        <a:pt x="2045" y="170"/>
                      </a:lnTo>
                      <a:lnTo>
                        <a:pt x="2060" y="177"/>
                      </a:lnTo>
                      <a:lnTo>
                        <a:pt x="2089" y="191"/>
                      </a:lnTo>
                      <a:lnTo>
                        <a:pt x="2071" y="192"/>
                      </a:lnTo>
                      <a:lnTo>
                        <a:pt x="2054" y="194"/>
                      </a:lnTo>
                      <a:lnTo>
                        <a:pt x="2031" y="197"/>
                      </a:lnTo>
                      <a:lnTo>
                        <a:pt x="2006" y="199"/>
                      </a:lnTo>
                      <a:lnTo>
                        <a:pt x="1993" y="198"/>
                      </a:lnTo>
                      <a:lnTo>
                        <a:pt x="1982" y="192"/>
                      </a:lnTo>
                      <a:lnTo>
                        <a:pt x="1967" y="188"/>
                      </a:lnTo>
                      <a:lnTo>
                        <a:pt x="1946" y="187"/>
                      </a:lnTo>
                      <a:lnTo>
                        <a:pt x="1919" y="186"/>
                      </a:lnTo>
                      <a:lnTo>
                        <a:pt x="1900" y="177"/>
                      </a:lnTo>
                      <a:lnTo>
                        <a:pt x="1873" y="170"/>
                      </a:lnTo>
                      <a:lnTo>
                        <a:pt x="1852" y="166"/>
                      </a:lnTo>
                      <a:lnTo>
                        <a:pt x="1836" y="167"/>
                      </a:lnTo>
                      <a:lnTo>
                        <a:pt x="1783" y="169"/>
                      </a:lnTo>
                      <a:lnTo>
                        <a:pt x="1742" y="172"/>
                      </a:lnTo>
                      <a:lnTo>
                        <a:pt x="1715" y="172"/>
                      </a:lnTo>
                      <a:lnTo>
                        <a:pt x="1693" y="174"/>
                      </a:lnTo>
                      <a:lnTo>
                        <a:pt x="1656" y="190"/>
                      </a:lnTo>
                      <a:lnTo>
                        <a:pt x="1638" y="190"/>
                      </a:lnTo>
                      <a:lnTo>
                        <a:pt x="1617" y="186"/>
                      </a:lnTo>
                      <a:lnTo>
                        <a:pt x="1595" y="180"/>
                      </a:lnTo>
                      <a:lnTo>
                        <a:pt x="1577" y="177"/>
                      </a:lnTo>
                      <a:lnTo>
                        <a:pt x="1514" y="172"/>
                      </a:lnTo>
                      <a:lnTo>
                        <a:pt x="1472" y="170"/>
                      </a:lnTo>
                      <a:lnTo>
                        <a:pt x="1445" y="169"/>
                      </a:lnTo>
                      <a:lnTo>
                        <a:pt x="1423" y="167"/>
                      </a:lnTo>
                      <a:lnTo>
                        <a:pt x="1401" y="165"/>
                      </a:lnTo>
                      <a:lnTo>
                        <a:pt x="1375" y="161"/>
                      </a:lnTo>
                      <a:lnTo>
                        <a:pt x="1357" y="157"/>
                      </a:lnTo>
                      <a:lnTo>
                        <a:pt x="1331" y="150"/>
                      </a:lnTo>
                      <a:lnTo>
                        <a:pt x="1316" y="158"/>
                      </a:lnTo>
                      <a:lnTo>
                        <a:pt x="1307" y="167"/>
                      </a:lnTo>
                      <a:lnTo>
                        <a:pt x="1317" y="176"/>
                      </a:lnTo>
                      <a:lnTo>
                        <a:pt x="1336" y="182"/>
                      </a:lnTo>
                      <a:lnTo>
                        <a:pt x="1313" y="182"/>
                      </a:lnTo>
                      <a:lnTo>
                        <a:pt x="1325" y="190"/>
                      </a:lnTo>
                      <a:lnTo>
                        <a:pt x="1343" y="197"/>
                      </a:lnTo>
                      <a:lnTo>
                        <a:pt x="1368" y="207"/>
                      </a:lnTo>
                      <a:lnTo>
                        <a:pt x="1391" y="214"/>
                      </a:lnTo>
                      <a:lnTo>
                        <a:pt x="1362" y="211"/>
                      </a:lnTo>
                      <a:lnTo>
                        <a:pt x="1338" y="207"/>
                      </a:lnTo>
                      <a:lnTo>
                        <a:pt x="1313" y="201"/>
                      </a:lnTo>
                      <a:lnTo>
                        <a:pt x="1296" y="196"/>
                      </a:lnTo>
                      <a:lnTo>
                        <a:pt x="1288" y="194"/>
                      </a:lnTo>
                      <a:lnTo>
                        <a:pt x="1275" y="192"/>
                      </a:lnTo>
                      <a:lnTo>
                        <a:pt x="1258" y="192"/>
                      </a:lnTo>
                      <a:lnTo>
                        <a:pt x="1238" y="194"/>
                      </a:lnTo>
                      <a:lnTo>
                        <a:pt x="1220" y="197"/>
                      </a:lnTo>
                      <a:lnTo>
                        <a:pt x="1203" y="198"/>
                      </a:lnTo>
                      <a:lnTo>
                        <a:pt x="1181" y="197"/>
                      </a:lnTo>
                      <a:lnTo>
                        <a:pt x="1198" y="211"/>
                      </a:lnTo>
                      <a:lnTo>
                        <a:pt x="1216" y="221"/>
                      </a:lnTo>
                      <a:lnTo>
                        <a:pt x="1236" y="227"/>
                      </a:lnTo>
                      <a:lnTo>
                        <a:pt x="1213" y="224"/>
                      </a:lnTo>
                      <a:lnTo>
                        <a:pt x="1191" y="222"/>
                      </a:lnTo>
                      <a:lnTo>
                        <a:pt x="1168" y="220"/>
                      </a:lnTo>
                      <a:lnTo>
                        <a:pt x="1148" y="215"/>
                      </a:lnTo>
                      <a:lnTo>
                        <a:pt x="1124" y="213"/>
                      </a:lnTo>
                      <a:lnTo>
                        <a:pt x="1095" y="210"/>
                      </a:lnTo>
                      <a:lnTo>
                        <a:pt x="1069" y="210"/>
                      </a:lnTo>
                      <a:lnTo>
                        <a:pt x="1048" y="205"/>
                      </a:lnTo>
                      <a:lnTo>
                        <a:pt x="1043" y="201"/>
                      </a:lnTo>
                      <a:lnTo>
                        <a:pt x="1036" y="197"/>
                      </a:lnTo>
                      <a:lnTo>
                        <a:pt x="1021" y="197"/>
                      </a:lnTo>
                      <a:lnTo>
                        <a:pt x="995" y="202"/>
                      </a:lnTo>
                      <a:lnTo>
                        <a:pt x="963" y="205"/>
                      </a:lnTo>
                      <a:lnTo>
                        <a:pt x="933" y="210"/>
                      </a:lnTo>
                      <a:lnTo>
                        <a:pt x="917" y="213"/>
                      </a:lnTo>
                      <a:lnTo>
                        <a:pt x="888" y="213"/>
                      </a:lnTo>
                      <a:lnTo>
                        <a:pt x="855" y="214"/>
                      </a:lnTo>
                      <a:lnTo>
                        <a:pt x="831" y="218"/>
                      </a:lnTo>
                      <a:lnTo>
                        <a:pt x="800" y="224"/>
                      </a:lnTo>
                      <a:lnTo>
                        <a:pt x="774" y="228"/>
                      </a:lnTo>
                      <a:lnTo>
                        <a:pt x="752" y="231"/>
                      </a:lnTo>
                      <a:lnTo>
                        <a:pt x="730" y="228"/>
                      </a:lnTo>
                      <a:lnTo>
                        <a:pt x="696" y="221"/>
                      </a:lnTo>
                      <a:lnTo>
                        <a:pt x="667" y="224"/>
                      </a:lnTo>
                      <a:lnTo>
                        <a:pt x="641" y="224"/>
                      </a:lnTo>
                      <a:lnTo>
                        <a:pt x="614" y="224"/>
                      </a:lnTo>
                      <a:lnTo>
                        <a:pt x="587" y="223"/>
                      </a:lnTo>
                      <a:lnTo>
                        <a:pt x="550" y="217"/>
                      </a:lnTo>
                      <a:lnTo>
                        <a:pt x="532" y="217"/>
                      </a:lnTo>
                      <a:lnTo>
                        <a:pt x="511" y="215"/>
                      </a:lnTo>
                      <a:lnTo>
                        <a:pt x="473" y="220"/>
                      </a:lnTo>
                      <a:lnTo>
                        <a:pt x="454" y="222"/>
                      </a:lnTo>
                      <a:lnTo>
                        <a:pt x="437" y="221"/>
                      </a:lnTo>
                      <a:lnTo>
                        <a:pt x="415" y="218"/>
                      </a:lnTo>
                      <a:lnTo>
                        <a:pt x="393" y="217"/>
                      </a:lnTo>
                      <a:lnTo>
                        <a:pt x="377" y="217"/>
                      </a:lnTo>
                      <a:lnTo>
                        <a:pt x="370" y="220"/>
                      </a:lnTo>
                      <a:lnTo>
                        <a:pt x="370" y="228"/>
                      </a:lnTo>
                      <a:lnTo>
                        <a:pt x="362" y="231"/>
                      </a:lnTo>
                      <a:lnTo>
                        <a:pt x="348" y="231"/>
                      </a:lnTo>
                      <a:lnTo>
                        <a:pt x="334" y="228"/>
                      </a:lnTo>
                      <a:lnTo>
                        <a:pt x="322" y="221"/>
                      </a:lnTo>
                      <a:lnTo>
                        <a:pt x="314" y="213"/>
                      </a:lnTo>
                      <a:lnTo>
                        <a:pt x="306" y="209"/>
                      </a:lnTo>
                      <a:lnTo>
                        <a:pt x="284" y="209"/>
                      </a:lnTo>
                      <a:lnTo>
                        <a:pt x="267" y="209"/>
                      </a:lnTo>
                      <a:lnTo>
                        <a:pt x="247" y="217"/>
                      </a:lnTo>
                      <a:lnTo>
                        <a:pt x="230" y="222"/>
                      </a:lnTo>
                      <a:lnTo>
                        <a:pt x="211" y="228"/>
                      </a:lnTo>
                      <a:lnTo>
                        <a:pt x="199" y="229"/>
                      </a:lnTo>
                      <a:lnTo>
                        <a:pt x="186" y="231"/>
                      </a:lnTo>
                      <a:lnTo>
                        <a:pt x="173" y="231"/>
                      </a:lnTo>
                      <a:lnTo>
                        <a:pt x="151" y="228"/>
                      </a:lnTo>
                      <a:lnTo>
                        <a:pt x="77" y="236"/>
                      </a:lnTo>
                      <a:lnTo>
                        <a:pt x="99" y="228"/>
                      </a:lnTo>
                      <a:lnTo>
                        <a:pt x="112" y="224"/>
                      </a:lnTo>
                      <a:lnTo>
                        <a:pt x="118" y="217"/>
                      </a:lnTo>
                      <a:lnTo>
                        <a:pt x="112" y="211"/>
                      </a:lnTo>
                      <a:lnTo>
                        <a:pt x="86" y="206"/>
                      </a:lnTo>
                      <a:lnTo>
                        <a:pt x="69" y="202"/>
                      </a:lnTo>
                      <a:lnTo>
                        <a:pt x="47" y="197"/>
                      </a:lnTo>
                      <a:lnTo>
                        <a:pt x="29" y="190"/>
                      </a:lnTo>
                      <a:lnTo>
                        <a:pt x="0" y="180"/>
                      </a:lnTo>
                      <a:lnTo>
                        <a:pt x="42" y="180"/>
                      </a:lnTo>
                      <a:lnTo>
                        <a:pt x="70" y="179"/>
                      </a:lnTo>
                      <a:lnTo>
                        <a:pt x="96" y="176"/>
                      </a:lnTo>
                      <a:lnTo>
                        <a:pt x="118" y="174"/>
                      </a:lnTo>
                      <a:lnTo>
                        <a:pt x="133" y="174"/>
                      </a:lnTo>
                      <a:lnTo>
                        <a:pt x="145" y="176"/>
                      </a:lnTo>
                      <a:lnTo>
                        <a:pt x="158" y="177"/>
                      </a:lnTo>
                      <a:lnTo>
                        <a:pt x="174" y="182"/>
                      </a:lnTo>
                      <a:lnTo>
                        <a:pt x="189" y="186"/>
                      </a:lnTo>
                      <a:lnTo>
                        <a:pt x="167" y="191"/>
                      </a:lnTo>
                      <a:lnTo>
                        <a:pt x="151" y="197"/>
                      </a:lnTo>
                      <a:lnTo>
                        <a:pt x="140" y="205"/>
                      </a:lnTo>
                      <a:lnTo>
                        <a:pt x="136" y="213"/>
                      </a:lnTo>
                      <a:lnTo>
                        <a:pt x="140" y="221"/>
                      </a:lnTo>
                      <a:lnTo>
                        <a:pt x="156" y="218"/>
                      </a:lnTo>
                      <a:lnTo>
                        <a:pt x="169" y="215"/>
                      </a:lnTo>
                      <a:lnTo>
                        <a:pt x="178" y="209"/>
                      </a:lnTo>
                      <a:lnTo>
                        <a:pt x="195" y="202"/>
                      </a:lnTo>
                      <a:lnTo>
                        <a:pt x="215" y="199"/>
                      </a:lnTo>
                      <a:lnTo>
                        <a:pt x="233" y="197"/>
                      </a:lnTo>
                      <a:lnTo>
                        <a:pt x="258" y="199"/>
                      </a:lnTo>
                      <a:lnTo>
                        <a:pt x="274" y="198"/>
                      </a:lnTo>
                      <a:lnTo>
                        <a:pt x="289" y="197"/>
                      </a:lnTo>
                      <a:lnTo>
                        <a:pt x="306" y="194"/>
                      </a:lnTo>
                      <a:lnTo>
                        <a:pt x="323" y="188"/>
                      </a:lnTo>
                      <a:lnTo>
                        <a:pt x="339" y="182"/>
                      </a:lnTo>
                      <a:lnTo>
                        <a:pt x="354" y="177"/>
                      </a:lnTo>
                      <a:lnTo>
                        <a:pt x="367" y="177"/>
                      </a:lnTo>
                      <a:lnTo>
                        <a:pt x="381" y="182"/>
                      </a:lnTo>
                      <a:lnTo>
                        <a:pt x="397" y="186"/>
                      </a:lnTo>
                      <a:lnTo>
                        <a:pt x="414" y="186"/>
                      </a:lnTo>
                      <a:lnTo>
                        <a:pt x="436" y="186"/>
                      </a:lnTo>
                      <a:lnTo>
                        <a:pt x="454" y="183"/>
                      </a:lnTo>
                      <a:lnTo>
                        <a:pt x="471" y="180"/>
                      </a:lnTo>
                      <a:lnTo>
                        <a:pt x="488" y="179"/>
                      </a:lnTo>
                      <a:lnTo>
                        <a:pt x="502" y="180"/>
                      </a:lnTo>
                      <a:lnTo>
                        <a:pt x="522" y="182"/>
                      </a:lnTo>
                      <a:lnTo>
                        <a:pt x="539" y="184"/>
                      </a:lnTo>
                      <a:lnTo>
                        <a:pt x="559" y="182"/>
                      </a:lnTo>
                      <a:lnTo>
                        <a:pt x="582" y="180"/>
                      </a:lnTo>
                      <a:lnTo>
                        <a:pt x="609" y="179"/>
                      </a:lnTo>
                      <a:lnTo>
                        <a:pt x="635" y="177"/>
                      </a:lnTo>
                      <a:lnTo>
                        <a:pt x="652" y="173"/>
                      </a:lnTo>
                      <a:lnTo>
                        <a:pt x="670" y="169"/>
                      </a:lnTo>
                      <a:lnTo>
                        <a:pt x="685" y="163"/>
                      </a:lnTo>
                      <a:lnTo>
                        <a:pt x="699" y="161"/>
                      </a:lnTo>
                      <a:lnTo>
                        <a:pt x="710" y="161"/>
                      </a:lnTo>
                      <a:lnTo>
                        <a:pt x="724" y="162"/>
                      </a:lnTo>
                      <a:lnTo>
                        <a:pt x="758" y="166"/>
                      </a:lnTo>
                      <a:lnTo>
                        <a:pt x="720" y="169"/>
                      </a:lnTo>
                      <a:lnTo>
                        <a:pt x="729" y="177"/>
                      </a:lnTo>
                      <a:lnTo>
                        <a:pt x="743" y="187"/>
                      </a:lnTo>
                      <a:lnTo>
                        <a:pt x="757" y="188"/>
                      </a:lnTo>
                      <a:lnTo>
                        <a:pt x="939" y="167"/>
                      </a:lnTo>
                      <a:lnTo>
                        <a:pt x="950" y="163"/>
                      </a:lnTo>
                      <a:lnTo>
                        <a:pt x="917" y="154"/>
                      </a:lnTo>
                      <a:lnTo>
                        <a:pt x="940" y="150"/>
                      </a:lnTo>
                      <a:lnTo>
                        <a:pt x="955" y="149"/>
                      </a:lnTo>
                      <a:lnTo>
                        <a:pt x="966" y="143"/>
                      </a:lnTo>
                      <a:lnTo>
                        <a:pt x="981" y="139"/>
                      </a:lnTo>
                      <a:lnTo>
                        <a:pt x="999" y="142"/>
                      </a:lnTo>
                      <a:lnTo>
                        <a:pt x="1017" y="144"/>
                      </a:lnTo>
                      <a:lnTo>
                        <a:pt x="1033" y="149"/>
                      </a:lnTo>
                      <a:lnTo>
                        <a:pt x="1048" y="143"/>
                      </a:lnTo>
                      <a:lnTo>
                        <a:pt x="1065" y="132"/>
                      </a:lnTo>
                      <a:lnTo>
                        <a:pt x="1081" y="124"/>
                      </a:lnTo>
                      <a:lnTo>
                        <a:pt x="1098" y="119"/>
                      </a:lnTo>
                      <a:lnTo>
                        <a:pt x="1116" y="116"/>
                      </a:lnTo>
                      <a:lnTo>
                        <a:pt x="1133" y="114"/>
                      </a:lnTo>
                      <a:lnTo>
                        <a:pt x="1162" y="116"/>
                      </a:lnTo>
                      <a:lnTo>
                        <a:pt x="1185" y="118"/>
                      </a:lnTo>
                      <a:lnTo>
                        <a:pt x="1209" y="120"/>
                      </a:lnTo>
                      <a:lnTo>
                        <a:pt x="1236" y="123"/>
                      </a:lnTo>
                      <a:lnTo>
                        <a:pt x="1264" y="127"/>
                      </a:lnTo>
                      <a:lnTo>
                        <a:pt x="1286" y="129"/>
                      </a:lnTo>
                      <a:lnTo>
                        <a:pt x="1305" y="136"/>
                      </a:lnTo>
                      <a:lnTo>
                        <a:pt x="1325" y="140"/>
                      </a:lnTo>
                      <a:lnTo>
                        <a:pt x="1344" y="140"/>
                      </a:lnTo>
                      <a:lnTo>
                        <a:pt x="1364" y="144"/>
                      </a:lnTo>
                      <a:lnTo>
                        <a:pt x="1384" y="147"/>
                      </a:lnTo>
                      <a:lnTo>
                        <a:pt x="1406" y="151"/>
                      </a:lnTo>
                      <a:lnTo>
                        <a:pt x="1428" y="151"/>
                      </a:lnTo>
                      <a:lnTo>
                        <a:pt x="1450" y="151"/>
                      </a:lnTo>
                      <a:lnTo>
                        <a:pt x="1466" y="150"/>
                      </a:lnTo>
                      <a:lnTo>
                        <a:pt x="1482" y="154"/>
                      </a:lnTo>
                      <a:lnTo>
                        <a:pt x="1502" y="159"/>
                      </a:lnTo>
                      <a:lnTo>
                        <a:pt x="1524" y="159"/>
                      </a:lnTo>
                      <a:lnTo>
                        <a:pt x="1550" y="159"/>
                      </a:lnTo>
                      <a:lnTo>
                        <a:pt x="1572" y="159"/>
                      </a:lnTo>
                      <a:lnTo>
                        <a:pt x="1599" y="159"/>
                      </a:lnTo>
                      <a:lnTo>
                        <a:pt x="1650" y="166"/>
                      </a:lnTo>
                      <a:lnTo>
                        <a:pt x="1661" y="162"/>
                      </a:lnTo>
                      <a:lnTo>
                        <a:pt x="1672" y="155"/>
                      </a:lnTo>
                      <a:lnTo>
                        <a:pt x="1687" y="151"/>
                      </a:lnTo>
                      <a:lnTo>
                        <a:pt x="1701" y="150"/>
                      </a:lnTo>
                      <a:lnTo>
                        <a:pt x="1720" y="151"/>
                      </a:lnTo>
                      <a:lnTo>
                        <a:pt x="1742" y="155"/>
                      </a:lnTo>
                      <a:lnTo>
                        <a:pt x="1778" y="158"/>
                      </a:lnTo>
                      <a:lnTo>
                        <a:pt x="1793" y="153"/>
                      </a:lnTo>
                      <a:lnTo>
                        <a:pt x="1804" y="147"/>
                      </a:lnTo>
                      <a:lnTo>
                        <a:pt x="1816" y="145"/>
                      </a:lnTo>
                      <a:lnTo>
                        <a:pt x="1832" y="144"/>
                      </a:lnTo>
                      <a:lnTo>
                        <a:pt x="1846" y="140"/>
                      </a:lnTo>
                      <a:lnTo>
                        <a:pt x="1852" y="132"/>
                      </a:lnTo>
                      <a:lnTo>
                        <a:pt x="1863" y="120"/>
                      </a:lnTo>
                      <a:lnTo>
                        <a:pt x="1875" y="117"/>
                      </a:lnTo>
                      <a:lnTo>
                        <a:pt x="1891" y="114"/>
                      </a:lnTo>
                      <a:lnTo>
                        <a:pt x="1906" y="114"/>
                      </a:lnTo>
                      <a:lnTo>
                        <a:pt x="1913" y="119"/>
                      </a:lnTo>
                      <a:lnTo>
                        <a:pt x="1923" y="132"/>
                      </a:lnTo>
                      <a:lnTo>
                        <a:pt x="1934" y="129"/>
                      </a:lnTo>
                      <a:lnTo>
                        <a:pt x="1946" y="128"/>
                      </a:lnTo>
                      <a:lnTo>
                        <a:pt x="1961" y="129"/>
                      </a:lnTo>
                      <a:lnTo>
                        <a:pt x="1975" y="135"/>
                      </a:lnTo>
                      <a:lnTo>
                        <a:pt x="1993" y="139"/>
                      </a:lnTo>
                      <a:lnTo>
                        <a:pt x="2015" y="139"/>
                      </a:lnTo>
                      <a:lnTo>
                        <a:pt x="1998" y="127"/>
                      </a:lnTo>
                      <a:lnTo>
                        <a:pt x="1991" y="119"/>
                      </a:lnTo>
                      <a:lnTo>
                        <a:pt x="2006" y="121"/>
                      </a:lnTo>
                      <a:lnTo>
                        <a:pt x="2035" y="127"/>
                      </a:lnTo>
                      <a:lnTo>
                        <a:pt x="2060" y="125"/>
                      </a:lnTo>
                      <a:lnTo>
                        <a:pt x="2061" y="119"/>
                      </a:lnTo>
                      <a:lnTo>
                        <a:pt x="2065" y="113"/>
                      </a:lnTo>
                      <a:lnTo>
                        <a:pt x="2071" y="108"/>
                      </a:lnTo>
                      <a:lnTo>
                        <a:pt x="2085" y="104"/>
                      </a:lnTo>
                      <a:lnTo>
                        <a:pt x="2100" y="104"/>
                      </a:lnTo>
                      <a:lnTo>
                        <a:pt x="2119" y="105"/>
                      </a:lnTo>
                      <a:lnTo>
                        <a:pt x="2137" y="108"/>
                      </a:lnTo>
                      <a:lnTo>
                        <a:pt x="2154" y="104"/>
                      </a:lnTo>
                      <a:lnTo>
                        <a:pt x="2175" y="97"/>
                      </a:lnTo>
                      <a:lnTo>
                        <a:pt x="2189" y="90"/>
                      </a:lnTo>
                      <a:lnTo>
                        <a:pt x="2174" y="74"/>
                      </a:lnTo>
                      <a:lnTo>
                        <a:pt x="2159" y="68"/>
                      </a:lnTo>
                      <a:lnTo>
                        <a:pt x="2142" y="62"/>
                      </a:lnTo>
                      <a:lnTo>
                        <a:pt x="2131" y="58"/>
                      </a:lnTo>
                      <a:lnTo>
                        <a:pt x="2122" y="50"/>
                      </a:lnTo>
                      <a:lnTo>
                        <a:pt x="2116" y="42"/>
                      </a:lnTo>
                      <a:lnTo>
                        <a:pt x="2113" y="35"/>
                      </a:lnTo>
                      <a:lnTo>
                        <a:pt x="2109" y="26"/>
                      </a:lnTo>
                      <a:lnTo>
                        <a:pt x="2138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903480" y="3662280"/>
                  <a:ext cx="820800" cy="86400"/>
                </a:xfrm>
                <a:custGeom>
                  <a:avLst/>
                  <a:gdLst/>
                  <a:ahLst/>
                  <a:rect l="l" t="t" r="r" b="b"/>
                  <a:pathLst>
                    <a:path w="626" h="69">
                      <a:moveTo>
                        <a:pt x="625" y="34"/>
                      </a:moveTo>
                      <a:lnTo>
                        <a:pt x="582" y="26"/>
                      </a:lnTo>
                      <a:lnTo>
                        <a:pt x="571" y="18"/>
                      </a:lnTo>
                      <a:lnTo>
                        <a:pt x="553" y="15"/>
                      </a:lnTo>
                      <a:lnTo>
                        <a:pt x="540" y="13"/>
                      </a:lnTo>
                      <a:lnTo>
                        <a:pt x="524" y="11"/>
                      </a:lnTo>
                      <a:lnTo>
                        <a:pt x="507" y="11"/>
                      </a:lnTo>
                      <a:lnTo>
                        <a:pt x="486" y="11"/>
                      </a:lnTo>
                      <a:lnTo>
                        <a:pt x="468" y="7"/>
                      </a:lnTo>
                      <a:lnTo>
                        <a:pt x="453" y="6"/>
                      </a:lnTo>
                      <a:lnTo>
                        <a:pt x="427" y="7"/>
                      </a:lnTo>
                      <a:lnTo>
                        <a:pt x="411" y="3"/>
                      </a:lnTo>
                      <a:lnTo>
                        <a:pt x="395" y="0"/>
                      </a:lnTo>
                      <a:lnTo>
                        <a:pt x="380" y="0"/>
                      </a:lnTo>
                      <a:lnTo>
                        <a:pt x="364" y="4"/>
                      </a:lnTo>
                      <a:lnTo>
                        <a:pt x="349" y="11"/>
                      </a:lnTo>
                      <a:lnTo>
                        <a:pt x="329" y="15"/>
                      </a:lnTo>
                      <a:lnTo>
                        <a:pt x="299" y="18"/>
                      </a:lnTo>
                      <a:lnTo>
                        <a:pt x="284" y="14"/>
                      </a:lnTo>
                      <a:lnTo>
                        <a:pt x="265" y="15"/>
                      </a:lnTo>
                      <a:lnTo>
                        <a:pt x="252" y="18"/>
                      </a:lnTo>
                      <a:lnTo>
                        <a:pt x="231" y="26"/>
                      </a:lnTo>
                      <a:lnTo>
                        <a:pt x="215" y="37"/>
                      </a:lnTo>
                      <a:lnTo>
                        <a:pt x="189" y="43"/>
                      </a:lnTo>
                      <a:lnTo>
                        <a:pt x="152" y="41"/>
                      </a:lnTo>
                      <a:lnTo>
                        <a:pt x="133" y="48"/>
                      </a:lnTo>
                      <a:lnTo>
                        <a:pt x="116" y="51"/>
                      </a:lnTo>
                      <a:lnTo>
                        <a:pt x="93" y="53"/>
                      </a:lnTo>
                      <a:lnTo>
                        <a:pt x="0" y="64"/>
                      </a:lnTo>
                      <a:lnTo>
                        <a:pt x="101" y="60"/>
                      </a:lnTo>
                      <a:lnTo>
                        <a:pt x="120" y="64"/>
                      </a:lnTo>
                      <a:lnTo>
                        <a:pt x="137" y="68"/>
                      </a:lnTo>
                      <a:lnTo>
                        <a:pt x="149" y="67"/>
                      </a:lnTo>
                      <a:lnTo>
                        <a:pt x="164" y="64"/>
                      </a:lnTo>
                      <a:lnTo>
                        <a:pt x="183" y="58"/>
                      </a:lnTo>
                      <a:lnTo>
                        <a:pt x="210" y="57"/>
                      </a:lnTo>
                      <a:lnTo>
                        <a:pt x="235" y="50"/>
                      </a:lnTo>
                      <a:lnTo>
                        <a:pt x="252" y="51"/>
                      </a:lnTo>
                      <a:lnTo>
                        <a:pt x="271" y="53"/>
                      </a:lnTo>
                      <a:lnTo>
                        <a:pt x="313" y="48"/>
                      </a:lnTo>
                      <a:lnTo>
                        <a:pt x="333" y="45"/>
                      </a:lnTo>
                      <a:lnTo>
                        <a:pt x="360" y="37"/>
                      </a:lnTo>
                      <a:lnTo>
                        <a:pt x="387" y="37"/>
                      </a:lnTo>
                      <a:lnTo>
                        <a:pt x="419" y="37"/>
                      </a:lnTo>
                      <a:lnTo>
                        <a:pt x="442" y="38"/>
                      </a:lnTo>
                      <a:lnTo>
                        <a:pt x="464" y="36"/>
                      </a:lnTo>
                      <a:lnTo>
                        <a:pt x="486" y="30"/>
                      </a:lnTo>
                      <a:lnTo>
                        <a:pt x="507" y="34"/>
                      </a:lnTo>
                      <a:lnTo>
                        <a:pt x="526" y="27"/>
                      </a:lnTo>
                      <a:lnTo>
                        <a:pt x="542" y="30"/>
                      </a:lnTo>
                      <a:lnTo>
                        <a:pt x="565" y="31"/>
                      </a:lnTo>
                      <a:lnTo>
                        <a:pt x="590" y="32"/>
                      </a:lnTo>
                      <a:lnTo>
                        <a:pt x="625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790360" y="3758760"/>
                  <a:ext cx="3449520" cy="295920"/>
                </a:xfrm>
                <a:custGeom>
                  <a:avLst/>
                  <a:gdLst/>
                  <a:ahLst/>
                  <a:rect l="l" t="t" r="r" b="b"/>
                  <a:pathLst>
                    <a:path w="2631" h="236">
                      <a:moveTo>
                        <a:pt x="2138" y="0"/>
                      </a:moveTo>
                      <a:lnTo>
                        <a:pt x="2159" y="5"/>
                      </a:lnTo>
                      <a:lnTo>
                        <a:pt x="2175" y="9"/>
                      </a:lnTo>
                      <a:lnTo>
                        <a:pt x="2189" y="15"/>
                      </a:lnTo>
                      <a:lnTo>
                        <a:pt x="2197" y="21"/>
                      </a:lnTo>
                      <a:lnTo>
                        <a:pt x="2202" y="31"/>
                      </a:lnTo>
                      <a:lnTo>
                        <a:pt x="2224" y="32"/>
                      </a:lnTo>
                      <a:lnTo>
                        <a:pt x="2238" y="35"/>
                      </a:lnTo>
                      <a:lnTo>
                        <a:pt x="2249" y="39"/>
                      </a:lnTo>
                      <a:lnTo>
                        <a:pt x="2265" y="45"/>
                      </a:lnTo>
                      <a:lnTo>
                        <a:pt x="2283" y="45"/>
                      </a:lnTo>
                      <a:lnTo>
                        <a:pt x="2305" y="55"/>
                      </a:lnTo>
                      <a:lnTo>
                        <a:pt x="2331" y="46"/>
                      </a:lnTo>
                      <a:lnTo>
                        <a:pt x="2316" y="66"/>
                      </a:lnTo>
                      <a:lnTo>
                        <a:pt x="2341" y="66"/>
                      </a:lnTo>
                      <a:lnTo>
                        <a:pt x="2372" y="67"/>
                      </a:lnTo>
                      <a:lnTo>
                        <a:pt x="2396" y="61"/>
                      </a:lnTo>
                      <a:lnTo>
                        <a:pt x="2423" y="74"/>
                      </a:lnTo>
                      <a:lnTo>
                        <a:pt x="2448" y="66"/>
                      </a:lnTo>
                      <a:lnTo>
                        <a:pt x="2455" y="67"/>
                      </a:lnTo>
                      <a:lnTo>
                        <a:pt x="2461" y="72"/>
                      </a:lnTo>
                      <a:lnTo>
                        <a:pt x="2470" y="78"/>
                      </a:lnTo>
                      <a:lnTo>
                        <a:pt x="2475" y="85"/>
                      </a:lnTo>
                      <a:lnTo>
                        <a:pt x="2485" y="91"/>
                      </a:lnTo>
                      <a:lnTo>
                        <a:pt x="2492" y="95"/>
                      </a:lnTo>
                      <a:lnTo>
                        <a:pt x="2508" y="95"/>
                      </a:lnTo>
                      <a:lnTo>
                        <a:pt x="2526" y="95"/>
                      </a:lnTo>
                      <a:lnTo>
                        <a:pt x="2534" y="101"/>
                      </a:lnTo>
                      <a:lnTo>
                        <a:pt x="2546" y="107"/>
                      </a:lnTo>
                      <a:lnTo>
                        <a:pt x="2557" y="107"/>
                      </a:lnTo>
                      <a:lnTo>
                        <a:pt x="2574" y="108"/>
                      </a:lnTo>
                      <a:lnTo>
                        <a:pt x="2594" y="108"/>
                      </a:lnTo>
                      <a:lnTo>
                        <a:pt x="2614" y="115"/>
                      </a:lnTo>
                      <a:lnTo>
                        <a:pt x="2630" y="131"/>
                      </a:lnTo>
                      <a:lnTo>
                        <a:pt x="2616" y="130"/>
                      </a:lnTo>
                      <a:lnTo>
                        <a:pt x="2594" y="125"/>
                      </a:lnTo>
                      <a:lnTo>
                        <a:pt x="2572" y="124"/>
                      </a:lnTo>
                      <a:lnTo>
                        <a:pt x="2556" y="125"/>
                      </a:lnTo>
                      <a:lnTo>
                        <a:pt x="2541" y="131"/>
                      </a:lnTo>
                      <a:lnTo>
                        <a:pt x="2524" y="134"/>
                      </a:lnTo>
                      <a:lnTo>
                        <a:pt x="2508" y="130"/>
                      </a:lnTo>
                      <a:lnTo>
                        <a:pt x="2490" y="125"/>
                      </a:lnTo>
                      <a:lnTo>
                        <a:pt x="2474" y="121"/>
                      </a:lnTo>
                      <a:lnTo>
                        <a:pt x="2459" y="121"/>
                      </a:lnTo>
                      <a:lnTo>
                        <a:pt x="2448" y="130"/>
                      </a:lnTo>
                      <a:lnTo>
                        <a:pt x="2438" y="138"/>
                      </a:lnTo>
                      <a:lnTo>
                        <a:pt x="2420" y="138"/>
                      </a:lnTo>
                      <a:lnTo>
                        <a:pt x="2404" y="135"/>
                      </a:lnTo>
                      <a:lnTo>
                        <a:pt x="2385" y="130"/>
                      </a:lnTo>
                      <a:lnTo>
                        <a:pt x="2368" y="127"/>
                      </a:lnTo>
                      <a:lnTo>
                        <a:pt x="2352" y="134"/>
                      </a:lnTo>
                      <a:lnTo>
                        <a:pt x="2335" y="142"/>
                      </a:lnTo>
                      <a:lnTo>
                        <a:pt x="2319" y="146"/>
                      </a:lnTo>
                      <a:lnTo>
                        <a:pt x="2302" y="149"/>
                      </a:lnTo>
                      <a:lnTo>
                        <a:pt x="2281" y="151"/>
                      </a:lnTo>
                      <a:lnTo>
                        <a:pt x="2259" y="153"/>
                      </a:lnTo>
                      <a:lnTo>
                        <a:pt x="2238" y="151"/>
                      </a:lnTo>
                      <a:lnTo>
                        <a:pt x="2213" y="147"/>
                      </a:lnTo>
                      <a:lnTo>
                        <a:pt x="2224" y="132"/>
                      </a:lnTo>
                      <a:lnTo>
                        <a:pt x="2222" y="124"/>
                      </a:lnTo>
                      <a:lnTo>
                        <a:pt x="2211" y="119"/>
                      </a:lnTo>
                      <a:lnTo>
                        <a:pt x="2208" y="129"/>
                      </a:lnTo>
                      <a:lnTo>
                        <a:pt x="2194" y="138"/>
                      </a:lnTo>
                      <a:lnTo>
                        <a:pt x="2180" y="142"/>
                      </a:lnTo>
                      <a:lnTo>
                        <a:pt x="2165" y="146"/>
                      </a:lnTo>
                      <a:lnTo>
                        <a:pt x="2148" y="151"/>
                      </a:lnTo>
                      <a:lnTo>
                        <a:pt x="2130" y="153"/>
                      </a:lnTo>
                      <a:lnTo>
                        <a:pt x="2104" y="156"/>
                      </a:lnTo>
                      <a:lnTo>
                        <a:pt x="2087" y="154"/>
                      </a:lnTo>
                      <a:lnTo>
                        <a:pt x="2067" y="156"/>
                      </a:lnTo>
                      <a:lnTo>
                        <a:pt x="2034" y="162"/>
                      </a:lnTo>
                      <a:lnTo>
                        <a:pt x="2045" y="169"/>
                      </a:lnTo>
                      <a:lnTo>
                        <a:pt x="2060" y="176"/>
                      </a:lnTo>
                      <a:lnTo>
                        <a:pt x="2089" y="190"/>
                      </a:lnTo>
                      <a:lnTo>
                        <a:pt x="2071" y="191"/>
                      </a:lnTo>
                      <a:lnTo>
                        <a:pt x="2054" y="193"/>
                      </a:lnTo>
                      <a:lnTo>
                        <a:pt x="2031" y="197"/>
                      </a:lnTo>
                      <a:lnTo>
                        <a:pt x="2006" y="199"/>
                      </a:lnTo>
                      <a:lnTo>
                        <a:pt x="1993" y="198"/>
                      </a:lnTo>
                      <a:lnTo>
                        <a:pt x="1982" y="191"/>
                      </a:lnTo>
                      <a:lnTo>
                        <a:pt x="1967" y="187"/>
                      </a:lnTo>
                      <a:lnTo>
                        <a:pt x="1946" y="186"/>
                      </a:lnTo>
                      <a:lnTo>
                        <a:pt x="1919" y="185"/>
                      </a:lnTo>
                      <a:lnTo>
                        <a:pt x="1900" y="176"/>
                      </a:lnTo>
                      <a:lnTo>
                        <a:pt x="1873" y="170"/>
                      </a:lnTo>
                      <a:lnTo>
                        <a:pt x="1852" y="165"/>
                      </a:lnTo>
                      <a:lnTo>
                        <a:pt x="1836" y="166"/>
                      </a:lnTo>
                      <a:lnTo>
                        <a:pt x="1783" y="168"/>
                      </a:lnTo>
                      <a:lnTo>
                        <a:pt x="1742" y="172"/>
                      </a:lnTo>
                      <a:lnTo>
                        <a:pt x="1715" y="172"/>
                      </a:lnTo>
                      <a:lnTo>
                        <a:pt x="1693" y="174"/>
                      </a:lnTo>
                      <a:lnTo>
                        <a:pt x="1656" y="189"/>
                      </a:lnTo>
                      <a:lnTo>
                        <a:pt x="1638" y="189"/>
                      </a:lnTo>
                      <a:lnTo>
                        <a:pt x="1617" y="185"/>
                      </a:lnTo>
                      <a:lnTo>
                        <a:pt x="1595" y="179"/>
                      </a:lnTo>
                      <a:lnTo>
                        <a:pt x="1577" y="176"/>
                      </a:lnTo>
                      <a:lnTo>
                        <a:pt x="1514" y="172"/>
                      </a:lnTo>
                      <a:lnTo>
                        <a:pt x="1472" y="170"/>
                      </a:lnTo>
                      <a:lnTo>
                        <a:pt x="1445" y="168"/>
                      </a:lnTo>
                      <a:lnTo>
                        <a:pt x="1423" y="166"/>
                      </a:lnTo>
                      <a:lnTo>
                        <a:pt x="1401" y="164"/>
                      </a:lnTo>
                      <a:lnTo>
                        <a:pt x="1375" y="160"/>
                      </a:lnTo>
                      <a:lnTo>
                        <a:pt x="1357" y="156"/>
                      </a:lnTo>
                      <a:lnTo>
                        <a:pt x="1331" y="150"/>
                      </a:lnTo>
                      <a:lnTo>
                        <a:pt x="1316" y="157"/>
                      </a:lnTo>
                      <a:lnTo>
                        <a:pt x="1307" y="166"/>
                      </a:lnTo>
                      <a:lnTo>
                        <a:pt x="1317" y="176"/>
                      </a:lnTo>
                      <a:lnTo>
                        <a:pt x="1336" y="181"/>
                      </a:lnTo>
                      <a:lnTo>
                        <a:pt x="1313" y="181"/>
                      </a:lnTo>
                      <a:lnTo>
                        <a:pt x="1325" y="189"/>
                      </a:lnTo>
                      <a:lnTo>
                        <a:pt x="1343" y="197"/>
                      </a:lnTo>
                      <a:lnTo>
                        <a:pt x="1368" y="206"/>
                      </a:lnTo>
                      <a:lnTo>
                        <a:pt x="1391" y="213"/>
                      </a:lnTo>
                      <a:lnTo>
                        <a:pt x="1362" y="210"/>
                      </a:lnTo>
                      <a:lnTo>
                        <a:pt x="1338" y="206"/>
                      </a:lnTo>
                      <a:lnTo>
                        <a:pt x="1313" y="200"/>
                      </a:lnTo>
                      <a:lnTo>
                        <a:pt x="1296" y="195"/>
                      </a:lnTo>
                      <a:lnTo>
                        <a:pt x="1288" y="193"/>
                      </a:lnTo>
                      <a:lnTo>
                        <a:pt x="1275" y="191"/>
                      </a:lnTo>
                      <a:lnTo>
                        <a:pt x="1258" y="191"/>
                      </a:lnTo>
                      <a:lnTo>
                        <a:pt x="1238" y="193"/>
                      </a:lnTo>
                      <a:lnTo>
                        <a:pt x="1220" y="197"/>
                      </a:lnTo>
                      <a:lnTo>
                        <a:pt x="1203" y="198"/>
                      </a:lnTo>
                      <a:lnTo>
                        <a:pt x="1181" y="197"/>
                      </a:lnTo>
                      <a:lnTo>
                        <a:pt x="1198" y="210"/>
                      </a:lnTo>
                      <a:lnTo>
                        <a:pt x="1216" y="220"/>
                      </a:lnTo>
                      <a:lnTo>
                        <a:pt x="1236" y="226"/>
                      </a:lnTo>
                      <a:lnTo>
                        <a:pt x="1213" y="223"/>
                      </a:lnTo>
                      <a:lnTo>
                        <a:pt x="1191" y="221"/>
                      </a:lnTo>
                      <a:lnTo>
                        <a:pt x="1168" y="219"/>
                      </a:lnTo>
                      <a:lnTo>
                        <a:pt x="1148" y="214"/>
                      </a:lnTo>
                      <a:lnTo>
                        <a:pt x="1124" y="212"/>
                      </a:lnTo>
                      <a:lnTo>
                        <a:pt x="1095" y="209"/>
                      </a:lnTo>
                      <a:lnTo>
                        <a:pt x="1069" y="209"/>
                      </a:lnTo>
                      <a:lnTo>
                        <a:pt x="1048" y="204"/>
                      </a:lnTo>
                      <a:lnTo>
                        <a:pt x="1043" y="200"/>
                      </a:lnTo>
                      <a:lnTo>
                        <a:pt x="1036" y="197"/>
                      </a:lnTo>
                      <a:lnTo>
                        <a:pt x="1021" y="197"/>
                      </a:lnTo>
                      <a:lnTo>
                        <a:pt x="995" y="201"/>
                      </a:lnTo>
                      <a:lnTo>
                        <a:pt x="963" y="204"/>
                      </a:lnTo>
                      <a:lnTo>
                        <a:pt x="933" y="209"/>
                      </a:lnTo>
                      <a:lnTo>
                        <a:pt x="917" y="212"/>
                      </a:lnTo>
                      <a:lnTo>
                        <a:pt x="888" y="212"/>
                      </a:lnTo>
                      <a:lnTo>
                        <a:pt x="855" y="213"/>
                      </a:lnTo>
                      <a:lnTo>
                        <a:pt x="831" y="217"/>
                      </a:lnTo>
                      <a:lnTo>
                        <a:pt x="800" y="223"/>
                      </a:lnTo>
                      <a:lnTo>
                        <a:pt x="774" y="227"/>
                      </a:lnTo>
                      <a:lnTo>
                        <a:pt x="752" y="230"/>
                      </a:lnTo>
                      <a:lnTo>
                        <a:pt x="730" y="227"/>
                      </a:lnTo>
                      <a:lnTo>
                        <a:pt x="696" y="220"/>
                      </a:lnTo>
                      <a:lnTo>
                        <a:pt x="667" y="223"/>
                      </a:lnTo>
                      <a:lnTo>
                        <a:pt x="641" y="223"/>
                      </a:lnTo>
                      <a:lnTo>
                        <a:pt x="614" y="223"/>
                      </a:lnTo>
                      <a:lnTo>
                        <a:pt x="587" y="223"/>
                      </a:lnTo>
                      <a:lnTo>
                        <a:pt x="550" y="216"/>
                      </a:lnTo>
                      <a:lnTo>
                        <a:pt x="532" y="216"/>
                      </a:lnTo>
                      <a:lnTo>
                        <a:pt x="511" y="214"/>
                      </a:lnTo>
                      <a:lnTo>
                        <a:pt x="473" y="219"/>
                      </a:lnTo>
                      <a:lnTo>
                        <a:pt x="454" y="221"/>
                      </a:lnTo>
                      <a:lnTo>
                        <a:pt x="437" y="220"/>
                      </a:lnTo>
                      <a:lnTo>
                        <a:pt x="415" y="217"/>
                      </a:lnTo>
                      <a:lnTo>
                        <a:pt x="393" y="216"/>
                      </a:lnTo>
                      <a:lnTo>
                        <a:pt x="377" y="216"/>
                      </a:lnTo>
                      <a:lnTo>
                        <a:pt x="370" y="219"/>
                      </a:lnTo>
                      <a:lnTo>
                        <a:pt x="370" y="227"/>
                      </a:lnTo>
                      <a:lnTo>
                        <a:pt x="362" y="230"/>
                      </a:lnTo>
                      <a:lnTo>
                        <a:pt x="348" y="230"/>
                      </a:lnTo>
                      <a:lnTo>
                        <a:pt x="334" y="227"/>
                      </a:lnTo>
                      <a:lnTo>
                        <a:pt x="322" y="220"/>
                      </a:lnTo>
                      <a:lnTo>
                        <a:pt x="314" y="212"/>
                      </a:lnTo>
                      <a:lnTo>
                        <a:pt x="306" y="208"/>
                      </a:lnTo>
                      <a:lnTo>
                        <a:pt x="284" y="208"/>
                      </a:lnTo>
                      <a:lnTo>
                        <a:pt x="267" y="208"/>
                      </a:lnTo>
                      <a:lnTo>
                        <a:pt x="247" y="216"/>
                      </a:lnTo>
                      <a:lnTo>
                        <a:pt x="230" y="221"/>
                      </a:lnTo>
                      <a:lnTo>
                        <a:pt x="211" y="227"/>
                      </a:lnTo>
                      <a:lnTo>
                        <a:pt x="199" y="228"/>
                      </a:lnTo>
                      <a:lnTo>
                        <a:pt x="186" y="230"/>
                      </a:lnTo>
                      <a:lnTo>
                        <a:pt x="173" y="230"/>
                      </a:lnTo>
                      <a:lnTo>
                        <a:pt x="151" y="227"/>
                      </a:lnTo>
                      <a:lnTo>
                        <a:pt x="77" y="235"/>
                      </a:lnTo>
                      <a:lnTo>
                        <a:pt x="99" y="227"/>
                      </a:lnTo>
                      <a:lnTo>
                        <a:pt x="112" y="223"/>
                      </a:lnTo>
                      <a:lnTo>
                        <a:pt x="118" y="216"/>
                      </a:lnTo>
                      <a:lnTo>
                        <a:pt x="112" y="210"/>
                      </a:lnTo>
                      <a:lnTo>
                        <a:pt x="86" y="205"/>
                      </a:lnTo>
                      <a:lnTo>
                        <a:pt x="69" y="201"/>
                      </a:lnTo>
                      <a:lnTo>
                        <a:pt x="47" y="197"/>
                      </a:lnTo>
                      <a:lnTo>
                        <a:pt x="29" y="189"/>
                      </a:lnTo>
                      <a:lnTo>
                        <a:pt x="0" y="179"/>
                      </a:lnTo>
                      <a:lnTo>
                        <a:pt x="42" y="179"/>
                      </a:lnTo>
                      <a:lnTo>
                        <a:pt x="70" y="178"/>
                      </a:lnTo>
                      <a:lnTo>
                        <a:pt x="96" y="176"/>
                      </a:lnTo>
                      <a:lnTo>
                        <a:pt x="118" y="174"/>
                      </a:lnTo>
                      <a:lnTo>
                        <a:pt x="133" y="174"/>
                      </a:lnTo>
                      <a:lnTo>
                        <a:pt x="145" y="176"/>
                      </a:lnTo>
                      <a:lnTo>
                        <a:pt x="158" y="176"/>
                      </a:lnTo>
                      <a:lnTo>
                        <a:pt x="174" y="181"/>
                      </a:lnTo>
                      <a:lnTo>
                        <a:pt x="189" y="185"/>
                      </a:lnTo>
                      <a:lnTo>
                        <a:pt x="167" y="190"/>
                      </a:lnTo>
                      <a:lnTo>
                        <a:pt x="151" y="197"/>
                      </a:lnTo>
                      <a:lnTo>
                        <a:pt x="140" y="204"/>
                      </a:lnTo>
                      <a:lnTo>
                        <a:pt x="136" y="212"/>
                      </a:lnTo>
                      <a:lnTo>
                        <a:pt x="140" y="220"/>
                      </a:lnTo>
                      <a:lnTo>
                        <a:pt x="156" y="217"/>
                      </a:lnTo>
                      <a:lnTo>
                        <a:pt x="169" y="214"/>
                      </a:lnTo>
                      <a:lnTo>
                        <a:pt x="178" y="208"/>
                      </a:lnTo>
                      <a:lnTo>
                        <a:pt x="195" y="201"/>
                      </a:lnTo>
                      <a:lnTo>
                        <a:pt x="215" y="199"/>
                      </a:lnTo>
                      <a:lnTo>
                        <a:pt x="233" y="197"/>
                      </a:lnTo>
                      <a:lnTo>
                        <a:pt x="258" y="199"/>
                      </a:lnTo>
                      <a:lnTo>
                        <a:pt x="274" y="198"/>
                      </a:lnTo>
                      <a:lnTo>
                        <a:pt x="289" y="197"/>
                      </a:lnTo>
                      <a:lnTo>
                        <a:pt x="306" y="193"/>
                      </a:lnTo>
                      <a:lnTo>
                        <a:pt x="323" y="187"/>
                      </a:lnTo>
                      <a:lnTo>
                        <a:pt x="339" y="181"/>
                      </a:lnTo>
                      <a:lnTo>
                        <a:pt x="354" y="176"/>
                      </a:lnTo>
                      <a:lnTo>
                        <a:pt x="367" y="176"/>
                      </a:lnTo>
                      <a:lnTo>
                        <a:pt x="381" y="181"/>
                      </a:lnTo>
                      <a:lnTo>
                        <a:pt x="397" y="185"/>
                      </a:lnTo>
                      <a:lnTo>
                        <a:pt x="414" y="185"/>
                      </a:lnTo>
                      <a:lnTo>
                        <a:pt x="436" y="185"/>
                      </a:lnTo>
                      <a:lnTo>
                        <a:pt x="454" y="182"/>
                      </a:lnTo>
                      <a:lnTo>
                        <a:pt x="471" y="179"/>
                      </a:lnTo>
                      <a:lnTo>
                        <a:pt x="488" y="178"/>
                      </a:lnTo>
                      <a:lnTo>
                        <a:pt x="502" y="179"/>
                      </a:lnTo>
                      <a:lnTo>
                        <a:pt x="522" y="181"/>
                      </a:lnTo>
                      <a:lnTo>
                        <a:pt x="539" y="183"/>
                      </a:lnTo>
                      <a:lnTo>
                        <a:pt x="559" y="181"/>
                      </a:lnTo>
                      <a:lnTo>
                        <a:pt x="582" y="179"/>
                      </a:lnTo>
                      <a:lnTo>
                        <a:pt x="609" y="178"/>
                      </a:lnTo>
                      <a:lnTo>
                        <a:pt x="635" y="176"/>
                      </a:lnTo>
                      <a:lnTo>
                        <a:pt x="652" y="173"/>
                      </a:lnTo>
                      <a:lnTo>
                        <a:pt x="670" y="168"/>
                      </a:lnTo>
                      <a:lnTo>
                        <a:pt x="685" y="162"/>
                      </a:lnTo>
                      <a:lnTo>
                        <a:pt x="699" y="160"/>
                      </a:lnTo>
                      <a:lnTo>
                        <a:pt x="710" y="160"/>
                      </a:lnTo>
                      <a:lnTo>
                        <a:pt x="724" y="161"/>
                      </a:lnTo>
                      <a:lnTo>
                        <a:pt x="758" y="165"/>
                      </a:lnTo>
                      <a:lnTo>
                        <a:pt x="720" y="168"/>
                      </a:lnTo>
                      <a:lnTo>
                        <a:pt x="729" y="176"/>
                      </a:lnTo>
                      <a:lnTo>
                        <a:pt x="743" y="186"/>
                      </a:lnTo>
                      <a:lnTo>
                        <a:pt x="757" y="187"/>
                      </a:lnTo>
                      <a:lnTo>
                        <a:pt x="939" y="166"/>
                      </a:lnTo>
                      <a:lnTo>
                        <a:pt x="950" y="162"/>
                      </a:lnTo>
                      <a:lnTo>
                        <a:pt x="917" y="153"/>
                      </a:lnTo>
                      <a:lnTo>
                        <a:pt x="940" y="150"/>
                      </a:lnTo>
                      <a:lnTo>
                        <a:pt x="955" y="149"/>
                      </a:lnTo>
                      <a:lnTo>
                        <a:pt x="966" y="142"/>
                      </a:lnTo>
                      <a:lnTo>
                        <a:pt x="981" y="138"/>
                      </a:lnTo>
                      <a:lnTo>
                        <a:pt x="999" y="141"/>
                      </a:lnTo>
                      <a:lnTo>
                        <a:pt x="1017" y="143"/>
                      </a:lnTo>
                      <a:lnTo>
                        <a:pt x="1033" y="149"/>
                      </a:lnTo>
                      <a:lnTo>
                        <a:pt x="1048" y="142"/>
                      </a:lnTo>
                      <a:lnTo>
                        <a:pt x="1065" y="131"/>
                      </a:lnTo>
                      <a:lnTo>
                        <a:pt x="1081" y="124"/>
                      </a:lnTo>
                      <a:lnTo>
                        <a:pt x="1098" y="119"/>
                      </a:lnTo>
                      <a:lnTo>
                        <a:pt x="1116" y="115"/>
                      </a:lnTo>
                      <a:lnTo>
                        <a:pt x="1133" y="113"/>
                      </a:lnTo>
                      <a:lnTo>
                        <a:pt x="1162" y="115"/>
                      </a:lnTo>
                      <a:lnTo>
                        <a:pt x="1185" y="117"/>
                      </a:lnTo>
                      <a:lnTo>
                        <a:pt x="1209" y="120"/>
                      </a:lnTo>
                      <a:lnTo>
                        <a:pt x="1236" y="123"/>
                      </a:lnTo>
                      <a:lnTo>
                        <a:pt x="1264" y="127"/>
                      </a:lnTo>
                      <a:lnTo>
                        <a:pt x="1286" y="129"/>
                      </a:lnTo>
                      <a:lnTo>
                        <a:pt x="1305" y="135"/>
                      </a:lnTo>
                      <a:lnTo>
                        <a:pt x="1325" y="139"/>
                      </a:lnTo>
                      <a:lnTo>
                        <a:pt x="1344" y="139"/>
                      </a:lnTo>
                      <a:lnTo>
                        <a:pt x="1364" y="143"/>
                      </a:lnTo>
                      <a:lnTo>
                        <a:pt x="1384" y="147"/>
                      </a:lnTo>
                      <a:lnTo>
                        <a:pt x="1406" y="151"/>
                      </a:lnTo>
                      <a:lnTo>
                        <a:pt x="1428" y="151"/>
                      </a:lnTo>
                      <a:lnTo>
                        <a:pt x="1450" y="151"/>
                      </a:lnTo>
                      <a:lnTo>
                        <a:pt x="1466" y="150"/>
                      </a:lnTo>
                      <a:lnTo>
                        <a:pt x="1482" y="153"/>
                      </a:lnTo>
                      <a:lnTo>
                        <a:pt x="1502" y="158"/>
                      </a:lnTo>
                      <a:lnTo>
                        <a:pt x="1524" y="158"/>
                      </a:lnTo>
                      <a:lnTo>
                        <a:pt x="1550" y="158"/>
                      </a:lnTo>
                      <a:lnTo>
                        <a:pt x="1572" y="158"/>
                      </a:lnTo>
                      <a:lnTo>
                        <a:pt x="1599" y="158"/>
                      </a:lnTo>
                      <a:lnTo>
                        <a:pt x="1650" y="165"/>
                      </a:lnTo>
                      <a:lnTo>
                        <a:pt x="1661" y="161"/>
                      </a:lnTo>
                      <a:lnTo>
                        <a:pt x="1672" y="154"/>
                      </a:lnTo>
                      <a:lnTo>
                        <a:pt x="1687" y="151"/>
                      </a:lnTo>
                      <a:lnTo>
                        <a:pt x="1701" y="150"/>
                      </a:lnTo>
                      <a:lnTo>
                        <a:pt x="1720" y="151"/>
                      </a:lnTo>
                      <a:lnTo>
                        <a:pt x="1742" y="154"/>
                      </a:lnTo>
                      <a:lnTo>
                        <a:pt x="1778" y="157"/>
                      </a:lnTo>
                      <a:lnTo>
                        <a:pt x="1793" y="153"/>
                      </a:lnTo>
                      <a:lnTo>
                        <a:pt x="1804" y="147"/>
                      </a:lnTo>
                      <a:lnTo>
                        <a:pt x="1816" y="145"/>
                      </a:lnTo>
                      <a:lnTo>
                        <a:pt x="1832" y="143"/>
                      </a:lnTo>
                      <a:lnTo>
                        <a:pt x="1846" y="139"/>
                      </a:lnTo>
                      <a:lnTo>
                        <a:pt x="1852" y="131"/>
                      </a:lnTo>
                      <a:lnTo>
                        <a:pt x="1863" y="120"/>
                      </a:lnTo>
                      <a:lnTo>
                        <a:pt x="1875" y="116"/>
                      </a:lnTo>
                      <a:lnTo>
                        <a:pt x="1891" y="113"/>
                      </a:lnTo>
                      <a:lnTo>
                        <a:pt x="1906" y="113"/>
                      </a:lnTo>
                      <a:lnTo>
                        <a:pt x="1913" y="119"/>
                      </a:lnTo>
                      <a:lnTo>
                        <a:pt x="1923" y="131"/>
                      </a:lnTo>
                      <a:lnTo>
                        <a:pt x="1934" y="129"/>
                      </a:lnTo>
                      <a:lnTo>
                        <a:pt x="1946" y="128"/>
                      </a:lnTo>
                      <a:lnTo>
                        <a:pt x="1961" y="129"/>
                      </a:lnTo>
                      <a:lnTo>
                        <a:pt x="1975" y="134"/>
                      </a:lnTo>
                      <a:lnTo>
                        <a:pt x="1993" y="138"/>
                      </a:lnTo>
                      <a:lnTo>
                        <a:pt x="2015" y="138"/>
                      </a:lnTo>
                      <a:lnTo>
                        <a:pt x="1998" y="127"/>
                      </a:lnTo>
                      <a:lnTo>
                        <a:pt x="1991" y="119"/>
                      </a:lnTo>
                      <a:lnTo>
                        <a:pt x="2006" y="121"/>
                      </a:lnTo>
                      <a:lnTo>
                        <a:pt x="2035" y="127"/>
                      </a:lnTo>
                      <a:lnTo>
                        <a:pt x="2060" y="125"/>
                      </a:lnTo>
                      <a:lnTo>
                        <a:pt x="2061" y="119"/>
                      </a:lnTo>
                      <a:lnTo>
                        <a:pt x="2065" y="112"/>
                      </a:lnTo>
                      <a:lnTo>
                        <a:pt x="2071" y="107"/>
                      </a:lnTo>
                      <a:lnTo>
                        <a:pt x="2085" y="104"/>
                      </a:lnTo>
                      <a:lnTo>
                        <a:pt x="2100" y="104"/>
                      </a:lnTo>
                      <a:lnTo>
                        <a:pt x="2119" y="105"/>
                      </a:lnTo>
                      <a:lnTo>
                        <a:pt x="2137" y="107"/>
                      </a:lnTo>
                      <a:lnTo>
                        <a:pt x="2154" y="104"/>
                      </a:lnTo>
                      <a:lnTo>
                        <a:pt x="2175" y="97"/>
                      </a:lnTo>
                      <a:lnTo>
                        <a:pt x="2189" y="89"/>
                      </a:lnTo>
                      <a:lnTo>
                        <a:pt x="2174" y="74"/>
                      </a:lnTo>
                      <a:lnTo>
                        <a:pt x="2159" y="68"/>
                      </a:lnTo>
                      <a:lnTo>
                        <a:pt x="2142" y="61"/>
                      </a:lnTo>
                      <a:lnTo>
                        <a:pt x="2131" y="58"/>
                      </a:lnTo>
                      <a:lnTo>
                        <a:pt x="2122" y="50"/>
                      </a:lnTo>
                      <a:lnTo>
                        <a:pt x="2116" y="42"/>
                      </a:lnTo>
                      <a:lnTo>
                        <a:pt x="2113" y="35"/>
                      </a:lnTo>
                      <a:lnTo>
                        <a:pt x="2109" y="26"/>
                      </a:lnTo>
                      <a:lnTo>
                        <a:pt x="2138" y="0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183400" y="3638520"/>
                  <a:ext cx="3450600" cy="295560"/>
                </a:xfrm>
                <a:custGeom>
                  <a:avLst/>
                  <a:gdLst/>
                  <a:ahLst/>
                  <a:rect l="l" t="t" r="r" b="b"/>
                  <a:pathLst>
                    <a:path w="2632" h="236">
                      <a:moveTo>
                        <a:pt x="2139" y="0"/>
                      </a:moveTo>
                      <a:lnTo>
                        <a:pt x="2159" y="5"/>
                      </a:lnTo>
                      <a:lnTo>
                        <a:pt x="2176" y="9"/>
                      </a:lnTo>
                      <a:lnTo>
                        <a:pt x="2190" y="15"/>
                      </a:lnTo>
                      <a:lnTo>
                        <a:pt x="2198" y="21"/>
                      </a:lnTo>
                      <a:lnTo>
                        <a:pt x="2203" y="31"/>
                      </a:lnTo>
                      <a:lnTo>
                        <a:pt x="2225" y="32"/>
                      </a:lnTo>
                      <a:lnTo>
                        <a:pt x="2239" y="35"/>
                      </a:lnTo>
                      <a:lnTo>
                        <a:pt x="2250" y="39"/>
                      </a:lnTo>
                      <a:lnTo>
                        <a:pt x="2266" y="45"/>
                      </a:lnTo>
                      <a:lnTo>
                        <a:pt x="2284" y="45"/>
                      </a:lnTo>
                      <a:lnTo>
                        <a:pt x="2306" y="55"/>
                      </a:lnTo>
                      <a:lnTo>
                        <a:pt x="2332" y="46"/>
                      </a:lnTo>
                      <a:lnTo>
                        <a:pt x="2317" y="66"/>
                      </a:lnTo>
                      <a:lnTo>
                        <a:pt x="2342" y="66"/>
                      </a:lnTo>
                      <a:lnTo>
                        <a:pt x="2373" y="67"/>
                      </a:lnTo>
                      <a:lnTo>
                        <a:pt x="2397" y="61"/>
                      </a:lnTo>
                      <a:lnTo>
                        <a:pt x="2424" y="74"/>
                      </a:lnTo>
                      <a:lnTo>
                        <a:pt x="2449" y="66"/>
                      </a:lnTo>
                      <a:lnTo>
                        <a:pt x="2456" y="67"/>
                      </a:lnTo>
                      <a:lnTo>
                        <a:pt x="2462" y="72"/>
                      </a:lnTo>
                      <a:lnTo>
                        <a:pt x="2471" y="78"/>
                      </a:lnTo>
                      <a:lnTo>
                        <a:pt x="2476" y="85"/>
                      </a:lnTo>
                      <a:lnTo>
                        <a:pt x="2486" y="91"/>
                      </a:lnTo>
                      <a:lnTo>
                        <a:pt x="2493" y="95"/>
                      </a:lnTo>
                      <a:lnTo>
                        <a:pt x="2509" y="95"/>
                      </a:lnTo>
                      <a:lnTo>
                        <a:pt x="2527" y="95"/>
                      </a:lnTo>
                      <a:lnTo>
                        <a:pt x="2535" y="101"/>
                      </a:lnTo>
                      <a:lnTo>
                        <a:pt x="2547" y="107"/>
                      </a:lnTo>
                      <a:lnTo>
                        <a:pt x="2558" y="107"/>
                      </a:lnTo>
                      <a:lnTo>
                        <a:pt x="2575" y="108"/>
                      </a:lnTo>
                      <a:lnTo>
                        <a:pt x="2595" y="108"/>
                      </a:lnTo>
                      <a:lnTo>
                        <a:pt x="2615" y="115"/>
                      </a:lnTo>
                      <a:lnTo>
                        <a:pt x="2631" y="131"/>
                      </a:lnTo>
                      <a:lnTo>
                        <a:pt x="2617" y="130"/>
                      </a:lnTo>
                      <a:lnTo>
                        <a:pt x="2595" y="125"/>
                      </a:lnTo>
                      <a:lnTo>
                        <a:pt x="2573" y="124"/>
                      </a:lnTo>
                      <a:lnTo>
                        <a:pt x="2557" y="125"/>
                      </a:lnTo>
                      <a:lnTo>
                        <a:pt x="2542" y="131"/>
                      </a:lnTo>
                      <a:lnTo>
                        <a:pt x="2525" y="134"/>
                      </a:lnTo>
                      <a:lnTo>
                        <a:pt x="2509" y="130"/>
                      </a:lnTo>
                      <a:lnTo>
                        <a:pt x="2491" y="125"/>
                      </a:lnTo>
                      <a:lnTo>
                        <a:pt x="2475" y="121"/>
                      </a:lnTo>
                      <a:lnTo>
                        <a:pt x="2460" y="121"/>
                      </a:lnTo>
                      <a:lnTo>
                        <a:pt x="2449" y="130"/>
                      </a:lnTo>
                      <a:lnTo>
                        <a:pt x="2439" y="138"/>
                      </a:lnTo>
                      <a:lnTo>
                        <a:pt x="2421" y="138"/>
                      </a:lnTo>
                      <a:lnTo>
                        <a:pt x="2405" y="135"/>
                      </a:lnTo>
                      <a:lnTo>
                        <a:pt x="2386" y="130"/>
                      </a:lnTo>
                      <a:lnTo>
                        <a:pt x="2369" y="127"/>
                      </a:lnTo>
                      <a:lnTo>
                        <a:pt x="2353" y="134"/>
                      </a:lnTo>
                      <a:lnTo>
                        <a:pt x="2336" y="142"/>
                      </a:lnTo>
                      <a:lnTo>
                        <a:pt x="2320" y="146"/>
                      </a:lnTo>
                      <a:lnTo>
                        <a:pt x="2303" y="149"/>
                      </a:lnTo>
                      <a:lnTo>
                        <a:pt x="2281" y="151"/>
                      </a:lnTo>
                      <a:lnTo>
                        <a:pt x="2259" y="153"/>
                      </a:lnTo>
                      <a:lnTo>
                        <a:pt x="2239" y="151"/>
                      </a:lnTo>
                      <a:lnTo>
                        <a:pt x="2214" y="147"/>
                      </a:lnTo>
                      <a:lnTo>
                        <a:pt x="2225" y="132"/>
                      </a:lnTo>
                      <a:lnTo>
                        <a:pt x="2222" y="124"/>
                      </a:lnTo>
                      <a:lnTo>
                        <a:pt x="2211" y="119"/>
                      </a:lnTo>
                      <a:lnTo>
                        <a:pt x="2209" y="129"/>
                      </a:lnTo>
                      <a:lnTo>
                        <a:pt x="2195" y="138"/>
                      </a:lnTo>
                      <a:lnTo>
                        <a:pt x="2181" y="142"/>
                      </a:lnTo>
                      <a:lnTo>
                        <a:pt x="2166" y="146"/>
                      </a:lnTo>
                      <a:lnTo>
                        <a:pt x="2148" y="151"/>
                      </a:lnTo>
                      <a:lnTo>
                        <a:pt x="2131" y="153"/>
                      </a:lnTo>
                      <a:lnTo>
                        <a:pt x="2105" y="156"/>
                      </a:lnTo>
                      <a:lnTo>
                        <a:pt x="2088" y="154"/>
                      </a:lnTo>
                      <a:lnTo>
                        <a:pt x="2068" y="156"/>
                      </a:lnTo>
                      <a:lnTo>
                        <a:pt x="2035" y="162"/>
                      </a:lnTo>
                      <a:lnTo>
                        <a:pt x="2046" y="169"/>
                      </a:lnTo>
                      <a:lnTo>
                        <a:pt x="2061" y="176"/>
                      </a:lnTo>
                      <a:lnTo>
                        <a:pt x="2089" y="190"/>
                      </a:lnTo>
                      <a:lnTo>
                        <a:pt x="2072" y="191"/>
                      </a:lnTo>
                      <a:lnTo>
                        <a:pt x="2055" y="193"/>
                      </a:lnTo>
                      <a:lnTo>
                        <a:pt x="2032" y="197"/>
                      </a:lnTo>
                      <a:lnTo>
                        <a:pt x="2007" y="199"/>
                      </a:lnTo>
                      <a:lnTo>
                        <a:pt x="1993" y="198"/>
                      </a:lnTo>
                      <a:lnTo>
                        <a:pt x="1983" y="191"/>
                      </a:lnTo>
                      <a:lnTo>
                        <a:pt x="1967" y="187"/>
                      </a:lnTo>
                      <a:lnTo>
                        <a:pt x="1947" y="186"/>
                      </a:lnTo>
                      <a:lnTo>
                        <a:pt x="1919" y="185"/>
                      </a:lnTo>
                      <a:lnTo>
                        <a:pt x="1900" y="176"/>
                      </a:lnTo>
                      <a:lnTo>
                        <a:pt x="1874" y="170"/>
                      </a:lnTo>
                      <a:lnTo>
                        <a:pt x="1852" y="165"/>
                      </a:lnTo>
                      <a:lnTo>
                        <a:pt x="1837" y="166"/>
                      </a:lnTo>
                      <a:lnTo>
                        <a:pt x="1784" y="168"/>
                      </a:lnTo>
                      <a:lnTo>
                        <a:pt x="1743" y="172"/>
                      </a:lnTo>
                      <a:lnTo>
                        <a:pt x="1715" y="172"/>
                      </a:lnTo>
                      <a:lnTo>
                        <a:pt x="1693" y="174"/>
                      </a:lnTo>
                      <a:lnTo>
                        <a:pt x="1656" y="189"/>
                      </a:lnTo>
                      <a:lnTo>
                        <a:pt x="1638" y="189"/>
                      </a:lnTo>
                      <a:lnTo>
                        <a:pt x="1618" y="185"/>
                      </a:lnTo>
                      <a:lnTo>
                        <a:pt x="1596" y="179"/>
                      </a:lnTo>
                      <a:lnTo>
                        <a:pt x="1578" y="176"/>
                      </a:lnTo>
                      <a:lnTo>
                        <a:pt x="1515" y="172"/>
                      </a:lnTo>
                      <a:lnTo>
                        <a:pt x="1472" y="170"/>
                      </a:lnTo>
                      <a:lnTo>
                        <a:pt x="1445" y="168"/>
                      </a:lnTo>
                      <a:lnTo>
                        <a:pt x="1423" y="166"/>
                      </a:lnTo>
                      <a:lnTo>
                        <a:pt x="1401" y="164"/>
                      </a:lnTo>
                      <a:lnTo>
                        <a:pt x="1375" y="160"/>
                      </a:lnTo>
                      <a:lnTo>
                        <a:pt x="1357" y="156"/>
                      </a:lnTo>
                      <a:lnTo>
                        <a:pt x="1331" y="150"/>
                      </a:lnTo>
                      <a:lnTo>
                        <a:pt x="1316" y="157"/>
                      </a:lnTo>
                      <a:lnTo>
                        <a:pt x="1308" y="166"/>
                      </a:lnTo>
                      <a:lnTo>
                        <a:pt x="1318" y="176"/>
                      </a:lnTo>
                      <a:lnTo>
                        <a:pt x="1337" y="181"/>
                      </a:lnTo>
                      <a:lnTo>
                        <a:pt x="1313" y="181"/>
                      </a:lnTo>
                      <a:lnTo>
                        <a:pt x="1326" y="189"/>
                      </a:lnTo>
                      <a:lnTo>
                        <a:pt x="1344" y="197"/>
                      </a:lnTo>
                      <a:lnTo>
                        <a:pt x="1368" y="206"/>
                      </a:lnTo>
                      <a:lnTo>
                        <a:pt x="1392" y="213"/>
                      </a:lnTo>
                      <a:lnTo>
                        <a:pt x="1363" y="210"/>
                      </a:lnTo>
                      <a:lnTo>
                        <a:pt x="1338" y="206"/>
                      </a:lnTo>
                      <a:lnTo>
                        <a:pt x="1313" y="200"/>
                      </a:lnTo>
                      <a:lnTo>
                        <a:pt x="1297" y="195"/>
                      </a:lnTo>
                      <a:lnTo>
                        <a:pt x="1289" y="193"/>
                      </a:lnTo>
                      <a:lnTo>
                        <a:pt x="1275" y="191"/>
                      </a:lnTo>
                      <a:lnTo>
                        <a:pt x="1259" y="191"/>
                      </a:lnTo>
                      <a:lnTo>
                        <a:pt x="1238" y="193"/>
                      </a:lnTo>
                      <a:lnTo>
                        <a:pt x="1220" y="197"/>
                      </a:lnTo>
                      <a:lnTo>
                        <a:pt x="1204" y="198"/>
                      </a:lnTo>
                      <a:lnTo>
                        <a:pt x="1182" y="197"/>
                      </a:lnTo>
                      <a:lnTo>
                        <a:pt x="1198" y="210"/>
                      </a:lnTo>
                      <a:lnTo>
                        <a:pt x="1216" y="220"/>
                      </a:lnTo>
                      <a:lnTo>
                        <a:pt x="1237" y="226"/>
                      </a:lnTo>
                      <a:lnTo>
                        <a:pt x="1213" y="223"/>
                      </a:lnTo>
                      <a:lnTo>
                        <a:pt x="1191" y="221"/>
                      </a:lnTo>
                      <a:lnTo>
                        <a:pt x="1168" y="219"/>
                      </a:lnTo>
                      <a:lnTo>
                        <a:pt x="1149" y="214"/>
                      </a:lnTo>
                      <a:lnTo>
                        <a:pt x="1124" y="212"/>
                      </a:lnTo>
                      <a:lnTo>
                        <a:pt x="1095" y="209"/>
                      </a:lnTo>
                      <a:lnTo>
                        <a:pt x="1069" y="209"/>
                      </a:lnTo>
                      <a:lnTo>
                        <a:pt x="1049" y="204"/>
                      </a:lnTo>
                      <a:lnTo>
                        <a:pt x="1043" y="200"/>
                      </a:lnTo>
                      <a:lnTo>
                        <a:pt x="1036" y="197"/>
                      </a:lnTo>
                      <a:lnTo>
                        <a:pt x="1021" y="197"/>
                      </a:lnTo>
                      <a:lnTo>
                        <a:pt x="995" y="201"/>
                      </a:lnTo>
                      <a:lnTo>
                        <a:pt x="964" y="204"/>
                      </a:lnTo>
                      <a:lnTo>
                        <a:pt x="934" y="209"/>
                      </a:lnTo>
                      <a:lnTo>
                        <a:pt x="917" y="212"/>
                      </a:lnTo>
                      <a:lnTo>
                        <a:pt x="888" y="212"/>
                      </a:lnTo>
                      <a:lnTo>
                        <a:pt x="856" y="213"/>
                      </a:lnTo>
                      <a:lnTo>
                        <a:pt x="831" y="217"/>
                      </a:lnTo>
                      <a:lnTo>
                        <a:pt x="801" y="223"/>
                      </a:lnTo>
                      <a:lnTo>
                        <a:pt x="775" y="227"/>
                      </a:lnTo>
                      <a:lnTo>
                        <a:pt x="753" y="230"/>
                      </a:lnTo>
                      <a:lnTo>
                        <a:pt x="731" y="227"/>
                      </a:lnTo>
                      <a:lnTo>
                        <a:pt x="696" y="220"/>
                      </a:lnTo>
                      <a:lnTo>
                        <a:pt x="668" y="223"/>
                      </a:lnTo>
                      <a:lnTo>
                        <a:pt x="642" y="223"/>
                      </a:lnTo>
                      <a:lnTo>
                        <a:pt x="614" y="223"/>
                      </a:lnTo>
                      <a:lnTo>
                        <a:pt x="587" y="223"/>
                      </a:lnTo>
                      <a:lnTo>
                        <a:pt x="550" y="216"/>
                      </a:lnTo>
                      <a:lnTo>
                        <a:pt x="532" y="216"/>
                      </a:lnTo>
                      <a:lnTo>
                        <a:pt x="511" y="214"/>
                      </a:lnTo>
                      <a:lnTo>
                        <a:pt x="473" y="219"/>
                      </a:lnTo>
                      <a:lnTo>
                        <a:pt x="454" y="221"/>
                      </a:lnTo>
                      <a:lnTo>
                        <a:pt x="437" y="220"/>
                      </a:lnTo>
                      <a:lnTo>
                        <a:pt x="415" y="217"/>
                      </a:lnTo>
                      <a:lnTo>
                        <a:pt x="393" y="216"/>
                      </a:lnTo>
                      <a:lnTo>
                        <a:pt x="377" y="216"/>
                      </a:lnTo>
                      <a:lnTo>
                        <a:pt x="370" y="219"/>
                      </a:lnTo>
                      <a:lnTo>
                        <a:pt x="370" y="227"/>
                      </a:lnTo>
                      <a:lnTo>
                        <a:pt x="362" y="230"/>
                      </a:lnTo>
                      <a:lnTo>
                        <a:pt x="348" y="230"/>
                      </a:lnTo>
                      <a:lnTo>
                        <a:pt x="335" y="227"/>
                      </a:lnTo>
                      <a:lnTo>
                        <a:pt x="322" y="220"/>
                      </a:lnTo>
                      <a:lnTo>
                        <a:pt x="314" y="212"/>
                      </a:lnTo>
                      <a:lnTo>
                        <a:pt x="306" y="208"/>
                      </a:lnTo>
                      <a:lnTo>
                        <a:pt x="284" y="208"/>
                      </a:lnTo>
                      <a:lnTo>
                        <a:pt x="267" y="208"/>
                      </a:lnTo>
                      <a:lnTo>
                        <a:pt x="247" y="216"/>
                      </a:lnTo>
                      <a:lnTo>
                        <a:pt x="230" y="221"/>
                      </a:lnTo>
                      <a:lnTo>
                        <a:pt x="211" y="227"/>
                      </a:lnTo>
                      <a:lnTo>
                        <a:pt x="199" y="228"/>
                      </a:lnTo>
                      <a:lnTo>
                        <a:pt x="186" y="230"/>
                      </a:lnTo>
                      <a:lnTo>
                        <a:pt x="173" y="230"/>
                      </a:lnTo>
                      <a:lnTo>
                        <a:pt x="151" y="227"/>
                      </a:lnTo>
                      <a:lnTo>
                        <a:pt x="77" y="235"/>
                      </a:lnTo>
                      <a:lnTo>
                        <a:pt x="99" y="227"/>
                      </a:lnTo>
                      <a:lnTo>
                        <a:pt x="112" y="223"/>
                      </a:lnTo>
                      <a:lnTo>
                        <a:pt x="118" y="216"/>
                      </a:lnTo>
                      <a:lnTo>
                        <a:pt x="112" y="210"/>
                      </a:lnTo>
                      <a:lnTo>
                        <a:pt x="86" y="205"/>
                      </a:lnTo>
                      <a:lnTo>
                        <a:pt x="69" y="201"/>
                      </a:lnTo>
                      <a:lnTo>
                        <a:pt x="47" y="197"/>
                      </a:lnTo>
                      <a:lnTo>
                        <a:pt x="29" y="189"/>
                      </a:lnTo>
                      <a:lnTo>
                        <a:pt x="0" y="179"/>
                      </a:lnTo>
                      <a:lnTo>
                        <a:pt x="43" y="179"/>
                      </a:lnTo>
                      <a:lnTo>
                        <a:pt x="70" y="178"/>
                      </a:lnTo>
                      <a:lnTo>
                        <a:pt x="96" y="176"/>
                      </a:lnTo>
                      <a:lnTo>
                        <a:pt x="118" y="174"/>
                      </a:lnTo>
                      <a:lnTo>
                        <a:pt x="133" y="174"/>
                      </a:lnTo>
                      <a:lnTo>
                        <a:pt x="145" y="176"/>
                      </a:lnTo>
                      <a:lnTo>
                        <a:pt x="158" y="176"/>
                      </a:lnTo>
                      <a:lnTo>
                        <a:pt x="174" y="181"/>
                      </a:lnTo>
                      <a:lnTo>
                        <a:pt x="189" y="185"/>
                      </a:lnTo>
                      <a:lnTo>
                        <a:pt x="167" y="190"/>
                      </a:lnTo>
                      <a:lnTo>
                        <a:pt x="151" y="197"/>
                      </a:lnTo>
                      <a:lnTo>
                        <a:pt x="140" y="204"/>
                      </a:lnTo>
                      <a:lnTo>
                        <a:pt x="136" y="212"/>
                      </a:lnTo>
                      <a:lnTo>
                        <a:pt x="140" y="220"/>
                      </a:lnTo>
                      <a:lnTo>
                        <a:pt x="156" y="217"/>
                      </a:lnTo>
                      <a:lnTo>
                        <a:pt x="169" y="214"/>
                      </a:lnTo>
                      <a:lnTo>
                        <a:pt x="178" y="208"/>
                      </a:lnTo>
                      <a:lnTo>
                        <a:pt x="195" y="201"/>
                      </a:lnTo>
                      <a:lnTo>
                        <a:pt x="215" y="199"/>
                      </a:lnTo>
                      <a:lnTo>
                        <a:pt x="233" y="197"/>
                      </a:lnTo>
                      <a:lnTo>
                        <a:pt x="258" y="199"/>
                      </a:lnTo>
                      <a:lnTo>
                        <a:pt x="274" y="198"/>
                      </a:lnTo>
                      <a:lnTo>
                        <a:pt x="289" y="197"/>
                      </a:lnTo>
                      <a:lnTo>
                        <a:pt x="306" y="193"/>
                      </a:lnTo>
                      <a:lnTo>
                        <a:pt x="324" y="187"/>
                      </a:lnTo>
                      <a:lnTo>
                        <a:pt x="339" y="181"/>
                      </a:lnTo>
                      <a:lnTo>
                        <a:pt x="354" y="176"/>
                      </a:lnTo>
                      <a:lnTo>
                        <a:pt x="367" y="176"/>
                      </a:lnTo>
                      <a:lnTo>
                        <a:pt x="381" y="181"/>
                      </a:lnTo>
                      <a:lnTo>
                        <a:pt x="398" y="185"/>
                      </a:lnTo>
                      <a:lnTo>
                        <a:pt x="414" y="185"/>
                      </a:lnTo>
                      <a:lnTo>
                        <a:pt x="436" y="185"/>
                      </a:lnTo>
                      <a:lnTo>
                        <a:pt x="454" y="182"/>
                      </a:lnTo>
                      <a:lnTo>
                        <a:pt x="472" y="179"/>
                      </a:lnTo>
                      <a:lnTo>
                        <a:pt x="488" y="178"/>
                      </a:lnTo>
                      <a:lnTo>
                        <a:pt x="502" y="179"/>
                      </a:lnTo>
                      <a:lnTo>
                        <a:pt x="522" y="181"/>
                      </a:lnTo>
                      <a:lnTo>
                        <a:pt x="539" y="183"/>
                      </a:lnTo>
                      <a:lnTo>
                        <a:pt x="559" y="181"/>
                      </a:lnTo>
                      <a:lnTo>
                        <a:pt x="583" y="179"/>
                      </a:lnTo>
                      <a:lnTo>
                        <a:pt x="609" y="178"/>
                      </a:lnTo>
                      <a:lnTo>
                        <a:pt x="635" y="176"/>
                      </a:lnTo>
                      <a:lnTo>
                        <a:pt x="653" y="173"/>
                      </a:lnTo>
                      <a:lnTo>
                        <a:pt x="670" y="168"/>
                      </a:lnTo>
                      <a:lnTo>
                        <a:pt x="686" y="162"/>
                      </a:lnTo>
                      <a:lnTo>
                        <a:pt x="699" y="160"/>
                      </a:lnTo>
                      <a:lnTo>
                        <a:pt x="710" y="160"/>
                      </a:lnTo>
                      <a:lnTo>
                        <a:pt x="724" y="161"/>
                      </a:lnTo>
                      <a:lnTo>
                        <a:pt x="758" y="165"/>
                      </a:lnTo>
                      <a:lnTo>
                        <a:pt x="720" y="168"/>
                      </a:lnTo>
                      <a:lnTo>
                        <a:pt x="729" y="176"/>
                      </a:lnTo>
                      <a:lnTo>
                        <a:pt x="743" y="186"/>
                      </a:lnTo>
                      <a:lnTo>
                        <a:pt x="757" y="187"/>
                      </a:lnTo>
                      <a:lnTo>
                        <a:pt x="939" y="166"/>
                      </a:lnTo>
                      <a:lnTo>
                        <a:pt x="950" y="162"/>
                      </a:lnTo>
                      <a:lnTo>
                        <a:pt x="917" y="153"/>
                      </a:lnTo>
                      <a:lnTo>
                        <a:pt x="941" y="150"/>
                      </a:lnTo>
                      <a:lnTo>
                        <a:pt x="956" y="149"/>
                      </a:lnTo>
                      <a:lnTo>
                        <a:pt x="967" y="142"/>
                      </a:lnTo>
                      <a:lnTo>
                        <a:pt x="982" y="138"/>
                      </a:lnTo>
                      <a:lnTo>
                        <a:pt x="999" y="141"/>
                      </a:lnTo>
                      <a:lnTo>
                        <a:pt x="1017" y="143"/>
                      </a:lnTo>
                      <a:lnTo>
                        <a:pt x="1034" y="149"/>
                      </a:lnTo>
                      <a:lnTo>
                        <a:pt x="1049" y="142"/>
                      </a:lnTo>
                      <a:lnTo>
                        <a:pt x="1065" y="131"/>
                      </a:lnTo>
                      <a:lnTo>
                        <a:pt x="1082" y="124"/>
                      </a:lnTo>
                      <a:lnTo>
                        <a:pt x="1098" y="119"/>
                      </a:lnTo>
                      <a:lnTo>
                        <a:pt x="1116" y="115"/>
                      </a:lnTo>
                      <a:lnTo>
                        <a:pt x="1134" y="113"/>
                      </a:lnTo>
                      <a:lnTo>
                        <a:pt x="1163" y="115"/>
                      </a:lnTo>
                      <a:lnTo>
                        <a:pt x="1186" y="117"/>
                      </a:lnTo>
                      <a:lnTo>
                        <a:pt x="1209" y="120"/>
                      </a:lnTo>
                      <a:lnTo>
                        <a:pt x="1237" y="123"/>
                      </a:lnTo>
                      <a:lnTo>
                        <a:pt x="1264" y="127"/>
                      </a:lnTo>
                      <a:lnTo>
                        <a:pt x="1286" y="129"/>
                      </a:lnTo>
                      <a:lnTo>
                        <a:pt x="1305" y="135"/>
                      </a:lnTo>
                      <a:lnTo>
                        <a:pt x="1326" y="139"/>
                      </a:lnTo>
                      <a:lnTo>
                        <a:pt x="1345" y="139"/>
                      </a:lnTo>
                      <a:lnTo>
                        <a:pt x="1364" y="143"/>
                      </a:lnTo>
                      <a:lnTo>
                        <a:pt x="1385" y="147"/>
                      </a:lnTo>
                      <a:lnTo>
                        <a:pt x="1407" y="151"/>
                      </a:lnTo>
                      <a:lnTo>
                        <a:pt x="1429" y="151"/>
                      </a:lnTo>
                      <a:lnTo>
                        <a:pt x="1451" y="151"/>
                      </a:lnTo>
                      <a:lnTo>
                        <a:pt x="1467" y="150"/>
                      </a:lnTo>
                      <a:lnTo>
                        <a:pt x="1482" y="153"/>
                      </a:lnTo>
                      <a:lnTo>
                        <a:pt x="1503" y="158"/>
                      </a:lnTo>
                      <a:lnTo>
                        <a:pt x="1525" y="158"/>
                      </a:lnTo>
                      <a:lnTo>
                        <a:pt x="1551" y="158"/>
                      </a:lnTo>
                      <a:lnTo>
                        <a:pt x="1573" y="158"/>
                      </a:lnTo>
                      <a:lnTo>
                        <a:pt x="1600" y="158"/>
                      </a:lnTo>
                      <a:lnTo>
                        <a:pt x="1651" y="165"/>
                      </a:lnTo>
                      <a:lnTo>
                        <a:pt x="1662" y="161"/>
                      </a:lnTo>
                      <a:lnTo>
                        <a:pt x="1673" y="154"/>
                      </a:lnTo>
                      <a:lnTo>
                        <a:pt x="1688" y="151"/>
                      </a:lnTo>
                      <a:lnTo>
                        <a:pt x="1701" y="150"/>
                      </a:lnTo>
                      <a:lnTo>
                        <a:pt x="1721" y="151"/>
                      </a:lnTo>
                      <a:lnTo>
                        <a:pt x="1743" y="154"/>
                      </a:lnTo>
                      <a:lnTo>
                        <a:pt x="1778" y="157"/>
                      </a:lnTo>
                      <a:lnTo>
                        <a:pt x="1793" y="153"/>
                      </a:lnTo>
                      <a:lnTo>
                        <a:pt x="1804" y="147"/>
                      </a:lnTo>
                      <a:lnTo>
                        <a:pt x="1817" y="145"/>
                      </a:lnTo>
                      <a:lnTo>
                        <a:pt x="1833" y="143"/>
                      </a:lnTo>
                      <a:lnTo>
                        <a:pt x="1847" y="139"/>
                      </a:lnTo>
                      <a:lnTo>
                        <a:pt x="1852" y="131"/>
                      </a:lnTo>
                      <a:lnTo>
                        <a:pt x="1863" y="120"/>
                      </a:lnTo>
                      <a:lnTo>
                        <a:pt x="1876" y="116"/>
                      </a:lnTo>
                      <a:lnTo>
                        <a:pt x="1892" y="113"/>
                      </a:lnTo>
                      <a:lnTo>
                        <a:pt x="1907" y="113"/>
                      </a:lnTo>
                      <a:lnTo>
                        <a:pt x="1914" y="119"/>
                      </a:lnTo>
                      <a:lnTo>
                        <a:pt x="1924" y="131"/>
                      </a:lnTo>
                      <a:lnTo>
                        <a:pt x="1935" y="129"/>
                      </a:lnTo>
                      <a:lnTo>
                        <a:pt x="1947" y="128"/>
                      </a:lnTo>
                      <a:lnTo>
                        <a:pt x="1962" y="129"/>
                      </a:lnTo>
                      <a:lnTo>
                        <a:pt x="1976" y="134"/>
                      </a:lnTo>
                      <a:lnTo>
                        <a:pt x="1993" y="138"/>
                      </a:lnTo>
                      <a:lnTo>
                        <a:pt x="2015" y="138"/>
                      </a:lnTo>
                      <a:lnTo>
                        <a:pt x="1999" y="127"/>
                      </a:lnTo>
                      <a:lnTo>
                        <a:pt x="1992" y="119"/>
                      </a:lnTo>
                      <a:lnTo>
                        <a:pt x="2007" y="121"/>
                      </a:lnTo>
                      <a:lnTo>
                        <a:pt x="2036" y="127"/>
                      </a:lnTo>
                      <a:lnTo>
                        <a:pt x="2061" y="125"/>
                      </a:lnTo>
                      <a:lnTo>
                        <a:pt x="2062" y="119"/>
                      </a:lnTo>
                      <a:lnTo>
                        <a:pt x="2066" y="112"/>
                      </a:lnTo>
                      <a:lnTo>
                        <a:pt x="2072" y="107"/>
                      </a:lnTo>
                      <a:lnTo>
                        <a:pt x="2085" y="104"/>
                      </a:lnTo>
                      <a:lnTo>
                        <a:pt x="2100" y="104"/>
                      </a:lnTo>
                      <a:lnTo>
                        <a:pt x="2120" y="105"/>
                      </a:lnTo>
                      <a:lnTo>
                        <a:pt x="2137" y="107"/>
                      </a:lnTo>
                      <a:lnTo>
                        <a:pt x="2155" y="104"/>
                      </a:lnTo>
                      <a:lnTo>
                        <a:pt x="2176" y="97"/>
                      </a:lnTo>
                      <a:lnTo>
                        <a:pt x="2190" y="89"/>
                      </a:lnTo>
                      <a:lnTo>
                        <a:pt x="2174" y="74"/>
                      </a:lnTo>
                      <a:lnTo>
                        <a:pt x="2159" y="68"/>
                      </a:lnTo>
                      <a:lnTo>
                        <a:pt x="2143" y="61"/>
                      </a:lnTo>
                      <a:lnTo>
                        <a:pt x="2132" y="58"/>
                      </a:lnTo>
                      <a:lnTo>
                        <a:pt x="2122" y="50"/>
                      </a:lnTo>
                      <a:lnTo>
                        <a:pt x="2117" y="42"/>
                      </a:lnTo>
                      <a:lnTo>
                        <a:pt x="2114" y="35"/>
                      </a:lnTo>
                      <a:lnTo>
                        <a:pt x="2110" y="26"/>
                      </a:lnTo>
                      <a:lnTo>
                        <a:pt x="2139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931280" y="3662280"/>
                  <a:ext cx="1265400" cy="86400"/>
                </a:xfrm>
                <a:custGeom>
                  <a:avLst/>
                  <a:gdLst/>
                  <a:ahLst/>
                  <a:rect l="l" t="t" r="r" b="b"/>
                  <a:pathLst>
                    <a:path w="965" h="69">
                      <a:moveTo>
                        <a:pt x="964" y="34"/>
                      </a:moveTo>
                      <a:lnTo>
                        <a:pt x="897" y="26"/>
                      </a:lnTo>
                      <a:lnTo>
                        <a:pt x="881" y="18"/>
                      </a:lnTo>
                      <a:lnTo>
                        <a:pt x="853" y="15"/>
                      </a:lnTo>
                      <a:lnTo>
                        <a:pt x="833" y="13"/>
                      </a:lnTo>
                      <a:lnTo>
                        <a:pt x="808" y="11"/>
                      </a:lnTo>
                      <a:lnTo>
                        <a:pt x="782" y="11"/>
                      </a:lnTo>
                      <a:lnTo>
                        <a:pt x="749" y="11"/>
                      </a:lnTo>
                      <a:lnTo>
                        <a:pt x="722" y="7"/>
                      </a:lnTo>
                      <a:lnTo>
                        <a:pt x="699" y="6"/>
                      </a:lnTo>
                      <a:lnTo>
                        <a:pt x="659" y="7"/>
                      </a:lnTo>
                      <a:lnTo>
                        <a:pt x="634" y="3"/>
                      </a:lnTo>
                      <a:lnTo>
                        <a:pt x="609" y="0"/>
                      </a:lnTo>
                      <a:lnTo>
                        <a:pt x="586" y="0"/>
                      </a:lnTo>
                      <a:lnTo>
                        <a:pt x="561" y="4"/>
                      </a:lnTo>
                      <a:lnTo>
                        <a:pt x="538" y="11"/>
                      </a:lnTo>
                      <a:lnTo>
                        <a:pt x="507" y="15"/>
                      </a:lnTo>
                      <a:lnTo>
                        <a:pt x="461" y="18"/>
                      </a:lnTo>
                      <a:lnTo>
                        <a:pt x="438" y="14"/>
                      </a:lnTo>
                      <a:lnTo>
                        <a:pt x="409" y="15"/>
                      </a:lnTo>
                      <a:lnTo>
                        <a:pt x="388" y="18"/>
                      </a:lnTo>
                      <a:lnTo>
                        <a:pt x="357" y="26"/>
                      </a:lnTo>
                      <a:lnTo>
                        <a:pt x="332" y="37"/>
                      </a:lnTo>
                      <a:lnTo>
                        <a:pt x="292" y="43"/>
                      </a:lnTo>
                      <a:lnTo>
                        <a:pt x="234" y="41"/>
                      </a:lnTo>
                      <a:lnTo>
                        <a:pt x="204" y="48"/>
                      </a:lnTo>
                      <a:lnTo>
                        <a:pt x="179" y="51"/>
                      </a:lnTo>
                      <a:lnTo>
                        <a:pt x="144" y="53"/>
                      </a:lnTo>
                      <a:lnTo>
                        <a:pt x="0" y="64"/>
                      </a:lnTo>
                      <a:lnTo>
                        <a:pt x="156" y="60"/>
                      </a:lnTo>
                      <a:lnTo>
                        <a:pt x="186" y="64"/>
                      </a:lnTo>
                      <a:lnTo>
                        <a:pt x="211" y="68"/>
                      </a:lnTo>
                      <a:lnTo>
                        <a:pt x="230" y="67"/>
                      </a:lnTo>
                      <a:lnTo>
                        <a:pt x="252" y="64"/>
                      </a:lnTo>
                      <a:lnTo>
                        <a:pt x="282" y="58"/>
                      </a:lnTo>
                      <a:lnTo>
                        <a:pt x="323" y="57"/>
                      </a:lnTo>
                      <a:lnTo>
                        <a:pt x="363" y="50"/>
                      </a:lnTo>
                      <a:lnTo>
                        <a:pt x="388" y="51"/>
                      </a:lnTo>
                      <a:lnTo>
                        <a:pt x="417" y="53"/>
                      </a:lnTo>
                      <a:lnTo>
                        <a:pt x="482" y="48"/>
                      </a:lnTo>
                      <a:lnTo>
                        <a:pt x="513" y="45"/>
                      </a:lnTo>
                      <a:lnTo>
                        <a:pt x="555" y="37"/>
                      </a:lnTo>
                      <a:lnTo>
                        <a:pt x="597" y="37"/>
                      </a:lnTo>
                      <a:lnTo>
                        <a:pt x="647" y="37"/>
                      </a:lnTo>
                      <a:lnTo>
                        <a:pt x="682" y="38"/>
                      </a:lnTo>
                      <a:lnTo>
                        <a:pt x="716" y="36"/>
                      </a:lnTo>
                      <a:lnTo>
                        <a:pt x="749" y="30"/>
                      </a:lnTo>
                      <a:lnTo>
                        <a:pt x="782" y="34"/>
                      </a:lnTo>
                      <a:lnTo>
                        <a:pt x="812" y="27"/>
                      </a:lnTo>
                      <a:lnTo>
                        <a:pt x="837" y="30"/>
                      </a:lnTo>
                      <a:lnTo>
                        <a:pt x="872" y="31"/>
                      </a:lnTo>
                      <a:lnTo>
                        <a:pt x="910" y="32"/>
                      </a:lnTo>
                      <a:lnTo>
                        <a:pt x="964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788840" y="3638520"/>
                  <a:ext cx="5316480" cy="295560"/>
                </a:xfrm>
                <a:custGeom>
                  <a:avLst/>
                  <a:gdLst/>
                  <a:ahLst/>
                  <a:rect l="l" t="t" r="r" b="b"/>
                  <a:pathLst>
                    <a:path w="4055" h="236">
                      <a:moveTo>
                        <a:pt x="3296" y="0"/>
                      </a:moveTo>
                      <a:lnTo>
                        <a:pt x="3327" y="5"/>
                      </a:lnTo>
                      <a:lnTo>
                        <a:pt x="3353" y="9"/>
                      </a:lnTo>
                      <a:lnTo>
                        <a:pt x="3374" y="15"/>
                      </a:lnTo>
                      <a:lnTo>
                        <a:pt x="3386" y="21"/>
                      </a:lnTo>
                      <a:lnTo>
                        <a:pt x="3395" y="31"/>
                      </a:lnTo>
                      <a:lnTo>
                        <a:pt x="3429" y="32"/>
                      </a:lnTo>
                      <a:lnTo>
                        <a:pt x="3450" y="35"/>
                      </a:lnTo>
                      <a:lnTo>
                        <a:pt x="3467" y="39"/>
                      </a:lnTo>
                      <a:lnTo>
                        <a:pt x="3492" y="45"/>
                      </a:lnTo>
                      <a:lnTo>
                        <a:pt x="3520" y="45"/>
                      </a:lnTo>
                      <a:lnTo>
                        <a:pt x="3553" y="55"/>
                      </a:lnTo>
                      <a:lnTo>
                        <a:pt x="3593" y="46"/>
                      </a:lnTo>
                      <a:lnTo>
                        <a:pt x="3570" y="66"/>
                      </a:lnTo>
                      <a:lnTo>
                        <a:pt x="3608" y="66"/>
                      </a:lnTo>
                      <a:lnTo>
                        <a:pt x="3657" y="67"/>
                      </a:lnTo>
                      <a:lnTo>
                        <a:pt x="3693" y="61"/>
                      </a:lnTo>
                      <a:lnTo>
                        <a:pt x="3735" y="74"/>
                      </a:lnTo>
                      <a:lnTo>
                        <a:pt x="3773" y="66"/>
                      </a:lnTo>
                      <a:lnTo>
                        <a:pt x="3784" y="67"/>
                      </a:lnTo>
                      <a:lnTo>
                        <a:pt x="3794" y="72"/>
                      </a:lnTo>
                      <a:lnTo>
                        <a:pt x="3807" y="78"/>
                      </a:lnTo>
                      <a:lnTo>
                        <a:pt x="3815" y="85"/>
                      </a:lnTo>
                      <a:lnTo>
                        <a:pt x="3830" y="91"/>
                      </a:lnTo>
                      <a:lnTo>
                        <a:pt x="3841" y="95"/>
                      </a:lnTo>
                      <a:lnTo>
                        <a:pt x="3866" y="95"/>
                      </a:lnTo>
                      <a:lnTo>
                        <a:pt x="3893" y="95"/>
                      </a:lnTo>
                      <a:lnTo>
                        <a:pt x="3906" y="101"/>
                      </a:lnTo>
                      <a:lnTo>
                        <a:pt x="3925" y="107"/>
                      </a:lnTo>
                      <a:lnTo>
                        <a:pt x="3942" y="107"/>
                      </a:lnTo>
                      <a:lnTo>
                        <a:pt x="3967" y="108"/>
                      </a:lnTo>
                      <a:lnTo>
                        <a:pt x="3999" y="108"/>
                      </a:lnTo>
                      <a:lnTo>
                        <a:pt x="4029" y="115"/>
                      </a:lnTo>
                      <a:lnTo>
                        <a:pt x="4054" y="131"/>
                      </a:lnTo>
                      <a:lnTo>
                        <a:pt x="4033" y="130"/>
                      </a:lnTo>
                      <a:lnTo>
                        <a:pt x="3999" y="125"/>
                      </a:lnTo>
                      <a:lnTo>
                        <a:pt x="3965" y="124"/>
                      </a:lnTo>
                      <a:lnTo>
                        <a:pt x="3940" y="125"/>
                      </a:lnTo>
                      <a:lnTo>
                        <a:pt x="3917" y="131"/>
                      </a:lnTo>
                      <a:lnTo>
                        <a:pt x="3891" y="134"/>
                      </a:lnTo>
                      <a:lnTo>
                        <a:pt x="3866" y="130"/>
                      </a:lnTo>
                      <a:lnTo>
                        <a:pt x="3839" y="125"/>
                      </a:lnTo>
                      <a:lnTo>
                        <a:pt x="3813" y="121"/>
                      </a:lnTo>
                      <a:lnTo>
                        <a:pt x="3790" y="121"/>
                      </a:lnTo>
                      <a:lnTo>
                        <a:pt x="3773" y="130"/>
                      </a:lnTo>
                      <a:lnTo>
                        <a:pt x="3758" y="138"/>
                      </a:lnTo>
                      <a:lnTo>
                        <a:pt x="3731" y="138"/>
                      </a:lnTo>
                      <a:lnTo>
                        <a:pt x="3705" y="135"/>
                      </a:lnTo>
                      <a:lnTo>
                        <a:pt x="3676" y="130"/>
                      </a:lnTo>
                      <a:lnTo>
                        <a:pt x="3651" y="127"/>
                      </a:lnTo>
                      <a:lnTo>
                        <a:pt x="3625" y="134"/>
                      </a:lnTo>
                      <a:lnTo>
                        <a:pt x="3600" y="142"/>
                      </a:lnTo>
                      <a:lnTo>
                        <a:pt x="3574" y="146"/>
                      </a:lnTo>
                      <a:lnTo>
                        <a:pt x="3549" y="149"/>
                      </a:lnTo>
                      <a:lnTo>
                        <a:pt x="3515" y="151"/>
                      </a:lnTo>
                      <a:lnTo>
                        <a:pt x="3481" y="153"/>
                      </a:lnTo>
                      <a:lnTo>
                        <a:pt x="3450" y="151"/>
                      </a:lnTo>
                      <a:lnTo>
                        <a:pt x="3412" y="147"/>
                      </a:lnTo>
                      <a:lnTo>
                        <a:pt x="3429" y="132"/>
                      </a:lnTo>
                      <a:lnTo>
                        <a:pt x="3424" y="124"/>
                      </a:lnTo>
                      <a:lnTo>
                        <a:pt x="3408" y="119"/>
                      </a:lnTo>
                      <a:lnTo>
                        <a:pt x="3403" y="129"/>
                      </a:lnTo>
                      <a:lnTo>
                        <a:pt x="3382" y="138"/>
                      </a:lnTo>
                      <a:lnTo>
                        <a:pt x="3361" y="142"/>
                      </a:lnTo>
                      <a:lnTo>
                        <a:pt x="3338" y="146"/>
                      </a:lnTo>
                      <a:lnTo>
                        <a:pt x="3310" y="151"/>
                      </a:lnTo>
                      <a:lnTo>
                        <a:pt x="3283" y="153"/>
                      </a:lnTo>
                      <a:lnTo>
                        <a:pt x="3243" y="156"/>
                      </a:lnTo>
                      <a:lnTo>
                        <a:pt x="3217" y="154"/>
                      </a:lnTo>
                      <a:lnTo>
                        <a:pt x="3186" y="156"/>
                      </a:lnTo>
                      <a:lnTo>
                        <a:pt x="3135" y="162"/>
                      </a:lnTo>
                      <a:lnTo>
                        <a:pt x="3152" y="169"/>
                      </a:lnTo>
                      <a:lnTo>
                        <a:pt x="3175" y="176"/>
                      </a:lnTo>
                      <a:lnTo>
                        <a:pt x="3220" y="190"/>
                      </a:lnTo>
                      <a:lnTo>
                        <a:pt x="3192" y="191"/>
                      </a:lnTo>
                      <a:lnTo>
                        <a:pt x="3167" y="193"/>
                      </a:lnTo>
                      <a:lnTo>
                        <a:pt x="3131" y="197"/>
                      </a:lnTo>
                      <a:lnTo>
                        <a:pt x="3093" y="199"/>
                      </a:lnTo>
                      <a:lnTo>
                        <a:pt x="3072" y="198"/>
                      </a:lnTo>
                      <a:lnTo>
                        <a:pt x="3055" y="191"/>
                      </a:lnTo>
                      <a:lnTo>
                        <a:pt x="3032" y="187"/>
                      </a:lnTo>
                      <a:lnTo>
                        <a:pt x="3000" y="186"/>
                      </a:lnTo>
                      <a:lnTo>
                        <a:pt x="2958" y="185"/>
                      </a:lnTo>
                      <a:lnTo>
                        <a:pt x="2928" y="176"/>
                      </a:lnTo>
                      <a:lnTo>
                        <a:pt x="2888" y="170"/>
                      </a:lnTo>
                      <a:lnTo>
                        <a:pt x="2854" y="165"/>
                      </a:lnTo>
                      <a:lnTo>
                        <a:pt x="2831" y="166"/>
                      </a:lnTo>
                      <a:lnTo>
                        <a:pt x="2748" y="168"/>
                      </a:lnTo>
                      <a:lnTo>
                        <a:pt x="2685" y="172"/>
                      </a:lnTo>
                      <a:lnTo>
                        <a:pt x="2643" y="172"/>
                      </a:lnTo>
                      <a:lnTo>
                        <a:pt x="2609" y="174"/>
                      </a:lnTo>
                      <a:lnTo>
                        <a:pt x="2552" y="189"/>
                      </a:lnTo>
                      <a:lnTo>
                        <a:pt x="2525" y="189"/>
                      </a:lnTo>
                      <a:lnTo>
                        <a:pt x="2493" y="185"/>
                      </a:lnTo>
                      <a:lnTo>
                        <a:pt x="2459" y="179"/>
                      </a:lnTo>
                      <a:lnTo>
                        <a:pt x="2432" y="176"/>
                      </a:lnTo>
                      <a:lnTo>
                        <a:pt x="2334" y="172"/>
                      </a:lnTo>
                      <a:lnTo>
                        <a:pt x="2269" y="170"/>
                      </a:lnTo>
                      <a:lnTo>
                        <a:pt x="2227" y="168"/>
                      </a:lnTo>
                      <a:lnTo>
                        <a:pt x="2193" y="166"/>
                      </a:lnTo>
                      <a:lnTo>
                        <a:pt x="2159" y="164"/>
                      </a:lnTo>
                      <a:lnTo>
                        <a:pt x="2119" y="160"/>
                      </a:lnTo>
                      <a:lnTo>
                        <a:pt x="2091" y="156"/>
                      </a:lnTo>
                      <a:lnTo>
                        <a:pt x="2051" y="150"/>
                      </a:lnTo>
                      <a:lnTo>
                        <a:pt x="2028" y="157"/>
                      </a:lnTo>
                      <a:lnTo>
                        <a:pt x="2015" y="166"/>
                      </a:lnTo>
                      <a:lnTo>
                        <a:pt x="2030" y="176"/>
                      </a:lnTo>
                      <a:lnTo>
                        <a:pt x="2060" y="181"/>
                      </a:lnTo>
                      <a:lnTo>
                        <a:pt x="2024" y="181"/>
                      </a:lnTo>
                      <a:lnTo>
                        <a:pt x="2043" y="189"/>
                      </a:lnTo>
                      <a:lnTo>
                        <a:pt x="2070" y="197"/>
                      </a:lnTo>
                      <a:lnTo>
                        <a:pt x="2108" y="206"/>
                      </a:lnTo>
                      <a:lnTo>
                        <a:pt x="2144" y="213"/>
                      </a:lnTo>
                      <a:lnTo>
                        <a:pt x="2100" y="210"/>
                      </a:lnTo>
                      <a:lnTo>
                        <a:pt x="2062" y="206"/>
                      </a:lnTo>
                      <a:lnTo>
                        <a:pt x="2024" y="200"/>
                      </a:lnTo>
                      <a:lnTo>
                        <a:pt x="1998" y="195"/>
                      </a:lnTo>
                      <a:lnTo>
                        <a:pt x="1986" y="193"/>
                      </a:lnTo>
                      <a:lnTo>
                        <a:pt x="1965" y="191"/>
                      </a:lnTo>
                      <a:lnTo>
                        <a:pt x="1939" y="191"/>
                      </a:lnTo>
                      <a:lnTo>
                        <a:pt x="1908" y="193"/>
                      </a:lnTo>
                      <a:lnTo>
                        <a:pt x="1880" y="197"/>
                      </a:lnTo>
                      <a:lnTo>
                        <a:pt x="1855" y="198"/>
                      </a:lnTo>
                      <a:lnTo>
                        <a:pt x="1821" y="197"/>
                      </a:lnTo>
                      <a:lnTo>
                        <a:pt x="1846" y="210"/>
                      </a:lnTo>
                      <a:lnTo>
                        <a:pt x="1874" y="220"/>
                      </a:lnTo>
                      <a:lnTo>
                        <a:pt x="1906" y="226"/>
                      </a:lnTo>
                      <a:lnTo>
                        <a:pt x="1870" y="223"/>
                      </a:lnTo>
                      <a:lnTo>
                        <a:pt x="1836" y="221"/>
                      </a:lnTo>
                      <a:lnTo>
                        <a:pt x="1800" y="219"/>
                      </a:lnTo>
                      <a:lnTo>
                        <a:pt x="1770" y="214"/>
                      </a:lnTo>
                      <a:lnTo>
                        <a:pt x="1732" y="212"/>
                      </a:lnTo>
                      <a:lnTo>
                        <a:pt x="1688" y="209"/>
                      </a:lnTo>
                      <a:lnTo>
                        <a:pt x="1648" y="209"/>
                      </a:lnTo>
                      <a:lnTo>
                        <a:pt x="1616" y="204"/>
                      </a:lnTo>
                      <a:lnTo>
                        <a:pt x="1608" y="200"/>
                      </a:lnTo>
                      <a:lnTo>
                        <a:pt x="1597" y="197"/>
                      </a:lnTo>
                      <a:lnTo>
                        <a:pt x="1574" y="197"/>
                      </a:lnTo>
                      <a:lnTo>
                        <a:pt x="1534" y="201"/>
                      </a:lnTo>
                      <a:lnTo>
                        <a:pt x="1485" y="204"/>
                      </a:lnTo>
                      <a:lnTo>
                        <a:pt x="1439" y="209"/>
                      </a:lnTo>
                      <a:lnTo>
                        <a:pt x="1413" y="212"/>
                      </a:lnTo>
                      <a:lnTo>
                        <a:pt x="1369" y="212"/>
                      </a:lnTo>
                      <a:lnTo>
                        <a:pt x="1318" y="213"/>
                      </a:lnTo>
                      <a:lnTo>
                        <a:pt x="1280" y="217"/>
                      </a:lnTo>
                      <a:lnTo>
                        <a:pt x="1234" y="223"/>
                      </a:lnTo>
                      <a:lnTo>
                        <a:pt x="1194" y="227"/>
                      </a:lnTo>
                      <a:lnTo>
                        <a:pt x="1160" y="230"/>
                      </a:lnTo>
                      <a:lnTo>
                        <a:pt x="1126" y="227"/>
                      </a:lnTo>
                      <a:lnTo>
                        <a:pt x="1073" y="220"/>
                      </a:lnTo>
                      <a:lnTo>
                        <a:pt x="1029" y="223"/>
                      </a:lnTo>
                      <a:lnTo>
                        <a:pt x="989" y="223"/>
                      </a:lnTo>
                      <a:lnTo>
                        <a:pt x="946" y="223"/>
                      </a:lnTo>
                      <a:lnTo>
                        <a:pt x="904" y="223"/>
                      </a:lnTo>
                      <a:lnTo>
                        <a:pt x="847" y="216"/>
                      </a:lnTo>
                      <a:lnTo>
                        <a:pt x="820" y="216"/>
                      </a:lnTo>
                      <a:lnTo>
                        <a:pt x="788" y="214"/>
                      </a:lnTo>
                      <a:lnTo>
                        <a:pt x="729" y="219"/>
                      </a:lnTo>
                      <a:lnTo>
                        <a:pt x="699" y="221"/>
                      </a:lnTo>
                      <a:lnTo>
                        <a:pt x="674" y="220"/>
                      </a:lnTo>
                      <a:lnTo>
                        <a:pt x="640" y="217"/>
                      </a:lnTo>
                      <a:lnTo>
                        <a:pt x="606" y="216"/>
                      </a:lnTo>
                      <a:lnTo>
                        <a:pt x="581" y="216"/>
                      </a:lnTo>
                      <a:lnTo>
                        <a:pt x="570" y="219"/>
                      </a:lnTo>
                      <a:lnTo>
                        <a:pt x="570" y="227"/>
                      </a:lnTo>
                      <a:lnTo>
                        <a:pt x="558" y="230"/>
                      </a:lnTo>
                      <a:lnTo>
                        <a:pt x="537" y="230"/>
                      </a:lnTo>
                      <a:lnTo>
                        <a:pt x="515" y="227"/>
                      </a:lnTo>
                      <a:lnTo>
                        <a:pt x="496" y="220"/>
                      </a:lnTo>
                      <a:lnTo>
                        <a:pt x="484" y="212"/>
                      </a:lnTo>
                      <a:lnTo>
                        <a:pt x="471" y="208"/>
                      </a:lnTo>
                      <a:lnTo>
                        <a:pt x="437" y="208"/>
                      </a:lnTo>
                      <a:lnTo>
                        <a:pt x="412" y="208"/>
                      </a:lnTo>
                      <a:lnTo>
                        <a:pt x="380" y="216"/>
                      </a:lnTo>
                      <a:lnTo>
                        <a:pt x="355" y="221"/>
                      </a:lnTo>
                      <a:lnTo>
                        <a:pt x="325" y="227"/>
                      </a:lnTo>
                      <a:lnTo>
                        <a:pt x="306" y="228"/>
                      </a:lnTo>
                      <a:lnTo>
                        <a:pt x="287" y="230"/>
                      </a:lnTo>
                      <a:lnTo>
                        <a:pt x="266" y="230"/>
                      </a:lnTo>
                      <a:lnTo>
                        <a:pt x="232" y="227"/>
                      </a:lnTo>
                      <a:lnTo>
                        <a:pt x="118" y="235"/>
                      </a:lnTo>
                      <a:lnTo>
                        <a:pt x="152" y="227"/>
                      </a:lnTo>
                      <a:lnTo>
                        <a:pt x="173" y="223"/>
                      </a:lnTo>
                      <a:lnTo>
                        <a:pt x="182" y="216"/>
                      </a:lnTo>
                      <a:lnTo>
                        <a:pt x="173" y="210"/>
                      </a:lnTo>
                      <a:lnTo>
                        <a:pt x="133" y="205"/>
                      </a:lnTo>
                      <a:lnTo>
                        <a:pt x="106" y="201"/>
                      </a:lnTo>
                      <a:lnTo>
                        <a:pt x="72" y="197"/>
                      </a:lnTo>
                      <a:lnTo>
                        <a:pt x="44" y="189"/>
                      </a:lnTo>
                      <a:lnTo>
                        <a:pt x="0" y="179"/>
                      </a:lnTo>
                      <a:lnTo>
                        <a:pt x="65" y="179"/>
                      </a:lnTo>
                      <a:lnTo>
                        <a:pt x="108" y="178"/>
                      </a:lnTo>
                      <a:lnTo>
                        <a:pt x="148" y="176"/>
                      </a:lnTo>
                      <a:lnTo>
                        <a:pt x="182" y="174"/>
                      </a:lnTo>
                      <a:lnTo>
                        <a:pt x="205" y="174"/>
                      </a:lnTo>
                      <a:lnTo>
                        <a:pt x="224" y="176"/>
                      </a:lnTo>
                      <a:lnTo>
                        <a:pt x="243" y="176"/>
                      </a:lnTo>
                      <a:lnTo>
                        <a:pt x="268" y="181"/>
                      </a:lnTo>
                      <a:lnTo>
                        <a:pt x="292" y="185"/>
                      </a:lnTo>
                      <a:lnTo>
                        <a:pt x="258" y="190"/>
                      </a:lnTo>
                      <a:lnTo>
                        <a:pt x="232" y="197"/>
                      </a:lnTo>
                      <a:lnTo>
                        <a:pt x="215" y="204"/>
                      </a:lnTo>
                      <a:lnTo>
                        <a:pt x="209" y="212"/>
                      </a:lnTo>
                      <a:lnTo>
                        <a:pt x="215" y="220"/>
                      </a:lnTo>
                      <a:lnTo>
                        <a:pt x="241" y="217"/>
                      </a:lnTo>
                      <a:lnTo>
                        <a:pt x="260" y="214"/>
                      </a:lnTo>
                      <a:lnTo>
                        <a:pt x="275" y="208"/>
                      </a:lnTo>
                      <a:lnTo>
                        <a:pt x="300" y="201"/>
                      </a:lnTo>
                      <a:lnTo>
                        <a:pt x="332" y="199"/>
                      </a:lnTo>
                      <a:lnTo>
                        <a:pt x="359" y="197"/>
                      </a:lnTo>
                      <a:lnTo>
                        <a:pt x="397" y="199"/>
                      </a:lnTo>
                      <a:lnTo>
                        <a:pt x="423" y="198"/>
                      </a:lnTo>
                      <a:lnTo>
                        <a:pt x="446" y="197"/>
                      </a:lnTo>
                      <a:lnTo>
                        <a:pt x="471" y="193"/>
                      </a:lnTo>
                      <a:lnTo>
                        <a:pt x="499" y="187"/>
                      </a:lnTo>
                      <a:lnTo>
                        <a:pt x="522" y="181"/>
                      </a:lnTo>
                      <a:lnTo>
                        <a:pt x="545" y="176"/>
                      </a:lnTo>
                      <a:lnTo>
                        <a:pt x="566" y="176"/>
                      </a:lnTo>
                      <a:lnTo>
                        <a:pt x="587" y="181"/>
                      </a:lnTo>
                      <a:lnTo>
                        <a:pt x="613" y="185"/>
                      </a:lnTo>
                      <a:lnTo>
                        <a:pt x="638" y="185"/>
                      </a:lnTo>
                      <a:lnTo>
                        <a:pt x="672" y="185"/>
                      </a:lnTo>
                      <a:lnTo>
                        <a:pt x="699" y="182"/>
                      </a:lnTo>
                      <a:lnTo>
                        <a:pt x="727" y="179"/>
                      </a:lnTo>
                      <a:lnTo>
                        <a:pt x="752" y="178"/>
                      </a:lnTo>
                      <a:lnTo>
                        <a:pt x="773" y="179"/>
                      </a:lnTo>
                      <a:lnTo>
                        <a:pt x="805" y="181"/>
                      </a:lnTo>
                      <a:lnTo>
                        <a:pt x="830" y="183"/>
                      </a:lnTo>
                      <a:lnTo>
                        <a:pt x="862" y="181"/>
                      </a:lnTo>
                      <a:lnTo>
                        <a:pt x="898" y="179"/>
                      </a:lnTo>
                      <a:lnTo>
                        <a:pt x="938" y="178"/>
                      </a:lnTo>
                      <a:lnTo>
                        <a:pt x="978" y="176"/>
                      </a:lnTo>
                      <a:lnTo>
                        <a:pt x="1006" y="173"/>
                      </a:lnTo>
                      <a:lnTo>
                        <a:pt x="1033" y="168"/>
                      </a:lnTo>
                      <a:lnTo>
                        <a:pt x="1056" y="162"/>
                      </a:lnTo>
                      <a:lnTo>
                        <a:pt x="1077" y="160"/>
                      </a:lnTo>
                      <a:lnTo>
                        <a:pt x="1094" y="160"/>
                      </a:lnTo>
                      <a:lnTo>
                        <a:pt x="1115" y="161"/>
                      </a:lnTo>
                      <a:lnTo>
                        <a:pt x="1168" y="165"/>
                      </a:lnTo>
                      <a:lnTo>
                        <a:pt x="1109" y="168"/>
                      </a:lnTo>
                      <a:lnTo>
                        <a:pt x="1124" y="176"/>
                      </a:lnTo>
                      <a:lnTo>
                        <a:pt x="1145" y="186"/>
                      </a:lnTo>
                      <a:lnTo>
                        <a:pt x="1166" y="187"/>
                      </a:lnTo>
                      <a:lnTo>
                        <a:pt x="1447" y="166"/>
                      </a:lnTo>
                      <a:lnTo>
                        <a:pt x="1464" y="162"/>
                      </a:lnTo>
                      <a:lnTo>
                        <a:pt x="1413" y="153"/>
                      </a:lnTo>
                      <a:lnTo>
                        <a:pt x="1449" y="150"/>
                      </a:lnTo>
                      <a:lnTo>
                        <a:pt x="1472" y="149"/>
                      </a:lnTo>
                      <a:lnTo>
                        <a:pt x="1489" y="142"/>
                      </a:lnTo>
                      <a:lnTo>
                        <a:pt x="1513" y="138"/>
                      </a:lnTo>
                      <a:lnTo>
                        <a:pt x="1540" y="141"/>
                      </a:lnTo>
                      <a:lnTo>
                        <a:pt x="1568" y="143"/>
                      </a:lnTo>
                      <a:lnTo>
                        <a:pt x="1593" y="149"/>
                      </a:lnTo>
                      <a:lnTo>
                        <a:pt x="1616" y="142"/>
                      </a:lnTo>
                      <a:lnTo>
                        <a:pt x="1641" y="131"/>
                      </a:lnTo>
                      <a:lnTo>
                        <a:pt x="1667" y="124"/>
                      </a:lnTo>
                      <a:lnTo>
                        <a:pt x="1692" y="119"/>
                      </a:lnTo>
                      <a:lnTo>
                        <a:pt x="1720" y="115"/>
                      </a:lnTo>
                      <a:lnTo>
                        <a:pt x="1747" y="113"/>
                      </a:lnTo>
                      <a:lnTo>
                        <a:pt x="1791" y="115"/>
                      </a:lnTo>
                      <a:lnTo>
                        <a:pt x="1827" y="117"/>
                      </a:lnTo>
                      <a:lnTo>
                        <a:pt x="1863" y="120"/>
                      </a:lnTo>
                      <a:lnTo>
                        <a:pt x="1906" y="123"/>
                      </a:lnTo>
                      <a:lnTo>
                        <a:pt x="1948" y="127"/>
                      </a:lnTo>
                      <a:lnTo>
                        <a:pt x="1982" y="129"/>
                      </a:lnTo>
                      <a:lnTo>
                        <a:pt x="2011" y="135"/>
                      </a:lnTo>
                      <a:lnTo>
                        <a:pt x="2043" y="139"/>
                      </a:lnTo>
                      <a:lnTo>
                        <a:pt x="2072" y="139"/>
                      </a:lnTo>
                      <a:lnTo>
                        <a:pt x="2102" y="143"/>
                      </a:lnTo>
                      <a:lnTo>
                        <a:pt x="2134" y="147"/>
                      </a:lnTo>
                      <a:lnTo>
                        <a:pt x="2167" y="151"/>
                      </a:lnTo>
                      <a:lnTo>
                        <a:pt x="2201" y="151"/>
                      </a:lnTo>
                      <a:lnTo>
                        <a:pt x="2235" y="151"/>
                      </a:lnTo>
                      <a:lnTo>
                        <a:pt x="2260" y="150"/>
                      </a:lnTo>
                      <a:lnTo>
                        <a:pt x="2284" y="153"/>
                      </a:lnTo>
                      <a:lnTo>
                        <a:pt x="2315" y="158"/>
                      </a:lnTo>
                      <a:lnTo>
                        <a:pt x="2349" y="158"/>
                      </a:lnTo>
                      <a:lnTo>
                        <a:pt x="2389" y="158"/>
                      </a:lnTo>
                      <a:lnTo>
                        <a:pt x="2423" y="158"/>
                      </a:lnTo>
                      <a:lnTo>
                        <a:pt x="2465" y="158"/>
                      </a:lnTo>
                      <a:lnTo>
                        <a:pt x="2544" y="165"/>
                      </a:lnTo>
                      <a:lnTo>
                        <a:pt x="2560" y="161"/>
                      </a:lnTo>
                      <a:lnTo>
                        <a:pt x="2577" y="154"/>
                      </a:lnTo>
                      <a:lnTo>
                        <a:pt x="2601" y="151"/>
                      </a:lnTo>
                      <a:lnTo>
                        <a:pt x="2622" y="150"/>
                      </a:lnTo>
                      <a:lnTo>
                        <a:pt x="2651" y="151"/>
                      </a:lnTo>
                      <a:lnTo>
                        <a:pt x="2685" y="154"/>
                      </a:lnTo>
                      <a:lnTo>
                        <a:pt x="2740" y="157"/>
                      </a:lnTo>
                      <a:lnTo>
                        <a:pt x="2763" y="153"/>
                      </a:lnTo>
                      <a:lnTo>
                        <a:pt x="2780" y="147"/>
                      </a:lnTo>
                      <a:lnTo>
                        <a:pt x="2799" y="145"/>
                      </a:lnTo>
                      <a:lnTo>
                        <a:pt x="2824" y="143"/>
                      </a:lnTo>
                      <a:lnTo>
                        <a:pt x="2846" y="139"/>
                      </a:lnTo>
                      <a:lnTo>
                        <a:pt x="2854" y="131"/>
                      </a:lnTo>
                      <a:lnTo>
                        <a:pt x="2871" y="120"/>
                      </a:lnTo>
                      <a:lnTo>
                        <a:pt x="2890" y="116"/>
                      </a:lnTo>
                      <a:lnTo>
                        <a:pt x="2915" y="113"/>
                      </a:lnTo>
                      <a:lnTo>
                        <a:pt x="2939" y="113"/>
                      </a:lnTo>
                      <a:lnTo>
                        <a:pt x="2949" y="119"/>
                      </a:lnTo>
                      <a:lnTo>
                        <a:pt x="2964" y="131"/>
                      </a:lnTo>
                      <a:lnTo>
                        <a:pt x="2981" y="129"/>
                      </a:lnTo>
                      <a:lnTo>
                        <a:pt x="3000" y="128"/>
                      </a:lnTo>
                      <a:lnTo>
                        <a:pt x="3023" y="129"/>
                      </a:lnTo>
                      <a:lnTo>
                        <a:pt x="3044" y="134"/>
                      </a:lnTo>
                      <a:lnTo>
                        <a:pt x="3072" y="138"/>
                      </a:lnTo>
                      <a:lnTo>
                        <a:pt x="3105" y="138"/>
                      </a:lnTo>
                      <a:lnTo>
                        <a:pt x="3080" y="127"/>
                      </a:lnTo>
                      <a:lnTo>
                        <a:pt x="3070" y="119"/>
                      </a:lnTo>
                      <a:lnTo>
                        <a:pt x="3093" y="121"/>
                      </a:lnTo>
                      <a:lnTo>
                        <a:pt x="3137" y="127"/>
                      </a:lnTo>
                      <a:lnTo>
                        <a:pt x="3175" y="125"/>
                      </a:lnTo>
                      <a:lnTo>
                        <a:pt x="3177" y="119"/>
                      </a:lnTo>
                      <a:lnTo>
                        <a:pt x="3184" y="112"/>
                      </a:lnTo>
                      <a:lnTo>
                        <a:pt x="3192" y="107"/>
                      </a:lnTo>
                      <a:lnTo>
                        <a:pt x="3213" y="104"/>
                      </a:lnTo>
                      <a:lnTo>
                        <a:pt x="3236" y="104"/>
                      </a:lnTo>
                      <a:lnTo>
                        <a:pt x="3266" y="105"/>
                      </a:lnTo>
                      <a:lnTo>
                        <a:pt x="3293" y="107"/>
                      </a:lnTo>
                      <a:lnTo>
                        <a:pt x="3321" y="104"/>
                      </a:lnTo>
                      <a:lnTo>
                        <a:pt x="3353" y="97"/>
                      </a:lnTo>
                      <a:lnTo>
                        <a:pt x="3374" y="89"/>
                      </a:lnTo>
                      <a:lnTo>
                        <a:pt x="3351" y="74"/>
                      </a:lnTo>
                      <a:lnTo>
                        <a:pt x="3327" y="68"/>
                      </a:lnTo>
                      <a:lnTo>
                        <a:pt x="3302" y="61"/>
                      </a:lnTo>
                      <a:lnTo>
                        <a:pt x="3285" y="58"/>
                      </a:lnTo>
                      <a:lnTo>
                        <a:pt x="3270" y="50"/>
                      </a:lnTo>
                      <a:lnTo>
                        <a:pt x="3262" y="42"/>
                      </a:lnTo>
                      <a:lnTo>
                        <a:pt x="3258" y="35"/>
                      </a:lnTo>
                      <a:lnTo>
                        <a:pt x="3251" y="26"/>
                      </a:lnTo>
                      <a:lnTo>
                        <a:pt x="3296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35440" y="3961800"/>
                  <a:ext cx="820800" cy="87840"/>
                </a:xfrm>
                <a:custGeom>
                  <a:avLst/>
                  <a:gdLst/>
                  <a:ahLst/>
                  <a:rect l="l" t="t" r="r" b="b"/>
                  <a:pathLst>
                    <a:path w="626" h="70">
                      <a:moveTo>
                        <a:pt x="625" y="35"/>
                      </a:moveTo>
                      <a:lnTo>
                        <a:pt x="582" y="27"/>
                      </a:lnTo>
                      <a:lnTo>
                        <a:pt x="571" y="18"/>
                      </a:lnTo>
                      <a:lnTo>
                        <a:pt x="553" y="15"/>
                      </a:lnTo>
                      <a:lnTo>
                        <a:pt x="540" y="13"/>
                      </a:lnTo>
                      <a:lnTo>
                        <a:pt x="524" y="11"/>
                      </a:lnTo>
                      <a:lnTo>
                        <a:pt x="507" y="11"/>
                      </a:lnTo>
                      <a:lnTo>
                        <a:pt x="486" y="11"/>
                      </a:lnTo>
                      <a:lnTo>
                        <a:pt x="468" y="7"/>
                      </a:lnTo>
                      <a:lnTo>
                        <a:pt x="453" y="6"/>
                      </a:lnTo>
                      <a:lnTo>
                        <a:pt x="427" y="7"/>
                      </a:lnTo>
                      <a:lnTo>
                        <a:pt x="411" y="3"/>
                      </a:lnTo>
                      <a:lnTo>
                        <a:pt x="395" y="0"/>
                      </a:lnTo>
                      <a:lnTo>
                        <a:pt x="380" y="0"/>
                      </a:lnTo>
                      <a:lnTo>
                        <a:pt x="364" y="4"/>
                      </a:lnTo>
                      <a:lnTo>
                        <a:pt x="349" y="11"/>
                      </a:lnTo>
                      <a:lnTo>
                        <a:pt x="329" y="15"/>
                      </a:lnTo>
                      <a:lnTo>
                        <a:pt x="299" y="18"/>
                      </a:lnTo>
                      <a:lnTo>
                        <a:pt x="284" y="14"/>
                      </a:lnTo>
                      <a:lnTo>
                        <a:pt x="265" y="15"/>
                      </a:lnTo>
                      <a:lnTo>
                        <a:pt x="252" y="18"/>
                      </a:lnTo>
                      <a:lnTo>
                        <a:pt x="231" y="27"/>
                      </a:lnTo>
                      <a:lnTo>
                        <a:pt x="215" y="38"/>
                      </a:lnTo>
                      <a:lnTo>
                        <a:pt x="189" y="44"/>
                      </a:lnTo>
                      <a:lnTo>
                        <a:pt x="152" y="41"/>
                      </a:lnTo>
                      <a:lnTo>
                        <a:pt x="133" y="48"/>
                      </a:lnTo>
                      <a:lnTo>
                        <a:pt x="116" y="52"/>
                      </a:lnTo>
                      <a:lnTo>
                        <a:pt x="93" y="54"/>
                      </a:lnTo>
                      <a:lnTo>
                        <a:pt x="0" y="65"/>
                      </a:lnTo>
                      <a:lnTo>
                        <a:pt x="101" y="61"/>
                      </a:lnTo>
                      <a:lnTo>
                        <a:pt x="120" y="65"/>
                      </a:lnTo>
                      <a:lnTo>
                        <a:pt x="137" y="69"/>
                      </a:lnTo>
                      <a:lnTo>
                        <a:pt x="149" y="68"/>
                      </a:lnTo>
                      <a:lnTo>
                        <a:pt x="164" y="65"/>
                      </a:lnTo>
                      <a:lnTo>
                        <a:pt x="183" y="59"/>
                      </a:lnTo>
                      <a:lnTo>
                        <a:pt x="210" y="57"/>
                      </a:lnTo>
                      <a:lnTo>
                        <a:pt x="235" y="51"/>
                      </a:lnTo>
                      <a:lnTo>
                        <a:pt x="252" y="52"/>
                      </a:lnTo>
                      <a:lnTo>
                        <a:pt x="271" y="54"/>
                      </a:lnTo>
                      <a:lnTo>
                        <a:pt x="313" y="48"/>
                      </a:lnTo>
                      <a:lnTo>
                        <a:pt x="333" y="46"/>
                      </a:lnTo>
                      <a:lnTo>
                        <a:pt x="360" y="38"/>
                      </a:lnTo>
                      <a:lnTo>
                        <a:pt x="387" y="38"/>
                      </a:lnTo>
                      <a:lnTo>
                        <a:pt x="419" y="38"/>
                      </a:lnTo>
                      <a:lnTo>
                        <a:pt x="442" y="39"/>
                      </a:lnTo>
                      <a:lnTo>
                        <a:pt x="464" y="37"/>
                      </a:lnTo>
                      <a:lnTo>
                        <a:pt x="486" y="30"/>
                      </a:lnTo>
                      <a:lnTo>
                        <a:pt x="507" y="35"/>
                      </a:lnTo>
                      <a:lnTo>
                        <a:pt x="526" y="28"/>
                      </a:lnTo>
                      <a:lnTo>
                        <a:pt x="542" y="30"/>
                      </a:lnTo>
                      <a:lnTo>
                        <a:pt x="565" y="31"/>
                      </a:lnTo>
                      <a:lnTo>
                        <a:pt x="590" y="32"/>
                      </a:lnTo>
                      <a:lnTo>
                        <a:pt x="625" y="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916800" y="3938040"/>
                  <a:ext cx="3448080" cy="297000"/>
                </a:xfrm>
                <a:custGeom>
                  <a:avLst/>
                  <a:gdLst/>
                  <a:ahLst/>
                  <a:rect l="l" t="t" r="r" b="b"/>
                  <a:pathLst>
                    <a:path w="2630" h="237">
                      <a:moveTo>
                        <a:pt x="2137" y="0"/>
                      </a:moveTo>
                      <a:lnTo>
                        <a:pt x="2158" y="5"/>
                      </a:lnTo>
                      <a:lnTo>
                        <a:pt x="2174" y="9"/>
                      </a:lnTo>
                      <a:lnTo>
                        <a:pt x="2188" y="15"/>
                      </a:lnTo>
                      <a:lnTo>
                        <a:pt x="2196" y="21"/>
                      </a:lnTo>
                      <a:lnTo>
                        <a:pt x="2202" y="31"/>
                      </a:lnTo>
                      <a:lnTo>
                        <a:pt x="2223" y="32"/>
                      </a:lnTo>
                      <a:lnTo>
                        <a:pt x="2237" y="35"/>
                      </a:lnTo>
                      <a:lnTo>
                        <a:pt x="2248" y="39"/>
                      </a:lnTo>
                      <a:lnTo>
                        <a:pt x="2265" y="45"/>
                      </a:lnTo>
                      <a:lnTo>
                        <a:pt x="2282" y="45"/>
                      </a:lnTo>
                      <a:lnTo>
                        <a:pt x="2304" y="55"/>
                      </a:lnTo>
                      <a:lnTo>
                        <a:pt x="2330" y="46"/>
                      </a:lnTo>
                      <a:lnTo>
                        <a:pt x="2315" y="66"/>
                      </a:lnTo>
                      <a:lnTo>
                        <a:pt x="2340" y="66"/>
                      </a:lnTo>
                      <a:lnTo>
                        <a:pt x="2371" y="67"/>
                      </a:lnTo>
                      <a:lnTo>
                        <a:pt x="2395" y="62"/>
                      </a:lnTo>
                      <a:lnTo>
                        <a:pt x="2422" y="74"/>
                      </a:lnTo>
                      <a:lnTo>
                        <a:pt x="2447" y="66"/>
                      </a:lnTo>
                      <a:lnTo>
                        <a:pt x="2454" y="67"/>
                      </a:lnTo>
                      <a:lnTo>
                        <a:pt x="2460" y="72"/>
                      </a:lnTo>
                      <a:lnTo>
                        <a:pt x="2469" y="78"/>
                      </a:lnTo>
                      <a:lnTo>
                        <a:pt x="2474" y="86"/>
                      </a:lnTo>
                      <a:lnTo>
                        <a:pt x="2484" y="92"/>
                      </a:lnTo>
                      <a:lnTo>
                        <a:pt x="2491" y="95"/>
                      </a:lnTo>
                      <a:lnTo>
                        <a:pt x="2507" y="95"/>
                      </a:lnTo>
                      <a:lnTo>
                        <a:pt x="2525" y="95"/>
                      </a:lnTo>
                      <a:lnTo>
                        <a:pt x="2533" y="101"/>
                      </a:lnTo>
                      <a:lnTo>
                        <a:pt x="2545" y="108"/>
                      </a:lnTo>
                      <a:lnTo>
                        <a:pt x="2556" y="108"/>
                      </a:lnTo>
                      <a:lnTo>
                        <a:pt x="2573" y="109"/>
                      </a:lnTo>
                      <a:lnTo>
                        <a:pt x="2593" y="109"/>
                      </a:lnTo>
                      <a:lnTo>
                        <a:pt x="2613" y="116"/>
                      </a:lnTo>
                      <a:lnTo>
                        <a:pt x="2629" y="132"/>
                      </a:lnTo>
                      <a:lnTo>
                        <a:pt x="2615" y="131"/>
                      </a:lnTo>
                      <a:lnTo>
                        <a:pt x="2593" y="125"/>
                      </a:lnTo>
                      <a:lnTo>
                        <a:pt x="2571" y="124"/>
                      </a:lnTo>
                      <a:lnTo>
                        <a:pt x="2555" y="125"/>
                      </a:lnTo>
                      <a:lnTo>
                        <a:pt x="2540" y="132"/>
                      </a:lnTo>
                      <a:lnTo>
                        <a:pt x="2524" y="135"/>
                      </a:lnTo>
                      <a:lnTo>
                        <a:pt x="2507" y="131"/>
                      </a:lnTo>
                      <a:lnTo>
                        <a:pt x="2489" y="125"/>
                      </a:lnTo>
                      <a:lnTo>
                        <a:pt x="2473" y="121"/>
                      </a:lnTo>
                      <a:lnTo>
                        <a:pt x="2458" y="121"/>
                      </a:lnTo>
                      <a:lnTo>
                        <a:pt x="2447" y="131"/>
                      </a:lnTo>
                      <a:lnTo>
                        <a:pt x="2437" y="139"/>
                      </a:lnTo>
                      <a:lnTo>
                        <a:pt x="2419" y="139"/>
                      </a:lnTo>
                      <a:lnTo>
                        <a:pt x="2403" y="136"/>
                      </a:lnTo>
                      <a:lnTo>
                        <a:pt x="2384" y="131"/>
                      </a:lnTo>
                      <a:lnTo>
                        <a:pt x="2367" y="127"/>
                      </a:lnTo>
                      <a:lnTo>
                        <a:pt x="2351" y="135"/>
                      </a:lnTo>
                      <a:lnTo>
                        <a:pt x="2334" y="143"/>
                      </a:lnTo>
                      <a:lnTo>
                        <a:pt x="2318" y="146"/>
                      </a:lnTo>
                      <a:lnTo>
                        <a:pt x="2302" y="149"/>
                      </a:lnTo>
                      <a:lnTo>
                        <a:pt x="2280" y="151"/>
                      </a:lnTo>
                      <a:lnTo>
                        <a:pt x="2258" y="153"/>
                      </a:lnTo>
                      <a:lnTo>
                        <a:pt x="2237" y="151"/>
                      </a:lnTo>
                      <a:lnTo>
                        <a:pt x="2213" y="147"/>
                      </a:lnTo>
                      <a:lnTo>
                        <a:pt x="2223" y="133"/>
                      </a:lnTo>
                      <a:lnTo>
                        <a:pt x="2221" y="124"/>
                      </a:lnTo>
                      <a:lnTo>
                        <a:pt x="2210" y="119"/>
                      </a:lnTo>
                      <a:lnTo>
                        <a:pt x="2207" y="129"/>
                      </a:lnTo>
                      <a:lnTo>
                        <a:pt x="2193" y="139"/>
                      </a:lnTo>
                      <a:lnTo>
                        <a:pt x="2180" y="143"/>
                      </a:lnTo>
                      <a:lnTo>
                        <a:pt x="2165" y="146"/>
                      </a:lnTo>
                      <a:lnTo>
                        <a:pt x="2147" y="151"/>
                      </a:lnTo>
                      <a:lnTo>
                        <a:pt x="2129" y="154"/>
                      </a:lnTo>
                      <a:lnTo>
                        <a:pt x="2103" y="157"/>
                      </a:lnTo>
                      <a:lnTo>
                        <a:pt x="2086" y="155"/>
                      </a:lnTo>
                      <a:lnTo>
                        <a:pt x="2066" y="157"/>
                      </a:lnTo>
                      <a:lnTo>
                        <a:pt x="2033" y="163"/>
                      </a:lnTo>
                      <a:lnTo>
                        <a:pt x="2044" y="170"/>
                      </a:lnTo>
                      <a:lnTo>
                        <a:pt x="2059" y="177"/>
                      </a:lnTo>
                      <a:lnTo>
                        <a:pt x="2088" y="191"/>
                      </a:lnTo>
                      <a:lnTo>
                        <a:pt x="2070" y="192"/>
                      </a:lnTo>
                      <a:lnTo>
                        <a:pt x="2054" y="194"/>
                      </a:lnTo>
                      <a:lnTo>
                        <a:pt x="2030" y="197"/>
                      </a:lnTo>
                      <a:lnTo>
                        <a:pt x="2006" y="199"/>
                      </a:lnTo>
                      <a:lnTo>
                        <a:pt x="1992" y="198"/>
                      </a:lnTo>
                      <a:lnTo>
                        <a:pt x="1981" y="192"/>
                      </a:lnTo>
                      <a:lnTo>
                        <a:pt x="1966" y="188"/>
                      </a:lnTo>
                      <a:lnTo>
                        <a:pt x="1945" y="187"/>
                      </a:lnTo>
                      <a:lnTo>
                        <a:pt x="1918" y="186"/>
                      </a:lnTo>
                      <a:lnTo>
                        <a:pt x="1899" y="177"/>
                      </a:lnTo>
                      <a:lnTo>
                        <a:pt x="1873" y="170"/>
                      </a:lnTo>
                      <a:lnTo>
                        <a:pt x="1851" y="166"/>
                      </a:lnTo>
                      <a:lnTo>
                        <a:pt x="1836" y="167"/>
                      </a:lnTo>
                      <a:lnTo>
                        <a:pt x="1782" y="169"/>
                      </a:lnTo>
                      <a:lnTo>
                        <a:pt x="1741" y="172"/>
                      </a:lnTo>
                      <a:lnTo>
                        <a:pt x="1714" y="172"/>
                      </a:lnTo>
                      <a:lnTo>
                        <a:pt x="1692" y="174"/>
                      </a:lnTo>
                      <a:lnTo>
                        <a:pt x="1655" y="190"/>
                      </a:lnTo>
                      <a:lnTo>
                        <a:pt x="1637" y="190"/>
                      </a:lnTo>
                      <a:lnTo>
                        <a:pt x="1617" y="186"/>
                      </a:lnTo>
                      <a:lnTo>
                        <a:pt x="1595" y="180"/>
                      </a:lnTo>
                      <a:lnTo>
                        <a:pt x="1577" y="177"/>
                      </a:lnTo>
                      <a:lnTo>
                        <a:pt x="1514" y="172"/>
                      </a:lnTo>
                      <a:lnTo>
                        <a:pt x="1471" y="170"/>
                      </a:lnTo>
                      <a:lnTo>
                        <a:pt x="1444" y="169"/>
                      </a:lnTo>
                      <a:lnTo>
                        <a:pt x="1422" y="167"/>
                      </a:lnTo>
                      <a:lnTo>
                        <a:pt x="1400" y="165"/>
                      </a:lnTo>
                      <a:lnTo>
                        <a:pt x="1374" y="161"/>
                      </a:lnTo>
                      <a:lnTo>
                        <a:pt x="1356" y="157"/>
                      </a:lnTo>
                      <a:lnTo>
                        <a:pt x="1330" y="150"/>
                      </a:lnTo>
                      <a:lnTo>
                        <a:pt x="1315" y="158"/>
                      </a:lnTo>
                      <a:lnTo>
                        <a:pt x="1307" y="167"/>
                      </a:lnTo>
                      <a:lnTo>
                        <a:pt x="1317" y="176"/>
                      </a:lnTo>
                      <a:lnTo>
                        <a:pt x="1336" y="182"/>
                      </a:lnTo>
                      <a:lnTo>
                        <a:pt x="1312" y="182"/>
                      </a:lnTo>
                      <a:lnTo>
                        <a:pt x="1325" y="190"/>
                      </a:lnTo>
                      <a:lnTo>
                        <a:pt x="1343" y="197"/>
                      </a:lnTo>
                      <a:lnTo>
                        <a:pt x="1367" y="207"/>
                      </a:lnTo>
                      <a:lnTo>
                        <a:pt x="1391" y="214"/>
                      </a:lnTo>
                      <a:lnTo>
                        <a:pt x="1362" y="211"/>
                      </a:lnTo>
                      <a:lnTo>
                        <a:pt x="1337" y="207"/>
                      </a:lnTo>
                      <a:lnTo>
                        <a:pt x="1312" y="201"/>
                      </a:lnTo>
                      <a:lnTo>
                        <a:pt x="1296" y="196"/>
                      </a:lnTo>
                      <a:lnTo>
                        <a:pt x="1288" y="194"/>
                      </a:lnTo>
                      <a:lnTo>
                        <a:pt x="1274" y="192"/>
                      </a:lnTo>
                      <a:lnTo>
                        <a:pt x="1258" y="192"/>
                      </a:lnTo>
                      <a:lnTo>
                        <a:pt x="1237" y="194"/>
                      </a:lnTo>
                      <a:lnTo>
                        <a:pt x="1219" y="197"/>
                      </a:lnTo>
                      <a:lnTo>
                        <a:pt x="1203" y="198"/>
                      </a:lnTo>
                      <a:lnTo>
                        <a:pt x="1181" y="197"/>
                      </a:lnTo>
                      <a:lnTo>
                        <a:pt x="1197" y="211"/>
                      </a:lnTo>
                      <a:lnTo>
                        <a:pt x="1215" y="221"/>
                      </a:lnTo>
                      <a:lnTo>
                        <a:pt x="1236" y="227"/>
                      </a:lnTo>
                      <a:lnTo>
                        <a:pt x="1212" y="224"/>
                      </a:lnTo>
                      <a:lnTo>
                        <a:pt x="1191" y="222"/>
                      </a:lnTo>
                      <a:lnTo>
                        <a:pt x="1167" y="220"/>
                      </a:lnTo>
                      <a:lnTo>
                        <a:pt x="1148" y="215"/>
                      </a:lnTo>
                      <a:lnTo>
                        <a:pt x="1123" y="213"/>
                      </a:lnTo>
                      <a:lnTo>
                        <a:pt x="1095" y="210"/>
                      </a:lnTo>
                      <a:lnTo>
                        <a:pt x="1069" y="210"/>
                      </a:lnTo>
                      <a:lnTo>
                        <a:pt x="1048" y="205"/>
                      </a:lnTo>
                      <a:lnTo>
                        <a:pt x="1043" y="201"/>
                      </a:lnTo>
                      <a:lnTo>
                        <a:pt x="1036" y="197"/>
                      </a:lnTo>
                      <a:lnTo>
                        <a:pt x="1021" y="197"/>
                      </a:lnTo>
                      <a:lnTo>
                        <a:pt x="995" y="202"/>
                      </a:lnTo>
                      <a:lnTo>
                        <a:pt x="963" y="205"/>
                      </a:lnTo>
                      <a:lnTo>
                        <a:pt x="933" y="210"/>
                      </a:lnTo>
                      <a:lnTo>
                        <a:pt x="917" y="213"/>
                      </a:lnTo>
                      <a:lnTo>
                        <a:pt x="888" y="213"/>
                      </a:lnTo>
                      <a:lnTo>
                        <a:pt x="855" y="214"/>
                      </a:lnTo>
                      <a:lnTo>
                        <a:pt x="830" y="218"/>
                      </a:lnTo>
                      <a:lnTo>
                        <a:pt x="800" y="224"/>
                      </a:lnTo>
                      <a:lnTo>
                        <a:pt x="774" y="228"/>
                      </a:lnTo>
                      <a:lnTo>
                        <a:pt x="752" y="231"/>
                      </a:lnTo>
                      <a:lnTo>
                        <a:pt x="730" y="228"/>
                      </a:lnTo>
                      <a:lnTo>
                        <a:pt x="696" y="221"/>
                      </a:lnTo>
                      <a:lnTo>
                        <a:pt x="667" y="224"/>
                      </a:lnTo>
                      <a:lnTo>
                        <a:pt x="641" y="224"/>
                      </a:lnTo>
                      <a:lnTo>
                        <a:pt x="614" y="224"/>
                      </a:lnTo>
                      <a:lnTo>
                        <a:pt x="586" y="223"/>
                      </a:lnTo>
                      <a:lnTo>
                        <a:pt x="549" y="217"/>
                      </a:lnTo>
                      <a:lnTo>
                        <a:pt x="532" y="217"/>
                      </a:lnTo>
                      <a:lnTo>
                        <a:pt x="511" y="215"/>
                      </a:lnTo>
                      <a:lnTo>
                        <a:pt x="473" y="220"/>
                      </a:lnTo>
                      <a:lnTo>
                        <a:pt x="453" y="222"/>
                      </a:lnTo>
                      <a:lnTo>
                        <a:pt x="437" y="221"/>
                      </a:lnTo>
                      <a:lnTo>
                        <a:pt x="415" y="218"/>
                      </a:lnTo>
                      <a:lnTo>
                        <a:pt x="393" y="217"/>
                      </a:lnTo>
                      <a:lnTo>
                        <a:pt x="377" y="217"/>
                      </a:lnTo>
                      <a:lnTo>
                        <a:pt x="370" y="220"/>
                      </a:lnTo>
                      <a:lnTo>
                        <a:pt x="370" y="228"/>
                      </a:lnTo>
                      <a:lnTo>
                        <a:pt x="362" y="231"/>
                      </a:lnTo>
                      <a:lnTo>
                        <a:pt x="348" y="231"/>
                      </a:lnTo>
                      <a:lnTo>
                        <a:pt x="334" y="228"/>
                      </a:lnTo>
                      <a:lnTo>
                        <a:pt x="322" y="221"/>
                      </a:lnTo>
                      <a:lnTo>
                        <a:pt x="314" y="213"/>
                      </a:lnTo>
                      <a:lnTo>
                        <a:pt x="306" y="209"/>
                      </a:lnTo>
                      <a:lnTo>
                        <a:pt x="284" y="209"/>
                      </a:lnTo>
                      <a:lnTo>
                        <a:pt x="267" y="209"/>
                      </a:lnTo>
                      <a:lnTo>
                        <a:pt x="247" y="217"/>
                      </a:lnTo>
                      <a:lnTo>
                        <a:pt x="230" y="222"/>
                      </a:lnTo>
                      <a:lnTo>
                        <a:pt x="211" y="228"/>
                      </a:lnTo>
                      <a:lnTo>
                        <a:pt x="199" y="229"/>
                      </a:lnTo>
                      <a:lnTo>
                        <a:pt x="186" y="231"/>
                      </a:lnTo>
                      <a:lnTo>
                        <a:pt x="173" y="231"/>
                      </a:lnTo>
                      <a:lnTo>
                        <a:pt x="151" y="228"/>
                      </a:lnTo>
                      <a:lnTo>
                        <a:pt x="77" y="236"/>
                      </a:lnTo>
                      <a:lnTo>
                        <a:pt x="99" y="228"/>
                      </a:lnTo>
                      <a:lnTo>
                        <a:pt x="112" y="224"/>
                      </a:lnTo>
                      <a:lnTo>
                        <a:pt x="118" y="217"/>
                      </a:lnTo>
                      <a:lnTo>
                        <a:pt x="112" y="211"/>
                      </a:lnTo>
                      <a:lnTo>
                        <a:pt x="86" y="206"/>
                      </a:lnTo>
                      <a:lnTo>
                        <a:pt x="68" y="202"/>
                      </a:lnTo>
                      <a:lnTo>
                        <a:pt x="47" y="197"/>
                      </a:lnTo>
                      <a:lnTo>
                        <a:pt x="29" y="190"/>
                      </a:lnTo>
                      <a:lnTo>
                        <a:pt x="0" y="180"/>
                      </a:lnTo>
                      <a:lnTo>
                        <a:pt x="42" y="180"/>
                      </a:lnTo>
                      <a:lnTo>
                        <a:pt x="70" y="179"/>
                      </a:lnTo>
                      <a:lnTo>
                        <a:pt x="96" y="176"/>
                      </a:lnTo>
                      <a:lnTo>
                        <a:pt x="118" y="174"/>
                      </a:lnTo>
                      <a:lnTo>
                        <a:pt x="133" y="174"/>
                      </a:lnTo>
                      <a:lnTo>
                        <a:pt x="145" y="176"/>
                      </a:lnTo>
                      <a:lnTo>
                        <a:pt x="158" y="177"/>
                      </a:lnTo>
                      <a:lnTo>
                        <a:pt x="174" y="182"/>
                      </a:lnTo>
                      <a:lnTo>
                        <a:pt x="189" y="186"/>
                      </a:lnTo>
                      <a:lnTo>
                        <a:pt x="167" y="191"/>
                      </a:lnTo>
                      <a:lnTo>
                        <a:pt x="151" y="197"/>
                      </a:lnTo>
                      <a:lnTo>
                        <a:pt x="140" y="205"/>
                      </a:lnTo>
                      <a:lnTo>
                        <a:pt x="136" y="213"/>
                      </a:lnTo>
                      <a:lnTo>
                        <a:pt x="140" y="221"/>
                      </a:lnTo>
                      <a:lnTo>
                        <a:pt x="156" y="218"/>
                      </a:lnTo>
                      <a:lnTo>
                        <a:pt x="169" y="215"/>
                      </a:lnTo>
                      <a:lnTo>
                        <a:pt x="178" y="209"/>
                      </a:lnTo>
                      <a:lnTo>
                        <a:pt x="195" y="202"/>
                      </a:lnTo>
                      <a:lnTo>
                        <a:pt x="215" y="199"/>
                      </a:lnTo>
                      <a:lnTo>
                        <a:pt x="233" y="197"/>
                      </a:lnTo>
                      <a:lnTo>
                        <a:pt x="258" y="199"/>
                      </a:lnTo>
                      <a:lnTo>
                        <a:pt x="274" y="198"/>
                      </a:lnTo>
                      <a:lnTo>
                        <a:pt x="289" y="197"/>
                      </a:lnTo>
                      <a:lnTo>
                        <a:pt x="306" y="194"/>
                      </a:lnTo>
                      <a:lnTo>
                        <a:pt x="323" y="188"/>
                      </a:lnTo>
                      <a:lnTo>
                        <a:pt x="338" y="182"/>
                      </a:lnTo>
                      <a:lnTo>
                        <a:pt x="353" y="177"/>
                      </a:lnTo>
                      <a:lnTo>
                        <a:pt x="367" y="177"/>
                      </a:lnTo>
                      <a:lnTo>
                        <a:pt x="381" y="182"/>
                      </a:lnTo>
                      <a:lnTo>
                        <a:pt x="397" y="186"/>
                      </a:lnTo>
                      <a:lnTo>
                        <a:pt x="414" y="186"/>
                      </a:lnTo>
                      <a:lnTo>
                        <a:pt x="436" y="186"/>
                      </a:lnTo>
                      <a:lnTo>
                        <a:pt x="453" y="183"/>
                      </a:lnTo>
                      <a:lnTo>
                        <a:pt x="471" y="180"/>
                      </a:lnTo>
                      <a:lnTo>
                        <a:pt x="488" y="179"/>
                      </a:lnTo>
                      <a:lnTo>
                        <a:pt x="501" y="180"/>
                      </a:lnTo>
                      <a:lnTo>
                        <a:pt x="522" y="182"/>
                      </a:lnTo>
                      <a:lnTo>
                        <a:pt x="538" y="184"/>
                      </a:lnTo>
                      <a:lnTo>
                        <a:pt x="559" y="182"/>
                      </a:lnTo>
                      <a:lnTo>
                        <a:pt x="582" y="180"/>
                      </a:lnTo>
                      <a:lnTo>
                        <a:pt x="608" y="179"/>
                      </a:lnTo>
                      <a:lnTo>
                        <a:pt x="634" y="177"/>
                      </a:lnTo>
                      <a:lnTo>
                        <a:pt x="652" y="173"/>
                      </a:lnTo>
                      <a:lnTo>
                        <a:pt x="670" y="169"/>
                      </a:lnTo>
                      <a:lnTo>
                        <a:pt x="685" y="163"/>
                      </a:lnTo>
                      <a:lnTo>
                        <a:pt x="699" y="161"/>
                      </a:lnTo>
                      <a:lnTo>
                        <a:pt x="710" y="161"/>
                      </a:lnTo>
                      <a:lnTo>
                        <a:pt x="723" y="162"/>
                      </a:lnTo>
                      <a:lnTo>
                        <a:pt x="758" y="166"/>
                      </a:lnTo>
                      <a:lnTo>
                        <a:pt x="719" y="169"/>
                      </a:lnTo>
                      <a:lnTo>
                        <a:pt x="729" y="177"/>
                      </a:lnTo>
                      <a:lnTo>
                        <a:pt x="743" y="187"/>
                      </a:lnTo>
                      <a:lnTo>
                        <a:pt x="756" y="188"/>
                      </a:lnTo>
                      <a:lnTo>
                        <a:pt x="938" y="167"/>
                      </a:lnTo>
                      <a:lnTo>
                        <a:pt x="949" y="163"/>
                      </a:lnTo>
                      <a:lnTo>
                        <a:pt x="917" y="154"/>
                      </a:lnTo>
                      <a:lnTo>
                        <a:pt x="940" y="150"/>
                      </a:lnTo>
                      <a:lnTo>
                        <a:pt x="955" y="149"/>
                      </a:lnTo>
                      <a:lnTo>
                        <a:pt x="966" y="143"/>
                      </a:lnTo>
                      <a:lnTo>
                        <a:pt x="981" y="139"/>
                      </a:lnTo>
                      <a:lnTo>
                        <a:pt x="999" y="142"/>
                      </a:lnTo>
                      <a:lnTo>
                        <a:pt x="1017" y="144"/>
                      </a:lnTo>
                      <a:lnTo>
                        <a:pt x="1033" y="149"/>
                      </a:lnTo>
                      <a:lnTo>
                        <a:pt x="1048" y="143"/>
                      </a:lnTo>
                      <a:lnTo>
                        <a:pt x="1064" y="132"/>
                      </a:lnTo>
                      <a:lnTo>
                        <a:pt x="1081" y="124"/>
                      </a:lnTo>
                      <a:lnTo>
                        <a:pt x="1097" y="119"/>
                      </a:lnTo>
                      <a:lnTo>
                        <a:pt x="1115" y="116"/>
                      </a:lnTo>
                      <a:lnTo>
                        <a:pt x="1133" y="114"/>
                      </a:lnTo>
                      <a:lnTo>
                        <a:pt x="1162" y="116"/>
                      </a:lnTo>
                      <a:lnTo>
                        <a:pt x="1185" y="118"/>
                      </a:lnTo>
                      <a:lnTo>
                        <a:pt x="1208" y="120"/>
                      </a:lnTo>
                      <a:lnTo>
                        <a:pt x="1236" y="123"/>
                      </a:lnTo>
                      <a:lnTo>
                        <a:pt x="1263" y="127"/>
                      </a:lnTo>
                      <a:lnTo>
                        <a:pt x="1285" y="129"/>
                      </a:lnTo>
                      <a:lnTo>
                        <a:pt x="1304" y="136"/>
                      </a:lnTo>
                      <a:lnTo>
                        <a:pt x="1325" y="140"/>
                      </a:lnTo>
                      <a:lnTo>
                        <a:pt x="1344" y="140"/>
                      </a:lnTo>
                      <a:lnTo>
                        <a:pt x="1363" y="144"/>
                      </a:lnTo>
                      <a:lnTo>
                        <a:pt x="1384" y="147"/>
                      </a:lnTo>
                      <a:lnTo>
                        <a:pt x="1406" y="151"/>
                      </a:lnTo>
                      <a:lnTo>
                        <a:pt x="1428" y="151"/>
                      </a:lnTo>
                      <a:lnTo>
                        <a:pt x="1449" y="151"/>
                      </a:lnTo>
                      <a:lnTo>
                        <a:pt x="1466" y="150"/>
                      </a:lnTo>
                      <a:lnTo>
                        <a:pt x="1481" y="154"/>
                      </a:lnTo>
                      <a:lnTo>
                        <a:pt x="1502" y="159"/>
                      </a:lnTo>
                      <a:lnTo>
                        <a:pt x="1523" y="159"/>
                      </a:lnTo>
                      <a:lnTo>
                        <a:pt x="1549" y="159"/>
                      </a:lnTo>
                      <a:lnTo>
                        <a:pt x="1571" y="159"/>
                      </a:lnTo>
                      <a:lnTo>
                        <a:pt x="1599" y="159"/>
                      </a:lnTo>
                      <a:lnTo>
                        <a:pt x="1649" y="166"/>
                      </a:lnTo>
                      <a:lnTo>
                        <a:pt x="1660" y="162"/>
                      </a:lnTo>
                      <a:lnTo>
                        <a:pt x="1671" y="155"/>
                      </a:lnTo>
                      <a:lnTo>
                        <a:pt x="1686" y="151"/>
                      </a:lnTo>
                      <a:lnTo>
                        <a:pt x="1700" y="150"/>
                      </a:lnTo>
                      <a:lnTo>
                        <a:pt x="1719" y="151"/>
                      </a:lnTo>
                      <a:lnTo>
                        <a:pt x="1741" y="155"/>
                      </a:lnTo>
                      <a:lnTo>
                        <a:pt x="1777" y="158"/>
                      </a:lnTo>
                      <a:lnTo>
                        <a:pt x="1792" y="153"/>
                      </a:lnTo>
                      <a:lnTo>
                        <a:pt x="1803" y="147"/>
                      </a:lnTo>
                      <a:lnTo>
                        <a:pt x="1815" y="145"/>
                      </a:lnTo>
                      <a:lnTo>
                        <a:pt x="1832" y="144"/>
                      </a:lnTo>
                      <a:lnTo>
                        <a:pt x="1845" y="140"/>
                      </a:lnTo>
                      <a:lnTo>
                        <a:pt x="1851" y="132"/>
                      </a:lnTo>
                      <a:lnTo>
                        <a:pt x="1862" y="120"/>
                      </a:lnTo>
                      <a:lnTo>
                        <a:pt x="1874" y="117"/>
                      </a:lnTo>
                      <a:lnTo>
                        <a:pt x="1891" y="114"/>
                      </a:lnTo>
                      <a:lnTo>
                        <a:pt x="1906" y="114"/>
                      </a:lnTo>
                      <a:lnTo>
                        <a:pt x="1912" y="119"/>
                      </a:lnTo>
                      <a:lnTo>
                        <a:pt x="1922" y="132"/>
                      </a:lnTo>
                      <a:lnTo>
                        <a:pt x="1933" y="129"/>
                      </a:lnTo>
                      <a:lnTo>
                        <a:pt x="1945" y="128"/>
                      </a:lnTo>
                      <a:lnTo>
                        <a:pt x="1960" y="129"/>
                      </a:lnTo>
                      <a:lnTo>
                        <a:pt x="1974" y="135"/>
                      </a:lnTo>
                      <a:lnTo>
                        <a:pt x="1992" y="139"/>
                      </a:lnTo>
                      <a:lnTo>
                        <a:pt x="2014" y="139"/>
                      </a:lnTo>
                      <a:lnTo>
                        <a:pt x="1997" y="127"/>
                      </a:lnTo>
                      <a:lnTo>
                        <a:pt x="1991" y="119"/>
                      </a:lnTo>
                      <a:lnTo>
                        <a:pt x="2006" y="121"/>
                      </a:lnTo>
                      <a:lnTo>
                        <a:pt x="2034" y="127"/>
                      </a:lnTo>
                      <a:lnTo>
                        <a:pt x="2059" y="125"/>
                      </a:lnTo>
                      <a:lnTo>
                        <a:pt x="2060" y="119"/>
                      </a:lnTo>
                      <a:lnTo>
                        <a:pt x="2065" y="113"/>
                      </a:lnTo>
                      <a:lnTo>
                        <a:pt x="2070" y="108"/>
                      </a:lnTo>
                      <a:lnTo>
                        <a:pt x="2084" y="104"/>
                      </a:lnTo>
                      <a:lnTo>
                        <a:pt x="2099" y="104"/>
                      </a:lnTo>
                      <a:lnTo>
                        <a:pt x="2118" y="105"/>
                      </a:lnTo>
                      <a:lnTo>
                        <a:pt x="2136" y="108"/>
                      </a:lnTo>
                      <a:lnTo>
                        <a:pt x="2154" y="104"/>
                      </a:lnTo>
                      <a:lnTo>
                        <a:pt x="2174" y="97"/>
                      </a:lnTo>
                      <a:lnTo>
                        <a:pt x="2188" y="90"/>
                      </a:lnTo>
                      <a:lnTo>
                        <a:pt x="2173" y="74"/>
                      </a:lnTo>
                      <a:lnTo>
                        <a:pt x="2158" y="68"/>
                      </a:lnTo>
                      <a:lnTo>
                        <a:pt x="2141" y="62"/>
                      </a:lnTo>
                      <a:lnTo>
                        <a:pt x="2130" y="58"/>
                      </a:lnTo>
                      <a:lnTo>
                        <a:pt x="2121" y="50"/>
                      </a:lnTo>
                      <a:lnTo>
                        <a:pt x="2115" y="42"/>
                      </a:lnTo>
                      <a:lnTo>
                        <a:pt x="2113" y="35"/>
                      </a:lnTo>
                      <a:lnTo>
                        <a:pt x="2108" y="26"/>
                      </a:lnTo>
                      <a:lnTo>
                        <a:pt x="2137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1600200" y="3695040"/>
                <a:ext cx="7049880" cy="686880"/>
                <a:chOff x="1600200" y="3695040"/>
                <a:chExt cx="7049880" cy="6868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3636360" y="3791520"/>
                  <a:ext cx="819360" cy="100080"/>
                </a:xfrm>
                <a:custGeom>
                  <a:avLst/>
                  <a:gdLst/>
                  <a:ahLst/>
                  <a:rect l="l" t="t" r="r" b="b"/>
                  <a:pathLst>
                    <a:path w="625" h="80">
                      <a:moveTo>
                        <a:pt x="0" y="40"/>
                      </a:moveTo>
                      <a:lnTo>
                        <a:pt x="43" y="31"/>
                      </a:lnTo>
                      <a:lnTo>
                        <a:pt x="54" y="21"/>
                      </a:lnTo>
                      <a:lnTo>
                        <a:pt x="72" y="17"/>
                      </a:lnTo>
                      <a:lnTo>
                        <a:pt x="85" y="15"/>
                      </a:lnTo>
                      <a:lnTo>
                        <a:pt x="101" y="12"/>
                      </a:lnTo>
                      <a:lnTo>
                        <a:pt x="118" y="12"/>
                      </a:lnTo>
                      <a:lnTo>
                        <a:pt x="139" y="12"/>
                      </a:lnTo>
                      <a:lnTo>
                        <a:pt x="157" y="8"/>
                      </a:lnTo>
                      <a:lnTo>
                        <a:pt x="172" y="7"/>
                      </a:lnTo>
                      <a:lnTo>
                        <a:pt x="197" y="8"/>
                      </a:lnTo>
                      <a:lnTo>
                        <a:pt x="213" y="3"/>
                      </a:lnTo>
                      <a:lnTo>
                        <a:pt x="230" y="0"/>
                      </a:lnTo>
                      <a:lnTo>
                        <a:pt x="244" y="0"/>
                      </a:lnTo>
                      <a:lnTo>
                        <a:pt x="261" y="5"/>
                      </a:lnTo>
                      <a:lnTo>
                        <a:pt x="276" y="12"/>
                      </a:lnTo>
                      <a:lnTo>
                        <a:pt x="296" y="17"/>
                      </a:lnTo>
                      <a:lnTo>
                        <a:pt x="326" y="21"/>
                      </a:lnTo>
                      <a:lnTo>
                        <a:pt x="340" y="16"/>
                      </a:lnTo>
                      <a:lnTo>
                        <a:pt x="359" y="17"/>
                      </a:lnTo>
                      <a:lnTo>
                        <a:pt x="373" y="21"/>
                      </a:lnTo>
                      <a:lnTo>
                        <a:pt x="393" y="31"/>
                      </a:lnTo>
                      <a:lnTo>
                        <a:pt x="409" y="43"/>
                      </a:lnTo>
                      <a:lnTo>
                        <a:pt x="435" y="50"/>
                      </a:lnTo>
                      <a:lnTo>
                        <a:pt x="473" y="47"/>
                      </a:lnTo>
                      <a:lnTo>
                        <a:pt x="492" y="55"/>
                      </a:lnTo>
                      <a:lnTo>
                        <a:pt x="508" y="60"/>
                      </a:lnTo>
                      <a:lnTo>
                        <a:pt x="531" y="62"/>
                      </a:lnTo>
                      <a:lnTo>
                        <a:pt x="624" y="75"/>
                      </a:lnTo>
                      <a:lnTo>
                        <a:pt x="523" y="70"/>
                      </a:lnTo>
                      <a:lnTo>
                        <a:pt x="504" y="74"/>
                      </a:lnTo>
                      <a:lnTo>
                        <a:pt x="488" y="79"/>
                      </a:lnTo>
                      <a:lnTo>
                        <a:pt x="475" y="78"/>
                      </a:lnTo>
                      <a:lnTo>
                        <a:pt x="461" y="75"/>
                      </a:lnTo>
                      <a:lnTo>
                        <a:pt x="442" y="68"/>
                      </a:lnTo>
                      <a:lnTo>
                        <a:pt x="415" y="66"/>
                      </a:lnTo>
                      <a:lnTo>
                        <a:pt x="389" y="58"/>
                      </a:lnTo>
                      <a:lnTo>
                        <a:pt x="373" y="60"/>
                      </a:lnTo>
                      <a:lnTo>
                        <a:pt x="354" y="62"/>
                      </a:lnTo>
                      <a:lnTo>
                        <a:pt x="312" y="55"/>
                      </a:lnTo>
                      <a:lnTo>
                        <a:pt x="292" y="52"/>
                      </a:lnTo>
                      <a:lnTo>
                        <a:pt x="265" y="43"/>
                      </a:lnTo>
                      <a:lnTo>
                        <a:pt x="238" y="43"/>
                      </a:lnTo>
                      <a:lnTo>
                        <a:pt x="205" y="43"/>
                      </a:lnTo>
                      <a:lnTo>
                        <a:pt x="182" y="44"/>
                      </a:lnTo>
                      <a:lnTo>
                        <a:pt x="161" y="42"/>
                      </a:lnTo>
                      <a:lnTo>
                        <a:pt x="139" y="35"/>
                      </a:lnTo>
                      <a:lnTo>
                        <a:pt x="118" y="40"/>
                      </a:lnTo>
                      <a:lnTo>
                        <a:pt x="99" y="32"/>
                      </a:lnTo>
                      <a:lnTo>
                        <a:pt x="82" y="35"/>
                      </a:lnTo>
                      <a:lnTo>
                        <a:pt x="59" y="36"/>
                      </a:lnTo>
                      <a:lnTo>
                        <a:pt x="35" y="37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726280" y="3762360"/>
                  <a:ext cx="3450960" cy="343800"/>
                </a:xfrm>
                <a:custGeom>
                  <a:avLst/>
                  <a:gdLst/>
                  <a:ahLst/>
                  <a:rect l="l" t="t" r="r" b="b"/>
                  <a:pathLst>
                    <a:path w="2632" h="274">
                      <a:moveTo>
                        <a:pt x="492" y="0"/>
                      </a:moveTo>
                      <a:lnTo>
                        <a:pt x="472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5"/>
                      </a:lnTo>
                      <a:lnTo>
                        <a:pt x="428" y="36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6"/>
                      </a:lnTo>
                      <a:lnTo>
                        <a:pt x="365" y="52"/>
                      </a:lnTo>
                      <a:lnTo>
                        <a:pt x="347" y="52"/>
                      </a:lnTo>
                      <a:lnTo>
                        <a:pt x="325" y="64"/>
                      </a:lnTo>
                      <a:lnTo>
                        <a:pt x="299" y="53"/>
                      </a:lnTo>
                      <a:lnTo>
                        <a:pt x="314" y="77"/>
                      </a:lnTo>
                      <a:lnTo>
                        <a:pt x="289" y="77"/>
                      </a:lnTo>
                      <a:lnTo>
                        <a:pt x="258" y="78"/>
                      </a:lnTo>
                      <a:lnTo>
                        <a:pt x="234" y="71"/>
                      </a:lnTo>
                      <a:lnTo>
                        <a:pt x="207" y="86"/>
                      </a:lnTo>
                      <a:lnTo>
                        <a:pt x="182" y="77"/>
                      </a:lnTo>
                      <a:lnTo>
                        <a:pt x="175" y="78"/>
                      </a:lnTo>
                      <a:lnTo>
                        <a:pt x="169" y="84"/>
                      </a:lnTo>
                      <a:lnTo>
                        <a:pt x="160" y="90"/>
                      </a:lnTo>
                      <a:lnTo>
                        <a:pt x="155" y="99"/>
                      </a:lnTo>
                      <a:lnTo>
                        <a:pt x="145" y="106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7"/>
                      </a:lnTo>
                      <a:lnTo>
                        <a:pt x="84" y="125"/>
                      </a:lnTo>
                      <a:lnTo>
                        <a:pt x="73" y="125"/>
                      </a:lnTo>
                      <a:lnTo>
                        <a:pt x="56" y="126"/>
                      </a:lnTo>
                      <a:lnTo>
                        <a:pt x="36" y="126"/>
                      </a:lnTo>
                      <a:lnTo>
                        <a:pt x="16" y="134"/>
                      </a:lnTo>
                      <a:lnTo>
                        <a:pt x="0" y="153"/>
                      </a:lnTo>
                      <a:lnTo>
                        <a:pt x="14" y="152"/>
                      </a:lnTo>
                      <a:lnTo>
                        <a:pt x="36" y="145"/>
                      </a:lnTo>
                      <a:lnTo>
                        <a:pt x="58" y="144"/>
                      </a:lnTo>
                      <a:lnTo>
                        <a:pt x="74" y="145"/>
                      </a:lnTo>
                      <a:lnTo>
                        <a:pt x="89" y="153"/>
                      </a:lnTo>
                      <a:lnTo>
                        <a:pt x="106" y="156"/>
                      </a:lnTo>
                      <a:lnTo>
                        <a:pt x="122" y="152"/>
                      </a:lnTo>
                      <a:lnTo>
                        <a:pt x="140" y="145"/>
                      </a:lnTo>
                      <a:lnTo>
                        <a:pt x="156" y="140"/>
                      </a:lnTo>
                      <a:lnTo>
                        <a:pt x="171" y="140"/>
                      </a:lnTo>
                      <a:lnTo>
                        <a:pt x="182" y="152"/>
                      </a:lnTo>
                      <a:lnTo>
                        <a:pt x="192" y="160"/>
                      </a:lnTo>
                      <a:lnTo>
                        <a:pt x="210" y="160"/>
                      </a:lnTo>
                      <a:lnTo>
                        <a:pt x="226" y="157"/>
                      </a:lnTo>
                      <a:lnTo>
                        <a:pt x="245" y="152"/>
                      </a:lnTo>
                      <a:lnTo>
                        <a:pt x="262" y="147"/>
                      </a:lnTo>
                      <a:lnTo>
                        <a:pt x="278" y="156"/>
                      </a:lnTo>
                      <a:lnTo>
                        <a:pt x="295" y="165"/>
                      </a:lnTo>
                      <a:lnTo>
                        <a:pt x="311" y="169"/>
                      </a:lnTo>
                      <a:lnTo>
                        <a:pt x="328" y="173"/>
                      </a:lnTo>
                      <a:lnTo>
                        <a:pt x="350" y="175"/>
                      </a:lnTo>
                      <a:lnTo>
                        <a:pt x="372" y="177"/>
                      </a:lnTo>
                      <a:lnTo>
                        <a:pt x="392" y="175"/>
                      </a:lnTo>
                      <a:lnTo>
                        <a:pt x="417" y="170"/>
                      </a:lnTo>
                      <a:lnTo>
                        <a:pt x="406" y="154"/>
                      </a:lnTo>
                      <a:lnTo>
                        <a:pt x="409" y="144"/>
                      </a:lnTo>
                      <a:lnTo>
                        <a:pt x="420" y="138"/>
                      </a:lnTo>
                      <a:lnTo>
                        <a:pt x="422" y="149"/>
                      </a:lnTo>
                      <a:lnTo>
                        <a:pt x="436" y="160"/>
                      </a:lnTo>
                      <a:lnTo>
                        <a:pt x="450" y="165"/>
                      </a:lnTo>
                      <a:lnTo>
                        <a:pt x="465" y="169"/>
                      </a:lnTo>
                      <a:lnTo>
                        <a:pt x="483" y="175"/>
                      </a:lnTo>
                      <a:lnTo>
                        <a:pt x="500" y="178"/>
                      </a:lnTo>
                      <a:lnTo>
                        <a:pt x="526" y="182"/>
                      </a:lnTo>
                      <a:lnTo>
                        <a:pt x="543" y="179"/>
                      </a:lnTo>
                      <a:lnTo>
                        <a:pt x="563" y="182"/>
                      </a:lnTo>
                      <a:lnTo>
                        <a:pt x="596" y="188"/>
                      </a:lnTo>
                      <a:lnTo>
                        <a:pt x="585" y="196"/>
                      </a:lnTo>
                      <a:lnTo>
                        <a:pt x="570" y="205"/>
                      </a:lnTo>
                      <a:lnTo>
                        <a:pt x="542" y="221"/>
                      </a:lnTo>
                      <a:lnTo>
                        <a:pt x="559" y="222"/>
                      </a:lnTo>
                      <a:lnTo>
                        <a:pt x="576" y="224"/>
                      </a:lnTo>
                      <a:lnTo>
                        <a:pt x="599" y="228"/>
                      </a:lnTo>
                      <a:lnTo>
                        <a:pt x="624" y="231"/>
                      </a:lnTo>
                      <a:lnTo>
                        <a:pt x="638" y="230"/>
                      </a:lnTo>
                      <a:lnTo>
                        <a:pt x="648" y="222"/>
                      </a:lnTo>
                      <a:lnTo>
                        <a:pt x="664" y="217"/>
                      </a:lnTo>
                      <a:lnTo>
                        <a:pt x="684" y="216"/>
                      </a:lnTo>
                      <a:lnTo>
                        <a:pt x="712" y="215"/>
                      </a:lnTo>
                      <a:lnTo>
                        <a:pt x="731" y="205"/>
                      </a:lnTo>
                      <a:lnTo>
                        <a:pt x="757" y="197"/>
                      </a:lnTo>
                      <a:lnTo>
                        <a:pt x="779" y="192"/>
                      </a:lnTo>
                      <a:lnTo>
                        <a:pt x="794" y="193"/>
                      </a:lnTo>
                      <a:lnTo>
                        <a:pt x="847" y="195"/>
                      </a:lnTo>
                      <a:lnTo>
                        <a:pt x="888" y="199"/>
                      </a:lnTo>
                      <a:lnTo>
                        <a:pt x="916" y="199"/>
                      </a:lnTo>
                      <a:lnTo>
                        <a:pt x="938" y="202"/>
                      </a:lnTo>
                      <a:lnTo>
                        <a:pt x="975" y="220"/>
                      </a:lnTo>
                      <a:lnTo>
                        <a:pt x="993" y="220"/>
                      </a:lnTo>
                      <a:lnTo>
                        <a:pt x="1013" y="215"/>
                      </a:lnTo>
                      <a:lnTo>
                        <a:pt x="1035" y="208"/>
                      </a:lnTo>
                      <a:lnTo>
                        <a:pt x="1053" y="205"/>
                      </a:lnTo>
                      <a:lnTo>
                        <a:pt x="1116" y="199"/>
                      </a:lnTo>
                      <a:lnTo>
                        <a:pt x="1159" y="197"/>
                      </a:lnTo>
                      <a:lnTo>
                        <a:pt x="1186" y="195"/>
                      </a:lnTo>
                      <a:lnTo>
                        <a:pt x="1208" y="193"/>
                      </a:lnTo>
                      <a:lnTo>
                        <a:pt x="1230" y="191"/>
                      </a:lnTo>
                      <a:lnTo>
                        <a:pt x="1256" y="186"/>
                      </a:lnTo>
                      <a:lnTo>
                        <a:pt x="1274" y="182"/>
                      </a:lnTo>
                      <a:lnTo>
                        <a:pt x="1300" y="174"/>
                      </a:lnTo>
                      <a:lnTo>
                        <a:pt x="1315" y="183"/>
                      </a:lnTo>
                      <a:lnTo>
                        <a:pt x="1323" y="193"/>
                      </a:lnTo>
                      <a:lnTo>
                        <a:pt x="1313" y="204"/>
                      </a:lnTo>
                      <a:lnTo>
                        <a:pt x="1294" y="211"/>
                      </a:lnTo>
                      <a:lnTo>
                        <a:pt x="1318" y="211"/>
                      </a:lnTo>
                      <a:lnTo>
                        <a:pt x="1305" y="220"/>
                      </a:lnTo>
                      <a:lnTo>
                        <a:pt x="1287" y="228"/>
                      </a:lnTo>
                      <a:lnTo>
                        <a:pt x="1263" y="240"/>
                      </a:lnTo>
                      <a:lnTo>
                        <a:pt x="1239" y="247"/>
                      </a:lnTo>
                      <a:lnTo>
                        <a:pt x="1268" y="244"/>
                      </a:lnTo>
                      <a:lnTo>
                        <a:pt x="1293" y="240"/>
                      </a:lnTo>
                      <a:lnTo>
                        <a:pt x="1318" y="233"/>
                      </a:lnTo>
                      <a:lnTo>
                        <a:pt x="1334" y="226"/>
                      </a:lnTo>
                      <a:lnTo>
                        <a:pt x="1342" y="224"/>
                      </a:lnTo>
                      <a:lnTo>
                        <a:pt x="1356" y="222"/>
                      </a:lnTo>
                      <a:lnTo>
                        <a:pt x="1372" y="222"/>
                      </a:lnTo>
                      <a:lnTo>
                        <a:pt x="1393" y="224"/>
                      </a:lnTo>
                      <a:lnTo>
                        <a:pt x="1411" y="228"/>
                      </a:lnTo>
                      <a:lnTo>
                        <a:pt x="1427" y="230"/>
                      </a:lnTo>
                      <a:lnTo>
                        <a:pt x="1449" y="228"/>
                      </a:lnTo>
                      <a:lnTo>
                        <a:pt x="1433" y="244"/>
                      </a:lnTo>
                      <a:lnTo>
                        <a:pt x="1415" y="255"/>
                      </a:lnTo>
                      <a:lnTo>
                        <a:pt x="1394" y="263"/>
                      </a:lnTo>
                      <a:lnTo>
                        <a:pt x="1418" y="260"/>
                      </a:lnTo>
                      <a:lnTo>
                        <a:pt x="1440" y="256"/>
                      </a:lnTo>
                      <a:lnTo>
                        <a:pt x="1463" y="254"/>
                      </a:lnTo>
                      <a:lnTo>
                        <a:pt x="1482" y="248"/>
                      </a:lnTo>
                      <a:lnTo>
                        <a:pt x="1507" y="246"/>
                      </a:lnTo>
                      <a:lnTo>
                        <a:pt x="1536" y="243"/>
                      </a:lnTo>
                      <a:lnTo>
                        <a:pt x="1562" y="243"/>
                      </a:lnTo>
                      <a:lnTo>
                        <a:pt x="1582" y="237"/>
                      </a:lnTo>
                      <a:lnTo>
                        <a:pt x="1588" y="233"/>
                      </a:lnTo>
                      <a:lnTo>
                        <a:pt x="1595" y="228"/>
                      </a:lnTo>
                      <a:lnTo>
                        <a:pt x="1610" y="228"/>
                      </a:lnTo>
                      <a:lnTo>
                        <a:pt x="1636" y="234"/>
                      </a:lnTo>
                      <a:lnTo>
                        <a:pt x="1667" y="237"/>
                      </a:lnTo>
                      <a:lnTo>
                        <a:pt x="1697" y="243"/>
                      </a:lnTo>
                      <a:lnTo>
                        <a:pt x="1714" y="246"/>
                      </a:lnTo>
                      <a:lnTo>
                        <a:pt x="1743" y="246"/>
                      </a:lnTo>
                      <a:lnTo>
                        <a:pt x="1775" y="247"/>
                      </a:lnTo>
                      <a:lnTo>
                        <a:pt x="1800" y="252"/>
                      </a:lnTo>
                      <a:lnTo>
                        <a:pt x="1830" y="260"/>
                      </a:lnTo>
                      <a:lnTo>
                        <a:pt x="1856" y="264"/>
                      </a:lnTo>
                      <a:lnTo>
                        <a:pt x="1878" y="267"/>
                      </a:lnTo>
                      <a:lnTo>
                        <a:pt x="1900" y="264"/>
                      </a:lnTo>
                      <a:lnTo>
                        <a:pt x="1935" y="255"/>
                      </a:lnTo>
                      <a:lnTo>
                        <a:pt x="1963" y="260"/>
                      </a:lnTo>
                      <a:lnTo>
                        <a:pt x="1989" y="260"/>
                      </a:lnTo>
                      <a:lnTo>
                        <a:pt x="2017" y="260"/>
                      </a:lnTo>
                      <a:lnTo>
                        <a:pt x="2044" y="259"/>
                      </a:lnTo>
                      <a:lnTo>
                        <a:pt x="2081" y="251"/>
                      </a:lnTo>
                      <a:lnTo>
                        <a:pt x="2099" y="251"/>
                      </a:lnTo>
                      <a:lnTo>
                        <a:pt x="2120" y="248"/>
                      </a:lnTo>
                      <a:lnTo>
                        <a:pt x="2158" y="254"/>
                      </a:lnTo>
                      <a:lnTo>
                        <a:pt x="2177" y="256"/>
                      </a:lnTo>
                      <a:lnTo>
                        <a:pt x="2194" y="255"/>
                      </a:lnTo>
                      <a:lnTo>
                        <a:pt x="2216" y="252"/>
                      </a:lnTo>
                      <a:lnTo>
                        <a:pt x="2238" y="251"/>
                      </a:lnTo>
                      <a:lnTo>
                        <a:pt x="2254" y="251"/>
                      </a:lnTo>
                      <a:lnTo>
                        <a:pt x="2261" y="254"/>
                      </a:lnTo>
                      <a:lnTo>
                        <a:pt x="2261" y="264"/>
                      </a:lnTo>
                      <a:lnTo>
                        <a:pt x="2269" y="267"/>
                      </a:lnTo>
                      <a:lnTo>
                        <a:pt x="2283" y="267"/>
                      </a:lnTo>
                      <a:lnTo>
                        <a:pt x="2296" y="264"/>
                      </a:lnTo>
                      <a:lnTo>
                        <a:pt x="2309" y="255"/>
                      </a:lnTo>
                      <a:lnTo>
                        <a:pt x="2317" y="246"/>
                      </a:lnTo>
                      <a:lnTo>
                        <a:pt x="2325" y="242"/>
                      </a:lnTo>
                      <a:lnTo>
                        <a:pt x="2347" y="242"/>
                      </a:lnTo>
                      <a:lnTo>
                        <a:pt x="2364" y="242"/>
                      </a:lnTo>
                      <a:lnTo>
                        <a:pt x="2384" y="251"/>
                      </a:lnTo>
                      <a:lnTo>
                        <a:pt x="2401" y="256"/>
                      </a:lnTo>
                      <a:lnTo>
                        <a:pt x="2420" y="264"/>
                      </a:lnTo>
                      <a:lnTo>
                        <a:pt x="2432" y="265"/>
                      </a:lnTo>
                      <a:lnTo>
                        <a:pt x="2445" y="267"/>
                      </a:lnTo>
                      <a:lnTo>
                        <a:pt x="2458" y="267"/>
                      </a:lnTo>
                      <a:lnTo>
                        <a:pt x="2480" y="264"/>
                      </a:lnTo>
                      <a:lnTo>
                        <a:pt x="2554" y="273"/>
                      </a:lnTo>
                      <a:lnTo>
                        <a:pt x="2532" y="264"/>
                      </a:lnTo>
                      <a:lnTo>
                        <a:pt x="2519" y="260"/>
                      </a:lnTo>
                      <a:lnTo>
                        <a:pt x="2513" y="251"/>
                      </a:lnTo>
                      <a:lnTo>
                        <a:pt x="2519" y="244"/>
                      </a:lnTo>
                      <a:lnTo>
                        <a:pt x="2545" y="238"/>
                      </a:lnTo>
                      <a:lnTo>
                        <a:pt x="2562" y="234"/>
                      </a:lnTo>
                      <a:lnTo>
                        <a:pt x="2584" y="228"/>
                      </a:lnTo>
                      <a:lnTo>
                        <a:pt x="2602" y="220"/>
                      </a:lnTo>
                      <a:lnTo>
                        <a:pt x="2631" y="208"/>
                      </a:lnTo>
                      <a:lnTo>
                        <a:pt x="2588" y="208"/>
                      </a:lnTo>
                      <a:lnTo>
                        <a:pt x="2561" y="207"/>
                      </a:lnTo>
                      <a:lnTo>
                        <a:pt x="2535" y="204"/>
                      </a:lnTo>
                      <a:lnTo>
                        <a:pt x="2513" y="202"/>
                      </a:lnTo>
                      <a:lnTo>
                        <a:pt x="2498" y="202"/>
                      </a:lnTo>
                      <a:lnTo>
                        <a:pt x="2486" y="204"/>
                      </a:lnTo>
                      <a:lnTo>
                        <a:pt x="2473" y="205"/>
                      </a:lnTo>
                      <a:lnTo>
                        <a:pt x="2457" y="211"/>
                      </a:lnTo>
                      <a:lnTo>
                        <a:pt x="2442" y="215"/>
                      </a:lnTo>
                      <a:lnTo>
                        <a:pt x="2464" y="221"/>
                      </a:lnTo>
                      <a:lnTo>
                        <a:pt x="2480" y="228"/>
                      </a:lnTo>
                      <a:lnTo>
                        <a:pt x="2491" y="237"/>
                      </a:lnTo>
                      <a:lnTo>
                        <a:pt x="2495" y="246"/>
                      </a:lnTo>
                      <a:lnTo>
                        <a:pt x="2491" y="255"/>
                      </a:lnTo>
                      <a:lnTo>
                        <a:pt x="2475" y="252"/>
                      </a:lnTo>
                      <a:lnTo>
                        <a:pt x="2462" y="248"/>
                      </a:lnTo>
                      <a:lnTo>
                        <a:pt x="2453" y="242"/>
                      </a:lnTo>
                      <a:lnTo>
                        <a:pt x="2436" y="234"/>
                      </a:lnTo>
                      <a:lnTo>
                        <a:pt x="2416" y="231"/>
                      </a:lnTo>
                      <a:lnTo>
                        <a:pt x="2398" y="228"/>
                      </a:lnTo>
                      <a:lnTo>
                        <a:pt x="2373" y="231"/>
                      </a:lnTo>
                      <a:lnTo>
                        <a:pt x="2357" y="230"/>
                      </a:lnTo>
                      <a:lnTo>
                        <a:pt x="2342" y="228"/>
                      </a:lnTo>
                      <a:lnTo>
                        <a:pt x="2325" y="224"/>
                      </a:lnTo>
                      <a:lnTo>
                        <a:pt x="2307" y="217"/>
                      </a:lnTo>
                      <a:lnTo>
                        <a:pt x="2292" y="211"/>
                      </a:lnTo>
                      <a:lnTo>
                        <a:pt x="2277" y="205"/>
                      </a:lnTo>
                      <a:lnTo>
                        <a:pt x="2264" y="205"/>
                      </a:lnTo>
                      <a:lnTo>
                        <a:pt x="2250" y="211"/>
                      </a:lnTo>
                      <a:lnTo>
                        <a:pt x="2233" y="215"/>
                      </a:lnTo>
                      <a:lnTo>
                        <a:pt x="2217" y="215"/>
                      </a:lnTo>
                      <a:lnTo>
                        <a:pt x="2195" y="215"/>
                      </a:lnTo>
                      <a:lnTo>
                        <a:pt x="2177" y="212"/>
                      </a:lnTo>
                      <a:lnTo>
                        <a:pt x="2159" y="208"/>
                      </a:lnTo>
                      <a:lnTo>
                        <a:pt x="2143" y="207"/>
                      </a:lnTo>
                      <a:lnTo>
                        <a:pt x="2129" y="208"/>
                      </a:lnTo>
                      <a:lnTo>
                        <a:pt x="2109" y="211"/>
                      </a:lnTo>
                      <a:lnTo>
                        <a:pt x="2092" y="213"/>
                      </a:lnTo>
                      <a:lnTo>
                        <a:pt x="2072" y="211"/>
                      </a:lnTo>
                      <a:lnTo>
                        <a:pt x="2048" y="208"/>
                      </a:lnTo>
                      <a:lnTo>
                        <a:pt x="2022" y="207"/>
                      </a:lnTo>
                      <a:lnTo>
                        <a:pt x="1996" y="205"/>
                      </a:lnTo>
                      <a:lnTo>
                        <a:pt x="1978" y="201"/>
                      </a:lnTo>
                      <a:lnTo>
                        <a:pt x="1961" y="195"/>
                      </a:lnTo>
                      <a:lnTo>
                        <a:pt x="1945" y="188"/>
                      </a:lnTo>
                      <a:lnTo>
                        <a:pt x="1932" y="186"/>
                      </a:lnTo>
                      <a:lnTo>
                        <a:pt x="1921" y="186"/>
                      </a:lnTo>
                      <a:lnTo>
                        <a:pt x="1907" y="187"/>
                      </a:lnTo>
                      <a:lnTo>
                        <a:pt x="1873" y="192"/>
                      </a:lnTo>
                      <a:lnTo>
                        <a:pt x="1911" y="195"/>
                      </a:lnTo>
                      <a:lnTo>
                        <a:pt x="1902" y="205"/>
                      </a:lnTo>
                      <a:lnTo>
                        <a:pt x="1888" y="216"/>
                      </a:lnTo>
                      <a:lnTo>
                        <a:pt x="1874" y="217"/>
                      </a:lnTo>
                      <a:lnTo>
                        <a:pt x="1692" y="193"/>
                      </a:lnTo>
                      <a:lnTo>
                        <a:pt x="1681" y="188"/>
                      </a:lnTo>
                      <a:lnTo>
                        <a:pt x="1714" y="178"/>
                      </a:lnTo>
                      <a:lnTo>
                        <a:pt x="1690" y="174"/>
                      </a:lnTo>
                      <a:lnTo>
                        <a:pt x="1675" y="173"/>
                      </a:lnTo>
                      <a:lnTo>
                        <a:pt x="1664" y="165"/>
                      </a:lnTo>
                      <a:lnTo>
                        <a:pt x="1649" y="160"/>
                      </a:lnTo>
                      <a:lnTo>
                        <a:pt x="1632" y="164"/>
                      </a:lnTo>
                      <a:lnTo>
                        <a:pt x="1614" y="166"/>
                      </a:lnTo>
                      <a:lnTo>
                        <a:pt x="1597" y="173"/>
                      </a:lnTo>
                      <a:lnTo>
                        <a:pt x="1582" y="165"/>
                      </a:lnTo>
                      <a:lnTo>
                        <a:pt x="1566" y="153"/>
                      </a:lnTo>
                      <a:lnTo>
                        <a:pt x="1549" y="144"/>
                      </a:lnTo>
                      <a:lnTo>
                        <a:pt x="1533" y="138"/>
                      </a:lnTo>
                      <a:lnTo>
                        <a:pt x="1515" y="134"/>
                      </a:lnTo>
                      <a:lnTo>
                        <a:pt x="1497" y="131"/>
                      </a:lnTo>
                      <a:lnTo>
                        <a:pt x="1468" y="134"/>
                      </a:lnTo>
                      <a:lnTo>
                        <a:pt x="1445" y="136"/>
                      </a:lnTo>
                      <a:lnTo>
                        <a:pt x="1422" y="139"/>
                      </a:lnTo>
                      <a:lnTo>
                        <a:pt x="1394" y="143"/>
                      </a:lnTo>
                      <a:lnTo>
                        <a:pt x="1367" y="147"/>
                      </a:lnTo>
                      <a:lnTo>
                        <a:pt x="1345" y="149"/>
                      </a:lnTo>
                      <a:lnTo>
                        <a:pt x="1326" y="157"/>
                      </a:lnTo>
                      <a:lnTo>
                        <a:pt x="1305" y="162"/>
                      </a:lnTo>
                      <a:lnTo>
                        <a:pt x="1286" y="162"/>
                      </a:lnTo>
                      <a:lnTo>
                        <a:pt x="1267" y="166"/>
                      </a:lnTo>
                      <a:lnTo>
                        <a:pt x="1246" y="170"/>
                      </a:lnTo>
                      <a:lnTo>
                        <a:pt x="1224" y="175"/>
                      </a:lnTo>
                      <a:lnTo>
                        <a:pt x="1202" y="175"/>
                      </a:lnTo>
                      <a:lnTo>
                        <a:pt x="1180" y="175"/>
                      </a:lnTo>
                      <a:lnTo>
                        <a:pt x="1164" y="174"/>
                      </a:lnTo>
                      <a:lnTo>
                        <a:pt x="1149" y="178"/>
                      </a:lnTo>
                      <a:lnTo>
                        <a:pt x="1128" y="184"/>
                      </a:lnTo>
                      <a:lnTo>
                        <a:pt x="1106" y="184"/>
                      </a:lnTo>
                      <a:lnTo>
                        <a:pt x="1080" y="184"/>
                      </a:lnTo>
                      <a:lnTo>
                        <a:pt x="1058" y="184"/>
                      </a:lnTo>
                      <a:lnTo>
                        <a:pt x="1031" y="184"/>
                      </a:lnTo>
                      <a:lnTo>
                        <a:pt x="980" y="192"/>
                      </a:lnTo>
                      <a:lnTo>
                        <a:pt x="969" y="187"/>
                      </a:lnTo>
                      <a:lnTo>
                        <a:pt x="958" y="179"/>
                      </a:lnTo>
                      <a:lnTo>
                        <a:pt x="943" y="175"/>
                      </a:lnTo>
                      <a:lnTo>
                        <a:pt x="930" y="174"/>
                      </a:lnTo>
                      <a:lnTo>
                        <a:pt x="910" y="175"/>
                      </a:lnTo>
                      <a:lnTo>
                        <a:pt x="888" y="179"/>
                      </a:lnTo>
                      <a:lnTo>
                        <a:pt x="853" y="183"/>
                      </a:lnTo>
                      <a:lnTo>
                        <a:pt x="838" y="177"/>
                      </a:lnTo>
                      <a:lnTo>
                        <a:pt x="827" y="170"/>
                      </a:lnTo>
                      <a:lnTo>
                        <a:pt x="814" y="168"/>
                      </a:lnTo>
                      <a:lnTo>
                        <a:pt x="798" y="166"/>
                      </a:lnTo>
                      <a:lnTo>
                        <a:pt x="784" y="162"/>
                      </a:lnTo>
                      <a:lnTo>
                        <a:pt x="779" y="153"/>
                      </a:lnTo>
                      <a:lnTo>
                        <a:pt x="768" y="139"/>
                      </a:lnTo>
                      <a:lnTo>
                        <a:pt x="755" y="135"/>
                      </a:lnTo>
                      <a:lnTo>
                        <a:pt x="739" y="131"/>
                      </a:lnTo>
                      <a:lnTo>
                        <a:pt x="724" y="131"/>
                      </a:lnTo>
                      <a:lnTo>
                        <a:pt x="717" y="138"/>
                      </a:lnTo>
                      <a:lnTo>
                        <a:pt x="707" y="153"/>
                      </a:lnTo>
                      <a:lnTo>
                        <a:pt x="696" y="149"/>
                      </a:lnTo>
                      <a:lnTo>
                        <a:pt x="684" y="148"/>
                      </a:lnTo>
                      <a:lnTo>
                        <a:pt x="669" y="149"/>
                      </a:lnTo>
                      <a:lnTo>
                        <a:pt x="655" y="156"/>
                      </a:lnTo>
                      <a:lnTo>
                        <a:pt x="638" y="160"/>
                      </a:lnTo>
                      <a:lnTo>
                        <a:pt x="616" y="160"/>
                      </a:lnTo>
                      <a:lnTo>
                        <a:pt x="632" y="147"/>
                      </a:lnTo>
                      <a:lnTo>
                        <a:pt x="639" y="138"/>
                      </a:lnTo>
                      <a:lnTo>
                        <a:pt x="624" y="140"/>
                      </a:lnTo>
                      <a:lnTo>
                        <a:pt x="595" y="147"/>
                      </a:lnTo>
                      <a:lnTo>
                        <a:pt x="570" y="145"/>
                      </a:lnTo>
                      <a:lnTo>
                        <a:pt x="569" y="138"/>
                      </a:lnTo>
                      <a:lnTo>
                        <a:pt x="565" y="130"/>
                      </a:lnTo>
                      <a:lnTo>
                        <a:pt x="559" y="125"/>
                      </a:lnTo>
                      <a:lnTo>
                        <a:pt x="546" y="120"/>
                      </a:lnTo>
                      <a:lnTo>
                        <a:pt x="531" y="120"/>
                      </a:lnTo>
                      <a:lnTo>
                        <a:pt x="511" y="121"/>
                      </a:lnTo>
                      <a:lnTo>
                        <a:pt x="494" y="125"/>
                      </a:lnTo>
                      <a:lnTo>
                        <a:pt x="476" y="120"/>
                      </a:lnTo>
                      <a:lnTo>
                        <a:pt x="455" y="113"/>
                      </a:lnTo>
                      <a:lnTo>
                        <a:pt x="441" y="104"/>
                      </a:lnTo>
                      <a:lnTo>
                        <a:pt x="457" y="86"/>
                      </a:lnTo>
                      <a:lnTo>
                        <a:pt x="472" y="79"/>
                      </a:lnTo>
                      <a:lnTo>
                        <a:pt x="488" y="71"/>
                      </a:lnTo>
                      <a:lnTo>
                        <a:pt x="499" y="67"/>
                      </a:lnTo>
                      <a:lnTo>
                        <a:pt x="509" y="58"/>
                      </a:lnTo>
                      <a:lnTo>
                        <a:pt x="514" y="49"/>
                      </a:lnTo>
                      <a:lnTo>
                        <a:pt x="517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95160" y="3791520"/>
                  <a:ext cx="820440" cy="100080"/>
                </a:xfrm>
                <a:custGeom>
                  <a:avLst/>
                  <a:gdLst/>
                  <a:ahLst/>
                  <a:rect l="l" t="t" r="r" b="b"/>
                  <a:pathLst>
                    <a:path w="626" h="80">
                      <a:moveTo>
                        <a:pt x="0" y="40"/>
                      </a:moveTo>
                      <a:lnTo>
                        <a:pt x="43" y="31"/>
                      </a:lnTo>
                      <a:lnTo>
                        <a:pt x="54" y="21"/>
                      </a:lnTo>
                      <a:lnTo>
                        <a:pt x="72" y="17"/>
                      </a:lnTo>
                      <a:lnTo>
                        <a:pt x="85" y="15"/>
                      </a:lnTo>
                      <a:lnTo>
                        <a:pt x="101" y="12"/>
                      </a:lnTo>
                      <a:lnTo>
                        <a:pt x="118" y="12"/>
                      </a:lnTo>
                      <a:lnTo>
                        <a:pt x="139" y="12"/>
                      </a:lnTo>
                      <a:lnTo>
                        <a:pt x="157" y="8"/>
                      </a:lnTo>
                      <a:lnTo>
                        <a:pt x="172" y="7"/>
                      </a:lnTo>
                      <a:lnTo>
                        <a:pt x="198" y="8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5"/>
                      </a:lnTo>
                      <a:lnTo>
                        <a:pt x="276" y="12"/>
                      </a:lnTo>
                      <a:lnTo>
                        <a:pt x="296" y="17"/>
                      </a:lnTo>
                      <a:lnTo>
                        <a:pt x="326" y="21"/>
                      </a:lnTo>
                      <a:lnTo>
                        <a:pt x="341" y="16"/>
                      </a:lnTo>
                      <a:lnTo>
                        <a:pt x="360" y="17"/>
                      </a:lnTo>
                      <a:lnTo>
                        <a:pt x="373" y="21"/>
                      </a:lnTo>
                      <a:lnTo>
                        <a:pt x="394" y="31"/>
                      </a:lnTo>
                      <a:lnTo>
                        <a:pt x="410" y="43"/>
                      </a:lnTo>
                      <a:lnTo>
                        <a:pt x="436" y="50"/>
                      </a:lnTo>
                      <a:lnTo>
                        <a:pt x="473" y="47"/>
                      </a:lnTo>
                      <a:lnTo>
                        <a:pt x="492" y="55"/>
                      </a:lnTo>
                      <a:lnTo>
                        <a:pt x="509" y="60"/>
                      </a:lnTo>
                      <a:lnTo>
                        <a:pt x="532" y="62"/>
                      </a:lnTo>
                      <a:lnTo>
                        <a:pt x="625" y="75"/>
                      </a:lnTo>
                      <a:lnTo>
                        <a:pt x="524" y="70"/>
                      </a:lnTo>
                      <a:lnTo>
                        <a:pt x="505" y="74"/>
                      </a:lnTo>
                      <a:lnTo>
                        <a:pt x="488" y="79"/>
                      </a:lnTo>
                      <a:lnTo>
                        <a:pt x="476" y="78"/>
                      </a:lnTo>
                      <a:lnTo>
                        <a:pt x="461" y="75"/>
                      </a:lnTo>
                      <a:lnTo>
                        <a:pt x="442" y="68"/>
                      </a:lnTo>
                      <a:lnTo>
                        <a:pt x="415" y="66"/>
                      </a:lnTo>
                      <a:lnTo>
                        <a:pt x="390" y="58"/>
                      </a:lnTo>
                      <a:lnTo>
                        <a:pt x="373" y="60"/>
                      </a:lnTo>
                      <a:lnTo>
                        <a:pt x="354" y="62"/>
                      </a:lnTo>
                      <a:lnTo>
                        <a:pt x="313" y="55"/>
                      </a:lnTo>
                      <a:lnTo>
                        <a:pt x="292" y="52"/>
                      </a:lnTo>
                      <a:lnTo>
                        <a:pt x="265" y="43"/>
                      </a:lnTo>
                      <a:lnTo>
                        <a:pt x="238" y="43"/>
                      </a:lnTo>
                      <a:lnTo>
                        <a:pt x="206" y="43"/>
                      </a:lnTo>
                      <a:lnTo>
                        <a:pt x="183" y="44"/>
                      </a:lnTo>
                      <a:lnTo>
                        <a:pt x="161" y="42"/>
                      </a:lnTo>
                      <a:lnTo>
                        <a:pt x="139" y="35"/>
                      </a:lnTo>
                      <a:lnTo>
                        <a:pt x="118" y="40"/>
                      </a:lnTo>
                      <a:lnTo>
                        <a:pt x="99" y="32"/>
                      </a:lnTo>
                      <a:lnTo>
                        <a:pt x="83" y="35"/>
                      </a:lnTo>
                      <a:lnTo>
                        <a:pt x="60" y="36"/>
                      </a:lnTo>
                      <a:lnTo>
                        <a:pt x="35" y="37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285080" y="3762360"/>
                  <a:ext cx="3449520" cy="343800"/>
                </a:xfrm>
                <a:custGeom>
                  <a:avLst/>
                  <a:gdLst/>
                  <a:ahLst/>
                  <a:rect l="l" t="t" r="r" b="b"/>
                  <a:pathLst>
                    <a:path w="2631" h="274">
                      <a:moveTo>
                        <a:pt x="492" y="0"/>
                      </a:moveTo>
                      <a:lnTo>
                        <a:pt x="471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5"/>
                      </a:lnTo>
                      <a:lnTo>
                        <a:pt x="428" y="36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6"/>
                      </a:lnTo>
                      <a:lnTo>
                        <a:pt x="365" y="52"/>
                      </a:lnTo>
                      <a:lnTo>
                        <a:pt x="347" y="52"/>
                      </a:lnTo>
                      <a:lnTo>
                        <a:pt x="325" y="64"/>
                      </a:lnTo>
                      <a:lnTo>
                        <a:pt x="299" y="53"/>
                      </a:lnTo>
                      <a:lnTo>
                        <a:pt x="314" y="77"/>
                      </a:lnTo>
                      <a:lnTo>
                        <a:pt x="289" y="77"/>
                      </a:lnTo>
                      <a:lnTo>
                        <a:pt x="258" y="78"/>
                      </a:lnTo>
                      <a:lnTo>
                        <a:pt x="234" y="71"/>
                      </a:lnTo>
                      <a:lnTo>
                        <a:pt x="207" y="86"/>
                      </a:lnTo>
                      <a:lnTo>
                        <a:pt x="182" y="77"/>
                      </a:lnTo>
                      <a:lnTo>
                        <a:pt x="175" y="78"/>
                      </a:lnTo>
                      <a:lnTo>
                        <a:pt x="169" y="84"/>
                      </a:lnTo>
                      <a:lnTo>
                        <a:pt x="160" y="90"/>
                      </a:lnTo>
                      <a:lnTo>
                        <a:pt x="155" y="99"/>
                      </a:lnTo>
                      <a:lnTo>
                        <a:pt x="145" y="106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7"/>
                      </a:lnTo>
                      <a:lnTo>
                        <a:pt x="84" y="125"/>
                      </a:lnTo>
                      <a:lnTo>
                        <a:pt x="73" y="125"/>
                      </a:lnTo>
                      <a:lnTo>
                        <a:pt x="56" y="126"/>
                      </a:lnTo>
                      <a:lnTo>
                        <a:pt x="36" y="126"/>
                      </a:lnTo>
                      <a:lnTo>
                        <a:pt x="16" y="134"/>
                      </a:lnTo>
                      <a:lnTo>
                        <a:pt x="0" y="153"/>
                      </a:lnTo>
                      <a:lnTo>
                        <a:pt x="14" y="152"/>
                      </a:lnTo>
                      <a:lnTo>
                        <a:pt x="36" y="145"/>
                      </a:lnTo>
                      <a:lnTo>
                        <a:pt x="58" y="144"/>
                      </a:lnTo>
                      <a:lnTo>
                        <a:pt x="74" y="145"/>
                      </a:lnTo>
                      <a:lnTo>
                        <a:pt x="89" y="153"/>
                      </a:lnTo>
                      <a:lnTo>
                        <a:pt x="106" y="156"/>
                      </a:lnTo>
                      <a:lnTo>
                        <a:pt x="122" y="152"/>
                      </a:lnTo>
                      <a:lnTo>
                        <a:pt x="140" y="145"/>
                      </a:lnTo>
                      <a:lnTo>
                        <a:pt x="156" y="140"/>
                      </a:lnTo>
                      <a:lnTo>
                        <a:pt x="171" y="140"/>
                      </a:lnTo>
                      <a:lnTo>
                        <a:pt x="182" y="152"/>
                      </a:lnTo>
                      <a:lnTo>
                        <a:pt x="192" y="160"/>
                      </a:lnTo>
                      <a:lnTo>
                        <a:pt x="210" y="160"/>
                      </a:lnTo>
                      <a:lnTo>
                        <a:pt x="226" y="157"/>
                      </a:lnTo>
                      <a:lnTo>
                        <a:pt x="245" y="152"/>
                      </a:lnTo>
                      <a:lnTo>
                        <a:pt x="262" y="147"/>
                      </a:lnTo>
                      <a:lnTo>
                        <a:pt x="278" y="156"/>
                      </a:lnTo>
                      <a:lnTo>
                        <a:pt x="295" y="165"/>
                      </a:lnTo>
                      <a:lnTo>
                        <a:pt x="311" y="169"/>
                      </a:lnTo>
                      <a:lnTo>
                        <a:pt x="328" y="173"/>
                      </a:lnTo>
                      <a:lnTo>
                        <a:pt x="349" y="175"/>
                      </a:lnTo>
                      <a:lnTo>
                        <a:pt x="371" y="177"/>
                      </a:lnTo>
                      <a:lnTo>
                        <a:pt x="392" y="175"/>
                      </a:lnTo>
                      <a:lnTo>
                        <a:pt x="417" y="170"/>
                      </a:lnTo>
                      <a:lnTo>
                        <a:pt x="406" y="154"/>
                      </a:lnTo>
                      <a:lnTo>
                        <a:pt x="408" y="144"/>
                      </a:lnTo>
                      <a:lnTo>
                        <a:pt x="419" y="138"/>
                      </a:lnTo>
                      <a:lnTo>
                        <a:pt x="422" y="149"/>
                      </a:lnTo>
                      <a:lnTo>
                        <a:pt x="436" y="160"/>
                      </a:lnTo>
                      <a:lnTo>
                        <a:pt x="450" y="165"/>
                      </a:lnTo>
                      <a:lnTo>
                        <a:pt x="465" y="169"/>
                      </a:lnTo>
                      <a:lnTo>
                        <a:pt x="482" y="175"/>
                      </a:lnTo>
                      <a:lnTo>
                        <a:pt x="500" y="178"/>
                      </a:lnTo>
                      <a:lnTo>
                        <a:pt x="526" y="182"/>
                      </a:lnTo>
                      <a:lnTo>
                        <a:pt x="543" y="179"/>
                      </a:lnTo>
                      <a:lnTo>
                        <a:pt x="563" y="182"/>
                      </a:lnTo>
                      <a:lnTo>
                        <a:pt x="596" y="188"/>
                      </a:lnTo>
                      <a:lnTo>
                        <a:pt x="585" y="196"/>
                      </a:lnTo>
                      <a:lnTo>
                        <a:pt x="570" y="205"/>
                      </a:lnTo>
                      <a:lnTo>
                        <a:pt x="541" y="221"/>
                      </a:lnTo>
                      <a:lnTo>
                        <a:pt x="559" y="222"/>
                      </a:lnTo>
                      <a:lnTo>
                        <a:pt x="576" y="224"/>
                      </a:lnTo>
                      <a:lnTo>
                        <a:pt x="599" y="228"/>
                      </a:lnTo>
                      <a:lnTo>
                        <a:pt x="624" y="231"/>
                      </a:lnTo>
                      <a:lnTo>
                        <a:pt x="637" y="230"/>
                      </a:lnTo>
                      <a:lnTo>
                        <a:pt x="648" y="222"/>
                      </a:lnTo>
                      <a:lnTo>
                        <a:pt x="663" y="217"/>
                      </a:lnTo>
                      <a:lnTo>
                        <a:pt x="684" y="216"/>
                      </a:lnTo>
                      <a:lnTo>
                        <a:pt x="711" y="215"/>
                      </a:lnTo>
                      <a:lnTo>
                        <a:pt x="730" y="205"/>
                      </a:lnTo>
                      <a:lnTo>
                        <a:pt x="757" y="197"/>
                      </a:lnTo>
                      <a:lnTo>
                        <a:pt x="778" y="192"/>
                      </a:lnTo>
                      <a:lnTo>
                        <a:pt x="794" y="193"/>
                      </a:lnTo>
                      <a:lnTo>
                        <a:pt x="847" y="195"/>
                      </a:lnTo>
                      <a:lnTo>
                        <a:pt x="888" y="199"/>
                      </a:lnTo>
                      <a:lnTo>
                        <a:pt x="915" y="199"/>
                      </a:lnTo>
                      <a:lnTo>
                        <a:pt x="937" y="202"/>
                      </a:lnTo>
                      <a:lnTo>
                        <a:pt x="974" y="220"/>
                      </a:lnTo>
                      <a:lnTo>
                        <a:pt x="992" y="220"/>
                      </a:lnTo>
                      <a:lnTo>
                        <a:pt x="1013" y="215"/>
                      </a:lnTo>
                      <a:lnTo>
                        <a:pt x="1035" y="208"/>
                      </a:lnTo>
                      <a:lnTo>
                        <a:pt x="1053" y="205"/>
                      </a:lnTo>
                      <a:lnTo>
                        <a:pt x="1116" y="199"/>
                      </a:lnTo>
                      <a:lnTo>
                        <a:pt x="1158" y="197"/>
                      </a:lnTo>
                      <a:lnTo>
                        <a:pt x="1185" y="195"/>
                      </a:lnTo>
                      <a:lnTo>
                        <a:pt x="1207" y="193"/>
                      </a:lnTo>
                      <a:lnTo>
                        <a:pt x="1229" y="191"/>
                      </a:lnTo>
                      <a:lnTo>
                        <a:pt x="1255" y="186"/>
                      </a:lnTo>
                      <a:lnTo>
                        <a:pt x="1273" y="182"/>
                      </a:lnTo>
                      <a:lnTo>
                        <a:pt x="1299" y="174"/>
                      </a:lnTo>
                      <a:lnTo>
                        <a:pt x="1314" y="183"/>
                      </a:lnTo>
                      <a:lnTo>
                        <a:pt x="1323" y="193"/>
                      </a:lnTo>
                      <a:lnTo>
                        <a:pt x="1313" y="204"/>
                      </a:lnTo>
                      <a:lnTo>
                        <a:pt x="1294" y="211"/>
                      </a:lnTo>
                      <a:lnTo>
                        <a:pt x="1317" y="211"/>
                      </a:lnTo>
                      <a:lnTo>
                        <a:pt x="1305" y="220"/>
                      </a:lnTo>
                      <a:lnTo>
                        <a:pt x="1287" y="228"/>
                      </a:lnTo>
                      <a:lnTo>
                        <a:pt x="1262" y="240"/>
                      </a:lnTo>
                      <a:lnTo>
                        <a:pt x="1239" y="247"/>
                      </a:lnTo>
                      <a:lnTo>
                        <a:pt x="1268" y="244"/>
                      </a:lnTo>
                      <a:lnTo>
                        <a:pt x="1292" y="240"/>
                      </a:lnTo>
                      <a:lnTo>
                        <a:pt x="1317" y="233"/>
                      </a:lnTo>
                      <a:lnTo>
                        <a:pt x="1334" y="226"/>
                      </a:lnTo>
                      <a:lnTo>
                        <a:pt x="1342" y="224"/>
                      </a:lnTo>
                      <a:lnTo>
                        <a:pt x="1355" y="222"/>
                      </a:lnTo>
                      <a:lnTo>
                        <a:pt x="1372" y="222"/>
                      </a:lnTo>
                      <a:lnTo>
                        <a:pt x="1392" y="224"/>
                      </a:lnTo>
                      <a:lnTo>
                        <a:pt x="1410" y="228"/>
                      </a:lnTo>
                      <a:lnTo>
                        <a:pt x="1427" y="230"/>
                      </a:lnTo>
                      <a:lnTo>
                        <a:pt x="1449" y="228"/>
                      </a:lnTo>
                      <a:lnTo>
                        <a:pt x="1432" y="244"/>
                      </a:lnTo>
                      <a:lnTo>
                        <a:pt x="1414" y="255"/>
                      </a:lnTo>
                      <a:lnTo>
                        <a:pt x="1394" y="263"/>
                      </a:lnTo>
                      <a:lnTo>
                        <a:pt x="1417" y="260"/>
                      </a:lnTo>
                      <a:lnTo>
                        <a:pt x="1439" y="256"/>
                      </a:lnTo>
                      <a:lnTo>
                        <a:pt x="1462" y="254"/>
                      </a:lnTo>
                      <a:lnTo>
                        <a:pt x="1482" y="248"/>
                      </a:lnTo>
                      <a:lnTo>
                        <a:pt x="1506" y="246"/>
                      </a:lnTo>
                      <a:lnTo>
                        <a:pt x="1535" y="243"/>
                      </a:lnTo>
                      <a:lnTo>
                        <a:pt x="1561" y="243"/>
                      </a:lnTo>
                      <a:lnTo>
                        <a:pt x="1582" y="237"/>
                      </a:lnTo>
                      <a:lnTo>
                        <a:pt x="1587" y="233"/>
                      </a:lnTo>
                      <a:lnTo>
                        <a:pt x="1594" y="228"/>
                      </a:lnTo>
                      <a:lnTo>
                        <a:pt x="1609" y="228"/>
                      </a:lnTo>
                      <a:lnTo>
                        <a:pt x="1635" y="234"/>
                      </a:lnTo>
                      <a:lnTo>
                        <a:pt x="1667" y="237"/>
                      </a:lnTo>
                      <a:lnTo>
                        <a:pt x="1697" y="243"/>
                      </a:lnTo>
                      <a:lnTo>
                        <a:pt x="1713" y="246"/>
                      </a:lnTo>
                      <a:lnTo>
                        <a:pt x="1742" y="246"/>
                      </a:lnTo>
                      <a:lnTo>
                        <a:pt x="1775" y="247"/>
                      </a:lnTo>
                      <a:lnTo>
                        <a:pt x="1799" y="252"/>
                      </a:lnTo>
                      <a:lnTo>
                        <a:pt x="1830" y="260"/>
                      </a:lnTo>
                      <a:lnTo>
                        <a:pt x="1856" y="264"/>
                      </a:lnTo>
                      <a:lnTo>
                        <a:pt x="1878" y="267"/>
                      </a:lnTo>
                      <a:lnTo>
                        <a:pt x="1900" y="264"/>
                      </a:lnTo>
                      <a:lnTo>
                        <a:pt x="1934" y="255"/>
                      </a:lnTo>
                      <a:lnTo>
                        <a:pt x="1963" y="260"/>
                      </a:lnTo>
                      <a:lnTo>
                        <a:pt x="1989" y="260"/>
                      </a:lnTo>
                      <a:lnTo>
                        <a:pt x="2016" y="260"/>
                      </a:lnTo>
                      <a:lnTo>
                        <a:pt x="2043" y="259"/>
                      </a:lnTo>
                      <a:lnTo>
                        <a:pt x="2080" y="251"/>
                      </a:lnTo>
                      <a:lnTo>
                        <a:pt x="2098" y="251"/>
                      </a:lnTo>
                      <a:lnTo>
                        <a:pt x="2119" y="248"/>
                      </a:lnTo>
                      <a:lnTo>
                        <a:pt x="2157" y="254"/>
                      </a:lnTo>
                      <a:lnTo>
                        <a:pt x="2176" y="256"/>
                      </a:lnTo>
                      <a:lnTo>
                        <a:pt x="2193" y="255"/>
                      </a:lnTo>
                      <a:lnTo>
                        <a:pt x="2215" y="252"/>
                      </a:lnTo>
                      <a:lnTo>
                        <a:pt x="2237" y="251"/>
                      </a:lnTo>
                      <a:lnTo>
                        <a:pt x="2253" y="251"/>
                      </a:lnTo>
                      <a:lnTo>
                        <a:pt x="2260" y="254"/>
                      </a:lnTo>
                      <a:lnTo>
                        <a:pt x="2260" y="264"/>
                      </a:lnTo>
                      <a:lnTo>
                        <a:pt x="2268" y="267"/>
                      </a:lnTo>
                      <a:lnTo>
                        <a:pt x="2282" y="267"/>
                      </a:lnTo>
                      <a:lnTo>
                        <a:pt x="2296" y="264"/>
                      </a:lnTo>
                      <a:lnTo>
                        <a:pt x="2308" y="255"/>
                      </a:lnTo>
                      <a:lnTo>
                        <a:pt x="2316" y="246"/>
                      </a:lnTo>
                      <a:lnTo>
                        <a:pt x="2324" y="242"/>
                      </a:lnTo>
                      <a:lnTo>
                        <a:pt x="2346" y="242"/>
                      </a:lnTo>
                      <a:lnTo>
                        <a:pt x="2363" y="242"/>
                      </a:lnTo>
                      <a:lnTo>
                        <a:pt x="2383" y="251"/>
                      </a:lnTo>
                      <a:lnTo>
                        <a:pt x="2400" y="256"/>
                      </a:lnTo>
                      <a:lnTo>
                        <a:pt x="2419" y="264"/>
                      </a:lnTo>
                      <a:lnTo>
                        <a:pt x="2431" y="265"/>
                      </a:lnTo>
                      <a:lnTo>
                        <a:pt x="2444" y="267"/>
                      </a:lnTo>
                      <a:lnTo>
                        <a:pt x="2457" y="267"/>
                      </a:lnTo>
                      <a:lnTo>
                        <a:pt x="2479" y="264"/>
                      </a:lnTo>
                      <a:lnTo>
                        <a:pt x="2553" y="273"/>
                      </a:lnTo>
                      <a:lnTo>
                        <a:pt x="2531" y="264"/>
                      </a:lnTo>
                      <a:lnTo>
                        <a:pt x="2518" y="260"/>
                      </a:lnTo>
                      <a:lnTo>
                        <a:pt x="2512" y="251"/>
                      </a:lnTo>
                      <a:lnTo>
                        <a:pt x="2518" y="244"/>
                      </a:lnTo>
                      <a:lnTo>
                        <a:pt x="2544" y="238"/>
                      </a:lnTo>
                      <a:lnTo>
                        <a:pt x="2561" y="234"/>
                      </a:lnTo>
                      <a:lnTo>
                        <a:pt x="2583" y="228"/>
                      </a:lnTo>
                      <a:lnTo>
                        <a:pt x="2601" y="220"/>
                      </a:lnTo>
                      <a:lnTo>
                        <a:pt x="2630" y="208"/>
                      </a:lnTo>
                      <a:lnTo>
                        <a:pt x="2588" y="208"/>
                      </a:lnTo>
                      <a:lnTo>
                        <a:pt x="2560" y="207"/>
                      </a:lnTo>
                      <a:lnTo>
                        <a:pt x="2534" y="204"/>
                      </a:lnTo>
                      <a:lnTo>
                        <a:pt x="2512" y="202"/>
                      </a:lnTo>
                      <a:lnTo>
                        <a:pt x="2497" y="202"/>
                      </a:lnTo>
                      <a:lnTo>
                        <a:pt x="2485" y="204"/>
                      </a:lnTo>
                      <a:lnTo>
                        <a:pt x="2472" y="205"/>
                      </a:lnTo>
                      <a:lnTo>
                        <a:pt x="2456" y="211"/>
                      </a:lnTo>
                      <a:lnTo>
                        <a:pt x="2441" y="215"/>
                      </a:lnTo>
                      <a:lnTo>
                        <a:pt x="2463" y="221"/>
                      </a:lnTo>
                      <a:lnTo>
                        <a:pt x="2479" y="228"/>
                      </a:lnTo>
                      <a:lnTo>
                        <a:pt x="2490" y="237"/>
                      </a:lnTo>
                      <a:lnTo>
                        <a:pt x="2494" y="246"/>
                      </a:lnTo>
                      <a:lnTo>
                        <a:pt x="2490" y="255"/>
                      </a:lnTo>
                      <a:lnTo>
                        <a:pt x="2474" y="252"/>
                      </a:lnTo>
                      <a:lnTo>
                        <a:pt x="2461" y="248"/>
                      </a:lnTo>
                      <a:lnTo>
                        <a:pt x="2452" y="242"/>
                      </a:lnTo>
                      <a:lnTo>
                        <a:pt x="2435" y="234"/>
                      </a:lnTo>
                      <a:lnTo>
                        <a:pt x="2415" y="231"/>
                      </a:lnTo>
                      <a:lnTo>
                        <a:pt x="2397" y="228"/>
                      </a:lnTo>
                      <a:lnTo>
                        <a:pt x="2372" y="231"/>
                      </a:lnTo>
                      <a:lnTo>
                        <a:pt x="2356" y="230"/>
                      </a:lnTo>
                      <a:lnTo>
                        <a:pt x="2341" y="228"/>
                      </a:lnTo>
                      <a:lnTo>
                        <a:pt x="2324" y="224"/>
                      </a:lnTo>
                      <a:lnTo>
                        <a:pt x="2307" y="217"/>
                      </a:lnTo>
                      <a:lnTo>
                        <a:pt x="2291" y="211"/>
                      </a:lnTo>
                      <a:lnTo>
                        <a:pt x="2276" y="205"/>
                      </a:lnTo>
                      <a:lnTo>
                        <a:pt x="2263" y="205"/>
                      </a:lnTo>
                      <a:lnTo>
                        <a:pt x="2249" y="211"/>
                      </a:lnTo>
                      <a:lnTo>
                        <a:pt x="2233" y="215"/>
                      </a:lnTo>
                      <a:lnTo>
                        <a:pt x="2216" y="215"/>
                      </a:lnTo>
                      <a:lnTo>
                        <a:pt x="2194" y="215"/>
                      </a:lnTo>
                      <a:lnTo>
                        <a:pt x="2176" y="212"/>
                      </a:lnTo>
                      <a:lnTo>
                        <a:pt x="2159" y="208"/>
                      </a:lnTo>
                      <a:lnTo>
                        <a:pt x="2142" y="207"/>
                      </a:lnTo>
                      <a:lnTo>
                        <a:pt x="2128" y="208"/>
                      </a:lnTo>
                      <a:lnTo>
                        <a:pt x="2108" y="211"/>
                      </a:lnTo>
                      <a:lnTo>
                        <a:pt x="2091" y="213"/>
                      </a:lnTo>
                      <a:lnTo>
                        <a:pt x="2071" y="211"/>
                      </a:lnTo>
                      <a:lnTo>
                        <a:pt x="2048" y="208"/>
                      </a:lnTo>
                      <a:lnTo>
                        <a:pt x="2021" y="207"/>
                      </a:lnTo>
                      <a:lnTo>
                        <a:pt x="1995" y="205"/>
                      </a:lnTo>
                      <a:lnTo>
                        <a:pt x="1978" y="201"/>
                      </a:lnTo>
                      <a:lnTo>
                        <a:pt x="1960" y="195"/>
                      </a:lnTo>
                      <a:lnTo>
                        <a:pt x="1945" y="188"/>
                      </a:lnTo>
                      <a:lnTo>
                        <a:pt x="1931" y="186"/>
                      </a:lnTo>
                      <a:lnTo>
                        <a:pt x="1920" y="186"/>
                      </a:lnTo>
                      <a:lnTo>
                        <a:pt x="1906" y="187"/>
                      </a:lnTo>
                      <a:lnTo>
                        <a:pt x="1872" y="192"/>
                      </a:lnTo>
                      <a:lnTo>
                        <a:pt x="1910" y="195"/>
                      </a:lnTo>
                      <a:lnTo>
                        <a:pt x="1901" y="205"/>
                      </a:lnTo>
                      <a:lnTo>
                        <a:pt x="1887" y="216"/>
                      </a:lnTo>
                      <a:lnTo>
                        <a:pt x="1873" y="217"/>
                      </a:lnTo>
                      <a:lnTo>
                        <a:pt x="1691" y="193"/>
                      </a:lnTo>
                      <a:lnTo>
                        <a:pt x="1680" y="188"/>
                      </a:lnTo>
                      <a:lnTo>
                        <a:pt x="1713" y="178"/>
                      </a:lnTo>
                      <a:lnTo>
                        <a:pt x="1690" y="174"/>
                      </a:lnTo>
                      <a:lnTo>
                        <a:pt x="1675" y="173"/>
                      </a:lnTo>
                      <a:lnTo>
                        <a:pt x="1664" y="165"/>
                      </a:lnTo>
                      <a:lnTo>
                        <a:pt x="1649" y="160"/>
                      </a:lnTo>
                      <a:lnTo>
                        <a:pt x="1631" y="164"/>
                      </a:lnTo>
                      <a:lnTo>
                        <a:pt x="1613" y="166"/>
                      </a:lnTo>
                      <a:lnTo>
                        <a:pt x="1597" y="173"/>
                      </a:lnTo>
                      <a:lnTo>
                        <a:pt x="1582" y="165"/>
                      </a:lnTo>
                      <a:lnTo>
                        <a:pt x="1565" y="153"/>
                      </a:lnTo>
                      <a:lnTo>
                        <a:pt x="1549" y="144"/>
                      </a:lnTo>
                      <a:lnTo>
                        <a:pt x="1532" y="138"/>
                      </a:lnTo>
                      <a:lnTo>
                        <a:pt x="1514" y="134"/>
                      </a:lnTo>
                      <a:lnTo>
                        <a:pt x="1497" y="131"/>
                      </a:lnTo>
                      <a:lnTo>
                        <a:pt x="1468" y="134"/>
                      </a:lnTo>
                      <a:lnTo>
                        <a:pt x="1445" y="136"/>
                      </a:lnTo>
                      <a:lnTo>
                        <a:pt x="1421" y="139"/>
                      </a:lnTo>
                      <a:lnTo>
                        <a:pt x="1394" y="143"/>
                      </a:lnTo>
                      <a:lnTo>
                        <a:pt x="1366" y="147"/>
                      </a:lnTo>
                      <a:lnTo>
                        <a:pt x="1344" y="149"/>
                      </a:lnTo>
                      <a:lnTo>
                        <a:pt x="1325" y="157"/>
                      </a:lnTo>
                      <a:lnTo>
                        <a:pt x="1305" y="162"/>
                      </a:lnTo>
                      <a:lnTo>
                        <a:pt x="1286" y="162"/>
                      </a:lnTo>
                      <a:lnTo>
                        <a:pt x="1266" y="166"/>
                      </a:lnTo>
                      <a:lnTo>
                        <a:pt x="1246" y="170"/>
                      </a:lnTo>
                      <a:lnTo>
                        <a:pt x="1224" y="175"/>
                      </a:lnTo>
                      <a:lnTo>
                        <a:pt x="1202" y="175"/>
                      </a:lnTo>
                      <a:lnTo>
                        <a:pt x="1180" y="175"/>
                      </a:lnTo>
                      <a:lnTo>
                        <a:pt x="1164" y="174"/>
                      </a:lnTo>
                      <a:lnTo>
                        <a:pt x="1148" y="178"/>
                      </a:lnTo>
                      <a:lnTo>
                        <a:pt x="1128" y="184"/>
                      </a:lnTo>
                      <a:lnTo>
                        <a:pt x="1106" y="184"/>
                      </a:lnTo>
                      <a:lnTo>
                        <a:pt x="1080" y="184"/>
                      </a:lnTo>
                      <a:lnTo>
                        <a:pt x="1058" y="184"/>
                      </a:lnTo>
                      <a:lnTo>
                        <a:pt x="1031" y="184"/>
                      </a:lnTo>
                      <a:lnTo>
                        <a:pt x="980" y="192"/>
                      </a:lnTo>
                      <a:lnTo>
                        <a:pt x="969" y="187"/>
                      </a:lnTo>
                      <a:lnTo>
                        <a:pt x="958" y="179"/>
                      </a:lnTo>
                      <a:lnTo>
                        <a:pt x="943" y="175"/>
                      </a:lnTo>
                      <a:lnTo>
                        <a:pt x="929" y="174"/>
                      </a:lnTo>
                      <a:lnTo>
                        <a:pt x="910" y="175"/>
                      </a:lnTo>
                      <a:lnTo>
                        <a:pt x="888" y="179"/>
                      </a:lnTo>
                      <a:lnTo>
                        <a:pt x="852" y="183"/>
                      </a:lnTo>
                      <a:lnTo>
                        <a:pt x="837" y="177"/>
                      </a:lnTo>
                      <a:lnTo>
                        <a:pt x="826" y="170"/>
                      </a:lnTo>
                      <a:lnTo>
                        <a:pt x="814" y="168"/>
                      </a:lnTo>
                      <a:lnTo>
                        <a:pt x="798" y="166"/>
                      </a:lnTo>
                      <a:lnTo>
                        <a:pt x="784" y="162"/>
                      </a:lnTo>
                      <a:lnTo>
                        <a:pt x="778" y="153"/>
                      </a:lnTo>
                      <a:lnTo>
                        <a:pt x="767" y="139"/>
                      </a:lnTo>
                      <a:lnTo>
                        <a:pt x="755" y="135"/>
                      </a:lnTo>
                      <a:lnTo>
                        <a:pt x="739" y="131"/>
                      </a:lnTo>
                      <a:lnTo>
                        <a:pt x="724" y="131"/>
                      </a:lnTo>
                      <a:lnTo>
                        <a:pt x="717" y="138"/>
                      </a:lnTo>
                      <a:lnTo>
                        <a:pt x="707" y="153"/>
                      </a:lnTo>
                      <a:lnTo>
                        <a:pt x="696" y="149"/>
                      </a:lnTo>
                      <a:lnTo>
                        <a:pt x="684" y="148"/>
                      </a:lnTo>
                      <a:lnTo>
                        <a:pt x="669" y="149"/>
                      </a:lnTo>
                      <a:lnTo>
                        <a:pt x="655" y="156"/>
                      </a:lnTo>
                      <a:lnTo>
                        <a:pt x="637" y="160"/>
                      </a:lnTo>
                      <a:lnTo>
                        <a:pt x="615" y="160"/>
                      </a:lnTo>
                      <a:lnTo>
                        <a:pt x="632" y="147"/>
                      </a:lnTo>
                      <a:lnTo>
                        <a:pt x="639" y="138"/>
                      </a:lnTo>
                      <a:lnTo>
                        <a:pt x="624" y="140"/>
                      </a:lnTo>
                      <a:lnTo>
                        <a:pt x="595" y="147"/>
                      </a:lnTo>
                      <a:lnTo>
                        <a:pt x="570" y="145"/>
                      </a:lnTo>
                      <a:lnTo>
                        <a:pt x="569" y="138"/>
                      </a:lnTo>
                      <a:lnTo>
                        <a:pt x="565" y="130"/>
                      </a:lnTo>
                      <a:lnTo>
                        <a:pt x="559" y="125"/>
                      </a:lnTo>
                      <a:lnTo>
                        <a:pt x="545" y="120"/>
                      </a:lnTo>
                      <a:lnTo>
                        <a:pt x="530" y="120"/>
                      </a:lnTo>
                      <a:lnTo>
                        <a:pt x="511" y="121"/>
                      </a:lnTo>
                      <a:lnTo>
                        <a:pt x="493" y="125"/>
                      </a:lnTo>
                      <a:lnTo>
                        <a:pt x="476" y="120"/>
                      </a:lnTo>
                      <a:lnTo>
                        <a:pt x="455" y="113"/>
                      </a:lnTo>
                      <a:lnTo>
                        <a:pt x="441" y="104"/>
                      </a:lnTo>
                      <a:lnTo>
                        <a:pt x="456" y="86"/>
                      </a:lnTo>
                      <a:lnTo>
                        <a:pt x="471" y="79"/>
                      </a:lnTo>
                      <a:lnTo>
                        <a:pt x="488" y="71"/>
                      </a:lnTo>
                      <a:lnTo>
                        <a:pt x="499" y="67"/>
                      </a:lnTo>
                      <a:lnTo>
                        <a:pt x="508" y="58"/>
                      </a:lnTo>
                      <a:lnTo>
                        <a:pt x="514" y="49"/>
                      </a:lnTo>
                      <a:lnTo>
                        <a:pt x="517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076120" y="3861720"/>
                  <a:ext cx="820800" cy="98640"/>
                </a:xfrm>
                <a:custGeom>
                  <a:avLst/>
                  <a:gdLst/>
                  <a:ahLst/>
                  <a:rect l="l" t="t" r="r" b="b"/>
                  <a:pathLst>
                    <a:path w="626" h="79">
                      <a:moveTo>
                        <a:pt x="0" y="40"/>
                      </a:moveTo>
                      <a:lnTo>
                        <a:pt x="43" y="30"/>
                      </a:lnTo>
                      <a:lnTo>
                        <a:pt x="54" y="20"/>
                      </a:lnTo>
                      <a:lnTo>
                        <a:pt x="72" y="17"/>
                      </a:lnTo>
                      <a:lnTo>
                        <a:pt x="85" y="15"/>
                      </a:lnTo>
                      <a:lnTo>
                        <a:pt x="101" y="12"/>
                      </a:lnTo>
                      <a:lnTo>
                        <a:pt x="118" y="12"/>
                      </a:lnTo>
                      <a:lnTo>
                        <a:pt x="139" y="12"/>
                      </a:lnTo>
                      <a:lnTo>
                        <a:pt x="157" y="8"/>
                      </a:lnTo>
                      <a:lnTo>
                        <a:pt x="172" y="7"/>
                      </a:lnTo>
                      <a:lnTo>
                        <a:pt x="198" y="8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5"/>
                      </a:lnTo>
                      <a:lnTo>
                        <a:pt x="276" y="12"/>
                      </a:lnTo>
                      <a:lnTo>
                        <a:pt x="296" y="17"/>
                      </a:lnTo>
                      <a:lnTo>
                        <a:pt x="326" y="20"/>
                      </a:lnTo>
                      <a:lnTo>
                        <a:pt x="341" y="16"/>
                      </a:lnTo>
                      <a:lnTo>
                        <a:pt x="360" y="17"/>
                      </a:lnTo>
                      <a:lnTo>
                        <a:pt x="373" y="20"/>
                      </a:lnTo>
                      <a:lnTo>
                        <a:pt x="394" y="30"/>
                      </a:lnTo>
                      <a:lnTo>
                        <a:pt x="410" y="43"/>
                      </a:lnTo>
                      <a:lnTo>
                        <a:pt x="436" y="50"/>
                      </a:lnTo>
                      <a:lnTo>
                        <a:pt x="473" y="47"/>
                      </a:lnTo>
                      <a:lnTo>
                        <a:pt x="492" y="55"/>
                      </a:lnTo>
                      <a:lnTo>
                        <a:pt x="509" y="59"/>
                      </a:lnTo>
                      <a:lnTo>
                        <a:pt x="532" y="61"/>
                      </a:lnTo>
                      <a:lnTo>
                        <a:pt x="625" y="74"/>
                      </a:lnTo>
                      <a:lnTo>
                        <a:pt x="524" y="69"/>
                      </a:lnTo>
                      <a:lnTo>
                        <a:pt x="505" y="73"/>
                      </a:lnTo>
                      <a:lnTo>
                        <a:pt x="488" y="78"/>
                      </a:lnTo>
                      <a:lnTo>
                        <a:pt x="476" y="77"/>
                      </a:lnTo>
                      <a:lnTo>
                        <a:pt x="461" y="74"/>
                      </a:lnTo>
                      <a:lnTo>
                        <a:pt x="442" y="67"/>
                      </a:lnTo>
                      <a:lnTo>
                        <a:pt x="415" y="65"/>
                      </a:lnTo>
                      <a:lnTo>
                        <a:pt x="390" y="58"/>
                      </a:lnTo>
                      <a:lnTo>
                        <a:pt x="373" y="59"/>
                      </a:lnTo>
                      <a:lnTo>
                        <a:pt x="354" y="61"/>
                      </a:lnTo>
                      <a:lnTo>
                        <a:pt x="313" y="55"/>
                      </a:lnTo>
                      <a:lnTo>
                        <a:pt x="292" y="52"/>
                      </a:lnTo>
                      <a:lnTo>
                        <a:pt x="265" y="43"/>
                      </a:lnTo>
                      <a:lnTo>
                        <a:pt x="238" y="43"/>
                      </a:lnTo>
                      <a:lnTo>
                        <a:pt x="206" y="43"/>
                      </a:lnTo>
                      <a:lnTo>
                        <a:pt x="183" y="44"/>
                      </a:lnTo>
                      <a:lnTo>
                        <a:pt x="161" y="42"/>
                      </a:lnTo>
                      <a:lnTo>
                        <a:pt x="139" y="34"/>
                      </a:lnTo>
                      <a:lnTo>
                        <a:pt x="118" y="40"/>
                      </a:lnTo>
                      <a:lnTo>
                        <a:pt x="99" y="31"/>
                      </a:lnTo>
                      <a:lnTo>
                        <a:pt x="83" y="34"/>
                      </a:lnTo>
                      <a:lnTo>
                        <a:pt x="60" y="35"/>
                      </a:lnTo>
                      <a:lnTo>
                        <a:pt x="35" y="36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00200" y="3834360"/>
                  <a:ext cx="3449520" cy="340920"/>
                </a:xfrm>
                <a:custGeom>
                  <a:avLst/>
                  <a:gdLst/>
                  <a:ahLst/>
                  <a:rect l="l" t="t" r="r" b="b"/>
                  <a:pathLst>
                    <a:path w="2631" h="272">
                      <a:moveTo>
                        <a:pt x="492" y="0"/>
                      </a:moveTo>
                      <a:lnTo>
                        <a:pt x="471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4"/>
                      </a:lnTo>
                      <a:lnTo>
                        <a:pt x="428" y="35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5"/>
                      </a:lnTo>
                      <a:lnTo>
                        <a:pt x="365" y="52"/>
                      </a:lnTo>
                      <a:lnTo>
                        <a:pt x="347" y="52"/>
                      </a:lnTo>
                      <a:lnTo>
                        <a:pt x="325" y="63"/>
                      </a:lnTo>
                      <a:lnTo>
                        <a:pt x="299" y="53"/>
                      </a:lnTo>
                      <a:lnTo>
                        <a:pt x="314" y="76"/>
                      </a:lnTo>
                      <a:lnTo>
                        <a:pt x="289" y="76"/>
                      </a:lnTo>
                      <a:lnTo>
                        <a:pt x="258" y="77"/>
                      </a:lnTo>
                      <a:lnTo>
                        <a:pt x="234" y="71"/>
                      </a:lnTo>
                      <a:lnTo>
                        <a:pt x="207" y="85"/>
                      </a:lnTo>
                      <a:lnTo>
                        <a:pt x="182" y="76"/>
                      </a:lnTo>
                      <a:lnTo>
                        <a:pt x="175" y="77"/>
                      </a:lnTo>
                      <a:lnTo>
                        <a:pt x="169" y="83"/>
                      </a:lnTo>
                      <a:lnTo>
                        <a:pt x="160" y="90"/>
                      </a:lnTo>
                      <a:lnTo>
                        <a:pt x="155" y="98"/>
                      </a:lnTo>
                      <a:lnTo>
                        <a:pt x="145" y="105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6"/>
                      </a:lnTo>
                      <a:lnTo>
                        <a:pt x="84" y="124"/>
                      </a:lnTo>
                      <a:lnTo>
                        <a:pt x="73" y="124"/>
                      </a:lnTo>
                      <a:lnTo>
                        <a:pt x="56" y="125"/>
                      </a:lnTo>
                      <a:lnTo>
                        <a:pt x="36" y="125"/>
                      </a:lnTo>
                      <a:lnTo>
                        <a:pt x="16" y="133"/>
                      </a:lnTo>
                      <a:lnTo>
                        <a:pt x="0" y="152"/>
                      </a:lnTo>
                      <a:lnTo>
                        <a:pt x="14" y="150"/>
                      </a:lnTo>
                      <a:lnTo>
                        <a:pt x="36" y="144"/>
                      </a:lnTo>
                      <a:lnTo>
                        <a:pt x="58" y="143"/>
                      </a:lnTo>
                      <a:lnTo>
                        <a:pt x="74" y="144"/>
                      </a:lnTo>
                      <a:lnTo>
                        <a:pt x="89" y="152"/>
                      </a:lnTo>
                      <a:lnTo>
                        <a:pt x="106" y="155"/>
                      </a:lnTo>
                      <a:lnTo>
                        <a:pt x="122" y="150"/>
                      </a:lnTo>
                      <a:lnTo>
                        <a:pt x="140" y="144"/>
                      </a:lnTo>
                      <a:lnTo>
                        <a:pt x="156" y="139"/>
                      </a:lnTo>
                      <a:lnTo>
                        <a:pt x="171" y="139"/>
                      </a:lnTo>
                      <a:lnTo>
                        <a:pt x="182" y="150"/>
                      </a:lnTo>
                      <a:lnTo>
                        <a:pt x="192" y="159"/>
                      </a:lnTo>
                      <a:lnTo>
                        <a:pt x="210" y="159"/>
                      </a:lnTo>
                      <a:lnTo>
                        <a:pt x="226" y="156"/>
                      </a:lnTo>
                      <a:lnTo>
                        <a:pt x="245" y="150"/>
                      </a:lnTo>
                      <a:lnTo>
                        <a:pt x="262" y="146"/>
                      </a:lnTo>
                      <a:lnTo>
                        <a:pt x="278" y="155"/>
                      </a:lnTo>
                      <a:lnTo>
                        <a:pt x="295" y="164"/>
                      </a:lnTo>
                      <a:lnTo>
                        <a:pt x="311" y="168"/>
                      </a:lnTo>
                      <a:lnTo>
                        <a:pt x="328" y="171"/>
                      </a:lnTo>
                      <a:lnTo>
                        <a:pt x="349" y="174"/>
                      </a:lnTo>
                      <a:lnTo>
                        <a:pt x="371" y="176"/>
                      </a:lnTo>
                      <a:lnTo>
                        <a:pt x="392" y="174"/>
                      </a:lnTo>
                      <a:lnTo>
                        <a:pt x="417" y="169"/>
                      </a:lnTo>
                      <a:lnTo>
                        <a:pt x="406" y="153"/>
                      </a:lnTo>
                      <a:lnTo>
                        <a:pt x="408" y="143"/>
                      </a:lnTo>
                      <a:lnTo>
                        <a:pt x="419" y="137"/>
                      </a:lnTo>
                      <a:lnTo>
                        <a:pt x="422" y="148"/>
                      </a:lnTo>
                      <a:lnTo>
                        <a:pt x="436" y="159"/>
                      </a:lnTo>
                      <a:lnTo>
                        <a:pt x="450" y="164"/>
                      </a:lnTo>
                      <a:lnTo>
                        <a:pt x="465" y="168"/>
                      </a:lnTo>
                      <a:lnTo>
                        <a:pt x="482" y="174"/>
                      </a:lnTo>
                      <a:lnTo>
                        <a:pt x="500" y="177"/>
                      </a:lnTo>
                      <a:lnTo>
                        <a:pt x="526" y="180"/>
                      </a:lnTo>
                      <a:lnTo>
                        <a:pt x="543" y="178"/>
                      </a:lnTo>
                      <a:lnTo>
                        <a:pt x="563" y="180"/>
                      </a:lnTo>
                      <a:lnTo>
                        <a:pt x="596" y="187"/>
                      </a:lnTo>
                      <a:lnTo>
                        <a:pt x="585" y="195"/>
                      </a:lnTo>
                      <a:lnTo>
                        <a:pt x="570" y="204"/>
                      </a:lnTo>
                      <a:lnTo>
                        <a:pt x="541" y="219"/>
                      </a:lnTo>
                      <a:lnTo>
                        <a:pt x="559" y="220"/>
                      </a:lnTo>
                      <a:lnTo>
                        <a:pt x="576" y="222"/>
                      </a:lnTo>
                      <a:lnTo>
                        <a:pt x="599" y="227"/>
                      </a:lnTo>
                      <a:lnTo>
                        <a:pt x="624" y="229"/>
                      </a:lnTo>
                      <a:lnTo>
                        <a:pt x="637" y="228"/>
                      </a:lnTo>
                      <a:lnTo>
                        <a:pt x="648" y="220"/>
                      </a:lnTo>
                      <a:lnTo>
                        <a:pt x="663" y="216"/>
                      </a:lnTo>
                      <a:lnTo>
                        <a:pt x="684" y="215"/>
                      </a:lnTo>
                      <a:lnTo>
                        <a:pt x="711" y="213"/>
                      </a:lnTo>
                      <a:lnTo>
                        <a:pt x="730" y="204"/>
                      </a:lnTo>
                      <a:lnTo>
                        <a:pt x="757" y="196"/>
                      </a:lnTo>
                      <a:lnTo>
                        <a:pt x="778" y="190"/>
                      </a:lnTo>
                      <a:lnTo>
                        <a:pt x="794" y="191"/>
                      </a:lnTo>
                      <a:lnTo>
                        <a:pt x="847" y="194"/>
                      </a:lnTo>
                      <a:lnTo>
                        <a:pt x="888" y="198"/>
                      </a:lnTo>
                      <a:lnTo>
                        <a:pt x="915" y="198"/>
                      </a:lnTo>
                      <a:lnTo>
                        <a:pt x="937" y="200"/>
                      </a:lnTo>
                      <a:lnTo>
                        <a:pt x="974" y="218"/>
                      </a:lnTo>
                      <a:lnTo>
                        <a:pt x="992" y="218"/>
                      </a:lnTo>
                      <a:lnTo>
                        <a:pt x="1013" y="213"/>
                      </a:lnTo>
                      <a:lnTo>
                        <a:pt x="1035" y="207"/>
                      </a:lnTo>
                      <a:lnTo>
                        <a:pt x="1053" y="204"/>
                      </a:lnTo>
                      <a:lnTo>
                        <a:pt x="1116" y="198"/>
                      </a:lnTo>
                      <a:lnTo>
                        <a:pt x="1158" y="196"/>
                      </a:lnTo>
                      <a:lnTo>
                        <a:pt x="1185" y="194"/>
                      </a:lnTo>
                      <a:lnTo>
                        <a:pt x="1207" y="191"/>
                      </a:lnTo>
                      <a:lnTo>
                        <a:pt x="1229" y="189"/>
                      </a:lnTo>
                      <a:lnTo>
                        <a:pt x="1255" y="185"/>
                      </a:lnTo>
                      <a:lnTo>
                        <a:pt x="1273" y="180"/>
                      </a:lnTo>
                      <a:lnTo>
                        <a:pt x="1299" y="173"/>
                      </a:lnTo>
                      <a:lnTo>
                        <a:pt x="1314" y="181"/>
                      </a:lnTo>
                      <a:lnTo>
                        <a:pt x="1323" y="191"/>
                      </a:lnTo>
                      <a:lnTo>
                        <a:pt x="1313" y="202"/>
                      </a:lnTo>
                      <a:lnTo>
                        <a:pt x="1294" y="209"/>
                      </a:lnTo>
                      <a:lnTo>
                        <a:pt x="1317" y="209"/>
                      </a:lnTo>
                      <a:lnTo>
                        <a:pt x="1305" y="218"/>
                      </a:lnTo>
                      <a:lnTo>
                        <a:pt x="1287" y="227"/>
                      </a:lnTo>
                      <a:lnTo>
                        <a:pt x="1262" y="238"/>
                      </a:lnTo>
                      <a:lnTo>
                        <a:pt x="1239" y="246"/>
                      </a:lnTo>
                      <a:lnTo>
                        <a:pt x="1268" y="242"/>
                      </a:lnTo>
                      <a:lnTo>
                        <a:pt x="1292" y="238"/>
                      </a:lnTo>
                      <a:lnTo>
                        <a:pt x="1317" y="231"/>
                      </a:lnTo>
                      <a:lnTo>
                        <a:pt x="1334" y="225"/>
                      </a:lnTo>
                      <a:lnTo>
                        <a:pt x="1342" y="222"/>
                      </a:lnTo>
                      <a:lnTo>
                        <a:pt x="1355" y="220"/>
                      </a:lnTo>
                      <a:lnTo>
                        <a:pt x="1372" y="220"/>
                      </a:lnTo>
                      <a:lnTo>
                        <a:pt x="1392" y="222"/>
                      </a:lnTo>
                      <a:lnTo>
                        <a:pt x="1410" y="227"/>
                      </a:lnTo>
                      <a:lnTo>
                        <a:pt x="1427" y="228"/>
                      </a:lnTo>
                      <a:lnTo>
                        <a:pt x="1449" y="227"/>
                      </a:lnTo>
                      <a:lnTo>
                        <a:pt x="1432" y="242"/>
                      </a:lnTo>
                      <a:lnTo>
                        <a:pt x="1414" y="253"/>
                      </a:lnTo>
                      <a:lnTo>
                        <a:pt x="1394" y="261"/>
                      </a:lnTo>
                      <a:lnTo>
                        <a:pt x="1417" y="258"/>
                      </a:lnTo>
                      <a:lnTo>
                        <a:pt x="1439" y="254"/>
                      </a:lnTo>
                      <a:lnTo>
                        <a:pt x="1462" y="252"/>
                      </a:lnTo>
                      <a:lnTo>
                        <a:pt x="1482" y="247"/>
                      </a:lnTo>
                      <a:lnTo>
                        <a:pt x="1506" y="244"/>
                      </a:lnTo>
                      <a:lnTo>
                        <a:pt x="1535" y="241"/>
                      </a:lnTo>
                      <a:lnTo>
                        <a:pt x="1561" y="241"/>
                      </a:lnTo>
                      <a:lnTo>
                        <a:pt x="1582" y="236"/>
                      </a:lnTo>
                      <a:lnTo>
                        <a:pt x="1587" y="231"/>
                      </a:lnTo>
                      <a:lnTo>
                        <a:pt x="1594" y="227"/>
                      </a:lnTo>
                      <a:lnTo>
                        <a:pt x="1609" y="227"/>
                      </a:lnTo>
                      <a:lnTo>
                        <a:pt x="1635" y="232"/>
                      </a:lnTo>
                      <a:lnTo>
                        <a:pt x="1667" y="236"/>
                      </a:lnTo>
                      <a:lnTo>
                        <a:pt x="1697" y="241"/>
                      </a:lnTo>
                      <a:lnTo>
                        <a:pt x="1713" y="244"/>
                      </a:lnTo>
                      <a:lnTo>
                        <a:pt x="1742" y="244"/>
                      </a:lnTo>
                      <a:lnTo>
                        <a:pt x="1775" y="246"/>
                      </a:lnTo>
                      <a:lnTo>
                        <a:pt x="1799" y="250"/>
                      </a:lnTo>
                      <a:lnTo>
                        <a:pt x="1830" y="258"/>
                      </a:lnTo>
                      <a:lnTo>
                        <a:pt x="1856" y="262"/>
                      </a:lnTo>
                      <a:lnTo>
                        <a:pt x="1878" y="265"/>
                      </a:lnTo>
                      <a:lnTo>
                        <a:pt x="1900" y="262"/>
                      </a:lnTo>
                      <a:lnTo>
                        <a:pt x="1934" y="253"/>
                      </a:lnTo>
                      <a:lnTo>
                        <a:pt x="1963" y="258"/>
                      </a:lnTo>
                      <a:lnTo>
                        <a:pt x="1989" y="258"/>
                      </a:lnTo>
                      <a:lnTo>
                        <a:pt x="2016" y="258"/>
                      </a:lnTo>
                      <a:lnTo>
                        <a:pt x="2043" y="257"/>
                      </a:lnTo>
                      <a:lnTo>
                        <a:pt x="2080" y="249"/>
                      </a:lnTo>
                      <a:lnTo>
                        <a:pt x="2098" y="249"/>
                      </a:lnTo>
                      <a:lnTo>
                        <a:pt x="2119" y="247"/>
                      </a:lnTo>
                      <a:lnTo>
                        <a:pt x="2157" y="252"/>
                      </a:lnTo>
                      <a:lnTo>
                        <a:pt x="2176" y="254"/>
                      </a:lnTo>
                      <a:lnTo>
                        <a:pt x="2193" y="253"/>
                      </a:lnTo>
                      <a:lnTo>
                        <a:pt x="2215" y="250"/>
                      </a:lnTo>
                      <a:lnTo>
                        <a:pt x="2237" y="249"/>
                      </a:lnTo>
                      <a:lnTo>
                        <a:pt x="2253" y="249"/>
                      </a:lnTo>
                      <a:lnTo>
                        <a:pt x="2260" y="252"/>
                      </a:lnTo>
                      <a:lnTo>
                        <a:pt x="2260" y="262"/>
                      </a:lnTo>
                      <a:lnTo>
                        <a:pt x="2268" y="265"/>
                      </a:lnTo>
                      <a:lnTo>
                        <a:pt x="2282" y="265"/>
                      </a:lnTo>
                      <a:lnTo>
                        <a:pt x="2296" y="262"/>
                      </a:lnTo>
                      <a:lnTo>
                        <a:pt x="2308" y="253"/>
                      </a:lnTo>
                      <a:lnTo>
                        <a:pt x="2316" y="244"/>
                      </a:lnTo>
                      <a:lnTo>
                        <a:pt x="2324" y="240"/>
                      </a:lnTo>
                      <a:lnTo>
                        <a:pt x="2346" y="240"/>
                      </a:lnTo>
                      <a:lnTo>
                        <a:pt x="2363" y="240"/>
                      </a:lnTo>
                      <a:lnTo>
                        <a:pt x="2383" y="249"/>
                      </a:lnTo>
                      <a:lnTo>
                        <a:pt x="2400" y="254"/>
                      </a:lnTo>
                      <a:lnTo>
                        <a:pt x="2419" y="262"/>
                      </a:lnTo>
                      <a:lnTo>
                        <a:pt x="2431" y="263"/>
                      </a:lnTo>
                      <a:lnTo>
                        <a:pt x="2444" y="265"/>
                      </a:lnTo>
                      <a:lnTo>
                        <a:pt x="2457" y="265"/>
                      </a:lnTo>
                      <a:lnTo>
                        <a:pt x="2479" y="262"/>
                      </a:lnTo>
                      <a:lnTo>
                        <a:pt x="2553" y="271"/>
                      </a:lnTo>
                      <a:lnTo>
                        <a:pt x="2531" y="262"/>
                      </a:lnTo>
                      <a:lnTo>
                        <a:pt x="2518" y="258"/>
                      </a:lnTo>
                      <a:lnTo>
                        <a:pt x="2512" y="249"/>
                      </a:lnTo>
                      <a:lnTo>
                        <a:pt x="2518" y="242"/>
                      </a:lnTo>
                      <a:lnTo>
                        <a:pt x="2544" y="237"/>
                      </a:lnTo>
                      <a:lnTo>
                        <a:pt x="2561" y="232"/>
                      </a:lnTo>
                      <a:lnTo>
                        <a:pt x="2583" y="227"/>
                      </a:lnTo>
                      <a:lnTo>
                        <a:pt x="2601" y="218"/>
                      </a:lnTo>
                      <a:lnTo>
                        <a:pt x="2630" y="207"/>
                      </a:lnTo>
                      <a:lnTo>
                        <a:pt x="2588" y="207"/>
                      </a:lnTo>
                      <a:lnTo>
                        <a:pt x="2560" y="206"/>
                      </a:lnTo>
                      <a:lnTo>
                        <a:pt x="2534" y="202"/>
                      </a:lnTo>
                      <a:lnTo>
                        <a:pt x="2512" y="200"/>
                      </a:lnTo>
                      <a:lnTo>
                        <a:pt x="2497" y="200"/>
                      </a:lnTo>
                      <a:lnTo>
                        <a:pt x="2485" y="202"/>
                      </a:lnTo>
                      <a:lnTo>
                        <a:pt x="2472" y="204"/>
                      </a:lnTo>
                      <a:lnTo>
                        <a:pt x="2456" y="209"/>
                      </a:lnTo>
                      <a:lnTo>
                        <a:pt x="2441" y="213"/>
                      </a:lnTo>
                      <a:lnTo>
                        <a:pt x="2463" y="219"/>
                      </a:lnTo>
                      <a:lnTo>
                        <a:pt x="2479" y="227"/>
                      </a:lnTo>
                      <a:lnTo>
                        <a:pt x="2490" y="236"/>
                      </a:lnTo>
                      <a:lnTo>
                        <a:pt x="2494" y="244"/>
                      </a:lnTo>
                      <a:lnTo>
                        <a:pt x="2490" y="253"/>
                      </a:lnTo>
                      <a:lnTo>
                        <a:pt x="2474" y="250"/>
                      </a:lnTo>
                      <a:lnTo>
                        <a:pt x="2461" y="247"/>
                      </a:lnTo>
                      <a:lnTo>
                        <a:pt x="2452" y="240"/>
                      </a:lnTo>
                      <a:lnTo>
                        <a:pt x="2435" y="232"/>
                      </a:lnTo>
                      <a:lnTo>
                        <a:pt x="2415" y="229"/>
                      </a:lnTo>
                      <a:lnTo>
                        <a:pt x="2397" y="227"/>
                      </a:lnTo>
                      <a:lnTo>
                        <a:pt x="2372" y="229"/>
                      </a:lnTo>
                      <a:lnTo>
                        <a:pt x="2356" y="228"/>
                      </a:lnTo>
                      <a:lnTo>
                        <a:pt x="2341" y="227"/>
                      </a:lnTo>
                      <a:lnTo>
                        <a:pt x="2324" y="222"/>
                      </a:lnTo>
                      <a:lnTo>
                        <a:pt x="2307" y="216"/>
                      </a:lnTo>
                      <a:lnTo>
                        <a:pt x="2291" y="209"/>
                      </a:lnTo>
                      <a:lnTo>
                        <a:pt x="2276" y="204"/>
                      </a:lnTo>
                      <a:lnTo>
                        <a:pt x="2263" y="204"/>
                      </a:lnTo>
                      <a:lnTo>
                        <a:pt x="2249" y="209"/>
                      </a:lnTo>
                      <a:lnTo>
                        <a:pt x="2233" y="213"/>
                      </a:lnTo>
                      <a:lnTo>
                        <a:pt x="2216" y="213"/>
                      </a:lnTo>
                      <a:lnTo>
                        <a:pt x="2194" y="213"/>
                      </a:lnTo>
                      <a:lnTo>
                        <a:pt x="2176" y="210"/>
                      </a:lnTo>
                      <a:lnTo>
                        <a:pt x="2159" y="207"/>
                      </a:lnTo>
                      <a:lnTo>
                        <a:pt x="2142" y="206"/>
                      </a:lnTo>
                      <a:lnTo>
                        <a:pt x="2128" y="207"/>
                      </a:lnTo>
                      <a:lnTo>
                        <a:pt x="2108" y="209"/>
                      </a:lnTo>
                      <a:lnTo>
                        <a:pt x="2091" y="211"/>
                      </a:lnTo>
                      <a:lnTo>
                        <a:pt x="2071" y="209"/>
                      </a:lnTo>
                      <a:lnTo>
                        <a:pt x="2048" y="207"/>
                      </a:lnTo>
                      <a:lnTo>
                        <a:pt x="2021" y="206"/>
                      </a:lnTo>
                      <a:lnTo>
                        <a:pt x="1995" y="204"/>
                      </a:lnTo>
                      <a:lnTo>
                        <a:pt x="1978" y="199"/>
                      </a:lnTo>
                      <a:lnTo>
                        <a:pt x="1960" y="194"/>
                      </a:lnTo>
                      <a:lnTo>
                        <a:pt x="1945" y="187"/>
                      </a:lnTo>
                      <a:lnTo>
                        <a:pt x="1931" y="185"/>
                      </a:lnTo>
                      <a:lnTo>
                        <a:pt x="1920" y="185"/>
                      </a:lnTo>
                      <a:lnTo>
                        <a:pt x="1906" y="186"/>
                      </a:lnTo>
                      <a:lnTo>
                        <a:pt x="1872" y="190"/>
                      </a:lnTo>
                      <a:lnTo>
                        <a:pt x="1910" y="194"/>
                      </a:lnTo>
                      <a:lnTo>
                        <a:pt x="1901" y="204"/>
                      </a:lnTo>
                      <a:lnTo>
                        <a:pt x="1887" y="215"/>
                      </a:lnTo>
                      <a:lnTo>
                        <a:pt x="1873" y="216"/>
                      </a:lnTo>
                      <a:lnTo>
                        <a:pt x="1691" y="191"/>
                      </a:lnTo>
                      <a:lnTo>
                        <a:pt x="1680" y="187"/>
                      </a:lnTo>
                      <a:lnTo>
                        <a:pt x="1713" y="177"/>
                      </a:lnTo>
                      <a:lnTo>
                        <a:pt x="1690" y="173"/>
                      </a:lnTo>
                      <a:lnTo>
                        <a:pt x="1675" y="171"/>
                      </a:lnTo>
                      <a:lnTo>
                        <a:pt x="1664" y="164"/>
                      </a:lnTo>
                      <a:lnTo>
                        <a:pt x="1649" y="159"/>
                      </a:lnTo>
                      <a:lnTo>
                        <a:pt x="1631" y="163"/>
                      </a:lnTo>
                      <a:lnTo>
                        <a:pt x="1613" y="165"/>
                      </a:lnTo>
                      <a:lnTo>
                        <a:pt x="1597" y="171"/>
                      </a:lnTo>
                      <a:lnTo>
                        <a:pt x="1582" y="164"/>
                      </a:lnTo>
                      <a:lnTo>
                        <a:pt x="1565" y="152"/>
                      </a:lnTo>
                      <a:lnTo>
                        <a:pt x="1549" y="143"/>
                      </a:lnTo>
                      <a:lnTo>
                        <a:pt x="1532" y="137"/>
                      </a:lnTo>
                      <a:lnTo>
                        <a:pt x="1514" y="133"/>
                      </a:lnTo>
                      <a:lnTo>
                        <a:pt x="1497" y="131"/>
                      </a:lnTo>
                      <a:lnTo>
                        <a:pt x="1468" y="133"/>
                      </a:lnTo>
                      <a:lnTo>
                        <a:pt x="1445" y="135"/>
                      </a:lnTo>
                      <a:lnTo>
                        <a:pt x="1421" y="138"/>
                      </a:lnTo>
                      <a:lnTo>
                        <a:pt x="1394" y="142"/>
                      </a:lnTo>
                      <a:lnTo>
                        <a:pt x="1366" y="146"/>
                      </a:lnTo>
                      <a:lnTo>
                        <a:pt x="1344" y="148"/>
                      </a:lnTo>
                      <a:lnTo>
                        <a:pt x="1325" y="156"/>
                      </a:lnTo>
                      <a:lnTo>
                        <a:pt x="1305" y="160"/>
                      </a:lnTo>
                      <a:lnTo>
                        <a:pt x="1286" y="160"/>
                      </a:lnTo>
                      <a:lnTo>
                        <a:pt x="1266" y="165"/>
                      </a:lnTo>
                      <a:lnTo>
                        <a:pt x="1246" y="169"/>
                      </a:lnTo>
                      <a:lnTo>
                        <a:pt x="1224" y="174"/>
                      </a:lnTo>
                      <a:lnTo>
                        <a:pt x="1202" y="174"/>
                      </a:lnTo>
                      <a:lnTo>
                        <a:pt x="1180" y="174"/>
                      </a:lnTo>
                      <a:lnTo>
                        <a:pt x="1164" y="173"/>
                      </a:lnTo>
                      <a:lnTo>
                        <a:pt x="1148" y="177"/>
                      </a:lnTo>
                      <a:lnTo>
                        <a:pt x="1128" y="183"/>
                      </a:lnTo>
                      <a:lnTo>
                        <a:pt x="1106" y="183"/>
                      </a:lnTo>
                      <a:lnTo>
                        <a:pt x="1080" y="183"/>
                      </a:lnTo>
                      <a:lnTo>
                        <a:pt x="1058" y="183"/>
                      </a:lnTo>
                      <a:lnTo>
                        <a:pt x="1031" y="183"/>
                      </a:lnTo>
                      <a:lnTo>
                        <a:pt x="980" y="190"/>
                      </a:lnTo>
                      <a:lnTo>
                        <a:pt x="969" y="186"/>
                      </a:lnTo>
                      <a:lnTo>
                        <a:pt x="958" y="178"/>
                      </a:lnTo>
                      <a:lnTo>
                        <a:pt x="943" y="174"/>
                      </a:lnTo>
                      <a:lnTo>
                        <a:pt x="929" y="173"/>
                      </a:lnTo>
                      <a:lnTo>
                        <a:pt x="910" y="174"/>
                      </a:lnTo>
                      <a:lnTo>
                        <a:pt x="888" y="178"/>
                      </a:lnTo>
                      <a:lnTo>
                        <a:pt x="852" y="181"/>
                      </a:lnTo>
                      <a:lnTo>
                        <a:pt x="837" y="176"/>
                      </a:lnTo>
                      <a:lnTo>
                        <a:pt x="826" y="169"/>
                      </a:lnTo>
                      <a:lnTo>
                        <a:pt x="814" y="167"/>
                      </a:lnTo>
                      <a:lnTo>
                        <a:pt x="798" y="165"/>
                      </a:lnTo>
                      <a:lnTo>
                        <a:pt x="784" y="160"/>
                      </a:lnTo>
                      <a:lnTo>
                        <a:pt x="778" y="152"/>
                      </a:lnTo>
                      <a:lnTo>
                        <a:pt x="767" y="138"/>
                      </a:lnTo>
                      <a:lnTo>
                        <a:pt x="755" y="134"/>
                      </a:lnTo>
                      <a:lnTo>
                        <a:pt x="739" y="131"/>
                      </a:lnTo>
                      <a:lnTo>
                        <a:pt x="724" y="131"/>
                      </a:lnTo>
                      <a:lnTo>
                        <a:pt x="717" y="137"/>
                      </a:lnTo>
                      <a:lnTo>
                        <a:pt x="707" y="152"/>
                      </a:lnTo>
                      <a:lnTo>
                        <a:pt x="696" y="148"/>
                      </a:lnTo>
                      <a:lnTo>
                        <a:pt x="684" y="147"/>
                      </a:lnTo>
                      <a:lnTo>
                        <a:pt x="669" y="148"/>
                      </a:lnTo>
                      <a:lnTo>
                        <a:pt x="655" y="155"/>
                      </a:lnTo>
                      <a:lnTo>
                        <a:pt x="637" y="159"/>
                      </a:lnTo>
                      <a:lnTo>
                        <a:pt x="615" y="159"/>
                      </a:lnTo>
                      <a:lnTo>
                        <a:pt x="632" y="146"/>
                      </a:lnTo>
                      <a:lnTo>
                        <a:pt x="639" y="137"/>
                      </a:lnTo>
                      <a:lnTo>
                        <a:pt x="624" y="139"/>
                      </a:lnTo>
                      <a:lnTo>
                        <a:pt x="595" y="146"/>
                      </a:lnTo>
                      <a:lnTo>
                        <a:pt x="570" y="144"/>
                      </a:lnTo>
                      <a:lnTo>
                        <a:pt x="569" y="137"/>
                      </a:lnTo>
                      <a:lnTo>
                        <a:pt x="565" y="129"/>
                      </a:lnTo>
                      <a:lnTo>
                        <a:pt x="559" y="124"/>
                      </a:lnTo>
                      <a:lnTo>
                        <a:pt x="545" y="119"/>
                      </a:lnTo>
                      <a:lnTo>
                        <a:pt x="530" y="119"/>
                      </a:lnTo>
                      <a:lnTo>
                        <a:pt x="511" y="121"/>
                      </a:lnTo>
                      <a:lnTo>
                        <a:pt x="493" y="124"/>
                      </a:lnTo>
                      <a:lnTo>
                        <a:pt x="476" y="119"/>
                      </a:lnTo>
                      <a:lnTo>
                        <a:pt x="455" y="112"/>
                      </a:lnTo>
                      <a:lnTo>
                        <a:pt x="441" y="103"/>
                      </a:lnTo>
                      <a:lnTo>
                        <a:pt x="456" y="85"/>
                      </a:lnTo>
                      <a:lnTo>
                        <a:pt x="471" y="79"/>
                      </a:lnTo>
                      <a:lnTo>
                        <a:pt x="488" y="71"/>
                      </a:lnTo>
                      <a:lnTo>
                        <a:pt x="499" y="66"/>
                      </a:lnTo>
                      <a:lnTo>
                        <a:pt x="508" y="58"/>
                      </a:lnTo>
                      <a:lnTo>
                        <a:pt x="514" y="49"/>
                      </a:lnTo>
                      <a:lnTo>
                        <a:pt x="517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809520" y="3927960"/>
                  <a:ext cx="820440" cy="100080"/>
                </a:xfrm>
                <a:custGeom>
                  <a:avLst/>
                  <a:gdLst/>
                  <a:ahLst/>
                  <a:rect l="l" t="t" r="r" b="b"/>
                  <a:pathLst>
                    <a:path w="626" h="80">
                      <a:moveTo>
                        <a:pt x="0" y="40"/>
                      </a:moveTo>
                      <a:lnTo>
                        <a:pt x="43" y="31"/>
                      </a:lnTo>
                      <a:lnTo>
                        <a:pt x="54" y="21"/>
                      </a:lnTo>
                      <a:lnTo>
                        <a:pt x="72" y="17"/>
                      </a:lnTo>
                      <a:lnTo>
                        <a:pt x="85" y="15"/>
                      </a:lnTo>
                      <a:lnTo>
                        <a:pt x="101" y="12"/>
                      </a:lnTo>
                      <a:lnTo>
                        <a:pt x="118" y="12"/>
                      </a:lnTo>
                      <a:lnTo>
                        <a:pt x="139" y="12"/>
                      </a:lnTo>
                      <a:lnTo>
                        <a:pt x="157" y="8"/>
                      </a:lnTo>
                      <a:lnTo>
                        <a:pt x="172" y="7"/>
                      </a:lnTo>
                      <a:lnTo>
                        <a:pt x="198" y="8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5"/>
                      </a:lnTo>
                      <a:lnTo>
                        <a:pt x="276" y="12"/>
                      </a:lnTo>
                      <a:lnTo>
                        <a:pt x="296" y="17"/>
                      </a:lnTo>
                      <a:lnTo>
                        <a:pt x="326" y="21"/>
                      </a:lnTo>
                      <a:lnTo>
                        <a:pt x="341" y="16"/>
                      </a:lnTo>
                      <a:lnTo>
                        <a:pt x="360" y="17"/>
                      </a:lnTo>
                      <a:lnTo>
                        <a:pt x="373" y="21"/>
                      </a:lnTo>
                      <a:lnTo>
                        <a:pt x="394" y="31"/>
                      </a:lnTo>
                      <a:lnTo>
                        <a:pt x="410" y="43"/>
                      </a:lnTo>
                      <a:lnTo>
                        <a:pt x="436" y="50"/>
                      </a:lnTo>
                      <a:lnTo>
                        <a:pt x="473" y="47"/>
                      </a:lnTo>
                      <a:lnTo>
                        <a:pt x="492" y="55"/>
                      </a:lnTo>
                      <a:lnTo>
                        <a:pt x="509" y="60"/>
                      </a:lnTo>
                      <a:lnTo>
                        <a:pt x="532" y="62"/>
                      </a:lnTo>
                      <a:lnTo>
                        <a:pt x="625" y="75"/>
                      </a:lnTo>
                      <a:lnTo>
                        <a:pt x="524" y="70"/>
                      </a:lnTo>
                      <a:lnTo>
                        <a:pt x="505" y="74"/>
                      </a:lnTo>
                      <a:lnTo>
                        <a:pt x="488" y="79"/>
                      </a:lnTo>
                      <a:lnTo>
                        <a:pt x="476" y="78"/>
                      </a:lnTo>
                      <a:lnTo>
                        <a:pt x="461" y="75"/>
                      </a:lnTo>
                      <a:lnTo>
                        <a:pt x="442" y="68"/>
                      </a:lnTo>
                      <a:lnTo>
                        <a:pt x="415" y="66"/>
                      </a:lnTo>
                      <a:lnTo>
                        <a:pt x="390" y="58"/>
                      </a:lnTo>
                      <a:lnTo>
                        <a:pt x="373" y="60"/>
                      </a:lnTo>
                      <a:lnTo>
                        <a:pt x="354" y="62"/>
                      </a:lnTo>
                      <a:lnTo>
                        <a:pt x="313" y="55"/>
                      </a:lnTo>
                      <a:lnTo>
                        <a:pt x="292" y="52"/>
                      </a:lnTo>
                      <a:lnTo>
                        <a:pt x="265" y="43"/>
                      </a:lnTo>
                      <a:lnTo>
                        <a:pt x="238" y="43"/>
                      </a:lnTo>
                      <a:lnTo>
                        <a:pt x="206" y="43"/>
                      </a:lnTo>
                      <a:lnTo>
                        <a:pt x="183" y="44"/>
                      </a:lnTo>
                      <a:lnTo>
                        <a:pt x="161" y="42"/>
                      </a:lnTo>
                      <a:lnTo>
                        <a:pt x="139" y="35"/>
                      </a:lnTo>
                      <a:lnTo>
                        <a:pt x="118" y="40"/>
                      </a:lnTo>
                      <a:lnTo>
                        <a:pt x="99" y="32"/>
                      </a:lnTo>
                      <a:lnTo>
                        <a:pt x="83" y="35"/>
                      </a:lnTo>
                      <a:lnTo>
                        <a:pt x="60" y="36"/>
                      </a:lnTo>
                      <a:lnTo>
                        <a:pt x="35" y="37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899440" y="3902040"/>
                  <a:ext cx="3449520" cy="340920"/>
                </a:xfrm>
                <a:custGeom>
                  <a:avLst/>
                  <a:gdLst/>
                  <a:ahLst/>
                  <a:rect l="l" t="t" r="r" b="b"/>
                  <a:pathLst>
                    <a:path w="2631" h="272">
                      <a:moveTo>
                        <a:pt x="492" y="0"/>
                      </a:moveTo>
                      <a:lnTo>
                        <a:pt x="471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4"/>
                      </a:lnTo>
                      <a:lnTo>
                        <a:pt x="428" y="35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5"/>
                      </a:lnTo>
                      <a:lnTo>
                        <a:pt x="365" y="52"/>
                      </a:lnTo>
                      <a:lnTo>
                        <a:pt x="347" y="52"/>
                      </a:lnTo>
                      <a:lnTo>
                        <a:pt x="325" y="63"/>
                      </a:lnTo>
                      <a:lnTo>
                        <a:pt x="299" y="53"/>
                      </a:lnTo>
                      <a:lnTo>
                        <a:pt x="314" y="76"/>
                      </a:lnTo>
                      <a:lnTo>
                        <a:pt x="289" y="76"/>
                      </a:lnTo>
                      <a:lnTo>
                        <a:pt x="258" y="77"/>
                      </a:lnTo>
                      <a:lnTo>
                        <a:pt x="234" y="71"/>
                      </a:lnTo>
                      <a:lnTo>
                        <a:pt x="207" y="85"/>
                      </a:lnTo>
                      <a:lnTo>
                        <a:pt x="182" y="76"/>
                      </a:lnTo>
                      <a:lnTo>
                        <a:pt x="175" y="77"/>
                      </a:lnTo>
                      <a:lnTo>
                        <a:pt x="169" y="83"/>
                      </a:lnTo>
                      <a:lnTo>
                        <a:pt x="160" y="90"/>
                      </a:lnTo>
                      <a:lnTo>
                        <a:pt x="155" y="98"/>
                      </a:lnTo>
                      <a:lnTo>
                        <a:pt x="145" y="105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6"/>
                      </a:lnTo>
                      <a:lnTo>
                        <a:pt x="84" y="124"/>
                      </a:lnTo>
                      <a:lnTo>
                        <a:pt x="73" y="124"/>
                      </a:lnTo>
                      <a:lnTo>
                        <a:pt x="56" y="125"/>
                      </a:lnTo>
                      <a:lnTo>
                        <a:pt x="36" y="125"/>
                      </a:lnTo>
                      <a:lnTo>
                        <a:pt x="16" y="133"/>
                      </a:lnTo>
                      <a:lnTo>
                        <a:pt x="0" y="152"/>
                      </a:lnTo>
                      <a:lnTo>
                        <a:pt x="14" y="150"/>
                      </a:lnTo>
                      <a:lnTo>
                        <a:pt x="36" y="144"/>
                      </a:lnTo>
                      <a:lnTo>
                        <a:pt x="58" y="143"/>
                      </a:lnTo>
                      <a:lnTo>
                        <a:pt x="74" y="144"/>
                      </a:lnTo>
                      <a:lnTo>
                        <a:pt x="89" y="152"/>
                      </a:lnTo>
                      <a:lnTo>
                        <a:pt x="106" y="155"/>
                      </a:lnTo>
                      <a:lnTo>
                        <a:pt x="122" y="150"/>
                      </a:lnTo>
                      <a:lnTo>
                        <a:pt x="140" y="144"/>
                      </a:lnTo>
                      <a:lnTo>
                        <a:pt x="156" y="139"/>
                      </a:lnTo>
                      <a:lnTo>
                        <a:pt x="171" y="139"/>
                      </a:lnTo>
                      <a:lnTo>
                        <a:pt x="182" y="150"/>
                      </a:lnTo>
                      <a:lnTo>
                        <a:pt x="192" y="159"/>
                      </a:lnTo>
                      <a:lnTo>
                        <a:pt x="210" y="159"/>
                      </a:lnTo>
                      <a:lnTo>
                        <a:pt x="226" y="156"/>
                      </a:lnTo>
                      <a:lnTo>
                        <a:pt x="245" y="150"/>
                      </a:lnTo>
                      <a:lnTo>
                        <a:pt x="262" y="146"/>
                      </a:lnTo>
                      <a:lnTo>
                        <a:pt x="278" y="155"/>
                      </a:lnTo>
                      <a:lnTo>
                        <a:pt x="295" y="164"/>
                      </a:lnTo>
                      <a:lnTo>
                        <a:pt x="311" y="168"/>
                      </a:lnTo>
                      <a:lnTo>
                        <a:pt x="328" y="171"/>
                      </a:lnTo>
                      <a:lnTo>
                        <a:pt x="349" y="174"/>
                      </a:lnTo>
                      <a:lnTo>
                        <a:pt x="371" y="176"/>
                      </a:lnTo>
                      <a:lnTo>
                        <a:pt x="392" y="174"/>
                      </a:lnTo>
                      <a:lnTo>
                        <a:pt x="417" y="169"/>
                      </a:lnTo>
                      <a:lnTo>
                        <a:pt x="406" y="153"/>
                      </a:lnTo>
                      <a:lnTo>
                        <a:pt x="408" y="143"/>
                      </a:lnTo>
                      <a:lnTo>
                        <a:pt x="419" y="137"/>
                      </a:lnTo>
                      <a:lnTo>
                        <a:pt x="422" y="148"/>
                      </a:lnTo>
                      <a:lnTo>
                        <a:pt x="436" y="159"/>
                      </a:lnTo>
                      <a:lnTo>
                        <a:pt x="450" y="164"/>
                      </a:lnTo>
                      <a:lnTo>
                        <a:pt x="465" y="168"/>
                      </a:lnTo>
                      <a:lnTo>
                        <a:pt x="482" y="174"/>
                      </a:lnTo>
                      <a:lnTo>
                        <a:pt x="500" y="177"/>
                      </a:lnTo>
                      <a:lnTo>
                        <a:pt x="526" y="180"/>
                      </a:lnTo>
                      <a:lnTo>
                        <a:pt x="543" y="178"/>
                      </a:lnTo>
                      <a:lnTo>
                        <a:pt x="563" y="180"/>
                      </a:lnTo>
                      <a:lnTo>
                        <a:pt x="596" y="187"/>
                      </a:lnTo>
                      <a:lnTo>
                        <a:pt x="585" y="195"/>
                      </a:lnTo>
                      <a:lnTo>
                        <a:pt x="570" y="204"/>
                      </a:lnTo>
                      <a:lnTo>
                        <a:pt x="541" y="219"/>
                      </a:lnTo>
                      <a:lnTo>
                        <a:pt x="559" y="220"/>
                      </a:lnTo>
                      <a:lnTo>
                        <a:pt x="576" y="222"/>
                      </a:lnTo>
                      <a:lnTo>
                        <a:pt x="599" y="227"/>
                      </a:lnTo>
                      <a:lnTo>
                        <a:pt x="624" y="229"/>
                      </a:lnTo>
                      <a:lnTo>
                        <a:pt x="637" y="228"/>
                      </a:lnTo>
                      <a:lnTo>
                        <a:pt x="648" y="220"/>
                      </a:lnTo>
                      <a:lnTo>
                        <a:pt x="663" y="216"/>
                      </a:lnTo>
                      <a:lnTo>
                        <a:pt x="684" y="215"/>
                      </a:lnTo>
                      <a:lnTo>
                        <a:pt x="711" y="213"/>
                      </a:lnTo>
                      <a:lnTo>
                        <a:pt x="730" y="204"/>
                      </a:lnTo>
                      <a:lnTo>
                        <a:pt x="757" y="196"/>
                      </a:lnTo>
                      <a:lnTo>
                        <a:pt x="778" y="190"/>
                      </a:lnTo>
                      <a:lnTo>
                        <a:pt x="794" y="191"/>
                      </a:lnTo>
                      <a:lnTo>
                        <a:pt x="847" y="194"/>
                      </a:lnTo>
                      <a:lnTo>
                        <a:pt x="888" y="198"/>
                      </a:lnTo>
                      <a:lnTo>
                        <a:pt x="915" y="198"/>
                      </a:lnTo>
                      <a:lnTo>
                        <a:pt x="937" y="200"/>
                      </a:lnTo>
                      <a:lnTo>
                        <a:pt x="974" y="218"/>
                      </a:lnTo>
                      <a:lnTo>
                        <a:pt x="992" y="218"/>
                      </a:lnTo>
                      <a:lnTo>
                        <a:pt x="1013" y="213"/>
                      </a:lnTo>
                      <a:lnTo>
                        <a:pt x="1035" y="207"/>
                      </a:lnTo>
                      <a:lnTo>
                        <a:pt x="1053" y="204"/>
                      </a:lnTo>
                      <a:lnTo>
                        <a:pt x="1116" y="198"/>
                      </a:lnTo>
                      <a:lnTo>
                        <a:pt x="1158" y="196"/>
                      </a:lnTo>
                      <a:lnTo>
                        <a:pt x="1185" y="194"/>
                      </a:lnTo>
                      <a:lnTo>
                        <a:pt x="1207" y="191"/>
                      </a:lnTo>
                      <a:lnTo>
                        <a:pt x="1229" y="189"/>
                      </a:lnTo>
                      <a:lnTo>
                        <a:pt x="1255" y="185"/>
                      </a:lnTo>
                      <a:lnTo>
                        <a:pt x="1273" y="180"/>
                      </a:lnTo>
                      <a:lnTo>
                        <a:pt x="1299" y="173"/>
                      </a:lnTo>
                      <a:lnTo>
                        <a:pt x="1314" y="181"/>
                      </a:lnTo>
                      <a:lnTo>
                        <a:pt x="1323" y="191"/>
                      </a:lnTo>
                      <a:lnTo>
                        <a:pt x="1313" y="202"/>
                      </a:lnTo>
                      <a:lnTo>
                        <a:pt x="1294" y="209"/>
                      </a:lnTo>
                      <a:lnTo>
                        <a:pt x="1317" y="209"/>
                      </a:lnTo>
                      <a:lnTo>
                        <a:pt x="1305" y="218"/>
                      </a:lnTo>
                      <a:lnTo>
                        <a:pt x="1287" y="227"/>
                      </a:lnTo>
                      <a:lnTo>
                        <a:pt x="1262" y="238"/>
                      </a:lnTo>
                      <a:lnTo>
                        <a:pt x="1239" y="246"/>
                      </a:lnTo>
                      <a:lnTo>
                        <a:pt x="1268" y="242"/>
                      </a:lnTo>
                      <a:lnTo>
                        <a:pt x="1292" y="238"/>
                      </a:lnTo>
                      <a:lnTo>
                        <a:pt x="1317" y="231"/>
                      </a:lnTo>
                      <a:lnTo>
                        <a:pt x="1334" y="225"/>
                      </a:lnTo>
                      <a:lnTo>
                        <a:pt x="1342" y="222"/>
                      </a:lnTo>
                      <a:lnTo>
                        <a:pt x="1355" y="220"/>
                      </a:lnTo>
                      <a:lnTo>
                        <a:pt x="1372" y="220"/>
                      </a:lnTo>
                      <a:lnTo>
                        <a:pt x="1392" y="222"/>
                      </a:lnTo>
                      <a:lnTo>
                        <a:pt x="1410" y="227"/>
                      </a:lnTo>
                      <a:lnTo>
                        <a:pt x="1427" y="228"/>
                      </a:lnTo>
                      <a:lnTo>
                        <a:pt x="1449" y="227"/>
                      </a:lnTo>
                      <a:lnTo>
                        <a:pt x="1432" y="242"/>
                      </a:lnTo>
                      <a:lnTo>
                        <a:pt x="1414" y="253"/>
                      </a:lnTo>
                      <a:lnTo>
                        <a:pt x="1394" y="261"/>
                      </a:lnTo>
                      <a:lnTo>
                        <a:pt x="1417" y="258"/>
                      </a:lnTo>
                      <a:lnTo>
                        <a:pt x="1439" y="254"/>
                      </a:lnTo>
                      <a:lnTo>
                        <a:pt x="1462" y="252"/>
                      </a:lnTo>
                      <a:lnTo>
                        <a:pt x="1482" y="247"/>
                      </a:lnTo>
                      <a:lnTo>
                        <a:pt x="1506" y="244"/>
                      </a:lnTo>
                      <a:lnTo>
                        <a:pt x="1535" y="241"/>
                      </a:lnTo>
                      <a:lnTo>
                        <a:pt x="1561" y="241"/>
                      </a:lnTo>
                      <a:lnTo>
                        <a:pt x="1582" y="236"/>
                      </a:lnTo>
                      <a:lnTo>
                        <a:pt x="1587" y="231"/>
                      </a:lnTo>
                      <a:lnTo>
                        <a:pt x="1594" y="227"/>
                      </a:lnTo>
                      <a:lnTo>
                        <a:pt x="1609" y="227"/>
                      </a:lnTo>
                      <a:lnTo>
                        <a:pt x="1635" y="232"/>
                      </a:lnTo>
                      <a:lnTo>
                        <a:pt x="1667" y="236"/>
                      </a:lnTo>
                      <a:lnTo>
                        <a:pt x="1697" y="241"/>
                      </a:lnTo>
                      <a:lnTo>
                        <a:pt x="1713" y="244"/>
                      </a:lnTo>
                      <a:lnTo>
                        <a:pt x="1742" y="244"/>
                      </a:lnTo>
                      <a:lnTo>
                        <a:pt x="1775" y="246"/>
                      </a:lnTo>
                      <a:lnTo>
                        <a:pt x="1799" y="250"/>
                      </a:lnTo>
                      <a:lnTo>
                        <a:pt x="1830" y="258"/>
                      </a:lnTo>
                      <a:lnTo>
                        <a:pt x="1856" y="262"/>
                      </a:lnTo>
                      <a:lnTo>
                        <a:pt x="1878" y="265"/>
                      </a:lnTo>
                      <a:lnTo>
                        <a:pt x="1900" y="262"/>
                      </a:lnTo>
                      <a:lnTo>
                        <a:pt x="1934" y="253"/>
                      </a:lnTo>
                      <a:lnTo>
                        <a:pt x="1963" y="258"/>
                      </a:lnTo>
                      <a:lnTo>
                        <a:pt x="1989" y="258"/>
                      </a:lnTo>
                      <a:lnTo>
                        <a:pt x="2016" y="258"/>
                      </a:lnTo>
                      <a:lnTo>
                        <a:pt x="2043" y="257"/>
                      </a:lnTo>
                      <a:lnTo>
                        <a:pt x="2080" y="249"/>
                      </a:lnTo>
                      <a:lnTo>
                        <a:pt x="2098" y="249"/>
                      </a:lnTo>
                      <a:lnTo>
                        <a:pt x="2119" y="247"/>
                      </a:lnTo>
                      <a:lnTo>
                        <a:pt x="2157" y="252"/>
                      </a:lnTo>
                      <a:lnTo>
                        <a:pt x="2176" y="254"/>
                      </a:lnTo>
                      <a:lnTo>
                        <a:pt x="2193" y="253"/>
                      </a:lnTo>
                      <a:lnTo>
                        <a:pt x="2215" y="250"/>
                      </a:lnTo>
                      <a:lnTo>
                        <a:pt x="2237" y="249"/>
                      </a:lnTo>
                      <a:lnTo>
                        <a:pt x="2253" y="249"/>
                      </a:lnTo>
                      <a:lnTo>
                        <a:pt x="2260" y="252"/>
                      </a:lnTo>
                      <a:lnTo>
                        <a:pt x="2260" y="262"/>
                      </a:lnTo>
                      <a:lnTo>
                        <a:pt x="2268" y="265"/>
                      </a:lnTo>
                      <a:lnTo>
                        <a:pt x="2282" y="265"/>
                      </a:lnTo>
                      <a:lnTo>
                        <a:pt x="2296" y="262"/>
                      </a:lnTo>
                      <a:lnTo>
                        <a:pt x="2308" y="253"/>
                      </a:lnTo>
                      <a:lnTo>
                        <a:pt x="2316" y="244"/>
                      </a:lnTo>
                      <a:lnTo>
                        <a:pt x="2324" y="240"/>
                      </a:lnTo>
                      <a:lnTo>
                        <a:pt x="2346" y="240"/>
                      </a:lnTo>
                      <a:lnTo>
                        <a:pt x="2363" y="240"/>
                      </a:lnTo>
                      <a:lnTo>
                        <a:pt x="2383" y="249"/>
                      </a:lnTo>
                      <a:lnTo>
                        <a:pt x="2400" y="254"/>
                      </a:lnTo>
                      <a:lnTo>
                        <a:pt x="2419" y="262"/>
                      </a:lnTo>
                      <a:lnTo>
                        <a:pt x="2431" y="263"/>
                      </a:lnTo>
                      <a:lnTo>
                        <a:pt x="2444" y="265"/>
                      </a:lnTo>
                      <a:lnTo>
                        <a:pt x="2457" y="265"/>
                      </a:lnTo>
                      <a:lnTo>
                        <a:pt x="2479" y="262"/>
                      </a:lnTo>
                      <a:lnTo>
                        <a:pt x="2553" y="271"/>
                      </a:lnTo>
                      <a:lnTo>
                        <a:pt x="2531" y="262"/>
                      </a:lnTo>
                      <a:lnTo>
                        <a:pt x="2518" y="258"/>
                      </a:lnTo>
                      <a:lnTo>
                        <a:pt x="2512" y="249"/>
                      </a:lnTo>
                      <a:lnTo>
                        <a:pt x="2518" y="242"/>
                      </a:lnTo>
                      <a:lnTo>
                        <a:pt x="2544" y="237"/>
                      </a:lnTo>
                      <a:lnTo>
                        <a:pt x="2561" y="232"/>
                      </a:lnTo>
                      <a:lnTo>
                        <a:pt x="2583" y="227"/>
                      </a:lnTo>
                      <a:lnTo>
                        <a:pt x="2601" y="218"/>
                      </a:lnTo>
                      <a:lnTo>
                        <a:pt x="2630" y="207"/>
                      </a:lnTo>
                      <a:lnTo>
                        <a:pt x="2588" y="207"/>
                      </a:lnTo>
                      <a:lnTo>
                        <a:pt x="2560" y="206"/>
                      </a:lnTo>
                      <a:lnTo>
                        <a:pt x="2534" y="202"/>
                      </a:lnTo>
                      <a:lnTo>
                        <a:pt x="2512" y="200"/>
                      </a:lnTo>
                      <a:lnTo>
                        <a:pt x="2497" y="200"/>
                      </a:lnTo>
                      <a:lnTo>
                        <a:pt x="2485" y="202"/>
                      </a:lnTo>
                      <a:lnTo>
                        <a:pt x="2472" y="204"/>
                      </a:lnTo>
                      <a:lnTo>
                        <a:pt x="2456" y="209"/>
                      </a:lnTo>
                      <a:lnTo>
                        <a:pt x="2441" y="213"/>
                      </a:lnTo>
                      <a:lnTo>
                        <a:pt x="2463" y="219"/>
                      </a:lnTo>
                      <a:lnTo>
                        <a:pt x="2479" y="227"/>
                      </a:lnTo>
                      <a:lnTo>
                        <a:pt x="2490" y="236"/>
                      </a:lnTo>
                      <a:lnTo>
                        <a:pt x="2494" y="244"/>
                      </a:lnTo>
                      <a:lnTo>
                        <a:pt x="2490" y="253"/>
                      </a:lnTo>
                      <a:lnTo>
                        <a:pt x="2474" y="250"/>
                      </a:lnTo>
                      <a:lnTo>
                        <a:pt x="2461" y="247"/>
                      </a:lnTo>
                      <a:lnTo>
                        <a:pt x="2452" y="240"/>
                      </a:lnTo>
                      <a:lnTo>
                        <a:pt x="2435" y="232"/>
                      </a:lnTo>
                      <a:lnTo>
                        <a:pt x="2415" y="229"/>
                      </a:lnTo>
                      <a:lnTo>
                        <a:pt x="2397" y="227"/>
                      </a:lnTo>
                      <a:lnTo>
                        <a:pt x="2372" y="229"/>
                      </a:lnTo>
                      <a:lnTo>
                        <a:pt x="2356" y="228"/>
                      </a:lnTo>
                      <a:lnTo>
                        <a:pt x="2341" y="227"/>
                      </a:lnTo>
                      <a:lnTo>
                        <a:pt x="2324" y="222"/>
                      </a:lnTo>
                      <a:lnTo>
                        <a:pt x="2307" y="216"/>
                      </a:lnTo>
                      <a:lnTo>
                        <a:pt x="2291" y="209"/>
                      </a:lnTo>
                      <a:lnTo>
                        <a:pt x="2276" y="204"/>
                      </a:lnTo>
                      <a:lnTo>
                        <a:pt x="2263" y="204"/>
                      </a:lnTo>
                      <a:lnTo>
                        <a:pt x="2249" y="209"/>
                      </a:lnTo>
                      <a:lnTo>
                        <a:pt x="2233" y="213"/>
                      </a:lnTo>
                      <a:lnTo>
                        <a:pt x="2216" y="213"/>
                      </a:lnTo>
                      <a:lnTo>
                        <a:pt x="2194" y="213"/>
                      </a:lnTo>
                      <a:lnTo>
                        <a:pt x="2176" y="210"/>
                      </a:lnTo>
                      <a:lnTo>
                        <a:pt x="2159" y="207"/>
                      </a:lnTo>
                      <a:lnTo>
                        <a:pt x="2142" y="206"/>
                      </a:lnTo>
                      <a:lnTo>
                        <a:pt x="2128" y="207"/>
                      </a:lnTo>
                      <a:lnTo>
                        <a:pt x="2108" y="209"/>
                      </a:lnTo>
                      <a:lnTo>
                        <a:pt x="2091" y="211"/>
                      </a:lnTo>
                      <a:lnTo>
                        <a:pt x="2071" y="209"/>
                      </a:lnTo>
                      <a:lnTo>
                        <a:pt x="2048" y="207"/>
                      </a:lnTo>
                      <a:lnTo>
                        <a:pt x="2021" y="206"/>
                      </a:lnTo>
                      <a:lnTo>
                        <a:pt x="1995" y="204"/>
                      </a:lnTo>
                      <a:lnTo>
                        <a:pt x="1978" y="199"/>
                      </a:lnTo>
                      <a:lnTo>
                        <a:pt x="1960" y="194"/>
                      </a:lnTo>
                      <a:lnTo>
                        <a:pt x="1945" y="187"/>
                      </a:lnTo>
                      <a:lnTo>
                        <a:pt x="1931" y="185"/>
                      </a:lnTo>
                      <a:lnTo>
                        <a:pt x="1920" y="185"/>
                      </a:lnTo>
                      <a:lnTo>
                        <a:pt x="1906" y="186"/>
                      </a:lnTo>
                      <a:lnTo>
                        <a:pt x="1872" y="190"/>
                      </a:lnTo>
                      <a:lnTo>
                        <a:pt x="1910" y="194"/>
                      </a:lnTo>
                      <a:lnTo>
                        <a:pt x="1901" y="204"/>
                      </a:lnTo>
                      <a:lnTo>
                        <a:pt x="1887" y="215"/>
                      </a:lnTo>
                      <a:lnTo>
                        <a:pt x="1873" y="216"/>
                      </a:lnTo>
                      <a:lnTo>
                        <a:pt x="1691" y="191"/>
                      </a:lnTo>
                      <a:lnTo>
                        <a:pt x="1680" y="187"/>
                      </a:lnTo>
                      <a:lnTo>
                        <a:pt x="1713" y="177"/>
                      </a:lnTo>
                      <a:lnTo>
                        <a:pt x="1690" y="173"/>
                      </a:lnTo>
                      <a:lnTo>
                        <a:pt x="1675" y="171"/>
                      </a:lnTo>
                      <a:lnTo>
                        <a:pt x="1664" y="164"/>
                      </a:lnTo>
                      <a:lnTo>
                        <a:pt x="1649" y="159"/>
                      </a:lnTo>
                      <a:lnTo>
                        <a:pt x="1631" y="163"/>
                      </a:lnTo>
                      <a:lnTo>
                        <a:pt x="1613" y="165"/>
                      </a:lnTo>
                      <a:lnTo>
                        <a:pt x="1597" y="171"/>
                      </a:lnTo>
                      <a:lnTo>
                        <a:pt x="1582" y="164"/>
                      </a:lnTo>
                      <a:lnTo>
                        <a:pt x="1565" y="152"/>
                      </a:lnTo>
                      <a:lnTo>
                        <a:pt x="1549" y="143"/>
                      </a:lnTo>
                      <a:lnTo>
                        <a:pt x="1532" y="137"/>
                      </a:lnTo>
                      <a:lnTo>
                        <a:pt x="1514" y="133"/>
                      </a:lnTo>
                      <a:lnTo>
                        <a:pt x="1497" y="131"/>
                      </a:lnTo>
                      <a:lnTo>
                        <a:pt x="1468" y="133"/>
                      </a:lnTo>
                      <a:lnTo>
                        <a:pt x="1445" y="135"/>
                      </a:lnTo>
                      <a:lnTo>
                        <a:pt x="1421" y="138"/>
                      </a:lnTo>
                      <a:lnTo>
                        <a:pt x="1394" y="142"/>
                      </a:lnTo>
                      <a:lnTo>
                        <a:pt x="1366" y="146"/>
                      </a:lnTo>
                      <a:lnTo>
                        <a:pt x="1344" y="148"/>
                      </a:lnTo>
                      <a:lnTo>
                        <a:pt x="1325" y="156"/>
                      </a:lnTo>
                      <a:lnTo>
                        <a:pt x="1305" y="160"/>
                      </a:lnTo>
                      <a:lnTo>
                        <a:pt x="1286" y="160"/>
                      </a:lnTo>
                      <a:lnTo>
                        <a:pt x="1266" y="165"/>
                      </a:lnTo>
                      <a:lnTo>
                        <a:pt x="1246" y="169"/>
                      </a:lnTo>
                      <a:lnTo>
                        <a:pt x="1224" y="174"/>
                      </a:lnTo>
                      <a:lnTo>
                        <a:pt x="1202" y="174"/>
                      </a:lnTo>
                      <a:lnTo>
                        <a:pt x="1180" y="174"/>
                      </a:lnTo>
                      <a:lnTo>
                        <a:pt x="1164" y="173"/>
                      </a:lnTo>
                      <a:lnTo>
                        <a:pt x="1148" y="177"/>
                      </a:lnTo>
                      <a:lnTo>
                        <a:pt x="1128" y="183"/>
                      </a:lnTo>
                      <a:lnTo>
                        <a:pt x="1106" y="183"/>
                      </a:lnTo>
                      <a:lnTo>
                        <a:pt x="1080" y="183"/>
                      </a:lnTo>
                      <a:lnTo>
                        <a:pt x="1058" y="183"/>
                      </a:lnTo>
                      <a:lnTo>
                        <a:pt x="1031" y="183"/>
                      </a:lnTo>
                      <a:lnTo>
                        <a:pt x="980" y="190"/>
                      </a:lnTo>
                      <a:lnTo>
                        <a:pt x="969" y="186"/>
                      </a:lnTo>
                      <a:lnTo>
                        <a:pt x="958" y="178"/>
                      </a:lnTo>
                      <a:lnTo>
                        <a:pt x="943" y="174"/>
                      </a:lnTo>
                      <a:lnTo>
                        <a:pt x="929" y="173"/>
                      </a:lnTo>
                      <a:lnTo>
                        <a:pt x="910" y="174"/>
                      </a:lnTo>
                      <a:lnTo>
                        <a:pt x="888" y="178"/>
                      </a:lnTo>
                      <a:lnTo>
                        <a:pt x="852" y="181"/>
                      </a:lnTo>
                      <a:lnTo>
                        <a:pt x="837" y="176"/>
                      </a:lnTo>
                      <a:lnTo>
                        <a:pt x="826" y="169"/>
                      </a:lnTo>
                      <a:lnTo>
                        <a:pt x="814" y="167"/>
                      </a:lnTo>
                      <a:lnTo>
                        <a:pt x="798" y="165"/>
                      </a:lnTo>
                      <a:lnTo>
                        <a:pt x="784" y="160"/>
                      </a:lnTo>
                      <a:lnTo>
                        <a:pt x="778" y="152"/>
                      </a:lnTo>
                      <a:lnTo>
                        <a:pt x="767" y="138"/>
                      </a:lnTo>
                      <a:lnTo>
                        <a:pt x="755" y="134"/>
                      </a:lnTo>
                      <a:lnTo>
                        <a:pt x="739" y="131"/>
                      </a:lnTo>
                      <a:lnTo>
                        <a:pt x="724" y="131"/>
                      </a:lnTo>
                      <a:lnTo>
                        <a:pt x="717" y="137"/>
                      </a:lnTo>
                      <a:lnTo>
                        <a:pt x="707" y="152"/>
                      </a:lnTo>
                      <a:lnTo>
                        <a:pt x="696" y="148"/>
                      </a:lnTo>
                      <a:lnTo>
                        <a:pt x="684" y="147"/>
                      </a:lnTo>
                      <a:lnTo>
                        <a:pt x="669" y="148"/>
                      </a:lnTo>
                      <a:lnTo>
                        <a:pt x="655" y="155"/>
                      </a:lnTo>
                      <a:lnTo>
                        <a:pt x="637" y="159"/>
                      </a:lnTo>
                      <a:lnTo>
                        <a:pt x="615" y="159"/>
                      </a:lnTo>
                      <a:lnTo>
                        <a:pt x="632" y="146"/>
                      </a:lnTo>
                      <a:lnTo>
                        <a:pt x="639" y="137"/>
                      </a:lnTo>
                      <a:lnTo>
                        <a:pt x="624" y="139"/>
                      </a:lnTo>
                      <a:lnTo>
                        <a:pt x="595" y="146"/>
                      </a:lnTo>
                      <a:lnTo>
                        <a:pt x="570" y="144"/>
                      </a:lnTo>
                      <a:lnTo>
                        <a:pt x="569" y="137"/>
                      </a:lnTo>
                      <a:lnTo>
                        <a:pt x="565" y="129"/>
                      </a:lnTo>
                      <a:lnTo>
                        <a:pt x="559" y="124"/>
                      </a:lnTo>
                      <a:lnTo>
                        <a:pt x="545" y="119"/>
                      </a:lnTo>
                      <a:lnTo>
                        <a:pt x="530" y="119"/>
                      </a:lnTo>
                      <a:lnTo>
                        <a:pt x="511" y="121"/>
                      </a:lnTo>
                      <a:lnTo>
                        <a:pt x="493" y="124"/>
                      </a:lnTo>
                      <a:lnTo>
                        <a:pt x="476" y="119"/>
                      </a:lnTo>
                      <a:lnTo>
                        <a:pt x="455" y="112"/>
                      </a:lnTo>
                      <a:lnTo>
                        <a:pt x="441" y="103"/>
                      </a:lnTo>
                      <a:lnTo>
                        <a:pt x="456" y="85"/>
                      </a:lnTo>
                      <a:lnTo>
                        <a:pt x="471" y="79"/>
                      </a:lnTo>
                      <a:lnTo>
                        <a:pt x="488" y="71"/>
                      </a:lnTo>
                      <a:lnTo>
                        <a:pt x="499" y="66"/>
                      </a:lnTo>
                      <a:lnTo>
                        <a:pt x="508" y="58"/>
                      </a:lnTo>
                      <a:lnTo>
                        <a:pt x="514" y="49"/>
                      </a:lnTo>
                      <a:lnTo>
                        <a:pt x="517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714280" y="3722400"/>
                  <a:ext cx="820800" cy="99000"/>
                </a:xfrm>
                <a:custGeom>
                  <a:avLst/>
                  <a:gdLst/>
                  <a:ahLst/>
                  <a:rect l="l" t="t" r="r" b="b"/>
                  <a:pathLst>
                    <a:path w="626" h="79">
                      <a:moveTo>
                        <a:pt x="0" y="40"/>
                      </a:moveTo>
                      <a:lnTo>
                        <a:pt x="43" y="30"/>
                      </a:lnTo>
                      <a:lnTo>
                        <a:pt x="54" y="20"/>
                      </a:lnTo>
                      <a:lnTo>
                        <a:pt x="72" y="17"/>
                      </a:lnTo>
                      <a:lnTo>
                        <a:pt x="85" y="15"/>
                      </a:lnTo>
                      <a:lnTo>
                        <a:pt x="101" y="12"/>
                      </a:lnTo>
                      <a:lnTo>
                        <a:pt x="118" y="12"/>
                      </a:lnTo>
                      <a:lnTo>
                        <a:pt x="139" y="12"/>
                      </a:lnTo>
                      <a:lnTo>
                        <a:pt x="157" y="8"/>
                      </a:lnTo>
                      <a:lnTo>
                        <a:pt x="172" y="7"/>
                      </a:lnTo>
                      <a:lnTo>
                        <a:pt x="198" y="8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5"/>
                      </a:lnTo>
                      <a:lnTo>
                        <a:pt x="276" y="12"/>
                      </a:lnTo>
                      <a:lnTo>
                        <a:pt x="296" y="17"/>
                      </a:lnTo>
                      <a:lnTo>
                        <a:pt x="326" y="20"/>
                      </a:lnTo>
                      <a:lnTo>
                        <a:pt x="341" y="16"/>
                      </a:lnTo>
                      <a:lnTo>
                        <a:pt x="360" y="17"/>
                      </a:lnTo>
                      <a:lnTo>
                        <a:pt x="373" y="20"/>
                      </a:lnTo>
                      <a:lnTo>
                        <a:pt x="394" y="30"/>
                      </a:lnTo>
                      <a:lnTo>
                        <a:pt x="410" y="43"/>
                      </a:lnTo>
                      <a:lnTo>
                        <a:pt x="436" y="50"/>
                      </a:lnTo>
                      <a:lnTo>
                        <a:pt x="473" y="47"/>
                      </a:lnTo>
                      <a:lnTo>
                        <a:pt x="492" y="55"/>
                      </a:lnTo>
                      <a:lnTo>
                        <a:pt x="509" y="59"/>
                      </a:lnTo>
                      <a:lnTo>
                        <a:pt x="532" y="61"/>
                      </a:lnTo>
                      <a:lnTo>
                        <a:pt x="625" y="74"/>
                      </a:lnTo>
                      <a:lnTo>
                        <a:pt x="524" y="69"/>
                      </a:lnTo>
                      <a:lnTo>
                        <a:pt x="505" y="73"/>
                      </a:lnTo>
                      <a:lnTo>
                        <a:pt x="488" y="78"/>
                      </a:lnTo>
                      <a:lnTo>
                        <a:pt x="476" y="77"/>
                      </a:lnTo>
                      <a:lnTo>
                        <a:pt x="461" y="74"/>
                      </a:lnTo>
                      <a:lnTo>
                        <a:pt x="442" y="67"/>
                      </a:lnTo>
                      <a:lnTo>
                        <a:pt x="415" y="65"/>
                      </a:lnTo>
                      <a:lnTo>
                        <a:pt x="390" y="58"/>
                      </a:lnTo>
                      <a:lnTo>
                        <a:pt x="373" y="59"/>
                      </a:lnTo>
                      <a:lnTo>
                        <a:pt x="354" y="61"/>
                      </a:lnTo>
                      <a:lnTo>
                        <a:pt x="313" y="55"/>
                      </a:lnTo>
                      <a:lnTo>
                        <a:pt x="292" y="52"/>
                      </a:lnTo>
                      <a:lnTo>
                        <a:pt x="265" y="43"/>
                      </a:lnTo>
                      <a:lnTo>
                        <a:pt x="238" y="43"/>
                      </a:lnTo>
                      <a:lnTo>
                        <a:pt x="206" y="43"/>
                      </a:lnTo>
                      <a:lnTo>
                        <a:pt x="183" y="44"/>
                      </a:lnTo>
                      <a:lnTo>
                        <a:pt x="161" y="42"/>
                      </a:lnTo>
                      <a:lnTo>
                        <a:pt x="139" y="34"/>
                      </a:lnTo>
                      <a:lnTo>
                        <a:pt x="118" y="40"/>
                      </a:lnTo>
                      <a:lnTo>
                        <a:pt x="99" y="31"/>
                      </a:lnTo>
                      <a:lnTo>
                        <a:pt x="83" y="34"/>
                      </a:lnTo>
                      <a:lnTo>
                        <a:pt x="60" y="35"/>
                      </a:lnTo>
                      <a:lnTo>
                        <a:pt x="35" y="36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198680" y="3834360"/>
                  <a:ext cx="3449520" cy="340920"/>
                </a:xfrm>
                <a:custGeom>
                  <a:avLst/>
                  <a:gdLst/>
                  <a:ahLst/>
                  <a:rect l="l" t="t" r="r" b="b"/>
                  <a:pathLst>
                    <a:path w="2631" h="272">
                      <a:moveTo>
                        <a:pt x="492" y="0"/>
                      </a:moveTo>
                      <a:lnTo>
                        <a:pt x="471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4"/>
                      </a:lnTo>
                      <a:lnTo>
                        <a:pt x="428" y="35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5"/>
                      </a:lnTo>
                      <a:lnTo>
                        <a:pt x="365" y="52"/>
                      </a:lnTo>
                      <a:lnTo>
                        <a:pt x="347" y="52"/>
                      </a:lnTo>
                      <a:lnTo>
                        <a:pt x="325" y="63"/>
                      </a:lnTo>
                      <a:lnTo>
                        <a:pt x="299" y="53"/>
                      </a:lnTo>
                      <a:lnTo>
                        <a:pt x="314" y="76"/>
                      </a:lnTo>
                      <a:lnTo>
                        <a:pt x="289" y="76"/>
                      </a:lnTo>
                      <a:lnTo>
                        <a:pt x="258" y="77"/>
                      </a:lnTo>
                      <a:lnTo>
                        <a:pt x="234" y="71"/>
                      </a:lnTo>
                      <a:lnTo>
                        <a:pt x="207" y="85"/>
                      </a:lnTo>
                      <a:lnTo>
                        <a:pt x="182" y="76"/>
                      </a:lnTo>
                      <a:lnTo>
                        <a:pt x="175" y="77"/>
                      </a:lnTo>
                      <a:lnTo>
                        <a:pt x="169" y="83"/>
                      </a:lnTo>
                      <a:lnTo>
                        <a:pt x="160" y="90"/>
                      </a:lnTo>
                      <a:lnTo>
                        <a:pt x="155" y="98"/>
                      </a:lnTo>
                      <a:lnTo>
                        <a:pt x="145" y="105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6"/>
                      </a:lnTo>
                      <a:lnTo>
                        <a:pt x="84" y="124"/>
                      </a:lnTo>
                      <a:lnTo>
                        <a:pt x="73" y="124"/>
                      </a:lnTo>
                      <a:lnTo>
                        <a:pt x="56" y="125"/>
                      </a:lnTo>
                      <a:lnTo>
                        <a:pt x="36" y="125"/>
                      </a:lnTo>
                      <a:lnTo>
                        <a:pt x="16" y="133"/>
                      </a:lnTo>
                      <a:lnTo>
                        <a:pt x="0" y="152"/>
                      </a:lnTo>
                      <a:lnTo>
                        <a:pt x="14" y="150"/>
                      </a:lnTo>
                      <a:lnTo>
                        <a:pt x="36" y="144"/>
                      </a:lnTo>
                      <a:lnTo>
                        <a:pt x="58" y="143"/>
                      </a:lnTo>
                      <a:lnTo>
                        <a:pt x="74" y="144"/>
                      </a:lnTo>
                      <a:lnTo>
                        <a:pt x="89" y="152"/>
                      </a:lnTo>
                      <a:lnTo>
                        <a:pt x="106" y="155"/>
                      </a:lnTo>
                      <a:lnTo>
                        <a:pt x="122" y="150"/>
                      </a:lnTo>
                      <a:lnTo>
                        <a:pt x="140" y="144"/>
                      </a:lnTo>
                      <a:lnTo>
                        <a:pt x="156" y="139"/>
                      </a:lnTo>
                      <a:lnTo>
                        <a:pt x="171" y="139"/>
                      </a:lnTo>
                      <a:lnTo>
                        <a:pt x="182" y="150"/>
                      </a:lnTo>
                      <a:lnTo>
                        <a:pt x="192" y="159"/>
                      </a:lnTo>
                      <a:lnTo>
                        <a:pt x="210" y="159"/>
                      </a:lnTo>
                      <a:lnTo>
                        <a:pt x="226" y="156"/>
                      </a:lnTo>
                      <a:lnTo>
                        <a:pt x="245" y="150"/>
                      </a:lnTo>
                      <a:lnTo>
                        <a:pt x="262" y="146"/>
                      </a:lnTo>
                      <a:lnTo>
                        <a:pt x="278" y="155"/>
                      </a:lnTo>
                      <a:lnTo>
                        <a:pt x="295" y="164"/>
                      </a:lnTo>
                      <a:lnTo>
                        <a:pt x="311" y="168"/>
                      </a:lnTo>
                      <a:lnTo>
                        <a:pt x="328" y="171"/>
                      </a:lnTo>
                      <a:lnTo>
                        <a:pt x="349" y="174"/>
                      </a:lnTo>
                      <a:lnTo>
                        <a:pt x="371" y="176"/>
                      </a:lnTo>
                      <a:lnTo>
                        <a:pt x="392" y="174"/>
                      </a:lnTo>
                      <a:lnTo>
                        <a:pt x="417" y="169"/>
                      </a:lnTo>
                      <a:lnTo>
                        <a:pt x="406" y="153"/>
                      </a:lnTo>
                      <a:lnTo>
                        <a:pt x="408" y="143"/>
                      </a:lnTo>
                      <a:lnTo>
                        <a:pt x="419" y="137"/>
                      </a:lnTo>
                      <a:lnTo>
                        <a:pt x="422" y="148"/>
                      </a:lnTo>
                      <a:lnTo>
                        <a:pt x="436" y="159"/>
                      </a:lnTo>
                      <a:lnTo>
                        <a:pt x="450" y="164"/>
                      </a:lnTo>
                      <a:lnTo>
                        <a:pt x="465" y="168"/>
                      </a:lnTo>
                      <a:lnTo>
                        <a:pt x="482" y="174"/>
                      </a:lnTo>
                      <a:lnTo>
                        <a:pt x="500" y="177"/>
                      </a:lnTo>
                      <a:lnTo>
                        <a:pt x="526" y="180"/>
                      </a:lnTo>
                      <a:lnTo>
                        <a:pt x="543" y="178"/>
                      </a:lnTo>
                      <a:lnTo>
                        <a:pt x="563" y="180"/>
                      </a:lnTo>
                      <a:lnTo>
                        <a:pt x="596" y="187"/>
                      </a:lnTo>
                      <a:lnTo>
                        <a:pt x="585" y="195"/>
                      </a:lnTo>
                      <a:lnTo>
                        <a:pt x="570" y="204"/>
                      </a:lnTo>
                      <a:lnTo>
                        <a:pt x="541" y="219"/>
                      </a:lnTo>
                      <a:lnTo>
                        <a:pt x="559" y="220"/>
                      </a:lnTo>
                      <a:lnTo>
                        <a:pt x="576" y="222"/>
                      </a:lnTo>
                      <a:lnTo>
                        <a:pt x="599" y="227"/>
                      </a:lnTo>
                      <a:lnTo>
                        <a:pt x="624" y="229"/>
                      </a:lnTo>
                      <a:lnTo>
                        <a:pt x="637" y="228"/>
                      </a:lnTo>
                      <a:lnTo>
                        <a:pt x="648" y="220"/>
                      </a:lnTo>
                      <a:lnTo>
                        <a:pt x="663" y="216"/>
                      </a:lnTo>
                      <a:lnTo>
                        <a:pt x="684" y="215"/>
                      </a:lnTo>
                      <a:lnTo>
                        <a:pt x="711" y="213"/>
                      </a:lnTo>
                      <a:lnTo>
                        <a:pt x="730" y="204"/>
                      </a:lnTo>
                      <a:lnTo>
                        <a:pt x="757" y="196"/>
                      </a:lnTo>
                      <a:lnTo>
                        <a:pt x="778" y="190"/>
                      </a:lnTo>
                      <a:lnTo>
                        <a:pt x="794" y="191"/>
                      </a:lnTo>
                      <a:lnTo>
                        <a:pt x="847" y="194"/>
                      </a:lnTo>
                      <a:lnTo>
                        <a:pt x="888" y="198"/>
                      </a:lnTo>
                      <a:lnTo>
                        <a:pt x="915" y="198"/>
                      </a:lnTo>
                      <a:lnTo>
                        <a:pt x="937" y="200"/>
                      </a:lnTo>
                      <a:lnTo>
                        <a:pt x="974" y="218"/>
                      </a:lnTo>
                      <a:lnTo>
                        <a:pt x="992" y="218"/>
                      </a:lnTo>
                      <a:lnTo>
                        <a:pt x="1013" y="213"/>
                      </a:lnTo>
                      <a:lnTo>
                        <a:pt x="1035" y="207"/>
                      </a:lnTo>
                      <a:lnTo>
                        <a:pt x="1053" y="204"/>
                      </a:lnTo>
                      <a:lnTo>
                        <a:pt x="1116" y="198"/>
                      </a:lnTo>
                      <a:lnTo>
                        <a:pt x="1158" y="196"/>
                      </a:lnTo>
                      <a:lnTo>
                        <a:pt x="1185" y="194"/>
                      </a:lnTo>
                      <a:lnTo>
                        <a:pt x="1207" y="191"/>
                      </a:lnTo>
                      <a:lnTo>
                        <a:pt x="1229" y="189"/>
                      </a:lnTo>
                      <a:lnTo>
                        <a:pt x="1255" y="185"/>
                      </a:lnTo>
                      <a:lnTo>
                        <a:pt x="1273" y="180"/>
                      </a:lnTo>
                      <a:lnTo>
                        <a:pt x="1299" y="173"/>
                      </a:lnTo>
                      <a:lnTo>
                        <a:pt x="1314" y="181"/>
                      </a:lnTo>
                      <a:lnTo>
                        <a:pt x="1323" y="191"/>
                      </a:lnTo>
                      <a:lnTo>
                        <a:pt x="1313" y="202"/>
                      </a:lnTo>
                      <a:lnTo>
                        <a:pt x="1294" y="209"/>
                      </a:lnTo>
                      <a:lnTo>
                        <a:pt x="1317" y="209"/>
                      </a:lnTo>
                      <a:lnTo>
                        <a:pt x="1305" y="218"/>
                      </a:lnTo>
                      <a:lnTo>
                        <a:pt x="1287" y="227"/>
                      </a:lnTo>
                      <a:lnTo>
                        <a:pt x="1262" y="238"/>
                      </a:lnTo>
                      <a:lnTo>
                        <a:pt x="1239" y="246"/>
                      </a:lnTo>
                      <a:lnTo>
                        <a:pt x="1268" y="242"/>
                      </a:lnTo>
                      <a:lnTo>
                        <a:pt x="1292" y="238"/>
                      </a:lnTo>
                      <a:lnTo>
                        <a:pt x="1317" y="231"/>
                      </a:lnTo>
                      <a:lnTo>
                        <a:pt x="1334" y="225"/>
                      </a:lnTo>
                      <a:lnTo>
                        <a:pt x="1342" y="222"/>
                      </a:lnTo>
                      <a:lnTo>
                        <a:pt x="1355" y="220"/>
                      </a:lnTo>
                      <a:lnTo>
                        <a:pt x="1372" y="220"/>
                      </a:lnTo>
                      <a:lnTo>
                        <a:pt x="1392" y="222"/>
                      </a:lnTo>
                      <a:lnTo>
                        <a:pt x="1410" y="227"/>
                      </a:lnTo>
                      <a:lnTo>
                        <a:pt x="1427" y="228"/>
                      </a:lnTo>
                      <a:lnTo>
                        <a:pt x="1449" y="227"/>
                      </a:lnTo>
                      <a:lnTo>
                        <a:pt x="1432" y="242"/>
                      </a:lnTo>
                      <a:lnTo>
                        <a:pt x="1414" y="253"/>
                      </a:lnTo>
                      <a:lnTo>
                        <a:pt x="1394" y="261"/>
                      </a:lnTo>
                      <a:lnTo>
                        <a:pt x="1417" y="258"/>
                      </a:lnTo>
                      <a:lnTo>
                        <a:pt x="1439" y="254"/>
                      </a:lnTo>
                      <a:lnTo>
                        <a:pt x="1462" y="252"/>
                      </a:lnTo>
                      <a:lnTo>
                        <a:pt x="1482" y="247"/>
                      </a:lnTo>
                      <a:lnTo>
                        <a:pt x="1506" y="244"/>
                      </a:lnTo>
                      <a:lnTo>
                        <a:pt x="1535" y="241"/>
                      </a:lnTo>
                      <a:lnTo>
                        <a:pt x="1561" y="241"/>
                      </a:lnTo>
                      <a:lnTo>
                        <a:pt x="1582" y="236"/>
                      </a:lnTo>
                      <a:lnTo>
                        <a:pt x="1587" y="231"/>
                      </a:lnTo>
                      <a:lnTo>
                        <a:pt x="1594" y="227"/>
                      </a:lnTo>
                      <a:lnTo>
                        <a:pt x="1609" y="227"/>
                      </a:lnTo>
                      <a:lnTo>
                        <a:pt x="1635" y="232"/>
                      </a:lnTo>
                      <a:lnTo>
                        <a:pt x="1667" y="236"/>
                      </a:lnTo>
                      <a:lnTo>
                        <a:pt x="1697" y="241"/>
                      </a:lnTo>
                      <a:lnTo>
                        <a:pt x="1713" y="244"/>
                      </a:lnTo>
                      <a:lnTo>
                        <a:pt x="1742" y="244"/>
                      </a:lnTo>
                      <a:lnTo>
                        <a:pt x="1775" y="246"/>
                      </a:lnTo>
                      <a:lnTo>
                        <a:pt x="1799" y="250"/>
                      </a:lnTo>
                      <a:lnTo>
                        <a:pt x="1830" y="258"/>
                      </a:lnTo>
                      <a:lnTo>
                        <a:pt x="1856" y="262"/>
                      </a:lnTo>
                      <a:lnTo>
                        <a:pt x="1878" y="265"/>
                      </a:lnTo>
                      <a:lnTo>
                        <a:pt x="1900" y="262"/>
                      </a:lnTo>
                      <a:lnTo>
                        <a:pt x="1934" y="253"/>
                      </a:lnTo>
                      <a:lnTo>
                        <a:pt x="1963" y="258"/>
                      </a:lnTo>
                      <a:lnTo>
                        <a:pt x="1989" y="258"/>
                      </a:lnTo>
                      <a:lnTo>
                        <a:pt x="2016" y="258"/>
                      </a:lnTo>
                      <a:lnTo>
                        <a:pt x="2043" y="257"/>
                      </a:lnTo>
                      <a:lnTo>
                        <a:pt x="2080" y="249"/>
                      </a:lnTo>
                      <a:lnTo>
                        <a:pt x="2098" y="249"/>
                      </a:lnTo>
                      <a:lnTo>
                        <a:pt x="2119" y="247"/>
                      </a:lnTo>
                      <a:lnTo>
                        <a:pt x="2157" y="252"/>
                      </a:lnTo>
                      <a:lnTo>
                        <a:pt x="2176" y="254"/>
                      </a:lnTo>
                      <a:lnTo>
                        <a:pt x="2193" y="253"/>
                      </a:lnTo>
                      <a:lnTo>
                        <a:pt x="2215" y="250"/>
                      </a:lnTo>
                      <a:lnTo>
                        <a:pt x="2237" y="249"/>
                      </a:lnTo>
                      <a:lnTo>
                        <a:pt x="2253" y="249"/>
                      </a:lnTo>
                      <a:lnTo>
                        <a:pt x="2260" y="252"/>
                      </a:lnTo>
                      <a:lnTo>
                        <a:pt x="2260" y="262"/>
                      </a:lnTo>
                      <a:lnTo>
                        <a:pt x="2268" y="265"/>
                      </a:lnTo>
                      <a:lnTo>
                        <a:pt x="2282" y="265"/>
                      </a:lnTo>
                      <a:lnTo>
                        <a:pt x="2296" y="262"/>
                      </a:lnTo>
                      <a:lnTo>
                        <a:pt x="2308" y="253"/>
                      </a:lnTo>
                      <a:lnTo>
                        <a:pt x="2316" y="244"/>
                      </a:lnTo>
                      <a:lnTo>
                        <a:pt x="2324" y="240"/>
                      </a:lnTo>
                      <a:lnTo>
                        <a:pt x="2346" y="240"/>
                      </a:lnTo>
                      <a:lnTo>
                        <a:pt x="2363" y="240"/>
                      </a:lnTo>
                      <a:lnTo>
                        <a:pt x="2383" y="249"/>
                      </a:lnTo>
                      <a:lnTo>
                        <a:pt x="2400" y="254"/>
                      </a:lnTo>
                      <a:lnTo>
                        <a:pt x="2419" y="262"/>
                      </a:lnTo>
                      <a:lnTo>
                        <a:pt x="2431" y="263"/>
                      </a:lnTo>
                      <a:lnTo>
                        <a:pt x="2444" y="265"/>
                      </a:lnTo>
                      <a:lnTo>
                        <a:pt x="2457" y="265"/>
                      </a:lnTo>
                      <a:lnTo>
                        <a:pt x="2479" y="262"/>
                      </a:lnTo>
                      <a:lnTo>
                        <a:pt x="2553" y="271"/>
                      </a:lnTo>
                      <a:lnTo>
                        <a:pt x="2531" y="262"/>
                      </a:lnTo>
                      <a:lnTo>
                        <a:pt x="2518" y="258"/>
                      </a:lnTo>
                      <a:lnTo>
                        <a:pt x="2512" y="249"/>
                      </a:lnTo>
                      <a:lnTo>
                        <a:pt x="2518" y="242"/>
                      </a:lnTo>
                      <a:lnTo>
                        <a:pt x="2544" y="237"/>
                      </a:lnTo>
                      <a:lnTo>
                        <a:pt x="2561" y="232"/>
                      </a:lnTo>
                      <a:lnTo>
                        <a:pt x="2583" y="227"/>
                      </a:lnTo>
                      <a:lnTo>
                        <a:pt x="2601" y="218"/>
                      </a:lnTo>
                      <a:lnTo>
                        <a:pt x="2630" y="207"/>
                      </a:lnTo>
                      <a:lnTo>
                        <a:pt x="2588" y="207"/>
                      </a:lnTo>
                      <a:lnTo>
                        <a:pt x="2560" y="206"/>
                      </a:lnTo>
                      <a:lnTo>
                        <a:pt x="2534" y="202"/>
                      </a:lnTo>
                      <a:lnTo>
                        <a:pt x="2512" y="200"/>
                      </a:lnTo>
                      <a:lnTo>
                        <a:pt x="2497" y="200"/>
                      </a:lnTo>
                      <a:lnTo>
                        <a:pt x="2485" y="202"/>
                      </a:lnTo>
                      <a:lnTo>
                        <a:pt x="2472" y="204"/>
                      </a:lnTo>
                      <a:lnTo>
                        <a:pt x="2456" y="209"/>
                      </a:lnTo>
                      <a:lnTo>
                        <a:pt x="2441" y="213"/>
                      </a:lnTo>
                      <a:lnTo>
                        <a:pt x="2463" y="219"/>
                      </a:lnTo>
                      <a:lnTo>
                        <a:pt x="2479" y="227"/>
                      </a:lnTo>
                      <a:lnTo>
                        <a:pt x="2490" y="236"/>
                      </a:lnTo>
                      <a:lnTo>
                        <a:pt x="2494" y="244"/>
                      </a:lnTo>
                      <a:lnTo>
                        <a:pt x="2490" y="253"/>
                      </a:lnTo>
                      <a:lnTo>
                        <a:pt x="2474" y="250"/>
                      </a:lnTo>
                      <a:lnTo>
                        <a:pt x="2461" y="247"/>
                      </a:lnTo>
                      <a:lnTo>
                        <a:pt x="2452" y="240"/>
                      </a:lnTo>
                      <a:lnTo>
                        <a:pt x="2435" y="232"/>
                      </a:lnTo>
                      <a:lnTo>
                        <a:pt x="2415" y="229"/>
                      </a:lnTo>
                      <a:lnTo>
                        <a:pt x="2397" y="227"/>
                      </a:lnTo>
                      <a:lnTo>
                        <a:pt x="2372" y="229"/>
                      </a:lnTo>
                      <a:lnTo>
                        <a:pt x="2356" y="228"/>
                      </a:lnTo>
                      <a:lnTo>
                        <a:pt x="2341" y="227"/>
                      </a:lnTo>
                      <a:lnTo>
                        <a:pt x="2324" y="222"/>
                      </a:lnTo>
                      <a:lnTo>
                        <a:pt x="2307" y="216"/>
                      </a:lnTo>
                      <a:lnTo>
                        <a:pt x="2291" y="209"/>
                      </a:lnTo>
                      <a:lnTo>
                        <a:pt x="2276" y="204"/>
                      </a:lnTo>
                      <a:lnTo>
                        <a:pt x="2263" y="204"/>
                      </a:lnTo>
                      <a:lnTo>
                        <a:pt x="2249" y="209"/>
                      </a:lnTo>
                      <a:lnTo>
                        <a:pt x="2233" y="213"/>
                      </a:lnTo>
                      <a:lnTo>
                        <a:pt x="2216" y="213"/>
                      </a:lnTo>
                      <a:lnTo>
                        <a:pt x="2194" y="213"/>
                      </a:lnTo>
                      <a:lnTo>
                        <a:pt x="2176" y="210"/>
                      </a:lnTo>
                      <a:lnTo>
                        <a:pt x="2159" y="207"/>
                      </a:lnTo>
                      <a:lnTo>
                        <a:pt x="2142" y="206"/>
                      </a:lnTo>
                      <a:lnTo>
                        <a:pt x="2128" y="207"/>
                      </a:lnTo>
                      <a:lnTo>
                        <a:pt x="2108" y="209"/>
                      </a:lnTo>
                      <a:lnTo>
                        <a:pt x="2091" y="211"/>
                      </a:lnTo>
                      <a:lnTo>
                        <a:pt x="2071" y="209"/>
                      </a:lnTo>
                      <a:lnTo>
                        <a:pt x="2048" y="207"/>
                      </a:lnTo>
                      <a:lnTo>
                        <a:pt x="2021" y="206"/>
                      </a:lnTo>
                      <a:lnTo>
                        <a:pt x="1995" y="204"/>
                      </a:lnTo>
                      <a:lnTo>
                        <a:pt x="1978" y="199"/>
                      </a:lnTo>
                      <a:lnTo>
                        <a:pt x="1960" y="194"/>
                      </a:lnTo>
                      <a:lnTo>
                        <a:pt x="1945" y="187"/>
                      </a:lnTo>
                      <a:lnTo>
                        <a:pt x="1931" y="185"/>
                      </a:lnTo>
                      <a:lnTo>
                        <a:pt x="1920" y="185"/>
                      </a:lnTo>
                      <a:lnTo>
                        <a:pt x="1906" y="186"/>
                      </a:lnTo>
                      <a:lnTo>
                        <a:pt x="1872" y="190"/>
                      </a:lnTo>
                      <a:lnTo>
                        <a:pt x="1910" y="194"/>
                      </a:lnTo>
                      <a:lnTo>
                        <a:pt x="1901" y="204"/>
                      </a:lnTo>
                      <a:lnTo>
                        <a:pt x="1887" y="215"/>
                      </a:lnTo>
                      <a:lnTo>
                        <a:pt x="1873" y="216"/>
                      </a:lnTo>
                      <a:lnTo>
                        <a:pt x="1691" y="191"/>
                      </a:lnTo>
                      <a:lnTo>
                        <a:pt x="1680" y="187"/>
                      </a:lnTo>
                      <a:lnTo>
                        <a:pt x="1713" y="177"/>
                      </a:lnTo>
                      <a:lnTo>
                        <a:pt x="1690" y="173"/>
                      </a:lnTo>
                      <a:lnTo>
                        <a:pt x="1675" y="171"/>
                      </a:lnTo>
                      <a:lnTo>
                        <a:pt x="1664" y="164"/>
                      </a:lnTo>
                      <a:lnTo>
                        <a:pt x="1649" y="159"/>
                      </a:lnTo>
                      <a:lnTo>
                        <a:pt x="1631" y="163"/>
                      </a:lnTo>
                      <a:lnTo>
                        <a:pt x="1613" y="165"/>
                      </a:lnTo>
                      <a:lnTo>
                        <a:pt x="1597" y="171"/>
                      </a:lnTo>
                      <a:lnTo>
                        <a:pt x="1582" y="164"/>
                      </a:lnTo>
                      <a:lnTo>
                        <a:pt x="1565" y="152"/>
                      </a:lnTo>
                      <a:lnTo>
                        <a:pt x="1549" y="143"/>
                      </a:lnTo>
                      <a:lnTo>
                        <a:pt x="1532" y="137"/>
                      </a:lnTo>
                      <a:lnTo>
                        <a:pt x="1514" y="133"/>
                      </a:lnTo>
                      <a:lnTo>
                        <a:pt x="1497" y="131"/>
                      </a:lnTo>
                      <a:lnTo>
                        <a:pt x="1468" y="133"/>
                      </a:lnTo>
                      <a:lnTo>
                        <a:pt x="1445" y="135"/>
                      </a:lnTo>
                      <a:lnTo>
                        <a:pt x="1421" y="138"/>
                      </a:lnTo>
                      <a:lnTo>
                        <a:pt x="1394" y="142"/>
                      </a:lnTo>
                      <a:lnTo>
                        <a:pt x="1366" y="146"/>
                      </a:lnTo>
                      <a:lnTo>
                        <a:pt x="1344" y="148"/>
                      </a:lnTo>
                      <a:lnTo>
                        <a:pt x="1325" y="156"/>
                      </a:lnTo>
                      <a:lnTo>
                        <a:pt x="1305" y="160"/>
                      </a:lnTo>
                      <a:lnTo>
                        <a:pt x="1286" y="160"/>
                      </a:lnTo>
                      <a:lnTo>
                        <a:pt x="1266" y="165"/>
                      </a:lnTo>
                      <a:lnTo>
                        <a:pt x="1246" y="169"/>
                      </a:lnTo>
                      <a:lnTo>
                        <a:pt x="1224" y="174"/>
                      </a:lnTo>
                      <a:lnTo>
                        <a:pt x="1202" y="174"/>
                      </a:lnTo>
                      <a:lnTo>
                        <a:pt x="1180" y="174"/>
                      </a:lnTo>
                      <a:lnTo>
                        <a:pt x="1164" y="173"/>
                      </a:lnTo>
                      <a:lnTo>
                        <a:pt x="1148" y="177"/>
                      </a:lnTo>
                      <a:lnTo>
                        <a:pt x="1128" y="183"/>
                      </a:lnTo>
                      <a:lnTo>
                        <a:pt x="1106" y="183"/>
                      </a:lnTo>
                      <a:lnTo>
                        <a:pt x="1080" y="183"/>
                      </a:lnTo>
                      <a:lnTo>
                        <a:pt x="1058" y="183"/>
                      </a:lnTo>
                      <a:lnTo>
                        <a:pt x="1031" y="183"/>
                      </a:lnTo>
                      <a:lnTo>
                        <a:pt x="980" y="190"/>
                      </a:lnTo>
                      <a:lnTo>
                        <a:pt x="969" y="186"/>
                      </a:lnTo>
                      <a:lnTo>
                        <a:pt x="958" y="178"/>
                      </a:lnTo>
                      <a:lnTo>
                        <a:pt x="943" y="174"/>
                      </a:lnTo>
                      <a:lnTo>
                        <a:pt x="929" y="173"/>
                      </a:lnTo>
                      <a:lnTo>
                        <a:pt x="910" y="174"/>
                      </a:lnTo>
                      <a:lnTo>
                        <a:pt x="888" y="178"/>
                      </a:lnTo>
                      <a:lnTo>
                        <a:pt x="852" y="181"/>
                      </a:lnTo>
                      <a:lnTo>
                        <a:pt x="837" y="176"/>
                      </a:lnTo>
                      <a:lnTo>
                        <a:pt x="826" y="169"/>
                      </a:lnTo>
                      <a:lnTo>
                        <a:pt x="814" y="167"/>
                      </a:lnTo>
                      <a:lnTo>
                        <a:pt x="798" y="165"/>
                      </a:lnTo>
                      <a:lnTo>
                        <a:pt x="784" y="160"/>
                      </a:lnTo>
                      <a:lnTo>
                        <a:pt x="778" y="152"/>
                      </a:lnTo>
                      <a:lnTo>
                        <a:pt x="767" y="138"/>
                      </a:lnTo>
                      <a:lnTo>
                        <a:pt x="755" y="134"/>
                      </a:lnTo>
                      <a:lnTo>
                        <a:pt x="739" y="131"/>
                      </a:lnTo>
                      <a:lnTo>
                        <a:pt x="724" y="131"/>
                      </a:lnTo>
                      <a:lnTo>
                        <a:pt x="717" y="137"/>
                      </a:lnTo>
                      <a:lnTo>
                        <a:pt x="707" y="152"/>
                      </a:lnTo>
                      <a:lnTo>
                        <a:pt x="696" y="148"/>
                      </a:lnTo>
                      <a:lnTo>
                        <a:pt x="684" y="147"/>
                      </a:lnTo>
                      <a:lnTo>
                        <a:pt x="669" y="148"/>
                      </a:lnTo>
                      <a:lnTo>
                        <a:pt x="655" y="155"/>
                      </a:lnTo>
                      <a:lnTo>
                        <a:pt x="637" y="159"/>
                      </a:lnTo>
                      <a:lnTo>
                        <a:pt x="615" y="159"/>
                      </a:lnTo>
                      <a:lnTo>
                        <a:pt x="632" y="146"/>
                      </a:lnTo>
                      <a:lnTo>
                        <a:pt x="639" y="137"/>
                      </a:lnTo>
                      <a:lnTo>
                        <a:pt x="624" y="139"/>
                      </a:lnTo>
                      <a:lnTo>
                        <a:pt x="595" y="146"/>
                      </a:lnTo>
                      <a:lnTo>
                        <a:pt x="570" y="144"/>
                      </a:lnTo>
                      <a:lnTo>
                        <a:pt x="569" y="137"/>
                      </a:lnTo>
                      <a:lnTo>
                        <a:pt x="565" y="129"/>
                      </a:lnTo>
                      <a:lnTo>
                        <a:pt x="559" y="124"/>
                      </a:lnTo>
                      <a:lnTo>
                        <a:pt x="545" y="119"/>
                      </a:lnTo>
                      <a:lnTo>
                        <a:pt x="530" y="119"/>
                      </a:lnTo>
                      <a:lnTo>
                        <a:pt x="511" y="121"/>
                      </a:lnTo>
                      <a:lnTo>
                        <a:pt x="493" y="124"/>
                      </a:lnTo>
                      <a:lnTo>
                        <a:pt x="476" y="119"/>
                      </a:lnTo>
                      <a:lnTo>
                        <a:pt x="455" y="112"/>
                      </a:lnTo>
                      <a:lnTo>
                        <a:pt x="441" y="103"/>
                      </a:lnTo>
                      <a:lnTo>
                        <a:pt x="456" y="85"/>
                      </a:lnTo>
                      <a:lnTo>
                        <a:pt x="471" y="79"/>
                      </a:lnTo>
                      <a:lnTo>
                        <a:pt x="488" y="71"/>
                      </a:lnTo>
                      <a:lnTo>
                        <a:pt x="499" y="66"/>
                      </a:lnTo>
                      <a:lnTo>
                        <a:pt x="508" y="58"/>
                      </a:lnTo>
                      <a:lnTo>
                        <a:pt x="514" y="49"/>
                      </a:lnTo>
                      <a:lnTo>
                        <a:pt x="517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804560" y="3695040"/>
                  <a:ext cx="3450600" cy="340920"/>
                </a:xfrm>
                <a:custGeom>
                  <a:avLst/>
                  <a:gdLst/>
                  <a:ahLst/>
                  <a:rect l="l" t="t" r="r" b="b"/>
                  <a:pathLst>
                    <a:path w="2632" h="272">
                      <a:moveTo>
                        <a:pt x="492" y="0"/>
                      </a:moveTo>
                      <a:lnTo>
                        <a:pt x="472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4"/>
                      </a:lnTo>
                      <a:lnTo>
                        <a:pt x="428" y="35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5"/>
                      </a:lnTo>
                      <a:lnTo>
                        <a:pt x="365" y="52"/>
                      </a:lnTo>
                      <a:lnTo>
                        <a:pt x="347" y="52"/>
                      </a:lnTo>
                      <a:lnTo>
                        <a:pt x="325" y="63"/>
                      </a:lnTo>
                      <a:lnTo>
                        <a:pt x="299" y="53"/>
                      </a:lnTo>
                      <a:lnTo>
                        <a:pt x="314" y="76"/>
                      </a:lnTo>
                      <a:lnTo>
                        <a:pt x="289" y="76"/>
                      </a:lnTo>
                      <a:lnTo>
                        <a:pt x="258" y="77"/>
                      </a:lnTo>
                      <a:lnTo>
                        <a:pt x="234" y="71"/>
                      </a:lnTo>
                      <a:lnTo>
                        <a:pt x="207" y="85"/>
                      </a:lnTo>
                      <a:lnTo>
                        <a:pt x="182" y="76"/>
                      </a:lnTo>
                      <a:lnTo>
                        <a:pt x="175" y="77"/>
                      </a:lnTo>
                      <a:lnTo>
                        <a:pt x="169" y="83"/>
                      </a:lnTo>
                      <a:lnTo>
                        <a:pt x="160" y="90"/>
                      </a:lnTo>
                      <a:lnTo>
                        <a:pt x="155" y="98"/>
                      </a:lnTo>
                      <a:lnTo>
                        <a:pt x="145" y="105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6"/>
                      </a:lnTo>
                      <a:lnTo>
                        <a:pt x="84" y="124"/>
                      </a:lnTo>
                      <a:lnTo>
                        <a:pt x="73" y="124"/>
                      </a:lnTo>
                      <a:lnTo>
                        <a:pt x="56" y="125"/>
                      </a:lnTo>
                      <a:lnTo>
                        <a:pt x="36" y="125"/>
                      </a:lnTo>
                      <a:lnTo>
                        <a:pt x="16" y="133"/>
                      </a:lnTo>
                      <a:lnTo>
                        <a:pt x="0" y="152"/>
                      </a:lnTo>
                      <a:lnTo>
                        <a:pt x="14" y="150"/>
                      </a:lnTo>
                      <a:lnTo>
                        <a:pt x="36" y="144"/>
                      </a:lnTo>
                      <a:lnTo>
                        <a:pt x="58" y="143"/>
                      </a:lnTo>
                      <a:lnTo>
                        <a:pt x="74" y="144"/>
                      </a:lnTo>
                      <a:lnTo>
                        <a:pt x="89" y="152"/>
                      </a:lnTo>
                      <a:lnTo>
                        <a:pt x="106" y="155"/>
                      </a:lnTo>
                      <a:lnTo>
                        <a:pt x="122" y="150"/>
                      </a:lnTo>
                      <a:lnTo>
                        <a:pt x="140" y="144"/>
                      </a:lnTo>
                      <a:lnTo>
                        <a:pt x="156" y="139"/>
                      </a:lnTo>
                      <a:lnTo>
                        <a:pt x="171" y="139"/>
                      </a:lnTo>
                      <a:lnTo>
                        <a:pt x="182" y="150"/>
                      </a:lnTo>
                      <a:lnTo>
                        <a:pt x="192" y="159"/>
                      </a:lnTo>
                      <a:lnTo>
                        <a:pt x="210" y="159"/>
                      </a:lnTo>
                      <a:lnTo>
                        <a:pt x="226" y="156"/>
                      </a:lnTo>
                      <a:lnTo>
                        <a:pt x="245" y="150"/>
                      </a:lnTo>
                      <a:lnTo>
                        <a:pt x="262" y="146"/>
                      </a:lnTo>
                      <a:lnTo>
                        <a:pt x="278" y="155"/>
                      </a:lnTo>
                      <a:lnTo>
                        <a:pt x="295" y="164"/>
                      </a:lnTo>
                      <a:lnTo>
                        <a:pt x="311" y="168"/>
                      </a:lnTo>
                      <a:lnTo>
                        <a:pt x="328" y="171"/>
                      </a:lnTo>
                      <a:lnTo>
                        <a:pt x="350" y="174"/>
                      </a:lnTo>
                      <a:lnTo>
                        <a:pt x="372" y="176"/>
                      </a:lnTo>
                      <a:lnTo>
                        <a:pt x="392" y="174"/>
                      </a:lnTo>
                      <a:lnTo>
                        <a:pt x="417" y="169"/>
                      </a:lnTo>
                      <a:lnTo>
                        <a:pt x="406" y="153"/>
                      </a:lnTo>
                      <a:lnTo>
                        <a:pt x="409" y="143"/>
                      </a:lnTo>
                      <a:lnTo>
                        <a:pt x="420" y="137"/>
                      </a:lnTo>
                      <a:lnTo>
                        <a:pt x="422" y="148"/>
                      </a:lnTo>
                      <a:lnTo>
                        <a:pt x="436" y="159"/>
                      </a:lnTo>
                      <a:lnTo>
                        <a:pt x="450" y="164"/>
                      </a:lnTo>
                      <a:lnTo>
                        <a:pt x="465" y="168"/>
                      </a:lnTo>
                      <a:lnTo>
                        <a:pt x="483" y="174"/>
                      </a:lnTo>
                      <a:lnTo>
                        <a:pt x="500" y="177"/>
                      </a:lnTo>
                      <a:lnTo>
                        <a:pt x="526" y="180"/>
                      </a:lnTo>
                      <a:lnTo>
                        <a:pt x="543" y="178"/>
                      </a:lnTo>
                      <a:lnTo>
                        <a:pt x="563" y="180"/>
                      </a:lnTo>
                      <a:lnTo>
                        <a:pt x="596" y="187"/>
                      </a:lnTo>
                      <a:lnTo>
                        <a:pt x="585" y="195"/>
                      </a:lnTo>
                      <a:lnTo>
                        <a:pt x="570" y="204"/>
                      </a:lnTo>
                      <a:lnTo>
                        <a:pt x="542" y="219"/>
                      </a:lnTo>
                      <a:lnTo>
                        <a:pt x="559" y="220"/>
                      </a:lnTo>
                      <a:lnTo>
                        <a:pt x="576" y="222"/>
                      </a:lnTo>
                      <a:lnTo>
                        <a:pt x="599" y="227"/>
                      </a:lnTo>
                      <a:lnTo>
                        <a:pt x="624" y="229"/>
                      </a:lnTo>
                      <a:lnTo>
                        <a:pt x="638" y="228"/>
                      </a:lnTo>
                      <a:lnTo>
                        <a:pt x="648" y="220"/>
                      </a:lnTo>
                      <a:lnTo>
                        <a:pt x="664" y="216"/>
                      </a:lnTo>
                      <a:lnTo>
                        <a:pt x="684" y="215"/>
                      </a:lnTo>
                      <a:lnTo>
                        <a:pt x="712" y="213"/>
                      </a:lnTo>
                      <a:lnTo>
                        <a:pt x="731" y="204"/>
                      </a:lnTo>
                      <a:lnTo>
                        <a:pt x="757" y="196"/>
                      </a:lnTo>
                      <a:lnTo>
                        <a:pt x="779" y="190"/>
                      </a:lnTo>
                      <a:lnTo>
                        <a:pt x="794" y="191"/>
                      </a:lnTo>
                      <a:lnTo>
                        <a:pt x="847" y="194"/>
                      </a:lnTo>
                      <a:lnTo>
                        <a:pt x="888" y="198"/>
                      </a:lnTo>
                      <a:lnTo>
                        <a:pt x="916" y="198"/>
                      </a:lnTo>
                      <a:lnTo>
                        <a:pt x="938" y="200"/>
                      </a:lnTo>
                      <a:lnTo>
                        <a:pt x="975" y="218"/>
                      </a:lnTo>
                      <a:lnTo>
                        <a:pt x="993" y="218"/>
                      </a:lnTo>
                      <a:lnTo>
                        <a:pt x="1013" y="213"/>
                      </a:lnTo>
                      <a:lnTo>
                        <a:pt x="1035" y="207"/>
                      </a:lnTo>
                      <a:lnTo>
                        <a:pt x="1053" y="204"/>
                      </a:lnTo>
                      <a:lnTo>
                        <a:pt x="1116" y="198"/>
                      </a:lnTo>
                      <a:lnTo>
                        <a:pt x="1159" y="196"/>
                      </a:lnTo>
                      <a:lnTo>
                        <a:pt x="1186" y="194"/>
                      </a:lnTo>
                      <a:lnTo>
                        <a:pt x="1208" y="191"/>
                      </a:lnTo>
                      <a:lnTo>
                        <a:pt x="1230" y="189"/>
                      </a:lnTo>
                      <a:lnTo>
                        <a:pt x="1256" y="185"/>
                      </a:lnTo>
                      <a:lnTo>
                        <a:pt x="1274" y="180"/>
                      </a:lnTo>
                      <a:lnTo>
                        <a:pt x="1300" y="173"/>
                      </a:lnTo>
                      <a:lnTo>
                        <a:pt x="1315" y="181"/>
                      </a:lnTo>
                      <a:lnTo>
                        <a:pt x="1323" y="191"/>
                      </a:lnTo>
                      <a:lnTo>
                        <a:pt x="1313" y="202"/>
                      </a:lnTo>
                      <a:lnTo>
                        <a:pt x="1294" y="209"/>
                      </a:lnTo>
                      <a:lnTo>
                        <a:pt x="1318" y="209"/>
                      </a:lnTo>
                      <a:lnTo>
                        <a:pt x="1305" y="218"/>
                      </a:lnTo>
                      <a:lnTo>
                        <a:pt x="1287" y="227"/>
                      </a:lnTo>
                      <a:lnTo>
                        <a:pt x="1263" y="238"/>
                      </a:lnTo>
                      <a:lnTo>
                        <a:pt x="1239" y="246"/>
                      </a:lnTo>
                      <a:lnTo>
                        <a:pt x="1268" y="242"/>
                      </a:lnTo>
                      <a:lnTo>
                        <a:pt x="1293" y="238"/>
                      </a:lnTo>
                      <a:lnTo>
                        <a:pt x="1318" y="231"/>
                      </a:lnTo>
                      <a:lnTo>
                        <a:pt x="1334" y="225"/>
                      </a:lnTo>
                      <a:lnTo>
                        <a:pt x="1342" y="222"/>
                      </a:lnTo>
                      <a:lnTo>
                        <a:pt x="1356" y="220"/>
                      </a:lnTo>
                      <a:lnTo>
                        <a:pt x="1372" y="220"/>
                      </a:lnTo>
                      <a:lnTo>
                        <a:pt x="1393" y="222"/>
                      </a:lnTo>
                      <a:lnTo>
                        <a:pt x="1411" y="227"/>
                      </a:lnTo>
                      <a:lnTo>
                        <a:pt x="1427" y="228"/>
                      </a:lnTo>
                      <a:lnTo>
                        <a:pt x="1449" y="227"/>
                      </a:lnTo>
                      <a:lnTo>
                        <a:pt x="1433" y="242"/>
                      </a:lnTo>
                      <a:lnTo>
                        <a:pt x="1415" y="253"/>
                      </a:lnTo>
                      <a:lnTo>
                        <a:pt x="1394" y="261"/>
                      </a:lnTo>
                      <a:lnTo>
                        <a:pt x="1418" y="258"/>
                      </a:lnTo>
                      <a:lnTo>
                        <a:pt x="1440" y="254"/>
                      </a:lnTo>
                      <a:lnTo>
                        <a:pt x="1463" y="252"/>
                      </a:lnTo>
                      <a:lnTo>
                        <a:pt x="1482" y="247"/>
                      </a:lnTo>
                      <a:lnTo>
                        <a:pt x="1507" y="244"/>
                      </a:lnTo>
                      <a:lnTo>
                        <a:pt x="1536" y="241"/>
                      </a:lnTo>
                      <a:lnTo>
                        <a:pt x="1562" y="241"/>
                      </a:lnTo>
                      <a:lnTo>
                        <a:pt x="1582" y="236"/>
                      </a:lnTo>
                      <a:lnTo>
                        <a:pt x="1588" y="231"/>
                      </a:lnTo>
                      <a:lnTo>
                        <a:pt x="1595" y="227"/>
                      </a:lnTo>
                      <a:lnTo>
                        <a:pt x="1610" y="227"/>
                      </a:lnTo>
                      <a:lnTo>
                        <a:pt x="1636" y="232"/>
                      </a:lnTo>
                      <a:lnTo>
                        <a:pt x="1667" y="236"/>
                      </a:lnTo>
                      <a:lnTo>
                        <a:pt x="1697" y="241"/>
                      </a:lnTo>
                      <a:lnTo>
                        <a:pt x="1714" y="244"/>
                      </a:lnTo>
                      <a:lnTo>
                        <a:pt x="1743" y="244"/>
                      </a:lnTo>
                      <a:lnTo>
                        <a:pt x="1775" y="246"/>
                      </a:lnTo>
                      <a:lnTo>
                        <a:pt x="1800" y="250"/>
                      </a:lnTo>
                      <a:lnTo>
                        <a:pt x="1830" y="258"/>
                      </a:lnTo>
                      <a:lnTo>
                        <a:pt x="1856" y="262"/>
                      </a:lnTo>
                      <a:lnTo>
                        <a:pt x="1878" y="265"/>
                      </a:lnTo>
                      <a:lnTo>
                        <a:pt x="1900" y="262"/>
                      </a:lnTo>
                      <a:lnTo>
                        <a:pt x="1935" y="253"/>
                      </a:lnTo>
                      <a:lnTo>
                        <a:pt x="1963" y="258"/>
                      </a:lnTo>
                      <a:lnTo>
                        <a:pt x="1989" y="258"/>
                      </a:lnTo>
                      <a:lnTo>
                        <a:pt x="2017" y="258"/>
                      </a:lnTo>
                      <a:lnTo>
                        <a:pt x="2044" y="257"/>
                      </a:lnTo>
                      <a:lnTo>
                        <a:pt x="2081" y="249"/>
                      </a:lnTo>
                      <a:lnTo>
                        <a:pt x="2099" y="249"/>
                      </a:lnTo>
                      <a:lnTo>
                        <a:pt x="2120" y="247"/>
                      </a:lnTo>
                      <a:lnTo>
                        <a:pt x="2158" y="252"/>
                      </a:lnTo>
                      <a:lnTo>
                        <a:pt x="2177" y="254"/>
                      </a:lnTo>
                      <a:lnTo>
                        <a:pt x="2194" y="253"/>
                      </a:lnTo>
                      <a:lnTo>
                        <a:pt x="2216" y="250"/>
                      </a:lnTo>
                      <a:lnTo>
                        <a:pt x="2238" y="249"/>
                      </a:lnTo>
                      <a:lnTo>
                        <a:pt x="2254" y="249"/>
                      </a:lnTo>
                      <a:lnTo>
                        <a:pt x="2261" y="252"/>
                      </a:lnTo>
                      <a:lnTo>
                        <a:pt x="2261" y="262"/>
                      </a:lnTo>
                      <a:lnTo>
                        <a:pt x="2269" y="265"/>
                      </a:lnTo>
                      <a:lnTo>
                        <a:pt x="2283" y="265"/>
                      </a:lnTo>
                      <a:lnTo>
                        <a:pt x="2296" y="262"/>
                      </a:lnTo>
                      <a:lnTo>
                        <a:pt x="2309" y="253"/>
                      </a:lnTo>
                      <a:lnTo>
                        <a:pt x="2317" y="244"/>
                      </a:lnTo>
                      <a:lnTo>
                        <a:pt x="2325" y="240"/>
                      </a:lnTo>
                      <a:lnTo>
                        <a:pt x="2347" y="240"/>
                      </a:lnTo>
                      <a:lnTo>
                        <a:pt x="2364" y="240"/>
                      </a:lnTo>
                      <a:lnTo>
                        <a:pt x="2384" y="249"/>
                      </a:lnTo>
                      <a:lnTo>
                        <a:pt x="2401" y="254"/>
                      </a:lnTo>
                      <a:lnTo>
                        <a:pt x="2420" y="262"/>
                      </a:lnTo>
                      <a:lnTo>
                        <a:pt x="2432" y="263"/>
                      </a:lnTo>
                      <a:lnTo>
                        <a:pt x="2445" y="265"/>
                      </a:lnTo>
                      <a:lnTo>
                        <a:pt x="2458" y="265"/>
                      </a:lnTo>
                      <a:lnTo>
                        <a:pt x="2480" y="262"/>
                      </a:lnTo>
                      <a:lnTo>
                        <a:pt x="2554" y="271"/>
                      </a:lnTo>
                      <a:lnTo>
                        <a:pt x="2532" y="262"/>
                      </a:lnTo>
                      <a:lnTo>
                        <a:pt x="2519" y="258"/>
                      </a:lnTo>
                      <a:lnTo>
                        <a:pt x="2513" y="249"/>
                      </a:lnTo>
                      <a:lnTo>
                        <a:pt x="2519" y="242"/>
                      </a:lnTo>
                      <a:lnTo>
                        <a:pt x="2545" y="237"/>
                      </a:lnTo>
                      <a:lnTo>
                        <a:pt x="2562" y="232"/>
                      </a:lnTo>
                      <a:lnTo>
                        <a:pt x="2584" y="227"/>
                      </a:lnTo>
                      <a:lnTo>
                        <a:pt x="2602" y="218"/>
                      </a:lnTo>
                      <a:lnTo>
                        <a:pt x="2631" y="207"/>
                      </a:lnTo>
                      <a:lnTo>
                        <a:pt x="2588" y="207"/>
                      </a:lnTo>
                      <a:lnTo>
                        <a:pt x="2561" y="206"/>
                      </a:lnTo>
                      <a:lnTo>
                        <a:pt x="2535" y="202"/>
                      </a:lnTo>
                      <a:lnTo>
                        <a:pt x="2513" y="200"/>
                      </a:lnTo>
                      <a:lnTo>
                        <a:pt x="2498" y="200"/>
                      </a:lnTo>
                      <a:lnTo>
                        <a:pt x="2486" y="202"/>
                      </a:lnTo>
                      <a:lnTo>
                        <a:pt x="2473" y="204"/>
                      </a:lnTo>
                      <a:lnTo>
                        <a:pt x="2457" y="209"/>
                      </a:lnTo>
                      <a:lnTo>
                        <a:pt x="2442" y="213"/>
                      </a:lnTo>
                      <a:lnTo>
                        <a:pt x="2464" y="219"/>
                      </a:lnTo>
                      <a:lnTo>
                        <a:pt x="2480" y="227"/>
                      </a:lnTo>
                      <a:lnTo>
                        <a:pt x="2491" y="236"/>
                      </a:lnTo>
                      <a:lnTo>
                        <a:pt x="2495" y="244"/>
                      </a:lnTo>
                      <a:lnTo>
                        <a:pt x="2491" y="253"/>
                      </a:lnTo>
                      <a:lnTo>
                        <a:pt x="2475" y="250"/>
                      </a:lnTo>
                      <a:lnTo>
                        <a:pt x="2462" y="247"/>
                      </a:lnTo>
                      <a:lnTo>
                        <a:pt x="2453" y="240"/>
                      </a:lnTo>
                      <a:lnTo>
                        <a:pt x="2436" y="232"/>
                      </a:lnTo>
                      <a:lnTo>
                        <a:pt x="2416" y="229"/>
                      </a:lnTo>
                      <a:lnTo>
                        <a:pt x="2398" y="227"/>
                      </a:lnTo>
                      <a:lnTo>
                        <a:pt x="2373" y="229"/>
                      </a:lnTo>
                      <a:lnTo>
                        <a:pt x="2357" y="228"/>
                      </a:lnTo>
                      <a:lnTo>
                        <a:pt x="2342" y="227"/>
                      </a:lnTo>
                      <a:lnTo>
                        <a:pt x="2325" y="222"/>
                      </a:lnTo>
                      <a:lnTo>
                        <a:pt x="2307" y="216"/>
                      </a:lnTo>
                      <a:lnTo>
                        <a:pt x="2292" y="209"/>
                      </a:lnTo>
                      <a:lnTo>
                        <a:pt x="2277" y="204"/>
                      </a:lnTo>
                      <a:lnTo>
                        <a:pt x="2264" y="204"/>
                      </a:lnTo>
                      <a:lnTo>
                        <a:pt x="2250" y="209"/>
                      </a:lnTo>
                      <a:lnTo>
                        <a:pt x="2233" y="213"/>
                      </a:lnTo>
                      <a:lnTo>
                        <a:pt x="2217" y="213"/>
                      </a:lnTo>
                      <a:lnTo>
                        <a:pt x="2195" y="213"/>
                      </a:lnTo>
                      <a:lnTo>
                        <a:pt x="2177" y="210"/>
                      </a:lnTo>
                      <a:lnTo>
                        <a:pt x="2159" y="207"/>
                      </a:lnTo>
                      <a:lnTo>
                        <a:pt x="2143" y="206"/>
                      </a:lnTo>
                      <a:lnTo>
                        <a:pt x="2129" y="207"/>
                      </a:lnTo>
                      <a:lnTo>
                        <a:pt x="2109" y="209"/>
                      </a:lnTo>
                      <a:lnTo>
                        <a:pt x="2092" y="211"/>
                      </a:lnTo>
                      <a:lnTo>
                        <a:pt x="2072" y="209"/>
                      </a:lnTo>
                      <a:lnTo>
                        <a:pt x="2048" y="207"/>
                      </a:lnTo>
                      <a:lnTo>
                        <a:pt x="2022" y="206"/>
                      </a:lnTo>
                      <a:lnTo>
                        <a:pt x="1996" y="204"/>
                      </a:lnTo>
                      <a:lnTo>
                        <a:pt x="1978" y="199"/>
                      </a:lnTo>
                      <a:lnTo>
                        <a:pt x="1961" y="194"/>
                      </a:lnTo>
                      <a:lnTo>
                        <a:pt x="1945" y="187"/>
                      </a:lnTo>
                      <a:lnTo>
                        <a:pt x="1932" y="185"/>
                      </a:lnTo>
                      <a:lnTo>
                        <a:pt x="1921" y="185"/>
                      </a:lnTo>
                      <a:lnTo>
                        <a:pt x="1907" y="186"/>
                      </a:lnTo>
                      <a:lnTo>
                        <a:pt x="1873" y="190"/>
                      </a:lnTo>
                      <a:lnTo>
                        <a:pt x="1911" y="194"/>
                      </a:lnTo>
                      <a:lnTo>
                        <a:pt x="1902" y="204"/>
                      </a:lnTo>
                      <a:lnTo>
                        <a:pt x="1888" y="215"/>
                      </a:lnTo>
                      <a:lnTo>
                        <a:pt x="1874" y="216"/>
                      </a:lnTo>
                      <a:lnTo>
                        <a:pt x="1692" y="191"/>
                      </a:lnTo>
                      <a:lnTo>
                        <a:pt x="1681" y="187"/>
                      </a:lnTo>
                      <a:lnTo>
                        <a:pt x="1714" y="177"/>
                      </a:lnTo>
                      <a:lnTo>
                        <a:pt x="1690" y="173"/>
                      </a:lnTo>
                      <a:lnTo>
                        <a:pt x="1675" y="171"/>
                      </a:lnTo>
                      <a:lnTo>
                        <a:pt x="1664" y="164"/>
                      </a:lnTo>
                      <a:lnTo>
                        <a:pt x="1649" y="159"/>
                      </a:lnTo>
                      <a:lnTo>
                        <a:pt x="1632" y="163"/>
                      </a:lnTo>
                      <a:lnTo>
                        <a:pt x="1614" y="165"/>
                      </a:lnTo>
                      <a:lnTo>
                        <a:pt x="1597" y="171"/>
                      </a:lnTo>
                      <a:lnTo>
                        <a:pt x="1582" y="164"/>
                      </a:lnTo>
                      <a:lnTo>
                        <a:pt x="1566" y="152"/>
                      </a:lnTo>
                      <a:lnTo>
                        <a:pt x="1549" y="143"/>
                      </a:lnTo>
                      <a:lnTo>
                        <a:pt x="1533" y="137"/>
                      </a:lnTo>
                      <a:lnTo>
                        <a:pt x="1515" y="133"/>
                      </a:lnTo>
                      <a:lnTo>
                        <a:pt x="1497" y="131"/>
                      </a:lnTo>
                      <a:lnTo>
                        <a:pt x="1468" y="133"/>
                      </a:lnTo>
                      <a:lnTo>
                        <a:pt x="1445" y="135"/>
                      </a:lnTo>
                      <a:lnTo>
                        <a:pt x="1422" y="138"/>
                      </a:lnTo>
                      <a:lnTo>
                        <a:pt x="1394" y="142"/>
                      </a:lnTo>
                      <a:lnTo>
                        <a:pt x="1367" y="146"/>
                      </a:lnTo>
                      <a:lnTo>
                        <a:pt x="1345" y="148"/>
                      </a:lnTo>
                      <a:lnTo>
                        <a:pt x="1326" y="156"/>
                      </a:lnTo>
                      <a:lnTo>
                        <a:pt x="1305" y="160"/>
                      </a:lnTo>
                      <a:lnTo>
                        <a:pt x="1286" y="160"/>
                      </a:lnTo>
                      <a:lnTo>
                        <a:pt x="1267" y="165"/>
                      </a:lnTo>
                      <a:lnTo>
                        <a:pt x="1246" y="169"/>
                      </a:lnTo>
                      <a:lnTo>
                        <a:pt x="1224" y="174"/>
                      </a:lnTo>
                      <a:lnTo>
                        <a:pt x="1202" y="174"/>
                      </a:lnTo>
                      <a:lnTo>
                        <a:pt x="1180" y="174"/>
                      </a:lnTo>
                      <a:lnTo>
                        <a:pt x="1164" y="173"/>
                      </a:lnTo>
                      <a:lnTo>
                        <a:pt x="1149" y="177"/>
                      </a:lnTo>
                      <a:lnTo>
                        <a:pt x="1128" y="183"/>
                      </a:lnTo>
                      <a:lnTo>
                        <a:pt x="1106" y="183"/>
                      </a:lnTo>
                      <a:lnTo>
                        <a:pt x="1080" y="183"/>
                      </a:lnTo>
                      <a:lnTo>
                        <a:pt x="1058" y="183"/>
                      </a:lnTo>
                      <a:lnTo>
                        <a:pt x="1031" y="183"/>
                      </a:lnTo>
                      <a:lnTo>
                        <a:pt x="980" y="190"/>
                      </a:lnTo>
                      <a:lnTo>
                        <a:pt x="969" y="186"/>
                      </a:lnTo>
                      <a:lnTo>
                        <a:pt x="958" y="178"/>
                      </a:lnTo>
                      <a:lnTo>
                        <a:pt x="943" y="174"/>
                      </a:lnTo>
                      <a:lnTo>
                        <a:pt x="930" y="173"/>
                      </a:lnTo>
                      <a:lnTo>
                        <a:pt x="910" y="174"/>
                      </a:lnTo>
                      <a:lnTo>
                        <a:pt x="888" y="178"/>
                      </a:lnTo>
                      <a:lnTo>
                        <a:pt x="853" y="181"/>
                      </a:lnTo>
                      <a:lnTo>
                        <a:pt x="838" y="176"/>
                      </a:lnTo>
                      <a:lnTo>
                        <a:pt x="827" y="169"/>
                      </a:lnTo>
                      <a:lnTo>
                        <a:pt x="814" y="167"/>
                      </a:lnTo>
                      <a:lnTo>
                        <a:pt x="798" y="165"/>
                      </a:lnTo>
                      <a:lnTo>
                        <a:pt x="784" y="160"/>
                      </a:lnTo>
                      <a:lnTo>
                        <a:pt x="779" y="152"/>
                      </a:lnTo>
                      <a:lnTo>
                        <a:pt x="768" y="138"/>
                      </a:lnTo>
                      <a:lnTo>
                        <a:pt x="755" y="134"/>
                      </a:lnTo>
                      <a:lnTo>
                        <a:pt x="739" y="131"/>
                      </a:lnTo>
                      <a:lnTo>
                        <a:pt x="724" y="131"/>
                      </a:lnTo>
                      <a:lnTo>
                        <a:pt x="717" y="137"/>
                      </a:lnTo>
                      <a:lnTo>
                        <a:pt x="707" y="152"/>
                      </a:lnTo>
                      <a:lnTo>
                        <a:pt x="696" y="148"/>
                      </a:lnTo>
                      <a:lnTo>
                        <a:pt x="684" y="147"/>
                      </a:lnTo>
                      <a:lnTo>
                        <a:pt x="669" y="148"/>
                      </a:lnTo>
                      <a:lnTo>
                        <a:pt x="655" y="155"/>
                      </a:lnTo>
                      <a:lnTo>
                        <a:pt x="638" y="159"/>
                      </a:lnTo>
                      <a:lnTo>
                        <a:pt x="616" y="159"/>
                      </a:lnTo>
                      <a:lnTo>
                        <a:pt x="632" y="146"/>
                      </a:lnTo>
                      <a:lnTo>
                        <a:pt x="639" y="137"/>
                      </a:lnTo>
                      <a:lnTo>
                        <a:pt x="624" y="139"/>
                      </a:lnTo>
                      <a:lnTo>
                        <a:pt x="595" y="146"/>
                      </a:lnTo>
                      <a:lnTo>
                        <a:pt x="570" y="144"/>
                      </a:lnTo>
                      <a:lnTo>
                        <a:pt x="569" y="137"/>
                      </a:lnTo>
                      <a:lnTo>
                        <a:pt x="565" y="129"/>
                      </a:lnTo>
                      <a:lnTo>
                        <a:pt x="559" y="124"/>
                      </a:lnTo>
                      <a:lnTo>
                        <a:pt x="546" y="119"/>
                      </a:lnTo>
                      <a:lnTo>
                        <a:pt x="531" y="119"/>
                      </a:lnTo>
                      <a:lnTo>
                        <a:pt x="511" y="121"/>
                      </a:lnTo>
                      <a:lnTo>
                        <a:pt x="494" y="124"/>
                      </a:lnTo>
                      <a:lnTo>
                        <a:pt x="476" y="119"/>
                      </a:lnTo>
                      <a:lnTo>
                        <a:pt x="455" y="112"/>
                      </a:lnTo>
                      <a:lnTo>
                        <a:pt x="441" y="103"/>
                      </a:lnTo>
                      <a:lnTo>
                        <a:pt x="457" y="85"/>
                      </a:lnTo>
                      <a:lnTo>
                        <a:pt x="472" y="79"/>
                      </a:lnTo>
                      <a:lnTo>
                        <a:pt x="488" y="71"/>
                      </a:lnTo>
                      <a:lnTo>
                        <a:pt x="499" y="66"/>
                      </a:lnTo>
                      <a:lnTo>
                        <a:pt x="509" y="58"/>
                      </a:lnTo>
                      <a:lnTo>
                        <a:pt x="514" y="49"/>
                      </a:lnTo>
                      <a:lnTo>
                        <a:pt x="517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242240" y="3722400"/>
                  <a:ext cx="1265040" cy="99000"/>
                </a:xfrm>
                <a:custGeom>
                  <a:avLst/>
                  <a:gdLst/>
                  <a:ahLst/>
                  <a:rect l="l" t="t" r="r" b="b"/>
                  <a:pathLst>
                    <a:path w="965" h="79">
                      <a:moveTo>
                        <a:pt x="0" y="40"/>
                      </a:moveTo>
                      <a:lnTo>
                        <a:pt x="67" y="30"/>
                      </a:lnTo>
                      <a:lnTo>
                        <a:pt x="83" y="20"/>
                      </a:lnTo>
                      <a:lnTo>
                        <a:pt x="111" y="17"/>
                      </a:lnTo>
                      <a:lnTo>
                        <a:pt x="131" y="15"/>
                      </a:lnTo>
                      <a:lnTo>
                        <a:pt x="156" y="12"/>
                      </a:lnTo>
                      <a:lnTo>
                        <a:pt x="182" y="12"/>
                      </a:lnTo>
                      <a:lnTo>
                        <a:pt x="215" y="12"/>
                      </a:lnTo>
                      <a:lnTo>
                        <a:pt x="242" y="8"/>
                      </a:lnTo>
                      <a:lnTo>
                        <a:pt x="265" y="7"/>
                      </a:lnTo>
                      <a:lnTo>
                        <a:pt x="305" y="8"/>
                      </a:lnTo>
                      <a:lnTo>
                        <a:pt x="330" y="3"/>
                      </a:lnTo>
                      <a:lnTo>
                        <a:pt x="355" y="0"/>
                      </a:lnTo>
                      <a:lnTo>
                        <a:pt x="378" y="0"/>
                      </a:lnTo>
                      <a:lnTo>
                        <a:pt x="403" y="5"/>
                      </a:lnTo>
                      <a:lnTo>
                        <a:pt x="426" y="12"/>
                      </a:lnTo>
                      <a:lnTo>
                        <a:pt x="457" y="17"/>
                      </a:lnTo>
                      <a:lnTo>
                        <a:pt x="503" y="20"/>
                      </a:lnTo>
                      <a:lnTo>
                        <a:pt x="526" y="16"/>
                      </a:lnTo>
                      <a:lnTo>
                        <a:pt x="555" y="17"/>
                      </a:lnTo>
                      <a:lnTo>
                        <a:pt x="576" y="20"/>
                      </a:lnTo>
                      <a:lnTo>
                        <a:pt x="607" y="30"/>
                      </a:lnTo>
                      <a:lnTo>
                        <a:pt x="632" y="43"/>
                      </a:lnTo>
                      <a:lnTo>
                        <a:pt x="672" y="50"/>
                      </a:lnTo>
                      <a:lnTo>
                        <a:pt x="730" y="47"/>
                      </a:lnTo>
                      <a:lnTo>
                        <a:pt x="760" y="55"/>
                      </a:lnTo>
                      <a:lnTo>
                        <a:pt x="785" y="59"/>
                      </a:lnTo>
                      <a:lnTo>
                        <a:pt x="820" y="61"/>
                      </a:lnTo>
                      <a:lnTo>
                        <a:pt x="964" y="74"/>
                      </a:lnTo>
                      <a:lnTo>
                        <a:pt x="808" y="69"/>
                      </a:lnTo>
                      <a:lnTo>
                        <a:pt x="778" y="73"/>
                      </a:lnTo>
                      <a:lnTo>
                        <a:pt x="753" y="78"/>
                      </a:lnTo>
                      <a:lnTo>
                        <a:pt x="734" y="77"/>
                      </a:lnTo>
                      <a:lnTo>
                        <a:pt x="712" y="74"/>
                      </a:lnTo>
                      <a:lnTo>
                        <a:pt x="682" y="67"/>
                      </a:lnTo>
                      <a:lnTo>
                        <a:pt x="641" y="65"/>
                      </a:lnTo>
                      <a:lnTo>
                        <a:pt x="601" y="58"/>
                      </a:lnTo>
                      <a:lnTo>
                        <a:pt x="576" y="59"/>
                      </a:lnTo>
                      <a:lnTo>
                        <a:pt x="547" y="61"/>
                      </a:lnTo>
                      <a:lnTo>
                        <a:pt x="482" y="55"/>
                      </a:lnTo>
                      <a:lnTo>
                        <a:pt x="451" y="52"/>
                      </a:lnTo>
                      <a:lnTo>
                        <a:pt x="409" y="43"/>
                      </a:lnTo>
                      <a:lnTo>
                        <a:pt x="367" y="43"/>
                      </a:lnTo>
                      <a:lnTo>
                        <a:pt x="317" y="43"/>
                      </a:lnTo>
                      <a:lnTo>
                        <a:pt x="282" y="44"/>
                      </a:lnTo>
                      <a:lnTo>
                        <a:pt x="248" y="42"/>
                      </a:lnTo>
                      <a:lnTo>
                        <a:pt x="215" y="34"/>
                      </a:lnTo>
                      <a:lnTo>
                        <a:pt x="182" y="40"/>
                      </a:lnTo>
                      <a:lnTo>
                        <a:pt x="152" y="31"/>
                      </a:lnTo>
                      <a:lnTo>
                        <a:pt x="127" y="34"/>
                      </a:lnTo>
                      <a:lnTo>
                        <a:pt x="92" y="35"/>
                      </a:lnTo>
                      <a:lnTo>
                        <a:pt x="54" y="36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333600" y="3695040"/>
                  <a:ext cx="5316480" cy="340920"/>
                </a:xfrm>
                <a:custGeom>
                  <a:avLst/>
                  <a:gdLst/>
                  <a:ahLst/>
                  <a:rect l="l" t="t" r="r" b="b"/>
                  <a:pathLst>
                    <a:path w="4055" h="272">
                      <a:moveTo>
                        <a:pt x="758" y="0"/>
                      </a:moveTo>
                      <a:lnTo>
                        <a:pt x="727" y="6"/>
                      </a:lnTo>
                      <a:lnTo>
                        <a:pt x="701" y="10"/>
                      </a:lnTo>
                      <a:lnTo>
                        <a:pt x="680" y="18"/>
                      </a:lnTo>
                      <a:lnTo>
                        <a:pt x="668" y="24"/>
                      </a:lnTo>
                      <a:lnTo>
                        <a:pt x="659" y="35"/>
                      </a:lnTo>
                      <a:lnTo>
                        <a:pt x="625" y="37"/>
                      </a:lnTo>
                      <a:lnTo>
                        <a:pt x="604" y="40"/>
                      </a:lnTo>
                      <a:lnTo>
                        <a:pt x="587" y="45"/>
                      </a:lnTo>
                      <a:lnTo>
                        <a:pt x="562" y="52"/>
                      </a:lnTo>
                      <a:lnTo>
                        <a:pt x="534" y="52"/>
                      </a:lnTo>
                      <a:lnTo>
                        <a:pt x="501" y="63"/>
                      </a:lnTo>
                      <a:lnTo>
                        <a:pt x="461" y="53"/>
                      </a:lnTo>
                      <a:lnTo>
                        <a:pt x="484" y="76"/>
                      </a:lnTo>
                      <a:lnTo>
                        <a:pt x="446" y="76"/>
                      </a:lnTo>
                      <a:lnTo>
                        <a:pt x="397" y="77"/>
                      </a:lnTo>
                      <a:lnTo>
                        <a:pt x="361" y="71"/>
                      </a:lnTo>
                      <a:lnTo>
                        <a:pt x="319" y="85"/>
                      </a:lnTo>
                      <a:lnTo>
                        <a:pt x="281" y="76"/>
                      </a:lnTo>
                      <a:lnTo>
                        <a:pt x="270" y="77"/>
                      </a:lnTo>
                      <a:lnTo>
                        <a:pt x="260" y="83"/>
                      </a:lnTo>
                      <a:lnTo>
                        <a:pt x="247" y="90"/>
                      </a:lnTo>
                      <a:lnTo>
                        <a:pt x="239" y="98"/>
                      </a:lnTo>
                      <a:lnTo>
                        <a:pt x="224" y="105"/>
                      </a:lnTo>
                      <a:lnTo>
                        <a:pt x="213" y="110"/>
                      </a:lnTo>
                      <a:lnTo>
                        <a:pt x="188" y="110"/>
                      </a:lnTo>
                      <a:lnTo>
                        <a:pt x="161" y="110"/>
                      </a:lnTo>
                      <a:lnTo>
                        <a:pt x="148" y="116"/>
                      </a:lnTo>
                      <a:lnTo>
                        <a:pt x="129" y="124"/>
                      </a:lnTo>
                      <a:lnTo>
                        <a:pt x="112" y="124"/>
                      </a:lnTo>
                      <a:lnTo>
                        <a:pt x="87" y="125"/>
                      </a:lnTo>
                      <a:lnTo>
                        <a:pt x="55" y="125"/>
                      </a:lnTo>
                      <a:lnTo>
                        <a:pt x="25" y="133"/>
                      </a:lnTo>
                      <a:lnTo>
                        <a:pt x="0" y="152"/>
                      </a:lnTo>
                      <a:lnTo>
                        <a:pt x="21" y="150"/>
                      </a:lnTo>
                      <a:lnTo>
                        <a:pt x="55" y="144"/>
                      </a:lnTo>
                      <a:lnTo>
                        <a:pt x="89" y="143"/>
                      </a:lnTo>
                      <a:lnTo>
                        <a:pt x="114" y="144"/>
                      </a:lnTo>
                      <a:lnTo>
                        <a:pt x="137" y="152"/>
                      </a:lnTo>
                      <a:lnTo>
                        <a:pt x="163" y="155"/>
                      </a:lnTo>
                      <a:lnTo>
                        <a:pt x="188" y="150"/>
                      </a:lnTo>
                      <a:lnTo>
                        <a:pt x="215" y="144"/>
                      </a:lnTo>
                      <a:lnTo>
                        <a:pt x="241" y="139"/>
                      </a:lnTo>
                      <a:lnTo>
                        <a:pt x="264" y="139"/>
                      </a:lnTo>
                      <a:lnTo>
                        <a:pt x="281" y="150"/>
                      </a:lnTo>
                      <a:lnTo>
                        <a:pt x="296" y="159"/>
                      </a:lnTo>
                      <a:lnTo>
                        <a:pt x="323" y="159"/>
                      </a:lnTo>
                      <a:lnTo>
                        <a:pt x="349" y="156"/>
                      </a:lnTo>
                      <a:lnTo>
                        <a:pt x="378" y="150"/>
                      </a:lnTo>
                      <a:lnTo>
                        <a:pt x="403" y="146"/>
                      </a:lnTo>
                      <a:lnTo>
                        <a:pt x="429" y="155"/>
                      </a:lnTo>
                      <a:lnTo>
                        <a:pt x="454" y="164"/>
                      </a:lnTo>
                      <a:lnTo>
                        <a:pt x="480" y="168"/>
                      </a:lnTo>
                      <a:lnTo>
                        <a:pt x="505" y="171"/>
                      </a:lnTo>
                      <a:lnTo>
                        <a:pt x="539" y="174"/>
                      </a:lnTo>
                      <a:lnTo>
                        <a:pt x="573" y="176"/>
                      </a:lnTo>
                      <a:lnTo>
                        <a:pt x="604" y="174"/>
                      </a:lnTo>
                      <a:lnTo>
                        <a:pt x="642" y="169"/>
                      </a:lnTo>
                      <a:lnTo>
                        <a:pt x="625" y="153"/>
                      </a:lnTo>
                      <a:lnTo>
                        <a:pt x="630" y="143"/>
                      </a:lnTo>
                      <a:lnTo>
                        <a:pt x="646" y="137"/>
                      </a:lnTo>
                      <a:lnTo>
                        <a:pt x="651" y="148"/>
                      </a:lnTo>
                      <a:lnTo>
                        <a:pt x="672" y="159"/>
                      </a:lnTo>
                      <a:lnTo>
                        <a:pt x="693" y="164"/>
                      </a:lnTo>
                      <a:lnTo>
                        <a:pt x="716" y="168"/>
                      </a:lnTo>
                      <a:lnTo>
                        <a:pt x="744" y="174"/>
                      </a:lnTo>
                      <a:lnTo>
                        <a:pt x="771" y="177"/>
                      </a:lnTo>
                      <a:lnTo>
                        <a:pt x="811" y="180"/>
                      </a:lnTo>
                      <a:lnTo>
                        <a:pt x="837" y="178"/>
                      </a:lnTo>
                      <a:lnTo>
                        <a:pt x="868" y="180"/>
                      </a:lnTo>
                      <a:lnTo>
                        <a:pt x="919" y="187"/>
                      </a:lnTo>
                      <a:lnTo>
                        <a:pt x="902" y="195"/>
                      </a:lnTo>
                      <a:lnTo>
                        <a:pt x="879" y="204"/>
                      </a:lnTo>
                      <a:lnTo>
                        <a:pt x="834" y="219"/>
                      </a:lnTo>
                      <a:lnTo>
                        <a:pt x="862" y="220"/>
                      </a:lnTo>
                      <a:lnTo>
                        <a:pt x="887" y="222"/>
                      </a:lnTo>
                      <a:lnTo>
                        <a:pt x="923" y="227"/>
                      </a:lnTo>
                      <a:lnTo>
                        <a:pt x="961" y="229"/>
                      </a:lnTo>
                      <a:lnTo>
                        <a:pt x="982" y="228"/>
                      </a:lnTo>
                      <a:lnTo>
                        <a:pt x="999" y="220"/>
                      </a:lnTo>
                      <a:lnTo>
                        <a:pt x="1022" y="216"/>
                      </a:lnTo>
                      <a:lnTo>
                        <a:pt x="1054" y="215"/>
                      </a:lnTo>
                      <a:lnTo>
                        <a:pt x="1096" y="213"/>
                      </a:lnTo>
                      <a:lnTo>
                        <a:pt x="1126" y="204"/>
                      </a:lnTo>
                      <a:lnTo>
                        <a:pt x="1166" y="196"/>
                      </a:lnTo>
                      <a:lnTo>
                        <a:pt x="1200" y="190"/>
                      </a:lnTo>
                      <a:lnTo>
                        <a:pt x="1223" y="191"/>
                      </a:lnTo>
                      <a:lnTo>
                        <a:pt x="1306" y="194"/>
                      </a:lnTo>
                      <a:lnTo>
                        <a:pt x="1369" y="198"/>
                      </a:lnTo>
                      <a:lnTo>
                        <a:pt x="1411" y="198"/>
                      </a:lnTo>
                      <a:lnTo>
                        <a:pt x="1445" y="200"/>
                      </a:lnTo>
                      <a:lnTo>
                        <a:pt x="1502" y="218"/>
                      </a:lnTo>
                      <a:lnTo>
                        <a:pt x="1529" y="218"/>
                      </a:lnTo>
                      <a:lnTo>
                        <a:pt x="1561" y="213"/>
                      </a:lnTo>
                      <a:lnTo>
                        <a:pt x="1595" y="207"/>
                      </a:lnTo>
                      <a:lnTo>
                        <a:pt x="1622" y="204"/>
                      </a:lnTo>
                      <a:lnTo>
                        <a:pt x="1720" y="198"/>
                      </a:lnTo>
                      <a:lnTo>
                        <a:pt x="1785" y="196"/>
                      </a:lnTo>
                      <a:lnTo>
                        <a:pt x="1827" y="194"/>
                      </a:lnTo>
                      <a:lnTo>
                        <a:pt x="1861" y="191"/>
                      </a:lnTo>
                      <a:lnTo>
                        <a:pt x="1895" y="189"/>
                      </a:lnTo>
                      <a:lnTo>
                        <a:pt x="1935" y="185"/>
                      </a:lnTo>
                      <a:lnTo>
                        <a:pt x="1963" y="180"/>
                      </a:lnTo>
                      <a:lnTo>
                        <a:pt x="2003" y="173"/>
                      </a:lnTo>
                      <a:lnTo>
                        <a:pt x="2026" y="181"/>
                      </a:lnTo>
                      <a:lnTo>
                        <a:pt x="2039" y="191"/>
                      </a:lnTo>
                      <a:lnTo>
                        <a:pt x="2024" y="202"/>
                      </a:lnTo>
                      <a:lnTo>
                        <a:pt x="1994" y="209"/>
                      </a:lnTo>
                      <a:lnTo>
                        <a:pt x="2030" y="209"/>
                      </a:lnTo>
                      <a:lnTo>
                        <a:pt x="2011" y="218"/>
                      </a:lnTo>
                      <a:lnTo>
                        <a:pt x="1984" y="227"/>
                      </a:lnTo>
                      <a:lnTo>
                        <a:pt x="1946" y="238"/>
                      </a:lnTo>
                      <a:lnTo>
                        <a:pt x="1910" y="246"/>
                      </a:lnTo>
                      <a:lnTo>
                        <a:pt x="1954" y="242"/>
                      </a:lnTo>
                      <a:lnTo>
                        <a:pt x="1992" y="238"/>
                      </a:lnTo>
                      <a:lnTo>
                        <a:pt x="2030" y="231"/>
                      </a:lnTo>
                      <a:lnTo>
                        <a:pt x="2056" y="225"/>
                      </a:lnTo>
                      <a:lnTo>
                        <a:pt x="2068" y="222"/>
                      </a:lnTo>
                      <a:lnTo>
                        <a:pt x="2089" y="220"/>
                      </a:lnTo>
                      <a:lnTo>
                        <a:pt x="2115" y="220"/>
                      </a:lnTo>
                      <a:lnTo>
                        <a:pt x="2146" y="222"/>
                      </a:lnTo>
                      <a:lnTo>
                        <a:pt x="2174" y="227"/>
                      </a:lnTo>
                      <a:lnTo>
                        <a:pt x="2199" y="228"/>
                      </a:lnTo>
                      <a:lnTo>
                        <a:pt x="2233" y="227"/>
                      </a:lnTo>
                      <a:lnTo>
                        <a:pt x="2208" y="242"/>
                      </a:lnTo>
                      <a:lnTo>
                        <a:pt x="2180" y="253"/>
                      </a:lnTo>
                      <a:lnTo>
                        <a:pt x="2148" y="261"/>
                      </a:lnTo>
                      <a:lnTo>
                        <a:pt x="2184" y="258"/>
                      </a:lnTo>
                      <a:lnTo>
                        <a:pt x="2218" y="254"/>
                      </a:lnTo>
                      <a:lnTo>
                        <a:pt x="2254" y="252"/>
                      </a:lnTo>
                      <a:lnTo>
                        <a:pt x="2284" y="247"/>
                      </a:lnTo>
                      <a:lnTo>
                        <a:pt x="2322" y="244"/>
                      </a:lnTo>
                      <a:lnTo>
                        <a:pt x="2366" y="241"/>
                      </a:lnTo>
                      <a:lnTo>
                        <a:pt x="2406" y="241"/>
                      </a:lnTo>
                      <a:lnTo>
                        <a:pt x="2438" y="236"/>
                      </a:lnTo>
                      <a:lnTo>
                        <a:pt x="2446" y="231"/>
                      </a:lnTo>
                      <a:lnTo>
                        <a:pt x="2457" y="227"/>
                      </a:lnTo>
                      <a:lnTo>
                        <a:pt x="2480" y="227"/>
                      </a:lnTo>
                      <a:lnTo>
                        <a:pt x="2520" y="232"/>
                      </a:lnTo>
                      <a:lnTo>
                        <a:pt x="2569" y="236"/>
                      </a:lnTo>
                      <a:lnTo>
                        <a:pt x="2615" y="241"/>
                      </a:lnTo>
                      <a:lnTo>
                        <a:pt x="2641" y="244"/>
                      </a:lnTo>
                      <a:lnTo>
                        <a:pt x="2685" y="244"/>
                      </a:lnTo>
                      <a:lnTo>
                        <a:pt x="2736" y="246"/>
                      </a:lnTo>
                      <a:lnTo>
                        <a:pt x="2774" y="250"/>
                      </a:lnTo>
                      <a:lnTo>
                        <a:pt x="2820" y="258"/>
                      </a:lnTo>
                      <a:lnTo>
                        <a:pt x="2860" y="262"/>
                      </a:lnTo>
                      <a:lnTo>
                        <a:pt x="2894" y="265"/>
                      </a:lnTo>
                      <a:lnTo>
                        <a:pt x="2928" y="262"/>
                      </a:lnTo>
                      <a:lnTo>
                        <a:pt x="2981" y="253"/>
                      </a:lnTo>
                      <a:lnTo>
                        <a:pt x="3025" y="258"/>
                      </a:lnTo>
                      <a:lnTo>
                        <a:pt x="3065" y="258"/>
                      </a:lnTo>
                      <a:lnTo>
                        <a:pt x="3108" y="258"/>
                      </a:lnTo>
                      <a:lnTo>
                        <a:pt x="3150" y="257"/>
                      </a:lnTo>
                      <a:lnTo>
                        <a:pt x="3207" y="249"/>
                      </a:lnTo>
                      <a:lnTo>
                        <a:pt x="3234" y="249"/>
                      </a:lnTo>
                      <a:lnTo>
                        <a:pt x="3266" y="247"/>
                      </a:lnTo>
                      <a:lnTo>
                        <a:pt x="3325" y="252"/>
                      </a:lnTo>
                      <a:lnTo>
                        <a:pt x="3355" y="254"/>
                      </a:lnTo>
                      <a:lnTo>
                        <a:pt x="3380" y="253"/>
                      </a:lnTo>
                      <a:lnTo>
                        <a:pt x="3414" y="250"/>
                      </a:lnTo>
                      <a:lnTo>
                        <a:pt x="3448" y="249"/>
                      </a:lnTo>
                      <a:lnTo>
                        <a:pt x="3473" y="249"/>
                      </a:lnTo>
                      <a:lnTo>
                        <a:pt x="3484" y="252"/>
                      </a:lnTo>
                      <a:lnTo>
                        <a:pt x="3484" y="262"/>
                      </a:lnTo>
                      <a:lnTo>
                        <a:pt x="3496" y="265"/>
                      </a:lnTo>
                      <a:lnTo>
                        <a:pt x="3517" y="265"/>
                      </a:lnTo>
                      <a:lnTo>
                        <a:pt x="3539" y="262"/>
                      </a:lnTo>
                      <a:lnTo>
                        <a:pt x="3558" y="253"/>
                      </a:lnTo>
                      <a:lnTo>
                        <a:pt x="3570" y="244"/>
                      </a:lnTo>
                      <a:lnTo>
                        <a:pt x="3583" y="240"/>
                      </a:lnTo>
                      <a:lnTo>
                        <a:pt x="3617" y="240"/>
                      </a:lnTo>
                      <a:lnTo>
                        <a:pt x="3642" y="240"/>
                      </a:lnTo>
                      <a:lnTo>
                        <a:pt x="3674" y="249"/>
                      </a:lnTo>
                      <a:lnTo>
                        <a:pt x="3699" y="254"/>
                      </a:lnTo>
                      <a:lnTo>
                        <a:pt x="3729" y="262"/>
                      </a:lnTo>
                      <a:lnTo>
                        <a:pt x="3748" y="263"/>
                      </a:lnTo>
                      <a:lnTo>
                        <a:pt x="3767" y="265"/>
                      </a:lnTo>
                      <a:lnTo>
                        <a:pt x="3788" y="265"/>
                      </a:lnTo>
                      <a:lnTo>
                        <a:pt x="3822" y="262"/>
                      </a:lnTo>
                      <a:lnTo>
                        <a:pt x="3936" y="271"/>
                      </a:lnTo>
                      <a:lnTo>
                        <a:pt x="3902" y="262"/>
                      </a:lnTo>
                      <a:lnTo>
                        <a:pt x="3881" y="258"/>
                      </a:lnTo>
                      <a:lnTo>
                        <a:pt x="3872" y="249"/>
                      </a:lnTo>
                      <a:lnTo>
                        <a:pt x="3881" y="242"/>
                      </a:lnTo>
                      <a:lnTo>
                        <a:pt x="3921" y="237"/>
                      </a:lnTo>
                      <a:lnTo>
                        <a:pt x="3948" y="232"/>
                      </a:lnTo>
                      <a:lnTo>
                        <a:pt x="3982" y="227"/>
                      </a:lnTo>
                      <a:lnTo>
                        <a:pt x="4010" y="218"/>
                      </a:lnTo>
                      <a:lnTo>
                        <a:pt x="4054" y="207"/>
                      </a:lnTo>
                      <a:lnTo>
                        <a:pt x="3989" y="207"/>
                      </a:lnTo>
                      <a:lnTo>
                        <a:pt x="3946" y="206"/>
                      </a:lnTo>
                      <a:lnTo>
                        <a:pt x="3906" y="202"/>
                      </a:lnTo>
                      <a:lnTo>
                        <a:pt x="3872" y="200"/>
                      </a:lnTo>
                      <a:lnTo>
                        <a:pt x="3849" y="200"/>
                      </a:lnTo>
                      <a:lnTo>
                        <a:pt x="3830" y="202"/>
                      </a:lnTo>
                      <a:lnTo>
                        <a:pt x="3811" y="204"/>
                      </a:lnTo>
                      <a:lnTo>
                        <a:pt x="3786" y="209"/>
                      </a:lnTo>
                      <a:lnTo>
                        <a:pt x="3762" y="213"/>
                      </a:lnTo>
                      <a:lnTo>
                        <a:pt x="3796" y="219"/>
                      </a:lnTo>
                      <a:lnTo>
                        <a:pt x="3822" y="227"/>
                      </a:lnTo>
                      <a:lnTo>
                        <a:pt x="3839" y="236"/>
                      </a:lnTo>
                      <a:lnTo>
                        <a:pt x="3845" y="244"/>
                      </a:lnTo>
                      <a:lnTo>
                        <a:pt x="3839" y="253"/>
                      </a:lnTo>
                      <a:lnTo>
                        <a:pt x="3813" y="250"/>
                      </a:lnTo>
                      <a:lnTo>
                        <a:pt x="3794" y="247"/>
                      </a:lnTo>
                      <a:lnTo>
                        <a:pt x="3779" y="240"/>
                      </a:lnTo>
                      <a:lnTo>
                        <a:pt x="3754" y="232"/>
                      </a:lnTo>
                      <a:lnTo>
                        <a:pt x="3722" y="229"/>
                      </a:lnTo>
                      <a:lnTo>
                        <a:pt x="3695" y="227"/>
                      </a:lnTo>
                      <a:lnTo>
                        <a:pt x="3657" y="229"/>
                      </a:lnTo>
                      <a:lnTo>
                        <a:pt x="3631" y="228"/>
                      </a:lnTo>
                      <a:lnTo>
                        <a:pt x="3608" y="227"/>
                      </a:lnTo>
                      <a:lnTo>
                        <a:pt x="3583" y="222"/>
                      </a:lnTo>
                      <a:lnTo>
                        <a:pt x="3555" y="216"/>
                      </a:lnTo>
                      <a:lnTo>
                        <a:pt x="3532" y="209"/>
                      </a:lnTo>
                      <a:lnTo>
                        <a:pt x="3509" y="204"/>
                      </a:lnTo>
                      <a:lnTo>
                        <a:pt x="3488" y="204"/>
                      </a:lnTo>
                      <a:lnTo>
                        <a:pt x="3467" y="209"/>
                      </a:lnTo>
                      <a:lnTo>
                        <a:pt x="3441" y="213"/>
                      </a:lnTo>
                      <a:lnTo>
                        <a:pt x="3416" y="213"/>
                      </a:lnTo>
                      <a:lnTo>
                        <a:pt x="3382" y="213"/>
                      </a:lnTo>
                      <a:lnTo>
                        <a:pt x="3355" y="210"/>
                      </a:lnTo>
                      <a:lnTo>
                        <a:pt x="3327" y="207"/>
                      </a:lnTo>
                      <a:lnTo>
                        <a:pt x="3302" y="206"/>
                      </a:lnTo>
                      <a:lnTo>
                        <a:pt x="3281" y="207"/>
                      </a:lnTo>
                      <a:lnTo>
                        <a:pt x="3249" y="209"/>
                      </a:lnTo>
                      <a:lnTo>
                        <a:pt x="3224" y="211"/>
                      </a:lnTo>
                      <a:lnTo>
                        <a:pt x="3192" y="209"/>
                      </a:lnTo>
                      <a:lnTo>
                        <a:pt x="3156" y="207"/>
                      </a:lnTo>
                      <a:lnTo>
                        <a:pt x="3116" y="206"/>
                      </a:lnTo>
                      <a:lnTo>
                        <a:pt x="3076" y="204"/>
                      </a:lnTo>
                      <a:lnTo>
                        <a:pt x="3048" y="199"/>
                      </a:lnTo>
                      <a:lnTo>
                        <a:pt x="3021" y="194"/>
                      </a:lnTo>
                      <a:lnTo>
                        <a:pt x="2998" y="187"/>
                      </a:lnTo>
                      <a:lnTo>
                        <a:pt x="2977" y="185"/>
                      </a:lnTo>
                      <a:lnTo>
                        <a:pt x="2960" y="185"/>
                      </a:lnTo>
                      <a:lnTo>
                        <a:pt x="2939" y="186"/>
                      </a:lnTo>
                      <a:lnTo>
                        <a:pt x="2886" y="190"/>
                      </a:lnTo>
                      <a:lnTo>
                        <a:pt x="2945" y="194"/>
                      </a:lnTo>
                      <a:lnTo>
                        <a:pt x="2930" y="204"/>
                      </a:lnTo>
                      <a:lnTo>
                        <a:pt x="2909" y="215"/>
                      </a:lnTo>
                      <a:lnTo>
                        <a:pt x="2888" y="216"/>
                      </a:lnTo>
                      <a:lnTo>
                        <a:pt x="2607" y="191"/>
                      </a:lnTo>
                      <a:lnTo>
                        <a:pt x="2590" y="187"/>
                      </a:lnTo>
                      <a:lnTo>
                        <a:pt x="2641" y="177"/>
                      </a:lnTo>
                      <a:lnTo>
                        <a:pt x="2605" y="173"/>
                      </a:lnTo>
                      <a:lnTo>
                        <a:pt x="2582" y="171"/>
                      </a:lnTo>
                      <a:lnTo>
                        <a:pt x="2565" y="164"/>
                      </a:lnTo>
                      <a:lnTo>
                        <a:pt x="2541" y="159"/>
                      </a:lnTo>
                      <a:lnTo>
                        <a:pt x="2514" y="163"/>
                      </a:lnTo>
                      <a:lnTo>
                        <a:pt x="2486" y="165"/>
                      </a:lnTo>
                      <a:lnTo>
                        <a:pt x="2461" y="171"/>
                      </a:lnTo>
                      <a:lnTo>
                        <a:pt x="2438" y="164"/>
                      </a:lnTo>
                      <a:lnTo>
                        <a:pt x="2413" y="152"/>
                      </a:lnTo>
                      <a:lnTo>
                        <a:pt x="2387" y="143"/>
                      </a:lnTo>
                      <a:lnTo>
                        <a:pt x="2362" y="137"/>
                      </a:lnTo>
                      <a:lnTo>
                        <a:pt x="2334" y="133"/>
                      </a:lnTo>
                      <a:lnTo>
                        <a:pt x="2307" y="131"/>
                      </a:lnTo>
                      <a:lnTo>
                        <a:pt x="2263" y="133"/>
                      </a:lnTo>
                      <a:lnTo>
                        <a:pt x="2227" y="135"/>
                      </a:lnTo>
                      <a:lnTo>
                        <a:pt x="2191" y="138"/>
                      </a:lnTo>
                      <a:lnTo>
                        <a:pt x="2148" y="142"/>
                      </a:lnTo>
                      <a:lnTo>
                        <a:pt x="2106" y="146"/>
                      </a:lnTo>
                      <a:lnTo>
                        <a:pt x="2072" y="148"/>
                      </a:lnTo>
                      <a:lnTo>
                        <a:pt x="2043" y="156"/>
                      </a:lnTo>
                      <a:lnTo>
                        <a:pt x="2011" y="160"/>
                      </a:lnTo>
                      <a:lnTo>
                        <a:pt x="1982" y="160"/>
                      </a:lnTo>
                      <a:lnTo>
                        <a:pt x="1952" y="165"/>
                      </a:lnTo>
                      <a:lnTo>
                        <a:pt x="1920" y="169"/>
                      </a:lnTo>
                      <a:lnTo>
                        <a:pt x="1887" y="174"/>
                      </a:lnTo>
                      <a:lnTo>
                        <a:pt x="1853" y="174"/>
                      </a:lnTo>
                      <a:lnTo>
                        <a:pt x="1819" y="174"/>
                      </a:lnTo>
                      <a:lnTo>
                        <a:pt x="1794" y="173"/>
                      </a:lnTo>
                      <a:lnTo>
                        <a:pt x="1770" y="177"/>
                      </a:lnTo>
                      <a:lnTo>
                        <a:pt x="1739" y="183"/>
                      </a:lnTo>
                      <a:lnTo>
                        <a:pt x="1705" y="183"/>
                      </a:lnTo>
                      <a:lnTo>
                        <a:pt x="1665" y="183"/>
                      </a:lnTo>
                      <a:lnTo>
                        <a:pt x="1631" y="183"/>
                      </a:lnTo>
                      <a:lnTo>
                        <a:pt x="1589" y="183"/>
                      </a:lnTo>
                      <a:lnTo>
                        <a:pt x="1510" y="190"/>
                      </a:lnTo>
                      <a:lnTo>
                        <a:pt x="1494" y="186"/>
                      </a:lnTo>
                      <a:lnTo>
                        <a:pt x="1477" y="178"/>
                      </a:lnTo>
                      <a:lnTo>
                        <a:pt x="1453" y="174"/>
                      </a:lnTo>
                      <a:lnTo>
                        <a:pt x="1432" y="173"/>
                      </a:lnTo>
                      <a:lnTo>
                        <a:pt x="1403" y="174"/>
                      </a:lnTo>
                      <a:lnTo>
                        <a:pt x="1369" y="178"/>
                      </a:lnTo>
                      <a:lnTo>
                        <a:pt x="1314" y="181"/>
                      </a:lnTo>
                      <a:lnTo>
                        <a:pt x="1291" y="176"/>
                      </a:lnTo>
                      <a:lnTo>
                        <a:pt x="1274" y="169"/>
                      </a:lnTo>
                      <a:lnTo>
                        <a:pt x="1255" y="167"/>
                      </a:lnTo>
                      <a:lnTo>
                        <a:pt x="1230" y="165"/>
                      </a:lnTo>
                      <a:lnTo>
                        <a:pt x="1208" y="160"/>
                      </a:lnTo>
                      <a:lnTo>
                        <a:pt x="1200" y="152"/>
                      </a:lnTo>
                      <a:lnTo>
                        <a:pt x="1183" y="138"/>
                      </a:lnTo>
                      <a:lnTo>
                        <a:pt x="1164" y="134"/>
                      </a:lnTo>
                      <a:lnTo>
                        <a:pt x="1139" y="131"/>
                      </a:lnTo>
                      <a:lnTo>
                        <a:pt x="1115" y="131"/>
                      </a:lnTo>
                      <a:lnTo>
                        <a:pt x="1105" y="137"/>
                      </a:lnTo>
                      <a:lnTo>
                        <a:pt x="1090" y="152"/>
                      </a:lnTo>
                      <a:lnTo>
                        <a:pt x="1073" y="148"/>
                      </a:lnTo>
                      <a:lnTo>
                        <a:pt x="1054" y="147"/>
                      </a:lnTo>
                      <a:lnTo>
                        <a:pt x="1031" y="148"/>
                      </a:lnTo>
                      <a:lnTo>
                        <a:pt x="1010" y="155"/>
                      </a:lnTo>
                      <a:lnTo>
                        <a:pt x="982" y="159"/>
                      </a:lnTo>
                      <a:lnTo>
                        <a:pt x="949" y="159"/>
                      </a:lnTo>
                      <a:lnTo>
                        <a:pt x="974" y="146"/>
                      </a:lnTo>
                      <a:lnTo>
                        <a:pt x="984" y="137"/>
                      </a:lnTo>
                      <a:lnTo>
                        <a:pt x="961" y="139"/>
                      </a:lnTo>
                      <a:lnTo>
                        <a:pt x="917" y="146"/>
                      </a:lnTo>
                      <a:lnTo>
                        <a:pt x="879" y="144"/>
                      </a:lnTo>
                      <a:lnTo>
                        <a:pt x="877" y="137"/>
                      </a:lnTo>
                      <a:lnTo>
                        <a:pt x="870" y="129"/>
                      </a:lnTo>
                      <a:lnTo>
                        <a:pt x="862" y="124"/>
                      </a:lnTo>
                      <a:lnTo>
                        <a:pt x="841" y="119"/>
                      </a:lnTo>
                      <a:lnTo>
                        <a:pt x="818" y="119"/>
                      </a:lnTo>
                      <a:lnTo>
                        <a:pt x="788" y="121"/>
                      </a:lnTo>
                      <a:lnTo>
                        <a:pt x="761" y="124"/>
                      </a:lnTo>
                      <a:lnTo>
                        <a:pt x="733" y="119"/>
                      </a:lnTo>
                      <a:lnTo>
                        <a:pt x="701" y="112"/>
                      </a:lnTo>
                      <a:lnTo>
                        <a:pt x="680" y="103"/>
                      </a:lnTo>
                      <a:lnTo>
                        <a:pt x="703" y="85"/>
                      </a:lnTo>
                      <a:lnTo>
                        <a:pt x="727" y="79"/>
                      </a:lnTo>
                      <a:lnTo>
                        <a:pt x="752" y="71"/>
                      </a:lnTo>
                      <a:lnTo>
                        <a:pt x="769" y="66"/>
                      </a:lnTo>
                      <a:lnTo>
                        <a:pt x="784" y="58"/>
                      </a:lnTo>
                      <a:lnTo>
                        <a:pt x="792" y="49"/>
                      </a:lnTo>
                      <a:lnTo>
                        <a:pt x="796" y="40"/>
                      </a:lnTo>
                      <a:lnTo>
                        <a:pt x="803" y="30"/>
                      </a:lnTo>
                      <a:lnTo>
                        <a:pt x="758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982680" y="4067280"/>
                  <a:ext cx="820440" cy="100080"/>
                </a:xfrm>
                <a:custGeom>
                  <a:avLst/>
                  <a:gdLst/>
                  <a:ahLst/>
                  <a:rect l="l" t="t" r="r" b="b"/>
                  <a:pathLst>
                    <a:path w="626" h="80">
                      <a:moveTo>
                        <a:pt x="0" y="40"/>
                      </a:moveTo>
                      <a:lnTo>
                        <a:pt x="43" y="31"/>
                      </a:lnTo>
                      <a:lnTo>
                        <a:pt x="54" y="21"/>
                      </a:lnTo>
                      <a:lnTo>
                        <a:pt x="72" y="17"/>
                      </a:lnTo>
                      <a:lnTo>
                        <a:pt x="85" y="15"/>
                      </a:lnTo>
                      <a:lnTo>
                        <a:pt x="101" y="12"/>
                      </a:lnTo>
                      <a:lnTo>
                        <a:pt x="118" y="12"/>
                      </a:lnTo>
                      <a:lnTo>
                        <a:pt x="139" y="12"/>
                      </a:lnTo>
                      <a:lnTo>
                        <a:pt x="157" y="8"/>
                      </a:lnTo>
                      <a:lnTo>
                        <a:pt x="172" y="7"/>
                      </a:lnTo>
                      <a:lnTo>
                        <a:pt x="198" y="8"/>
                      </a:lnTo>
                      <a:lnTo>
                        <a:pt x="214" y="3"/>
                      </a:lnTo>
                      <a:lnTo>
                        <a:pt x="230" y="0"/>
                      </a:lnTo>
                      <a:lnTo>
                        <a:pt x="245" y="0"/>
                      </a:lnTo>
                      <a:lnTo>
                        <a:pt x="261" y="5"/>
                      </a:lnTo>
                      <a:lnTo>
                        <a:pt x="276" y="12"/>
                      </a:lnTo>
                      <a:lnTo>
                        <a:pt x="296" y="17"/>
                      </a:lnTo>
                      <a:lnTo>
                        <a:pt x="326" y="21"/>
                      </a:lnTo>
                      <a:lnTo>
                        <a:pt x="341" y="16"/>
                      </a:lnTo>
                      <a:lnTo>
                        <a:pt x="360" y="17"/>
                      </a:lnTo>
                      <a:lnTo>
                        <a:pt x="373" y="21"/>
                      </a:lnTo>
                      <a:lnTo>
                        <a:pt x="394" y="31"/>
                      </a:lnTo>
                      <a:lnTo>
                        <a:pt x="410" y="43"/>
                      </a:lnTo>
                      <a:lnTo>
                        <a:pt x="436" y="50"/>
                      </a:lnTo>
                      <a:lnTo>
                        <a:pt x="473" y="47"/>
                      </a:lnTo>
                      <a:lnTo>
                        <a:pt x="492" y="55"/>
                      </a:lnTo>
                      <a:lnTo>
                        <a:pt x="509" y="60"/>
                      </a:lnTo>
                      <a:lnTo>
                        <a:pt x="532" y="62"/>
                      </a:lnTo>
                      <a:lnTo>
                        <a:pt x="625" y="75"/>
                      </a:lnTo>
                      <a:lnTo>
                        <a:pt x="524" y="70"/>
                      </a:lnTo>
                      <a:lnTo>
                        <a:pt x="505" y="74"/>
                      </a:lnTo>
                      <a:lnTo>
                        <a:pt x="488" y="79"/>
                      </a:lnTo>
                      <a:lnTo>
                        <a:pt x="476" y="78"/>
                      </a:lnTo>
                      <a:lnTo>
                        <a:pt x="461" y="75"/>
                      </a:lnTo>
                      <a:lnTo>
                        <a:pt x="442" y="68"/>
                      </a:lnTo>
                      <a:lnTo>
                        <a:pt x="415" y="66"/>
                      </a:lnTo>
                      <a:lnTo>
                        <a:pt x="390" y="58"/>
                      </a:lnTo>
                      <a:lnTo>
                        <a:pt x="373" y="60"/>
                      </a:lnTo>
                      <a:lnTo>
                        <a:pt x="354" y="62"/>
                      </a:lnTo>
                      <a:lnTo>
                        <a:pt x="313" y="55"/>
                      </a:lnTo>
                      <a:lnTo>
                        <a:pt x="292" y="52"/>
                      </a:lnTo>
                      <a:lnTo>
                        <a:pt x="265" y="43"/>
                      </a:lnTo>
                      <a:lnTo>
                        <a:pt x="238" y="43"/>
                      </a:lnTo>
                      <a:lnTo>
                        <a:pt x="206" y="43"/>
                      </a:lnTo>
                      <a:lnTo>
                        <a:pt x="183" y="44"/>
                      </a:lnTo>
                      <a:lnTo>
                        <a:pt x="161" y="42"/>
                      </a:lnTo>
                      <a:lnTo>
                        <a:pt x="139" y="35"/>
                      </a:lnTo>
                      <a:lnTo>
                        <a:pt x="118" y="40"/>
                      </a:lnTo>
                      <a:lnTo>
                        <a:pt x="99" y="32"/>
                      </a:lnTo>
                      <a:lnTo>
                        <a:pt x="83" y="35"/>
                      </a:lnTo>
                      <a:lnTo>
                        <a:pt x="60" y="36"/>
                      </a:lnTo>
                      <a:lnTo>
                        <a:pt x="35" y="37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074040" y="4041000"/>
                  <a:ext cx="3448080" cy="340920"/>
                </a:xfrm>
                <a:custGeom>
                  <a:avLst/>
                  <a:gdLst/>
                  <a:ahLst/>
                  <a:rect l="l" t="t" r="r" b="b"/>
                  <a:pathLst>
                    <a:path w="2630" h="272">
                      <a:moveTo>
                        <a:pt x="492" y="0"/>
                      </a:moveTo>
                      <a:lnTo>
                        <a:pt x="471" y="6"/>
                      </a:lnTo>
                      <a:lnTo>
                        <a:pt x="455" y="10"/>
                      </a:lnTo>
                      <a:lnTo>
                        <a:pt x="441" y="18"/>
                      </a:lnTo>
                      <a:lnTo>
                        <a:pt x="433" y="24"/>
                      </a:lnTo>
                      <a:lnTo>
                        <a:pt x="427" y="35"/>
                      </a:lnTo>
                      <a:lnTo>
                        <a:pt x="406" y="37"/>
                      </a:lnTo>
                      <a:lnTo>
                        <a:pt x="392" y="40"/>
                      </a:lnTo>
                      <a:lnTo>
                        <a:pt x="381" y="45"/>
                      </a:lnTo>
                      <a:lnTo>
                        <a:pt x="364" y="52"/>
                      </a:lnTo>
                      <a:lnTo>
                        <a:pt x="347" y="52"/>
                      </a:lnTo>
                      <a:lnTo>
                        <a:pt x="325" y="63"/>
                      </a:lnTo>
                      <a:lnTo>
                        <a:pt x="299" y="53"/>
                      </a:lnTo>
                      <a:lnTo>
                        <a:pt x="314" y="76"/>
                      </a:lnTo>
                      <a:lnTo>
                        <a:pt x="289" y="76"/>
                      </a:lnTo>
                      <a:lnTo>
                        <a:pt x="258" y="77"/>
                      </a:lnTo>
                      <a:lnTo>
                        <a:pt x="234" y="71"/>
                      </a:lnTo>
                      <a:lnTo>
                        <a:pt x="207" y="85"/>
                      </a:lnTo>
                      <a:lnTo>
                        <a:pt x="182" y="76"/>
                      </a:lnTo>
                      <a:lnTo>
                        <a:pt x="175" y="77"/>
                      </a:lnTo>
                      <a:lnTo>
                        <a:pt x="169" y="83"/>
                      </a:lnTo>
                      <a:lnTo>
                        <a:pt x="160" y="90"/>
                      </a:lnTo>
                      <a:lnTo>
                        <a:pt x="155" y="98"/>
                      </a:lnTo>
                      <a:lnTo>
                        <a:pt x="145" y="105"/>
                      </a:lnTo>
                      <a:lnTo>
                        <a:pt x="138" y="110"/>
                      </a:lnTo>
                      <a:lnTo>
                        <a:pt x="122" y="110"/>
                      </a:lnTo>
                      <a:lnTo>
                        <a:pt x="104" y="110"/>
                      </a:lnTo>
                      <a:lnTo>
                        <a:pt x="96" y="116"/>
                      </a:lnTo>
                      <a:lnTo>
                        <a:pt x="84" y="124"/>
                      </a:lnTo>
                      <a:lnTo>
                        <a:pt x="73" y="124"/>
                      </a:lnTo>
                      <a:lnTo>
                        <a:pt x="56" y="125"/>
                      </a:lnTo>
                      <a:lnTo>
                        <a:pt x="36" y="125"/>
                      </a:lnTo>
                      <a:lnTo>
                        <a:pt x="16" y="133"/>
                      </a:lnTo>
                      <a:lnTo>
                        <a:pt x="0" y="152"/>
                      </a:lnTo>
                      <a:lnTo>
                        <a:pt x="14" y="150"/>
                      </a:lnTo>
                      <a:lnTo>
                        <a:pt x="36" y="144"/>
                      </a:lnTo>
                      <a:lnTo>
                        <a:pt x="58" y="143"/>
                      </a:lnTo>
                      <a:lnTo>
                        <a:pt x="74" y="144"/>
                      </a:lnTo>
                      <a:lnTo>
                        <a:pt x="89" y="152"/>
                      </a:lnTo>
                      <a:lnTo>
                        <a:pt x="105" y="155"/>
                      </a:lnTo>
                      <a:lnTo>
                        <a:pt x="122" y="150"/>
                      </a:lnTo>
                      <a:lnTo>
                        <a:pt x="140" y="144"/>
                      </a:lnTo>
                      <a:lnTo>
                        <a:pt x="156" y="139"/>
                      </a:lnTo>
                      <a:lnTo>
                        <a:pt x="171" y="139"/>
                      </a:lnTo>
                      <a:lnTo>
                        <a:pt x="182" y="150"/>
                      </a:lnTo>
                      <a:lnTo>
                        <a:pt x="192" y="159"/>
                      </a:lnTo>
                      <a:lnTo>
                        <a:pt x="210" y="159"/>
                      </a:lnTo>
                      <a:lnTo>
                        <a:pt x="226" y="156"/>
                      </a:lnTo>
                      <a:lnTo>
                        <a:pt x="245" y="150"/>
                      </a:lnTo>
                      <a:lnTo>
                        <a:pt x="262" y="146"/>
                      </a:lnTo>
                      <a:lnTo>
                        <a:pt x="278" y="155"/>
                      </a:lnTo>
                      <a:lnTo>
                        <a:pt x="295" y="164"/>
                      </a:lnTo>
                      <a:lnTo>
                        <a:pt x="311" y="168"/>
                      </a:lnTo>
                      <a:lnTo>
                        <a:pt x="327" y="171"/>
                      </a:lnTo>
                      <a:lnTo>
                        <a:pt x="349" y="174"/>
                      </a:lnTo>
                      <a:lnTo>
                        <a:pt x="371" y="176"/>
                      </a:lnTo>
                      <a:lnTo>
                        <a:pt x="392" y="174"/>
                      </a:lnTo>
                      <a:lnTo>
                        <a:pt x="416" y="169"/>
                      </a:lnTo>
                      <a:lnTo>
                        <a:pt x="406" y="153"/>
                      </a:lnTo>
                      <a:lnTo>
                        <a:pt x="408" y="143"/>
                      </a:lnTo>
                      <a:lnTo>
                        <a:pt x="419" y="137"/>
                      </a:lnTo>
                      <a:lnTo>
                        <a:pt x="422" y="148"/>
                      </a:lnTo>
                      <a:lnTo>
                        <a:pt x="436" y="159"/>
                      </a:lnTo>
                      <a:lnTo>
                        <a:pt x="449" y="164"/>
                      </a:lnTo>
                      <a:lnTo>
                        <a:pt x="464" y="168"/>
                      </a:lnTo>
                      <a:lnTo>
                        <a:pt x="482" y="174"/>
                      </a:lnTo>
                      <a:lnTo>
                        <a:pt x="500" y="177"/>
                      </a:lnTo>
                      <a:lnTo>
                        <a:pt x="526" y="180"/>
                      </a:lnTo>
                      <a:lnTo>
                        <a:pt x="543" y="178"/>
                      </a:lnTo>
                      <a:lnTo>
                        <a:pt x="563" y="180"/>
                      </a:lnTo>
                      <a:lnTo>
                        <a:pt x="596" y="187"/>
                      </a:lnTo>
                      <a:lnTo>
                        <a:pt x="585" y="195"/>
                      </a:lnTo>
                      <a:lnTo>
                        <a:pt x="570" y="204"/>
                      </a:lnTo>
                      <a:lnTo>
                        <a:pt x="541" y="219"/>
                      </a:lnTo>
                      <a:lnTo>
                        <a:pt x="559" y="220"/>
                      </a:lnTo>
                      <a:lnTo>
                        <a:pt x="575" y="222"/>
                      </a:lnTo>
                      <a:lnTo>
                        <a:pt x="599" y="227"/>
                      </a:lnTo>
                      <a:lnTo>
                        <a:pt x="623" y="229"/>
                      </a:lnTo>
                      <a:lnTo>
                        <a:pt x="637" y="228"/>
                      </a:lnTo>
                      <a:lnTo>
                        <a:pt x="648" y="220"/>
                      </a:lnTo>
                      <a:lnTo>
                        <a:pt x="663" y="216"/>
                      </a:lnTo>
                      <a:lnTo>
                        <a:pt x="684" y="215"/>
                      </a:lnTo>
                      <a:lnTo>
                        <a:pt x="711" y="213"/>
                      </a:lnTo>
                      <a:lnTo>
                        <a:pt x="730" y="204"/>
                      </a:lnTo>
                      <a:lnTo>
                        <a:pt x="756" y="196"/>
                      </a:lnTo>
                      <a:lnTo>
                        <a:pt x="778" y="190"/>
                      </a:lnTo>
                      <a:lnTo>
                        <a:pt x="793" y="191"/>
                      </a:lnTo>
                      <a:lnTo>
                        <a:pt x="847" y="194"/>
                      </a:lnTo>
                      <a:lnTo>
                        <a:pt x="888" y="198"/>
                      </a:lnTo>
                      <a:lnTo>
                        <a:pt x="915" y="198"/>
                      </a:lnTo>
                      <a:lnTo>
                        <a:pt x="937" y="200"/>
                      </a:lnTo>
                      <a:lnTo>
                        <a:pt x="974" y="218"/>
                      </a:lnTo>
                      <a:lnTo>
                        <a:pt x="992" y="218"/>
                      </a:lnTo>
                      <a:lnTo>
                        <a:pt x="1012" y="213"/>
                      </a:lnTo>
                      <a:lnTo>
                        <a:pt x="1034" y="207"/>
                      </a:lnTo>
                      <a:lnTo>
                        <a:pt x="1052" y="204"/>
                      </a:lnTo>
                      <a:lnTo>
                        <a:pt x="1115" y="198"/>
                      </a:lnTo>
                      <a:lnTo>
                        <a:pt x="1158" y="196"/>
                      </a:lnTo>
                      <a:lnTo>
                        <a:pt x="1185" y="194"/>
                      </a:lnTo>
                      <a:lnTo>
                        <a:pt x="1207" y="191"/>
                      </a:lnTo>
                      <a:lnTo>
                        <a:pt x="1229" y="189"/>
                      </a:lnTo>
                      <a:lnTo>
                        <a:pt x="1255" y="185"/>
                      </a:lnTo>
                      <a:lnTo>
                        <a:pt x="1273" y="180"/>
                      </a:lnTo>
                      <a:lnTo>
                        <a:pt x="1299" y="173"/>
                      </a:lnTo>
                      <a:lnTo>
                        <a:pt x="1314" y="181"/>
                      </a:lnTo>
                      <a:lnTo>
                        <a:pt x="1322" y="191"/>
                      </a:lnTo>
                      <a:lnTo>
                        <a:pt x="1312" y="202"/>
                      </a:lnTo>
                      <a:lnTo>
                        <a:pt x="1293" y="209"/>
                      </a:lnTo>
                      <a:lnTo>
                        <a:pt x="1317" y="209"/>
                      </a:lnTo>
                      <a:lnTo>
                        <a:pt x="1304" y="218"/>
                      </a:lnTo>
                      <a:lnTo>
                        <a:pt x="1286" y="227"/>
                      </a:lnTo>
                      <a:lnTo>
                        <a:pt x="1262" y="238"/>
                      </a:lnTo>
                      <a:lnTo>
                        <a:pt x="1238" y="246"/>
                      </a:lnTo>
                      <a:lnTo>
                        <a:pt x="1267" y="242"/>
                      </a:lnTo>
                      <a:lnTo>
                        <a:pt x="1292" y="238"/>
                      </a:lnTo>
                      <a:lnTo>
                        <a:pt x="1317" y="231"/>
                      </a:lnTo>
                      <a:lnTo>
                        <a:pt x="1333" y="225"/>
                      </a:lnTo>
                      <a:lnTo>
                        <a:pt x="1341" y="222"/>
                      </a:lnTo>
                      <a:lnTo>
                        <a:pt x="1355" y="220"/>
                      </a:lnTo>
                      <a:lnTo>
                        <a:pt x="1371" y="220"/>
                      </a:lnTo>
                      <a:lnTo>
                        <a:pt x="1392" y="222"/>
                      </a:lnTo>
                      <a:lnTo>
                        <a:pt x="1410" y="227"/>
                      </a:lnTo>
                      <a:lnTo>
                        <a:pt x="1426" y="228"/>
                      </a:lnTo>
                      <a:lnTo>
                        <a:pt x="1448" y="227"/>
                      </a:lnTo>
                      <a:lnTo>
                        <a:pt x="1432" y="242"/>
                      </a:lnTo>
                      <a:lnTo>
                        <a:pt x="1414" y="253"/>
                      </a:lnTo>
                      <a:lnTo>
                        <a:pt x="1393" y="261"/>
                      </a:lnTo>
                      <a:lnTo>
                        <a:pt x="1417" y="258"/>
                      </a:lnTo>
                      <a:lnTo>
                        <a:pt x="1438" y="254"/>
                      </a:lnTo>
                      <a:lnTo>
                        <a:pt x="1462" y="252"/>
                      </a:lnTo>
                      <a:lnTo>
                        <a:pt x="1481" y="247"/>
                      </a:lnTo>
                      <a:lnTo>
                        <a:pt x="1506" y="244"/>
                      </a:lnTo>
                      <a:lnTo>
                        <a:pt x="1534" y="241"/>
                      </a:lnTo>
                      <a:lnTo>
                        <a:pt x="1560" y="241"/>
                      </a:lnTo>
                      <a:lnTo>
                        <a:pt x="1581" y="236"/>
                      </a:lnTo>
                      <a:lnTo>
                        <a:pt x="1586" y="231"/>
                      </a:lnTo>
                      <a:lnTo>
                        <a:pt x="1593" y="227"/>
                      </a:lnTo>
                      <a:lnTo>
                        <a:pt x="1608" y="227"/>
                      </a:lnTo>
                      <a:lnTo>
                        <a:pt x="1634" y="232"/>
                      </a:lnTo>
                      <a:lnTo>
                        <a:pt x="1666" y="236"/>
                      </a:lnTo>
                      <a:lnTo>
                        <a:pt x="1696" y="241"/>
                      </a:lnTo>
                      <a:lnTo>
                        <a:pt x="1712" y="244"/>
                      </a:lnTo>
                      <a:lnTo>
                        <a:pt x="1741" y="244"/>
                      </a:lnTo>
                      <a:lnTo>
                        <a:pt x="1774" y="246"/>
                      </a:lnTo>
                      <a:lnTo>
                        <a:pt x="1799" y="250"/>
                      </a:lnTo>
                      <a:lnTo>
                        <a:pt x="1829" y="258"/>
                      </a:lnTo>
                      <a:lnTo>
                        <a:pt x="1855" y="262"/>
                      </a:lnTo>
                      <a:lnTo>
                        <a:pt x="1877" y="265"/>
                      </a:lnTo>
                      <a:lnTo>
                        <a:pt x="1899" y="262"/>
                      </a:lnTo>
                      <a:lnTo>
                        <a:pt x="1933" y="253"/>
                      </a:lnTo>
                      <a:lnTo>
                        <a:pt x="1962" y="258"/>
                      </a:lnTo>
                      <a:lnTo>
                        <a:pt x="1988" y="258"/>
                      </a:lnTo>
                      <a:lnTo>
                        <a:pt x="2015" y="258"/>
                      </a:lnTo>
                      <a:lnTo>
                        <a:pt x="2043" y="257"/>
                      </a:lnTo>
                      <a:lnTo>
                        <a:pt x="2080" y="249"/>
                      </a:lnTo>
                      <a:lnTo>
                        <a:pt x="2097" y="249"/>
                      </a:lnTo>
                      <a:lnTo>
                        <a:pt x="2118" y="247"/>
                      </a:lnTo>
                      <a:lnTo>
                        <a:pt x="2156" y="252"/>
                      </a:lnTo>
                      <a:lnTo>
                        <a:pt x="2176" y="254"/>
                      </a:lnTo>
                      <a:lnTo>
                        <a:pt x="2192" y="253"/>
                      </a:lnTo>
                      <a:lnTo>
                        <a:pt x="2214" y="250"/>
                      </a:lnTo>
                      <a:lnTo>
                        <a:pt x="2236" y="249"/>
                      </a:lnTo>
                      <a:lnTo>
                        <a:pt x="2252" y="249"/>
                      </a:lnTo>
                      <a:lnTo>
                        <a:pt x="2259" y="252"/>
                      </a:lnTo>
                      <a:lnTo>
                        <a:pt x="2259" y="262"/>
                      </a:lnTo>
                      <a:lnTo>
                        <a:pt x="2267" y="265"/>
                      </a:lnTo>
                      <a:lnTo>
                        <a:pt x="2281" y="265"/>
                      </a:lnTo>
                      <a:lnTo>
                        <a:pt x="2295" y="262"/>
                      </a:lnTo>
                      <a:lnTo>
                        <a:pt x="2307" y="253"/>
                      </a:lnTo>
                      <a:lnTo>
                        <a:pt x="2315" y="244"/>
                      </a:lnTo>
                      <a:lnTo>
                        <a:pt x="2323" y="240"/>
                      </a:lnTo>
                      <a:lnTo>
                        <a:pt x="2345" y="240"/>
                      </a:lnTo>
                      <a:lnTo>
                        <a:pt x="2362" y="240"/>
                      </a:lnTo>
                      <a:lnTo>
                        <a:pt x="2382" y="249"/>
                      </a:lnTo>
                      <a:lnTo>
                        <a:pt x="2399" y="254"/>
                      </a:lnTo>
                      <a:lnTo>
                        <a:pt x="2418" y="262"/>
                      </a:lnTo>
                      <a:lnTo>
                        <a:pt x="2430" y="263"/>
                      </a:lnTo>
                      <a:lnTo>
                        <a:pt x="2443" y="265"/>
                      </a:lnTo>
                      <a:lnTo>
                        <a:pt x="2456" y="265"/>
                      </a:lnTo>
                      <a:lnTo>
                        <a:pt x="2478" y="262"/>
                      </a:lnTo>
                      <a:lnTo>
                        <a:pt x="2552" y="271"/>
                      </a:lnTo>
                      <a:lnTo>
                        <a:pt x="2530" y="262"/>
                      </a:lnTo>
                      <a:lnTo>
                        <a:pt x="2517" y="258"/>
                      </a:lnTo>
                      <a:lnTo>
                        <a:pt x="2511" y="249"/>
                      </a:lnTo>
                      <a:lnTo>
                        <a:pt x="2517" y="242"/>
                      </a:lnTo>
                      <a:lnTo>
                        <a:pt x="2543" y="237"/>
                      </a:lnTo>
                      <a:lnTo>
                        <a:pt x="2561" y="232"/>
                      </a:lnTo>
                      <a:lnTo>
                        <a:pt x="2582" y="227"/>
                      </a:lnTo>
                      <a:lnTo>
                        <a:pt x="2600" y="218"/>
                      </a:lnTo>
                      <a:lnTo>
                        <a:pt x="2629" y="207"/>
                      </a:lnTo>
                      <a:lnTo>
                        <a:pt x="2587" y="207"/>
                      </a:lnTo>
                      <a:lnTo>
                        <a:pt x="2559" y="206"/>
                      </a:lnTo>
                      <a:lnTo>
                        <a:pt x="2533" y="202"/>
                      </a:lnTo>
                      <a:lnTo>
                        <a:pt x="2511" y="200"/>
                      </a:lnTo>
                      <a:lnTo>
                        <a:pt x="2496" y="200"/>
                      </a:lnTo>
                      <a:lnTo>
                        <a:pt x="2484" y="202"/>
                      </a:lnTo>
                      <a:lnTo>
                        <a:pt x="2471" y="204"/>
                      </a:lnTo>
                      <a:lnTo>
                        <a:pt x="2455" y="209"/>
                      </a:lnTo>
                      <a:lnTo>
                        <a:pt x="2440" y="213"/>
                      </a:lnTo>
                      <a:lnTo>
                        <a:pt x="2462" y="219"/>
                      </a:lnTo>
                      <a:lnTo>
                        <a:pt x="2478" y="227"/>
                      </a:lnTo>
                      <a:lnTo>
                        <a:pt x="2489" y="236"/>
                      </a:lnTo>
                      <a:lnTo>
                        <a:pt x="2493" y="244"/>
                      </a:lnTo>
                      <a:lnTo>
                        <a:pt x="2489" y="253"/>
                      </a:lnTo>
                      <a:lnTo>
                        <a:pt x="2473" y="250"/>
                      </a:lnTo>
                      <a:lnTo>
                        <a:pt x="2460" y="247"/>
                      </a:lnTo>
                      <a:lnTo>
                        <a:pt x="2451" y="240"/>
                      </a:lnTo>
                      <a:lnTo>
                        <a:pt x="2434" y="232"/>
                      </a:lnTo>
                      <a:lnTo>
                        <a:pt x="2414" y="229"/>
                      </a:lnTo>
                      <a:lnTo>
                        <a:pt x="2396" y="227"/>
                      </a:lnTo>
                      <a:lnTo>
                        <a:pt x="2371" y="229"/>
                      </a:lnTo>
                      <a:lnTo>
                        <a:pt x="2355" y="228"/>
                      </a:lnTo>
                      <a:lnTo>
                        <a:pt x="2340" y="227"/>
                      </a:lnTo>
                      <a:lnTo>
                        <a:pt x="2323" y="222"/>
                      </a:lnTo>
                      <a:lnTo>
                        <a:pt x="2306" y="216"/>
                      </a:lnTo>
                      <a:lnTo>
                        <a:pt x="2291" y="209"/>
                      </a:lnTo>
                      <a:lnTo>
                        <a:pt x="2276" y="204"/>
                      </a:lnTo>
                      <a:lnTo>
                        <a:pt x="2262" y="204"/>
                      </a:lnTo>
                      <a:lnTo>
                        <a:pt x="2248" y="209"/>
                      </a:lnTo>
                      <a:lnTo>
                        <a:pt x="2232" y="213"/>
                      </a:lnTo>
                      <a:lnTo>
                        <a:pt x="2215" y="213"/>
                      </a:lnTo>
                      <a:lnTo>
                        <a:pt x="2193" y="213"/>
                      </a:lnTo>
                      <a:lnTo>
                        <a:pt x="2176" y="210"/>
                      </a:lnTo>
                      <a:lnTo>
                        <a:pt x="2158" y="207"/>
                      </a:lnTo>
                      <a:lnTo>
                        <a:pt x="2141" y="206"/>
                      </a:lnTo>
                      <a:lnTo>
                        <a:pt x="2128" y="207"/>
                      </a:lnTo>
                      <a:lnTo>
                        <a:pt x="2107" y="209"/>
                      </a:lnTo>
                      <a:lnTo>
                        <a:pt x="2091" y="211"/>
                      </a:lnTo>
                      <a:lnTo>
                        <a:pt x="2070" y="209"/>
                      </a:lnTo>
                      <a:lnTo>
                        <a:pt x="2047" y="207"/>
                      </a:lnTo>
                      <a:lnTo>
                        <a:pt x="2021" y="206"/>
                      </a:lnTo>
                      <a:lnTo>
                        <a:pt x="1995" y="204"/>
                      </a:lnTo>
                      <a:lnTo>
                        <a:pt x="1977" y="199"/>
                      </a:lnTo>
                      <a:lnTo>
                        <a:pt x="1959" y="194"/>
                      </a:lnTo>
                      <a:lnTo>
                        <a:pt x="1944" y="187"/>
                      </a:lnTo>
                      <a:lnTo>
                        <a:pt x="1930" y="185"/>
                      </a:lnTo>
                      <a:lnTo>
                        <a:pt x="1919" y="185"/>
                      </a:lnTo>
                      <a:lnTo>
                        <a:pt x="1906" y="186"/>
                      </a:lnTo>
                      <a:lnTo>
                        <a:pt x="1871" y="190"/>
                      </a:lnTo>
                      <a:lnTo>
                        <a:pt x="1910" y="194"/>
                      </a:lnTo>
                      <a:lnTo>
                        <a:pt x="1900" y="204"/>
                      </a:lnTo>
                      <a:lnTo>
                        <a:pt x="1886" y="215"/>
                      </a:lnTo>
                      <a:lnTo>
                        <a:pt x="1873" y="216"/>
                      </a:lnTo>
                      <a:lnTo>
                        <a:pt x="1691" y="191"/>
                      </a:lnTo>
                      <a:lnTo>
                        <a:pt x="1680" y="187"/>
                      </a:lnTo>
                      <a:lnTo>
                        <a:pt x="1712" y="177"/>
                      </a:lnTo>
                      <a:lnTo>
                        <a:pt x="1689" y="173"/>
                      </a:lnTo>
                      <a:lnTo>
                        <a:pt x="1674" y="171"/>
                      </a:lnTo>
                      <a:lnTo>
                        <a:pt x="1663" y="164"/>
                      </a:lnTo>
                      <a:lnTo>
                        <a:pt x="1648" y="159"/>
                      </a:lnTo>
                      <a:lnTo>
                        <a:pt x="1630" y="163"/>
                      </a:lnTo>
                      <a:lnTo>
                        <a:pt x="1612" y="165"/>
                      </a:lnTo>
                      <a:lnTo>
                        <a:pt x="1596" y="171"/>
                      </a:lnTo>
                      <a:lnTo>
                        <a:pt x="1581" y="164"/>
                      </a:lnTo>
                      <a:lnTo>
                        <a:pt x="1565" y="152"/>
                      </a:lnTo>
                      <a:lnTo>
                        <a:pt x="1548" y="143"/>
                      </a:lnTo>
                      <a:lnTo>
                        <a:pt x="1532" y="137"/>
                      </a:lnTo>
                      <a:lnTo>
                        <a:pt x="1514" y="133"/>
                      </a:lnTo>
                      <a:lnTo>
                        <a:pt x="1496" y="131"/>
                      </a:lnTo>
                      <a:lnTo>
                        <a:pt x="1467" y="133"/>
                      </a:lnTo>
                      <a:lnTo>
                        <a:pt x="1444" y="135"/>
                      </a:lnTo>
                      <a:lnTo>
                        <a:pt x="1421" y="138"/>
                      </a:lnTo>
                      <a:lnTo>
                        <a:pt x="1393" y="142"/>
                      </a:lnTo>
                      <a:lnTo>
                        <a:pt x="1366" y="146"/>
                      </a:lnTo>
                      <a:lnTo>
                        <a:pt x="1344" y="148"/>
                      </a:lnTo>
                      <a:lnTo>
                        <a:pt x="1325" y="156"/>
                      </a:lnTo>
                      <a:lnTo>
                        <a:pt x="1304" y="160"/>
                      </a:lnTo>
                      <a:lnTo>
                        <a:pt x="1285" y="160"/>
                      </a:lnTo>
                      <a:lnTo>
                        <a:pt x="1266" y="165"/>
                      </a:lnTo>
                      <a:lnTo>
                        <a:pt x="1245" y="169"/>
                      </a:lnTo>
                      <a:lnTo>
                        <a:pt x="1223" y="174"/>
                      </a:lnTo>
                      <a:lnTo>
                        <a:pt x="1201" y="174"/>
                      </a:lnTo>
                      <a:lnTo>
                        <a:pt x="1180" y="174"/>
                      </a:lnTo>
                      <a:lnTo>
                        <a:pt x="1163" y="173"/>
                      </a:lnTo>
                      <a:lnTo>
                        <a:pt x="1148" y="177"/>
                      </a:lnTo>
                      <a:lnTo>
                        <a:pt x="1127" y="183"/>
                      </a:lnTo>
                      <a:lnTo>
                        <a:pt x="1106" y="183"/>
                      </a:lnTo>
                      <a:lnTo>
                        <a:pt x="1080" y="183"/>
                      </a:lnTo>
                      <a:lnTo>
                        <a:pt x="1058" y="183"/>
                      </a:lnTo>
                      <a:lnTo>
                        <a:pt x="1030" y="183"/>
                      </a:lnTo>
                      <a:lnTo>
                        <a:pt x="980" y="190"/>
                      </a:lnTo>
                      <a:lnTo>
                        <a:pt x="969" y="186"/>
                      </a:lnTo>
                      <a:lnTo>
                        <a:pt x="958" y="178"/>
                      </a:lnTo>
                      <a:lnTo>
                        <a:pt x="943" y="174"/>
                      </a:lnTo>
                      <a:lnTo>
                        <a:pt x="929" y="173"/>
                      </a:lnTo>
                      <a:lnTo>
                        <a:pt x="910" y="174"/>
                      </a:lnTo>
                      <a:lnTo>
                        <a:pt x="888" y="178"/>
                      </a:lnTo>
                      <a:lnTo>
                        <a:pt x="852" y="181"/>
                      </a:lnTo>
                      <a:lnTo>
                        <a:pt x="837" y="176"/>
                      </a:lnTo>
                      <a:lnTo>
                        <a:pt x="826" y="169"/>
                      </a:lnTo>
                      <a:lnTo>
                        <a:pt x="814" y="167"/>
                      </a:lnTo>
                      <a:lnTo>
                        <a:pt x="797" y="165"/>
                      </a:lnTo>
                      <a:lnTo>
                        <a:pt x="784" y="160"/>
                      </a:lnTo>
                      <a:lnTo>
                        <a:pt x="778" y="152"/>
                      </a:lnTo>
                      <a:lnTo>
                        <a:pt x="767" y="138"/>
                      </a:lnTo>
                      <a:lnTo>
                        <a:pt x="755" y="134"/>
                      </a:lnTo>
                      <a:lnTo>
                        <a:pt x="738" y="131"/>
                      </a:lnTo>
                      <a:lnTo>
                        <a:pt x="723" y="131"/>
                      </a:lnTo>
                      <a:lnTo>
                        <a:pt x="717" y="137"/>
                      </a:lnTo>
                      <a:lnTo>
                        <a:pt x="707" y="152"/>
                      </a:lnTo>
                      <a:lnTo>
                        <a:pt x="696" y="148"/>
                      </a:lnTo>
                      <a:lnTo>
                        <a:pt x="684" y="147"/>
                      </a:lnTo>
                      <a:lnTo>
                        <a:pt x="669" y="148"/>
                      </a:lnTo>
                      <a:lnTo>
                        <a:pt x="655" y="155"/>
                      </a:lnTo>
                      <a:lnTo>
                        <a:pt x="637" y="159"/>
                      </a:lnTo>
                      <a:lnTo>
                        <a:pt x="615" y="159"/>
                      </a:lnTo>
                      <a:lnTo>
                        <a:pt x="632" y="146"/>
                      </a:lnTo>
                      <a:lnTo>
                        <a:pt x="638" y="137"/>
                      </a:lnTo>
                      <a:lnTo>
                        <a:pt x="623" y="139"/>
                      </a:lnTo>
                      <a:lnTo>
                        <a:pt x="595" y="146"/>
                      </a:lnTo>
                      <a:lnTo>
                        <a:pt x="570" y="144"/>
                      </a:lnTo>
                      <a:lnTo>
                        <a:pt x="569" y="137"/>
                      </a:lnTo>
                      <a:lnTo>
                        <a:pt x="564" y="129"/>
                      </a:lnTo>
                      <a:lnTo>
                        <a:pt x="559" y="124"/>
                      </a:lnTo>
                      <a:lnTo>
                        <a:pt x="545" y="119"/>
                      </a:lnTo>
                      <a:lnTo>
                        <a:pt x="530" y="119"/>
                      </a:lnTo>
                      <a:lnTo>
                        <a:pt x="511" y="121"/>
                      </a:lnTo>
                      <a:lnTo>
                        <a:pt x="493" y="124"/>
                      </a:lnTo>
                      <a:lnTo>
                        <a:pt x="475" y="119"/>
                      </a:lnTo>
                      <a:lnTo>
                        <a:pt x="455" y="112"/>
                      </a:lnTo>
                      <a:lnTo>
                        <a:pt x="441" y="103"/>
                      </a:lnTo>
                      <a:lnTo>
                        <a:pt x="456" y="85"/>
                      </a:lnTo>
                      <a:lnTo>
                        <a:pt x="471" y="79"/>
                      </a:lnTo>
                      <a:lnTo>
                        <a:pt x="488" y="71"/>
                      </a:lnTo>
                      <a:lnTo>
                        <a:pt x="499" y="66"/>
                      </a:lnTo>
                      <a:lnTo>
                        <a:pt x="508" y="58"/>
                      </a:lnTo>
                      <a:lnTo>
                        <a:pt x="514" y="49"/>
                      </a:lnTo>
                      <a:lnTo>
                        <a:pt x="516" y="40"/>
                      </a:lnTo>
                      <a:lnTo>
                        <a:pt x="521" y="30"/>
                      </a:lnTo>
                      <a:lnTo>
                        <a:pt x="492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24600" y="3735000"/>
                <a:ext cx="3588480" cy="596520"/>
                <a:chOff x="5124600" y="3735000"/>
                <a:chExt cx="3588480" cy="5965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7259040" y="4160160"/>
                  <a:ext cx="417960" cy="87840"/>
                </a:xfrm>
                <a:custGeom>
                  <a:avLst/>
                  <a:gdLst/>
                  <a:ahLst/>
                  <a:rect l="l" t="t" r="r" b="b"/>
                  <a:pathLst>
                    <a:path w="319" h="70">
                      <a:moveTo>
                        <a:pt x="318" y="34"/>
                      </a:moveTo>
                      <a:lnTo>
                        <a:pt x="296" y="42"/>
                      </a:lnTo>
                      <a:lnTo>
                        <a:pt x="290" y="51"/>
                      </a:lnTo>
                      <a:lnTo>
                        <a:pt x="282" y="54"/>
                      </a:lnTo>
                      <a:lnTo>
                        <a:pt x="275" y="56"/>
                      </a:lnTo>
                      <a:lnTo>
                        <a:pt x="266" y="58"/>
                      </a:lnTo>
                      <a:lnTo>
                        <a:pt x="258" y="58"/>
                      </a:lnTo>
                      <a:lnTo>
                        <a:pt x="247" y="58"/>
                      </a:lnTo>
                      <a:lnTo>
                        <a:pt x="238" y="62"/>
                      </a:lnTo>
                      <a:lnTo>
                        <a:pt x="231" y="63"/>
                      </a:lnTo>
                      <a:lnTo>
                        <a:pt x="218" y="62"/>
                      </a:lnTo>
                      <a:lnTo>
                        <a:pt x="209" y="66"/>
                      </a:lnTo>
                      <a:lnTo>
                        <a:pt x="201" y="69"/>
                      </a:lnTo>
                      <a:lnTo>
                        <a:pt x="193" y="69"/>
                      </a:lnTo>
                      <a:lnTo>
                        <a:pt x="185" y="65"/>
                      </a:lnTo>
                      <a:lnTo>
                        <a:pt x="178" y="58"/>
                      </a:lnTo>
                      <a:lnTo>
                        <a:pt x="167" y="54"/>
                      </a:lnTo>
                      <a:lnTo>
                        <a:pt x="152" y="51"/>
                      </a:lnTo>
                      <a:lnTo>
                        <a:pt x="145" y="55"/>
                      </a:lnTo>
                      <a:lnTo>
                        <a:pt x="135" y="54"/>
                      </a:lnTo>
                      <a:lnTo>
                        <a:pt x="128" y="51"/>
                      </a:lnTo>
                      <a:lnTo>
                        <a:pt x="118" y="42"/>
                      </a:lnTo>
                      <a:lnTo>
                        <a:pt x="109" y="31"/>
                      </a:lnTo>
                      <a:lnTo>
                        <a:pt x="96" y="25"/>
                      </a:lnTo>
                      <a:lnTo>
                        <a:pt x="77" y="28"/>
                      </a:lnTo>
                      <a:lnTo>
                        <a:pt x="67" y="21"/>
                      </a:lnTo>
                      <a:lnTo>
                        <a:pt x="59" y="17"/>
                      </a:lnTo>
                      <a:lnTo>
                        <a:pt x="47" y="15"/>
                      </a:lnTo>
                      <a:lnTo>
                        <a:pt x="0" y="4"/>
                      </a:lnTo>
                      <a:lnTo>
                        <a:pt x="52" y="8"/>
                      </a:lnTo>
                      <a:lnTo>
                        <a:pt x="61" y="4"/>
                      </a:lnTo>
                      <a:lnTo>
                        <a:pt x="70" y="0"/>
                      </a:lnTo>
                      <a:lnTo>
                        <a:pt x="76" y="1"/>
                      </a:lnTo>
                      <a:lnTo>
                        <a:pt x="83" y="4"/>
                      </a:lnTo>
                      <a:lnTo>
                        <a:pt x="93" y="10"/>
                      </a:lnTo>
                      <a:lnTo>
                        <a:pt x="107" y="12"/>
                      </a:lnTo>
                      <a:lnTo>
                        <a:pt x="120" y="18"/>
                      </a:lnTo>
                      <a:lnTo>
                        <a:pt x="128" y="17"/>
                      </a:lnTo>
                      <a:lnTo>
                        <a:pt x="138" y="15"/>
                      </a:lnTo>
                      <a:lnTo>
                        <a:pt x="159" y="21"/>
                      </a:lnTo>
                      <a:lnTo>
                        <a:pt x="169" y="23"/>
                      </a:lnTo>
                      <a:lnTo>
                        <a:pt x="183" y="31"/>
                      </a:lnTo>
                      <a:lnTo>
                        <a:pt x="197" y="31"/>
                      </a:lnTo>
                      <a:lnTo>
                        <a:pt x="213" y="31"/>
                      </a:lnTo>
                      <a:lnTo>
                        <a:pt x="225" y="30"/>
                      </a:lnTo>
                      <a:lnTo>
                        <a:pt x="236" y="32"/>
                      </a:lnTo>
                      <a:lnTo>
                        <a:pt x="247" y="39"/>
                      </a:lnTo>
                      <a:lnTo>
                        <a:pt x="258" y="34"/>
                      </a:lnTo>
                      <a:lnTo>
                        <a:pt x="268" y="41"/>
                      </a:lnTo>
                      <a:lnTo>
                        <a:pt x="276" y="39"/>
                      </a:lnTo>
                      <a:lnTo>
                        <a:pt x="288" y="38"/>
                      </a:lnTo>
                      <a:lnTo>
                        <a:pt x="300" y="37"/>
                      </a:lnTo>
                      <a:lnTo>
                        <a:pt x="318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383160" y="3974400"/>
                  <a:ext cx="1756800" cy="298080"/>
                </a:xfrm>
                <a:custGeom>
                  <a:avLst/>
                  <a:gdLst/>
                  <a:ahLst/>
                  <a:rect l="l" t="t" r="r" b="b"/>
                  <a:pathLst>
                    <a:path w="1340" h="238">
                      <a:moveTo>
                        <a:pt x="1089" y="237"/>
                      </a:moveTo>
                      <a:lnTo>
                        <a:pt x="1099" y="232"/>
                      </a:lnTo>
                      <a:lnTo>
                        <a:pt x="1107" y="228"/>
                      </a:lnTo>
                      <a:lnTo>
                        <a:pt x="1114" y="222"/>
                      </a:lnTo>
                      <a:lnTo>
                        <a:pt x="1119" y="216"/>
                      </a:lnTo>
                      <a:lnTo>
                        <a:pt x="1121" y="206"/>
                      </a:lnTo>
                      <a:lnTo>
                        <a:pt x="1132" y="205"/>
                      </a:lnTo>
                      <a:lnTo>
                        <a:pt x="1139" y="202"/>
                      </a:lnTo>
                      <a:lnTo>
                        <a:pt x="1145" y="197"/>
                      </a:lnTo>
                      <a:lnTo>
                        <a:pt x="1153" y="192"/>
                      </a:lnTo>
                      <a:lnTo>
                        <a:pt x="1162" y="192"/>
                      </a:lnTo>
                      <a:lnTo>
                        <a:pt x="1174" y="182"/>
                      </a:lnTo>
                      <a:lnTo>
                        <a:pt x="1187" y="191"/>
                      </a:lnTo>
                      <a:lnTo>
                        <a:pt x="1179" y="170"/>
                      </a:lnTo>
                      <a:lnTo>
                        <a:pt x="1192" y="170"/>
                      </a:lnTo>
                      <a:lnTo>
                        <a:pt x="1208" y="169"/>
                      </a:lnTo>
                      <a:lnTo>
                        <a:pt x="1220" y="175"/>
                      </a:lnTo>
                      <a:lnTo>
                        <a:pt x="1234" y="163"/>
                      </a:lnTo>
                      <a:lnTo>
                        <a:pt x="1246" y="170"/>
                      </a:lnTo>
                      <a:lnTo>
                        <a:pt x="1250" y="169"/>
                      </a:lnTo>
                      <a:lnTo>
                        <a:pt x="1253" y="164"/>
                      </a:lnTo>
                      <a:lnTo>
                        <a:pt x="1257" y="159"/>
                      </a:lnTo>
                      <a:lnTo>
                        <a:pt x="1260" y="151"/>
                      </a:lnTo>
                      <a:lnTo>
                        <a:pt x="1265" y="145"/>
                      </a:lnTo>
                      <a:lnTo>
                        <a:pt x="1269" y="141"/>
                      </a:lnTo>
                      <a:lnTo>
                        <a:pt x="1277" y="141"/>
                      </a:lnTo>
                      <a:lnTo>
                        <a:pt x="1286" y="141"/>
                      </a:lnTo>
                      <a:lnTo>
                        <a:pt x="1290" y="135"/>
                      </a:lnTo>
                      <a:lnTo>
                        <a:pt x="1296" y="129"/>
                      </a:lnTo>
                      <a:lnTo>
                        <a:pt x="1302" y="129"/>
                      </a:lnTo>
                      <a:lnTo>
                        <a:pt x="1310" y="128"/>
                      </a:lnTo>
                      <a:lnTo>
                        <a:pt x="1321" y="128"/>
                      </a:lnTo>
                      <a:lnTo>
                        <a:pt x="1331" y="121"/>
                      </a:lnTo>
                      <a:lnTo>
                        <a:pt x="1339" y="104"/>
                      </a:lnTo>
                      <a:lnTo>
                        <a:pt x="1332" y="105"/>
                      </a:lnTo>
                      <a:lnTo>
                        <a:pt x="1321" y="111"/>
                      </a:lnTo>
                      <a:lnTo>
                        <a:pt x="1310" y="112"/>
                      </a:lnTo>
                      <a:lnTo>
                        <a:pt x="1301" y="111"/>
                      </a:lnTo>
                      <a:lnTo>
                        <a:pt x="1294" y="104"/>
                      </a:lnTo>
                      <a:lnTo>
                        <a:pt x="1285" y="102"/>
                      </a:lnTo>
                      <a:lnTo>
                        <a:pt x="1277" y="105"/>
                      </a:lnTo>
                      <a:lnTo>
                        <a:pt x="1268" y="111"/>
                      </a:lnTo>
                      <a:lnTo>
                        <a:pt x="1259" y="115"/>
                      </a:lnTo>
                      <a:lnTo>
                        <a:pt x="1252" y="115"/>
                      </a:lnTo>
                      <a:lnTo>
                        <a:pt x="1246" y="105"/>
                      </a:lnTo>
                      <a:lnTo>
                        <a:pt x="1241" y="98"/>
                      </a:lnTo>
                      <a:lnTo>
                        <a:pt x="1232" y="98"/>
                      </a:lnTo>
                      <a:lnTo>
                        <a:pt x="1224" y="101"/>
                      </a:lnTo>
                      <a:lnTo>
                        <a:pt x="1214" y="105"/>
                      </a:lnTo>
                      <a:lnTo>
                        <a:pt x="1206" y="109"/>
                      </a:lnTo>
                      <a:lnTo>
                        <a:pt x="1197" y="102"/>
                      </a:lnTo>
                      <a:lnTo>
                        <a:pt x="1189" y="94"/>
                      </a:lnTo>
                      <a:lnTo>
                        <a:pt x="1181" y="90"/>
                      </a:lnTo>
                      <a:lnTo>
                        <a:pt x="1172" y="87"/>
                      </a:lnTo>
                      <a:lnTo>
                        <a:pt x="1161" y="85"/>
                      </a:lnTo>
                      <a:lnTo>
                        <a:pt x="1150" y="83"/>
                      </a:lnTo>
                      <a:lnTo>
                        <a:pt x="1139" y="85"/>
                      </a:lnTo>
                      <a:lnTo>
                        <a:pt x="1127" y="89"/>
                      </a:lnTo>
                      <a:lnTo>
                        <a:pt x="1132" y="104"/>
                      </a:lnTo>
                      <a:lnTo>
                        <a:pt x="1131" y="112"/>
                      </a:lnTo>
                      <a:lnTo>
                        <a:pt x="1125" y="117"/>
                      </a:lnTo>
                      <a:lnTo>
                        <a:pt x="1124" y="107"/>
                      </a:lnTo>
                      <a:lnTo>
                        <a:pt x="1117" y="98"/>
                      </a:lnTo>
                      <a:lnTo>
                        <a:pt x="1110" y="94"/>
                      </a:lnTo>
                      <a:lnTo>
                        <a:pt x="1102" y="90"/>
                      </a:lnTo>
                      <a:lnTo>
                        <a:pt x="1093" y="85"/>
                      </a:lnTo>
                      <a:lnTo>
                        <a:pt x="1084" y="82"/>
                      </a:lnTo>
                      <a:lnTo>
                        <a:pt x="1071" y="79"/>
                      </a:lnTo>
                      <a:lnTo>
                        <a:pt x="1063" y="81"/>
                      </a:lnTo>
                      <a:lnTo>
                        <a:pt x="1052" y="79"/>
                      </a:lnTo>
                      <a:lnTo>
                        <a:pt x="1035" y="74"/>
                      </a:lnTo>
                      <a:lnTo>
                        <a:pt x="1041" y="67"/>
                      </a:lnTo>
                      <a:lnTo>
                        <a:pt x="1049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6" y="43"/>
                      </a:lnTo>
                      <a:lnTo>
                        <a:pt x="1034" y="39"/>
                      </a:lnTo>
                      <a:lnTo>
                        <a:pt x="1022" y="37"/>
                      </a:lnTo>
                      <a:lnTo>
                        <a:pt x="1015" y="38"/>
                      </a:lnTo>
                      <a:lnTo>
                        <a:pt x="1009" y="44"/>
                      </a:lnTo>
                      <a:lnTo>
                        <a:pt x="1001" y="48"/>
                      </a:lnTo>
                      <a:lnTo>
                        <a:pt x="991" y="49"/>
                      </a:lnTo>
                      <a:lnTo>
                        <a:pt x="977" y="50"/>
                      </a:lnTo>
                      <a:lnTo>
                        <a:pt x="967" y="59"/>
                      </a:lnTo>
                      <a:lnTo>
                        <a:pt x="954" y="66"/>
                      </a:lnTo>
                      <a:lnTo>
                        <a:pt x="943" y="71"/>
                      </a:lnTo>
                      <a:lnTo>
                        <a:pt x="935" y="70"/>
                      </a:lnTo>
                      <a:lnTo>
                        <a:pt x="908" y="68"/>
                      </a:lnTo>
                      <a:lnTo>
                        <a:pt x="887" y="64"/>
                      </a:lnTo>
                      <a:lnTo>
                        <a:pt x="873" y="64"/>
                      </a:lnTo>
                      <a:lnTo>
                        <a:pt x="862" y="62"/>
                      </a:lnTo>
                      <a:lnTo>
                        <a:pt x="843" y="46"/>
                      </a:lnTo>
                      <a:lnTo>
                        <a:pt x="834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1" y="64"/>
                      </a:lnTo>
                      <a:lnTo>
                        <a:pt x="749" y="66"/>
                      </a:lnTo>
                      <a:lnTo>
                        <a:pt x="735" y="68"/>
                      </a:lnTo>
                      <a:lnTo>
                        <a:pt x="724" y="70"/>
                      </a:lnTo>
                      <a:lnTo>
                        <a:pt x="713" y="72"/>
                      </a:lnTo>
                      <a:lnTo>
                        <a:pt x="700" y="75"/>
                      </a:lnTo>
                      <a:lnTo>
                        <a:pt x="691" y="79"/>
                      </a:lnTo>
                      <a:lnTo>
                        <a:pt x="678" y="86"/>
                      </a:lnTo>
                      <a:lnTo>
                        <a:pt x="670" y="78"/>
                      </a:lnTo>
                      <a:lnTo>
                        <a:pt x="666" y="70"/>
                      </a:lnTo>
                      <a:lnTo>
                        <a:pt x="671" y="60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5" y="46"/>
                      </a:lnTo>
                      <a:lnTo>
                        <a:pt x="684" y="39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4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1"/>
                      </a:lnTo>
                      <a:lnTo>
                        <a:pt x="656" y="43"/>
                      </a:lnTo>
                      <a:lnTo>
                        <a:pt x="649" y="44"/>
                      </a:lnTo>
                      <a:lnTo>
                        <a:pt x="641" y="44"/>
                      </a:lnTo>
                      <a:lnTo>
                        <a:pt x="630" y="43"/>
                      </a:lnTo>
                      <a:lnTo>
                        <a:pt x="621" y="39"/>
                      </a:lnTo>
                      <a:lnTo>
                        <a:pt x="613" y="38"/>
                      </a:lnTo>
                      <a:lnTo>
                        <a:pt x="601" y="39"/>
                      </a:lnTo>
                      <a:lnTo>
                        <a:pt x="610" y="25"/>
                      </a:lnTo>
                      <a:lnTo>
                        <a:pt x="619" y="15"/>
                      </a:lnTo>
                      <a:lnTo>
                        <a:pt x="629" y="9"/>
                      </a:lnTo>
                      <a:lnTo>
                        <a:pt x="618" y="12"/>
                      </a:lnTo>
                      <a:lnTo>
                        <a:pt x="606" y="15"/>
                      </a:lnTo>
                      <a:lnTo>
                        <a:pt x="594" y="16"/>
                      </a:lnTo>
                      <a:lnTo>
                        <a:pt x="585" y="21"/>
                      </a:lnTo>
                      <a:lnTo>
                        <a:pt x="572" y="23"/>
                      </a:lnTo>
                      <a:lnTo>
                        <a:pt x="558" y="26"/>
                      </a:lnTo>
                      <a:lnTo>
                        <a:pt x="544" y="26"/>
                      </a:lnTo>
                      <a:lnTo>
                        <a:pt x="534" y="31"/>
                      </a:lnTo>
                      <a:lnTo>
                        <a:pt x="531" y="35"/>
                      </a:lnTo>
                      <a:lnTo>
                        <a:pt x="528" y="39"/>
                      </a:lnTo>
                      <a:lnTo>
                        <a:pt x="520" y="39"/>
                      </a:lnTo>
                      <a:lnTo>
                        <a:pt x="507" y="34"/>
                      </a:lnTo>
                      <a:lnTo>
                        <a:pt x="491" y="31"/>
                      </a:lnTo>
                      <a:lnTo>
                        <a:pt x="475" y="26"/>
                      </a:lnTo>
                      <a:lnTo>
                        <a:pt x="467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7" y="12"/>
                      </a:lnTo>
                      <a:lnTo>
                        <a:pt x="313" y="12"/>
                      </a:lnTo>
                      <a:lnTo>
                        <a:pt x="299" y="13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5"/>
                      </a:lnTo>
                      <a:lnTo>
                        <a:pt x="223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6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5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9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60"/>
                      </a:lnTo>
                      <a:lnTo>
                        <a:pt x="60" y="62"/>
                      </a:lnTo>
                      <a:lnTo>
                        <a:pt x="68" y="62"/>
                      </a:lnTo>
                      <a:lnTo>
                        <a:pt x="74" y="60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9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80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10" y="37"/>
                      </a:lnTo>
                      <a:lnTo>
                        <a:pt x="119" y="39"/>
                      </a:lnTo>
                      <a:lnTo>
                        <a:pt x="131" y="37"/>
                      </a:lnTo>
                      <a:lnTo>
                        <a:pt x="140" y="38"/>
                      </a:lnTo>
                      <a:lnTo>
                        <a:pt x="147" y="39"/>
                      </a:lnTo>
                      <a:lnTo>
                        <a:pt x="156" y="43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5" y="54"/>
                      </a:lnTo>
                      <a:lnTo>
                        <a:pt x="297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3"/>
                      </a:lnTo>
                      <a:lnTo>
                        <a:pt x="341" y="68"/>
                      </a:lnTo>
                      <a:lnTo>
                        <a:pt x="349" y="74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1"/>
                      </a:lnTo>
                      <a:lnTo>
                        <a:pt x="366" y="68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70"/>
                      </a:lnTo>
                      <a:lnTo>
                        <a:pt x="484" y="74"/>
                      </a:lnTo>
                      <a:lnTo>
                        <a:pt x="467" y="82"/>
                      </a:lnTo>
                      <a:lnTo>
                        <a:pt x="479" y="86"/>
                      </a:lnTo>
                      <a:lnTo>
                        <a:pt x="486" y="87"/>
                      </a:lnTo>
                      <a:lnTo>
                        <a:pt x="492" y="94"/>
                      </a:lnTo>
                      <a:lnTo>
                        <a:pt x="500" y="98"/>
                      </a:lnTo>
                      <a:lnTo>
                        <a:pt x="509" y="95"/>
                      </a:lnTo>
                      <a:lnTo>
                        <a:pt x="518" y="93"/>
                      </a:lnTo>
                      <a:lnTo>
                        <a:pt x="526" y="87"/>
                      </a:lnTo>
                      <a:lnTo>
                        <a:pt x="534" y="94"/>
                      </a:lnTo>
                      <a:lnTo>
                        <a:pt x="542" y="104"/>
                      </a:lnTo>
                      <a:lnTo>
                        <a:pt x="551" y="112"/>
                      </a:lnTo>
                      <a:lnTo>
                        <a:pt x="559" y="117"/>
                      </a:lnTo>
                      <a:lnTo>
                        <a:pt x="568" y="121"/>
                      </a:lnTo>
                      <a:lnTo>
                        <a:pt x="577" y="123"/>
                      </a:lnTo>
                      <a:lnTo>
                        <a:pt x="592" y="121"/>
                      </a:lnTo>
                      <a:lnTo>
                        <a:pt x="604" y="119"/>
                      </a:lnTo>
                      <a:lnTo>
                        <a:pt x="615" y="116"/>
                      </a:lnTo>
                      <a:lnTo>
                        <a:pt x="629" y="113"/>
                      </a:lnTo>
                      <a:lnTo>
                        <a:pt x="643" y="109"/>
                      </a:lnTo>
                      <a:lnTo>
                        <a:pt x="654" y="107"/>
                      </a:lnTo>
                      <a:lnTo>
                        <a:pt x="664" y="101"/>
                      </a:lnTo>
                      <a:lnTo>
                        <a:pt x="675" y="97"/>
                      </a:lnTo>
                      <a:lnTo>
                        <a:pt x="685" y="97"/>
                      </a:lnTo>
                      <a:lnTo>
                        <a:pt x="694" y="93"/>
                      </a:lnTo>
                      <a:lnTo>
                        <a:pt x="705" y="89"/>
                      </a:lnTo>
                      <a:lnTo>
                        <a:pt x="716" y="85"/>
                      </a:lnTo>
                      <a:lnTo>
                        <a:pt x="727" y="85"/>
                      </a:lnTo>
                      <a:lnTo>
                        <a:pt x="738" y="85"/>
                      </a:lnTo>
                      <a:lnTo>
                        <a:pt x="747" y="86"/>
                      </a:lnTo>
                      <a:lnTo>
                        <a:pt x="754" y="82"/>
                      </a:lnTo>
                      <a:lnTo>
                        <a:pt x="765" y="77"/>
                      </a:lnTo>
                      <a:lnTo>
                        <a:pt x="776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40" y="71"/>
                      </a:lnTo>
                      <a:lnTo>
                        <a:pt x="846" y="74"/>
                      </a:lnTo>
                      <a:lnTo>
                        <a:pt x="851" y="81"/>
                      </a:lnTo>
                      <a:lnTo>
                        <a:pt x="859" y="85"/>
                      </a:lnTo>
                      <a:lnTo>
                        <a:pt x="866" y="86"/>
                      </a:lnTo>
                      <a:lnTo>
                        <a:pt x="876" y="85"/>
                      </a:lnTo>
                      <a:lnTo>
                        <a:pt x="887" y="81"/>
                      </a:lnTo>
                      <a:lnTo>
                        <a:pt x="905" y="78"/>
                      </a:lnTo>
                      <a:lnTo>
                        <a:pt x="913" y="83"/>
                      </a:lnTo>
                      <a:lnTo>
                        <a:pt x="918" y="89"/>
                      </a:lnTo>
                      <a:lnTo>
                        <a:pt x="925" y="91"/>
                      </a:lnTo>
                      <a:lnTo>
                        <a:pt x="933" y="93"/>
                      </a:lnTo>
                      <a:lnTo>
                        <a:pt x="940" y="97"/>
                      </a:lnTo>
                      <a:lnTo>
                        <a:pt x="943" y="104"/>
                      </a:lnTo>
                      <a:lnTo>
                        <a:pt x="948" y="116"/>
                      </a:lnTo>
                      <a:lnTo>
                        <a:pt x="955" y="120"/>
                      </a:lnTo>
                      <a:lnTo>
                        <a:pt x="963" y="123"/>
                      </a:lnTo>
                      <a:lnTo>
                        <a:pt x="971" y="123"/>
                      </a:lnTo>
                      <a:lnTo>
                        <a:pt x="974" y="117"/>
                      </a:lnTo>
                      <a:lnTo>
                        <a:pt x="979" y="104"/>
                      </a:lnTo>
                      <a:lnTo>
                        <a:pt x="985" y="107"/>
                      </a:lnTo>
                      <a:lnTo>
                        <a:pt x="991" y="108"/>
                      </a:lnTo>
                      <a:lnTo>
                        <a:pt x="998" y="107"/>
                      </a:lnTo>
                      <a:lnTo>
                        <a:pt x="1005" y="102"/>
                      </a:lnTo>
                      <a:lnTo>
                        <a:pt x="1015" y="98"/>
                      </a:lnTo>
                      <a:lnTo>
                        <a:pt x="1026" y="98"/>
                      </a:lnTo>
                      <a:lnTo>
                        <a:pt x="1017" y="109"/>
                      </a:lnTo>
                      <a:lnTo>
                        <a:pt x="1014" y="117"/>
                      </a:lnTo>
                      <a:lnTo>
                        <a:pt x="1022" y="115"/>
                      </a:lnTo>
                      <a:lnTo>
                        <a:pt x="1036" y="109"/>
                      </a:lnTo>
                      <a:lnTo>
                        <a:pt x="1049" y="111"/>
                      </a:lnTo>
                      <a:lnTo>
                        <a:pt x="1049" y="117"/>
                      </a:lnTo>
                      <a:lnTo>
                        <a:pt x="1052" y="124"/>
                      </a:lnTo>
                      <a:lnTo>
                        <a:pt x="1054" y="129"/>
                      </a:lnTo>
                      <a:lnTo>
                        <a:pt x="1061" y="133"/>
                      </a:lnTo>
                      <a:lnTo>
                        <a:pt x="1069" y="133"/>
                      </a:lnTo>
                      <a:lnTo>
                        <a:pt x="1079" y="132"/>
                      </a:lnTo>
                      <a:lnTo>
                        <a:pt x="1088" y="129"/>
                      </a:lnTo>
                      <a:lnTo>
                        <a:pt x="1097" y="133"/>
                      </a:lnTo>
                      <a:lnTo>
                        <a:pt x="1107" y="139"/>
                      </a:lnTo>
                      <a:lnTo>
                        <a:pt x="1114" y="147"/>
                      </a:lnTo>
                      <a:lnTo>
                        <a:pt x="1107" y="163"/>
                      </a:lnTo>
                      <a:lnTo>
                        <a:pt x="1099" y="168"/>
                      </a:lnTo>
                      <a:lnTo>
                        <a:pt x="1091" y="175"/>
                      </a:lnTo>
                      <a:lnTo>
                        <a:pt x="1085" y="179"/>
                      </a:lnTo>
                      <a:lnTo>
                        <a:pt x="1080" y="187"/>
                      </a:lnTo>
                      <a:lnTo>
                        <a:pt x="1077" y="194"/>
                      </a:lnTo>
                      <a:lnTo>
                        <a:pt x="1076" y="202"/>
                      </a:lnTo>
                      <a:lnTo>
                        <a:pt x="1074" y="211"/>
                      </a:lnTo>
                      <a:lnTo>
                        <a:pt x="1089" y="237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64160" y="4160160"/>
                  <a:ext cx="419760" cy="87840"/>
                </a:xfrm>
                <a:custGeom>
                  <a:avLst/>
                  <a:gdLst/>
                  <a:ahLst/>
                  <a:rect l="l" t="t" r="r" b="b"/>
                  <a:pathLst>
                    <a:path w="320" h="70">
                      <a:moveTo>
                        <a:pt x="319" y="34"/>
                      </a:moveTo>
                      <a:lnTo>
                        <a:pt x="297" y="42"/>
                      </a:lnTo>
                      <a:lnTo>
                        <a:pt x="291" y="51"/>
                      </a:lnTo>
                      <a:lnTo>
                        <a:pt x="282" y="54"/>
                      </a:lnTo>
                      <a:lnTo>
                        <a:pt x="276" y="56"/>
                      </a:lnTo>
                      <a:lnTo>
                        <a:pt x="267" y="58"/>
                      </a:lnTo>
                      <a:lnTo>
                        <a:pt x="259" y="58"/>
                      </a:lnTo>
                      <a:lnTo>
                        <a:pt x="248" y="58"/>
                      </a:lnTo>
                      <a:lnTo>
                        <a:pt x="239" y="62"/>
                      </a:lnTo>
                      <a:lnTo>
                        <a:pt x="231" y="63"/>
                      </a:lnTo>
                      <a:lnTo>
                        <a:pt x="218" y="62"/>
                      </a:lnTo>
                      <a:lnTo>
                        <a:pt x="210" y="66"/>
                      </a:lnTo>
                      <a:lnTo>
                        <a:pt x="202" y="69"/>
                      </a:lnTo>
                      <a:lnTo>
                        <a:pt x="194" y="69"/>
                      </a:lnTo>
                      <a:lnTo>
                        <a:pt x="186" y="65"/>
                      </a:lnTo>
                      <a:lnTo>
                        <a:pt x="178" y="58"/>
                      </a:lnTo>
                      <a:lnTo>
                        <a:pt x="168" y="54"/>
                      </a:lnTo>
                      <a:lnTo>
                        <a:pt x="153" y="51"/>
                      </a:lnTo>
                      <a:lnTo>
                        <a:pt x="145" y="55"/>
                      </a:lnTo>
                      <a:lnTo>
                        <a:pt x="135" y="54"/>
                      </a:lnTo>
                      <a:lnTo>
                        <a:pt x="128" y="51"/>
                      </a:lnTo>
                      <a:lnTo>
                        <a:pt x="118" y="42"/>
                      </a:lnTo>
                      <a:lnTo>
                        <a:pt x="110" y="31"/>
                      </a:lnTo>
                      <a:lnTo>
                        <a:pt x="97" y="25"/>
                      </a:lnTo>
                      <a:lnTo>
                        <a:pt x="77" y="28"/>
                      </a:lnTo>
                      <a:lnTo>
                        <a:pt x="68" y="21"/>
                      </a:lnTo>
                      <a:lnTo>
                        <a:pt x="59" y="17"/>
                      </a:lnTo>
                      <a:lnTo>
                        <a:pt x="48" y="15"/>
                      </a:lnTo>
                      <a:lnTo>
                        <a:pt x="0" y="4"/>
                      </a:lnTo>
                      <a:lnTo>
                        <a:pt x="52" y="8"/>
                      </a:lnTo>
                      <a:lnTo>
                        <a:pt x="61" y="4"/>
                      </a:lnTo>
                      <a:lnTo>
                        <a:pt x="70" y="0"/>
                      </a:lnTo>
                      <a:lnTo>
                        <a:pt x="76" y="1"/>
                      </a:lnTo>
                      <a:lnTo>
                        <a:pt x="84" y="4"/>
                      </a:lnTo>
                      <a:lnTo>
                        <a:pt x="93" y="10"/>
                      </a:lnTo>
                      <a:lnTo>
                        <a:pt x="107" y="12"/>
                      </a:lnTo>
                      <a:lnTo>
                        <a:pt x="120" y="18"/>
                      </a:lnTo>
                      <a:lnTo>
                        <a:pt x="128" y="17"/>
                      </a:lnTo>
                      <a:lnTo>
                        <a:pt x="138" y="15"/>
                      </a:lnTo>
                      <a:lnTo>
                        <a:pt x="160" y="21"/>
                      </a:lnTo>
                      <a:lnTo>
                        <a:pt x="170" y="23"/>
                      </a:lnTo>
                      <a:lnTo>
                        <a:pt x="184" y="31"/>
                      </a:lnTo>
                      <a:lnTo>
                        <a:pt x="197" y="31"/>
                      </a:lnTo>
                      <a:lnTo>
                        <a:pt x="214" y="31"/>
                      </a:lnTo>
                      <a:lnTo>
                        <a:pt x="226" y="30"/>
                      </a:lnTo>
                      <a:lnTo>
                        <a:pt x="237" y="32"/>
                      </a:lnTo>
                      <a:lnTo>
                        <a:pt x="248" y="39"/>
                      </a:lnTo>
                      <a:lnTo>
                        <a:pt x="259" y="34"/>
                      </a:lnTo>
                      <a:lnTo>
                        <a:pt x="269" y="41"/>
                      </a:lnTo>
                      <a:lnTo>
                        <a:pt x="277" y="39"/>
                      </a:lnTo>
                      <a:lnTo>
                        <a:pt x="289" y="38"/>
                      </a:lnTo>
                      <a:lnTo>
                        <a:pt x="301" y="37"/>
                      </a:lnTo>
                      <a:lnTo>
                        <a:pt x="319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89720" y="3974400"/>
                  <a:ext cx="1756800" cy="298080"/>
                </a:xfrm>
                <a:custGeom>
                  <a:avLst/>
                  <a:gdLst/>
                  <a:ahLst/>
                  <a:rect l="l" t="t" r="r" b="b"/>
                  <a:pathLst>
                    <a:path w="1340" h="238">
                      <a:moveTo>
                        <a:pt x="1089" y="237"/>
                      </a:moveTo>
                      <a:lnTo>
                        <a:pt x="1099" y="232"/>
                      </a:lnTo>
                      <a:lnTo>
                        <a:pt x="1107" y="228"/>
                      </a:lnTo>
                      <a:lnTo>
                        <a:pt x="1114" y="222"/>
                      </a:lnTo>
                      <a:lnTo>
                        <a:pt x="1119" y="216"/>
                      </a:lnTo>
                      <a:lnTo>
                        <a:pt x="1121" y="206"/>
                      </a:lnTo>
                      <a:lnTo>
                        <a:pt x="1132" y="205"/>
                      </a:lnTo>
                      <a:lnTo>
                        <a:pt x="1139" y="202"/>
                      </a:lnTo>
                      <a:lnTo>
                        <a:pt x="1145" y="197"/>
                      </a:lnTo>
                      <a:lnTo>
                        <a:pt x="1153" y="192"/>
                      </a:lnTo>
                      <a:lnTo>
                        <a:pt x="1162" y="192"/>
                      </a:lnTo>
                      <a:lnTo>
                        <a:pt x="1174" y="182"/>
                      </a:lnTo>
                      <a:lnTo>
                        <a:pt x="1187" y="191"/>
                      </a:lnTo>
                      <a:lnTo>
                        <a:pt x="1179" y="170"/>
                      </a:lnTo>
                      <a:lnTo>
                        <a:pt x="1192" y="170"/>
                      </a:lnTo>
                      <a:lnTo>
                        <a:pt x="1208" y="169"/>
                      </a:lnTo>
                      <a:lnTo>
                        <a:pt x="1220" y="175"/>
                      </a:lnTo>
                      <a:lnTo>
                        <a:pt x="1234" y="163"/>
                      </a:lnTo>
                      <a:lnTo>
                        <a:pt x="1246" y="170"/>
                      </a:lnTo>
                      <a:lnTo>
                        <a:pt x="1250" y="169"/>
                      </a:lnTo>
                      <a:lnTo>
                        <a:pt x="1253" y="164"/>
                      </a:lnTo>
                      <a:lnTo>
                        <a:pt x="1257" y="159"/>
                      </a:lnTo>
                      <a:lnTo>
                        <a:pt x="1260" y="151"/>
                      </a:lnTo>
                      <a:lnTo>
                        <a:pt x="1265" y="145"/>
                      </a:lnTo>
                      <a:lnTo>
                        <a:pt x="1269" y="141"/>
                      </a:lnTo>
                      <a:lnTo>
                        <a:pt x="1277" y="141"/>
                      </a:lnTo>
                      <a:lnTo>
                        <a:pt x="1286" y="141"/>
                      </a:lnTo>
                      <a:lnTo>
                        <a:pt x="1290" y="135"/>
                      </a:lnTo>
                      <a:lnTo>
                        <a:pt x="1296" y="129"/>
                      </a:lnTo>
                      <a:lnTo>
                        <a:pt x="1302" y="129"/>
                      </a:lnTo>
                      <a:lnTo>
                        <a:pt x="1310" y="128"/>
                      </a:lnTo>
                      <a:lnTo>
                        <a:pt x="1321" y="128"/>
                      </a:lnTo>
                      <a:lnTo>
                        <a:pt x="1331" y="121"/>
                      </a:lnTo>
                      <a:lnTo>
                        <a:pt x="1339" y="104"/>
                      </a:lnTo>
                      <a:lnTo>
                        <a:pt x="1332" y="105"/>
                      </a:lnTo>
                      <a:lnTo>
                        <a:pt x="1321" y="111"/>
                      </a:lnTo>
                      <a:lnTo>
                        <a:pt x="1310" y="112"/>
                      </a:lnTo>
                      <a:lnTo>
                        <a:pt x="1301" y="111"/>
                      </a:lnTo>
                      <a:lnTo>
                        <a:pt x="1294" y="104"/>
                      </a:lnTo>
                      <a:lnTo>
                        <a:pt x="1285" y="102"/>
                      </a:lnTo>
                      <a:lnTo>
                        <a:pt x="1277" y="105"/>
                      </a:lnTo>
                      <a:lnTo>
                        <a:pt x="1268" y="111"/>
                      </a:lnTo>
                      <a:lnTo>
                        <a:pt x="1259" y="115"/>
                      </a:lnTo>
                      <a:lnTo>
                        <a:pt x="1252" y="115"/>
                      </a:lnTo>
                      <a:lnTo>
                        <a:pt x="1246" y="105"/>
                      </a:lnTo>
                      <a:lnTo>
                        <a:pt x="1241" y="98"/>
                      </a:lnTo>
                      <a:lnTo>
                        <a:pt x="1232" y="98"/>
                      </a:lnTo>
                      <a:lnTo>
                        <a:pt x="1224" y="101"/>
                      </a:lnTo>
                      <a:lnTo>
                        <a:pt x="1214" y="105"/>
                      </a:lnTo>
                      <a:lnTo>
                        <a:pt x="1206" y="109"/>
                      </a:lnTo>
                      <a:lnTo>
                        <a:pt x="1197" y="102"/>
                      </a:lnTo>
                      <a:lnTo>
                        <a:pt x="1189" y="94"/>
                      </a:lnTo>
                      <a:lnTo>
                        <a:pt x="1181" y="90"/>
                      </a:lnTo>
                      <a:lnTo>
                        <a:pt x="1172" y="87"/>
                      </a:lnTo>
                      <a:lnTo>
                        <a:pt x="1161" y="85"/>
                      </a:lnTo>
                      <a:lnTo>
                        <a:pt x="1150" y="83"/>
                      </a:lnTo>
                      <a:lnTo>
                        <a:pt x="1139" y="85"/>
                      </a:lnTo>
                      <a:lnTo>
                        <a:pt x="1127" y="89"/>
                      </a:lnTo>
                      <a:lnTo>
                        <a:pt x="1132" y="104"/>
                      </a:lnTo>
                      <a:lnTo>
                        <a:pt x="1131" y="112"/>
                      </a:lnTo>
                      <a:lnTo>
                        <a:pt x="1125" y="117"/>
                      </a:lnTo>
                      <a:lnTo>
                        <a:pt x="1124" y="107"/>
                      </a:lnTo>
                      <a:lnTo>
                        <a:pt x="1117" y="98"/>
                      </a:lnTo>
                      <a:lnTo>
                        <a:pt x="1110" y="94"/>
                      </a:lnTo>
                      <a:lnTo>
                        <a:pt x="1102" y="90"/>
                      </a:lnTo>
                      <a:lnTo>
                        <a:pt x="1093" y="85"/>
                      </a:lnTo>
                      <a:lnTo>
                        <a:pt x="1084" y="82"/>
                      </a:lnTo>
                      <a:lnTo>
                        <a:pt x="1071" y="79"/>
                      </a:lnTo>
                      <a:lnTo>
                        <a:pt x="1063" y="81"/>
                      </a:lnTo>
                      <a:lnTo>
                        <a:pt x="1052" y="79"/>
                      </a:lnTo>
                      <a:lnTo>
                        <a:pt x="1035" y="74"/>
                      </a:lnTo>
                      <a:lnTo>
                        <a:pt x="1041" y="67"/>
                      </a:lnTo>
                      <a:lnTo>
                        <a:pt x="1049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6" y="43"/>
                      </a:lnTo>
                      <a:lnTo>
                        <a:pt x="1034" y="39"/>
                      </a:lnTo>
                      <a:lnTo>
                        <a:pt x="1022" y="37"/>
                      </a:lnTo>
                      <a:lnTo>
                        <a:pt x="1015" y="38"/>
                      </a:lnTo>
                      <a:lnTo>
                        <a:pt x="1009" y="44"/>
                      </a:lnTo>
                      <a:lnTo>
                        <a:pt x="1001" y="48"/>
                      </a:lnTo>
                      <a:lnTo>
                        <a:pt x="991" y="49"/>
                      </a:lnTo>
                      <a:lnTo>
                        <a:pt x="977" y="50"/>
                      </a:lnTo>
                      <a:lnTo>
                        <a:pt x="967" y="59"/>
                      </a:lnTo>
                      <a:lnTo>
                        <a:pt x="954" y="66"/>
                      </a:lnTo>
                      <a:lnTo>
                        <a:pt x="943" y="71"/>
                      </a:lnTo>
                      <a:lnTo>
                        <a:pt x="935" y="70"/>
                      </a:lnTo>
                      <a:lnTo>
                        <a:pt x="908" y="68"/>
                      </a:lnTo>
                      <a:lnTo>
                        <a:pt x="887" y="64"/>
                      </a:lnTo>
                      <a:lnTo>
                        <a:pt x="873" y="64"/>
                      </a:lnTo>
                      <a:lnTo>
                        <a:pt x="862" y="62"/>
                      </a:lnTo>
                      <a:lnTo>
                        <a:pt x="843" y="46"/>
                      </a:lnTo>
                      <a:lnTo>
                        <a:pt x="834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1" y="64"/>
                      </a:lnTo>
                      <a:lnTo>
                        <a:pt x="749" y="66"/>
                      </a:lnTo>
                      <a:lnTo>
                        <a:pt x="735" y="68"/>
                      </a:lnTo>
                      <a:lnTo>
                        <a:pt x="724" y="70"/>
                      </a:lnTo>
                      <a:lnTo>
                        <a:pt x="713" y="72"/>
                      </a:lnTo>
                      <a:lnTo>
                        <a:pt x="700" y="75"/>
                      </a:lnTo>
                      <a:lnTo>
                        <a:pt x="691" y="79"/>
                      </a:lnTo>
                      <a:lnTo>
                        <a:pt x="678" y="86"/>
                      </a:lnTo>
                      <a:lnTo>
                        <a:pt x="670" y="78"/>
                      </a:lnTo>
                      <a:lnTo>
                        <a:pt x="666" y="70"/>
                      </a:lnTo>
                      <a:lnTo>
                        <a:pt x="671" y="60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5" y="46"/>
                      </a:lnTo>
                      <a:lnTo>
                        <a:pt x="684" y="39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4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1"/>
                      </a:lnTo>
                      <a:lnTo>
                        <a:pt x="656" y="43"/>
                      </a:lnTo>
                      <a:lnTo>
                        <a:pt x="649" y="44"/>
                      </a:lnTo>
                      <a:lnTo>
                        <a:pt x="641" y="44"/>
                      </a:lnTo>
                      <a:lnTo>
                        <a:pt x="630" y="43"/>
                      </a:lnTo>
                      <a:lnTo>
                        <a:pt x="621" y="39"/>
                      </a:lnTo>
                      <a:lnTo>
                        <a:pt x="613" y="38"/>
                      </a:lnTo>
                      <a:lnTo>
                        <a:pt x="601" y="39"/>
                      </a:lnTo>
                      <a:lnTo>
                        <a:pt x="610" y="25"/>
                      </a:lnTo>
                      <a:lnTo>
                        <a:pt x="619" y="15"/>
                      </a:lnTo>
                      <a:lnTo>
                        <a:pt x="629" y="9"/>
                      </a:lnTo>
                      <a:lnTo>
                        <a:pt x="618" y="12"/>
                      </a:lnTo>
                      <a:lnTo>
                        <a:pt x="606" y="15"/>
                      </a:lnTo>
                      <a:lnTo>
                        <a:pt x="594" y="16"/>
                      </a:lnTo>
                      <a:lnTo>
                        <a:pt x="585" y="21"/>
                      </a:lnTo>
                      <a:lnTo>
                        <a:pt x="572" y="23"/>
                      </a:lnTo>
                      <a:lnTo>
                        <a:pt x="558" y="26"/>
                      </a:lnTo>
                      <a:lnTo>
                        <a:pt x="544" y="26"/>
                      </a:lnTo>
                      <a:lnTo>
                        <a:pt x="534" y="31"/>
                      </a:lnTo>
                      <a:lnTo>
                        <a:pt x="531" y="35"/>
                      </a:lnTo>
                      <a:lnTo>
                        <a:pt x="528" y="39"/>
                      </a:lnTo>
                      <a:lnTo>
                        <a:pt x="520" y="39"/>
                      </a:lnTo>
                      <a:lnTo>
                        <a:pt x="507" y="34"/>
                      </a:lnTo>
                      <a:lnTo>
                        <a:pt x="491" y="31"/>
                      </a:lnTo>
                      <a:lnTo>
                        <a:pt x="475" y="26"/>
                      </a:lnTo>
                      <a:lnTo>
                        <a:pt x="467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7" y="12"/>
                      </a:lnTo>
                      <a:lnTo>
                        <a:pt x="313" y="12"/>
                      </a:lnTo>
                      <a:lnTo>
                        <a:pt x="299" y="13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5"/>
                      </a:lnTo>
                      <a:lnTo>
                        <a:pt x="223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6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5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9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60"/>
                      </a:lnTo>
                      <a:lnTo>
                        <a:pt x="60" y="62"/>
                      </a:lnTo>
                      <a:lnTo>
                        <a:pt x="68" y="62"/>
                      </a:lnTo>
                      <a:lnTo>
                        <a:pt x="74" y="60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9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80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10" y="37"/>
                      </a:lnTo>
                      <a:lnTo>
                        <a:pt x="119" y="39"/>
                      </a:lnTo>
                      <a:lnTo>
                        <a:pt x="131" y="37"/>
                      </a:lnTo>
                      <a:lnTo>
                        <a:pt x="140" y="38"/>
                      </a:lnTo>
                      <a:lnTo>
                        <a:pt x="147" y="39"/>
                      </a:lnTo>
                      <a:lnTo>
                        <a:pt x="156" y="43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5" y="54"/>
                      </a:lnTo>
                      <a:lnTo>
                        <a:pt x="297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3"/>
                      </a:lnTo>
                      <a:lnTo>
                        <a:pt x="341" y="68"/>
                      </a:lnTo>
                      <a:lnTo>
                        <a:pt x="349" y="74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1"/>
                      </a:lnTo>
                      <a:lnTo>
                        <a:pt x="366" y="68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70"/>
                      </a:lnTo>
                      <a:lnTo>
                        <a:pt x="484" y="74"/>
                      </a:lnTo>
                      <a:lnTo>
                        <a:pt x="467" y="82"/>
                      </a:lnTo>
                      <a:lnTo>
                        <a:pt x="479" y="86"/>
                      </a:lnTo>
                      <a:lnTo>
                        <a:pt x="486" y="87"/>
                      </a:lnTo>
                      <a:lnTo>
                        <a:pt x="492" y="94"/>
                      </a:lnTo>
                      <a:lnTo>
                        <a:pt x="500" y="98"/>
                      </a:lnTo>
                      <a:lnTo>
                        <a:pt x="509" y="95"/>
                      </a:lnTo>
                      <a:lnTo>
                        <a:pt x="518" y="93"/>
                      </a:lnTo>
                      <a:lnTo>
                        <a:pt x="526" y="87"/>
                      </a:lnTo>
                      <a:lnTo>
                        <a:pt x="534" y="94"/>
                      </a:lnTo>
                      <a:lnTo>
                        <a:pt x="542" y="104"/>
                      </a:lnTo>
                      <a:lnTo>
                        <a:pt x="551" y="112"/>
                      </a:lnTo>
                      <a:lnTo>
                        <a:pt x="559" y="117"/>
                      </a:lnTo>
                      <a:lnTo>
                        <a:pt x="568" y="121"/>
                      </a:lnTo>
                      <a:lnTo>
                        <a:pt x="577" y="123"/>
                      </a:lnTo>
                      <a:lnTo>
                        <a:pt x="592" y="121"/>
                      </a:lnTo>
                      <a:lnTo>
                        <a:pt x="604" y="119"/>
                      </a:lnTo>
                      <a:lnTo>
                        <a:pt x="615" y="116"/>
                      </a:lnTo>
                      <a:lnTo>
                        <a:pt x="629" y="113"/>
                      </a:lnTo>
                      <a:lnTo>
                        <a:pt x="643" y="109"/>
                      </a:lnTo>
                      <a:lnTo>
                        <a:pt x="654" y="107"/>
                      </a:lnTo>
                      <a:lnTo>
                        <a:pt x="664" y="101"/>
                      </a:lnTo>
                      <a:lnTo>
                        <a:pt x="675" y="97"/>
                      </a:lnTo>
                      <a:lnTo>
                        <a:pt x="685" y="97"/>
                      </a:lnTo>
                      <a:lnTo>
                        <a:pt x="694" y="93"/>
                      </a:lnTo>
                      <a:lnTo>
                        <a:pt x="705" y="89"/>
                      </a:lnTo>
                      <a:lnTo>
                        <a:pt x="716" y="85"/>
                      </a:lnTo>
                      <a:lnTo>
                        <a:pt x="727" y="85"/>
                      </a:lnTo>
                      <a:lnTo>
                        <a:pt x="738" y="85"/>
                      </a:lnTo>
                      <a:lnTo>
                        <a:pt x="747" y="86"/>
                      </a:lnTo>
                      <a:lnTo>
                        <a:pt x="754" y="82"/>
                      </a:lnTo>
                      <a:lnTo>
                        <a:pt x="765" y="77"/>
                      </a:lnTo>
                      <a:lnTo>
                        <a:pt x="776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40" y="71"/>
                      </a:lnTo>
                      <a:lnTo>
                        <a:pt x="846" y="74"/>
                      </a:lnTo>
                      <a:lnTo>
                        <a:pt x="851" y="81"/>
                      </a:lnTo>
                      <a:lnTo>
                        <a:pt x="859" y="85"/>
                      </a:lnTo>
                      <a:lnTo>
                        <a:pt x="866" y="86"/>
                      </a:lnTo>
                      <a:lnTo>
                        <a:pt x="876" y="85"/>
                      </a:lnTo>
                      <a:lnTo>
                        <a:pt x="887" y="81"/>
                      </a:lnTo>
                      <a:lnTo>
                        <a:pt x="905" y="78"/>
                      </a:lnTo>
                      <a:lnTo>
                        <a:pt x="913" y="83"/>
                      </a:lnTo>
                      <a:lnTo>
                        <a:pt x="918" y="89"/>
                      </a:lnTo>
                      <a:lnTo>
                        <a:pt x="925" y="91"/>
                      </a:lnTo>
                      <a:lnTo>
                        <a:pt x="933" y="93"/>
                      </a:lnTo>
                      <a:lnTo>
                        <a:pt x="940" y="97"/>
                      </a:lnTo>
                      <a:lnTo>
                        <a:pt x="943" y="104"/>
                      </a:lnTo>
                      <a:lnTo>
                        <a:pt x="948" y="116"/>
                      </a:lnTo>
                      <a:lnTo>
                        <a:pt x="955" y="120"/>
                      </a:lnTo>
                      <a:lnTo>
                        <a:pt x="963" y="123"/>
                      </a:lnTo>
                      <a:lnTo>
                        <a:pt x="971" y="123"/>
                      </a:lnTo>
                      <a:lnTo>
                        <a:pt x="974" y="117"/>
                      </a:lnTo>
                      <a:lnTo>
                        <a:pt x="979" y="104"/>
                      </a:lnTo>
                      <a:lnTo>
                        <a:pt x="985" y="107"/>
                      </a:lnTo>
                      <a:lnTo>
                        <a:pt x="991" y="108"/>
                      </a:lnTo>
                      <a:lnTo>
                        <a:pt x="998" y="107"/>
                      </a:lnTo>
                      <a:lnTo>
                        <a:pt x="1005" y="102"/>
                      </a:lnTo>
                      <a:lnTo>
                        <a:pt x="1015" y="98"/>
                      </a:lnTo>
                      <a:lnTo>
                        <a:pt x="1026" y="98"/>
                      </a:lnTo>
                      <a:lnTo>
                        <a:pt x="1017" y="109"/>
                      </a:lnTo>
                      <a:lnTo>
                        <a:pt x="1014" y="117"/>
                      </a:lnTo>
                      <a:lnTo>
                        <a:pt x="1022" y="115"/>
                      </a:lnTo>
                      <a:lnTo>
                        <a:pt x="1036" y="109"/>
                      </a:lnTo>
                      <a:lnTo>
                        <a:pt x="1049" y="111"/>
                      </a:lnTo>
                      <a:lnTo>
                        <a:pt x="1049" y="117"/>
                      </a:lnTo>
                      <a:lnTo>
                        <a:pt x="1052" y="124"/>
                      </a:lnTo>
                      <a:lnTo>
                        <a:pt x="1054" y="129"/>
                      </a:lnTo>
                      <a:lnTo>
                        <a:pt x="1061" y="133"/>
                      </a:lnTo>
                      <a:lnTo>
                        <a:pt x="1069" y="133"/>
                      </a:lnTo>
                      <a:lnTo>
                        <a:pt x="1079" y="132"/>
                      </a:lnTo>
                      <a:lnTo>
                        <a:pt x="1088" y="129"/>
                      </a:lnTo>
                      <a:lnTo>
                        <a:pt x="1097" y="133"/>
                      </a:lnTo>
                      <a:lnTo>
                        <a:pt x="1107" y="139"/>
                      </a:lnTo>
                      <a:lnTo>
                        <a:pt x="1114" y="147"/>
                      </a:lnTo>
                      <a:lnTo>
                        <a:pt x="1107" y="163"/>
                      </a:lnTo>
                      <a:lnTo>
                        <a:pt x="1099" y="168"/>
                      </a:lnTo>
                      <a:lnTo>
                        <a:pt x="1091" y="175"/>
                      </a:lnTo>
                      <a:lnTo>
                        <a:pt x="1085" y="179"/>
                      </a:lnTo>
                      <a:lnTo>
                        <a:pt x="1080" y="187"/>
                      </a:lnTo>
                      <a:lnTo>
                        <a:pt x="1077" y="194"/>
                      </a:lnTo>
                      <a:lnTo>
                        <a:pt x="1076" y="202"/>
                      </a:lnTo>
                      <a:lnTo>
                        <a:pt x="1074" y="211"/>
                      </a:lnTo>
                      <a:lnTo>
                        <a:pt x="1089" y="237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052120" y="4101120"/>
                  <a:ext cx="417960" cy="86400"/>
                </a:xfrm>
                <a:custGeom>
                  <a:avLst/>
                  <a:gdLst/>
                  <a:ahLst/>
                  <a:rect l="l" t="t" r="r" b="b"/>
                  <a:pathLst>
                    <a:path w="319" h="69">
                      <a:moveTo>
                        <a:pt x="318" y="34"/>
                      </a:moveTo>
                      <a:lnTo>
                        <a:pt x="296" y="42"/>
                      </a:lnTo>
                      <a:lnTo>
                        <a:pt x="290" y="50"/>
                      </a:lnTo>
                      <a:lnTo>
                        <a:pt x="282" y="53"/>
                      </a:lnTo>
                      <a:lnTo>
                        <a:pt x="275" y="55"/>
                      </a:lnTo>
                      <a:lnTo>
                        <a:pt x="266" y="57"/>
                      </a:lnTo>
                      <a:lnTo>
                        <a:pt x="258" y="57"/>
                      </a:lnTo>
                      <a:lnTo>
                        <a:pt x="247" y="57"/>
                      </a:lnTo>
                      <a:lnTo>
                        <a:pt x="238" y="61"/>
                      </a:lnTo>
                      <a:lnTo>
                        <a:pt x="231" y="62"/>
                      </a:lnTo>
                      <a:lnTo>
                        <a:pt x="218" y="61"/>
                      </a:lnTo>
                      <a:lnTo>
                        <a:pt x="209" y="65"/>
                      </a:lnTo>
                      <a:lnTo>
                        <a:pt x="201" y="68"/>
                      </a:lnTo>
                      <a:lnTo>
                        <a:pt x="193" y="68"/>
                      </a:lnTo>
                      <a:lnTo>
                        <a:pt x="185" y="64"/>
                      </a:lnTo>
                      <a:lnTo>
                        <a:pt x="178" y="57"/>
                      </a:lnTo>
                      <a:lnTo>
                        <a:pt x="167" y="53"/>
                      </a:lnTo>
                      <a:lnTo>
                        <a:pt x="152" y="50"/>
                      </a:lnTo>
                      <a:lnTo>
                        <a:pt x="145" y="54"/>
                      </a:lnTo>
                      <a:lnTo>
                        <a:pt x="135" y="53"/>
                      </a:lnTo>
                      <a:lnTo>
                        <a:pt x="128" y="50"/>
                      </a:lnTo>
                      <a:lnTo>
                        <a:pt x="118" y="42"/>
                      </a:lnTo>
                      <a:lnTo>
                        <a:pt x="109" y="31"/>
                      </a:lnTo>
                      <a:lnTo>
                        <a:pt x="96" y="25"/>
                      </a:lnTo>
                      <a:lnTo>
                        <a:pt x="77" y="27"/>
                      </a:lnTo>
                      <a:lnTo>
                        <a:pt x="67" y="20"/>
                      </a:lnTo>
                      <a:lnTo>
                        <a:pt x="59" y="17"/>
                      </a:lnTo>
                      <a:lnTo>
                        <a:pt x="47" y="15"/>
                      </a:lnTo>
                      <a:lnTo>
                        <a:pt x="0" y="4"/>
                      </a:lnTo>
                      <a:lnTo>
                        <a:pt x="52" y="8"/>
                      </a:lnTo>
                      <a:lnTo>
                        <a:pt x="61" y="4"/>
                      </a:lnTo>
                      <a:lnTo>
                        <a:pt x="70" y="0"/>
                      </a:lnTo>
                      <a:lnTo>
                        <a:pt x="76" y="1"/>
                      </a:lnTo>
                      <a:lnTo>
                        <a:pt x="83" y="4"/>
                      </a:lnTo>
                      <a:lnTo>
                        <a:pt x="93" y="10"/>
                      </a:lnTo>
                      <a:lnTo>
                        <a:pt x="107" y="11"/>
                      </a:lnTo>
                      <a:lnTo>
                        <a:pt x="120" y="18"/>
                      </a:lnTo>
                      <a:lnTo>
                        <a:pt x="128" y="17"/>
                      </a:lnTo>
                      <a:lnTo>
                        <a:pt x="138" y="15"/>
                      </a:lnTo>
                      <a:lnTo>
                        <a:pt x="159" y="20"/>
                      </a:lnTo>
                      <a:lnTo>
                        <a:pt x="169" y="23"/>
                      </a:lnTo>
                      <a:lnTo>
                        <a:pt x="183" y="31"/>
                      </a:lnTo>
                      <a:lnTo>
                        <a:pt x="197" y="31"/>
                      </a:lnTo>
                      <a:lnTo>
                        <a:pt x="213" y="31"/>
                      </a:lnTo>
                      <a:lnTo>
                        <a:pt x="225" y="30"/>
                      </a:lnTo>
                      <a:lnTo>
                        <a:pt x="236" y="32"/>
                      </a:lnTo>
                      <a:lnTo>
                        <a:pt x="247" y="38"/>
                      </a:lnTo>
                      <a:lnTo>
                        <a:pt x="258" y="34"/>
                      </a:lnTo>
                      <a:lnTo>
                        <a:pt x="268" y="41"/>
                      </a:lnTo>
                      <a:lnTo>
                        <a:pt x="276" y="38"/>
                      </a:lnTo>
                      <a:lnTo>
                        <a:pt x="288" y="37"/>
                      </a:lnTo>
                      <a:lnTo>
                        <a:pt x="300" y="36"/>
                      </a:lnTo>
                      <a:lnTo>
                        <a:pt x="318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957360" y="3915360"/>
                  <a:ext cx="1755720" cy="295920"/>
                </a:xfrm>
                <a:custGeom>
                  <a:avLst/>
                  <a:gdLst/>
                  <a:ahLst/>
                  <a:rect l="l" t="t" r="r" b="b"/>
                  <a:pathLst>
                    <a:path w="1339" h="236">
                      <a:moveTo>
                        <a:pt x="1088" y="235"/>
                      </a:moveTo>
                      <a:lnTo>
                        <a:pt x="1098" y="230"/>
                      </a:lnTo>
                      <a:lnTo>
                        <a:pt x="1107" y="226"/>
                      </a:lnTo>
                      <a:lnTo>
                        <a:pt x="1113" y="220"/>
                      </a:lnTo>
                      <a:lnTo>
                        <a:pt x="1118" y="214"/>
                      </a:lnTo>
                      <a:lnTo>
                        <a:pt x="1120" y="204"/>
                      </a:lnTo>
                      <a:lnTo>
                        <a:pt x="1132" y="203"/>
                      </a:lnTo>
                      <a:lnTo>
                        <a:pt x="1139" y="200"/>
                      </a:lnTo>
                      <a:lnTo>
                        <a:pt x="1144" y="196"/>
                      </a:lnTo>
                      <a:lnTo>
                        <a:pt x="1153" y="190"/>
                      </a:lnTo>
                      <a:lnTo>
                        <a:pt x="1162" y="190"/>
                      </a:lnTo>
                      <a:lnTo>
                        <a:pt x="1173" y="180"/>
                      </a:lnTo>
                      <a:lnTo>
                        <a:pt x="1186" y="189"/>
                      </a:lnTo>
                      <a:lnTo>
                        <a:pt x="1178" y="169"/>
                      </a:lnTo>
                      <a:lnTo>
                        <a:pt x="1191" y="169"/>
                      </a:lnTo>
                      <a:lnTo>
                        <a:pt x="1207" y="168"/>
                      </a:lnTo>
                      <a:lnTo>
                        <a:pt x="1219" y="174"/>
                      </a:lnTo>
                      <a:lnTo>
                        <a:pt x="1233" y="161"/>
                      </a:lnTo>
                      <a:lnTo>
                        <a:pt x="1245" y="169"/>
                      </a:lnTo>
                      <a:lnTo>
                        <a:pt x="1249" y="168"/>
                      </a:lnTo>
                      <a:lnTo>
                        <a:pt x="1252" y="163"/>
                      </a:lnTo>
                      <a:lnTo>
                        <a:pt x="1256" y="157"/>
                      </a:lnTo>
                      <a:lnTo>
                        <a:pt x="1259" y="150"/>
                      </a:lnTo>
                      <a:lnTo>
                        <a:pt x="1264" y="144"/>
                      </a:lnTo>
                      <a:lnTo>
                        <a:pt x="1268" y="140"/>
                      </a:lnTo>
                      <a:lnTo>
                        <a:pt x="1276" y="140"/>
                      </a:lnTo>
                      <a:lnTo>
                        <a:pt x="1285" y="140"/>
                      </a:lnTo>
                      <a:lnTo>
                        <a:pt x="1289" y="134"/>
                      </a:lnTo>
                      <a:lnTo>
                        <a:pt x="1295" y="128"/>
                      </a:lnTo>
                      <a:lnTo>
                        <a:pt x="1301" y="128"/>
                      </a:lnTo>
                      <a:lnTo>
                        <a:pt x="1309" y="127"/>
                      </a:lnTo>
                      <a:lnTo>
                        <a:pt x="1320" y="127"/>
                      </a:lnTo>
                      <a:lnTo>
                        <a:pt x="1330" y="120"/>
                      </a:lnTo>
                      <a:lnTo>
                        <a:pt x="1338" y="104"/>
                      </a:lnTo>
                      <a:lnTo>
                        <a:pt x="1331" y="105"/>
                      </a:lnTo>
                      <a:lnTo>
                        <a:pt x="1320" y="110"/>
                      </a:lnTo>
                      <a:lnTo>
                        <a:pt x="1309" y="111"/>
                      </a:lnTo>
                      <a:lnTo>
                        <a:pt x="1300" y="110"/>
                      </a:lnTo>
                      <a:lnTo>
                        <a:pt x="1293" y="104"/>
                      </a:lnTo>
                      <a:lnTo>
                        <a:pt x="1284" y="101"/>
                      </a:lnTo>
                      <a:lnTo>
                        <a:pt x="1276" y="105"/>
                      </a:lnTo>
                      <a:lnTo>
                        <a:pt x="1267" y="110"/>
                      </a:lnTo>
                      <a:lnTo>
                        <a:pt x="1259" y="114"/>
                      </a:lnTo>
                      <a:lnTo>
                        <a:pt x="1251" y="114"/>
                      </a:lnTo>
                      <a:lnTo>
                        <a:pt x="1245" y="105"/>
                      </a:lnTo>
                      <a:lnTo>
                        <a:pt x="1240" y="97"/>
                      </a:lnTo>
                      <a:lnTo>
                        <a:pt x="1231" y="97"/>
                      </a:lnTo>
                      <a:lnTo>
                        <a:pt x="1223" y="100"/>
                      </a:lnTo>
                      <a:lnTo>
                        <a:pt x="1213" y="105"/>
                      </a:lnTo>
                      <a:lnTo>
                        <a:pt x="1205" y="108"/>
                      </a:lnTo>
                      <a:lnTo>
                        <a:pt x="1196" y="101"/>
                      </a:lnTo>
                      <a:lnTo>
                        <a:pt x="1188" y="93"/>
                      </a:lnTo>
                      <a:lnTo>
                        <a:pt x="1180" y="89"/>
                      </a:lnTo>
                      <a:lnTo>
                        <a:pt x="1171" y="86"/>
                      </a:lnTo>
                      <a:lnTo>
                        <a:pt x="1160" y="84"/>
                      </a:lnTo>
                      <a:lnTo>
                        <a:pt x="1149" y="82"/>
                      </a:lnTo>
                      <a:lnTo>
                        <a:pt x="1139" y="84"/>
                      </a:lnTo>
                      <a:lnTo>
                        <a:pt x="1126" y="88"/>
                      </a:lnTo>
                      <a:lnTo>
                        <a:pt x="1132" y="103"/>
                      </a:lnTo>
                      <a:lnTo>
                        <a:pt x="1130" y="111"/>
                      </a:lnTo>
                      <a:lnTo>
                        <a:pt x="1125" y="116"/>
                      </a:lnTo>
                      <a:lnTo>
                        <a:pt x="1123" y="106"/>
                      </a:lnTo>
                      <a:lnTo>
                        <a:pt x="1116" y="97"/>
                      </a:lnTo>
                      <a:lnTo>
                        <a:pt x="1109" y="93"/>
                      </a:lnTo>
                      <a:lnTo>
                        <a:pt x="1102" y="89"/>
                      </a:lnTo>
                      <a:lnTo>
                        <a:pt x="1093" y="84"/>
                      </a:lnTo>
                      <a:lnTo>
                        <a:pt x="1084" y="82"/>
                      </a:lnTo>
                      <a:lnTo>
                        <a:pt x="1070" y="79"/>
                      </a:lnTo>
                      <a:lnTo>
                        <a:pt x="1062" y="81"/>
                      </a:lnTo>
                      <a:lnTo>
                        <a:pt x="1051" y="79"/>
                      </a:lnTo>
                      <a:lnTo>
                        <a:pt x="1035" y="73"/>
                      </a:lnTo>
                      <a:lnTo>
                        <a:pt x="1040" y="66"/>
                      </a:lnTo>
                      <a:lnTo>
                        <a:pt x="1048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5" y="42"/>
                      </a:lnTo>
                      <a:lnTo>
                        <a:pt x="1033" y="38"/>
                      </a:lnTo>
                      <a:lnTo>
                        <a:pt x="1021" y="36"/>
                      </a:lnTo>
                      <a:lnTo>
                        <a:pt x="1014" y="37"/>
                      </a:lnTo>
                      <a:lnTo>
                        <a:pt x="1008" y="44"/>
                      </a:lnTo>
                      <a:lnTo>
                        <a:pt x="1001" y="48"/>
                      </a:lnTo>
                      <a:lnTo>
                        <a:pt x="990" y="49"/>
                      </a:lnTo>
                      <a:lnTo>
                        <a:pt x="976" y="50"/>
                      </a:lnTo>
                      <a:lnTo>
                        <a:pt x="966" y="59"/>
                      </a:lnTo>
                      <a:lnTo>
                        <a:pt x="953" y="65"/>
                      </a:lnTo>
                      <a:lnTo>
                        <a:pt x="942" y="70"/>
                      </a:lnTo>
                      <a:lnTo>
                        <a:pt x="934" y="69"/>
                      </a:lnTo>
                      <a:lnTo>
                        <a:pt x="907" y="67"/>
                      </a:lnTo>
                      <a:lnTo>
                        <a:pt x="886" y="63"/>
                      </a:lnTo>
                      <a:lnTo>
                        <a:pt x="872" y="63"/>
                      </a:lnTo>
                      <a:lnTo>
                        <a:pt x="861" y="61"/>
                      </a:lnTo>
                      <a:lnTo>
                        <a:pt x="842" y="46"/>
                      </a:lnTo>
                      <a:lnTo>
                        <a:pt x="833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0" y="63"/>
                      </a:lnTo>
                      <a:lnTo>
                        <a:pt x="749" y="65"/>
                      </a:lnTo>
                      <a:lnTo>
                        <a:pt x="735" y="67"/>
                      </a:lnTo>
                      <a:lnTo>
                        <a:pt x="724" y="69"/>
                      </a:lnTo>
                      <a:lnTo>
                        <a:pt x="713" y="71"/>
                      </a:lnTo>
                      <a:lnTo>
                        <a:pt x="699" y="75"/>
                      </a:lnTo>
                      <a:lnTo>
                        <a:pt x="690" y="79"/>
                      </a:lnTo>
                      <a:lnTo>
                        <a:pt x="677" y="85"/>
                      </a:lnTo>
                      <a:lnTo>
                        <a:pt x="669" y="78"/>
                      </a:lnTo>
                      <a:lnTo>
                        <a:pt x="665" y="69"/>
                      </a:lnTo>
                      <a:lnTo>
                        <a:pt x="670" y="59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4" y="46"/>
                      </a:lnTo>
                      <a:lnTo>
                        <a:pt x="683" y="38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3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0"/>
                      </a:lnTo>
                      <a:lnTo>
                        <a:pt x="655" y="42"/>
                      </a:lnTo>
                      <a:lnTo>
                        <a:pt x="648" y="44"/>
                      </a:lnTo>
                      <a:lnTo>
                        <a:pt x="640" y="44"/>
                      </a:lnTo>
                      <a:lnTo>
                        <a:pt x="630" y="42"/>
                      </a:lnTo>
                      <a:lnTo>
                        <a:pt x="621" y="38"/>
                      </a:lnTo>
                      <a:lnTo>
                        <a:pt x="612" y="37"/>
                      </a:lnTo>
                      <a:lnTo>
                        <a:pt x="601" y="38"/>
                      </a:lnTo>
                      <a:lnTo>
                        <a:pt x="609" y="25"/>
                      </a:lnTo>
                      <a:lnTo>
                        <a:pt x="618" y="15"/>
                      </a:lnTo>
                      <a:lnTo>
                        <a:pt x="629" y="9"/>
                      </a:lnTo>
                      <a:lnTo>
                        <a:pt x="617" y="12"/>
                      </a:lnTo>
                      <a:lnTo>
                        <a:pt x="606" y="14"/>
                      </a:lnTo>
                      <a:lnTo>
                        <a:pt x="594" y="16"/>
                      </a:lnTo>
                      <a:lnTo>
                        <a:pt x="584" y="21"/>
                      </a:lnTo>
                      <a:lnTo>
                        <a:pt x="572" y="23"/>
                      </a:lnTo>
                      <a:lnTo>
                        <a:pt x="557" y="26"/>
                      </a:lnTo>
                      <a:lnTo>
                        <a:pt x="544" y="26"/>
                      </a:lnTo>
                      <a:lnTo>
                        <a:pt x="533" y="31"/>
                      </a:lnTo>
                      <a:lnTo>
                        <a:pt x="531" y="35"/>
                      </a:lnTo>
                      <a:lnTo>
                        <a:pt x="527" y="38"/>
                      </a:lnTo>
                      <a:lnTo>
                        <a:pt x="519" y="38"/>
                      </a:lnTo>
                      <a:lnTo>
                        <a:pt x="506" y="34"/>
                      </a:lnTo>
                      <a:lnTo>
                        <a:pt x="490" y="31"/>
                      </a:lnTo>
                      <a:lnTo>
                        <a:pt x="475" y="26"/>
                      </a:lnTo>
                      <a:lnTo>
                        <a:pt x="466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6" y="12"/>
                      </a:lnTo>
                      <a:lnTo>
                        <a:pt x="312" y="12"/>
                      </a:lnTo>
                      <a:lnTo>
                        <a:pt x="298" y="12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4"/>
                      </a:lnTo>
                      <a:lnTo>
                        <a:pt x="222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5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4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8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59"/>
                      </a:lnTo>
                      <a:lnTo>
                        <a:pt x="60" y="61"/>
                      </a:lnTo>
                      <a:lnTo>
                        <a:pt x="68" y="61"/>
                      </a:lnTo>
                      <a:lnTo>
                        <a:pt x="74" y="59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8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79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09" y="36"/>
                      </a:lnTo>
                      <a:lnTo>
                        <a:pt x="119" y="38"/>
                      </a:lnTo>
                      <a:lnTo>
                        <a:pt x="131" y="36"/>
                      </a:lnTo>
                      <a:lnTo>
                        <a:pt x="139" y="37"/>
                      </a:lnTo>
                      <a:lnTo>
                        <a:pt x="147" y="38"/>
                      </a:lnTo>
                      <a:lnTo>
                        <a:pt x="155" y="42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4" y="54"/>
                      </a:lnTo>
                      <a:lnTo>
                        <a:pt x="296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2"/>
                      </a:lnTo>
                      <a:lnTo>
                        <a:pt x="341" y="67"/>
                      </a:lnTo>
                      <a:lnTo>
                        <a:pt x="349" y="73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0"/>
                      </a:lnTo>
                      <a:lnTo>
                        <a:pt x="366" y="67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69"/>
                      </a:lnTo>
                      <a:lnTo>
                        <a:pt x="483" y="73"/>
                      </a:lnTo>
                      <a:lnTo>
                        <a:pt x="466" y="82"/>
                      </a:lnTo>
                      <a:lnTo>
                        <a:pt x="478" y="85"/>
                      </a:lnTo>
                      <a:lnTo>
                        <a:pt x="486" y="86"/>
                      </a:lnTo>
                      <a:lnTo>
                        <a:pt x="492" y="93"/>
                      </a:lnTo>
                      <a:lnTo>
                        <a:pt x="499" y="97"/>
                      </a:lnTo>
                      <a:lnTo>
                        <a:pt x="508" y="94"/>
                      </a:lnTo>
                      <a:lnTo>
                        <a:pt x="517" y="92"/>
                      </a:lnTo>
                      <a:lnTo>
                        <a:pt x="526" y="86"/>
                      </a:lnTo>
                      <a:lnTo>
                        <a:pt x="533" y="93"/>
                      </a:lnTo>
                      <a:lnTo>
                        <a:pt x="542" y="104"/>
                      </a:lnTo>
                      <a:lnTo>
                        <a:pt x="550" y="111"/>
                      </a:lnTo>
                      <a:lnTo>
                        <a:pt x="558" y="116"/>
                      </a:lnTo>
                      <a:lnTo>
                        <a:pt x="568" y="120"/>
                      </a:lnTo>
                      <a:lnTo>
                        <a:pt x="577" y="122"/>
                      </a:lnTo>
                      <a:lnTo>
                        <a:pt x="591" y="120"/>
                      </a:lnTo>
                      <a:lnTo>
                        <a:pt x="603" y="118"/>
                      </a:lnTo>
                      <a:lnTo>
                        <a:pt x="615" y="115"/>
                      </a:lnTo>
                      <a:lnTo>
                        <a:pt x="629" y="112"/>
                      </a:lnTo>
                      <a:lnTo>
                        <a:pt x="643" y="108"/>
                      </a:lnTo>
                      <a:lnTo>
                        <a:pt x="654" y="106"/>
                      </a:lnTo>
                      <a:lnTo>
                        <a:pt x="664" y="100"/>
                      </a:lnTo>
                      <a:lnTo>
                        <a:pt x="674" y="96"/>
                      </a:lnTo>
                      <a:lnTo>
                        <a:pt x="684" y="96"/>
                      </a:lnTo>
                      <a:lnTo>
                        <a:pt x="694" y="92"/>
                      </a:lnTo>
                      <a:lnTo>
                        <a:pt x="704" y="88"/>
                      </a:lnTo>
                      <a:lnTo>
                        <a:pt x="715" y="84"/>
                      </a:lnTo>
                      <a:lnTo>
                        <a:pt x="727" y="84"/>
                      </a:lnTo>
                      <a:lnTo>
                        <a:pt x="738" y="84"/>
                      </a:lnTo>
                      <a:lnTo>
                        <a:pt x="746" y="85"/>
                      </a:lnTo>
                      <a:lnTo>
                        <a:pt x="754" y="82"/>
                      </a:lnTo>
                      <a:lnTo>
                        <a:pt x="764" y="77"/>
                      </a:lnTo>
                      <a:lnTo>
                        <a:pt x="775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39" y="70"/>
                      </a:lnTo>
                      <a:lnTo>
                        <a:pt x="845" y="74"/>
                      </a:lnTo>
                      <a:lnTo>
                        <a:pt x="851" y="81"/>
                      </a:lnTo>
                      <a:lnTo>
                        <a:pt x="858" y="84"/>
                      </a:lnTo>
                      <a:lnTo>
                        <a:pt x="865" y="85"/>
                      </a:lnTo>
                      <a:lnTo>
                        <a:pt x="875" y="84"/>
                      </a:lnTo>
                      <a:lnTo>
                        <a:pt x="886" y="81"/>
                      </a:lnTo>
                      <a:lnTo>
                        <a:pt x="904" y="78"/>
                      </a:lnTo>
                      <a:lnTo>
                        <a:pt x="912" y="82"/>
                      </a:lnTo>
                      <a:lnTo>
                        <a:pt x="918" y="88"/>
                      </a:lnTo>
                      <a:lnTo>
                        <a:pt x="924" y="90"/>
                      </a:lnTo>
                      <a:lnTo>
                        <a:pt x="932" y="92"/>
                      </a:lnTo>
                      <a:lnTo>
                        <a:pt x="939" y="96"/>
                      </a:lnTo>
                      <a:lnTo>
                        <a:pt x="942" y="104"/>
                      </a:lnTo>
                      <a:lnTo>
                        <a:pt x="948" y="115"/>
                      </a:lnTo>
                      <a:lnTo>
                        <a:pt x="954" y="119"/>
                      </a:lnTo>
                      <a:lnTo>
                        <a:pt x="962" y="122"/>
                      </a:lnTo>
                      <a:lnTo>
                        <a:pt x="970" y="122"/>
                      </a:lnTo>
                      <a:lnTo>
                        <a:pt x="973" y="116"/>
                      </a:lnTo>
                      <a:lnTo>
                        <a:pt x="978" y="104"/>
                      </a:lnTo>
                      <a:lnTo>
                        <a:pt x="984" y="106"/>
                      </a:lnTo>
                      <a:lnTo>
                        <a:pt x="990" y="107"/>
                      </a:lnTo>
                      <a:lnTo>
                        <a:pt x="998" y="106"/>
                      </a:lnTo>
                      <a:lnTo>
                        <a:pt x="1005" y="101"/>
                      </a:lnTo>
                      <a:lnTo>
                        <a:pt x="1014" y="97"/>
                      </a:lnTo>
                      <a:lnTo>
                        <a:pt x="1025" y="97"/>
                      </a:lnTo>
                      <a:lnTo>
                        <a:pt x="1017" y="108"/>
                      </a:lnTo>
                      <a:lnTo>
                        <a:pt x="1013" y="116"/>
                      </a:lnTo>
                      <a:lnTo>
                        <a:pt x="1021" y="114"/>
                      </a:lnTo>
                      <a:lnTo>
                        <a:pt x="1035" y="108"/>
                      </a:lnTo>
                      <a:lnTo>
                        <a:pt x="1048" y="110"/>
                      </a:lnTo>
                      <a:lnTo>
                        <a:pt x="1049" y="116"/>
                      </a:lnTo>
                      <a:lnTo>
                        <a:pt x="1051" y="123"/>
                      </a:lnTo>
                      <a:lnTo>
                        <a:pt x="1054" y="128"/>
                      </a:lnTo>
                      <a:lnTo>
                        <a:pt x="1060" y="131"/>
                      </a:lnTo>
                      <a:lnTo>
                        <a:pt x="1068" y="131"/>
                      </a:lnTo>
                      <a:lnTo>
                        <a:pt x="1078" y="130"/>
                      </a:lnTo>
                      <a:lnTo>
                        <a:pt x="1087" y="128"/>
                      </a:lnTo>
                      <a:lnTo>
                        <a:pt x="1096" y="131"/>
                      </a:lnTo>
                      <a:lnTo>
                        <a:pt x="1107" y="138"/>
                      </a:lnTo>
                      <a:lnTo>
                        <a:pt x="1113" y="146"/>
                      </a:lnTo>
                      <a:lnTo>
                        <a:pt x="1106" y="161"/>
                      </a:lnTo>
                      <a:lnTo>
                        <a:pt x="1098" y="167"/>
                      </a:lnTo>
                      <a:lnTo>
                        <a:pt x="1090" y="174"/>
                      </a:lnTo>
                      <a:lnTo>
                        <a:pt x="1084" y="177"/>
                      </a:lnTo>
                      <a:lnTo>
                        <a:pt x="1079" y="185"/>
                      </a:lnTo>
                      <a:lnTo>
                        <a:pt x="1077" y="193"/>
                      </a:lnTo>
                      <a:lnTo>
                        <a:pt x="1075" y="200"/>
                      </a:lnTo>
                      <a:lnTo>
                        <a:pt x="1073" y="209"/>
                      </a:lnTo>
                      <a:lnTo>
                        <a:pt x="1088" y="235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169760" y="4042080"/>
                  <a:ext cx="418320" cy="86400"/>
                </a:xfrm>
                <a:custGeom>
                  <a:avLst/>
                  <a:gdLst/>
                  <a:ahLst/>
                  <a:rect l="l" t="t" r="r" b="b"/>
                  <a:pathLst>
                    <a:path w="319" h="69">
                      <a:moveTo>
                        <a:pt x="318" y="34"/>
                      </a:moveTo>
                      <a:lnTo>
                        <a:pt x="296" y="42"/>
                      </a:lnTo>
                      <a:lnTo>
                        <a:pt x="290" y="50"/>
                      </a:lnTo>
                      <a:lnTo>
                        <a:pt x="282" y="53"/>
                      </a:lnTo>
                      <a:lnTo>
                        <a:pt x="275" y="55"/>
                      </a:lnTo>
                      <a:lnTo>
                        <a:pt x="266" y="57"/>
                      </a:lnTo>
                      <a:lnTo>
                        <a:pt x="258" y="57"/>
                      </a:lnTo>
                      <a:lnTo>
                        <a:pt x="247" y="57"/>
                      </a:lnTo>
                      <a:lnTo>
                        <a:pt x="238" y="61"/>
                      </a:lnTo>
                      <a:lnTo>
                        <a:pt x="231" y="62"/>
                      </a:lnTo>
                      <a:lnTo>
                        <a:pt x="218" y="61"/>
                      </a:lnTo>
                      <a:lnTo>
                        <a:pt x="209" y="65"/>
                      </a:lnTo>
                      <a:lnTo>
                        <a:pt x="201" y="68"/>
                      </a:lnTo>
                      <a:lnTo>
                        <a:pt x="193" y="68"/>
                      </a:lnTo>
                      <a:lnTo>
                        <a:pt x="185" y="64"/>
                      </a:lnTo>
                      <a:lnTo>
                        <a:pt x="178" y="57"/>
                      </a:lnTo>
                      <a:lnTo>
                        <a:pt x="167" y="53"/>
                      </a:lnTo>
                      <a:lnTo>
                        <a:pt x="152" y="50"/>
                      </a:lnTo>
                      <a:lnTo>
                        <a:pt x="145" y="54"/>
                      </a:lnTo>
                      <a:lnTo>
                        <a:pt x="135" y="53"/>
                      </a:lnTo>
                      <a:lnTo>
                        <a:pt x="128" y="50"/>
                      </a:lnTo>
                      <a:lnTo>
                        <a:pt x="118" y="42"/>
                      </a:lnTo>
                      <a:lnTo>
                        <a:pt x="109" y="31"/>
                      </a:lnTo>
                      <a:lnTo>
                        <a:pt x="96" y="25"/>
                      </a:lnTo>
                      <a:lnTo>
                        <a:pt x="77" y="27"/>
                      </a:lnTo>
                      <a:lnTo>
                        <a:pt x="67" y="20"/>
                      </a:lnTo>
                      <a:lnTo>
                        <a:pt x="59" y="17"/>
                      </a:lnTo>
                      <a:lnTo>
                        <a:pt x="47" y="15"/>
                      </a:lnTo>
                      <a:lnTo>
                        <a:pt x="0" y="4"/>
                      </a:lnTo>
                      <a:lnTo>
                        <a:pt x="52" y="8"/>
                      </a:lnTo>
                      <a:lnTo>
                        <a:pt x="61" y="4"/>
                      </a:lnTo>
                      <a:lnTo>
                        <a:pt x="70" y="0"/>
                      </a:lnTo>
                      <a:lnTo>
                        <a:pt x="76" y="1"/>
                      </a:lnTo>
                      <a:lnTo>
                        <a:pt x="83" y="4"/>
                      </a:lnTo>
                      <a:lnTo>
                        <a:pt x="93" y="10"/>
                      </a:lnTo>
                      <a:lnTo>
                        <a:pt x="107" y="11"/>
                      </a:lnTo>
                      <a:lnTo>
                        <a:pt x="120" y="18"/>
                      </a:lnTo>
                      <a:lnTo>
                        <a:pt x="128" y="17"/>
                      </a:lnTo>
                      <a:lnTo>
                        <a:pt x="138" y="15"/>
                      </a:lnTo>
                      <a:lnTo>
                        <a:pt x="159" y="20"/>
                      </a:lnTo>
                      <a:lnTo>
                        <a:pt x="169" y="23"/>
                      </a:lnTo>
                      <a:lnTo>
                        <a:pt x="183" y="31"/>
                      </a:lnTo>
                      <a:lnTo>
                        <a:pt x="197" y="31"/>
                      </a:lnTo>
                      <a:lnTo>
                        <a:pt x="213" y="31"/>
                      </a:lnTo>
                      <a:lnTo>
                        <a:pt x="225" y="30"/>
                      </a:lnTo>
                      <a:lnTo>
                        <a:pt x="236" y="32"/>
                      </a:lnTo>
                      <a:lnTo>
                        <a:pt x="247" y="38"/>
                      </a:lnTo>
                      <a:lnTo>
                        <a:pt x="258" y="34"/>
                      </a:lnTo>
                      <a:lnTo>
                        <a:pt x="268" y="41"/>
                      </a:lnTo>
                      <a:lnTo>
                        <a:pt x="276" y="38"/>
                      </a:lnTo>
                      <a:lnTo>
                        <a:pt x="288" y="37"/>
                      </a:lnTo>
                      <a:lnTo>
                        <a:pt x="300" y="36"/>
                      </a:lnTo>
                      <a:lnTo>
                        <a:pt x="318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295320" y="3856680"/>
                  <a:ext cx="1756800" cy="295920"/>
                </a:xfrm>
                <a:custGeom>
                  <a:avLst/>
                  <a:gdLst/>
                  <a:ahLst/>
                  <a:rect l="l" t="t" r="r" b="b"/>
                  <a:pathLst>
                    <a:path w="1340" h="236">
                      <a:moveTo>
                        <a:pt x="1089" y="235"/>
                      </a:moveTo>
                      <a:lnTo>
                        <a:pt x="1099" y="230"/>
                      </a:lnTo>
                      <a:lnTo>
                        <a:pt x="1107" y="226"/>
                      </a:lnTo>
                      <a:lnTo>
                        <a:pt x="1114" y="220"/>
                      </a:lnTo>
                      <a:lnTo>
                        <a:pt x="1119" y="214"/>
                      </a:lnTo>
                      <a:lnTo>
                        <a:pt x="1121" y="204"/>
                      </a:lnTo>
                      <a:lnTo>
                        <a:pt x="1132" y="203"/>
                      </a:lnTo>
                      <a:lnTo>
                        <a:pt x="1139" y="200"/>
                      </a:lnTo>
                      <a:lnTo>
                        <a:pt x="1145" y="196"/>
                      </a:lnTo>
                      <a:lnTo>
                        <a:pt x="1153" y="190"/>
                      </a:lnTo>
                      <a:lnTo>
                        <a:pt x="1162" y="190"/>
                      </a:lnTo>
                      <a:lnTo>
                        <a:pt x="1174" y="180"/>
                      </a:lnTo>
                      <a:lnTo>
                        <a:pt x="1187" y="189"/>
                      </a:lnTo>
                      <a:lnTo>
                        <a:pt x="1179" y="169"/>
                      </a:lnTo>
                      <a:lnTo>
                        <a:pt x="1192" y="169"/>
                      </a:lnTo>
                      <a:lnTo>
                        <a:pt x="1208" y="168"/>
                      </a:lnTo>
                      <a:lnTo>
                        <a:pt x="1220" y="174"/>
                      </a:lnTo>
                      <a:lnTo>
                        <a:pt x="1234" y="161"/>
                      </a:lnTo>
                      <a:lnTo>
                        <a:pt x="1246" y="169"/>
                      </a:lnTo>
                      <a:lnTo>
                        <a:pt x="1250" y="168"/>
                      </a:lnTo>
                      <a:lnTo>
                        <a:pt x="1253" y="163"/>
                      </a:lnTo>
                      <a:lnTo>
                        <a:pt x="1257" y="157"/>
                      </a:lnTo>
                      <a:lnTo>
                        <a:pt x="1260" y="150"/>
                      </a:lnTo>
                      <a:lnTo>
                        <a:pt x="1265" y="144"/>
                      </a:lnTo>
                      <a:lnTo>
                        <a:pt x="1269" y="140"/>
                      </a:lnTo>
                      <a:lnTo>
                        <a:pt x="1277" y="140"/>
                      </a:lnTo>
                      <a:lnTo>
                        <a:pt x="1286" y="140"/>
                      </a:lnTo>
                      <a:lnTo>
                        <a:pt x="1290" y="134"/>
                      </a:lnTo>
                      <a:lnTo>
                        <a:pt x="1296" y="128"/>
                      </a:lnTo>
                      <a:lnTo>
                        <a:pt x="1302" y="128"/>
                      </a:lnTo>
                      <a:lnTo>
                        <a:pt x="1310" y="127"/>
                      </a:lnTo>
                      <a:lnTo>
                        <a:pt x="1321" y="127"/>
                      </a:lnTo>
                      <a:lnTo>
                        <a:pt x="1331" y="120"/>
                      </a:lnTo>
                      <a:lnTo>
                        <a:pt x="1339" y="104"/>
                      </a:lnTo>
                      <a:lnTo>
                        <a:pt x="1332" y="105"/>
                      </a:lnTo>
                      <a:lnTo>
                        <a:pt x="1321" y="110"/>
                      </a:lnTo>
                      <a:lnTo>
                        <a:pt x="1310" y="111"/>
                      </a:lnTo>
                      <a:lnTo>
                        <a:pt x="1301" y="110"/>
                      </a:lnTo>
                      <a:lnTo>
                        <a:pt x="1294" y="104"/>
                      </a:lnTo>
                      <a:lnTo>
                        <a:pt x="1285" y="101"/>
                      </a:lnTo>
                      <a:lnTo>
                        <a:pt x="1277" y="105"/>
                      </a:lnTo>
                      <a:lnTo>
                        <a:pt x="1268" y="110"/>
                      </a:lnTo>
                      <a:lnTo>
                        <a:pt x="1259" y="114"/>
                      </a:lnTo>
                      <a:lnTo>
                        <a:pt x="1252" y="114"/>
                      </a:lnTo>
                      <a:lnTo>
                        <a:pt x="1246" y="105"/>
                      </a:lnTo>
                      <a:lnTo>
                        <a:pt x="1241" y="97"/>
                      </a:lnTo>
                      <a:lnTo>
                        <a:pt x="1232" y="97"/>
                      </a:lnTo>
                      <a:lnTo>
                        <a:pt x="1224" y="100"/>
                      </a:lnTo>
                      <a:lnTo>
                        <a:pt x="1214" y="105"/>
                      </a:lnTo>
                      <a:lnTo>
                        <a:pt x="1206" y="108"/>
                      </a:lnTo>
                      <a:lnTo>
                        <a:pt x="1197" y="101"/>
                      </a:lnTo>
                      <a:lnTo>
                        <a:pt x="1189" y="93"/>
                      </a:lnTo>
                      <a:lnTo>
                        <a:pt x="1181" y="89"/>
                      </a:lnTo>
                      <a:lnTo>
                        <a:pt x="1172" y="86"/>
                      </a:lnTo>
                      <a:lnTo>
                        <a:pt x="1161" y="84"/>
                      </a:lnTo>
                      <a:lnTo>
                        <a:pt x="1150" y="82"/>
                      </a:lnTo>
                      <a:lnTo>
                        <a:pt x="1139" y="84"/>
                      </a:lnTo>
                      <a:lnTo>
                        <a:pt x="1127" y="88"/>
                      </a:lnTo>
                      <a:lnTo>
                        <a:pt x="1132" y="103"/>
                      </a:lnTo>
                      <a:lnTo>
                        <a:pt x="1131" y="111"/>
                      </a:lnTo>
                      <a:lnTo>
                        <a:pt x="1125" y="116"/>
                      </a:lnTo>
                      <a:lnTo>
                        <a:pt x="1124" y="106"/>
                      </a:lnTo>
                      <a:lnTo>
                        <a:pt x="1117" y="97"/>
                      </a:lnTo>
                      <a:lnTo>
                        <a:pt x="1110" y="93"/>
                      </a:lnTo>
                      <a:lnTo>
                        <a:pt x="1102" y="89"/>
                      </a:lnTo>
                      <a:lnTo>
                        <a:pt x="1093" y="84"/>
                      </a:lnTo>
                      <a:lnTo>
                        <a:pt x="1084" y="82"/>
                      </a:lnTo>
                      <a:lnTo>
                        <a:pt x="1071" y="79"/>
                      </a:lnTo>
                      <a:lnTo>
                        <a:pt x="1063" y="81"/>
                      </a:lnTo>
                      <a:lnTo>
                        <a:pt x="1052" y="79"/>
                      </a:lnTo>
                      <a:lnTo>
                        <a:pt x="1035" y="73"/>
                      </a:lnTo>
                      <a:lnTo>
                        <a:pt x="1041" y="66"/>
                      </a:lnTo>
                      <a:lnTo>
                        <a:pt x="1049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6" y="42"/>
                      </a:lnTo>
                      <a:lnTo>
                        <a:pt x="1034" y="38"/>
                      </a:lnTo>
                      <a:lnTo>
                        <a:pt x="1022" y="36"/>
                      </a:lnTo>
                      <a:lnTo>
                        <a:pt x="1015" y="37"/>
                      </a:lnTo>
                      <a:lnTo>
                        <a:pt x="1009" y="44"/>
                      </a:lnTo>
                      <a:lnTo>
                        <a:pt x="1001" y="48"/>
                      </a:lnTo>
                      <a:lnTo>
                        <a:pt x="991" y="49"/>
                      </a:lnTo>
                      <a:lnTo>
                        <a:pt x="977" y="50"/>
                      </a:lnTo>
                      <a:lnTo>
                        <a:pt x="967" y="59"/>
                      </a:lnTo>
                      <a:lnTo>
                        <a:pt x="954" y="65"/>
                      </a:lnTo>
                      <a:lnTo>
                        <a:pt x="943" y="70"/>
                      </a:lnTo>
                      <a:lnTo>
                        <a:pt x="935" y="69"/>
                      </a:lnTo>
                      <a:lnTo>
                        <a:pt x="908" y="67"/>
                      </a:lnTo>
                      <a:lnTo>
                        <a:pt x="887" y="63"/>
                      </a:lnTo>
                      <a:lnTo>
                        <a:pt x="873" y="63"/>
                      </a:lnTo>
                      <a:lnTo>
                        <a:pt x="862" y="61"/>
                      </a:lnTo>
                      <a:lnTo>
                        <a:pt x="843" y="46"/>
                      </a:lnTo>
                      <a:lnTo>
                        <a:pt x="834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1" y="63"/>
                      </a:lnTo>
                      <a:lnTo>
                        <a:pt x="749" y="65"/>
                      </a:lnTo>
                      <a:lnTo>
                        <a:pt x="735" y="67"/>
                      </a:lnTo>
                      <a:lnTo>
                        <a:pt x="724" y="69"/>
                      </a:lnTo>
                      <a:lnTo>
                        <a:pt x="713" y="71"/>
                      </a:lnTo>
                      <a:lnTo>
                        <a:pt x="700" y="75"/>
                      </a:lnTo>
                      <a:lnTo>
                        <a:pt x="691" y="79"/>
                      </a:lnTo>
                      <a:lnTo>
                        <a:pt x="678" y="85"/>
                      </a:lnTo>
                      <a:lnTo>
                        <a:pt x="670" y="78"/>
                      </a:lnTo>
                      <a:lnTo>
                        <a:pt x="666" y="69"/>
                      </a:lnTo>
                      <a:lnTo>
                        <a:pt x="671" y="59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5" y="46"/>
                      </a:lnTo>
                      <a:lnTo>
                        <a:pt x="684" y="38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4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0"/>
                      </a:lnTo>
                      <a:lnTo>
                        <a:pt x="656" y="42"/>
                      </a:lnTo>
                      <a:lnTo>
                        <a:pt x="649" y="44"/>
                      </a:lnTo>
                      <a:lnTo>
                        <a:pt x="641" y="44"/>
                      </a:lnTo>
                      <a:lnTo>
                        <a:pt x="630" y="42"/>
                      </a:lnTo>
                      <a:lnTo>
                        <a:pt x="621" y="38"/>
                      </a:lnTo>
                      <a:lnTo>
                        <a:pt x="613" y="37"/>
                      </a:lnTo>
                      <a:lnTo>
                        <a:pt x="601" y="38"/>
                      </a:lnTo>
                      <a:lnTo>
                        <a:pt x="610" y="25"/>
                      </a:lnTo>
                      <a:lnTo>
                        <a:pt x="619" y="15"/>
                      </a:lnTo>
                      <a:lnTo>
                        <a:pt x="629" y="9"/>
                      </a:lnTo>
                      <a:lnTo>
                        <a:pt x="618" y="12"/>
                      </a:lnTo>
                      <a:lnTo>
                        <a:pt x="606" y="14"/>
                      </a:lnTo>
                      <a:lnTo>
                        <a:pt x="594" y="16"/>
                      </a:lnTo>
                      <a:lnTo>
                        <a:pt x="585" y="21"/>
                      </a:lnTo>
                      <a:lnTo>
                        <a:pt x="572" y="23"/>
                      </a:lnTo>
                      <a:lnTo>
                        <a:pt x="558" y="26"/>
                      </a:lnTo>
                      <a:lnTo>
                        <a:pt x="544" y="26"/>
                      </a:lnTo>
                      <a:lnTo>
                        <a:pt x="534" y="31"/>
                      </a:lnTo>
                      <a:lnTo>
                        <a:pt x="531" y="35"/>
                      </a:lnTo>
                      <a:lnTo>
                        <a:pt x="528" y="38"/>
                      </a:lnTo>
                      <a:lnTo>
                        <a:pt x="520" y="38"/>
                      </a:lnTo>
                      <a:lnTo>
                        <a:pt x="507" y="34"/>
                      </a:lnTo>
                      <a:lnTo>
                        <a:pt x="491" y="31"/>
                      </a:lnTo>
                      <a:lnTo>
                        <a:pt x="475" y="26"/>
                      </a:lnTo>
                      <a:lnTo>
                        <a:pt x="467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7" y="12"/>
                      </a:lnTo>
                      <a:lnTo>
                        <a:pt x="313" y="12"/>
                      </a:lnTo>
                      <a:lnTo>
                        <a:pt x="299" y="12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4"/>
                      </a:lnTo>
                      <a:lnTo>
                        <a:pt x="223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6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4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8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59"/>
                      </a:lnTo>
                      <a:lnTo>
                        <a:pt x="60" y="61"/>
                      </a:lnTo>
                      <a:lnTo>
                        <a:pt x="68" y="61"/>
                      </a:lnTo>
                      <a:lnTo>
                        <a:pt x="74" y="59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8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80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10" y="36"/>
                      </a:lnTo>
                      <a:lnTo>
                        <a:pt x="119" y="38"/>
                      </a:lnTo>
                      <a:lnTo>
                        <a:pt x="131" y="36"/>
                      </a:lnTo>
                      <a:lnTo>
                        <a:pt x="140" y="37"/>
                      </a:lnTo>
                      <a:lnTo>
                        <a:pt x="147" y="38"/>
                      </a:lnTo>
                      <a:lnTo>
                        <a:pt x="156" y="42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5" y="54"/>
                      </a:lnTo>
                      <a:lnTo>
                        <a:pt x="297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2"/>
                      </a:lnTo>
                      <a:lnTo>
                        <a:pt x="341" y="67"/>
                      </a:lnTo>
                      <a:lnTo>
                        <a:pt x="349" y="73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0"/>
                      </a:lnTo>
                      <a:lnTo>
                        <a:pt x="366" y="67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69"/>
                      </a:lnTo>
                      <a:lnTo>
                        <a:pt x="484" y="73"/>
                      </a:lnTo>
                      <a:lnTo>
                        <a:pt x="467" y="82"/>
                      </a:lnTo>
                      <a:lnTo>
                        <a:pt x="479" y="85"/>
                      </a:lnTo>
                      <a:lnTo>
                        <a:pt x="486" y="86"/>
                      </a:lnTo>
                      <a:lnTo>
                        <a:pt x="492" y="93"/>
                      </a:lnTo>
                      <a:lnTo>
                        <a:pt x="500" y="97"/>
                      </a:lnTo>
                      <a:lnTo>
                        <a:pt x="509" y="94"/>
                      </a:lnTo>
                      <a:lnTo>
                        <a:pt x="518" y="92"/>
                      </a:lnTo>
                      <a:lnTo>
                        <a:pt x="526" y="86"/>
                      </a:lnTo>
                      <a:lnTo>
                        <a:pt x="534" y="93"/>
                      </a:lnTo>
                      <a:lnTo>
                        <a:pt x="542" y="104"/>
                      </a:lnTo>
                      <a:lnTo>
                        <a:pt x="551" y="111"/>
                      </a:lnTo>
                      <a:lnTo>
                        <a:pt x="559" y="116"/>
                      </a:lnTo>
                      <a:lnTo>
                        <a:pt x="568" y="120"/>
                      </a:lnTo>
                      <a:lnTo>
                        <a:pt x="577" y="122"/>
                      </a:lnTo>
                      <a:lnTo>
                        <a:pt x="592" y="120"/>
                      </a:lnTo>
                      <a:lnTo>
                        <a:pt x="604" y="118"/>
                      </a:lnTo>
                      <a:lnTo>
                        <a:pt x="615" y="115"/>
                      </a:lnTo>
                      <a:lnTo>
                        <a:pt x="629" y="112"/>
                      </a:lnTo>
                      <a:lnTo>
                        <a:pt x="643" y="108"/>
                      </a:lnTo>
                      <a:lnTo>
                        <a:pt x="654" y="106"/>
                      </a:lnTo>
                      <a:lnTo>
                        <a:pt x="664" y="100"/>
                      </a:lnTo>
                      <a:lnTo>
                        <a:pt x="675" y="96"/>
                      </a:lnTo>
                      <a:lnTo>
                        <a:pt x="685" y="96"/>
                      </a:lnTo>
                      <a:lnTo>
                        <a:pt x="694" y="92"/>
                      </a:lnTo>
                      <a:lnTo>
                        <a:pt x="705" y="88"/>
                      </a:lnTo>
                      <a:lnTo>
                        <a:pt x="716" y="84"/>
                      </a:lnTo>
                      <a:lnTo>
                        <a:pt x="727" y="84"/>
                      </a:lnTo>
                      <a:lnTo>
                        <a:pt x="738" y="84"/>
                      </a:lnTo>
                      <a:lnTo>
                        <a:pt x="747" y="85"/>
                      </a:lnTo>
                      <a:lnTo>
                        <a:pt x="754" y="82"/>
                      </a:lnTo>
                      <a:lnTo>
                        <a:pt x="765" y="77"/>
                      </a:lnTo>
                      <a:lnTo>
                        <a:pt x="776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40" y="70"/>
                      </a:lnTo>
                      <a:lnTo>
                        <a:pt x="846" y="74"/>
                      </a:lnTo>
                      <a:lnTo>
                        <a:pt x="851" y="81"/>
                      </a:lnTo>
                      <a:lnTo>
                        <a:pt x="859" y="84"/>
                      </a:lnTo>
                      <a:lnTo>
                        <a:pt x="866" y="85"/>
                      </a:lnTo>
                      <a:lnTo>
                        <a:pt x="876" y="84"/>
                      </a:lnTo>
                      <a:lnTo>
                        <a:pt x="887" y="81"/>
                      </a:lnTo>
                      <a:lnTo>
                        <a:pt x="905" y="78"/>
                      </a:lnTo>
                      <a:lnTo>
                        <a:pt x="913" y="82"/>
                      </a:lnTo>
                      <a:lnTo>
                        <a:pt x="918" y="88"/>
                      </a:lnTo>
                      <a:lnTo>
                        <a:pt x="925" y="90"/>
                      </a:lnTo>
                      <a:lnTo>
                        <a:pt x="933" y="92"/>
                      </a:lnTo>
                      <a:lnTo>
                        <a:pt x="940" y="96"/>
                      </a:lnTo>
                      <a:lnTo>
                        <a:pt x="943" y="104"/>
                      </a:lnTo>
                      <a:lnTo>
                        <a:pt x="948" y="115"/>
                      </a:lnTo>
                      <a:lnTo>
                        <a:pt x="955" y="119"/>
                      </a:lnTo>
                      <a:lnTo>
                        <a:pt x="963" y="122"/>
                      </a:lnTo>
                      <a:lnTo>
                        <a:pt x="971" y="122"/>
                      </a:lnTo>
                      <a:lnTo>
                        <a:pt x="974" y="116"/>
                      </a:lnTo>
                      <a:lnTo>
                        <a:pt x="979" y="104"/>
                      </a:lnTo>
                      <a:lnTo>
                        <a:pt x="985" y="106"/>
                      </a:lnTo>
                      <a:lnTo>
                        <a:pt x="991" y="107"/>
                      </a:lnTo>
                      <a:lnTo>
                        <a:pt x="998" y="106"/>
                      </a:lnTo>
                      <a:lnTo>
                        <a:pt x="1005" y="101"/>
                      </a:lnTo>
                      <a:lnTo>
                        <a:pt x="1015" y="97"/>
                      </a:lnTo>
                      <a:lnTo>
                        <a:pt x="1026" y="97"/>
                      </a:lnTo>
                      <a:lnTo>
                        <a:pt x="1017" y="108"/>
                      </a:lnTo>
                      <a:lnTo>
                        <a:pt x="1014" y="116"/>
                      </a:lnTo>
                      <a:lnTo>
                        <a:pt x="1022" y="114"/>
                      </a:lnTo>
                      <a:lnTo>
                        <a:pt x="1036" y="108"/>
                      </a:lnTo>
                      <a:lnTo>
                        <a:pt x="1049" y="110"/>
                      </a:lnTo>
                      <a:lnTo>
                        <a:pt x="1049" y="116"/>
                      </a:lnTo>
                      <a:lnTo>
                        <a:pt x="1052" y="123"/>
                      </a:lnTo>
                      <a:lnTo>
                        <a:pt x="1054" y="128"/>
                      </a:lnTo>
                      <a:lnTo>
                        <a:pt x="1061" y="131"/>
                      </a:lnTo>
                      <a:lnTo>
                        <a:pt x="1069" y="131"/>
                      </a:lnTo>
                      <a:lnTo>
                        <a:pt x="1079" y="130"/>
                      </a:lnTo>
                      <a:lnTo>
                        <a:pt x="1088" y="128"/>
                      </a:lnTo>
                      <a:lnTo>
                        <a:pt x="1097" y="131"/>
                      </a:lnTo>
                      <a:lnTo>
                        <a:pt x="1107" y="138"/>
                      </a:lnTo>
                      <a:lnTo>
                        <a:pt x="1114" y="146"/>
                      </a:lnTo>
                      <a:lnTo>
                        <a:pt x="1107" y="161"/>
                      </a:lnTo>
                      <a:lnTo>
                        <a:pt x="1099" y="167"/>
                      </a:lnTo>
                      <a:lnTo>
                        <a:pt x="1091" y="174"/>
                      </a:lnTo>
                      <a:lnTo>
                        <a:pt x="1085" y="177"/>
                      </a:lnTo>
                      <a:lnTo>
                        <a:pt x="1080" y="185"/>
                      </a:lnTo>
                      <a:lnTo>
                        <a:pt x="1077" y="193"/>
                      </a:lnTo>
                      <a:lnTo>
                        <a:pt x="1076" y="200"/>
                      </a:lnTo>
                      <a:lnTo>
                        <a:pt x="1074" y="209"/>
                      </a:lnTo>
                      <a:lnTo>
                        <a:pt x="1089" y="2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200640" y="4221360"/>
                  <a:ext cx="418320" cy="86400"/>
                </a:xfrm>
                <a:custGeom>
                  <a:avLst/>
                  <a:gdLst/>
                  <a:ahLst/>
                  <a:rect l="l" t="t" r="r" b="b"/>
                  <a:pathLst>
                    <a:path w="319" h="69">
                      <a:moveTo>
                        <a:pt x="318" y="34"/>
                      </a:moveTo>
                      <a:lnTo>
                        <a:pt x="296" y="42"/>
                      </a:lnTo>
                      <a:lnTo>
                        <a:pt x="290" y="50"/>
                      </a:lnTo>
                      <a:lnTo>
                        <a:pt x="282" y="53"/>
                      </a:lnTo>
                      <a:lnTo>
                        <a:pt x="275" y="55"/>
                      </a:lnTo>
                      <a:lnTo>
                        <a:pt x="266" y="57"/>
                      </a:lnTo>
                      <a:lnTo>
                        <a:pt x="258" y="57"/>
                      </a:lnTo>
                      <a:lnTo>
                        <a:pt x="247" y="57"/>
                      </a:lnTo>
                      <a:lnTo>
                        <a:pt x="238" y="61"/>
                      </a:lnTo>
                      <a:lnTo>
                        <a:pt x="231" y="62"/>
                      </a:lnTo>
                      <a:lnTo>
                        <a:pt x="218" y="61"/>
                      </a:lnTo>
                      <a:lnTo>
                        <a:pt x="209" y="65"/>
                      </a:lnTo>
                      <a:lnTo>
                        <a:pt x="201" y="68"/>
                      </a:lnTo>
                      <a:lnTo>
                        <a:pt x="193" y="68"/>
                      </a:lnTo>
                      <a:lnTo>
                        <a:pt x="185" y="64"/>
                      </a:lnTo>
                      <a:lnTo>
                        <a:pt x="178" y="57"/>
                      </a:lnTo>
                      <a:lnTo>
                        <a:pt x="167" y="53"/>
                      </a:lnTo>
                      <a:lnTo>
                        <a:pt x="152" y="50"/>
                      </a:lnTo>
                      <a:lnTo>
                        <a:pt x="145" y="54"/>
                      </a:lnTo>
                      <a:lnTo>
                        <a:pt x="135" y="53"/>
                      </a:lnTo>
                      <a:lnTo>
                        <a:pt x="128" y="50"/>
                      </a:lnTo>
                      <a:lnTo>
                        <a:pt x="118" y="42"/>
                      </a:lnTo>
                      <a:lnTo>
                        <a:pt x="109" y="31"/>
                      </a:lnTo>
                      <a:lnTo>
                        <a:pt x="96" y="25"/>
                      </a:lnTo>
                      <a:lnTo>
                        <a:pt x="77" y="27"/>
                      </a:lnTo>
                      <a:lnTo>
                        <a:pt x="67" y="20"/>
                      </a:lnTo>
                      <a:lnTo>
                        <a:pt x="59" y="17"/>
                      </a:lnTo>
                      <a:lnTo>
                        <a:pt x="47" y="15"/>
                      </a:lnTo>
                      <a:lnTo>
                        <a:pt x="0" y="4"/>
                      </a:lnTo>
                      <a:lnTo>
                        <a:pt x="52" y="8"/>
                      </a:lnTo>
                      <a:lnTo>
                        <a:pt x="61" y="4"/>
                      </a:lnTo>
                      <a:lnTo>
                        <a:pt x="70" y="0"/>
                      </a:lnTo>
                      <a:lnTo>
                        <a:pt x="76" y="1"/>
                      </a:lnTo>
                      <a:lnTo>
                        <a:pt x="83" y="4"/>
                      </a:lnTo>
                      <a:lnTo>
                        <a:pt x="93" y="10"/>
                      </a:lnTo>
                      <a:lnTo>
                        <a:pt x="107" y="11"/>
                      </a:lnTo>
                      <a:lnTo>
                        <a:pt x="120" y="18"/>
                      </a:lnTo>
                      <a:lnTo>
                        <a:pt x="128" y="17"/>
                      </a:lnTo>
                      <a:lnTo>
                        <a:pt x="138" y="15"/>
                      </a:lnTo>
                      <a:lnTo>
                        <a:pt x="159" y="20"/>
                      </a:lnTo>
                      <a:lnTo>
                        <a:pt x="169" y="23"/>
                      </a:lnTo>
                      <a:lnTo>
                        <a:pt x="183" y="31"/>
                      </a:lnTo>
                      <a:lnTo>
                        <a:pt x="197" y="31"/>
                      </a:lnTo>
                      <a:lnTo>
                        <a:pt x="213" y="31"/>
                      </a:lnTo>
                      <a:lnTo>
                        <a:pt x="225" y="30"/>
                      </a:lnTo>
                      <a:lnTo>
                        <a:pt x="236" y="32"/>
                      </a:lnTo>
                      <a:lnTo>
                        <a:pt x="247" y="38"/>
                      </a:lnTo>
                      <a:lnTo>
                        <a:pt x="258" y="34"/>
                      </a:lnTo>
                      <a:lnTo>
                        <a:pt x="268" y="41"/>
                      </a:lnTo>
                      <a:lnTo>
                        <a:pt x="276" y="38"/>
                      </a:lnTo>
                      <a:lnTo>
                        <a:pt x="288" y="37"/>
                      </a:lnTo>
                      <a:lnTo>
                        <a:pt x="300" y="36"/>
                      </a:lnTo>
                      <a:lnTo>
                        <a:pt x="318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34360" y="3915360"/>
                  <a:ext cx="1755720" cy="295920"/>
                </a:xfrm>
                <a:custGeom>
                  <a:avLst/>
                  <a:gdLst/>
                  <a:ahLst/>
                  <a:rect l="l" t="t" r="r" b="b"/>
                  <a:pathLst>
                    <a:path w="1339" h="236">
                      <a:moveTo>
                        <a:pt x="1088" y="235"/>
                      </a:moveTo>
                      <a:lnTo>
                        <a:pt x="1098" y="230"/>
                      </a:lnTo>
                      <a:lnTo>
                        <a:pt x="1107" y="226"/>
                      </a:lnTo>
                      <a:lnTo>
                        <a:pt x="1113" y="220"/>
                      </a:lnTo>
                      <a:lnTo>
                        <a:pt x="1118" y="214"/>
                      </a:lnTo>
                      <a:lnTo>
                        <a:pt x="1120" y="204"/>
                      </a:lnTo>
                      <a:lnTo>
                        <a:pt x="1132" y="203"/>
                      </a:lnTo>
                      <a:lnTo>
                        <a:pt x="1139" y="200"/>
                      </a:lnTo>
                      <a:lnTo>
                        <a:pt x="1144" y="196"/>
                      </a:lnTo>
                      <a:lnTo>
                        <a:pt x="1153" y="190"/>
                      </a:lnTo>
                      <a:lnTo>
                        <a:pt x="1162" y="190"/>
                      </a:lnTo>
                      <a:lnTo>
                        <a:pt x="1173" y="180"/>
                      </a:lnTo>
                      <a:lnTo>
                        <a:pt x="1186" y="189"/>
                      </a:lnTo>
                      <a:lnTo>
                        <a:pt x="1178" y="169"/>
                      </a:lnTo>
                      <a:lnTo>
                        <a:pt x="1191" y="169"/>
                      </a:lnTo>
                      <a:lnTo>
                        <a:pt x="1207" y="168"/>
                      </a:lnTo>
                      <a:lnTo>
                        <a:pt x="1219" y="174"/>
                      </a:lnTo>
                      <a:lnTo>
                        <a:pt x="1233" y="161"/>
                      </a:lnTo>
                      <a:lnTo>
                        <a:pt x="1245" y="169"/>
                      </a:lnTo>
                      <a:lnTo>
                        <a:pt x="1249" y="168"/>
                      </a:lnTo>
                      <a:lnTo>
                        <a:pt x="1252" y="163"/>
                      </a:lnTo>
                      <a:lnTo>
                        <a:pt x="1256" y="157"/>
                      </a:lnTo>
                      <a:lnTo>
                        <a:pt x="1259" y="150"/>
                      </a:lnTo>
                      <a:lnTo>
                        <a:pt x="1264" y="144"/>
                      </a:lnTo>
                      <a:lnTo>
                        <a:pt x="1268" y="140"/>
                      </a:lnTo>
                      <a:lnTo>
                        <a:pt x="1276" y="140"/>
                      </a:lnTo>
                      <a:lnTo>
                        <a:pt x="1285" y="140"/>
                      </a:lnTo>
                      <a:lnTo>
                        <a:pt x="1289" y="134"/>
                      </a:lnTo>
                      <a:lnTo>
                        <a:pt x="1295" y="128"/>
                      </a:lnTo>
                      <a:lnTo>
                        <a:pt x="1301" y="128"/>
                      </a:lnTo>
                      <a:lnTo>
                        <a:pt x="1309" y="127"/>
                      </a:lnTo>
                      <a:lnTo>
                        <a:pt x="1320" y="127"/>
                      </a:lnTo>
                      <a:lnTo>
                        <a:pt x="1330" y="120"/>
                      </a:lnTo>
                      <a:lnTo>
                        <a:pt x="1338" y="104"/>
                      </a:lnTo>
                      <a:lnTo>
                        <a:pt x="1331" y="105"/>
                      </a:lnTo>
                      <a:lnTo>
                        <a:pt x="1320" y="110"/>
                      </a:lnTo>
                      <a:lnTo>
                        <a:pt x="1309" y="111"/>
                      </a:lnTo>
                      <a:lnTo>
                        <a:pt x="1300" y="110"/>
                      </a:lnTo>
                      <a:lnTo>
                        <a:pt x="1293" y="104"/>
                      </a:lnTo>
                      <a:lnTo>
                        <a:pt x="1284" y="101"/>
                      </a:lnTo>
                      <a:lnTo>
                        <a:pt x="1276" y="105"/>
                      </a:lnTo>
                      <a:lnTo>
                        <a:pt x="1267" y="110"/>
                      </a:lnTo>
                      <a:lnTo>
                        <a:pt x="1259" y="114"/>
                      </a:lnTo>
                      <a:lnTo>
                        <a:pt x="1251" y="114"/>
                      </a:lnTo>
                      <a:lnTo>
                        <a:pt x="1245" y="105"/>
                      </a:lnTo>
                      <a:lnTo>
                        <a:pt x="1240" y="97"/>
                      </a:lnTo>
                      <a:lnTo>
                        <a:pt x="1231" y="97"/>
                      </a:lnTo>
                      <a:lnTo>
                        <a:pt x="1223" y="100"/>
                      </a:lnTo>
                      <a:lnTo>
                        <a:pt x="1213" y="105"/>
                      </a:lnTo>
                      <a:lnTo>
                        <a:pt x="1205" y="108"/>
                      </a:lnTo>
                      <a:lnTo>
                        <a:pt x="1196" y="101"/>
                      </a:lnTo>
                      <a:lnTo>
                        <a:pt x="1188" y="93"/>
                      </a:lnTo>
                      <a:lnTo>
                        <a:pt x="1180" y="89"/>
                      </a:lnTo>
                      <a:lnTo>
                        <a:pt x="1171" y="86"/>
                      </a:lnTo>
                      <a:lnTo>
                        <a:pt x="1160" y="84"/>
                      </a:lnTo>
                      <a:lnTo>
                        <a:pt x="1149" y="82"/>
                      </a:lnTo>
                      <a:lnTo>
                        <a:pt x="1139" y="84"/>
                      </a:lnTo>
                      <a:lnTo>
                        <a:pt x="1126" y="88"/>
                      </a:lnTo>
                      <a:lnTo>
                        <a:pt x="1132" y="103"/>
                      </a:lnTo>
                      <a:lnTo>
                        <a:pt x="1130" y="111"/>
                      </a:lnTo>
                      <a:lnTo>
                        <a:pt x="1125" y="116"/>
                      </a:lnTo>
                      <a:lnTo>
                        <a:pt x="1123" y="106"/>
                      </a:lnTo>
                      <a:lnTo>
                        <a:pt x="1116" y="97"/>
                      </a:lnTo>
                      <a:lnTo>
                        <a:pt x="1109" y="93"/>
                      </a:lnTo>
                      <a:lnTo>
                        <a:pt x="1102" y="89"/>
                      </a:lnTo>
                      <a:lnTo>
                        <a:pt x="1093" y="84"/>
                      </a:lnTo>
                      <a:lnTo>
                        <a:pt x="1084" y="82"/>
                      </a:lnTo>
                      <a:lnTo>
                        <a:pt x="1070" y="79"/>
                      </a:lnTo>
                      <a:lnTo>
                        <a:pt x="1062" y="81"/>
                      </a:lnTo>
                      <a:lnTo>
                        <a:pt x="1051" y="79"/>
                      </a:lnTo>
                      <a:lnTo>
                        <a:pt x="1035" y="73"/>
                      </a:lnTo>
                      <a:lnTo>
                        <a:pt x="1040" y="66"/>
                      </a:lnTo>
                      <a:lnTo>
                        <a:pt x="1048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5" y="42"/>
                      </a:lnTo>
                      <a:lnTo>
                        <a:pt x="1033" y="38"/>
                      </a:lnTo>
                      <a:lnTo>
                        <a:pt x="1021" y="36"/>
                      </a:lnTo>
                      <a:lnTo>
                        <a:pt x="1014" y="37"/>
                      </a:lnTo>
                      <a:lnTo>
                        <a:pt x="1008" y="44"/>
                      </a:lnTo>
                      <a:lnTo>
                        <a:pt x="1001" y="48"/>
                      </a:lnTo>
                      <a:lnTo>
                        <a:pt x="990" y="49"/>
                      </a:lnTo>
                      <a:lnTo>
                        <a:pt x="976" y="50"/>
                      </a:lnTo>
                      <a:lnTo>
                        <a:pt x="966" y="59"/>
                      </a:lnTo>
                      <a:lnTo>
                        <a:pt x="953" y="65"/>
                      </a:lnTo>
                      <a:lnTo>
                        <a:pt x="942" y="70"/>
                      </a:lnTo>
                      <a:lnTo>
                        <a:pt x="934" y="69"/>
                      </a:lnTo>
                      <a:lnTo>
                        <a:pt x="907" y="67"/>
                      </a:lnTo>
                      <a:lnTo>
                        <a:pt x="886" y="63"/>
                      </a:lnTo>
                      <a:lnTo>
                        <a:pt x="872" y="63"/>
                      </a:lnTo>
                      <a:lnTo>
                        <a:pt x="861" y="61"/>
                      </a:lnTo>
                      <a:lnTo>
                        <a:pt x="842" y="46"/>
                      </a:lnTo>
                      <a:lnTo>
                        <a:pt x="833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0" y="63"/>
                      </a:lnTo>
                      <a:lnTo>
                        <a:pt x="749" y="65"/>
                      </a:lnTo>
                      <a:lnTo>
                        <a:pt x="735" y="67"/>
                      </a:lnTo>
                      <a:lnTo>
                        <a:pt x="724" y="69"/>
                      </a:lnTo>
                      <a:lnTo>
                        <a:pt x="713" y="71"/>
                      </a:lnTo>
                      <a:lnTo>
                        <a:pt x="699" y="75"/>
                      </a:lnTo>
                      <a:lnTo>
                        <a:pt x="690" y="79"/>
                      </a:lnTo>
                      <a:lnTo>
                        <a:pt x="677" y="85"/>
                      </a:lnTo>
                      <a:lnTo>
                        <a:pt x="669" y="78"/>
                      </a:lnTo>
                      <a:lnTo>
                        <a:pt x="665" y="69"/>
                      </a:lnTo>
                      <a:lnTo>
                        <a:pt x="670" y="59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4" y="46"/>
                      </a:lnTo>
                      <a:lnTo>
                        <a:pt x="683" y="38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3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0"/>
                      </a:lnTo>
                      <a:lnTo>
                        <a:pt x="655" y="42"/>
                      </a:lnTo>
                      <a:lnTo>
                        <a:pt x="648" y="44"/>
                      </a:lnTo>
                      <a:lnTo>
                        <a:pt x="640" y="44"/>
                      </a:lnTo>
                      <a:lnTo>
                        <a:pt x="630" y="42"/>
                      </a:lnTo>
                      <a:lnTo>
                        <a:pt x="621" y="38"/>
                      </a:lnTo>
                      <a:lnTo>
                        <a:pt x="612" y="37"/>
                      </a:lnTo>
                      <a:lnTo>
                        <a:pt x="601" y="38"/>
                      </a:lnTo>
                      <a:lnTo>
                        <a:pt x="609" y="25"/>
                      </a:lnTo>
                      <a:lnTo>
                        <a:pt x="618" y="15"/>
                      </a:lnTo>
                      <a:lnTo>
                        <a:pt x="629" y="9"/>
                      </a:lnTo>
                      <a:lnTo>
                        <a:pt x="617" y="12"/>
                      </a:lnTo>
                      <a:lnTo>
                        <a:pt x="606" y="14"/>
                      </a:lnTo>
                      <a:lnTo>
                        <a:pt x="594" y="16"/>
                      </a:lnTo>
                      <a:lnTo>
                        <a:pt x="584" y="21"/>
                      </a:lnTo>
                      <a:lnTo>
                        <a:pt x="572" y="23"/>
                      </a:lnTo>
                      <a:lnTo>
                        <a:pt x="557" y="26"/>
                      </a:lnTo>
                      <a:lnTo>
                        <a:pt x="544" y="26"/>
                      </a:lnTo>
                      <a:lnTo>
                        <a:pt x="533" y="31"/>
                      </a:lnTo>
                      <a:lnTo>
                        <a:pt x="531" y="35"/>
                      </a:lnTo>
                      <a:lnTo>
                        <a:pt x="527" y="38"/>
                      </a:lnTo>
                      <a:lnTo>
                        <a:pt x="519" y="38"/>
                      </a:lnTo>
                      <a:lnTo>
                        <a:pt x="506" y="34"/>
                      </a:lnTo>
                      <a:lnTo>
                        <a:pt x="490" y="31"/>
                      </a:lnTo>
                      <a:lnTo>
                        <a:pt x="475" y="26"/>
                      </a:lnTo>
                      <a:lnTo>
                        <a:pt x="466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6" y="12"/>
                      </a:lnTo>
                      <a:lnTo>
                        <a:pt x="312" y="12"/>
                      </a:lnTo>
                      <a:lnTo>
                        <a:pt x="298" y="12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4"/>
                      </a:lnTo>
                      <a:lnTo>
                        <a:pt x="222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5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4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8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59"/>
                      </a:lnTo>
                      <a:lnTo>
                        <a:pt x="60" y="61"/>
                      </a:lnTo>
                      <a:lnTo>
                        <a:pt x="68" y="61"/>
                      </a:lnTo>
                      <a:lnTo>
                        <a:pt x="74" y="59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8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79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09" y="36"/>
                      </a:lnTo>
                      <a:lnTo>
                        <a:pt x="119" y="38"/>
                      </a:lnTo>
                      <a:lnTo>
                        <a:pt x="131" y="36"/>
                      </a:lnTo>
                      <a:lnTo>
                        <a:pt x="139" y="37"/>
                      </a:lnTo>
                      <a:lnTo>
                        <a:pt x="147" y="38"/>
                      </a:lnTo>
                      <a:lnTo>
                        <a:pt x="155" y="42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4" y="54"/>
                      </a:lnTo>
                      <a:lnTo>
                        <a:pt x="296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2"/>
                      </a:lnTo>
                      <a:lnTo>
                        <a:pt x="341" y="67"/>
                      </a:lnTo>
                      <a:lnTo>
                        <a:pt x="349" y="73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0"/>
                      </a:lnTo>
                      <a:lnTo>
                        <a:pt x="366" y="67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69"/>
                      </a:lnTo>
                      <a:lnTo>
                        <a:pt x="483" y="73"/>
                      </a:lnTo>
                      <a:lnTo>
                        <a:pt x="466" y="82"/>
                      </a:lnTo>
                      <a:lnTo>
                        <a:pt x="478" y="85"/>
                      </a:lnTo>
                      <a:lnTo>
                        <a:pt x="486" y="86"/>
                      </a:lnTo>
                      <a:lnTo>
                        <a:pt x="492" y="93"/>
                      </a:lnTo>
                      <a:lnTo>
                        <a:pt x="499" y="97"/>
                      </a:lnTo>
                      <a:lnTo>
                        <a:pt x="508" y="94"/>
                      </a:lnTo>
                      <a:lnTo>
                        <a:pt x="517" y="92"/>
                      </a:lnTo>
                      <a:lnTo>
                        <a:pt x="526" y="86"/>
                      </a:lnTo>
                      <a:lnTo>
                        <a:pt x="533" y="93"/>
                      </a:lnTo>
                      <a:lnTo>
                        <a:pt x="542" y="104"/>
                      </a:lnTo>
                      <a:lnTo>
                        <a:pt x="550" y="111"/>
                      </a:lnTo>
                      <a:lnTo>
                        <a:pt x="558" y="116"/>
                      </a:lnTo>
                      <a:lnTo>
                        <a:pt x="568" y="120"/>
                      </a:lnTo>
                      <a:lnTo>
                        <a:pt x="577" y="122"/>
                      </a:lnTo>
                      <a:lnTo>
                        <a:pt x="591" y="120"/>
                      </a:lnTo>
                      <a:lnTo>
                        <a:pt x="603" y="118"/>
                      </a:lnTo>
                      <a:lnTo>
                        <a:pt x="615" y="115"/>
                      </a:lnTo>
                      <a:lnTo>
                        <a:pt x="629" y="112"/>
                      </a:lnTo>
                      <a:lnTo>
                        <a:pt x="643" y="108"/>
                      </a:lnTo>
                      <a:lnTo>
                        <a:pt x="654" y="106"/>
                      </a:lnTo>
                      <a:lnTo>
                        <a:pt x="664" y="100"/>
                      </a:lnTo>
                      <a:lnTo>
                        <a:pt x="674" y="96"/>
                      </a:lnTo>
                      <a:lnTo>
                        <a:pt x="684" y="96"/>
                      </a:lnTo>
                      <a:lnTo>
                        <a:pt x="694" y="92"/>
                      </a:lnTo>
                      <a:lnTo>
                        <a:pt x="704" y="88"/>
                      </a:lnTo>
                      <a:lnTo>
                        <a:pt x="715" y="84"/>
                      </a:lnTo>
                      <a:lnTo>
                        <a:pt x="727" y="84"/>
                      </a:lnTo>
                      <a:lnTo>
                        <a:pt x="738" y="84"/>
                      </a:lnTo>
                      <a:lnTo>
                        <a:pt x="746" y="85"/>
                      </a:lnTo>
                      <a:lnTo>
                        <a:pt x="754" y="82"/>
                      </a:lnTo>
                      <a:lnTo>
                        <a:pt x="764" y="77"/>
                      </a:lnTo>
                      <a:lnTo>
                        <a:pt x="775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39" y="70"/>
                      </a:lnTo>
                      <a:lnTo>
                        <a:pt x="845" y="74"/>
                      </a:lnTo>
                      <a:lnTo>
                        <a:pt x="851" y="81"/>
                      </a:lnTo>
                      <a:lnTo>
                        <a:pt x="858" y="84"/>
                      </a:lnTo>
                      <a:lnTo>
                        <a:pt x="865" y="85"/>
                      </a:lnTo>
                      <a:lnTo>
                        <a:pt x="875" y="84"/>
                      </a:lnTo>
                      <a:lnTo>
                        <a:pt x="886" y="81"/>
                      </a:lnTo>
                      <a:lnTo>
                        <a:pt x="904" y="78"/>
                      </a:lnTo>
                      <a:lnTo>
                        <a:pt x="912" y="82"/>
                      </a:lnTo>
                      <a:lnTo>
                        <a:pt x="918" y="88"/>
                      </a:lnTo>
                      <a:lnTo>
                        <a:pt x="924" y="90"/>
                      </a:lnTo>
                      <a:lnTo>
                        <a:pt x="932" y="92"/>
                      </a:lnTo>
                      <a:lnTo>
                        <a:pt x="939" y="96"/>
                      </a:lnTo>
                      <a:lnTo>
                        <a:pt x="942" y="104"/>
                      </a:lnTo>
                      <a:lnTo>
                        <a:pt x="948" y="115"/>
                      </a:lnTo>
                      <a:lnTo>
                        <a:pt x="954" y="119"/>
                      </a:lnTo>
                      <a:lnTo>
                        <a:pt x="962" y="122"/>
                      </a:lnTo>
                      <a:lnTo>
                        <a:pt x="970" y="122"/>
                      </a:lnTo>
                      <a:lnTo>
                        <a:pt x="973" y="116"/>
                      </a:lnTo>
                      <a:lnTo>
                        <a:pt x="978" y="104"/>
                      </a:lnTo>
                      <a:lnTo>
                        <a:pt x="984" y="106"/>
                      </a:lnTo>
                      <a:lnTo>
                        <a:pt x="990" y="107"/>
                      </a:lnTo>
                      <a:lnTo>
                        <a:pt x="998" y="106"/>
                      </a:lnTo>
                      <a:lnTo>
                        <a:pt x="1005" y="101"/>
                      </a:lnTo>
                      <a:lnTo>
                        <a:pt x="1014" y="97"/>
                      </a:lnTo>
                      <a:lnTo>
                        <a:pt x="1025" y="97"/>
                      </a:lnTo>
                      <a:lnTo>
                        <a:pt x="1017" y="108"/>
                      </a:lnTo>
                      <a:lnTo>
                        <a:pt x="1013" y="116"/>
                      </a:lnTo>
                      <a:lnTo>
                        <a:pt x="1021" y="114"/>
                      </a:lnTo>
                      <a:lnTo>
                        <a:pt x="1035" y="108"/>
                      </a:lnTo>
                      <a:lnTo>
                        <a:pt x="1048" y="110"/>
                      </a:lnTo>
                      <a:lnTo>
                        <a:pt x="1049" y="116"/>
                      </a:lnTo>
                      <a:lnTo>
                        <a:pt x="1051" y="123"/>
                      </a:lnTo>
                      <a:lnTo>
                        <a:pt x="1054" y="128"/>
                      </a:lnTo>
                      <a:lnTo>
                        <a:pt x="1060" y="131"/>
                      </a:lnTo>
                      <a:lnTo>
                        <a:pt x="1068" y="131"/>
                      </a:lnTo>
                      <a:lnTo>
                        <a:pt x="1078" y="130"/>
                      </a:lnTo>
                      <a:lnTo>
                        <a:pt x="1087" y="128"/>
                      </a:lnTo>
                      <a:lnTo>
                        <a:pt x="1096" y="131"/>
                      </a:lnTo>
                      <a:lnTo>
                        <a:pt x="1107" y="138"/>
                      </a:lnTo>
                      <a:lnTo>
                        <a:pt x="1113" y="146"/>
                      </a:lnTo>
                      <a:lnTo>
                        <a:pt x="1106" y="161"/>
                      </a:lnTo>
                      <a:lnTo>
                        <a:pt x="1098" y="167"/>
                      </a:lnTo>
                      <a:lnTo>
                        <a:pt x="1090" y="174"/>
                      </a:lnTo>
                      <a:lnTo>
                        <a:pt x="1084" y="177"/>
                      </a:lnTo>
                      <a:lnTo>
                        <a:pt x="1079" y="185"/>
                      </a:lnTo>
                      <a:lnTo>
                        <a:pt x="1077" y="193"/>
                      </a:lnTo>
                      <a:lnTo>
                        <a:pt x="1075" y="200"/>
                      </a:lnTo>
                      <a:lnTo>
                        <a:pt x="1073" y="209"/>
                      </a:lnTo>
                      <a:lnTo>
                        <a:pt x="1088" y="235"/>
                      </a:lnTo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24760" y="4035960"/>
                  <a:ext cx="1756800" cy="295560"/>
                </a:xfrm>
                <a:custGeom>
                  <a:avLst/>
                  <a:gdLst/>
                  <a:ahLst/>
                  <a:rect l="l" t="t" r="r" b="b"/>
                  <a:pathLst>
                    <a:path w="1340" h="236">
                      <a:moveTo>
                        <a:pt x="1089" y="235"/>
                      </a:moveTo>
                      <a:lnTo>
                        <a:pt x="1099" y="230"/>
                      </a:lnTo>
                      <a:lnTo>
                        <a:pt x="1107" y="226"/>
                      </a:lnTo>
                      <a:lnTo>
                        <a:pt x="1114" y="220"/>
                      </a:lnTo>
                      <a:lnTo>
                        <a:pt x="1119" y="214"/>
                      </a:lnTo>
                      <a:lnTo>
                        <a:pt x="1121" y="204"/>
                      </a:lnTo>
                      <a:lnTo>
                        <a:pt x="1132" y="203"/>
                      </a:lnTo>
                      <a:lnTo>
                        <a:pt x="1139" y="200"/>
                      </a:lnTo>
                      <a:lnTo>
                        <a:pt x="1145" y="196"/>
                      </a:lnTo>
                      <a:lnTo>
                        <a:pt x="1153" y="190"/>
                      </a:lnTo>
                      <a:lnTo>
                        <a:pt x="1162" y="190"/>
                      </a:lnTo>
                      <a:lnTo>
                        <a:pt x="1174" y="180"/>
                      </a:lnTo>
                      <a:lnTo>
                        <a:pt x="1187" y="189"/>
                      </a:lnTo>
                      <a:lnTo>
                        <a:pt x="1179" y="169"/>
                      </a:lnTo>
                      <a:lnTo>
                        <a:pt x="1192" y="169"/>
                      </a:lnTo>
                      <a:lnTo>
                        <a:pt x="1208" y="168"/>
                      </a:lnTo>
                      <a:lnTo>
                        <a:pt x="1220" y="174"/>
                      </a:lnTo>
                      <a:lnTo>
                        <a:pt x="1234" y="161"/>
                      </a:lnTo>
                      <a:lnTo>
                        <a:pt x="1246" y="169"/>
                      </a:lnTo>
                      <a:lnTo>
                        <a:pt x="1250" y="168"/>
                      </a:lnTo>
                      <a:lnTo>
                        <a:pt x="1253" y="163"/>
                      </a:lnTo>
                      <a:lnTo>
                        <a:pt x="1257" y="157"/>
                      </a:lnTo>
                      <a:lnTo>
                        <a:pt x="1260" y="150"/>
                      </a:lnTo>
                      <a:lnTo>
                        <a:pt x="1265" y="144"/>
                      </a:lnTo>
                      <a:lnTo>
                        <a:pt x="1269" y="140"/>
                      </a:lnTo>
                      <a:lnTo>
                        <a:pt x="1277" y="140"/>
                      </a:lnTo>
                      <a:lnTo>
                        <a:pt x="1286" y="140"/>
                      </a:lnTo>
                      <a:lnTo>
                        <a:pt x="1290" y="134"/>
                      </a:lnTo>
                      <a:lnTo>
                        <a:pt x="1296" y="128"/>
                      </a:lnTo>
                      <a:lnTo>
                        <a:pt x="1302" y="128"/>
                      </a:lnTo>
                      <a:lnTo>
                        <a:pt x="1310" y="127"/>
                      </a:lnTo>
                      <a:lnTo>
                        <a:pt x="1321" y="127"/>
                      </a:lnTo>
                      <a:lnTo>
                        <a:pt x="1331" y="120"/>
                      </a:lnTo>
                      <a:lnTo>
                        <a:pt x="1339" y="104"/>
                      </a:lnTo>
                      <a:lnTo>
                        <a:pt x="1332" y="105"/>
                      </a:lnTo>
                      <a:lnTo>
                        <a:pt x="1321" y="110"/>
                      </a:lnTo>
                      <a:lnTo>
                        <a:pt x="1310" y="111"/>
                      </a:lnTo>
                      <a:lnTo>
                        <a:pt x="1301" y="110"/>
                      </a:lnTo>
                      <a:lnTo>
                        <a:pt x="1294" y="104"/>
                      </a:lnTo>
                      <a:lnTo>
                        <a:pt x="1285" y="101"/>
                      </a:lnTo>
                      <a:lnTo>
                        <a:pt x="1277" y="105"/>
                      </a:lnTo>
                      <a:lnTo>
                        <a:pt x="1268" y="110"/>
                      </a:lnTo>
                      <a:lnTo>
                        <a:pt x="1259" y="114"/>
                      </a:lnTo>
                      <a:lnTo>
                        <a:pt x="1252" y="114"/>
                      </a:lnTo>
                      <a:lnTo>
                        <a:pt x="1246" y="105"/>
                      </a:lnTo>
                      <a:lnTo>
                        <a:pt x="1241" y="97"/>
                      </a:lnTo>
                      <a:lnTo>
                        <a:pt x="1232" y="97"/>
                      </a:lnTo>
                      <a:lnTo>
                        <a:pt x="1224" y="100"/>
                      </a:lnTo>
                      <a:lnTo>
                        <a:pt x="1214" y="105"/>
                      </a:lnTo>
                      <a:lnTo>
                        <a:pt x="1206" y="108"/>
                      </a:lnTo>
                      <a:lnTo>
                        <a:pt x="1197" y="101"/>
                      </a:lnTo>
                      <a:lnTo>
                        <a:pt x="1189" y="93"/>
                      </a:lnTo>
                      <a:lnTo>
                        <a:pt x="1181" y="89"/>
                      </a:lnTo>
                      <a:lnTo>
                        <a:pt x="1172" y="86"/>
                      </a:lnTo>
                      <a:lnTo>
                        <a:pt x="1161" y="84"/>
                      </a:lnTo>
                      <a:lnTo>
                        <a:pt x="1150" y="82"/>
                      </a:lnTo>
                      <a:lnTo>
                        <a:pt x="1139" y="84"/>
                      </a:lnTo>
                      <a:lnTo>
                        <a:pt x="1127" y="88"/>
                      </a:lnTo>
                      <a:lnTo>
                        <a:pt x="1132" y="103"/>
                      </a:lnTo>
                      <a:lnTo>
                        <a:pt x="1131" y="111"/>
                      </a:lnTo>
                      <a:lnTo>
                        <a:pt x="1125" y="116"/>
                      </a:lnTo>
                      <a:lnTo>
                        <a:pt x="1124" y="106"/>
                      </a:lnTo>
                      <a:lnTo>
                        <a:pt x="1117" y="97"/>
                      </a:lnTo>
                      <a:lnTo>
                        <a:pt x="1110" y="93"/>
                      </a:lnTo>
                      <a:lnTo>
                        <a:pt x="1102" y="89"/>
                      </a:lnTo>
                      <a:lnTo>
                        <a:pt x="1093" y="84"/>
                      </a:lnTo>
                      <a:lnTo>
                        <a:pt x="1084" y="82"/>
                      </a:lnTo>
                      <a:lnTo>
                        <a:pt x="1071" y="79"/>
                      </a:lnTo>
                      <a:lnTo>
                        <a:pt x="1063" y="81"/>
                      </a:lnTo>
                      <a:lnTo>
                        <a:pt x="1052" y="79"/>
                      </a:lnTo>
                      <a:lnTo>
                        <a:pt x="1035" y="73"/>
                      </a:lnTo>
                      <a:lnTo>
                        <a:pt x="1041" y="66"/>
                      </a:lnTo>
                      <a:lnTo>
                        <a:pt x="1049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6" y="42"/>
                      </a:lnTo>
                      <a:lnTo>
                        <a:pt x="1034" y="38"/>
                      </a:lnTo>
                      <a:lnTo>
                        <a:pt x="1022" y="36"/>
                      </a:lnTo>
                      <a:lnTo>
                        <a:pt x="1015" y="37"/>
                      </a:lnTo>
                      <a:lnTo>
                        <a:pt x="1009" y="44"/>
                      </a:lnTo>
                      <a:lnTo>
                        <a:pt x="1001" y="48"/>
                      </a:lnTo>
                      <a:lnTo>
                        <a:pt x="991" y="49"/>
                      </a:lnTo>
                      <a:lnTo>
                        <a:pt x="977" y="50"/>
                      </a:lnTo>
                      <a:lnTo>
                        <a:pt x="967" y="59"/>
                      </a:lnTo>
                      <a:lnTo>
                        <a:pt x="954" y="65"/>
                      </a:lnTo>
                      <a:lnTo>
                        <a:pt x="943" y="70"/>
                      </a:lnTo>
                      <a:lnTo>
                        <a:pt x="935" y="69"/>
                      </a:lnTo>
                      <a:lnTo>
                        <a:pt x="908" y="67"/>
                      </a:lnTo>
                      <a:lnTo>
                        <a:pt x="887" y="63"/>
                      </a:lnTo>
                      <a:lnTo>
                        <a:pt x="873" y="63"/>
                      </a:lnTo>
                      <a:lnTo>
                        <a:pt x="862" y="61"/>
                      </a:lnTo>
                      <a:lnTo>
                        <a:pt x="843" y="46"/>
                      </a:lnTo>
                      <a:lnTo>
                        <a:pt x="834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1" y="63"/>
                      </a:lnTo>
                      <a:lnTo>
                        <a:pt x="749" y="65"/>
                      </a:lnTo>
                      <a:lnTo>
                        <a:pt x="735" y="67"/>
                      </a:lnTo>
                      <a:lnTo>
                        <a:pt x="724" y="69"/>
                      </a:lnTo>
                      <a:lnTo>
                        <a:pt x="713" y="71"/>
                      </a:lnTo>
                      <a:lnTo>
                        <a:pt x="700" y="75"/>
                      </a:lnTo>
                      <a:lnTo>
                        <a:pt x="691" y="79"/>
                      </a:lnTo>
                      <a:lnTo>
                        <a:pt x="678" y="85"/>
                      </a:lnTo>
                      <a:lnTo>
                        <a:pt x="670" y="78"/>
                      </a:lnTo>
                      <a:lnTo>
                        <a:pt x="666" y="69"/>
                      </a:lnTo>
                      <a:lnTo>
                        <a:pt x="671" y="59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5" y="46"/>
                      </a:lnTo>
                      <a:lnTo>
                        <a:pt x="684" y="38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4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0"/>
                      </a:lnTo>
                      <a:lnTo>
                        <a:pt x="656" y="42"/>
                      </a:lnTo>
                      <a:lnTo>
                        <a:pt x="649" y="44"/>
                      </a:lnTo>
                      <a:lnTo>
                        <a:pt x="641" y="44"/>
                      </a:lnTo>
                      <a:lnTo>
                        <a:pt x="630" y="42"/>
                      </a:lnTo>
                      <a:lnTo>
                        <a:pt x="621" y="38"/>
                      </a:lnTo>
                      <a:lnTo>
                        <a:pt x="613" y="37"/>
                      </a:lnTo>
                      <a:lnTo>
                        <a:pt x="601" y="38"/>
                      </a:lnTo>
                      <a:lnTo>
                        <a:pt x="610" y="25"/>
                      </a:lnTo>
                      <a:lnTo>
                        <a:pt x="619" y="15"/>
                      </a:lnTo>
                      <a:lnTo>
                        <a:pt x="629" y="9"/>
                      </a:lnTo>
                      <a:lnTo>
                        <a:pt x="618" y="12"/>
                      </a:lnTo>
                      <a:lnTo>
                        <a:pt x="606" y="14"/>
                      </a:lnTo>
                      <a:lnTo>
                        <a:pt x="594" y="16"/>
                      </a:lnTo>
                      <a:lnTo>
                        <a:pt x="585" y="21"/>
                      </a:lnTo>
                      <a:lnTo>
                        <a:pt x="572" y="23"/>
                      </a:lnTo>
                      <a:lnTo>
                        <a:pt x="558" y="26"/>
                      </a:lnTo>
                      <a:lnTo>
                        <a:pt x="544" y="26"/>
                      </a:lnTo>
                      <a:lnTo>
                        <a:pt x="534" y="31"/>
                      </a:lnTo>
                      <a:lnTo>
                        <a:pt x="531" y="35"/>
                      </a:lnTo>
                      <a:lnTo>
                        <a:pt x="528" y="38"/>
                      </a:lnTo>
                      <a:lnTo>
                        <a:pt x="520" y="38"/>
                      </a:lnTo>
                      <a:lnTo>
                        <a:pt x="507" y="34"/>
                      </a:lnTo>
                      <a:lnTo>
                        <a:pt x="491" y="31"/>
                      </a:lnTo>
                      <a:lnTo>
                        <a:pt x="475" y="26"/>
                      </a:lnTo>
                      <a:lnTo>
                        <a:pt x="467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7" y="12"/>
                      </a:lnTo>
                      <a:lnTo>
                        <a:pt x="313" y="12"/>
                      </a:lnTo>
                      <a:lnTo>
                        <a:pt x="299" y="12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4"/>
                      </a:lnTo>
                      <a:lnTo>
                        <a:pt x="223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6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4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8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59"/>
                      </a:lnTo>
                      <a:lnTo>
                        <a:pt x="60" y="61"/>
                      </a:lnTo>
                      <a:lnTo>
                        <a:pt x="68" y="61"/>
                      </a:lnTo>
                      <a:lnTo>
                        <a:pt x="74" y="59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8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80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10" y="36"/>
                      </a:lnTo>
                      <a:lnTo>
                        <a:pt x="119" y="38"/>
                      </a:lnTo>
                      <a:lnTo>
                        <a:pt x="131" y="36"/>
                      </a:lnTo>
                      <a:lnTo>
                        <a:pt x="140" y="37"/>
                      </a:lnTo>
                      <a:lnTo>
                        <a:pt x="147" y="38"/>
                      </a:lnTo>
                      <a:lnTo>
                        <a:pt x="156" y="42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5" y="54"/>
                      </a:lnTo>
                      <a:lnTo>
                        <a:pt x="297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2"/>
                      </a:lnTo>
                      <a:lnTo>
                        <a:pt x="341" y="67"/>
                      </a:lnTo>
                      <a:lnTo>
                        <a:pt x="349" y="73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0"/>
                      </a:lnTo>
                      <a:lnTo>
                        <a:pt x="366" y="67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69"/>
                      </a:lnTo>
                      <a:lnTo>
                        <a:pt x="484" y="73"/>
                      </a:lnTo>
                      <a:lnTo>
                        <a:pt x="467" y="82"/>
                      </a:lnTo>
                      <a:lnTo>
                        <a:pt x="479" y="85"/>
                      </a:lnTo>
                      <a:lnTo>
                        <a:pt x="486" y="86"/>
                      </a:lnTo>
                      <a:lnTo>
                        <a:pt x="492" y="93"/>
                      </a:lnTo>
                      <a:lnTo>
                        <a:pt x="500" y="97"/>
                      </a:lnTo>
                      <a:lnTo>
                        <a:pt x="509" y="94"/>
                      </a:lnTo>
                      <a:lnTo>
                        <a:pt x="518" y="92"/>
                      </a:lnTo>
                      <a:lnTo>
                        <a:pt x="526" y="86"/>
                      </a:lnTo>
                      <a:lnTo>
                        <a:pt x="534" y="93"/>
                      </a:lnTo>
                      <a:lnTo>
                        <a:pt x="542" y="104"/>
                      </a:lnTo>
                      <a:lnTo>
                        <a:pt x="551" y="111"/>
                      </a:lnTo>
                      <a:lnTo>
                        <a:pt x="559" y="116"/>
                      </a:lnTo>
                      <a:lnTo>
                        <a:pt x="568" y="120"/>
                      </a:lnTo>
                      <a:lnTo>
                        <a:pt x="577" y="122"/>
                      </a:lnTo>
                      <a:lnTo>
                        <a:pt x="592" y="120"/>
                      </a:lnTo>
                      <a:lnTo>
                        <a:pt x="604" y="118"/>
                      </a:lnTo>
                      <a:lnTo>
                        <a:pt x="615" y="115"/>
                      </a:lnTo>
                      <a:lnTo>
                        <a:pt x="629" y="112"/>
                      </a:lnTo>
                      <a:lnTo>
                        <a:pt x="643" y="108"/>
                      </a:lnTo>
                      <a:lnTo>
                        <a:pt x="654" y="106"/>
                      </a:lnTo>
                      <a:lnTo>
                        <a:pt x="664" y="100"/>
                      </a:lnTo>
                      <a:lnTo>
                        <a:pt x="675" y="96"/>
                      </a:lnTo>
                      <a:lnTo>
                        <a:pt x="685" y="96"/>
                      </a:lnTo>
                      <a:lnTo>
                        <a:pt x="694" y="92"/>
                      </a:lnTo>
                      <a:lnTo>
                        <a:pt x="705" y="88"/>
                      </a:lnTo>
                      <a:lnTo>
                        <a:pt x="716" y="84"/>
                      </a:lnTo>
                      <a:lnTo>
                        <a:pt x="727" y="84"/>
                      </a:lnTo>
                      <a:lnTo>
                        <a:pt x="738" y="84"/>
                      </a:lnTo>
                      <a:lnTo>
                        <a:pt x="747" y="85"/>
                      </a:lnTo>
                      <a:lnTo>
                        <a:pt x="754" y="82"/>
                      </a:lnTo>
                      <a:lnTo>
                        <a:pt x="765" y="77"/>
                      </a:lnTo>
                      <a:lnTo>
                        <a:pt x="776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40" y="70"/>
                      </a:lnTo>
                      <a:lnTo>
                        <a:pt x="846" y="74"/>
                      </a:lnTo>
                      <a:lnTo>
                        <a:pt x="851" y="81"/>
                      </a:lnTo>
                      <a:lnTo>
                        <a:pt x="859" y="84"/>
                      </a:lnTo>
                      <a:lnTo>
                        <a:pt x="866" y="85"/>
                      </a:lnTo>
                      <a:lnTo>
                        <a:pt x="876" y="84"/>
                      </a:lnTo>
                      <a:lnTo>
                        <a:pt x="887" y="81"/>
                      </a:lnTo>
                      <a:lnTo>
                        <a:pt x="905" y="78"/>
                      </a:lnTo>
                      <a:lnTo>
                        <a:pt x="913" y="82"/>
                      </a:lnTo>
                      <a:lnTo>
                        <a:pt x="918" y="88"/>
                      </a:lnTo>
                      <a:lnTo>
                        <a:pt x="925" y="90"/>
                      </a:lnTo>
                      <a:lnTo>
                        <a:pt x="933" y="92"/>
                      </a:lnTo>
                      <a:lnTo>
                        <a:pt x="940" y="96"/>
                      </a:lnTo>
                      <a:lnTo>
                        <a:pt x="943" y="104"/>
                      </a:lnTo>
                      <a:lnTo>
                        <a:pt x="948" y="115"/>
                      </a:lnTo>
                      <a:lnTo>
                        <a:pt x="955" y="119"/>
                      </a:lnTo>
                      <a:lnTo>
                        <a:pt x="963" y="122"/>
                      </a:lnTo>
                      <a:lnTo>
                        <a:pt x="971" y="122"/>
                      </a:lnTo>
                      <a:lnTo>
                        <a:pt x="974" y="116"/>
                      </a:lnTo>
                      <a:lnTo>
                        <a:pt x="979" y="104"/>
                      </a:lnTo>
                      <a:lnTo>
                        <a:pt x="985" y="106"/>
                      </a:lnTo>
                      <a:lnTo>
                        <a:pt x="991" y="107"/>
                      </a:lnTo>
                      <a:lnTo>
                        <a:pt x="998" y="106"/>
                      </a:lnTo>
                      <a:lnTo>
                        <a:pt x="1005" y="101"/>
                      </a:lnTo>
                      <a:lnTo>
                        <a:pt x="1015" y="97"/>
                      </a:lnTo>
                      <a:lnTo>
                        <a:pt x="1026" y="97"/>
                      </a:lnTo>
                      <a:lnTo>
                        <a:pt x="1017" y="108"/>
                      </a:lnTo>
                      <a:lnTo>
                        <a:pt x="1014" y="116"/>
                      </a:lnTo>
                      <a:lnTo>
                        <a:pt x="1022" y="114"/>
                      </a:lnTo>
                      <a:lnTo>
                        <a:pt x="1036" y="108"/>
                      </a:lnTo>
                      <a:lnTo>
                        <a:pt x="1049" y="110"/>
                      </a:lnTo>
                      <a:lnTo>
                        <a:pt x="1049" y="116"/>
                      </a:lnTo>
                      <a:lnTo>
                        <a:pt x="1052" y="123"/>
                      </a:lnTo>
                      <a:lnTo>
                        <a:pt x="1054" y="128"/>
                      </a:lnTo>
                      <a:lnTo>
                        <a:pt x="1061" y="131"/>
                      </a:lnTo>
                      <a:lnTo>
                        <a:pt x="1069" y="131"/>
                      </a:lnTo>
                      <a:lnTo>
                        <a:pt x="1079" y="130"/>
                      </a:lnTo>
                      <a:lnTo>
                        <a:pt x="1088" y="128"/>
                      </a:lnTo>
                      <a:lnTo>
                        <a:pt x="1097" y="131"/>
                      </a:lnTo>
                      <a:lnTo>
                        <a:pt x="1107" y="138"/>
                      </a:lnTo>
                      <a:lnTo>
                        <a:pt x="1114" y="146"/>
                      </a:lnTo>
                      <a:lnTo>
                        <a:pt x="1107" y="161"/>
                      </a:lnTo>
                      <a:lnTo>
                        <a:pt x="1099" y="167"/>
                      </a:lnTo>
                      <a:lnTo>
                        <a:pt x="1091" y="174"/>
                      </a:lnTo>
                      <a:lnTo>
                        <a:pt x="1085" y="177"/>
                      </a:lnTo>
                      <a:lnTo>
                        <a:pt x="1080" y="185"/>
                      </a:lnTo>
                      <a:lnTo>
                        <a:pt x="1077" y="193"/>
                      </a:lnTo>
                      <a:lnTo>
                        <a:pt x="1076" y="200"/>
                      </a:lnTo>
                      <a:lnTo>
                        <a:pt x="1074" y="209"/>
                      </a:lnTo>
                      <a:lnTo>
                        <a:pt x="1089" y="2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724080" y="4221360"/>
                  <a:ext cx="644760" cy="86400"/>
                </a:xfrm>
                <a:custGeom>
                  <a:avLst/>
                  <a:gdLst/>
                  <a:ahLst/>
                  <a:rect l="l" t="t" r="r" b="b"/>
                  <a:pathLst>
                    <a:path w="492" h="69">
                      <a:moveTo>
                        <a:pt x="491" y="34"/>
                      </a:moveTo>
                      <a:lnTo>
                        <a:pt x="457" y="42"/>
                      </a:lnTo>
                      <a:lnTo>
                        <a:pt x="448" y="50"/>
                      </a:lnTo>
                      <a:lnTo>
                        <a:pt x="435" y="53"/>
                      </a:lnTo>
                      <a:lnTo>
                        <a:pt x="424" y="55"/>
                      </a:lnTo>
                      <a:lnTo>
                        <a:pt x="411" y="57"/>
                      </a:lnTo>
                      <a:lnTo>
                        <a:pt x="399" y="57"/>
                      </a:lnTo>
                      <a:lnTo>
                        <a:pt x="382" y="57"/>
                      </a:lnTo>
                      <a:lnTo>
                        <a:pt x="368" y="61"/>
                      </a:lnTo>
                      <a:lnTo>
                        <a:pt x="356" y="62"/>
                      </a:lnTo>
                      <a:lnTo>
                        <a:pt x="336" y="61"/>
                      </a:lnTo>
                      <a:lnTo>
                        <a:pt x="323" y="65"/>
                      </a:lnTo>
                      <a:lnTo>
                        <a:pt x="310" y="68"/>
                      </a:lnTo>
                      <a:lnTo>
                        <a:pt x="299" y="68"/>
                      </a:lnTo>
                      <a:lnTo>
                        <a:pt x="286" y="64"/>
                      </a:lnTo>
                      <a:lnTo>
                        <a:pt x="274" y="57"/>
                      </a:lnTo>
                      <a:lnTo>
                        <a:pt x="258" y="53"/>
                      </a:lnTo>
                      <a:lnTo>
                        <a:pt x="235" y="50"/>
                      </a:lnTo>
                      <a:lnTo>
                        <a:pt x="223" y="54"/>
                      </a:lnTo>
                      <a:lnTo>
                        <a:pt x="208" y="53"/>
                      </a:lnTo>
                      <a:lnTo>
                        <a:pt x="198" y="50"/>
                      </a:lnTo>
                      <a:lnTo>
                        <a:pt x="182" y="42"/>
                      </a:lnTo>
                      <a:lnTo>
                        <a:pt x="169" y="31"/>
                      </a:lnTo>
                      <a:lnTo>
                        <a:pt x="149" y="25"/>
                      </a:lnTo>
                      <a:lnTo>
                        <a:pt x="119" y="27"/>
                      </a:lnTo>
                      <a:lnTo>
                        <a:pt x="104" y="20"/>
                      </a:lnTo>
                      <a:lnTo>
                        <a:pt x="91" y="17"/>
                      </a:lnTo>
                      <a:lnTo>
                        <a:pt x="73" y="15"/>
                      </a:lnTo>
                      <a:lnTo>
                        <a:pt x="0" y="4"/>
                      </a:lnTo>
                      <a:lnTo>
                        <a:pt x="80" y="8"/>
                      </a:lnTo>
                      <a:lnTo>
                        <a:pt x="95" y="4"/>
                      </a:lnTo>
                      <a:lnTo>
                        <a:pt x="107" y="0"/>
                      </a:lnTo>
                      <a:lnTo>
                        <a:pt x="117" y="1"/>
                      </a:lnTo>
                      <a:lnTo>
                        <a:pt x="129" y="4"/>
                      </a:lnTo>
                      <a:lnTo>
                        <a:pt x="143" y="10"/>
                      </a:lnTo>
                      <a:lnTo>
                        <a:pt x="165" y="11"/>
                      </a:lnTo>
                      <a:lnTo>
                        <a:pt x="185" y="18"/>
                      </a:lnTo>
                      <a:lnTo>
                        <a:pt x="198" y="17"/>
                      </a:lnTo>
                      <a:lnTo>
                        <a:pt x="213" y="15"/>
                      </a:lnTo>
                      <a:lnTo>
                        <a:pt x="246" y="20"/>
                      </a:lnTo>
                      <a:lnTo>
                        <a:pt x="261" y="23"/>
                      </a:lnTo>
                      <a:lnTo>
                        <a:pt x="283" y="31"/>
                      </a:lnTo>
                      <a:lnTo>
                        <a:pt x="304" y="31"/>
                      </a:lnTo>
                      <a:lnTo>
                        <a:pt x="329" y="31"/>
                      </a:lnTo>
                      <a:lnTo>
                        <a:pt x="348" y="30"/>
                      </a:lnTo>
                      <a:lnTo>
                        <a:pt x="365" y="32"/>
                      </a:lnTo>
                      <a:lnTo>
                        <a:pt x="382" y="38"/>
                      </a:lnTo>
                      <a:lnTo>
                        <a:pt x="399" y="34"/>
                      </a:lnTo>
                      <a:lnTo>
                        <a:pt x="413" y="41"/>
                      </a:lnTo>
                      <a:lnTo>
                        <a:pt x="426" y="38"/>
                      </a:lnTo>
                      <a:lnTo>
                        <a:pt x="444" y="37"/>
                      </a:lnTo>
                      <a:lnTo>
                        <a:pt x="463" y="36"/>
                      </a:lnTo>
                      <a:lnTo>
                        <a:pt x="491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124600" y="4035960"/>
                  <a:ext cx="2705760" cy="295560"/>
                </a:xfrm>
                <a:custGeom>
                  <a:avLst/>
                  <a:gdLst/>
                  <a:ahLst/>
                  <a:rect l="l" t="t" r="r" b="b"/>
                  <a:pathLst>
                    <a:path w="2064" h="236">
                      <a:moveTo>
                        <a:pt x="1677" y="235"/>
                      </a:moveTo>
                      <a:lnTo>
                        <a:pt x="1693" y="230"/>
                      </a:lnTo>
                      <a:lnTo>
                        <a:pt x="1706" y="226"/>
                      </a:lnTo>
                      <a:lnTo>
                        <a:pt x="1717" y="220"/>
                      </a:lnTo>
                      <a:lnTo>
                        <a:pt x="1723" y="214"/>
                      </a:lnTo>
                      <a:lnTo>
                        <a:pt x="1728" y="204"/>
                      </a:lnTo>
                      <a:lnTo>
                        <a:pt x="1745" y="203"/>
                      </a:lnTo>
                      <a:lnTo>
                        <a:pt x="1756" y="200"/>
                      </a:lnTo>
                      <a:lnTo>
                        <a:pt x="1764" y="196"/>
                      </a:lnTo>
                      <a:lnTo>
                        <a:pt x="1777" y="190"/>
                      </a:lnTo>
                      <a:lnTo>
                        <a:pt x="1791" y="190"/>
                      </a:lnTo>
                      <a:lnTo>
                        <a:pt x="1808" y="180"/>
                      </a:lnTo>
                      <a:lnTo>
                        <a:pt x="1829" y="189"/>
                      </a:lnTo>
                      <a:lnTo>
                        <a:pt x="1817" y="169"/>
                      </a:lnTo>
                      <a:lnTo>
                        <a:pt x="1836" y="169"/>
                      </a:lnTo>
                      <a:lnTo>
                        <a:pt x="1861" y="168"/>
                      </a:lnTo>
                      <a:lnTo>
                        <a:pt x="1879" y="174"/>
                      </a:lnTo>
                      <a:lnTo>
                        <a:pt x="1901" y="161"/>
                      </a:lnTo>
                      <a:lnTo>
                        <a:pt x="1920" y="169"/>
                      </a:lnTo>
                      <a:lnTo>
                        <a:pt x="1925" y="168"/>
                      </a:lnTo>
                      <a:lnTo>
                        <a:pt x="1931" y="163"/>
                      </a:lnTo>
                      <a:lnTo>
                        <a:pt x="1937" y="157"/>
                      </a:lnTo>
                      <a:lnTo>
                        <a:pt x="1942" y="150"/>
                      </a:lnTo>
                      <a:lnTo>
                        <a:pt x="1949" y="144"/>
                      </a:lnTo>
                      <a:lnTo>
                        <a:pt x="1954" y="140"/>
                      </a:lnTo>
                      <a:lnTo>
                        <a:pt x="1967" y="140"/>
                      </a:lnTo>
                      <a:lnTo>
                        <a:pt x="1981" y="140"/>
                      </a:lnTo>
                      <a:lnTo>
                        <a:pt x="1988" y="134"/>
                      </a:lnTo>
                      <a:lnTo>
                        <a:pt x="1997" y="128"/>
                      </a:lnTo>
                      <a:lnTo>
                        <a:pt x="2006" y="128"/>
                      </a:lnTo>
                      <a:lnTo>
                        <a:pt x="2019" y="127"/>
                      </a:lnTo>
                      <a:lnTo>
                        <a:pt x="2035" y="127"/>
                      </a:lnTo>
                      <a:lnTo>
                        <a:pt x="2050" y="120"/>
                      </a:lnTo>
                      <a:lnTo>
                        <a:pt x="2063" y="104"/>
                      </a:lnTo>
                      <a:lnTo>
                        <a:pt x="2052" y="105"/>
                      </a:lnTo>
                      <a:lnTo>
                        <a:pt x="2035" y="110"/>
                      </a:lnTo>
                      <a:lnTo>
                        <a:pt x="2018" y="111"/>
                      </a:lnTo>
                      <a:lnTo>
                        <a:pt x="2005" y="110"/>
                      </a:lnTo>
                      <a:lnTo>
                        <a:pt x="1993" y="104"/>
                      </a:lnTo>
                      <a:lnTo>
                        <a:pt x="1980" y="101"/>
                      </a:lnTo>
                      <a:lnTo>
                        <a:pt x="1967" y="105"/>
                      </a:lnTo>
                      <a:lnTo>
                        <a:pt x="1953" y="110"/>
                      </a:lnTo>
                      <a:lnTo>
                        <a:pt x="1940" y="114"/>
                      </a:lnTo>
                      <a:lnTo>
                        <a:pt x="1929" y="114"/>
                      </a:lnTo>
                      <a:lnTo>
                        <a:pt x="1920" y="105"/>
                      </a:lnTo>
                      <a:lnTo>
                        <a:pt x="1912" y="97"/>
                      </a:lnTo>
                      <a:lnTo>
                        <a:pt x="1899" y="97"/>
                      </a:lnTo>
                      <a:lnTo>
                        <a:pt x="1886" y="100"/>
                      </a:lnTo>
                      <a:lnTo>
                        <a:pt x="1871" y="105"/>
                      </a:lnTo>
                      <a:lnTo>
                        <a:pt x="1858" y="108"/>
                      </a:lnTo>
                      <a:lnTo>
                        <a:pt x="1845" y="101"/>
                      </a:lnTo>
                      <a:lnTo>
                        <a:pt x="1832" y="93"/>
                      </a:lnTo>
                      <a:lnTo>
                        <a:pt x="1819" y="89"/>
                      </a:lnTo>
                      <a:lnTo>
                        <a:pt x="1806" y="86"/>
                      </a:lnTo>
                      <a:lnTo>
                        <a:pt x="1789" y="84"/>
                      </a:lnTo>
                      <a:lnTo>
                        <a:pt x="1772" y="82"/>
                      </a:lnTo>
                      <a:lnTo>
                        <a:pt x="1756" y="84"/>
                      </a:lnTo>
                      <a:lnTo>
                        <a:pt x="1736" y="88"/>
                      </a:lnTo>
                      <a:lnTo>
                        <a:pt x="1745" y="103"/>
                      </a:lnTo>
                      <a:lnTo>
                        <a:pt x="1743" y="111"/>
                      </a:lnTo>
                      <a:lnTo>
                        <a:pt x="1734" y="116"/>
                      </a:lnTo>
                      <a:lnTo>
                        <a:pt x="1732" y="106"/>
                      </a:lnTo>
                      <a:lnTo>
                        <a:pt x="1721" y="97"/>
                      </a:lnTo>
                      <a:lnTo>
                        <a:pt x="1710" y="93"/>
                      </a:lnTo>
                      <a:lnTo>
                        <a:pt x="1699" y="89"/>
                      </a:lnTo>
                      <a:lnTo>
                        <a:pt x="1685" y="84"/>
                      </a:lnTo>
                      <a:lnTo>
                        <a:pt x="1671" y="82"/>
                      </a:lnTo>
                      <a:lnTo>
                        <a:pt x="1650" y="79"/>
                      </a:lnTo>
                      <a:lnTo>
                        <a:pt x="1637" y="81"/>
                      </a:lnTo>
                      <a:lnTo>
                        <a:pt x="1621" y="79"/>
                      </a:lnTo>
                      <a:lnTo>
                        <a:pt x="1595" y="73"/>
                      </a:lnTo>
                      <a:lnTo>
                        <a:pt x="1604" y="66"/>
                      </a:lnTo>
                      <a:lnTo>
                        <a:pt x="1616" y="59"/>
                      </a:lnTo>
                      <a:lnTo>
                        <a:pt x="1638" y="45"/>
                      </a:lnTo>
                      <a:lnTo>
                        <a:pt x="1624" y="44"/>
                      </a:lnTo>
                      <a:lnTo>
                        <a:pt x="1611" y="42"/>
                      </a:lnTo>
                      <a:lnTo>
                        <a:pt x="1593" y="38"/>
                      </a:lnTo>
                      <a:lnTo>
                        <a:pt x="1574" y="36"/>
                      </a:lnTo>
                      <a:lnTo>
                        <a:pt x="1563" y="37"/>
                      </a:lnTo>
                      <a:lnTo>
                        <a:pt x="1555" y="44"/>
                      </a:lnTo>
                      <a:lnTo>
                        <a:pt x="1543" y="48"/>
                      </a:lnTo>
                      <a:lnTo>
                        <a:pt x="1527" y="49"/>
                      </a:lnTo>
                      <a:lnTo>
                        <a:pt x="1505" y="50"/>
                      </a:lnTo>
                      <a:lnTo>
                        <a:pt x="1490" y="59"/>
                      </a:lnTo>
                      <a:lnTo>
                        <a:pt x="1470" y="65"/>
                      </a:lnTo>
                      <a:lnTo>
                        <a:pt x="1452" y="70"/>
                      </a:lnTo>
                      <a:lnTo>
                        <a:pt x="1441" y="69"/>
                      </a:lnTo>
                      <a:lnTo>
                        <a:pt x="1399" y="67"/>
                      </a:lnTo>
                      <a:lnTo>
                        <a:pt x="1366" y="63"/>
                      </a:lnTo>
                      <a:lnTo>
                        <a:pt x="1345" y="63"/>
                      </a:lnTo>
                      <a:lnTo>
                        <a:pt x="1328" y="61"/>
                      </a:lnTo>
                      <a:lnTo>
                        <a:pt x="1299" y="46"/>
                      </a:lnTo>
                      <a:lnTo>
                        <a:pt x="1285" y="46"/>
                      </a:lnTo>
                      <a:lnTo>
                        <a:pt x="1269" y="50"/>
                      </a:lnTo>
                      <a:lnTo>
                        <a:pt x="1251" y="56"/>
                      </a:lnTo>
                      <a:lnTo>
                        <a:pt x="1237" y="59"/>
                      </a:lnTo>
                      <a:lnTo>
                        <a:pt x="1188" y="63"/>
                      </a:lnTo>
                      <a:lnTo>
                        <a:pt x="1155" y="65"/>
                      </a:lnTo>
                      <a:lnTo>
                        <a:pt x="1133" y="67"/>
                      </a:lnTo>
                      <a:lnTo>
                        <a:pt x="1116" y="69"/>
                      </a:lnTo>
                      <a:lnTo>
                        <a:pt x="1099" y="71"/>
                      </a:lnTo>
                      <a:lnTo>
                        <a:pt x="1078" y="75"/>
                      </a:lnTo>
                      <a:lnTo>
                        <a:pt x="1064" y="79"/>
                      </a:lnTo>
                      <a:lnTo>
                        <a:pt x="1044" y="85"/>
                      </a:lnTo>
                      <a:lnTo>
                        <a:pt x="1032" y="78"/>
                      </a:lnTo>
                      <a:lnTo>
                        <a:pt x="1026" y="69"/>
                      </a:lnTo>
                      <a:lnTo>
                        <a:pt x="1033" y="59"/>
                      </a:lnTo>
                      <a:lnTo>
                        <a:pt x="1048" y="54"/>
                      </a:lnTo>
                      <a:lnTo>
                        <a:pt x="1030" y="54"/>
                      </a:lnTo>
                      <a:lnTo>
                        <a:pt x="1040" y="46"/>
                      </a:lnTo>
                      <a:lnTo>
                        <a:pt x="1054" y="38"/>
                      </a:lnTo>
                      <a:lnTo>
                        <a:pt x="1073" y="29"/>
                      </a:lnTo>
                      <a:lnTo>
                        <a:pt x="1091" y="22"/>
                      </a:lnTo>
                      <a:lnTo>
                        <a:pt x="1069" y="25"/>
                      </a:lnTo>
                      <a:lnTo>
                        <a:pt x="1049" y="29"/>
                      </a:lnTo>
                      <a:lnTo>
                        <a:pt x="1030" y="35"/>
                      </a:lnTo>
                      <a:lnTo>
                        <a:pt x="1017" y="40"/>
                      </a:lnTo>
                      <a:lnTo>
                        <a:pt x="1011" y="42"/>
                      </a:lnTo>
                      <a:lnTo>
                        <a:pt x="1000" y="44"/>
                      </a:lnTo>
                      <a:lnTo>
                        <a:pt x="987" y="44"/>
                      </a:lnTo>
                      <a:lnTo>
                        <a:pt x="971" y="42"/>
                      </a:lnTo>
                      <a:lnTo>
                        <a:pt x="957" y="38"/>
                      </a:lnTo>
                      <a:lnTo>
                        <a:pt x="944" y="37"/>
                      </a:lnTo>
                      <a:lnTo>
                        <a:pt x="927" y="38"/>
                      </a:lnTo>
                      <a:lnTo>
                        <a:pt x="940" y="25"/>
                      </a:lnTo>
                      <a:lnTo>
                        <a:pt x="954" y="15"/>
                      </a:lnTo>
                      <a:lnTo>
                        <a:pt x="970" y="9"/>
                      </a:lnTo>
                      <a:lnTo>
                        <a:pt x="951" y="12"/>
                      </a:lnTo>
                      <a:lnTo>
                        <a:pt x="934" y="14"/>
                      </a:lnTo>
                      <a:lnTo>
                        <a:pt x="916" y="16"/>
                      </a:lnTo>
                      <a:lnTo>
                        <a:pt x="901" y="21"/>
                      </a:lnTo>
                      <a:lnTo>
                        <a:pt x="882" y="23"/>
                      </a:lnTo>
                      <a:lnTo>
                        <a:pt x="859" y="26"/>
                      </a:lnTo>
                      <a:lnTo>
                        <a:pt x="839" y="26"/>
                      </a:lnTo>
                      <a:lnTo>
                        <a:pt x="822" y="31"/>
                      </a:lnTo>
                      <a:lnTo>
                        <a:pt x="818" y="35"/>
                      </a:lnTo>
                      <a:lnTo>
                        <a:pt x="813" y="38"/>
                      </a:lnTo>
                      <a:lnTo>
                        <a:pt x="801" y="38"/>
                      </a:lnTo>
                      <a:lnTo>
                        <a:pt x="780" y="34"/>
                      </a:lnTo>
                      <a:lnTo>
                        <a:pt x="756" y="31"/>
                      </a:lnTo>
                      <a:lnTo>
                        <a:pt x="732" y="26"/>
                      </a:lnTo>
                      <a:lnTo>
                        <a:pt x="719" y="23"/>
                      </a:lnTo>
                      <a:lnTo>
                        <a:pt x="697" y="23"/>
                      </a:lnTo>
                      <a:lnTo>
                        <a:pt x="671" y="22"/>
                      </a:lnTo>
                      <a:lnTo>
                        <a:pt x="651" y="18"/>
                      </a:lnTo>
                      <a:lnTo>
                        <a:pt x="628" y="12"/>
                      </a:lnTo>
                      <a:lnTo>
                        <a:pt x="607" y="8"/>
                      </a:lnTo>
                      <a:lnTo>
                        <a:pt x="590" y="5"/>
                      </a:lnTo>
                      <a:lnTo>
                        <a:pt x="573" y="8"/>
                      </a:lnTo>
                      <a:lnTo>
                        <a:pt x="546" y="15"/>
                      </a:lnTo>
                      <a:lnTo>
                        <a:pt x="524" y="12"/>
                      </a:lnTo>
                      <a:lnTo>
                        <a:pt x="503" y="12"/>
                      </a:lnTo>
                      <a:lnTo>
                        <a:pt x="482" y="12"/>
                      </a:lnTo>
                      <a:lnTo>
                        <a:pt x="460" y="12"/>
                      </a:lnTo>
                      <a:lnTo>
                        <a:pt x="431" y="19"/>
                      </a:lnTo>
                      <a:lnTo>
                        <a:pt x="417" y="19"/>
                      </a:lnTo>
                      <a:lnTo>
                        <a:pt x="401" y="21"/>
                      </a:lnTo>
                      <a:lnTo>
                        <a:pt x="371" y="16"/>
                      </a:lnTo>
                      <a:lnTo>
                        <a:pt x="356" y="14"/>
                      </a:lnTo>
                      <a:lnTo>
                        <a:pt x="343" y="15"/>
                      </a:lnTo>
                      <a:lnTo>
                        <a:pt x="326" y="18"/>
                      </a:lnTo>
                      <a:lnTo>
                        <a:pt x="309" y="19"/>
                      </a:lnTo>
                      <a:lnTo>
                        <a:pt x="296" y="19"/>
                      </a:lnTo>
                      <a:lnTo>
                        <a:pt x="290" y="16"/>
                      </a:lnTo>
                      <a:lnTo>
                        <a:pt x="290" y="8"/>
                      </a:lnTo>
                      <a:lnTo>
                        <a:pt x="284" y="5"/>
                      </a:lnTo>
                      <a:lnTo>
                        <a:pt x="273" y="5"/>
                      </a:lnTo>
                      <a:lnTo>
                        <a:pt x="262" y="8"/>
                      </a:lnTo>
                      <a:lnTo>
                        <a:pt x="253" y="15"/>
                      </a:lnTo>
                      <a:lnTo>
                        <a:pt x="246" y="23"/>
                      </a:lnTo>
                      <a:lnTo>
                        <a:pt x="240" y="27"/>
                      </a:lnTo>
                      <a:lnTo>
                        <a:pt x="223" y="27"/>
                      </a:lnTo>
                      <a:lnTo>
                        <a:pt x="210" y="27"/>
                      </a:lnTo>
                      <a:lnTo>
                        <a:pt x="194" y="19"/>
                      </a:lnTo>
                      <a:lnTo>
                        <a:pt x="181" y="14"/>
                      </a:lnTo>
                      <a:lnTo>
                        <a:pt x="166" y="8"/>
                      </a:lnTo>
                      <a:lnTo>
                        <a:pt x="156" y="7"/>
                      </a:lnTo>
                      <a:lnTo>
                        <a:pt x="146" y="5"/>
                      </a:lnTo>
                      <a:lnTo>
                        <a:pt x="135" y="5"/>
                      </a:lnTo>
                      <a:lnTo>
                        <a:pt x="118" y="8"/>
                      </a:lnTo>
                      <a:lnTo>
                        <a:pt x="60" y="0"/>
                      </a:lnTo>
                      <a:lnTo>
                        <a:pt x="77" y="8"/>
                      </a:lnTo>
                      <a:lnTo>
                        <a:pt x="88" y="12"/>
                      </a:lnTo>
                      <a:lnTo>
                        <a:pt x="92" y="19"/>
                      </a:lnTo>
                      <a:lnTo>
                        <a:pt x="88" y="25"/>
                      </a:lnTo>
                      <a:lnTo>
                        <a:pt x="68" y="30"/>
                      </a:lnTo>
                      <a:lnTo>
                        <a:pt x="54" y="34"/>
                      </a:lnTo>
                      <a:lnTo>
                        <a:pt x="37" y="38"/>
                      </a:lnTo>
                      <a:lnTo>
                        <a:pt x="23" y="46"/>
                      </a:lnTo>
                      <a:lnTo>
                        <a:pt x="0" y="56"/>
                      </a:lnTo>
                      <a:lnTo>
                        <a:pt x="33" y="56"/>
                      </a:lnTo>
                      <a:lnTo>
                        <a:pt x="55" y="57"/>
                      </a:lnTo>
                      <a:lnTo>
                        <a:pt x="75" y="59"/>
                      </a:lnTo>
                      <a:lnTo>
                        <a:pt x="92" y="61"/>
                      </a:lnTo>
                      <a:lnTo>
                        <a:pt x="104" y="61"/>
                      </a:lnTo>
                      <a:lnTo>
                        <a:pt x="114" y="59"/>
                      </a:lnTo>
                      <a:lnTo>
                        <a:pt x="124" y="59"/>
                      </a:lnTo>
                      <a:lnTo>
                        <a:pt x="137" y="54"/>
                      </a:lnTo>
                      <a:lnTo>
                        <a:pt x="148" y="50"/>
                      </a:lnTo>
                      <a:lnTo>
                        <a:pt x="131" y="45"/>
                      </a:lnTo>
                      <a:lnTo>
                        <a:pt x="118" y="38"/>
                      </a:lnTo>
                      <a:lnTo>
                        <a:pt x="110" y="31"/>
                      </a:lnTo>
                      <a:lnTo>
                        <a:pt x="106" y="23"/>
                      </a:lnTo>
                      <a:lnTo>
                        <a:pt x="110" y="15"/>
                      </a:lnTo>
                      <a:lnTo>
                        <a:pt x="123" y="18"/>
                      </a:lnTo>
                      <a:lnTo>
                        <a:pt x="132" y="21"/>
                      </a:lnTo>
                      <a:lnTo>
                        <a:pt x="140" y="27"/>
                      </a:lnTo>
                      <a:lnTo>
                        <a:pt x="153" y="34"/>
                      </a:lnTo>
                      <a:lnTo>
                        <a:pt x="169" y="36"/>
                      </a:lnTo>
                      <a:lnTo>
                        <a:pt x="183" y="38"/>
                      </a:lnTo>
                      <a:lnTo>
                        <a:pt x="202" y="36"/>
                      </a:lnTo>
                      <a:lnTo>
                        <a:pt x="215" y="37"/>
                      </a:lnTo>
                      <a:lnTo>
                        <a:pt x="227" y="38"/>
                      </a:lnTo>
                      <a:lnTo>
                        <a:pt x="240" y="42"/>
                      </a:lnTo>
                      <a:lnTo>
                        <a:pt x="254" y="48"/>
                      </a:lnTo>
                      <a:lnTo>
                        <a:pt x="266" y="54"/>
                      </a:lnTo>
                      <a:lnTo>
                        <a:pt x="277" y="59"/>
                      </a:lnTo>
                      <a:lnTo>
                        <a:pt x="288" y="59"/>
                      </a:lnTo>
                      <a:lnTo>
                        <a:pt x="299" y="54"/>
                      </a:lnTo>
                      <a:lnTo>
                        <a:pt x="312" y="50"/>
                      </a:lnTo>
                      <a:lnTo>
                        <a:pt x="325" y="50"/>
                      </a:lnTo>
                      <a:lnTo>
                        <a:pt x="342" y="50"/>
                      </a:lnTo>
                      <a:lnTo>
                        <a:pt x="356" y="53"/>
                      </a:lnTo>
                      <a:lnTo>
                        <a:pt x="370" y="56"/>
                      </a:lnTo>
                      <a:lnTo>
                        <a:pt x="383" y="57"/>
                      </a:lnTo>
                      <a:lnTo>
                        <a:pt x="393" y="56"/>
                      </a:lnTo>
                      <a:lnTo>
                        <a:pt x="410" y="54"/>
                      </a:lnTo>
                      <a:lnTo>
                        <a:pt x="422" y="52"/>
                      </a:lnTo>
                      <a:lnTo>
                        <a:pt x="439" y="54"/>
                      </a:lnTo>
                      <a:lnTo>
                        <a:pt x="457" y="56"/>
                      </a:lnTo>
                      <a:lnTo>
                        <a:pt x="477" y="57"/>
                      </a:lnTo>
                      <a:lnTo>
                        <a:pt x="498" y="59"/>
                      </a:lnTo>
                      <a:lnTo>
                        <a:pt x="512" y="62"/>
                      </a:lnTo>
                      <a:lnTo>
                        <a:pt x="526" y="67"/>
                      </a:lnTo>
                      <a:lnTo>
                        <a:pt x="538" y="73"/>
                      </a:lnTo>
                      <a:lnTo>
                        <a:pt x="548" y="75"/>
                      </a:lnTo>
                      <a:lnTo>
                        <a:pt x="557" y="75"/>
                      </a:lnTo>
                      <a:lnTo>
                        <a:pt x="568" y="74"/>
                      </a:lnTo>
                      <a:lnTo>
                        <a:pt x="594" y="70"/>
                      </a:lnTo>
                      <a:lnTo>
                        <a:pt x="564" y="67"/>
                      </a:lnTo>
                      <a:lnTo>
                        <a:pt x="572" y="59"/>
                      </a:lnTo>
                      <a:lnTo>
                        <a:pt x="583" y="49"/>
                      </a:lnTo>
                      <a:lnTo>
                        <a:pt x="593" y="48"/>
                      </a:lnTo>
                      <a:lnTo>
                        <a:pt x="736" y="69"/>
                      </a:lnTo>
                      <a:lnTo>
                        <a:pt x="745" y="73"/>
                      </a:lnTo>
                      <a:lnTo>
                        <a:pt x="719" y="82"/>
                      </a:lnTo>
                      <a:lnTo>
                        <a:pt x="737" y="85"/>
                      </a:lnTo>
                      <a:lnTo>
                        <a:pt x="749" y="86"/>
                      </a:lnTo>
                      <a:lnTo>
                        <a:pt x="758" y="93"/>
                      </a:lnTo>
                      <a:lnTo>
                        <a:pt x="770" y="97"/>
                      </a:lnTo>
                      <a:lnTo>
                        <a:pt x="784" y="94"/>
                      </a:lnTo>
                      <a:lnTo>
                        <a:pt x="798" y="92"/>
                      </a:lnTo>
                      <a:lnTo>
                        <a:pt x="811" y="86"/>
                      </a:lnTo>
                      <a:lnTo>
                        <a:pt x="822" y="93"/>
                      </a:lnTo>
                      <a:lnTo>
                        <a:pt x="835" y="104"/>
                      </a:lnTo>
                      <a:lnTo>
                        <a:pt x="848" y="111"/>
                      </a:lnTo>
                      <a:lnTo>
                        <a:pt x="861" y="116"/>
                      </a:lnTo>
                      <a:lnTo>
                        <a:pt x="875" y="120"/>
                      </a:lnTo>
                      <a:lnTo>
                        <a:pt x="889" y="122"/>
                      </a:lnTo>
                      <a:lnTo>
                        <a:pt x="912" y="120"/>
                      </a:lnTo>
                      <a:lnTo>
                        <a:pt x="930" y="118"/>
                      </a:lnTo>
                      <a:lnTo>
                        <a:pt x="948" y="115"/>
                      </a:lnTo>
                      <a:lnTo>
                        <a:pt x="970" y="112"/>
                      </a:lnTo>
                      <a:lnTo>
                        <a:pt x="991" y="108"/>
                      </a:lnTo>
                      <a:lnTo>
                        <a:pt x="1008" y="106"/>
                      </a:lnTo>
                      <a:lnTo>
                        <a:pt x="1023" y="100"/>
                      </a:lnTo>
                      <a:lnTo>
                        <a:pt x="1040" y="96"/>
                      </a:lnTo>
                      <a:lnTo>
                        <a:pt x="1055" y="96"/>
                      </a:lnTo>
                      <a:lnTo>
                        <a:pt x="1070" y="92"/>
                      </a:lnTo>
                      <a:lnTo>
                        <a:pt x="1086" y="88"/>
                      </a:lnTo>
                      <a:lnTo>
                        <a:pt x="1103" y="84"/>
                      </a:lnTo>
                      <a:lnTo>
                        <a:pt x="1120" y="84"/>
                      </a:lnTo>
                      <a:lnTo>
                        <a:pt x="1137" y="84"/>
                      </a:lnTo>
                      <a:lnTo>
                        <a:pt x="1150" y="85"/>
                      </a:lnTo>
                      <a:lnTo>
                        <a:pt x="1162" y="82"/>
                      </a:lnTo>
                      <a:lnTo>
                        <a:pt x="1178" y="77"/>
                      </a:lnTo>
                      <a:lnTo>
                        <a:pt x="1195" y="77"/>
                      </a:lnTo>
                      <a:lnTo>
                        <a:pt x="1216" y="77"/>
                      </a:lnTo>
                      <a:lnTo>
                        <a:pt x="1233" y="77"/>
                      </a:lnTo>
                      <a:lnTo>
                        <a:pt x="1255" y="77"/>
                      </a:lnTo>
                      <a:lnTo>
                        <a:pt x="1294" y="70"/>
                      </a:lnTo>
                      <a:lnTo>
                        <a:pt x="1303" y="74"/>
                      </a:lnTo>
                      <a:lnTo>
                        <a:pt x="1312" y="81"/>
                      </a:lnTo>
                      <a:lnTo>
                        <a:pt x="1323" y="84"/>
                      </a:lnTo>
                      <a:lnTo>
                        <a:pt x="1334" y="85"/>
                      </a:lnTo>
                      <a:lnTo>
                        <a:pt x="1349" y="84"/>
                      </a:lnTo>
                      <a:lnTo>
                        <a:pt x="1366" y="81"/>
                      </a:lnTo>
                      <a:lnTo>
                        <a:pt x="1394" y="78"/>
                      </a:lnTo>
                      <a:lnTo>
                        <a:pt x="1406" y="82"/>
                      </a:lnTo>
                      <a:lnTo>
                        <a:pt x="1415" y="88"/>
                      </a:lnTo>
                      <a:lnTo>
                        <a:pt x="1424" y="90"/>
                      </a:lnTo>
                      <a:lnTo>
                        <a:pt x="1437" y="92"/>
                      </a:lnTo>
                      <a:lnTo>
                        <a:pt x="1448" y="96"/>
                      </a:lnTo>
                      <a:lnTo>
                        <a:pt x="1452" y="104"/>
                      </a:lnTo>
                      <a:lnTo>
                        <a:pt x="1461" y="115"/>
                      </a:lnTo>
                      <a:lnTo>
                        <a:pt x="1471" y="119"/>
                      </a:lnTo>
                      <a:lnTo>
                        <a:pt x="1484" y="122"/>
                      </a:lnTo>
                      <a:lnTo>
                        <a:pt x="1495" y="122"/>
                      </a:lnTo>
                      <a:lnTo>
                        <a:pt x="1501" y="116"/>
                      </a:lnTo>
                      <a:lnTo>
                        <a:pt x="1508" y="104"/>
                      </a:lnTo>
                      <a:lnTo>
                        <a:pt x="1517" y="106"/>
                      </a:lnTo>
                      <a:lnTo>
                        <a:pt x="1527" y="107"/>
                      </a:lnTo>
                      <a:lnTo>
                        <a:pt x="1538" y="106"/>
                      </a:lnTo>
                      <a:lnTo>
                        <a:pt x="1549" y="101"/>
                      </a:lnTo>
                      <a:lnTo>
                        <a:pt x="1563" y="97"/>
                      </a:lnTo>
                      <a:lnTo>
                        <a:pt x="1580" y="97"/>
                      </a:lnTo>
                      <a:lnTo>
                        <a:pt x="1567" y="108"/>
                      </a:lnTo>
                      <a:lnTo>
                        <a:pt x="1562" y="116"/>
                      </a:lnTo>
                      <a:lnTo>
                        <a:pt x="1574" y="114"/>
                      </a:lnTo>
                      <a:lnTo>
                        <a:pt x="1596" y="108"/>
                      </a:lnTo>
                      <a:lnTo>
                        <a:pt x="1616" y="110"/>
                      </a:lnTo>
                      <a:lnTo>
                        <a:pt x="1617" y="116"/>
                      </a:lnTo>
                      <a:lnTo>
                        <a:pt x="1620" y="123"/>
                      </a:lnTo>
                      <a:lnTo>
                        <a:pt x="1624" y="128"/>
                      </a:lnTo>
                      <a:lnTo>
                        <a:pt x="1635" y="131"/>
                      </a:lnTo>
                      <a:lnTo>
                        <a:pt x="1647" y="131"/>
                      </a:lnTo>
                      <a:lnTo>
                        <a:pt x="1662" y="130"/>
                      </a:lnTo>
                      <a:lnTo>
                        <a:pt x="1676" y="128"/>
                      </a:lnTo>
                      <a:lnTo>
                        <a:pt x="1690" y="131"/>
                      </a:lnTo>
                      <a:lnTo>
                        <a:pt x="1706" y="138"/>
                      </a:lnTo>
                      <a:lnTo>
                        <a:pt x="1717" y="146"/>
                      </a:lnTo>
                      <a:lnTo>
                        <a:pt x="1705" y="161"/>
                      </a:lnTo>
                      <a:lnTo>
                        <a:pt x="1693" y="167"/>
                      </a:lnTo>
                      <a:lnTo>
                        <a:pt x="1680" y="174"/>
                      </a:lnTo>
                      <a:lnTo>
                        <a:pt x="1672" y="177"/>
                      </a:lnTo>
                      <a:lnTo>
                        <a:pt x="1664" y="185"/>
                      </a:lnTo>
                      <a:lnTo>
                        <a:pt x="1660" y="193"/>
                      </a:lnTo>
                      <a:lnTo>
                        <a:pt x="1658" y="200"/>
                      </a:lnTo>
                      <a:lnTo>
                        <a:pt x="1654" y="209"/>
                      </a:lnTo>
                      <a:lnTo>
                        <a:pt x="1677" y="235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081920" y="3921840"/>
                  <a:ext cx="418320" cy="86400"/>
                </a:xfrm>
                <a:custGeom>
                  <a:avLst/>
                  <a:gdLst/>
                  <a:ahLst/>
                  <a:rect l="l" t="t" r="r" b="b"/>
                  <a:pathLst>
                    <a:path w="319" h="69">
                      <a:moveTo>
                        <a:pt x="318" y="34"/>
                      </a:moveTo>
                      <a:lnTo>
                        <a:pt x="296" y="42"/>
                      </a:lnTo>
                      <a:lnTo>
                        <a:pt x="290" y="50"/>
                      </a:lnTo>
                      <a:lnTo>
                        <a:pt x="282" y="53"/>
                      </a:lnTo>
                      <a:lnTo>
                        <a:pt x="275" y="55"/>
                      </a:lnTo>
                      <a:lnTo>
                        <a:pt x="266" y="57"/>
                      </a:lnTo>
                      <a:lnTo>
                        <a:pt x="258" y="57"/>
                      </a:lnTo>
                      <a:lnTo>
                        <a:pt x="247" y="57"/>
                      </a:lnTo>
                      <a:lnTo>
                        <a:pt x="238" y="61"/>
                      </a:lnTo>
                      <a:lnTo>
                        <a:pt x="231" y="62"/>
                      </a:lnTo>
                      <a:lnTo>
                        <a:pt x="218" y="61"/>
                      </a:lnTo>
                      <a:lnTo>
                        <a:pt x="209" y="65"/>
                      </a:lnTo>
                      <a:lnTo>
                        <a:pt x="201" y="68"/>
                      </a:lnTo>
                      <a:lnTo>
                        <a:pt x="193" y="68"/>
                      </a:lnTo>
                      <a:lnTo>
                        <a:pt x="185" y="64"/>
                      </a:lnTo>
                      <a:lnTo>
                        <a:pt x="178" y="57"/>
                      </a:lnTo>
                      <a:lnTo>
                        <a:pt x="167" y="53"/>
                      </a:lnTo>
                      <a:lnTo>
                        <a:pt x="152" y="50"/>
                      </a:lnTo>
                      <a:lnTo>
                        <a:pt x="145" y="54"/>
                      </a:lnTo>
                      <a:lnTo>
                        <a:pt x="135" y="53"/>
                      </a:lnTo>
                      <a:lnTo>
                        <a:pt x="128" y="50"/>
                      </a:lnTo>
                      <a:lnTo>
                        <a:pt x="118" y="42"/>
                      </a:lnTo>
                      <a:lnTo>
                        <a:pt x="109" y="31"/>
                      </a:lnTo>
                      <a:lnTo>
                        <a:pt x="96" y="25"/>
                      </a:lnTo>
                      <a:lnTo>
                        <a:pt x="77" y="27"/>
                      </a:lnTo>
                      <a:lnTo>
                        <a:pt x="67" y="20"/>
                      </a:lnTo>
                      <a:lnTo>
                        <a:pt x="59" y="17"/>
                      </a:lnTo>
                      <a:lnTo>
                        <a:pt x="47" y="15"/>
                      </a:lnTo>
                      <a:lnTo>
                        <a:pt x="0" y="4"/>
                      </a:lnTo>
                      <a:lnTo>
                        <a:pt x="52" y="8"/>
                      </a:lnTo>
                      <a:lnTo>
                        <a:pt x="61" y="4"/>
                      </a:lnTo>
                      <a:lnTo>
                        <a:pt x="70" y="0"/>
                      </a:lnTo>
                      <a:lnTo>
                        <a:pt x="76" y="1"/>
                      </a:lnTo>
                      <a:lnTo>
                        <a:pt x="83" y="4"/>
                      </a:lnTo>
                      <a:lnTo>
                        <a:pt x="93" y="10"/>
                      </a:lnTo>
                      <a:lnTo>
                        <a:pt x="107" y="11"/>
                      </a:lnTo>
                      <a:lnTo>
                        <a:pt x="120" y="18"/>
                      </a:lnTo>
                      <a:lnTo>
                        <a:pt x="128" y="17"/>
                      </a:lnTo>
                      <a:lnTo>
                        <a:pt x="138" y="15"/>
                      </a:lnTo>
                      <a:lnTo>
                        <a:pt x="159" y="20"/>
                      </a:lnTo>
                      <a:lnTo>
                        <a:pt x="169" y="23"/>
                      </a:lnTo>
                      <a:lnTo>
                        <a:pt x="183" y="31"/>
                      </a:lnTo>
                      <a:lnTo>
                        <a:pt x="197" y="31"/>
                      </a:lnTo>
                      <a:lnTo>
                        <a:pt x="213" y="31"/>
                      </a:lnTo>
                      <a:lnTo>
                        <a:pt x="225" y="30"/>
                      </a:lnTo>
                      <a:lnTo>
                        <a:pt x="236" y="32"/>
                      </a:lnTo>
                      <a:lnTo>
                        <a:pt x="247" y="38"/>
                      </a:lnTo>
                      <a:lnTo>
                        <a:pt x="258" y="34"/>
                      </a:lnTo>
                      <a:lnTo>
                        <a:pt x="268" y="41"/>
                      </a:lnTo>
                      <a:lnTo>
                        <a:pt x="276" y="38"/>
                      </a:lnTo>
                      <a:lnTo>
                        <a:pt x="288" y="37"/>
                      </a:lnTo>
                      <a:lnTo>
                        <a:pt x="300" y="36"/>
                      </a:lnTo>
                      <a:lnTo>
                        <a:pt x="318" y="34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207480" y="3735000"/>
                  <a:ext cx="1755720" cy="297000"/>
                </a:xfrm>
                <a:custGeom>
                  <a:avLst/>
                  <a:gdLst/>
                  <a:ahLst/>
                  <a:rect l="l" t="t" r="r" b="b"/>
                  <a:pathLst>
                    <a:path w="1339" h="237">
                      <a:moveTo>
                        <a:pt x="1088" y="236"/>
                      </a:moveTo>
                      <a:lnTo>
                        <a:pt x="1098" y="231"/>
                      </a:lnTo>
                      <a:lnTo>
                        <a:pt x="1107" y="227"/>
                      </a:lnTo>
                      <a:lnTo>
                        <a:pt x="1113" y="221"/>
                      </a:lnTo>
                      <a:lnTo>
                        <a:pt x="1118" y="215"/>
                      </a:lnTo>
                      <a:lnTo>
                        <a:pt x="1120" y="205"/>
                      </a:lnTo>
                      <a:lnTo>
                        <a:pt x="1132" y="204"/>
                      </a:lnTo>
                      <a:lnTo>
                        <a:pt x="1139" y="201"/>
                      </a:lnTo>
                      <a:lnTo>
                        <a:pt x="1144" y="197"/>
                      </a:lnTo>
                      <a:lnTo>
                        <a:pt x="1153" y="191"/>
                      </a:lnTo>
                      <a:lnTo>
                        <a:pt x="1162" y="191"/>
                      </a:lnTo>
                      <a:lnTo>
                        <a:pt x="1173" y="181"/>
                      </a:lnTo>
                      <a:lnTo>
                        <a:pt x="1186" y="190"/>
                      </a:lnTo>
                      <a:lnTo>
                        <a:pt x="1178" y="170"/>
                      </a:lnTo>
                      <a:lnTo>
                        <a:pt x="1191" y="170"/>
                      </a:lnTo>
                      <a:lnTo>
                        <a:pt x="1207" y="169"/>
                      </a:lnTo>
                      <a:lnTo>
                        <a:pt x="1219" y="174"/>
                      </a:lnTo>
                      <a:lnTo>
                        <a:pt x="1233" y="162"/>
                      </a:lnTo>
                      <a:lnTo>
                        <a:pt x="1245" y="170"/>
                      </a:lnTo>
                      <a:lnTo>
                        <a:pt x="1249" y="169"/>
                      </a:lnTo>
                      <a:lnTo>
                        <a:pt x="1252" y="164"/>
                      </a:lnTo>
                      <a:lnTo>
                        <a:pt x="1256" y="158"/>
                      </a:lnTo>
                      <a:lnTo>
                        <a:pt x="1259" y="150"/>
                      </a:lnTo>
                      <a:lnTo>
                        <a:pt x="1264" y="144"/>
                      </a:lnTo>
                      <a:lnTo>
                        <a:pt x="1268" y="141"/>
                      </a:lnTo>
                      <a:lnTo>
                        <a:pt x="1276" y="141"/>
                      </a:lnTo>
                      <a:lnTo>
                        <a:pt x="1285" y="141"/>
                      </a:lnTo>
                      <a:lnTo>
                        <a:pt x="1289" y="135"/>
                      </a:lnTo>
                      <a:lnTo>
                        <a:pt x="1295" y="128"/>
                      </a:lnTo>
                      <a:lnTo>
                        <a:pt x="1301" y="128"/>
                      </a:lnTo>
                      <a:lnTo>
                        <a:pt x="1309" y="127"/>
                      </a:lnTo>
                      <a:lnTo>
                        <a:pt x="1320" y="127"/>
                      </a:lnTo>
                      <a:lnTo>
                        <a:pt x="1330" y="120"/>
                      </a:lnTo>
                      <a:lnTo>
                        <a:pt x="1338" y="104"/>
                      </a:lnTo>
                      <a:lnTo>
                        <a:pt x="1331" y="105"/>
                      </a:lnTo>
                      <a:lnTo>
                        <a:pt x="1320" y="111"/>
                      </a:lnTo>
                      <a:lnTo>
                        <a:pt x="1309" y="112"/>
                      </a:lnTo>
                      <a:lnTo>
                        <a:pt x="1300" y="111"/>
                      </a:lnTo>
                      <a:lnTo>
                        <a:pt x="1293" y="104"/>
                      </a:lnTo>
                      <a:lnTo>
                        <a:pt x="1284" y="101"/>
                      </a:lnTo>
                      <a:lnTo>
                        <a:pt x="1276" y="105"/>
                      </a:lnTo>
                      <a:lnTo>
                        <a:pt x="1267" y="111"/>
                      </a:lnTo>
                      <a:lnTo>
                        <a:pt x="1259" y="115"/>
                      </a:lnTo>
                      <a:lnTo>
                        <a:pt x="1251" y="115"/>
                      </a:lnTo>
                      <a:lnTo>
                        <a:pt x="1245" y="105"/>
                      </a:lnTo>
                      <a:lnTo>
                        <a:pt x="1240" y="97"/>
                      </a:lnTo>
                      <a:lnTo>
                        <a:pt x="1231" y="97"/>
                      </a:lnTo>
                      <a:lnTo>
                        <a:pt x="1223" y="100"/>
                      </a:lnTo>
                      <a:lnTo>
                        <a:pt x="1213" y="105"/>
                      </a:lnTo>
                      <a:lnTo>
                        <a:pt x="1205" y="109"/>
                      </a:lnTo>
                      <a:lnTo>
                        <a:pt x="1196" y="101"/>
                      </a:lnTo>
                      <a:lnTo>
                        <a:pt x="1188" y="93"/>
                      </a:lnTo>
                      <a:lnTo>
                        <a:pt x="1180" y="90"/>
                      </a:lnTo>
                      <a:lnTo>
                        <a:pt x="1171" y="87"/>
                      </a:lnTo>
                      <a:lnTo>
                        <a:pt x="1160" y="85"/>
                      </a:lnTo>
                      <a:lnTo>
                        <a:pt x="1149" y="83"/>
                      </a:lnTo>
                      <a:lnTo>
                        <a:pt x="1139" y="85"/>
                      </a:lnTo>
                      <a:lnTo>
                        <a:pt x="1126" y="89"/>
                      </a:lnTo>
                      <a:lnTo>
                        <a:pt x="1132" y="103"/>
                      </a:lnTo>
                      <a:lnTo>
                        <a:pt x="1130" y="112"/>
                      </a:lnTo>
                      <a:lnTo>
                        <a:pt x="1125" y="117"/>
                      </a:lnTo>
                      <a:lnTo>
                        <a:pt x="1123" y="107"/>
                      </a:lnTo>
                      <a:lnTo>
                        <a:pt x="1116" y="97"/>
                      </a:lnTo>
                      <a:lnTo>
                        <a:pt x="1109" y="93"/>
                      </a:lnTo>
                      <a:lnTo>
                        <a:pt x="1102" y="90"/>
                      </a:lnTo>
                      <a:lnTo>
                        <a:pt x="1093" y="85"/>
                      </a:lnTo>
                      <a:lnTo>
                        <a:pt x="1084" y="82"/>
                      </a:lnTo>
                      <a:lnTo>
                        <a:pt x="1070" y="79"/>
                      </a:lnTo>
                      <a:lnTo>
                        <a:pt x="1062" y="81"/>
                      </a:lnTo>
                      <a:lnTo>
                        <a:pt x="1051" y="79"/>
                      </a:lnTo>
                      <a:lnTo>
                        <a:pt x="1035" y="73"/>
                      </a:lnTo>
                      <a:lnTo>
                        <a:pt x="1040" y="66"/>
                      </a:lnTo>
                      <a:lnTo>
                        <a:pt x="1048" y="59"/>
                      </a:lnTo>
                      <a:lnTo>
                        <a:pt x="1063" y="45"/>
                      </a:lnTo>
                      <a:lnTo>
                        <a:pt x="1054" y="44"/>
                      </a:lnTo>
                      <a:lnTo>
                        <a:pt x="1045" y="42"/>
                      </a:lnTo>
                      <a:lnTo>
                        <a:pt x="1033" y="39"/>
                      </a:lnTo>
                      <a:lnTo>
                        <a:pt x="1021" y="37"/>
                      </a:lnTo>
                      <a:lnTo>
                        <a:pt x="1014" y="38"/>
                      </a:lnTo>
                      <a:lnTo>
                        <a:pt x="1008" y="44"/>
                      </a:lnTo>
                      <a:lnTo>
                        <a:pt x="1001" y="48"/>
                      </a:lnTo>
                      <a:lnTo>
                        <a:pt x="990" y="49"/>
                      </a:lnTo>
                      <a:lnTo>
                        <a:pt x="976" y="50"/>
                      </a:lnTo>
                      <a:lnTo>
                        <a:pt x="966" y="59"/>
                      </a:lnTo>
                      <a:lnTo>
                        <a:pt x="953" y="66"/>
                      </a:lnTo>
                      <a:lnTo>
                        <a:pt x="942" y="70"/>
                      </a:lnTo>
                      <a:lnTo>
                        <a:pt x="934" y="69"/>
                      </a:lnTo>
                      <a:lnTo>
                        <a:pt x="907" y="67"/>
                      </a:lnTo>
                      <a:lnTo>
                        <a:pt x="886" y="64"/>
                      </a:lnTo>
                      <a:lnTo>
                        <a:pt x="872" y="64"/>
                      </a:lnTo>
                      <a:lnTo>
                        <a:pt x="861" y="62"/>
                      </a:lnTo>
                      <a:lnTo>
                        <a:pt x="842" y="46"/>
                      </a:lnTo>
                      <a:lnTo>
                        <a:pt x="833" y="46"/>
                      </a:lnTo>
                      <a:lnTo>
                        <a:pt x="823" y="50"/>
                      </a:lnTo>
                      <a:lnTo>
                        <a:pt x="812" y="56"/>
                      </a:lnTo>
                      <a:lnTo>
                        <a:pt x="803" y="59"/>
                      </a:lnTo>
                      <a:lnTo>
                        <a:pt x="770" y="64"/>
                      </a:lnTo>
                      <a:lnTo>
                        <a:pt x="749" y="66"/>
                      </a:lnTo>
                      <a:lnTo>
                        <a:pt x="735" y="67"/>
                      </a:lnTo>
                      <a:lnTo>
                        <a:pt x="724" y="69"/>
                      </a:lnTo>
                      <a:lnTo>
                        <a:pt x="713" y="71"/>
                      </a:lnTo>
                      <a:lnTo>
                        <a:pt x="699" y="75"/>
                      </a:lnTo>
                      <a:lnTo>
                        <a:pt x="690" y="79"/>
                      </a:lnTo>
                      <a:lnTo>
                        <a:pt x="677" y="86"/>
                      </a:lnTo>
                      <a:lnTo>
                        <a:pt x="669" y="78"/>
                      </a:lnTo>
                      <a:lnTo>
                        <a:pt x="665" y="69"/>
                      </a:lnTo>
                      <a:lnTo>
                        <a:pt x="670" y="60"/>
                      </a:lnTo>
                      <a:lnTo>
                        <a:pt x="680" y="54"/>
                      </a:lnTo>
                      <a:lnTo>
                        <a:pt x="668" y="54"/>
                      </a:lnTo>
                      <a:lnTo>
                        <a:pt x="674" y="46"/>
                      </a:lnTo>
                      <a:lnTo>
                        <a:pt x="683" y="39"/>
                      </a:lnTo>
                      <a:lnTo>
                        <a:pt x="696" y="29"/>
                      </a:lnTo>
                      <a:lnTo>
                        <a:pt x="708" y="22"/>
                      </a:lnTo>
                      <a:lnTo>
                        <a:pt x="693" y="25"/>
                      </a:lnTo>
                      <a:lnTo>
                        <a:pt x="681" y="29"/>
                      </a:lnTo>
                      <a:lnTo>
                        <a:pt x="668" y="35"/>
                      </a:lnTo>
                      <a:lnTo>
                        <a:pt x="660" y="40"/>
                      </a:lnTo>
                      <a:lnTo>
                        <a:pt x="655" y="42"/>
                      </a:lnTo>
                      <a:lnTo>
                        <a:pt x="648" y="44"/>
                      </a:lnTo>
                      <a:lnTo>
                        <a:pt x="640" y="44"/>
                      </a:lnTo>
                      <a:lnTo>
                        <a:pt x="630" y="42"/>
                      </a:lnTo>
                      <a:lnTo>
                        <a:pt x="621" y="39"/>
                      </a:lnTo>
                      <a:lnTo>
                        <a:pt x="612" y="38"/>
                      </a:lnTo>
                      <a:lnTo>
                        <a:pt x="601" y="39"/>
                      </a:lnTo>
                      <a:lnTo>
                        <a:pt x="609" y="25"/>
                      </a:lnTo>
                      <a:lnTo>
                        <a:pt x="618" y="15"/>
                      </a:lnTo>
                      <a:lnTo>
                        <a:pt x="629" y="9"/>
                      </a:lnTo>
                      <a:lnTo>
                        <a:pt x="617" y="12"/>
                      </a:lnTo>
                      <a:lnTo>
                        <a:pt x="606" y="14"/>
                      </a:lnTo>
                      <a:lnTo>
                        <a:pt x="594" y="16"/>
                      </a:lnTo>
                      <a:lnTo>
                        <a:pt x="584" y="21"/>
                      </a:lnTo>
                      <a:lnTo>
                        <a:pt x="572" y="23"/>
                      </a:lnTo>
                      <a:lnTo>
                        <a:pt x="557" y="26"/>
                      </a:lnTo>
                      <a:lnTo>
                        <a:pt x="544" y="26"/>
                      </a:lnTo>
                      <a:lnTo>
                        <a:pt x="533" y="31"/>
                      </a:lnTo>
                      <a:lnTo>
                        <a:pt x="531" y="35"/>
                      </a:lnTo>
                      <a:lnTo>
                        <a:pt x="527" y="39"/>
                      </a:lnTo>
                      <a:lnTo>
                        <a:pt x="519" y="39"/>
                      </a:lnTo>
                      <a:lnTo>
                        <a:pt x="506" y="34"/>
                      </a:lnTo>
                      <a:lnTo>
                        <a:pt x="490" y="31"/>
                      </a:lnTo>
                      <a:lnTo>
                        <a:pt x="475" y="26"/>
                      </a:lnTo>
                      <a:lnTo>
                        <a:pt x="466" y="23"/>
                      </a:lnTo>
                      <a:lnTo>
                        <a:pt x="452" y="23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7" y="12"/>
                      </a:lnTo>
                      <a:lnTo>
                        <a:pt x="394" y="8"/>
                      </a:lnTo>
                      <a:lnTo>
                        <a:pt x="383" y="5"/>
                      </a:lnTo>
                      <a:lnTo>
                        <a:pt x="372" y="8"/>
                      </a:lnTo>
                      <a:lnTo>
                        <a:pt x="354" y="15"/>
                      </a:lnTo>
                      <a:lnTo>
                        <a:pt x="340" y="12"/>
                      </a:lnTo>
                      <a:lnTo>
                        <a:pt x="326" y="12"/>
                      </a:lnTo>
                      <a:lnTo>
                        <a:pt x="312" y="12"/>
                      </a:lnTo>
                      <a:lnTo>
                        <a:pt x="298" y="13"/>
                      </a:lnTo>
                      <a:lnTo>
                        <a:pt x="280" y="19"/>
                      </a:lnTo>
                      <a:lnTo>
                        <a:pt x="271" y="19"/>
                      </a:lnTo>
                      <a:lnTo>
                        <a:pt x="260" y="21"/>
                      </a:lnTo>
                      <a:lnTo>
                        <a:pt x="241" y="16"/>
                      </a:lnTo>
                      <a:lnTo>
                        <a:pt x="231" y="14"/>
                      </a:lnTo>
                      <a:lnTo>
                        <a:pt x="222" y="15"/>
                      </a:lnTo>
                      <a:lnTo>
                        <a:pt x="211" y="18"/>
                      </a:lnTo>
                      <a:lnTo>
                        <a:pt x="200" y="19"/>
                      </a:lnTo>
                      <a:lnTo>
                        <a:pt x="192" y="19"/>
                      </a:lnTo>
                      <a:lnTo>
                        <a:pt x="188" y="16"/>
                      </a:lnTo>
                      <a:lnTo>
                        <a:pt x="188" y="8"/>
                      </a:lnTo>
                      <a:lnTo>
                        <a:pt x="184" y="5"/>
                      </a:lnTo>
                      <a:lnTo>
                        <a:pt x="177" y="5"/>
                      </a:lnTo>
                      <a:lnTo>
                        <a:pt x="170" y="8"/>
                      </a:lnTo>
                      <a:lnTo>
                        <a:pt x="164" y="15"/>
                      </a:lnTo>
                      <a:lnTo>
                        <a:pt x="160" y="23"/>
                      </a:lnTo>
                      <a:lnTo>
                        <a:pt x="155" y="27"/>
                      </a:lnTo>
                      <a:lnTo>
                        <a:pt x="144" y="27"/>
                      </a:lnTo>
                      <a:lnTo>
                        <a:pt x="136" y="27"/>
                      </a:lnTo>
                      <a:lnTo>
                        <a:pt x="126" y="19"/>
                      </a:lnTo>
                      <a:lnTo>
                        <a:pt x="117" y="14"/>
                      </a:lnTo>
                      <a:lnTo>
                        <a:pt x="107" y="8"/>
                      </a:lnTo>
                      <a:lnTo>
                        <a:pt x="101" y="7"/>
                      </a:lnTo>
                      <a:lnTo>
                        <a:pt x="95" y="5"/>
                      </a:lnTo>
                      <a:lnTo>
                        <a:pt x="88" y="5"/>
                      </a:lnTo>
                      <a:lnTo>
                        <a:pt x="77" y="8"/>
                      </a:lnTo>
                      <a:lnTo>
                        <a:pt x="39" y="0"/>
                      </a:lnTo>
                      <a:lnTo>
                        <a:pt x="50" y="8"/>
                      </a:lnTo>
                      <a:lnTo>
                        <a:pt x="57" y="12"/>
                      </a:lnTo>
                      <a:lnTo>
                        <a:pt x="60" y="19"/>
                      </a:lnTo>
                      <a:lnTo>
                        <a:pt x="57" y="25"/>
                      </a:lnTo>
                      <a:lnTo>
                        <a:pt x="44" y="30"/>
                      </a:lnTo>
                      <a:lnTo>
                        <a:pt x="35" y="34"/>
                      </a:lnTo>
                      <a:lnTo>
                        <a:pt x="24" y="39"/>
                      </a:lnTo>
                      <a:lnTo>
                        <a:pt x="15" y="46"/>
                      </a:lnTo>
                      <a:lnTo>
                        <a:pt x="0" y="56"/>
                      </a:lnTo>
                      <a:lnTo>
                        <a:pt x="22" y="56"/>
                      </a:lnTo>
                      <a:lnTo>
                        <a:pt x="36" y="57"/>
                      </a:lnTo>
                      <a:lnTo>
                        <a:pt x="49" y="60"/>
                      </a:lnTo>
                      <a:lnTo>
                        <a:pt x="60" y="62"/>
                      </a:lnTo>
                      <a:lnTo>
                        <a:pt x="68" y="62"/>
                      </a:lnTo>
                      <a:lnTo>
                        <a:pt x="74" y="60"/>
                      </a:lnTo>
                      <a:lnTo>
                        <a:pt x="80" y="59"/>
                      </a:lnTo>
                      <a:lnTo>
                        <a:pt x="89" y="54"/>
                      </a:lnTo>
                      <a:lnTo>
                        <a:pt x="96" y="50"/>
                      </a:lnTo>
                      <a:lnTo>
                        <a:pt x="85" y="45"/>
                      </a:lnTo>
                      <a:lnTo>
                        <a:pt x="77" y="39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71" y="15"/>
                      </a:lnTo>
                      <a:lnTo>
                        <a:pt x="79" y="18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9" y="34"/>
                      </a:lnTo>
                      <a:lnTo>
                        <a:pt x="109" y="37"/>
                      </a:lnTo>
                      <a:lnTo>
                        <a:pt x="119" y="39"/>
                      </a:lnTo>
                      <a:lnTo>
                        <a:pt x="131" y="37"/>
                      </a:lnTo>
                      <a:lnTo>
                        <a:pt x="139" y="38"/>
                      </a:lnTo>
                      <a:lnTo>
                        <a:pt x="147" y="39"/>
                      </a:lnTo>
                      <a:lnTo>
                        <a:pt x="155" y="42"/>
                      </a:lnTo>
                      <a:lnTo>
                        <a:pt x="165" y="48"/>
                      </a:lnTo>
                      <a:lnTo>
                        <a:pt x="172" y="54"/>
                      </a:lnTo>
                      <a:lnTo>
                        <a:pt x="180" y="59"/>
                      </a:lnTo>
                      <a:lnTo>
                        <a:pt x="187" y="59"/>
                      </a:lnTo>
                      <a:lnTo>
                        <a:pt x="194" y="54"/>
                      </a:lnTo>
                      <a:lnTo>
                        <a:pt x="202" y="50"/>
                      </a:lnTo>
                      <a:lnTo>
                        <a:pt x="211" y="50"/>
                      </a:lnTo>
                      <a:lnTo>
                        <a:pt x="222" y="50"/>
                      </a:lnTo>
                      <a:lnTo>
                        <a:pt x="231" y="53"/>
                      </a:lnTo>
                      <a:lnTo>
                        <a:pt x="240" y="56"/>
                      </a:lnTo>
                      <a:lnTo>
                        <a:pt x="248" y="57"/>
                      </a:lnTo>
                      <a:lnTo>
                        <a:pt x="255" y="56"/>
                      </a:lnTo>
                      <a:lnTo>
                        <a:pt x="266" y="54"/>
                      </a:lnTo>
                      <a:lnTo>
                        <a:pt x="274" y="52"/>
                      </a:lnTo>
                      <a:lnTo>
                        <a:pt x="284" y="54"/>
                      </a:lnTo>
                      <a:lnTo>
                        <a:pt x="296" y="56"/>
                      </a:lnTo>
                      <a:lnTo>
                        <a:pt x="310" y="57"/>
                      </a:lnTo>
                      <a:lnTo>
                        <a:pt x="323" y="59"/>
                      </a:lnTo>
                      <a:lnTo>
                        <a:pt x="332" y="63"/>
                      </a:lnTo>
                      <a:lnTo>
                        <a:pt x="341" y="67"/>
                      </a:lnTo>
                      <a:lnTo>
                        <a:pt x="349" y="73"/>
                      </a:lnTo>
                      <a:lnTo>
                        <a:pt x="356" y="75"/>
                      </a:lnTo>
                      <a:lnTo>
                        <a:pt x="361" y="75"/>
                      </a:lnTo>
                      <a:lnTo>
                        <a:pt x="368" y="74"/>
                      </a:lnTo>
                      <a:lnTo>
                        <a:pt x="386" y="70"/>
                      </a:lnTo>
                      <a:lnTo>
                        <a:pt x="366" y="67"/>
                      </a:lnTo>
                      <a:lnTo>
                        <a:pt x="371" y="59"/>
                      </a:lnTo>
                      <a:lnTo>
                        <a:pt x="378" y="49"/>
                      </a:lnTo>
                      <a:lnTo>
                        <a:pt x="385" y="48"/>
                      </a:lnTo>
                      <a:lnTo>
                        <a:pt x="478" y="69"/>
                      </a:lnTo>
                      <a:lnTo>
                        <a:pt x="483" y="73"/>
                      </a:lnTo>
                      <a:lnTo>
                        <a:pt x="466" y="82"/>
                      </a:lnTo>
                      <a:lnTo>
                        <a:pt x="478" y="86"/>
                      </a:lnTo>
                      <a:lnTo>
                        <a:pt x="486" y="87"/>
                      </a:lnTo>
                      <a:lnTo>
                        <a:pt x="492" y="93"/>
                      </a:lnTo>
                      <a:lnTo>
                        <a:pt x="499" y="97"/>
                      </a:lnTo>
                      <a:lnTo>
                        <a:pt x="508" y="94"/>
                      </a:lnTo>
                      <a:lnTo>
                        <a:pt x="517" y="92"/>
                      </a:lnTo>
                      <a:lnTo>
                        <a:pt x="526" y="87"/>
                      </a:lnTo>
                      <a:lnTo>
                        <a:pt x="533" y="93"/>
                      </a:lnTo>
                      <a:lnTo>
                        <a:pt x="542" y="104"/>
                      </a:lnTo>
                      <a:lnTo>
                        <a:pt x="550" y="112"/>
                      </a:lnTo>
                      <a:lnTo>
                        <a:pt x="558" y="117"/>
                      </a:lnTo>
                      <a:lnTo>
                        <a:pt x="568" y="120"/>
                      </a:lnTo>
                      <a:lnTo>
                        <a:pt x="577" y="122"/>
                      </a:lnTo>
                      <a:lnTo>
                        <a:pt x="591" y="120"/>
                      </a:lnTo>
                      <a:lnTo>
                        <a:pt x="603" y="118"/>
                      </a:lnTo>
                      <a:lnTo>
                        <a:pt x="615" y="116"/>
                      </a:lnTo>
                      <a:lnTo>
                        <a:pt x="629" y="113"/>
                      </a:lnTo>
                      <a:lnTo>
                        <a:pt x="643" y="109"/>
                      </a:lnTo>
                      <a:lnTo>
                        <a:pt x="654" y="107"/>
                      </a:lnTo>
                      <a:lnTo>
                        <a:pt x="664" y="100"/>
                      </a:lnTo>
                      <a:lnTo>
                        <a:pt x="674" y="96"/>
                      </a:lnTo>
                      <a:lnTo>
                        <a:pt x="684" y="96"/>
                      </a:lnTo>
                      <a:lnTo>
                        <a:pt x="694" y="92"/>
                      </a:lnTo>
                      <a:lnTo>
                        <a:pt x="704" y="89"/>
                      </a:lnTo>
                      <a:lnTo>
                        <a:pt x="715" y="85"/>
                      </a:lnTo>
                      <a:lnTo>
                        <a:pt x="727" y="85"/>
                      </a:lnTo>
                      <a:lnTo>
                        <a:pt x="738" y="85"/>
                      </a:lnTo>
                      <a:lnTo>
                        <a:pt x="746" y="86"/>
                      </a:lnTo>
                      <a:lnTo>
                        <a:pt x="754" y="82"/>
                      </a:lnTo>
                      <a:lnTo>
                        <a:pt x="764" y="77"/>
                      </a:lnTo>
                      <a:lnTo>
                        <a:pt x="775" y="77"/>
                      </a:lnTo>
                      <a:lnTo>
                        <a:pt x="789" y="77"/>
                      </a:lnTo>
                      <a:lnTo>
                        <a:pt x="800" y="77"/>
                      </a:lnTo>
                      <a:lnTo>
                        <a:pt x="814" y="77"/>
                      </a:lnTo>
                      <a:lnTo>
                        <a:pt x="839" y="70"/>
                      </a:lnTo>
                      <a:lnTo>
                        <a:pt x="845" y="74"/>
                      </a:lnTo>
                      <a:lnTo>
                        <a:pt x="851" y="81"/>
                      </a:lnTo>
                      <a:lnTo>
                        <a:pt x="858" y="85"/>
                      </a:lnTo>
                      <a:lnTo>
                        <a:pt x="865" y="86"/>
                      </a:lnTo>
                      <a:lnTo>
                        <a:pt x="875" y="85"/>
                      </a:lnTo>
                      <a:lnTo>
                        <a:pt x="886" y="81"/>
                      </a:lnTo>
                      <a:lnTo>
                        <a:pt x="904" y="78"/>
                      </a:lnTo>
                      <a:lnTo>
                        <a:pt x="912" y="83"/>
                      </a:lnTo>
                      <a:lnTo>
                        <a:pt x="918" y="89"/>
                      </a:lnTo>
                      <a:lnTo>
                        <a:pt x="924" y="91"/>
                      </a:lnTo>
                      <a:lnTo>
                        <a:pt x="932" y="92"/>
                      </a:lnTo>
                      <a:lnTo>
                        <a:pt x="939" y="96"/>
                      </a:lnTo>
                      <a:lnTo>
                        <a:pt x="942" y="104"/>
                      </a:lnTo>
                      <a:lnTo>
                        <a:pt x="948" y="116"/>
                      </a:lnTo>
                      <a:lnTo>
                        <a:pt x="954" y="119"/>
                      </a:lnTo>
                      <a:lnTo>
                        <a:pt x="962" y="122"/>
                      </a:lnTo>
                      <a:lnTo>
                        <a:pt x="970" y="122"/>
                      </a:lnTo>
                      <a:lnTo>
                        <a:pt x="973" y="117"/>
                      </a:lnTo>
                      <a:lnTo>
                        <a:pt x="978" y="104"/>
                      </a:lnTo>
                      <a:lnTo>
                        <a:pt x="984" y="107"/>
                      </a:lnTo>
                      <a:lnTo>
                        <a:pt x="990" y="108"/>
                      </a:lnTo>
                      <a:lnTo>
                        <a:pt x="998" y="107"/>
                      </a:lnTo>
                      <a:lnTo>
                        <a:pt x="1005" y="101"/>
                      </a:lnTo>
                      <a:lnTo>
                        <a:pt x="1014" y="97"/>
                      </a:lnTo>
                      <a:lnTo>
                        <a:pt x="1025" y="97"/>
                      </a:lnTo>
                      <a:lnTo>
                        <a:pt x="1017" y="109"/>
                      </a:lnTo>
                      <a:lnTo>
                        <a:pt x="1013" y="117"/>
                      </a:lnTo>
                      <a:lnTo>
                        <a:pt x="1021" y="115"/>
                      </a:lnTo>
                      <a:lnTo>
                        <a:pt x="1035" y="109"/>
                      </a:lnTo>
                      <a:lnTo>
                        <a:pt x="1048" y="111"/>
                      </a:lnTo>
                      <a:lnTo>
                        <a:pt x="1049" y="117"/>
                      </a:lnTo>
                      <a:lnTo>
                        <a:pt x="1051" y="123"/>
                      </a:lnTo>
                      <a:lnTo>
                        <a:pt x="1054" y="128"/>
                      </a:lnTo>
                      <a:lnTo>
                        <a:pt x="1060" y="132"/>
                      </a:lnTo>
                      <a:lnTo>
                        <a:pt x="1068" y="132"/>
                      </a:lnTo>
                      <a:lnTo>
                        <a:pt x="1078" y="131"/>
                      </a:lnTo>
                      <a:lnTo>
                        <a:pt x="1087" y="128"/>
                      </a:lnTo>
                      <a:lnTo>
                        <a:pt x="1096" y="132"/>
                      </a:lnTo>
                      <a:lnTo>
                        <a:pt x="1107" y="139"/>
                      </a:lnTo>
                      <a:lnTo>
                        <a:pt x="1113" y="146"/>
                      </a:lnTo>
                      <a:lnTo>
                        <a:pt x="1106" y="162"/>
                      </a:lnTo>
                      <a:lnTo>
                        <a:pt x="1098" y="168"/>
                      </a:lnTo>
                      <a:lnTo>
                        <a:pt x="1090" y="174"/>
                      </a:lnTo>
                      <a:lnTo>
                        <a:pt x="1084" y="178"/>
                      </a:lnTo>
                      <a:lnTo>
                        <a:pt x="1079" y="186"/>
                      </a:lnTo>
                      <a:lnTo>
                        <a:pt x="1077" y="194"/>
                      </a:lnTo>
                      <a:lnTo>
                        <a:pt x="1075" y="201"/>
                      </a:lnTo>
                      <a:lnTo>
                        <a:pt x="1073" y="210"/>
                      </a:lnTo>
                      <a:lnTo>
                        <a:pt x="1088" y="236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3616200" y="2757600"/>
              <a:ext cx="320616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ab051d"/>
                  </a:solidFill>
                  <a:latin typeface="Verdana"/>
                </a:rPr>
                <a:t>   </a:t>
              </a: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desperdici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retrabaj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ab051d"/>
                  </a:solidFill>
                  <a:latin typeface="Verdana"/>
                </a:rPr>
                <a:t>garantí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692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835280" y="198360"/>
            <a:ext cx="7129440" cy="128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Book Antiqua"/>
              </a:rPr>
              <a:t>Los Costos Ocultos de la No Calidad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360" y="2205000"/>
            <a:ext cx="8964720" cy="4176720"/>
          </a:xfrm>
          <a:prstGeom prst="rect">
            <a:avLst/>
          </a:prstGeom>
          <a:gradFill rotWithShape="0">
            <a:gsLst>
              <a:gs pos="0">
                <a:srgbClr val="660033">
                  <a:alpha val="92156"/>
                </a:srgbClr>
              </a:gs>
              <a:gs pos="50000">
                <a:srgbClr val="a76e8b"/>
              </a:gs>
              <a:gs pos="100000">
                <a:srgbClr val="660033">
                  <a:alpha val="9215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9900"/>
                </a:solidFill>
                <a:latin typeface="Book Antiqua"/>
              </a:rPr>
              <a:t>Premis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53028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1000">
              <a:lnSpc>
                <a:spcPct val="100000"/>
              </a:lnSpc>
              <a:buClr>
                <a:srgbClr val="cc66ff"/>
              </a:buClr>
              <a:buSzPct val="120000"/>
              <a:buFont typeface="Wingdings" charset="2"/>
              <a:buChar char="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Para cada No Conformidad hay 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	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una 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	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Causa Raí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1000">
              <a:lnSpc>
                <a:spcPct val="100000"/>
              </a:lnSpc>
              <a:tabLst>
                <a:tab algn="l" pos="0"/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1000">
              <a:lnSpc>
                <a:spcPct val="100000"/>
              </a:lnSpc>
              <a:buClr>
                <a:srgbClr val="cc66ff"/>
              </a:buClr>
              <a:buSzPct val="120000"/>
              <a:buFont typeface="Wingdings" charset="2"/>
              <a:buChar char="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Las Causas pueden Preveni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1000">
              <a:lnSpc>
                <a:spcPct val="100000"/>
              </a:lnSpc>
              <a:tabLst>
                <a:tab algn="l" pos="0"/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1000">
              <a:lnSpc>
                <a:spcPct val="100000"/>
              </a:lnSpc>
              <a:buClr>
                <a:srgbClr val="cc66ff"/>
              </a:buClr>
              <a:buSzPct val="120000"/>
              <a:buFont typeface="Wingdings" charset="2"/>
              <a:buChar char="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La Prevención es siempre “Más 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	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Barata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698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32920" y="5834160"/>
            <a:ext cx="703080" cy="979560"/>
          </a:xfrm>
          <a:prstGeom prst="rect">
            <a:avLst/>
          </a:prstGeom>
          <a:ln w="0">
            <a:noFill/>
          </a:ln>
        </p:spPr>
      </p:pic>
      <p:grpSp>
        <p:nvGrpSpPr>
          <p:cNvPr id="702" name=""/>
          <p:cNvGrpSpPr/>
          <p:nvPr/>
        </p:nvGrpSpPr>
        <p:grpSpPr>
          <a:xfrm>
            <a:off x="1123920" y="1792440"/>
            <a:ext cx="7521480" cy="4697280"/>
            <a:chOff x="1123920" y="1792440"/>
            <a:chExt cx="7521480" cy="4697280"/>
          </a:xfrm>
        </p:grpSpPr>
        <p:sp>
          <p:nvSpPr>
            <p:cNvPr id="703" name=""/>
            <p:cNvSpPr/>
            <p:nvPr/>
          </p:nvSpPr>
          <p:spPr>
            <a:xfrm>
              <a:off x="1123920" y="27828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DETERMINA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LOS COSTOS D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LA NO CALIDA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00440" y="182556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IDENTIFICAR LA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SITUACIONES D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NO CONFORMIDA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61200" y="2824200"/>
              <a:ext cx="2284200" cy="9144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DESARROLLAR Y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MEJORAR LA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FUENTES DE DATO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10160" y="4576680"/>
              <a:ext cx="2210040" cy="9144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DETERMINAR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LOS COSTOS D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LA NO CALIDA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14680" y="5575320"/>
              <a:ext cx="2641680" cy="9144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ENCONTRAR Y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ATACAR LAS CAUSA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DE  NO CONFORMIDA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3920" y="46116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PREVENIR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LAS N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 </a:t>
              </a:r>
              <a:r>
                <a:rPr b="1" lang="es-MX" sz="1700" spc="-1" strike="noStrike">
                  <a:solidFill>
                    <a:srgbClr val="660033"/>
                  </a:solidFill>
                  <a:latin typeface="Tahoma"/>
                </a:rPr>
                <a:t>CONFORMIDADE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5520" y="1792440"/>
              <a:ext cx="814320" cy="8665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5400000">
              <a:off x="6341400" y="191844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0800000">
              <a:off x="6384960" y="5608440"/>
              <a:ext cx="814320" cy="8665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2423160" y="5544360"/>
              <a:ext cx="814320" cy="8665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32080" y="3794040"/>
              <a:ext cx="485640" cy="6858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0800000">
              <a:off x="6795720" y="3814560"/>
              <a:ext cx="485640" cy="6858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5" name="" descr=""/>
            <p:cNvPicPr/>
            <p:nvPr/>
          </p:nvPicPr>
          <p:blipFill>
            <a:blip r:embed="rId2"/>
            <a:stretch/>
          </p:blipFill>
          <p:spPr>
            <a:xfrm>
              <a:off x="3562200" y="3087720"/>
              <a:ext cx="2590920" cy="22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ostos de la No 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718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La mejora de la Calidad trae siempre como resultado una mejora en los costos – hacer las cosas bien desde la primera vez es siempre más barat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La mejora de la Calidad y la reducción de los costos no pueden imponerse con órdenes, se ganan a través del proceso de resolución de problema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 algn="just">
              <a:lnSpc>
                <a:spcPct val="90000"/>
              </a:lnSpc>
              <a:spcBef>
                <a:spcPts val="85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La identificación de los Costos de la No Calidad y su incorporación al Sistema Contable de la organización permite a la Dirección una distribución mas acertada de los recursos, enfocando su accionar hacia la prevención y la mejora.</a:t>
            </a:r>
            <a:r>
              <a:rPr b="1" lang="es-MX" sz="34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2" name=""/>
          <p:cNvSpPr/>
          <p:nvPr/>
        </p:nvSpPr>
        <p:spPr>
          <a:xfrm>
            <a:off x="3997440" y="260280"/>
            <a:ext cx="4895640" cy="86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Book Antiqua"/>
              </a:rPr>
              <a:t>CONCLUS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12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437080" y="198360"/>
            <a:ext cx="35276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703520"/>
            <a:ext cx="6553440" cy="3749760"/>
          </a:xfrm>
          <a:prstGeom prst="rect">
            <a:avLst/>
          </a:prstGeom>
          <a:gradFill rotWithShape="0">
            <a:gsLst>
              <a:gs pos="0">
                <a:srgbClr val="660033">
                  <a:alpha val="50196"/>
                </a:srgbClr>
              </a:gs>
              <a:gs pos="50000">
                <a:srgbClr val="cba9ba"/>
              </a:gs>
              <a:gs pos="100000">
                <a:srgbClr val="660033">
                  <a:alpha val="50196"/>
                </a:srgbClr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Book Antiqua"/>
              </a:rPr>
              <a:t>Calidad es cumplir los requisitos de todas las partes involucrad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4633920"/>
            <a:ext cx="3363840" cy="210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77240" y="4384800"/>
            <a:ext cx="167148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20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437080" y="198360"/>
            <a:ext cx="35276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700280"/>
            <a:ext cx="8424720" cy="1191240"/>
          </a:xfrm>
          <a:prstGeom prst="rect">
            <a:avLst/>
          </a:prstGeom>
          <a:gradFill rotWithShape="0">
            <a:gsLst>
              <a:gs pos="0">
                <a:srgbClr val="440022"/>
              </a:gs>
              <a:gs pos="50000">
                <a:srgbClr val="ff6699"/>
              </a:gs>
              <a:gs pos="100000">
                <a:srgbClr val="440022"/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Requisitos : necesidades + expectati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10920" y="2978280"/>
            <a:ext cx="2514960" cy="3546360"/>
            <a:chOff x="610920" y="2978280"/>
            <a:chExt cx="2514960" cy="3546360"/>
          </a:xfrm>
        </p:grpSpPr>
        <p:sp>
          <p:nvSpPr>
            <p:cNvPr id="126" name=""/>
            <p:cNvSpPr txBox="1"/>
            <p:nvPr/>
          </p:nvSpPr>
          <p:spPr>
            <a:xfrm rot="5400000">
              <a:off x="-838440" y="4427640"/>
              <a:ext cx="354636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0"/>
                  </a:gradFill>
                  <a:effectLst>
                    <a:outerShdw dist="99192" dir="7781944" blurRad="0" rotWithShape="0">
                      <a:srgbClr val="000080">
                        <a:alpha val="80000"/>
                      </a:srgbClr>
                    </a:outerShdw>
                  </a:effectLst>
                  <a:latin typeface="Arial Black"/>
                </a:rPr>
                <a:t>EXPLICITO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476360" y="4879800"/>
              <a:ext cx="1649520" cy="157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143080" y="3068640"/>
            <a:ext cx="4857840" cy="2338560"/>
            <a:chOff x="2143080" y="3068640"/>
            <a:chExt cx="4857840" cy="2338560"/>
          </a:xfrm>
        </p:grpSpPr>
        <p:sp>
          <p:nvSpPr>
            <p:cNvPr id="129" name=""/>
            <p:cNvSpPr txBox="1"/>
            <p:nvPr/>
          </p:nvSpPr>
          <p:spPr>
            <a:xfrm>
              <a:off x="2143080" y="3068640"/>
              <a:ext cx="4857840" cy="70488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Comic Sans MS"/>
                </a:rPr>
                <a:t>REGLAMENTARIOS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749760" y="3573360"/>
              <a:ext cx="1614240" cy="183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6588000" y="3068640"/>
            <a:ext cx="2016000" cy="3459240"/>
            <a:chOff x="6588000" y="3068640"/>
            <a:chExt cx="2016000" cy="3459240"/>
          </a:xfrm>
        </p:grpSpPr>
        <p:sp>
          <p:nvSpPr>
            <p:cNvPr id="132" name=""/>
            <p:cNvSpPr txBox="1"/>
            <p:nvPr/>
          </p:nvSpPr>
          <p:spPr>
            <a:xfrm rot="5400000">
              <a:off x="6550560" y="4474440"/>
              <a:ext cx="34592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>
                        <a:alpha val="80000"/>
                      </a:srgbClr>
                    </a:outerShdw>
                  </a:effectLst>
                  <a:latin typeface="Arial Black"/>
                </a:rPr>
                <a:t>IMPLICITO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6588000" y="4859280"/>
              <a:ext cx="1297080" cy="1665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35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437080" y="198360"/>
            <a:ext cx="35276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Calida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9280" y="1484280"/>
            <a:ext cx="8713800" cy="5157720"/>
            <a:chOff x="179280" y="1484280"/>
            <a:chExt cx="8713800" cy="5157720"/>
          </a:xfrm>
        </p:grpSpPr>
        <p:sp>
          <p:nvSpPr>
            <p:cNvPr id="140" name=""/>
            <p:cNvSpPr/>
            <p:nvPr/>
          </p:nvSpPr>
          <p:spPr>
            <a:xfrm>
              <a:off x="179280" y="1484280"/>
              <a:ext cx="8713800" cy="5157720"/>
            </a:xfrm>
            <a:prstGeom prst="ellipse">
              <a:avLst/>
            </a:prstGeom>
            <a:gradFill rotWithShape="0">
              <a:gsLst>
                <a:gs pos="0">
                  <a:srgbClr val="752f46"/>
                </a:gs>
                <a:gs pos="50000">
                  <a:srgbClr val="ff6699"/>
                </a:gs>
                <a:gs pos="100000">
                  <a:srgbClr val="752f46"/>
                </a:gs>
              </a:gsLst>
              <a:lin ang="10800000"/>
            </a:gra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1160" y="2205000"/>
              <a:ext cx="7247160" cy="393372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747720" y="1989000"/>
              <a:ext cx="7574040" cy="3456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0033"/>
                  </a:solidFill>
                  <a:effectLst>
                    <a:outerShdw dist="17819" dir="2700000" blurRad="0" rotWithShape="0">
                      <a:srgbClr val="ffcc66"/>
                    </a:outerShdw>
                  </a:effectLst>
                  <a:latin typeface="Arial Black"/>
                </a:rPr>
                <a:t>COMPROMISO Y LIDERAZGO DE LA DIRECC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ffcc6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87160" y="2637000"/>
              <a:ext cx="415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Verdana"/>
                </a:rPr>
                <a:t>CUMPLIR LOS REQUISIT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1680" y="3141720"/>
              <a:ext cx="1579320" cy="1347840"/>
            </a:xfrm>
            <a:prstGeom prst="ellipse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Book Antiqua"/>
                </a:rPr>
                <a:t> </a:t>
              </a:r>
              <a:r>
                <a:rPr b="1" lang="en-US" sz="1800" spc="-1" strike="noStrike">
                  <a:solidFill>
                    <a:srgbClr val="660033"/>
                  </a:solidFill>
                  <a:latin typeface="Book Antiqua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41360" y="3162240"/>
              <a:ext cx="1579680" cy="1347840"/>
            </a:xfrm>
            <a:prstGeom prst="ellipse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33"/>
                  </a:solidFill>
                  <a:latin typeface="Book Antiqua"/>
                </a:rPr>
                <a:t>PERS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86680" y="3141720"/>
              <a:ext cx="1579320" cy="1347840"/>
            </a:xfrm>
            <a:prstGeom prst="ellipse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Book Antiqua"/>
                </a:rPr>
                <a:t> </a:t>
              </a:r>
              <a:r>
                <a:rPr b="1" lang="en-US" sz="1600" spc="-1" strike="noStrike">
                  <a:solidFill>
                    <a:srgbClr val="660033"/>
                  </a:solidFill>
                  <a:latin typeface="Book Antiqua"/>
                </a:rPr>
                <a:t>SOCIED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63680" y="4457880"/>
              <a:ext cx="1579680" cy="1347480"/>
            </a:xfrm>
            <a:prstGeom prst="ellipse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33"/>
                  </a:solidFill>
                  <a:latin typeface="Book Antiqua"/>
                </a:rPr>
                <a:t>SOCI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9040" y="4395960"/>
              <a:ext cx="1579320" cy="1347480"/>
            </a:xfrm>
            <a:prstGeom prst="ellipse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33"/>
                  </a:solidFill>
                  <a:latin typeface="Book Antiqua"/>
                </a:rPr>
                <a:t>PROVEED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46240" y="3645000"/>
              <a:ext cx="833760" cy="358560"/>
            </a:xfrm>
            <a:prstGeom prst="rightArrow">
              <a:avLst>
                <a:gd name="adj1" fmla="val 50000"/>
                <a:gd name="adj2" fmla="val 58133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5435280" y="3645000"/>
              <a:ext cx="833400" cy="358560"/>
            </a:xfrm>
            <a:prstGeom prst="rightArrow">
              <a:avLst>
                <a:gd name="adj1" fmla="val 50000"/>
                <a:gd name="adj2" fmla="val 58107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8900000">
              <a:off x="3780000" y="4652640"/>
              <a:ext cx="833400" cy="358560"/>
            </a:xfrm>
            <a:prstGeom prst="rightArrow">
              <a:avLst>
                <a:gd name="adj1" fmla="val 50000"/>
                <a:gd name="adj2" fmla="val 58107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4575600" y="4632480"/>
              <a:ext cx="833400" cy="358920"/>
            </a:xfrm>
            <a:prstGeom prst="rightArrow">
              <a:avLst>
                <a:gd name="adj1" fmla="val 50000"/>
                <a:gd name="adj2" fmla="val 58049"/>
              </a:avLst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2770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Comprensión y cumplimiento de los requisit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Necesidad de considerar los procesos en términos que aporten val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Obtención de resultados del desempeño y eficacia del proces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Book Antiqua"/>
              </a:rPr>
              <a:t>Mejora continua de los procesos en base a  mediciones objetivas </a:t>
            </a:r>
            <a:br>
              <a:rPr sz="1800"/>
            </a:br>
            <a:r>
              <a:rPr b="1" lang="es-ES" sz="1800" spc="-1" strike="noStrike">
                <a:solidFill>
                  <a:srgbClr val="ffcc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55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0920" y="1523880"/>
            <a:ext cx="871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Book Antiqua"/>
              </a:rPr>
              <a:t>El Enfoque basado en los Procesos enfatiza la importancia de l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La Gestión por Proce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524720" y="4761000"/>
            <a:ext cx="19098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68480" y="3097080"/>
            <a:ext cx="5765040" cy="3456000"/>
            <a:chOff x="168480" y="3097080"/>
            <a:chExt cx="5765040" cy="3456000"/>
          </a:xfrm>
        </p:grpSpPr>
        <p:grpSp>
          <p:nvGrpSpPr>
            <p:cNvPr id="162" name=""/>
            <p:cNvGrpSpPr/>
            <p:nvPr/>
          </p:nvGrpSpPr>
          <p:grpSpPr>
            <a:xfrm>
              <a:off x="168480" y="3238560"/>
              <a:ext cx="5765040" cy="3025440"/>
              <a:chOff x="168480" y="3238560"/>
              <a:chExt cx="5765040" cy="3025440"/>
            </a:xfrm>
          </p:grpSpPr>
          <p:sp>
            <p:nvSpPr>
              <p:cNvPr id="163" name=""/>
              <p:cNvSpPr/>
              <p:nvPr/>
            </p:nvSpPr>
            <p:spPr>
              <a:xfrm>
                <a:off x="1593720" y="4417200"/>
                <a:ext cx="2132280" cy="91620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77520" y="4394520"/>
                <a:ext cx="2154240" cy="915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660033"/>
                  </a:gs>
                  <a:gs pos="100000">
                    <a:srgbClr val="ffcc66"/>
                  </a:gs>
                </a:gsLst>
                <a:lin ang="5400000"/>
              </a:gradFill>
              <a:ln w="79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ffcc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160" y="4717080"/>
                <a:ext cx="1143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fcc00"/>
                    </a:solidFill>
                    <a:latin typeface="Arial"/>
                  </a:rPr>
                  <a:t>PROCES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8480" y="445032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ffffff"/>
                    </a:solidFill>
                    <a:latin typeface="Arial"/>
                  </a:rPr>
                  <a:t>ENTRA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00360" y="4450320"/>
                <a:ext cx="75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ffffff"/>
                    </a:solidFill>
                    <a:latin typeface="Arial"/>
                  </a:rPr>
                  <a:t>SALI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52200" y="3238560"/>
                <a:ext cx="3181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ffffff"/>
                    </a:solidFill>
                    <a:latin typeface="Arial"/>
                  </a:rPr>
                  <a:t>CONTROL (PROCEDIMIENTOS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67040" y="6020280"/>
                <a:ext cx="2602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ffffff"/>
                    </a:solidFill>
                    <a:latin typeface="Arial"/>
                  </a:rPr>
                  <a:t>MECANISMO (RECURSOS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79520" y="3097080"/>
              <a:ext cx="4387680" cy="3456000"/>
              <a:chOff x="479520" y="3097080"/>
              <a:chExt cx="4387680" cy="345600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665080" y="3097080"/>
                <a:ext cx="3240" cy="1265400"/>
              </a:xfrm>
              <a:prstGeom prst="line">
                <a:avLst/>
              </a:prstGeom>
              <a:ln w="44280">
                <a:solidFill>
                  <a:srgbClr val="ff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9520" y="4781520"/>
                <a:ext cx="1042920" cy="3240"/>
              </a:xfrm>
              <a:prstGeom prst="line">
                <a:avLst/>
              </a:prstGeom>
              <a:ln w="44280">
                <a:solidFill>
                  <a:srgbClr val="ff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2683080" y="5383080"/>
                <a:ext cx="1440" cy="1170000"/>
              </a:xfrm>
              <a:prstGeom prst="line">
                <a:avLst/>
              </a:prstGeom>
              <a:ln w="44280">
                <a:solidFill>
                  <a:srgbClr val="ff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24280" y="4716360"/>
                <a:ext cx="1042920" cy="131760"/>
                <a:chOff x="3824280" y="4716360"/>
                <a:chExt cx="1042920" cy="1317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824280" y="4782960"/>
                  <a:ext cx="1042920" cy="1800"/>
                </a:xfrm>
                <a:prstGeom prst="line">
                  <a:avLst/>
                </a:prstGeom>
                <a:ln w="44280">
                  <a:solidFill>
                    <a:srgbClr val="ff66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18160" y="4716360"/>
                  <a:ext cx="108000" cy="131760"/>
                </a:xfrm>
                <a:custGeom>
                  <a:avLst/>
                  <a:gdLst/>
                  <a:ahLst/>
                  <a:rect l="l" t="t" r="r" b="b"/>
                  <a:pathLst>
                    <a:path w="59" h="64">
                      <a:moveTo>
                        <a:pt x="59" y="32"/>
                      </a:moveTo>
                      <a:lnTo>
                        <a:pt x="0" y="64"/>
                      </a:lnTo>
                      <a:lnTo>
                        <a:pt x="0" y="0"/>
                      </a:lnTo>
                      <a:lnTo>
                        <a:pt x="59" y="32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solidFill>
                    <a:srgbClr val="ff66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539640" y="1773360"/>
            <a:ext cx="82803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cc66"/>
                </a:solidFill>
                <a:latin typeface="Book Antiqua"/>
              </a:rPr>
              <a:t>Conjunto de actividades mutuamente relacionadas o que interactúan, transformando elementos de  entrada en result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Proces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840800" y="4581360"/>
            <a:ext cx="1303200" cy="19717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81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La Gestión por Proce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solidFill>
            <a:srgbClr val="ff66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Book Antiqua"/>
              </a:rPr>
              <a:t>Procesos Interrelacionado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187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900720" y="2610000"/>
            <a:ext cx="7640640" cy="3485520"/>
            <a:chOff x="900720" y="2610000"/>
            <a:chExt cx="7640640" cy="3485520"/>
          </a:xfrm>
        </p:grpSpPr>
        <p:grpSp>
          <p:nvGrpSpPr>
            <p:cNvPr id="191" name=""/>
            <p:cNvGrpSpPr/>
            <p:nvPr/>
          </p:nvGrpSpPr>
          <p:grpSpPr>
            <a:xfrm>
              <a:off x="6093000" y="4724280"/>
              <a:ext cx="1496520" cy="622440"/>
              <a:chOff x="6093000" y="4724280"/>
              <a:chExt cx="1496520" cy="622440"/>
            </a:xfrm>
          </p:grpSpPr>
          <p:sp>
            <p:nvSpPr>
              <p:cNvPr id="192" name=""/>
              <p:cNvSpPr/>
              <p:nvPr/>
            </p:nvSpPr>
            <p:spPr>
              <a:xfrm>
                <a:off x="6099840" y="4740480"/>
                <a:ext cx="1489680" cy="6062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660033"/>
                  </a:gs>
                  <a:gs pos="100000">
                    <a:srgbClr val="ffcc66"/>
                  </a:gs>
                </a:gsLst>
                <a:lin ang="5400000"/>
              </a:gradFill>
              <a:ln w="792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93000" y="4724280"/>
                <a:ext cx="1494720" cy="6159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660033"/>
                  </a:gs>
                  <a:gs pos="100000">
                    <a:srgbClr val="ffcc66"/>
                  </a:gs>
                </a:gsLst>
                <a:lin ang="5400000"/>
              </a:gradFill>
              <a:ln w="79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773760" y="3933720"/>
              <a:ext cx="110880" cy="800280"/>
              <a:chOff x="6773760" y="3933720"/>
              <a:chExt cx="110880" cy="800280"/>
            </a:xfrm>
          </p:grpSpPr>
          <p:sp>
            <p:nvSpPr>
              <p:cNvPr id="195" name=""/>
              <p:cNvSpPr/>
              <p:nvPr/>
            </p:nvSpPr>
            <p:spPr>
              <a:xfrm>
                <a:off x="6829920" y="3933720"/>
                <a:ext cx="1800" cy="7747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3760" y="4638600"/>
                <a:ext cx="110880" cy="9540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33" y="60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319800" y="4971960"/>
              <a:ext cx="10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cc00"/>
                  </a:solidFill>
                  <a:latin typeface="Arial"/>
                </a:rPr>
                <a:t>PROCESO</a:t>
              </a:r>
              <a:r>
                <a:rPr b="1" lang="es-MX" sz="1400" spc="-1" strike="noStrike">
                  <a:solidFill>
                    <a:srgbClr val="ffcc00"/>
                  </a:solidFill>
                  <a:latin typeface="Arial"/>
                </a:rPr>
                <a:t> 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131920" y="3524400"/>
              <a:ext cx="1506240" cy="624960"/>
              <a:chOff x="2131920" y="3524400"/>
              <a:chExt cx="1506240" cy="624960"/>
            </a:xfrm>
          </p:grpSpPr>
          <p:sp>
            <p:nvSpPr>
              <p:cNvPr id="199" name=""/>
              <p:cNvSpPr/>
              <p:nvPr/>
            </p:nvSpPr>
            <p:spPr>
              <a:xfrm>
                <a:off x="2131920" y="3524400"/>
                <a:ext cx="1495800" cy="615600"/>
              </a:xfrm>
              <a:prstGeom prst="rect">
                <a:avLst/>
              </a:prstGeom>
              <a:solidFill>
                <a:srgbClr val="808080"/>
              </a:solidFill>
              <a:ln w="792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42000" y="3533760"/>
                <a:ext cx="1496160" cy="6156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660033"/>
                  </a:gs>
                  <a:gs pos="100000">
                    <a:srgbClr val="ffcc66"/>
                  </a:gs>
                </a:gsLst>
                <a:lin ang="5400000"/>
              </a:gradFill>
              <a:ln w="79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492360" y="4789440"/>
              <a:ext cx="1503000" cy="628560"/>
              <a:chOff x="3492360" y="4789440"/>
              <a:chExt cx="1503000" cy="628560"/>
            </a:xfrm>
          </p:grpSpPr>
          <p:sp>
            <p:nvSpPr>
              <p:cNvPr id="202" name=""/>
              <p:cNvSpPr/>
              <p:nvPr/>
            </p:nvSpPr>
            <p:spPr>
              <a:xfrm>
                <a:off x="3499200" y="4789440"/>
                <a:ext cx="1496160" cy="615960"/>
              </a:xfrm>
              <a:prstGeom prst="rect">
                <a:avLst/>
              </a:prstGeom>
              <a:solidFill>
                <a:srgbClr val="808080"/>
              </a:solidFill>
              <a:ln w="792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92360" y="4802040"/>
                <a:ext cx="1496520" cy="6159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660033"/>
                  </a:gs>
                  <a:gs pos="100000">
                    <a:srgbClr val="ffcc66"/>
                  </a:gs>
                </a:gsLst>
                <a:lin ang="5400000"/>
              </a:gradFill>
              <a:ln w="792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094360" y="5024520"/>
              <a:ext cx="925200" cy="75960"/>
              <a:chOff x="5094360" y="5024520"/>
              <a:chExt cx="925200" cy="75960"/>
            </a:xfrm>
          </p:grpSpPr>
          <p:sp>
            <p:nvSpPr>
              <p:cNvPr id="205" name=""/>
              <p:cNvSpPr/>
              <p:nvPr/>
            </p:nvSpPr>
            <p:spPr>
              <a:xfrm>
                <a:off x="5094360" y="5061960"/>
                <a:ext cx="893520" cy="7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10840" y="5024520"/>
                <a:ext cx="108720" cy="759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32"/>
                    </a:moveTo>
                    <a:lnTo>
                      <a:pt x="0" y="65"/>
                    </a:lnTo>
                    <a:lnTo>
                      <a:pt x="0" y="0"/>
                    </a:lnTo>
                    <a:lnTo>
                      <a:pt x="60" y="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681280" y="5029200"/>
              <a:ext cx="782280" cy="102960"/>
              <a:chOff x="2681280" y="5029200"/>
              <a:chExt cx="782280" cy="102960"/>
            </a:xfrm>
          </p:grpSpPr>
          <p:sp>
            <p:nvSpPr>
              <p:cNvPr id="208" name=""/>
              <p:cNvSpPr/>
              <p:nvPr/>
            </p:nvSpPr>
            <p:spPr>
              <a:xfrm>
                <a:off x="2681280" y="5075280"/>
                <a:ext cx="772200" cy="14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60600" y="50292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32"/>
                    </a:moveTo>
                    <a:lnTo>
                      <a:pt x="0" y="65"/>
                    </a:lnTo>
                    <a:lnTo>
                      <a:pt x="0" y="0"/>
                    </a:lnTo>
                    <a:lnTo>
                      <a:pt x="60" y="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280960" y="3711600"/>
              <a:ext cx="106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cc00"/>
                  </a:solidFill>
                  <a:latin typeface="Arial"/>
                </a:rPr>
                <a:t>PROCESO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0840" y="4976640"/>
              <a:ext cx="10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cc00"/>
                  </a:solidFill>
                  <a:latin typeface="Arial"/>
                </a:rPr>
                <a:t>PROCESO</a:t>
              </a:r>
              <a:r>
                <a:rPr b="1" lang="es-MX" sz="1400" spc="-1" strike="noStrike">
                  <a:solidFill>
                    <a:srgbClr val="ffcc00"/>
                  </a:solidFill>
                  <a:latin typeface="Arial"/>
                </a:rPr>
                <a:t>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00720" y="3549600"/>
              <a:ext cx="104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ENTRADA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00760" y="477216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SALIDA 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00960" y="2762280"/>
              <a:ext cx="110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CONTROL 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8160" y="5754600"/>
              <a:ext cx="128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MECANISMO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81960" y="4827600"/>
              <a:ext cx="104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ENTRADA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45760" y="4809960"/>
              <a:ext cx="104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ENTRADA 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5120" y="518328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SALIDA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68200" y="4122720"/>
              <a:ext cx="109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CONTROL B</a:t>
              </a: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520" y="352440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SALIDA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55920" y="4057560"/>
              <a:ext cx="105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CONTROLC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98960" y="4681440"/>
              <a:ext cx="11268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33" y="60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33" y="6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49680" y="3765600"/>
              <a:ext cx="504720" cy="64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235160" y="3753000"/>
              <a:ext cx="834480" cy="102960"/>
              <a:chOff x="1235160" y="3753000"/>
              <a:chExt cx="834480" cy="102960"/>
            </a:xfrm>
          </p:grpSpPr>
          <p:sp>
            <p:nvSpPr>
              <p:cNvPr id="225" name=""/>
              <p:cNvSpPr/>
              <p:nvPr/>
            </p:nvSpPr>
            <p:spPr>
              <a:xfrm>
                <a:off x="1235160" y="3801960"/>
                <a:ext cx="771120" cy="10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7040" y="3753000"/>
                <a:ext cx="102600" cy="1029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33"/>
                    </a:moveTo>
                    <a:lnTo>
                      <a:pt x="0" y="65"/>
                    </a:lnTo>
                    <a:lnTo>
                      <a:pt x="0" y="0"/>
                    </a:lnTo>
                    <a:lnTo>
                      <a:pt x="60" y="3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822400" y="2610000"/>
              <a:ext cx="111240" cy="900000"/>
              <a:chOff x="2822400" y="2610000"/>
              <a:chExt cx="111240" cy="900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874960" y="2610000"/>
                <a:ext cx="1440" cy="8316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22400" y="3414600"/>
                <a:ext cx="111240" cy="9540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32" y="60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32" y="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149720" y="3767040"/>
              <a:ext cx="0" cy="914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111560" y="5423040"/>
              <a:ext cx="110880" cy="672480"/>
              <a:chOff x="4111560" y="5423040"/>
              <a:chExt cx="110880" cy="672480"/>
            </a:xfrm>
          </p:grpSpPr>
          <p:sp>
            <p:nvSpPr>
              <p:cNvPr id="232" name=""/>
              <p:cNvSpPr/>
              <p:nvPr/>
            </p:nvSpPr>
            <p:spPr>
              <a:xfrm>
                <a:off x="4111560" y="5423040"/>
                <a:ext cx="110880" cy="96480"/>
              </a:xfrm>
              <a:custGeom>
                <a:avLst/>
                <a:gdLst/>
                <a:ahLst/>
                <a:rect l="l" t="t" r="r" b="b"/>
                <a:pathLst>
                  <a:path w="65" h="61">
                    <a:moveTo>
                      <a:pt x="33" y="0"/>
                    </a:moveTo>
                    <a:lnTo>
                      <a:pt x="65" y="61"/>
                    </a:lnTo>
                    <a:lnTo>
                      <a:pt x="0" y="6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69880" y="5514840"/>
                <a:ext cx="0" cy="5806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37040" y="4991040"/>
              <a:ext cx="903240" cy="103320"/>
              <a:chOff x="7637040" y="4991040"/>
              <a:chExt cx="903240" cy="103320"/>
            </a:xfrm>
          </p:grpSpPr>
          <p:sp>
            <p:nvSpPr>
              <p:cNvPr id="235" name=""/>
              <p:cNvSpPr/>
              <p:nvPr/>
            </p:nvSpPr>
            <p:spPr>
              <a:xfrm>
                <a:off x="8435520" y="4991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61" y="32"/>
                    </a:moveTo>
                    <a:lnTo>
                      <a:pt x="0" y="65"/>
                    </a:lnTo>
                    <a:lnTo>
                      <a:pt x="0" y="0"/>
                    </a:lnTo>
                    <a:lnTo>
                      <a:pt x="61" y="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637040" y="5043240"/>
                <a:ext cx="82548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572000" y="3860640"/>
              <a:ext cx="111240" cy="900000"/>
              <a:chOff x="4572000" y="3860640"/>
              <a:chExt cx="111240" cy="90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624560" y="3860640"/>
                <a:ext cx="1440" cy="8316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2000" y="4665240"/>
                <a:ext cx="111240" cy="9540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32" y="60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32" y="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La Gestión por Proce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81356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buClr>
                <a:srgbClr val="ff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Book Antiqua"/>
              </a:rPr>
              <a:t>Modelo de un Sistema de Gestión de la Calidad basado en Proces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-181080" y="-98280"/>
            <a:ext cx="2592360" cy="1438200"/>
            <a:chOff x="-181080" y="-98280"/>
            <a:chExt cx="2592360" cy="1438200"/>
          </a:xfrm>
        </p:grpSpPr>
        <p:sp>
          <p:nvSpPr>
            <p:cNvPr id="243" name=""/>
            <p:cNvSpPr/>
            <p:nvPr/>
          </p:nvSpPr>
          <p:spPr>
            <a:xfrm>
              <a:off x="-181080" y="0"/>
              <a:ext cx="1746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cc66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920" y="-98280"/>
              <a:ext cx="18730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cc66ff"/>
                  </a:solidFill>
                  <a:latin typeface="Book Antiqua"/>
                </a:rPr>
                <a:t>QGA</a:t>
              </a:r>
              <a:r>
                <a:rPr b="0" lang="es-AR" sz="4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br>
                <a:rPr sz="4800"/>
              </a:b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360" y="476280"/>
              <a:ext cx="2239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b20059"/>
                  </a:solidFill>
                  <a:latin typeface="Book Antiqua"/>
                </a:rPr>
                <a:t>QGA</a:t>
              </a:r>
              <a:br>
                <a:rPr sz="4800"/>
              </a:b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416720" cy="5259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5280" y="198360"/>
            <a:ext cx="7129440" cy="92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Book Antiqua"/>
              </a:rPr>
              <a:t>La Gestión por Proce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20:35:08Z</dcterms:created>
  <dc:creator>Ana M. vazquez</dc:creator>
  <dc:description/>
  <dc:language>en-US</dc:language>
  <cp:lastModifiedBy>C.P.C.E.C.A.B.A.</cp:lastModifiedBy>
  <dcterms:modified xsi:type="dcterms:W3CDTF">2004-10-13T13:08:53Z</dcterms:modified>
  <cp:revision>208</cp:revision>
  <dc:subject/>
  <dc:title>Las Normas ISO 9000 y el Rediseño de los Procesos</dc:title>
</cp:coreProperties>
</file>