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08E-222E-4A8B-AD1D-5FF29D2C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63B-68A3-45C8-922D-520FC63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B80-D141-4300-B081-3DBDD7CC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C34-27A0-439F-AB2D-18BEEE51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5A0-6E02-439F-BE1F-A066842A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AA96-F80B-4DA7-89E7-FE7F3F94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C701-4687-4E9F-B8B1-E2597C1F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328-62EA-4559-A240-C28EEC0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573-4F6F-4338-9571-D10A100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ED7-0BB1-456E-A6C3-B34375C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8FB-FBEB-47A0-92D5-62A3034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75C-A1C4-49DC-B7D6-18AE71B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31C4-A2B9-4F79-9D9A-7F75B0D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A646-5EF1-4992-A395-EDA07B0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EA02-B13D-45A9-B1CC-8F9A3CE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14EE-CAF9-4D35-88B0-2E590BD5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40F-5256-4FA1-93A9-AA18FF44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1A5-D31C-403C-B6E2-BF6E0354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78-3E99-40D8-8AF2-BC6B3D7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29D-98CA-4C5B-BA2C-E1ED7A6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339-CD74-4BFC-82E4-4334386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FB0-50C8-427C-94D0-DB99BD86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178-0097-4F9F-9D66-55400B67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6A6-7191-47E0-B2D9-482EB775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9ACD-C73E-4382-9622-61427347045E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D0E-66F4-4FB0-9B34-8E38DC479CE8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98620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3200400"/>
          <a:ext cx="7696080" cy="820800"/>
        </p:xfrm>
        <a:graphic>
          <a:graphicData uri="http://schemas.openxmlformats.org/drawingml/2006/table">
            <a:tbl>
              <a:tblPr/>
              <a:tblGrid>
                <a:gridCol w="1387440"/>
                <a:gridCol w="762120"/>
                <a:gridCol w="55465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Áre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ECONOMÍA SOCIAL Y DESARROLLO LOC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Tem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4.3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Las Entidades Locales en función del Desarrollo. Corredores Productiv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Book Antiqua"/>
              </a:rPr>
              <a:t>VII Congreso de la Pequeña y Mediana Empre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9907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Book Antiqua"/>
              </a:rPr>
              <a:t>“</a:t>
            </a:r>
            <a:r>
              <a:rPr b="1" lang="es-ES_tradnl" sz="1600" spc="-1" strike="noStrike">
                <a:solidFill>
                  <a:srgbClr val="ffcc00"/>
                </a:solidFill>
                <a:latin typeface="Book Antiqua"/>
              </a:rPr>
              <a:t>PyMES 2004: Su reinserción después de la Crisis”</a:t>
            </a:r>
            <a:br>
              <a:rPr sz="1600"/>
            </a:br>
            <a:r>
              <a:rPr b="1" lang="es-ES_tradnl" sz="1600" spc="-1" strike="noStrike">
                <a:solidFill>
                  <a:srgbClr val="ffcc00"/>
                </a:solidFill>
                <a:latin typeface="Book Antiqua"/>
              </a:rPr>
              <a:t>“Herramientas de gestión en el escenario actual. El impacto del despertar solitario. El rol de profesionales y empresarios”.</a:t>
            </a: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830592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Book Antiqua"/>
              </a:rPr>
              <a:t>“</a:t>
            </a:r>
            <a:r>
              <a:rPr b="1" lang="es-ES_tradnl" sz="1600" spc="-1" strike="noStrike">
                <a:solidFill>
                  <a:srgbClr val="ffcc00"/>
                </a:solidFill>
                <a:latin typeface="Book Antiqua"/>
              </a:rPr>
              <a:t>CONSEJO PARA EL DESARROLLO PRODUCTIVO DE CONCEPCION DEL URUGUAY: UNA EXPERIENCIA POSITIVA”.</a:t>
            </a: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4343400"/>
          <a:ext cx="8458200" cy="1428840"/>
        </p:xfrm>
        <a:graphic>
          <a:graphicData uri="http://schemas.openxmlformats.org/drawingml/2006/table">
            <a:tbl>
              <a:tblPr/>
              <a:tblGrid>
                <a:gridCol w="2133720"/>
                <a:gridCol w="632448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Cr. Guillermo Enrique Vázquez  y Verónica Vázquez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Domicili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San Martín 101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Teléfo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03442 - 42288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Correo Electrónic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Guienvaz@riouruguay.com.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43000" y="5943600"/>
          <a:ext cx="6095880" cy="669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Ciudad Autónoma de Buenos Air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30 de Septiembre y 1 de Octubre de 2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00"/>
                </a:solidFill>
                <a:latin typeface="Book Antiqua"/>
              </a:rPr>
              <a:t>RESTRICCIONE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Las Soluciona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Bajos niveles de generación de sistemas institucionales de apoy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Debilidad de articulación entre el Sector Público y el Sector Priv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Baja participación desde las instancias privadas en la generación de propuestas y proyec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Poca valorización de lo local no acompañada de un proceso de descentralización de actividades nacionales o provinci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Las que Restan Resolv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El desarrollo local no encierra una respuesta en términos generales incorporando cuestiones que tienen que ver con el desarrollo humano y el soc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Falta de un adecuado modelo de vertebración de las medidas nacionales de fomento a la competitividad que den respuesta a los desequilibrios territori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223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CARACTERÍSTICAS DEL PROYEC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Anteced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Participa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Objetiv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Anteceden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Los planes Estratégico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Las reuniones regionales de fines de 1999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La Ordenanza 4627/200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La decisión de aumentar el valor agregado loc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El proceso de integración regional en el marco del MERCOS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06668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10080" y="1066680"/>
          <a:ext cx="3276720" cy="173844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El Plan de Ordenamiento Urbano (PLANUR) (1984 – 1987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La reformulación del PLANUR       (1993 – 1995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El Plan Estratégico de Concepción del Uruguay (1999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Participan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447920"/>
          <a:ext cx="1905120" cy="185724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EDUCAC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UN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UT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UCU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UAD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867280" y="4876920"/>
          <a:ext cx="2819520" cy="116208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SECTOR PRIV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Cámaras Industrial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Centro Comerci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43200" y="2895480"/>
          <a:ext cx="2971800" cy="185580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SECTOR PÚBLIC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Municipalida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INT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INTI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Zona Fran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Constituir un medio para la participación activa de la comunidad en los temas que hacen a su desarrollo productiv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Actuar planificadamente para que ese desarrollo sea ordenado y armóni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Canalizar las inquietudes y necesidades del sector productivo, procurando su planeamiento discusión  y análisis como así también la elaboración de propuestas que ayuden al proceso de toma de decisiones polític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Promover la radicación de nuevas empresas en Concepción del Uruguay con el objeto de generar fuentes de trabajo que permitan el digno desarrollo de los habitantes de la ciudad y su zona de influenc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Gestionar ante las Autoridades Provinciales y Nacionales  la realización de obras de infraestructura ligadas al desarrollo productivo de la reg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Promover la cooperación entre los distintos sectores de la comunidad productiva y entre estos y los gobiernos Nacional, Provincial y Municipal, constituyéndose en un interlocutor válido y necesario para la discusión y consulta de políticas que influyan en el desarrollo general de la ciudad y de la reg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Preservar y mejorar el medio ambiente y la calidad de vida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650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00"/>
                </a:solidFill>
                <a:latin typeface="Book Antiqua"/>
              </a:rPr>
              <a:t>FORMACION DE LA ESTRATEGIA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Desarrollar el papel de la manufactura local potenciando su efecto sobre el nivel de vida de la ciu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Encarar colectiva y articuladamente la construcción de capacidad y la toma de decisiones sobre la asignación de recurs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4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Context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Fortalecimiento de la confianza mutu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Comportamien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Fortalecimiento Institu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Ruptura del aislamien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00"/>
                </a:solidFill>
                <a:latin typeface="Book Antiqua"/>
              </a:rPr>
              <a:t>ESCENARIO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Nuestra Ciu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990360"/>
            <a:ext cx="4648320" cy="556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23960" y="10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1066680"/>
          <a:ext cx="435132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6680"/>
                    <a:ext cx="435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029200" y="914400"/>
          <a:ext cx="4114800" cy="5715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57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cc00"/>
                          </a:solidFill>
                          <a:latin typeface="Book Antiqua"/>
                        </a:rPr>
                        <a:t>La ciudad de Concepción del Uruguay, es un Municipio de Primera con una población ubicada entre los 50.000 y 100.000 habitantes con aproximadamente 1.500 ha. urbanizadas en un territorio con ondulaciones cortas, teniendo como uno de sus límites al Río Uruguay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4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Book Antiqua"/>
              </a:rPr>
              <a:t>Análisis de los Perfiles de Concepción del Uruguay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No responde al criterio de ser un territorio que sobrevenga de fuerte cris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La ciudad no tiene un perfil definido, no aparece claro cuales son las actividades productivas con más fuerte impacto social y redistributiv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La industria y los depósitos dentro de la trama urbana consolidada representan más del 80% del empleo y el 90% del produc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ACTIVIDAD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Competitividad de la terminal portuar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Dragado del Río Urugu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Extensión de la Zona Franca a un Sector del Puer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Corredor Bioceánico Ruta 39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Competitividad del Parque Industr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Capacitación- Convenio UT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Proyecto de cooperación Internacion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</a:rPr>
              <a:t>Relevamiento Industr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38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PRINCIPALES CONCLUSIONES DEL PRIMER CEN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00"/>
                </a:solidFill>
                <a:latin typeface="Book Antiqua"/>
              </a:rPr>
              <a:t>RESPECTO A CUESTIONES DESCRIPTIVA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Sectores Relevad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Recursos Huma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Sectores Relev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2600" y="1295280"/>
            <a:ext cx="7886520" cy="5257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0028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98440" y="1316160"/>
          <a:ext cx="8472600" cy="5141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316160"/>
                    <a:ext cx="84726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Recursos Human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560" y="12952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3368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371600"/>
          <a:ext cx="82296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RESPECTO A ESTRATEG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Mercados Abasteci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Disposición para Export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Mercados Abasteci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3836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295280"/>
          <a:ext cx="83059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95280"/>
                    <a:ext cx="8305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Disposición a la Expor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520" y="1447560"/>
            <a:ext cx="8534520" cy="518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383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47920"/>
          <a:ext cx="8305560" cy="51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8305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ffcc00"/>
                </a:solidFill>
                <a:uFillTx/>
                <a:latin typeface="Book Antiqua"/>
              </a:rPr>
              <a:t>1999 - 2003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Desde mediados de 1999, las PyMES Industriales de Concepción del Uruguay han tenido una</a:t>
            </a:r>
            <a:r>
              <a:rPr b="1" lang="es-ES_tradnl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Book Antiqua"/>
              </a:rPr>
              <a:t>caída de ventas, retrasos en los pagos de los clientes y una fuerte internacionalización del mercado intern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Las Empresas en término de desempeño y expecta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Book Antiqua"/>
              </a:rPr>
              <a:t>atravesaban un período de estancamiento-achicamiento</a:t>
            </a:r>
            <a:r>
              <a:rPr b="1" lang="es-ES_tradnl" sz="2400" spc="-1" strike="noStrike">
                <a:solidFill>
                  <a:srgbClr val="ffffcc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Existían</a:t>
            </a:r>
            <a:r>
              <a:rPr b="1" lang="es-ES_tradnl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Book Antiqua"/>
              </a:rPr>
              <a:t>escasas inversiones privadas</a:t>
            </a:r>
            <a:r>
              <a:rPr b="0" lang="es-ES_tradnl" sz="2400" spc="-1" strike="noStrike">
                <a:solidFill>
                  <a:srgbClr val="fff3f3"/>
                </a:solidFill>
                <a:latin typeface="Book Antiqua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Book Antiqua"/>
              </a:rPr>
              <a:t>de envergadura</a:t>
            </a:r>
            <a:r>
              <a:rPr b="0" lang="es-ES_tradnl" sz="2400" spc="-1" strike="noStrike">
                <a:solidFill>
                  <a:srgbClr val="fff3f3"/>
                </a:solidFill>
                <a:latin typeface="Book Antiqua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Book Antiqua"/>
              </a:rPr>
              <a:t>sin innovaciones en la trama productiva</a:t>
            </a:r>
            <a:r>
              <a:rPr b="1" lang="es-ES_tradnl" sz="2400" spc="-1" strike="noStrike">
                <a:solidFill>
                  <a:srgbClr val="ffffcc"/>
                </a:solidFill>
                <a:latin typeface="Book Antiqua"/>
              </a:rPr>
              <a:t>.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RESPECTO A PROCES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Actitud ante la C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Dificultades de Produci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Dificultades para Comercializ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Necesidades de Capaci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66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Actitud ante la Ca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146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219320"/>
          <a:ext cx="830592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305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Dificultades para Produci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560" y="106668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89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4920" y="1066680"/>
          <a:ext cx="838188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381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684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Dificultades para Comercializa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8112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219320"/>
          <a:ext cx="861048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610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Book Antiqua"/>
              </a:rPr>
              <a:t>Necesidades de Capaci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240" y="1219320"/>
            <a:ext cx="8534520" cy="5333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295280"/>
          <a:ext cx="8305920" cy="518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95280"/>
                    <a:ext cx="83059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Book Antiqua"/>
              </a:rPr>
              <a:t>NUEVOS OBJETIVOS PARA LOS FUTUROS RELEVAMIENT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</a:rPr>
              <a:t>Descripción de la estructura productiva de la industria en cuanto a ramas de activida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</a:rPr>
              <a:t>Creación y  destrucción,  promedio de antigüedad de las Empresas, descripción de estrategias empresarias implícitas y explícitas,  inversiones realizadas en productos y procesos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E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ntornos institucionales, relaciones de subcontratación y cooperación entre empresas, pertenencia a cámaras empresaria</a:t>
            </a: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s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, interrelación con instituciones del medio tales como Universidades, Centros Tecnológicos, Agencias de desarrollo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s-ES_tradnl" sz="1600" spc="-1" strike="noStrike">
                <a:solidFill>
                  <a:srgbClr val="ffcc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T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amaños de explotación de las unidades productivas</a:t>
            </a: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,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 determina</a:t>
            </a: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ción de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 emprendimiento</a:t>
            </a: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s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 de subsistencia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P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erformance exportadora y  destino de estas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O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bstáculos señalados por los empresarios para expandir las fronteras de sus mercados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F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actores enunciados como generadores de las ventajas competitivas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Book Antiqua"/>
                <a:ea typeface="Arial"/>
              </a:rPr>
              <a:t>F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irmas que están siendo desplazadas del mercado.</a:t>
            </a:r>
            <a:r>
              <a:rPr b="0" lang="es-ES" sz="16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400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Book Antiqua"/>
                <a:ea typeface="Arial"/>
              </a:rPr>
              <a:t>Por ultimo, niveles y situación de empleo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00"/>
                </a:solidFill>
                <a:latin typeface="Book Antiqua"/>
              </a:rPr>
              <a:t>CONCLUSIÓ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Book Antiqua"/>
              </a:rPr>
              <a:t>El Desarrollo Local requiere de una concepción integral del mismo, generando instrumentos que impidan la superposición de esfuerzos.  </a:t>
            </a:r>
            <a:br>
              <a:rPr sz="3200"/>
            </a:br>
            <a:r>
              <a:rPr b="1" lang="es-ES_tradnl" sz="3200" spc="-1" strike="noStrike">
                <a:solidFill>
                  <a:srgbClr val="ffcc00"/>
                </a:solidFill>
                <a:latin typeface="Book Antiqua"/>
              </a:rPr>
              <a:t>Debe expresarse la voluntad política, generando continuidad en políticas de estado que sirvan para enfrentar amenazas y no desaprovechar oportunidades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00"/>
                </a:solidFill>
                <a:latin typeface="Book Antiqua"/>
              </a:rPr>
              <a:t>GRACIAS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ffcc00"/>
                </a:solidFill>
                <a:uFillTx/>
                <a:latin typeface="Book Antiqua"/>
              </a:rPr>
              <a:t>2003 - 2004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La Argentina post-default y pos-convertibilidad</a:t>
            </a:r>
            <a:r>
              <a:rPr b="0" lang="es-ES_tradnl" sz="32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s-ES_tradnl" sz="3200" spc="-1" strike="noStrike">
                <a:solidFill>
                  <a:srgbClr val="ffffcc"/>
                </a:solidFill>
                <a:latin typeface="Book Antiqua"/>
              </a:rPr>
              <a:t>genera transformaciones significativ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Crece una </a:t>
            </a:r>
            <a:r>
              <a:rPr b="0" i="1" lang="es-ES_tradnl" sz="3200" spc="-1" strike="noStrike">
                <a:solidFill>
                  <a:srgbClr val="ffffcc"/>
                </a:solidFill>
                <a:latin typeface="Book Antiqua"/>
              </a:rPr>
              <a:t>disposición a la articulación</a:t>
            </a:r>
            <a:r>
              <a:rPr b="1" i="1" lang="es-ES_tradnl" sz="3200" spc="-1" strike="noStrike">
                <a:solidFill>
                  <a:srgbClr val="ffcc00"/>
                </a:solidFill>
                <a:latin typeface="Book Antiqua"/>
              </a:rPr>
              <a:t>,</a:t>
            </a:r>
            <a:r>
              <a:rPr b="0" lang="es-ES_tradnl" sz="3200" spc="-1" strike="noStrike">
                <a:solidFill>
                  <a:srgbClr val="ffcc00"/>
                </a:solidFill>
                <a:latin typeface="Book Antiqua"/>
              </a:rPr>
              <a:t> con altos niveles de pobreza desempleo y exclusión, las ciudades se plantean posibilidades de sustitución de importaciones, generar exportaciones y revitalizar las economías region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609480"/>
            <a:ext cx="7696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Book Antiqua"/>
                <a:ea typeface="Arial"/>
              </a:rPr>
              <a:t>La formulación de </a:t>
            </a:r>
            <a:r>
              <a:rPr b="0" i="1" lang="es-ES_tradnl" sz="2800" spc="-1" strike="noStrike">
                <a:solidFill>
                  <a:srgbClr val="ffffcc"/>
                </a:solidFill>
                <a:latin typeface="Book Antiqua"/>
                <a:ea typeface="Arial"/>
              </a:rPr>
              <a:t>modelos de interacción</a:t>
            </a:r>
            <a:r>
              <a:rPr b="0" lang="es-ES_tradnl" sz="2800" spc="-1" strike="noStrike">
                <a:solidFill>
                  <a:srgbClr val="ffcc00"/>
                </a:solidFill>
                <a:latin typeface="Book Antiqua"/>
                <a:ea typeface="Arial"/>
              </a:rPr>
              <a:t> adquiere especial relevancia, tanto para los desarrollos teóricos y del conocimiento, como para la práctica concreta de los diversos actores. Cobra importancia la </a:t>
            </a:r>
            <a:r>
              <a:rPr b="0" i="1" lang="es-ES_tradnl" sz="2800" spc="-1" strike="noStrike">
                <a:solidFill>
                  <a:srgbClr val="ffffcc"/>
                </a:solidFill>
                <a:latin typeface="Book Antiqua"/>
                <a:ea typeface="Arial"/>
              </a:rPr>
              <a:t>decisión política</a:t>
            </a:r>
            <a:r>
              <a:rPr b="0" lang="es-ES_tradnl" sz="2800" spc="-1" strike="noStrike">
                <a:solidFill>
                  <a:srgbClr val="ffcc00"/>
                </a:solidFill>
                <a:latin typeface="Book Antiqua"/>
                <a:ea typeface="Arial"/>
              </a:rPr>
              <a:t> de no despreciar la participación proactiva de distintos componentes para el desarrollo local.</a:t>
            </a:r>
            <a:r>
              <a:rPr b="0" lang="es-ES_tradnl" sz="2800" spc="-1" strike="noStrike">
                <a:solidFill>
                  <a:srgbClr val="ffffcc"/>
                </a:solidFill>
                <a:latin typeface="Book Antiqua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00"/>
                </a:solidFill>
                <a:latin typeface="Book Antiqua"/>
              </a:rPr>
              <a:t>TIPOS DE RESPUESTA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ook Antiqua"/>
                <a:ea typeface="Arial"/>
              </a:rPr>
              <a:t>Las políticas de desarrollo local surgen también como forma de respuesta desde las ciudades, ante las exigenci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del cambio estructural, de las transformaciones tecnológicas productivas y de los avances de la globaliz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ook Antiqua"/>
                <a:ea typeface="Arial"/>
              </a:rPr>
              <a:t>Las formas como las diferentes ciudades enfrentan tales exigencias de cambio estructural en el actual contexto, dan respuesta básicamente a la necesidad de</a:t>
            </a:r>
            <a:r>
              <a:rPr b="0" lang="en-U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abandonar actitudes pasivas que depositan en actores externos la solución de los problemas del desarrollo local</a:t>
            </a:r>
            <a:r>
              <a:rPr b="0" lang="en-U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y en el uso articulado y coordinado de los recursos que están presentes en la ciu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ook Antiqua"/>
                <a:ea typeface="Arial"/>
              </a:rPr>
              <a:t>El </a:t>
            </a:r>
            <a:r>
              <a:rPr b="0" lang="es-ES" sz="3200" spc="-1" strike="noStrike">
                <a:solidFill>
                  <a:srgbClr val="ffcc00"/>
                </a:solidFill>
                <a:latin typeface="Book Antiqua"/>
                <a:ea typeface="Arial"/>
              </a:rPr>
              <a:t>fortalecimiento de la instancia local pasa por</a:t>
            </a:r>
            <a:r>
              <a:rPr b="0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 </a:t>
            </a:r>
            <a:r>
              <a:rPr b="0" i="1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una activa participación y protagonismo de la administración municipal</a:t>
            </a:r>
            <a:r>
              <a:rPr b="0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, </a:t>
            </a:r>
            <a:r>
              <a:rPr b="0" lang="es-ES" sz="3200" spc="-1" strike="noStrike">
                <a:solidFill>
                  <a:srgbClr val="ffcc00"/>
                </a:solidFill>
                <a:latin typeface="Book Antiqua"/>
                <a:ea typeface="Arial"/>
              </a:rPr>
              <a:t>así como la de otros actores presentes en la ciudad, como las</a:t>
            </a:r>
            <a:r>
              <a:rPr b="0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 </a:t>
            </a:r>
            <a:r>
              <a:rPr b="0" i="1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cámaras empresarias, las universidades e institutos tecnológicos</a:t>
            </a:r>
            <a:r>
              <a:rPr b="0" lang="es-ES" sz="3200" spc="-1" strike="noStrike">
                <a:solidFill>
                  <a:srgbClr val="ffffcc"/>
                </a:solidFill>
                <a:latin typeface="Book Antiqua"/>
                <a:ea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12:47Z</dcterms:created>
  <dc:creator>GUILLERMO</dc:creator>
  <dc:description/>
  <dc:language>en-US</dc:language>
  <cp:lastModifiedBy>C.P.C.E.C.A.B.A.</cp:lastModifiedBy>
  <dcterms:modified xsi:type="dcterms:W3CDTF">2004-10-13T13:07:31Z</dcterms:modified>
  <cp:revision>53</cp:revision>
  <dc:subject/>
  <dc:title>Escenarios</dc:title>
</cp:coreProperties>
</file>