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C0C-B7E2-475F-BB36-BF82BAF5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2B1-D505-44A7-A915-D379685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41C-2D17-4F78-9A33-7E2D687C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CD2-FC70-4A05-A803-CE846E74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A4C5-4F3A-4D30-A9FE-DD79CE8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7359-129B-4B9D-A173-9D42B97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197-B542-4029-9954-5F07655F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FAC7-525F-416E-9AC3-74874BE3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AE0-4E6E-43BE-992C-823A5D9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EE06-659C-4020-9ADC-2FCDD13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CFE-C15B-4D3C-9579-BE22203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9C9-7DE7-416E-B7BA-AFDBEFE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F22C-0E06-4CC4-BA30-CA3F52C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551D-564D-48DF-B753-5B31704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DEC-1D3E-4723-8552-298412AB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8FF-E0D7-4AAA-A5EE-00471A43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507-6FB3-4316-813F-1A72062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DFB-2E6D-4514-A98D-2567E8B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ECB-C9F8-4FC1-A4B1-ED2CB56E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FDC-9594-449E-B419-D83EB700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A55-16DC-42CF-B75F-6128F818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BA6-36E2-4144-8FA0-F516996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BA7-334A-40D1-85E7-9844256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B38-AFB0-458C-AB68-C7C35C7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0714-4A40-4627-B4CA-33E2A10017F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64C-0A58-4177-8767-F7D5A27A487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905120"/>
            <a:ext cx="80773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 FORMAS ASOCIATIVAS COMO INSTRUMENTO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INTERNACIONALIZACION DE LAS Py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SORCIOS DE EXPORTAC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c. Adriana Vagnola,Lic. Lorena Ricotto,Lic. Mariela Morichetti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96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Principales Mercados por Tipo de Empres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90720" y="1905120"/>
            <a:ext cx="7770960" cy="4952160"/>
            <a:chOff x="990720" y="1905120"/>
            <a:chExt cx="7770960" cy="4952160"/>
          </a:xfrm>
        </p:grpSpPr>
        <p:sp>
          <p:nvSpPr>
            <p:cNvPr id="317" name=""/>
            <p:cNvSpPr/>
            <p:nvPr/>
          </p:nvSpPr>
          <p:spPr>
            <a:xfrm>
              <a:off x="990720" y="3762360"/>
              <a:ext cx="22104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f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990720" y="1905120"/>
              <a:ext cx="2209680" cy="1082880"/>
              <a:chOff x="990720" y="1905120"/>
              <a:chExt cx="2209680" cy="1082880"/>
            </a:xfrm>
          </p:grpSpPr>
          <p:sp>
            <p:nvSpPr>
              <p:cNvPr id="319" name=""/>
              <p:cNvSpPr/>
              <p:nvPr/>
            </p:nvSpPr>
            <p:spPr>
              <a:xfrm>
                <a:off x="990720" y="1905120"/>
                <a:ext cx="220968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90720" y="1905120"/>
                <a:ext cx="2209680" cy="108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201120" y="1905120"/>
              <a:ext cx="2083320" cy="1082880"/>
              <a:chOff x="3201120" y="1905120"/>
              <a:chExt cx="2083320" cy="10828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01120" y="1905120"/>
                <a:ext cx="20833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andes Exportador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01120" y="1905120"/>
                <a:ext cx="2083320" cy="108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285520" y="1905120"/>
              <a:ext cx="1737720" cy="1082880"/>
              <a:chOff x="5285520" y="1905120"/>
              <a:chExt cx="1737720" cy="1082880"/>
            </a:xfrm>
          </p:grpSpPr>
          <p:sp>
            <p:nvSpPr>
              <p:cNvPr id="325" name=""/>
              <p:cNvSpPr/>
              <p:nvPr/>
            </p:nvSpPr>
            <p:spPr>
              <a:xfrm>
                <a:off x="5285520" y="1905120"/>
                <a:ext cx="17377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anos Exportador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85520" y="1905120"/>
                <a:ext cx="1737720" cy="108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023960" y="1905120"/>
              <a:ext cx="1737720" cy="1082880"/>
              <a:chOff x="7023960" y="1905120"/>
              <a:chExt cx="1737720" cy="1082880"/>
            </a:xfrm>
          </p:grpSpPr>
          <p:sp>
            <p:nvSpPr>
              <p:cNvPr id="328" name=""/>
              <p:cNvSpPr/>
              <p:nvPr/>
            </p:nvSpPr>
            <p:spPr>
              <a:xfrm>
                <a:off x="7023960" y="1905120"/>
                <a:ext cx="17377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queños y Micros Exportador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23960" y="1905120"/>
                <a:ext cx="1737720" cy="108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990720" y="2988360"/>
              <a:ext cx="2209680" cy="773280"/>
              <a:chOff x="990720" y="2988360"/>
              <a:chExt cx="2209680" cy="773280"/>
            </a:xfrm>
          </p:grpSpPr>
          <p:sp>
            <p:nvSpPr>
              <p:cNvPr id="331" name=""/>
              <p:cNvSpPr/>
              <p:nvPr/>
            </p:nvSpPr>
            <p:spPr>
              <a:xfrm>
                <a:off x="990720" y="2988360"/>
                <a:ext cx="2209680" cy="77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rcosur + Ch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90720" y="2988360"/>
                <a:ext cx="2209680" cy="77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1120" y="2988360"/>
              <a:ext cx="2083320" cy="773280"/>
              <a:chOff x="3201120" y="2988360"/>
              <a:chExt cx="2083320" cy="773280"/>
            </a:xfrm>
          </p:grpSpPr>
          <p:sp>
            <p:nvSpPr>
              <p:cNvPr id="334" name=""/>
              <p:cNvSpPr/>
              <p:nvPr/>
            </p:nvSpPr>
            <p:spPr>
              <a:xfrm>
                <a:off x="3201120" y="2988360"/>
                <a:ext cx="2083320" cy="77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,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1120" y="2988360"/>
                <a:ext cx="2083320" cy="77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285520" y="2988360"/>
              <a:ext cx="1737720" cy="773280"/>
              <a:chOff x="5285520" y="2988360"/>
              <a:chExt cx="1737720" cy="773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285520" y="2988360"/>
                <a:ext cx="1737720" cy="77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9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85520" y="2988360"/>
                <a:ext cx="1737720" cy="77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023960" y="2988360"/>
              <a:ext cx="1737720" cy="773280"/>
              <a:chOff x="7023960" y="2988360"/>
              <a:chExt cx="1737720" cy="773280"/>
            </a:xfrm>
          </p:grpSpPr>
          <p:sp>
            <p:nvSpPr>
              <p:cNvPr id="340" name=""/>
              <p:cNvSpPr/>
              <p:nvPr/>
            </p:nvSpPr>
            <p:spPr>
              <a:xfrm>
                <a:off x="7023960" y="2988360"/>
                <a:ext cx="1737720" cy="77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,9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23960" y="2988360"/>
                <a:ext cx="1737720" cy="77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201120" y="3762360"/>
              <a:ext cx="2083320" cy="618480"/>
              <a:chOff x="3201120" y="3762360"/>
              <a:chExt cx="2083320" cy="618480"/>
            </a:xfrm>
          </p:grpSpPr>
          <p:sp>
            <p:nvSpPr>
              <p:cNvPr id="343" name=""/>
              <p:cNvSpPr/>
              <p:nvPr/>
            </p:nvSpPr>
            <p:spPr>
              <a:xfrm>
                <a:off x="3201120" y="3762360"/>
                <a:ext cx="20833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,6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1120" y="3762360"/>
                <a:ext cx="20833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285520" y="3762360"/>
              <a:ext cx="1737720" cy="618480"/>
              <a:chOff x="5285520" y="3762360"/>
              <a:chExt cx="1737720" cy="618480"/>
            </a:xfrm>
          </p:grpSpPr>
          <p:sp>
            <p:nvSpPr>
              <p:cNvPr id="346" name=""/>
              <p:cNvSpPr/>
              <p:nvPr/>
            </p:nvSpPr>
            <p:spPr>
              <a:xfrm>
                <a:off x="5285520" y="376236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,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85520" y="376236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023960" y="3762360"/>
              <a:ext cx="1737720" cy="618480"/>
              <a:chOff x="7023960" y="3762360"/>
              <a:chExt cx="1737720" cy="618480"/>
            </a:xfrm>
          </p:grpSpPr>
          <p:sp>
            <p:nvSpPr>
              <p:cNvPr id="349" name=""/>
              <p:cNvSpPr/>
              <p:nvPr/>
            </p:nvSpPr>
            <p:spPr>
              <a:xfrm>
                <a:off x="7023960" y="376236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,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23960" y="376236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990720" y="4381200"/>
              <a:ext cx="2209680" cy="618840"/>
              <a:chOff x="990720" y="4381200"/>
              <a:chExt cx="2209680" cy="618840"/>
            </a:xfrm>
          </p:grpSpPr>
          <p:sp>
            <p:nvSpPr>
              <p:cNvPr id="352" name=""/>
              <p:cNvSpPr/>
              <p:nvPr/>
            </p:nvSpPr>
            <p:spPr>
              <a:xfrm>
                <a:off x="990720" y="4381200"/>
                <a:ext cx="220968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ión Europe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720" y="4381200"/>
                <a:ext cx="220968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201120" y="4381200"/>
              <a:ext cx="2083320" cy="618840"/>
              <a:chOff x="3201120" y="4381200"/>
              <a:chExt cx="2083320" cy="618840"/>
            </a:xfrm>
          </p:grpSpPr>
          <p:sp>
            <p:nvSpPr>
              <p:cNvPr id="355" name=""/>
              <p:cNvSpPr/>
              <p:nvPr/>
            </p:nvSpPr>
            <p:spPr>
              <a:xfrm>
                <a:off x="3201120" y="4381200"/>
                <a:ext cx="20833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,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01120" y="4381200"/>
                <a:ext cx="20833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285520" y="4381200"/>
              <a:ext cx="1737720" cy="618840"/>
              <a:chOff x="5285520" y="4381200"/>
              <a:chExt cx="1737720" cy="618840"/>
            </a:xfrm>
          </p:grpSpPr>
          <p:sp>
            <p:nvSpPr>
              <p:cNvPr id="358" name=""/>
              <p:cNvSpPr/>
              <p:nvPr/>
            </p:nvSpPr>
            <p:spPr>
              <a:xfrm>
                <a:off x="5285520" y="4381200"/>
                <a:ext cx="17377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,6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85520" y="4381200"/>
                <a:ext cx="17377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7023960" y="4381200"/>
              <a:ext cx="1737720" cy="618840"/>
              <a:chOff x="7023960" y="4381200"/>
              <a:chExt cx="1737720" cy="618840"/>
            </a:xfrm>
          </p:grpSpPr>
          <p:sp>
            <p:nvSpPr>
              <p:cNvPr id="361" name=""/>
              <p:cNvSpPr/>
              <p:nvPr/>
            </p:nvSpPr>
            <p:spPr>
              <a:xfrm>
                <a:off x="7023960" y="4381200"/>
                <a:ext cx="17377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,4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23960" y="4381200"/>
                <a:ext cx="17377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990720" y="5000400"/>
              <a:ext cx="2209680" cy="618480"/>
              <a:chOff x="990720" y="5000400"/>
              <a:chExt cx="2209680" cy="618480"/>
            </a:xfrm>
          </p:grpSpPr>
          <p:sp>
            <p:nvSpPr>
              <p:cNvPr id="364" name=""/>
              <p:cNvSpPr/>
              <p:nvPr/>
            </p:nvSpPr>
            <p:spPr>
              <a:xfrm>
                <a:off x="990720" y="5000400"/>
                <a:ext cx="220968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to Alad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90720" y="5000400"/>
                <a:ext cx="220968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201120" y="5000400"/>
              <a:ext cx="2083320" cy="618480"/>
              <a:chOff x="3201120" y="5000400"/>
              <a:chExt cx="2083320" cy="618480"/>
            </a:xfrm>
          </p:grpSpPr>
          <p:sp>
            <p:nvSpPr>
              <p:cNvPr id="367" name=""/>
              <p:cNvSpPr/>
              <p:nvPr/>
            </p:nvSpPr>
            <p:spPr>
              <a:xfrm>
                <a:off x="3201120" y="5000400"/>
                <a:ext cx="20833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,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01120" y="5000400"/>
                <a:ext cx="20833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285520" y="5000400"/>
              <a:ext cx="1737720" cy="618480"/>
              <a:chOff x="5285520" y="5000400"/>
              <a:chExt cx="1737720" cy="618480"/>
            </a:xfrm>
          </p:grpSpPr>
          <p:sp>
            <p:nvSpPr>
              <p:cNvPr id="370" name=""/>
              <p:cNvSpPr/>
              <p:nvPr/>
            </p:nvSpPr>
            <p:spPr>
              <a:xfrm>
                <a:off x="5285520" y="500040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,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85520" y="500040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023960" y="5000400"/>
              <a:ext cx="1737720" cy="618480"/>
              <a:chOff x="7023960" y="5000400"/>
              <a:chExt cx="1737720" cy="618480"/>
            </a:xfrm>
          </p:grpSpPr>
          <p:sp>
            <p:nvSpPr>
              <p:cNvPr id="373" name=""/>
              <p:cNvSpPr/>
              <p:nvPr/>
            </p:nvSpPr>
            <p:spPr>
              <a:xfrm>
                <a:off x="7023960" y="500040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,1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23960" y="500040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990720" y="5619600"/>
              <a:ext cx="2209680" cy="618480"/>
              <a:chOff x="990720" y="5619600"/>
              <a:chExt cx="2209680" cy="618480"/>
            </a:xfrm>
          </p:grpSpPr>
          <p:sp>
            <p:nvSpPr>
              <p:cNvPr id="376" name=""/>
              <p:cNvSpPr/>
              <p:nvPr/>
            </p:nvSpPr>
            <p:spPr>
              <a:xfrm>
                <a:off x="990720" y="5619600"/>
                <a:ext cx="220968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sia Pacíf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90720" y="5619600"/>
                <a:ext cx="220968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201120" y="5619600"/>
              <a:ext cx="2083320" cy="618480"/>
              <a:chOff x="3201120" y="5619600"/>
              <a:chExt cx="2083320" cy="618480"/>
            </a:xfrm>
          </p:grpSpPr>
          <p:sp>
            <p:nvSpPr>
              <p:cNvPr id="379" name=""/>
              <p:cNvSpPr/>
              <p:nvPr/>
            </p:nvSpPr>
            <p:spPr>
              <a:xfrm>
                <a:off x="3201120" y="5619600"/>
                <a:ext cx="20833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,9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201120" y="5619600"/>
                <a:ext cx="20833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285520" y="5619600"/>
              <a:ext cx="1737720" cy="618480"/>
              <a:chOff x="5285520" y="5619600"/>
              <a:chExt cx="1737720" cy="618480"/>
            </a:xfrm>
          </p:grpSpPr>
          <p:sp>
            <p:nvSpPr>
              <p:cNvPr id="382" name=""/>
              <p:cNvSpPr/>
              <p:nvPr/>
            </p:nvSpPr>
            <p:spPr>
              <a:xfrm>
                <a:off x="5285520" y="561960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,6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85520" y="561960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023960" y="5619600"/>
              <a:ext cx="1737720" cy="618480"/>
              <a:chOff x="7023960" y="5619600"/>
              <a:chExt cx="1737720" cy="618480"/>
            </a:xfrm>
          </p:grpSpPr>
          <p:sp>
            <p:nvSpPr>
              <p:cNvPr id="385" name=""/>
              <p:cNvSpPr/>
              <p:nvPr/>
            </p:nvSpPr>
            <p:spPr>
              <a:xfrm>
                <a:off x="7023960" y="5619600"/>
                <a:ext cx="17377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,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3960" y="5619600"/>
                <a:ext cx="1737720" cy="61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990720" y="6238440"/>
              <a:ext cx="2209680" cy="618840"/>
              <a:chOff x="990720" y="6238440"/>
              <a:chExt cx="2209680" cy="618840"/>
            </a:xfrm>
          </p:grpSpPr>
          <p:sp>
            <p:nvSpPr>
              <p:cNvPr id="388" name=""/>
              <p:cNvSpPr/>
              <p:nvPr/>
            </p:nvSpPr>
            <p:spPr>
              <a:xfrm>
                <a:off x="990720" y="6238440"/>
                <a:ext cx="220968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ros Destin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90720" y="6238440"/>
                <a:ext cx="220968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201120" y="6238440"/>
              <a:ext cx="2083320" cy="618840"/>
              <a:chOff x="3201120" y="6238440"/>
              <a:chExt cx="2083320" cy="618840"/>
            </a:xfrm>
          </p:grpSpPr>
          <p:sp>
            <p:nvSpPr>
              <p:cNvPr id="391" name=""/>
              <p:cNvSpPr/>
              <p:nvPr/>
            </p:nvSpPr>
            <p:spPr>
              <a:xfrm>
                <a:off x="3201120" y="6238440"/>
                <a:ext cx="20833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,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01120" y="6238440"/>
                <a:ext cx="20833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285520" y="6238440"/>
              <a:ext cx="1737720" cy="618840"/>
              <a:chOff x="5285520" y="6238440"/>
              <a:chExt cx="1737720" cy="618840"/>
            </a:xfrm>
          </p:grpSpPr>
          <p:sp>
            <p:nvSpPr>
              <p:cNvPr id="394" name=""/>
              <p:cNvSpPr/>
              <p:nvPr/>
            </p:nvSpPr>
            <p:spPr>
              <a:xfrm>
                <a:off x="5285520" y="6238440"/>
                <a:ext cx="17377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,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285520" y="6238440"/>
                <a:ext cx="17377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023960" y="6238440"/>
              <a:ext cx="1737720" cy="618840"/>
              <a:chOff x="7023960" y="6238440"/>
              <a:chExt cx="1737720" cy="618840"/>
            </a:xfrm>
          </p:grpSpPr>
          <p:sp>
            <p:nvSpPr>
              <p:cNvPr id="397" name=""/>
              <p:cNvSpPr/>
              <p:nvPr/>
            </p:nvSpPr>
            <p:spPr>
              <a:xfrm>
                <a:off x="7023960" y="6238440"/>
                <a:ext cx="173772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,1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23960" y="6238440"/>
                <a:ext cx="1737720" cy="6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588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MOTIVOS que justifican la expansión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internacional de las empres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243828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Seguir creciendo en su sector porque el mercado interno ha quedado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provechar la capacidad ociosa de fabr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xportar porque el mercado externo es el mercado natural por escasez de est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iversificar el riesgo de operar en un solo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ceder a un mercado más grande (mayor volum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nar competitividad al luchar con competidores más efic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orque el mercado internacional es más re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entajas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286000"/>
            <a:ext cx="853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PRODUCCIÓ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( acceso a economías de escala, utilización de la capacidad instalada, racionalización óptima de la produc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ALIZACIÓ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( acceso a un mercado más amplio, estabilidad en las ventas, proximidad al cliente, supresión de barreras proteccionista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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FINANZ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( diversificación de riesgos, acceso a financiación internacion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HUMAN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(aprendizaje, experiencias aplicables al mercado n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4920" y="914400"/>
            <a:ext cx="853416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A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es-A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A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Financieros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 - Falta de adecuados créditos a la expor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- Volatilidad de los tipos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ales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- Desconocimiento de oportunidades comer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- Difícil acceso a compradores potenciales en el  extranj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- Falta de contactos y de conocimiento de la forma de actuar en el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mercado de desti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ogístico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: -Elevados costos de transportes, de la coordinación y del control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ltura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 - Idi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Gustos, costumbres, tra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stricciones legale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- Berreras arancel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- Barreras no arancel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bstáculos a la inversión direct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- Controles a la propiedad de las 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-  Restricciones para la repatriación de benef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4920" y="228600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TORES QUE  PERMITEN VALORAR LAS POSIBILIDADES DE EXITO DE UN CONSOR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itud de tamaño y de capaci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erta homogénea en calidad, prestación de servicios y cantidad disponible para comercializar a través del consor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para hacer una inversión de capital inicial y aportar las cuotas de manten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ción de un gerente consensuado por todos los socios y con experiencia comercial en mercados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4920" y="220968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DE ALGUNAS FORMAS CONTRACTUALES DE AGRUPAMIENTO DE EMPRES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régimen legal argentino regula el nacimiento, vida y liquidación de la sociedad y la mayoría de las cuestiones están previstas en el 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los últimos años se han puesto de manifiesto otros actores que trascienden a la mera sociedad, para insertarse en alguna otra forma de agrupamiento may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derecho debe acompañar esta ev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84216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Valor de las Exportaciones Argentinas (millones de dólare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        Total General           Año         Total Gene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0         12.352                       2000        26.34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1         11.977                       2001        26.5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2         12.234                       2002        25.6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3         13.117                       2003        29.5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4         15.839                       2004        19.236 (7mes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5         20.96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6         23.8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7         26.4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8         26.4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999         23.3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0        26.34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1        26.54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INDE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04920" y="24382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 nuestro país, la mayoría de las formas contractual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rupamientos empresarios no se encuentran legislad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iéndose recurrir al derecho comparado para delinear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 determinados contratos que la costu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ercial fue utilizando más frecuente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28600" y="289548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agrupamientos de empresas bajo formas contractuales pueden instrumentarse de diferentes for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INTEGRACIÓN VERTIC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 contrato de distribución, el contrato de concesión, el contrato de agencia y el contrato de franchi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posibilitar la dispersión del riesgo empresario por medio de la segmentación de la actividad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2133720"/>
            <a:ext cx="83059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TEGRACIO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s “Agrupaciones de colaboración Empresaria” reguladas en el art. 367 de la L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Unión Transitoria de Empresas” regulada por el art.377 L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“Consorcios de Exportación” (decreto 256/9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 plantean vínculos de coordinación, no existe subordinación respecto de otra empresa, o control de una sobre otr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28600" y="20574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Consorcios de Export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 cooperativas de exportación de bienes y servi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Fueron concebidos en el decreto 256/96 pero hoy carecen de reglament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 trata de agrupamientos de personas o sociedades permanente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endo productores directos de bienes o prestadores de servicios pod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nirse con la finalidad de efectuar compras en el mercado in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inadas a la exportación, o efectuar importaciones de produ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inados a la exportación, o bien prestar todo tipo de servicios    destinados al comercio internacion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2133720"/>
            <a:ext cx="8382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ifer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que existe entre una cooperativa y un consorcio de exportación está dada en razón del diferente régimen legal apl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operativas se rigen por la normativa propia de toda cooperativ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ley 20.337), con un régimen igualitario de gobierno, y renuncia por parte de los asociados de realizar la venta integral de su producción de manera individual, debiendo realizarla a través de l a cooperati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nsorcio se rige por la ley 19.55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y se debe instrumentar de forma que mantenga intacta la independencia y autonomía de cada integrante para la comercialización de sus productos, tal cual lo haría en el mercado interno, modificándose únicamente lo referente a la participación conjunta con respecto a la comercialización en el exter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30481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NSORCIOS: este agrupamiento tiene utilidad en el ámbito de los micro emprendimientos  y de las P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or sus limitaciones el esquema de exportación conjunta se presenta como casi única altern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in embargo, el mérito de la concepción de este instrumento se ve desperdiciado debido a su falta de regulación ( Hoy 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2438280"/>
            <a:ext cx="8534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dinámica exportadora de las empresas y de la economía está vinculada a ciertas características de los agentes que intervienen en el proceso de expor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 exportaciones argentinas tuvieron un ciclo de mayor crecimiento en el período 1993-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duplicación del valor de las  exportaciones argentinas no se tradujo en un aumento correlativo de firmas  insertas en los mercados exter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13372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gran cantidad de sectores, principalmente industriales, las exportaciones son realizadas en una alta proporción por pequeños export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de el punto de vista del producto, la canasta Pymex es más diferenciada, respondiendo en mayor medida a demandas de mercados segm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cuanto a los mercados de exportación, las Pymex presentan alta dependencia del MERCOSUR y en general venden sus productos a un único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838080" y="2133720"/>
            <a:ext cx="784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la mayor parte de las Pymex no constituye una práctica habitual o que pueda ser sostenida en el tiempo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situación de las Pymex debe ser considerada con especial atención ya que son las que enfrentan las mayores dificultades para poder insertarse en los mercados externo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ientemente de la necesidad de una política adecuada de comercio exterior , los consorcios de exportación deben ser considerados como un instrumento adecuado para facilitar la inserción de la Pymes en los mercados externos  por las ventajas que presentan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Cuadro 2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. Tasas de crecimiento promedio anual del valor de exportaciones (en %)- INDEC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05120" y="2666880"/>
            <a:ext cx="5714640" cy="1990440"/>
            <a:chOff x="1905120" y="2666880"/>
            <a:chExt cx="5714640" cy="1990440"/>
          </a:xfrm>
        </p:grpSpPr>
        <p:grpSp>
          <p:nvGrpSpPr>
            <p:cNvPr id="104" name=""/>
            <p:cNvGrpSpPr/>
            <p:nvPr/>
          </p:nvGrpSpPr>
          <p:grpSpPr>
            <a:xfrm>
              <a:off x="1911960" y="2671920"/>
              <a:ext cx="5699160" cy="1979640"/>
              <a:chOff x="1911960" y="2671920"/>
              <a:chExt cx="5699160" cy="19796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911960" y="2671920"/>
                <a:ext cx="1607040" cy="659520"/>
                <a:chOff x="1911960" y="2671920"/>
                <a:chExt cx="1607040" cy="6595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979640" y="2671920"/>
                  <a:ext cx="147132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911960" y="2671920"/>
                  <a:ext cx="160704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519360" y="2671920"/>
                <a:ext cx="1363680" cy="659520"/>
                <a:chOff x="3519360" y="2671920"/>
                <a:chExt cx="1363680" cy="6595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587760" y="2671920"/>
                  <a:ext cx="122688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gentin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519360" y="2671920"/>
                  <a:ext cx="136368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883760" y="2671920"/>
                <a:ext cx="1363320" cy="659520"/>
                <a:chOff x="4883760" y="2671920"/>
                <a:chExt cx="1363320" cy="6595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951440" y="2671920"/>
                  <a:ext cx="122760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.Latin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83760" y="2671920"/>
                  <a:ext cx="136332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247440" y="2671920"/>
                <a:ext cx="1363680" cy="659520"/>
                <a:chOff x="6247440" y="2671920"/>
                <a:chExt cx="1363680" cy="659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315840" y="2671920"/>
                  <a:ext cx="122688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nd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47440" y="2671920"/>
                  <a:ext cx="136368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911960" y="3331800"/>
                <a:ext cx="1607040" cy="659880"/>
                <a:chOff x="1911960" y="3331800"/>
                <a:chExt cx="1607040" cy="659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979640" y="3331800"/>
                  <a:ext cx="147132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3-98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11960" y="3331800"/>
                  <a:ext cx="160704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519360" y="3331800"/>
                <a:ext cx="1363680" cy="659880"/>
                <a:chOff x="3519360" y="3331800"/>
                <a:chExt cx="1363680" cy="659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587760" y="3331800"/>
                  <a:ext cx="12268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,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19360" y="3331800"/>
                  <a:ext cx="1363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883760" y="3331800"/>
                <a:ext cx="1363320" cy="659880"/>
                <a:chOff x="4883760" y="3331800"/>
                <a:chExt cx="1363320" cy="659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951440" y="3331800"/>
                  <a:ext cx="1227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883760" y="3331800"/>
                  <a:ext cx="1363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47440" y="3331800"/>
                <a:ext cx="1363680" cy="659880"/>
                <a:chOff x="6247440" y="3331800"/>
                <a:chExt cx="1363680" cy="659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315840" y="3331800"/>
                  <a:ext cx="12268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,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47440" y="3331800"/>
                  <a:ext cx="1363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911960" y="3992040"/>
                <a:ext cx="1607040" cy="659520"/>
                <a:chOff x="1911960" y="3992040"/>
                <a:chExt cx="1607040" cy="6595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979640" y="3992040"/>
                  <a:ext cx="147132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8-0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911960" y="3992040"/>
                  <a:ext cx="160704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519360" y="3992040"/>
                <a:ext cx="1363680" cy="659520"/>
                <a:chOff x="3519360" y="3992040"/>
                <a:chExt cx="1363680" cy="659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587760" y="3992040"/>
                  <a:ext cx="122688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19360" y="3992040"/>
                  <a:ext cx="136368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883760" y="3992040"/>
                <a:ext cx="1363320" cy="659520"/>
                <a:chOff x="4883760" y="3992040"/>
                <a:chExt cx="1363320" cy="6595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951440" y="3992040"/>
                  <a:ext cx="122760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,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883760" y="3992040"/>
                  <a:ext cx="136332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247440" y="3992040"/>
                <a:ext cx="1363680" cy="659520"/>
                <a:chOff x="6247440" y="3992040"/>
                <a:chExt cx="1363680" cy="6595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315840" y="3992040"/>
                  <a:ext cx="1226880" cy="65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247440" y="3992040"/>
                  <a:ext cx="1363680" cy="65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1905120" y="2666880"/>
              <a:ext cx="5714640" cy="1990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V="1">
            <a:off x="2666880" y="51822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omposición de las exportaciones argentinas según grandes rubros (millones de dólare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1905120"/>
            <a:ext cx="6705360" cy="4077720"/>
            <a:chOff x="1523880" y="1905120"/>
            <a:chExt cx="6705360" cy="4077720"/>
          </a:xfrm>
        </p:grpSpPr>
        <p:grpSp>
          <p:nvGrpSpPr>
            <p:cNvPr id="146" name=""/>
            <p:cNvGrpSpPr/>
            <p:nvPr/>
          </p:nvGrpSpPr>
          <p:grpSpPr>
            <a:xfrm>
              <a:off x="1531440" y="1909800"/>
              <a:ext cx="6688800" cy="4067280"/>
              <a:chOff x="1531440" y="1909800"/>
              <a:chExt cx="6688800" cy="4067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31440" y="1909800"/>
                <a:ext cx="1903320" cy="838440"/>
                <a:chOff x="1531440" y="1909800"/>
                <a:chExt cx="1903320" cy="838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603800" y="1909800"/>
                  <a:ext cx="175752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31440" y="1909800"/>
                  <a:ext cx="190332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435120" y="1909800"/>
                <a:ext cx="2204640" cy="838440"/>
                <a:chOff x="3435120" y="1909800"/>
                <a:chExt cx="2204640" cy="838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507480" y="1909800"/>
                  <a:ext cx="20595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6-8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435120" y="1909800"/>
                  <a:ext cx="220464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640480" y="1909800"/>
                <a:ext cx="2579760" cy="838440"/>
                <a:chOff x="5640480" y="1909800"/>
                <a:chExt cx="2579760" cy="838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13560" y="1909800"/>
                  <a:ext cx="243360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9-0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640480" y="1909800"/>
                  <a:ext cx="257976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1440" y="2748600"/>
                <a:ext cx="1903320" cy="645480"/>
                <a:chOff x="1531440" y="2748600"/>
                <a:chExt cx="1903320" cy="6454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603800" y="2748600"/>
                  <a:ext cx="175752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ctos Primar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1440" y="2748600"/>
                  <a:ext cx="190332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5120" y="2748600"/>
                <a:ext cx="2204640" cy="645480"/>
                <a:chOff x="3435120" y="2748600"/>
                <a:chExt cx="2204640" cy="6454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07480" y="2748600"/>
                  <a:ext cx="205956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16   (29,8%)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5120" y="2748600"/>
                  <a:ext cx="220464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640480" y="2748600"/>
                <a:ext cx="2579760" cy="645480"/>
                <a:chOff x="5640480" y="2748600"/>
                <a:chExt cx="2579760" cy="6454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713560" y="2748600"/>
                  <a:ext cx="243360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570  (21,9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40480" y="2748600"/>
                  <a:ext cx="257976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531440" y="3394800"/>
                <a:ext cx="1903320" cy="645120"/>
                <a:chOff x="1531440" y="3394800"/>
                <a:chExt cx="1903320" cy="645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603800" y="3394800"/>
                  <a:ext cx="175752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531440" y="3394800"/>
                  <a:ext cx="190332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435120" y="3394800"/>
                <a:ext cx="2204640" cy="645120"/>
                <a:chOff x="3435120" y="3394800"/>
                <a:chExt cx="2204640" cy="64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507480" y="3394800"/>
                  <a:ext cx="205956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.152   (21,9%)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435120" y="3394800"/>
                  <a:ext cx="220464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640480" y="3394800"/>
                <a:ext cx="2579760" cy="645120"/>
                <a:chOff x="5640480" y="3394800"/>
                <a:chExt cx="2579760" cy="64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713560" y="3394800"/>
                  <a:ext cx="243360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.825 (30,7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40480" y="3394800"/>
                  <a:ext cx="257976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531440" y="4040280"/>
                <a:ext cx="1903320" cy="645120"/>
                <a:chOff x="1531440" y="4040280"/>
                <a:chExt cx="1903320" cy="64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603800" y="4040280"/>
                  <a:ext cx="175752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31440" y="4040280"/>
                  <a:ext cx="190332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435120" y="4040280"/>
                <a:ext cx="2204640" cy="645120"/>
                <a:chOff x="3435120" y="4040280"/>
                <a:chExt cx="2204640" cy="645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507480" y="4040280"/>
                  <a:ext cx="205956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941    (26,1%)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435120" y="4040280"/>
                  <a:ext cx="220464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640480" y="4040280"/>
                <a:ext cx="2579760" cy="645120"/>
                <a:chOff x="5640480" y="4040280"/>
                <a:chExt cx="2579760" cy="64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713560" y="4040280"/>
                  <a:ext cx="243360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.812 (30,7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640480" y="4040280"/>
                  <a:ext cx="257976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531440" y="4685760"/>
                <a:ext cx="1903320" cy="645480"/>
                <a:chOff x="1531440" y="4685760"/>
                <a:chExt cx="1903320" cy="6454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03800" y="4685760"/>
                  <a:ext cx="175752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busti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531440" y="4685760"/>
                  <a:ext cx="190332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435120" y="4685760"/>
                <a:ext cx="2204640" cy="645480"/>
                <a:chOff x="3435120" y="4685760"/>
                <a:chExt cx="2204640" cy="645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507480" y="4685760"/>
                  <a:ext cx="205956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9     (1,9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435120" y="4685760"/>
                  <a:ext cx="220464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640480" y="4685760"/>
                <a:ext cx="2579760" cy="645480"/>
                <a:chOff x="5640480" y="4685760"/>
                <a:chExt cx="2579760" cy="645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713560" y="4685760"/>
                  <a:ext cx="243360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243 (16,7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40480" y="4685760"/>
                  <a:ext cx="2579760" cy="64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531440" y="5331960"/>
                <a:ext cx="1903320" cy="645120"/>
                <a:chOff x="1531440" y="5331960"/>
                <a:chExt cx="1903320" cy="645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03800" y="5331960"/>
                  <a:ext cx="175752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531440" y="5331960"/>
                  <a:ext cx="190332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435120" y="5331960"/>
                <a:ext cx="2204640" cy="645120"/>
                <a:chOff x="3435120" y="5331960"/>
                <a:chExt cx="2204640" cy="645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507480" y="5331960"/>
                  <a:ext cx="205956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.448     (100%)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435120" y="5331960"/>
                  <a:ext cx="220464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640480" y="5331960"/>
                <a:ext cx="2579760" cy="645120"/>
                <a:chOff x="5640480" y="5331960"/>
                <a:chExt cx="2579760" cy="645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13560" y="5331960"/>
                  <a:ext cx="243360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.450 (100%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640480" y="5331960"/>
                  <a:ext cx="2579760" cy="64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1523880" y="1905120"/>
              <a:ext cx="6705360" cy="4077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88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Composición de las exportaciones según mercado de destino (millones de dólares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998         1999         2000        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otal                         26.434      23.308      26.341      26.6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ERCOSUR              9.421       7.073         8.410        7.4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Unión Europea         4.662       4.703        4.659         4.5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AFTA                       2.699       3.171        3.747         3.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SEAN                          512          537           574           8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TO                       9.140       7.823        8.949       10.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Cuadro 4.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 Composición de las exportaciones según grandes rubros (2003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1882800"/>
          <a:ext cx="807696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82800"/>
                    <a:ext cx="80769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457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adro 5: Total de exportaciones y número de empresas según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447920" y="1905120"/>
            <a:ext cx="6857640" cy="3956040"/>
            <a:chOff x="1447920" y="1905120"/>
            <a:chExt cx="6857640" cy="3956040"/>
          </a:xfrm>
        </p:grpSpPr>
        <p:grpSp>
          <p:nvGrpSpPr>
            <p:cNvPr id="210" name=""/>
            <p:cNvGrpSpPr/>
            <p:nvPr/>
          </p:nvGrpSpPr>
          <p:grpSpPr>
            <a:xfrm>
              <a:off x="1452600" y="1909800"/>
              <a:ext cx="6847200" cy="3946680"/>
              <a:chOff x="1452600" y="1909800"/>
              <a:chExt cx="6847200" cy="39466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1452600" y="1909800"/>
                <a:ext cx="1294920" cy="1325520"/>
                <a:chOff x="1452600" y="1909800"/>
                <a:chExt cx="1294920" cy="1325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499760" y="1909800"/>
                  <a:ext cx="1200600" cy="13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resa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452600" y="1909800"/>
                  <a:ext cx="1294920" cy="132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747880" y="1909800"/>
                <a:ext cx="2305080" cy="563760"/>
                <a:chOff x="2747880" y="1909800"/>
                <a:chExt cx="2305080" cy="563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795400" y="1909800"/>
                  <a:ext cx="22104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tal Exportad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747880" y="1909800"/>
                  <a:ext cx="230508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053320" y="1909800"/>
                <a:ext cx="2015280" cy="563760"/>
                <a:chOff x="5053320" y="1909800"/>
                <a:chExt cx="2015280" cy="563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100840" y="1909800"/>
                  <a:ext cx="19206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úmero de Empres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53320" y="1909800"/>
                  <a:ext cx="201528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069320" y="1909800"/>
                <a:ext cx="1230480" cy="1325520"/>
                <a:chOff x="7069320" y="1909800"/>
                <a:chExt cx="1230480" cy="1325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116840" y="1909800"/>
                  <a:ext cx="1135440" cy="13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nto Promedio en U$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069320" y="1909800"/>
                  <a:ext cx="1230480" cy="132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747880" y="2473560"/>
                <a:ext cx="1257480" cy="761760"/>
                <a:chOff x="2747880" y="2473560"/>
                <a:chExt cx="1257480" cy="7617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795400" y="2473560"/>
                  <a:ext cx="11628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llones de U$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47880" y="2473560"/>
                  <a:ext cx="125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005720" y="2473560"/>
                <a:ext cx="1047240" cy="761760"/>
                <a:chOff x="4005720" y="2473560"/>
                <a:chExt cx="1047240" cy="761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053240" y="2473560"/>
                  <a:ext cx="9525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</a:t>
                  </a: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%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05720" y="2473560"/>
                  <a:ext cx="10472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053320" y="2473560"/>
                <a:ext cx="1055880" cy="761760"/>
                <a:chOff x="5053320" y="2473560"/>
                <a:chExt cx="1055880" cy="761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100840" y="2473560"/>
                  <a:ext cx="9608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ntidad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053320" y="2473560"/>
                  <a:ext cx="10558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109920" y="2473560"/>
                <a:ext cx="958680" cy="761760"/>
                <a:chOff x="6109920" y="2473560"/>
                <a:chExt cx="958680" cy="7617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157080" y="2473560"/>
                  <a:ext cx="8643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09920" y="2473560"/>
                  <a:ext cx="958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452600" y="3235320"/>
                <a:ext cx="1294920" cy="762120"/>
                <a:chOff x="1452600" y="3235320"/>
                <a:chExt cx="1294920" cy="762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499760" y="3235320"/>
                  <a:ext cx="12006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cro y Pequeñ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452600" y="3235320"/>
                  <a:ext cx="1294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747880" y="3235320"/>
                <a:ext cx="1257480" cy="762120"/>
                <a:chOff x="2747880" y="3235320"/>
                <a:chExt cx="1257480" cy="762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795400" y="3235320"/>
                  <a:ext cx="11628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747880" y="3235320"/>
                  <a:ext cx="125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005720" y="3235320"/>
                <a:ext cx="1047240" cy="762120"/>
                <a:chOff x="4005720" y="3235320"/>
                <a:chExt cx="1047240" cy="762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053240" y="3235320"/>
                  <a:ext cx="9525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05720" y="3235320"/>
                  <a:ext cx="10472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053320" y="3235320"/>
                <a:ext cx="1055880" cy="762120"/>
                <a:chOff x="5053320" y="3235320"/>
                <a:chExt cx="1055880" cy="762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100840" y="3235320"/>
                  <a:ext cx="960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.28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053320" y="3235320"/>
                  <a:ext cx="10558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09920" y="3235320"/>
                <a:ext cx="958680" cy="762120"/>
                <a:chOff x="6109920" y="3235320"/>
                <a:chExt cx="958680" cy="762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157080" y="3235320"/>
                  <a:ext cx="8643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8.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109920" y="3235320"/>
                  <a:ext cx="958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069320" y="3235320"/>
                <a:ext cx="1230480" cy="762120"/>
                <a:chOff x="7069320" y="3235320"/>
                <a:chExt cx="1230480" cy="762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116840" y="3235320"/>
                  <a:ext cx="1135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.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069320" y="3235320"/>
                  <a:ext cx="1230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452600" y="3997440"/>
                <a:ext cx="1294920" cy="609480"/>
                <a:chOff x="1452600" y="3997440"/>
                <a:chExt cx="1294920" cy="609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499760" y="3997440"/>
                  <a:ext cx="1200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diana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452600" y="3997440"/>
                  <a:ext cx="1294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747880" y="3997440"/>
                <a:ext cx="1257480" cy="609480"/>
                <a:chOff x="2747880" y="3997440"/>
                <a:chExt cx="1257480" cy="609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95400" y="3997440"/>
                  <a:ext cx="11628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4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747880" y="3997440"/>
                  <a:ext cx="1257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005720" y="3997440"/>
                <a:ext cx="1047240" cy="609480"/>
                <a:chOff x="4005720" y="3997440"/>
                <a:chExt cx="1047240" cy="609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053240" y="3997440"/>
                  <a:ext cx="952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005720" y="3997440"/>
                  <a:ext cx="10472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053320" y="3997440"/>
                <a:ext cx="1055880" cy="609480"/>
                <a:chOff x="5053320" y="3997440"/>
                <a:chExt cx="1055880" cy="609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100840" y="3997440"/>
                  <a:ext cx="96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.73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053320" y="3997440"/>
                  <a:ext cx="1055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109920" y="3997440"/>
                <a:ext cx="958680" cy="609480"/>
                <a:chOff x="6109920" y="3997440"/>
                <a:chExt cx="958680" cy="609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157080" y="3997440"/>
                  <a:ext cx="864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.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09920" y="3997440"/>
                  <a:ext cx="958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069320" y="3997440"/>
                <a:ext cx="1230480" cy="609480"/>
                <a:chOff x="7069320" y="3997440"/>
                <a:chExt cx="1230480" cy="609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7116840" y="3997440"/>
                  <a:ext cx="11354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1.7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069320" y="3997440"/>
                  <a:ext cx="1230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452600" y="4606920"/>
                <a:ext cx="1294920" cy="609840"/>
                <a:chOff x="1452600" y="4606920"/>
                <a:chExt cx="1294920" cy="6098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499760" y="4606920"/>
                  <a:ext cx="1200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randes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452600" y="4606920"/>
                  <a:ext cx="12949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747880" y="4606920"/>
                <a:ext cx="1257480" cy="609840"/>
                <a:chOff x="2747880" y="4606920"/>
                <a:chExt cx="1257480" cy="6098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795400" y="4606920"/>
                  <a:ext cx="11628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.4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747880" y="4606920"/>
                  <a:ext cx="12574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005720" y="4606920"/>
                <a:ext cx="1047240" cy="609840"/>
                <a:chOff x="4005720" y="4606920"/>
                <a:chExt cx="104724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053240" y="4606920"/>
                  <a:ext cx="952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005720" y="4606920"/>
                  <a:ext cx="1047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053320" y="4606920"/>
                <a:ext cx="1055880" cy="609840"/>
                <a:chOff x="5053320" y="4606920"/>
                <a:chExt cx="1055880" cy="6098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100840" y="4606920"/>
                  <a:ext cx="960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7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53320" y="4606920"/>
                  <a:ext cx="1055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6109920" y="4606920"/>
                <a:ext cx="958680" cy="609840"/>
                <a:chOff x="6109920" y="4606920"/>
                <a:chExt cx="958680" cy="6098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157080" y="4606920"/>
                  <a:ext cx="864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109920" y="4606920"/>
                  <a:ext cx="9586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069320" y="4606920"/>
                <a:ext cx="1230480" cy="609840"/>
                <a:chOff x="7069320" y="4606920"/>
                <a:chExt cx="1230480" cy="6098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116840" y="4606920"/>
                  <a:ext cx="11354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.40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69320" y="4606920"/>
                  <a:ext cx="12304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452600" y="5216760"/>
                <a:ext cx="1294920" cy="639720"/>
                <a:chOff x="1452600" y="5216760"/>
                <a:chExt cx="129492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499760" y="5216760"/>
                  <a:ext cx="1200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452600" y="5216760"/>
                  <a:ext cx="1294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47880" y="5216760"/>
                <a:ext cx="1257480" cy="639720"/>
                <a:chOff x="2747880" y="5216760"/>
                <a:chExt cx="125748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795400" y="5216760"/>
                  <a:ext cx="1162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.89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47880" y="5216760"/>
                  <a:ext cx="1257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005720" y="5216760"/>
                <a:ext cx="1047240" cy="639720"/>
                <a:chOff x="4005720" y="5216760"/>
                <a:chExt cx="104724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053240" y="5216760"/>
                  <a:ext cx="952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.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005720" y="5216760"/>
                  <a:ext cx="104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053320" y="5216760"/>
                <a:ext cx="1055880" cy="639720"/>
                <a:chOff x="5053320" y="5216760"/>
                <a:chExt cx="105588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100840" y="5216760"/>
                  <a:ext cx="960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.68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53320" y="5216760"/>
                  <a:ext cx="1055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109920" y="5216760"/>
                <a:ext cx="958680" cy="639720"/>
                <a:chOff x="6109920" y="5216760"/>
                <a:chExt cx="95868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157080" y="5216760"/>
                  <a:ext cx="864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.0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109920" y="5216760"/>
                  <a:ext cx="95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069320" y="5216760"/>
                <a:ext cx="1230480" cy="639720"/>
                <a:chOff x="7069320" y="5216760"/>
                <a:chExt cx="123048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116840" y="5216760"/>
                  <a:ext cx="1135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069320" y="5216760"/>
                  <a:ext cx="123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1447920" y="1905120"/>
              <a:ext cx="6857640" cy="3956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990720" y="595620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84216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066680" y="2089080"/>
          <a:ext cx="75438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89080"/>
                    <a:ext cx="7543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9:46:21Z</dcterms:created>
  <dc:creator>FAC.C.ECONOMICAS</dc:creator>
  <dc:description/>
  <dc:language>en-US</dc:language>
  <cp:lastModifiedBy>C.P.C.E.C.A.B.A.</cp:lastModifiedBy>
  <dcterms:modified xsi:type="dcterms:W3CDTF">2004-10-13T13:06:44Z</dcterms:modified>
  <cp:revision>6</cp:revision>
  <dc:subject/>
  <dc:title>Presentación de PowerPoint</dc:title>
</cp:coreProperties>
</file>