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AE6-2643-4CE0-8681-57011F91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D9F-CEB5-4CE0-874E-188ED0E2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97C-2D49-4A02-88CB-4AFF53D5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E62-F7E5-433D-BC4F-B72D673B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62E2-8944-477D-82AB-6763323B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BAC9-AA90-4025-B98A-FF04E7F5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9BC3-6AA8-41A3-93EA-79125C00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F427-7510-47D6-A055-45D812B8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48D5-3274-415F-9CAC-56A4A679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6760-1D5D-43D6-ACC7-C934BE0C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1F9C-D324-4B96-8936-86F9CC2F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D56-0B36-469A-9235-2E997EF8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75FC-350D-4451-9DE0-7AD1FBC6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12CB-145D-445B-9A87-B96DBC4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FA44-C372-4027-B74A-84D95B12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1744-1E75-4134-B106-31990F1F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88A1-81D5-42AF-8313-DAC38BCF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A87-ABD6-45AE-9E4B-EF353640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B66-4640-4D80-B5CA-4FF5AED5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544-A463-4570-A76B-9DC4833A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79F-DFBA-45FF-8831-FB7C7DCB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E81-8CDA-432E-AFF5-F6389CC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6C2-E60A-4B85-BDED-1EBACCD2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0B2-B2B3-4DE5-B905-CA098D1D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A9CB-6CE1-45DD-AA95-CE989BAA022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6D90-DC5C-46F6-92A0-F0FAE72C1A7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CONSEJO PROFESIONAL DE CIENCIAS ECONOMICAS </a:t>
            </a:r>
            <a:br>
              <a:rPr sz="3200"/>
            </a:b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CABA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2" marL="1005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2b"/>
                </a:solidFill>
                <a:latin typeface="Arial"/>
              </a:rPr>
              <a:t>VIII CONGRESO DE LA PEQUEÑA Y MEDIANA EMPRES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33"/>
                </a:solidFill>
                <a:latin typeface="Arial"/>
              </a:rPr>
              <a:t>30 de Setiembre - 1° de Octubre 200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2b"/>
                </a:solidFill>
                <a:latin typeface="Arial"/>
              </a:rPr>
              <a:t>ÁREA 4 - ECONOMÍA SOCIAL Y DESARROLLO LOC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2b"/>
                </a:solidFill>
                <a:latin typeface="Arial"/>
              </a:rPr>
              <a:t>FORMAS ASOCIATIVAS EN LAS PyM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Dra. Amanda Tartabini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coor_acad@cpcecf.org.ar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4c2b"/>
                </a:solidFill>
                <a:latin typeface="Arial"/>
              </a:rPr>
              <a:t>ACUERDOS DE COOPER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5920" indent="-19656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Tecnolog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5920" indent="-19656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Mar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5920" indent="-19656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Distribu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5920" indent="-19656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Investigación y Desarroll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5920" indent="-19656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Poo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5920" indent="-19656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Hold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5920" indent="-19656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Clust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4c2b"/>
                </a:solidFill>
                <a:latin typeface="Arial"/>
              </a:rPr>
              <a:t>ACUERDOS DE COLABOR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Licencia - royal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Buy - b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Subcontrat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c2b"/>
                </a:solidFill>
                <a:latin typeface="Arial"/>
              </a:rPr>
              <a:t>CON MODIFICACIÓN DE SOCIEDAD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2b"/>
                </a:solidFill>
                <a:latin typeface="Arial"/>
              </a:rPr>
              <a:t>NO CREAN NUEVA SOCIEDAD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Absor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Particip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Cruces accionari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c2b"/>
                </a:solidFill>
                <a:latin typeface="Arial"/>
              </a:rPr>
              <a:t>CON MODIFICACIÓN DE SOCIEDAD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c2b"/>
                </a:solidFill>
                <a:latin typeface="Arial"/>
              </a:rPr>
              <a:t>CREAN NUEVA SOCIEDAD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Fus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Cierto tipo de Consorci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4c2b"/>
                </a:solidFill>
                <a:latin typeface="Arial"/>
              </a:rPr>
              <a:t>APLICABLE a Py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Las formas más viables son las agrupaciones que no modifican las sociedades integrante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4c2b"/>
                </a:solidFill>
                <a:latin typeface="Arial"/>
              </a:rPr>
              <a:t>CLUSTE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Son un entramado, una red empresaria altamente eficiente ubicada en un ámbito regional común, con aceitadas relaciones horizontales y verticales, y fuertemente innovadores para mejorar la competitividad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c2b"/>
                </a:solidFill>
                <a:latin typeface="Arial"/>
              </a:rPr>
              <a:t>CONSORCIOS DE EXPORT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Es una asociación de empresas productivas que unen sus acciones con el objetivo primordial de agrupar sus ofertas de productos y/o servicios al exterior, sin perder su individualidad en el mercado intern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c2b"/>
                </a:solidFill>
                <a:latin typeface="Arial"/>
              </a:rPr>
              <a:t>CONSORCIOS DE EXPORT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c2b"/>
                </a:solidFill>
                <a:latin typeface="Arial"/>
              </a:rPr>
              <a:t>Permiten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Mejor oferta exporta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Mayor volumen de export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Compra asociada de insum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Mayor poder de negoci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Acceso al financiami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Menores cos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Mejor gerenciami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40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4c2b"/>
                </a:solidFill>
                <a:latin typeface="Arial"/>
              </a:rPr>
              <a:t>OPCIONES DE APOY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Fundacio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SEPyMEyD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INT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FUN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I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CF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Embajadas y Cámar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4c2b"/>
                </a:solidFill>
                <a:latin typeface="Arial"/>
              </a:rPr>
              <a:t>FINANCIAMI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Fideicomiso financier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Factor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Descuento de cheques diferid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Instrumentos bursátiles: ON;VC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4c2b"/>
                </a:solidFill>
                <a:latin typeface="Arial"/>
              </a:rPr>
              <a:t>CALIFICACIÓN COMO PyM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(Res. 675/02 - SEPyMEyDR</a:t>
            </a: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2b"/>
                </a:solidFill>
                <a:latin typeface="Arial"/>
              </a:rPr>
              <a:t>VENTAS ANU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819520"/>
          <a:ext cx="8305920" cy="403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19520"/>
                    <a:ext cx="8305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4c2b"/>
                </a:solidFill>
                <a:latin typeface="Arial"/>
              </a:rPr>
              <a:t>MARCO LEG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Código Civil: capítulo de contra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Ley 24.46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Ley 25.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Ley 19.550 - Ley 22.90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Ley 24.44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Ley 25.376 y modificatori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br>
              <a:rPr sz="4400"/>
            </a:b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ASPECTOS SOCIOCULTURALE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333333"/>
              </a:buClr>
              <a:buSzPct val="5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Compatibilidad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333333"/>
              </a:buClr>
              <a:buSzPct val="5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Confia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5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Comunic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5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Maximización del interés conju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5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Valores comparti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5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Flexibil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Sinergi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División de Tare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Capacidad de aprendizaj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Medición de riesg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Resolución de conflict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Retroaliment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4c2b"/>
                </a:solidFill>
                <a:latin typeface="Arial"/>
              </a:rPr>
              <a:t>GENER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Mejorar la cadena de valor pa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posicionarse mejor en el merca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17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4c2b"/>
                </a:solidFill>
                <a:latin typeface="Arial"/>
              </a:rPr>
              <a:t>ESPECÍFIC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Aumentar volumen, rentabibilidad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capital operativo y mejorar tecnolog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Arial"/>
              </a:rPr>
              <a:t>TIP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4c2b"/>
                </a:solidFill>
                <a:latin typeface="Arial"/>
              </a:rPr>
              <a:t>VERTICAL:</a:t>
            </a:r>
            <a:r>
              <a:rPr b="1" lang="es-ES_tradnl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hacia arriba o hacia abaj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901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4c2b"/>
                </a:solidFill>
                <a:latin typeface="Arial"/>
              </a:rPr>
              <a:t>HORIZONTAL:</a:t>
            </a:r>
            <a:r>
              <a:rPr b="1" lang="es-ES_tradnl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del mismo sector</a:t>
            </a:r>
            <a:r>
              <a:rPr b="0" lang="es-ES_tradnl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4c2b"/>
                </a:solidFill>
                <a:latin typeface="Arial"/>
              </a:rPr>
              <a:t>HOLDINGS:</a:t>
            </a:r>
            <a:r>
              <a:rPr b="0" lang="es-ES_tradnl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de sectores distin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4c2b"/>
                </a:solidFill>
                <a:latin typeface="Arial"/>
              </a:rPr>
              <a:t>CONVERGENTES</a:t>
            </a:r>
            <a:r>
              <a:rPr b="1" lang="es-ES_tradnl" sz="2800" spc="-1" strike="noStrike">
                <a:solidFill>
                  <a:srgbClr val="004c2b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de ramas distintas pero con canales convergen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Arial"/>
              </a:rPr>
              <a:t>VENTAJ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Logro de sinergias, por compartir recurs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Riesgos comparti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Posibilidad de acceso al crédi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Transferencia de tecnolog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Acceso a nuevos merca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Acceso a economía de escal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Mejoramiento de la calid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4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Arial"/>
              </a:rPr>
              <a:t>VENTAJA GENER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Potenciamiento de oportunidad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Enfrentamiento de amenaz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Profundización de las fortalez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Disminución de debilidad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Arial"/>
              </a:rPr>
              <a:t>DESVENTAJAS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Incompatibilidad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Cambios en las reglas de jueg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Pérdida de parte de la autonom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Mayor esfuerzo de coordin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ETAP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Evalu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Planificación y diseñ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Ejecu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Desarroll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FORMAS ASOCIATIV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c2b"/>
                </a:solidFill>
                <a:latin typeface="Arial"/>
              </a:rPr>
              <a:t>SIN MODIFICACIÓN DE SOCIEDAD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Contratos transitorios: UTE’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De extensión: con proveedo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Consorcios de Export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Acuerdos de cooper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Arial"/>
              </a:rPr>
              <a:t>Acuerdos de colabor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24:30Z</dcterms:created>
  <dc:creator>C.P.C.E.C.A.B.A.</dc:creator>
  <dc:description/>
  <dc:language>en-US</dc:language>
  <cp:lastModifiedBy>C.P.C.E.C.A.B.A.</cp:lastModifiedBy>
  <dcterms:modified xsi:type="dcterms:W3CDTF">2004-10-12T21:45:14Z</dcterms:modified>
  <cp:revision>37</cp:revision>
  <dc:subject/>
  <dc:title>FORMAS ASOCIATIVAS</dc:title>
</cp:coreProperties>
</file>