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17E-8C4D-4908-B982-EA2B3B13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8F6-B572-4654-B04E-1D5B8889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7985-5151-4AAE-B41F-232B0E85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AB8-5997-4AB0-A93B-00F6A208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C67-8181-4C69-9CD1-3A671572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133-6DE6-40F7-9829-E583ACAB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68F-5C09-42D1-9F86-5459A23F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D2B-FF3E-4056-836C-F38BA835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D46-26E2-4F3A-A3B0-996BABD9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7B5-A371-4EF0-93B4-CC8B4D73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3D8-3743-4111-B325-D963724B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733-C7FE-4F0B-9CE7-E4E3CC5A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F52B-1442-44EA-A7E0-045D08AFE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603840"/>
            <a:ext cx="9144000" cy="252720"/>
          </a:xfrm>
          <a:prstGeom prst="rect">
            <a:avLst/>
          </a:prstGeom>
          <a:solidFill>
            <a:srgbClr val="487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ff"/>
                </a:solidFill>
                <a:latin typeface="Arial"/>
              </a:rPr>
              <a:t>Ministerio de Economía y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15960" y="5622840"/>
            <a:ext cx="74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99"/>
                </a:solidFill>
                <a:latin typeface="Impact"/>
              </a:rPr>
              <a:t>Subsecretaría de la Pequeña y Mediana Empresa              y Desarrollo Reg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6680" y="5478480"/>
            <a:ext cx="7488000" cy="109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6000" y="1512720"/>
            <a:ext cx="8669160" cy="401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99"/>
                </a:solidFill>
                <a:latin typeface="Impact"/>
                <a:ea typeface="Times New Roman"/>
              </a:rPr>
              <a:t>Problemática de las Pymes y el comercio exterior: ¿ Donde Estamos, hacia donde vamos 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99"/>
                </a:solidFill>
                <a:latin typeface="Impact"/>
                <a:ea typeface="Times New Roman"/>
              </a:rPr>
              <a:t>VIII Congreso Pym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99"/>
                </a:solidFill>
                <a:latin typeface="Impact"/>
                <a:ea typeface="Times New Roman"/>
              </a:rPr>
              <a:t>Consejo Profesional de Ciencias Económica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Impact"/>
                <a:ea typeface="Times New Roman"/>
              </a:rPr>
              <a:t>Lic. Gustavo Svarz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Impact"/>
                <a:ea typeface="Times New Roman"/>
              </a:rPr>
              <a:t>setiembr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206360"/>
            <a:ext cx="914400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Exportaciones por tamaño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-participación en el valor exportado año 2001/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65160" y="2590920"/>
            <a:ext cx="3575880" cy="336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3" y="0"/>
                </a:moveTo>
                <a:arcTo wR="10800" hR="10800" stAng="-5424380" swAng="348603"/>
                <a:lnTo>
                  <a:pt x="10800" y="10800"/>
                </a:lnTo>
                <a:close/>
              </a:path>
              <a:path fill="none" w="21600" h="21600">
                <a:moveTo>
                  <a:pt x="10723" y="0"/>
                </a:moveTo>
                <a:arcTo wR="10800" hR="10800" stAng="-5424380" swAng="348603"/>
              </a:path>
            </a:pathLst>
          </a:cu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63360" y="2591640"/>
            <a:ext cx="3578760" cy="336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17" y="48"/>
                </a:moveTo>
                <a:arcTo wR="10800" hR="10800" stAng="-5075778" swAng="1372339"/>
                <a:lnTo>
                  <a:pt x="10800" y="10800"/>
                </a:lnTo>
                <a:close/>
              </a:path>
              <a:path fill="none" w="21600" h="21600">
                <a:moveTo>
                  <a:pt x="11817" y="48"/>
                </a:moveTo>
                <a:arcTo wR="10800" hR="10800" stAng="-5075778" swAng="1372339"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40320" y="2795760"/>
            <a:ext cx="858600" cy="14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62280" y="2590920"/>
            <a:ext cx="3579480" cy="336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39" swAng="19693419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39" swAng="19693419"/>
              </a:path>
            </a:pathLst>
          </a:cu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60480" y="2592360"/>
            <a:ext cx="3584520" cy="33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41" y="20"/>
                </a:moveTo>
                <a:arcTo wR="10800" hR="10800" stAng="-5610020" swAng="185640"/>
                <a:lnTo>
                  <a:pt x="10800" y="10800"/>
                </a:lnTo>
                <a:close/>
              </a:path>
              <a:path fill="none" w="21600" h="21600">
                <a:moveTo>
                  <a:pt x="10141" y="20"/>
                </a:moveTo>
                <a:arcTo wR="10800" hR="10800" stAng="-5610020" swAng="185640"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40320" y="2590560"/>
            <a:ext cx="1440" cy="167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72040" y="2303640"/>
            <a:ext cx="615960" cy="355320"/>
          </a:xfrm>
          <a:custGeom>
            <a:avLst/>
            <a:gdLst/>
            <a:ahLst/>
            <a:rect l="l" t="t" r="r" b="b"/>
            <a:pathLst>
              <a:path w="21" h="7">
                <a:moveTo>
                  <a:pt x="21" y="0"/>
                </a:move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23040" y="2806560"/>
            <a:ext cx="901440" cy="66960"/>
          </a:xfrm>
          <a:custGeom>
            <a:avLst/>
            <a:gdLst/>
            <a:ahLst/>
            <a:rect l="l" t="t" r="r" b="b"/>
            <a:pathLst>
              <a:path w="50" h="19">
                <a:moveTo>
                  <a:pt x="50" y="19"/>
                </a:moveTo>
                <a:lnTo>
                  <a:pt x="41" y="1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97120" y="2341440"/>
            <a:ext cx="1793880" cy="24948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9" y="0"/>
                </a:lnTo>
                <a:lnTo>
                  <a:pt x="20" y="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84960" y="490536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Grand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03520" y="5106960"/>
            <a:ext cx="106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Exportado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65240" y="5351400"/>
            <a:ext cx="558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91,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Arial"/>
              </a:rPr>
              <a:t>(67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840" y="2712960"/>
            <a:ext cx="43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61280" y="2959200"/>
            <a:ext cx="52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0,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Arial"/>
              </a:rPr>
              <a:t>(1.24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8520" y="213192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Median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60520" y="2367000"/>
            <a:ext cx="988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6,2%</a:t>
            </a:r>
            <a:r>
              <a:rPr b="1" lang="es-MX" sz="1300" spc="-1" strike="noStrike">
                <a:solidFill>
                  <a:srgbClr val="000000"/>
                </a:solidFill>
                <a:latin typeface="Arial"/>
              </a:rPr>
              <a:t>  (1.54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95520" y="1978200"/>
            <a:ext cx="81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Medianos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0000" y="2125800"/>
            <a:ext cx="52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chic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53760" y="2319480"/>
            <a:ext cx="94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1,8%</a:t>
            </a:r>
            <a:r>
              <a:rPr b="1" lang="es-MX" sz="1300" spc="-1" strike="noStrike">
                <a:solidFill>
                  <a:srgbClr val="000000"/>
                </a:solidFill>
                <a:latin typeface="Arial"/>
              </a:rPr>
              <a:t> (1.914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83680" y="200196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Pequeñ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43080" y="2203560"/>
            <a:ext cx="52200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0,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Arial"/>
              </a:rPr>
              <a:t>(2.91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942160"/>
            <a:ext cx="914400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3f6e8b"/>
                </a:solidFill>
                <a:latin typeface="Tahoma"/>
              </a:rPr>
              <a:t>* Se consideran micro exportadores a las empresas con ventas externas de entre U$$ 10.000 y U$$ 20.000 promedio anual para el trienio 2000/2, pequeños exportadores a los que regsitran operaciones de entre u$S 20.000 y U$S 100.000, medianos-chicos a los exportan entre U$S 100.000 y U$S 400.000, medianos a los de entre U$S 400.000 y $ 3.000.000 y grandes a los que superaron ese monto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67240" y="6357960"/>
            <a:ext cx="28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3f6e8b"/>
                </a:solidFill>
                <a:latin typeface="Tahoma"/>
              </a:rPr>
              <a:t>Fuente: Sepyme en base a dato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100" spc="-1" strike="noStrike">
                <a:solidFill>
                  <a:srgbClr val="3f6e8b"/>
                </a:solidFill>
                <a:latin typeface="Tahoma"/>
              </a:rPr>
              <a:t>Adua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3160" y="14400"/>
            <a:ext cx="89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Las ventas externas argentinas se concentran “desde siempre” en unas pocas fir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0620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2430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Principales Cadenas Productivas y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Participación diferentes tramos en ventas de las principales cad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291360"/>
            <a:ext cx="571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3f6e8b"/>
                </a:solidFill>
                <a:latin typeface="Tahoma"/>
              </a:rPr>
              <a:t>Fuente: CEP en base a datos de INDE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98440" y="1743120"/>
            <a:ext cx="8129520" cy="4548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76120" y="138240"/>
            <a:ext cx="890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A nivel de las principales cadenas, existen numerosas “oportunidades desaprovechadas”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1444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63440"/>
            <a:ext cx="909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configuración que difiere fuertemente de la de otras economías más exito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480" y="6419880"/>
            <a:ext cx="6705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 u="sng">
                <a:solidFill>
                  <a:srgbClr val="808080"/>
                </a:solidFill>
                <a:uFillTx/>
                <a:latin typeface="Arial"/>
              </a:rPr>
              <a:t>Fuente</a:t>
            </a:r>
            <a:r>
              <a:rPr b="0" lang="es-MX" sz="1000" spc="-1" strike="noStrike">
                <a:solidFill>
                  <a:srgbClr val="808080"/>
                </a:solidFill>
                <a:latin typeface="Arial"/>
              </a:rPr>
              <a:t>: SEPyME, en base a datos de Aduana e IAD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330200"/>
            <a:ext cx="9144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Cadenas Exportadoras Compar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f6e8b"/>
                </a:solidFill>
                <a:latin typeface="Tahoma"/>
              </a:rPr>
              <a:t>Perfil exportador de las Principales Siete Cadenas en países seleccio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1120" y="1751040"/>
            <a:ext cx="886176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4335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Cadenas Productivas y Empresas Expor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Cantidad empresas Exportadoras*, por Tramos de la Cad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23800" y="2230560"/>
            <a:ext cx="7977240" cy="4376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76120" y="179280"/>
            <a:ext cx="890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Un importante número de exportadores (pymes) se concentra en torno del último eslabón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4335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Cadenas Productivas y Valor Aña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Valores promedio expo según tramo Cadena – dólares por tone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6200" y="2033640"/>
            <a:ext cx="8391600" cy="4591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8240"/>
            <a:ext cx="892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pero nuestro perfil exportador implica menores oportunidades de generación de valor agre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76120" y="1665360"/>
            <a:ext cx="85359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Debilidad de la “cultura” y tradición exportadora en buena parte del empresar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Estructura comercial de los mercados de destino (escalonamiento arancelario, etc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Estrategias corporativas que se definen a escala glob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Inestabilidad de regímenes regulatorios nacionales, precios de factores y/o sistemas de incentiv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Existencia de conductas no cooperativas en algunos eslabones de las cade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00" y="217440"/>
            <a:ext cx="9144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Este patrón comercial es pues resultado de una conjunción de factores, endógenos y exóge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487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ff"/>
                </a:solidFill>
                <a:latin typeface="Arial"/>
              </a:rPr>
              <a:t>Ministerio de Economía y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9640" y="1944720"/>
            <a:ext cx="2737080" cy="99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...exportar una menor proporción d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23840" y="-399960"/>
            <a:ext cx="9144000" cy="910800"/>
            <a:chOff x="123840" y="-399960"/>
            <a:chExt cx="9144000" cy="910800"/>
          </a:xfrm>
        </p:grpSpPr>
        <p:sp>
          <p:nvSpPr>
            <p:cNvPr id="188" name=""/>
            <p:cNvSpPr/>
            <p:nvPr/>
          </p:nvSpPr>
          <p:spPr>
            <a:xfrm>
              <a:off x="123840" y="-399960"/>
              <a:ext cx="9144000" cy="90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0" bIns="360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000066"/>
                  </a:solidFill>
                  <a:latin typeface="Tahoma"/>
                </a:rPr>
                <a:t>Si Argentina tuviera un más amplio segmento de pymes operando en condiciones de competitividad internacional, sería posible...</a:t>
              </a:r>
              <a:r>
                <a:rPr b="1" lang="es-AR" sz="2800" spc="-1" strike="noStrike">
                  <a:solidFill>
                    <a:srgbClr val="3f6e8b"/>
                  </a:solidFill>
                  <a:latin typeface="Tahoma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3840" y="456480"/>
              <a:ext cx="9144000" cy="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990720" y="3306600"/>
            <a:ext cx="29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6e8b"/>
                </a:solidFill>
                <a:latin typeface="Tahoma"/>
              </a:rPr>
              <a:t>Cereales en bru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3352680" y="2103480"/>
            <a:ext cx="1828800" cy="685800"/>
          </a:xfrm>
          <a:prstGeom prst="rightArrow">
            <a:avLst>
              <a:gd name="adj1" fmla="val 72463"/>
              <a:gd name="adj2" fmla="val 3749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09800" y="3916440"/>
            <a:ext cx="29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6e8b"/>
                </a:solidFill>
                <a:latin typeface="Tahoma"/>
              </a:rPr>
              <a:t>Acero/Alumi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65520"/>
            <a:ext cx="29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6e8b"/>
                </a:solidFill>
                <a:latin typeface="Tahoma"/>
              </a:rPr>
              <a:t>Madera Aserr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211720"/>
            <a:ext cx="30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6e8b"/>
                </a:solidFill>
                <a:latin typeface="Tahoma"/>
              </a:rPr>
              <a:t>Polímeros/Plást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5897520"/>
            <a:ext cx="29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6e8b"/>
                </a:solidFill>
                <a:latin typeface="Tahoma"/>
              </a:rPr>
              <a:t>Cue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64280" y="1951200"/>
            <a:ext cx="2736720" cy="99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...para ganar participación en exportaciones d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3105000"/>
            <a:ext cx="32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6e8b"/>
                </a:solidFill>
                <a:latin typeface="Tahoma"/>
              </a:rPr>
              <a:t>Productos de Panadería/Galletita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1440" y="3922560"/>
            <a:ext cx="39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Autopartes /Maq. Agríco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4603680"/>
            <a:ext cx="329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6e8b"/>
                </a:solidFill>
                <a:latin typeface="Tahoma"/>
              </a:rPr>
              <a:t>Muebles y sus par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517680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6e8b"/>
                </a:solidFill>
                <a:latin typeface="Tahoma"/>
              </a:rPr>
              <a:t>Manufacturas de Plás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5821200"/>
            <a:ext cx="358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6e8b"/>
                </a:solidFill>
                <a:latin typeface="Tahoma"/>
              </a:rPr>
              <a:t>Calzado/Marroquiner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5440" y="327672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1000" y="388620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1000" y="457200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5440" y="518148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5440" y="586728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1874880"/>
            <a:ext cx="0" cy="449568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123840" y="-236520"/>
            <a:ext cx="9144000" cy="888840"/>
            <a:chOff x="123840" y="-236520"/>
            <a:chExt cx="9144000" cy="888840"/>
          </a:xfrm>
        </p:grpSpPr>
        <p:sp>
          <p:nvSpPr>
            <p:cNvPr id="210" name=""/>
            <p:cNvSpPr/>
            <p:nvPr/>
          </p:nvSpPr>
          <p:spPr>
            <a:xfrm>
              <a:off x="123840" y="-236520"/>
              <a:ext cx="9144000" cy="8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0" bIns="360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000066"/>
                  </a:solidFill>
                  <a:latin typeface="Tahoma"/>
                </a:rPr>
                <a:t>En ese caso, podríamos tener un país c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3840" y="599040"/>
              <a:ext cx="9144000" cy="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150920" y="5283360"/>
            <a:ext cx="6764400" cy="1479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t">
            <a:spAutoFit/>
          </a:bodyPr>
          <a:p>
            <a:pPr marL="7920" indent="-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.. un mejor entorno  para los negocios,                                        el crecimiento y la compet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65120" y="5359320"/>
            <a:ext cx="885960" cy="914400"/>
          </a:xfrm>
          <a:prstGeom prst="rightArrow">
            <a:avLst>
              <a:gd name="adj1" fmla="val 62574"/>
              <a:gd name="adj2" fmla="val 40324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76480" y="2550960"/>
            <a:ext cx="752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1800">
              <a:lnSpc>
                <a:spcPct val="9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más y mejores fuentes de emp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76480" y="3294000"/>
            <a:ext cx="752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1800">
              <a:lnSpc>
                <a:spcPct val="9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un mercado interno más dinámico y 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76480" y="3968640"/>
            <a:ext cx="752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1800">
              <a:lnSpc>
                <a:spcPct val="9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menores tasas imposi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6480" y="4730760"/>
            <a:ext cx="752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1800">
              <a:lnSpc>
                <a:spcPct val="9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menos desequilibrios sociales y reg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94040" y="250992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86120" y="324648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86120" y="389088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86120" y="468324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84400" y="1733400"/>
            <a:ext cx="752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1800">
              <a:lnSpc>
                <a:spcPct val="9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Fundamentals macroeconómicos más sólidos,  estables y “amigab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01960" y="171288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3302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75880" y="1814400"/>
            <a:ext cx="75189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imes New Roman"/>
              </a:rPr>
              <a:t>La Post Convertibilida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imes New Roman"/>
              </a:rPr>
              <a:t>y el nuevo escenari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etitivo para la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imes New Roman"/>
              </a:rPr>
              <a:t>el comercio exteri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ahoma"/>
                <a:ea typeface="Times New Roman"/>
              </a:rPr>
              <a:t>argentin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17240" y="2425680"/>
            <a:ext cx="1739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Total Bien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37800" y="2425680"/>
            <a:ext cx="977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s-MX" sz="2300" spc="-1" strike="noStrike">
                <a:solidFill>
                  <a:srgbClr val="000000"/>
                </a:solidFill>
                <a:latin typeface="Arial"/>
              </a:rPr>
              <a:t>.974</a:t>
            </a: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MX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" y="3106800"/>
            <a:ext cx="243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lejo Oleagi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08480" y="310212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2.16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2200" y="3413160"/>
            <a:ext cx="154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bust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80120" y="3406680"/>
            <a:ext cx="777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677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8480" y="3995640"/>
            <a:ext cx="3336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Complejo Oleaginoso +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69520" y="4378320"/>
            <a:ext cx="1934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Combustibl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080" y="4189320"/>
            <a:ext cx="1058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2300" spc="-1" strike="noStrike">
                <a:solidFill>
                  <a:srgbClr val="000000"/>
                </a:solidFill>
                <a:latin typeface="Arial"/>
              </a:rPr>
              <a:t>.839.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14840" y="4189320"/>
            <a:ext cx="831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Arial"/>
              </a:rPr>
              <a:t>71.4</a:t>
            </a: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6840" y="2308320"/>
            <a:ext cx="837396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6840" y="4754520"/>
            <a:ext cx="837396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44936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Evolución de las Exportaciones en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Variacion montos exportados , en mill. Dolares y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6120" y="76320"/>
            <a:ext cx="8867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82800" anchor="ctr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Luego de una caída del 4% de 2002, el 2003 cerró con un incremento en valores del 14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400" y="5029200"/>
            <a:ext cx="9144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82800" anchor="ctr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64"/>
              </a:spcBef>
              <a:buClr>
                <a:srgbClr val="3333c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33cc"/>
                </a:solidFill>
                <a:latin typeface="Arial"/>
              </a:rPr>
              <a:t>Casi tres de cada cuatro dólares de ese crecimiento se explica por oleaginosas y petró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964"/>
              </a:spcBef>
              <a:buClr>
                <a:srgbClr val="3333c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Los despachos de productos industriales han crecido en el bienio 2002-3 a una tasa del 2% anual promed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2477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4038480"/>
            <a:ext cx="1981080" cy="60984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83760" y="2598840"/>
            <a:ext cx="6861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00066"/>
                </a:solidFill>
                <a:latin typeface="Tahoma"/>
              </a:rPr>
              <a:t>¿Por qué “interesan”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00066"/>
                </a:solidFill>
                <a:latin typeface="Tahoma"/>
              </a:rPr>
              <a:t>las pyme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4920" y="1219320"/>
            <a:ext cx="858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f6e8b"/>
                </a:solidFill>
                <a:latin typeface="Tahoma"/>
              </a:rPr>
              <a:t>PIB Transable y PIB no Transable y Exportac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a precios básicos, en dólares corr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76320"/>
            <a:ext cx="9020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A causa de la devaluación, el PIB en dólares se “desinfló” mucho más en no transabl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50920" y="1461960"/>
            <a:ext cx="858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f6e8b"/>
                </a:solidFill>
                <a:latin typeface="Tahoma"/>
              </a:rPr>
              <a:t>Relación Exportación Bienes y PIB transabl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a precios básicos, en valores corr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1760" y="196920"/>
            <a:ext cx="888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Argentina ya se encuentra exportando </a:t>
            </a:r>
            <a:r>
              <a:rPr b="1" lang="es-MX" sz="2800" spc="-1" strike="noStrike">
                <a:solidFill>
                  <a:srgbClr val="3333cc"/>
                </a:solidFill>
                <a:latin typeface="Tahoma"/>
              </a:rPr>
              <a:t>unos</a:t>
            </a: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 dos tercios de su oferta de transabl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458200" cy="48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11040" y="1711440"/>
            <a:ext cx="8407440" cy="48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24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n algunos sectores industriales pareciera ser -ya ha sido- posible una expansión </a:t>
            </a:r>
            <a:r>
              <a:rPr b="1" i="1" lang="es-ES" sz="2400" spc="-1" strike="noStrike">
                <a:solidFill>
                  <a:srgbClr val="3333cc"/>
                </a:solidFill>
                <a:latin typeface="Tahoma"/>
              </a:rPr>
              <a:t>“one shot”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 de la producción de transables a través del mejor aprovechamiento de su capacidad instalada y/o de mejoras en la productividad de los fact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24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Así, en la mayor parte de las actividades industriales con aptitud exportadora, Argentina no cuenta actualmente con capacidad instalada como para producir/exportar más que lo que ya exporta, cualquiera sea el nivel del tipo de cambio rea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1760" y="282600"/>
            <a:ext cx="888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Las Exportaciones Industriales Post Convertibilidad: restricciones de oferta ??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487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11040" y="1711440"/>
            <a:ext cx="84074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24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P</a:t>
            </a:r>
            <a:r>
              <a:rPr b="1" lang="es-MX" sz="2400" spc="-1" strike="noStrike">
                <a:solidFill>
                  <a:srgbClr val="3333cc"/>
                </a:solidFill>
                <a:latin typeface="Tahoma"/>
              </a:rPr>
              <a:t>ara alcanzar incrementos relevantes y sustentables en el volúmen de las exportaciones de bienes es condición necesaria e indispensable el aumento de la capacidad de producción de los sectores productores de transables-exportables.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2401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ahoma"/>
              </a:rPr>
              <a:t>los “saltos” exportadores sustentables en el tiempo han sido siempre precedidos -o al menos acompañados- por procesos de fuerte dinamismo en el gasto neto en inversión en maquinaria y equipo (y/o en tecnologí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487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1760" y="282600"/>
            <a:ext cx="888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Las Exportaciones Industriales en la Era Post Convertibilidad: restricciones de oferta ??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6320" y="1558800"/>
            <a:ext cx="88326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Baja inversión-desinversión del último quinquenio (1999-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ncarecimiento absoluto y relativo de los bienes vinculados con la inversión y la tecnología</a:t>
            </a:r>
            <a:r>
              <a:rPr b="1" lang="es-MX" sz="2400" spc="-1" strike="noStrike">
                <a:solidFill>
                  <a:srgbClr val="3333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Deterioro del </a:t>
            </a:r>
            <a:r>
              <a:rPr b="1" i="1" lang="es-ES" sz="2400" spc="-1" strike="noStrike">
                <a:solidFill>
                  <a:srgbClr val="3333cc"/>
                </a:solidFill>
                <a:latin typeface="Tahoma"/>
              </a:rPr>
              <a:t>business environement</a:t>
            </a:r>
            <a:r>
              <a:rPr b="1" lang="es-MX" sz="2400" spc="-1" strike="noStrike">
                <a:solidFill>
                  <a:srgbClr val="3333cc"/>
                </a:solidFill>
                <a:latin typeface="Tahoma"/>
              </a:rPr>
              <a:t> interno, fenómeno que afecta particularmente a los grandes proyectos y/o sectores escala intens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ahoma"/>
              </a:rPr>
              <a:t>Asimetrías regionales en sectores tradicionales y pérdida de relevancia del mercado brasil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1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ahoma"/>
              </a:rPr>
              <a:t>Recuperación demanda interna (oferta inelás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1760" y="282600"/>
            <a:ext cx="888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Limitantes estructurales para el dinamismo exportador en sectores industrial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487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520" y="179280"/>
            <a:ext cx="918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El segmento exportador pyme evidencia mejores oportunidades que el de las grandes empres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480" y="6315120"/>
            <a:ext cx="6705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808080"/>
                </a:solidFill>
                <a:uFillTx/>
                <a:latin typeface="Arial"/>
              </a:rPr>
              <a:t>Fuente</a:t>
            </a:r>
            <a:r>
              <a:rPr b="0" lang="es-MX" sz="1400" spc="-1" strike="noStrike">
                <a:solidFill>
                  <a:srgbClr val="808080"/>
                </a:solidFill>
                <a:latin typeface="Arial"/>
              </a:rPr>
              <a:t>: SEPyME, en base a datos de Adu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40004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Evolución Exportaciones según tamaño Empre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variaciones interan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76200" y="1709640"/>
            <a:ext cx="8337600" cy="459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520" y="179280"/>
            <a:ext cx="918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fenómeno que también se refleja en el incremento en el número de exportador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480" y="6315120"/>
            <a:ext cx="6705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808080"/>
                </a:solidFill>
                <a:uFillTx/>
                <a:latin typeface="Arial"/>
              </a:rPr>
              <a:t>Fuente</a:t>
            </a:r>
            <a:r>
              <a:rPr b="0" lang="es-MX" sz="1400" spc="-1" strike="noStrike">
                <a:solidFill>
                  <a:srgbClr val="808080"/>
                </a:solidFill>
                <a:latin typeface="Arial"/>
              </a:rPr>
              <a:t>: SEPyME, en base a datos de Adu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140004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Evolución Número de Exportadores al Mun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Firmas con ventas externas anuales mayores a U$S 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9480" y="1886040"/>
            <a:ext cx="8001000" cy="44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0520" y="179280"/>
            <a:ext cx="918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El mercado brasileño ha perdido significacion en las exportaciones de las pyme argentin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480" y="6315120"/>
            <a:ext cx="6705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808080"/>
                </a:solidFill>
                <a:uFillTx/>
                <a:latin typeface="Arial"/>
              </a:rPr>
              <a:t>Fuente</a:t>
            </a:r>
            <a:r>
              <a:rPr b="0" lang="es-MX" sz="1400" spc="-1" strike="noStrike">
                <a:solidFill>
                  <a:srgbClr val="808080"/>
                </a:solidFill>
                <a:latin typeface="Arial"/>
              </a:rPr>
              <a:t>: SEPyME, en base a datos de Adu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40004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Número de Exportadores Argentinos a Bras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Firmas con ventas externas anuales mayores a U$S 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2106720"/>
            <a:ext cx="822960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0520" y="179280"/>
            <a:ext cx="918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al tiempo que ganan dinamismo otros mercados regionales y economías “culturalmente cercan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480" y="6315120"/>
            <a:ext cx="6705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808080"/>
                </a:solidFill>
                <a:uFillTx/>
                <a:latin typeface="Arial"/>
              </a:rPr>
              <a:t>Fuente</a:t>
            </a:r>
            <a:r>
              <a:rPr b="0" lang="es-MX" sz="1400" spc="-1" strike="noStrike">
                <a:solidFill>
                  <a:srgbClr val="808080"/>
                </a:solidFill>
                <a:latin typeface="Arial"/>
              </a:rPr>
              <a:t>: SEPyME, en base a datos de Adu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40004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Mercados Dinámicos por Número de Expor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Variaciones número exportadores 1997/8 vs. 20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04920" y="1914480"/>
            <a:ext cx="8458200" cy="45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186920" y="2598840"/>
            <a:ext cx="7084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00066"/>
                </a:solidFill>
                <a:latin typeface="Tahoma"/>
              </a:rPr>
              <a:t>Redes empresarial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00066"/>
                </a:solidFill>
                <a:latin typeface="Tahoma"/>
              </a:rPr>
              <a:t>y </a:t>
            </a:r>
            <a:r>
              <a:rPr b="0" i="1" lang="es-ES_tradnl" sz="5000" spc="-1" strike="noStrike">
                <a:solidFill>
                  <a:srgbClr val="000066"/>
                </a:solidFill>
                <a:latin typeface="Tahoma"/>
              </a:rPr>
              <a:t>upgrade</a:t>
            </a:r>
            <a:r>
              <a:rPr b="1" lang="es-ES_tradnl" sz="5000" spc="-1" strike="noStrike">
                <a:solidFill>
                  <a:srgbClr val="000066"/>
                </a:solidFill>
                <a:latin typeface="Tahoma"/>
              </a:rPr>
              <a:t> competitiv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00066"/>
                </a:solidFill>
                <a:latin typeface="Tahoma"/>
              </a:rPr>
              <a:t>de las pym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2760" y="212760"/>
            <a:ext cx="8445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82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Las Pymes en la economía argentin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513160"/>
            <a:ext cx="30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6e8b"/>
                </a:solidFill>
                <a:latin typeface="Tahoma"/>
              </a:rPr>
              <a:t>Representa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0200" y="1815840"/>
            <a:ext cx="4975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Empleo</a:t>
            </a: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Valor Agregado  </a:t>
            </a: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          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f6e8b"/>
                </a:solidFill>
                <a:latin typeface="Tahoma"/>
              </a:rPr>
              <a:t>Cantidad Empresas         9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65720"/>
            <a:ext cx="914400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Arial"/>
              </a:rPr>
              <a:t>Datos Censales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3440" y="39276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6600ff"/>
                </a:solidFill>
                <a:latin typeface="Tahoma"/>
              </a:rPr>
              <a:t>890.000 MIP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487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ff"/>
                </a:solidFill>
                <a:latin typeface="Arial"/>
              </a:rPr>
              <a:t>Ministerio de Economía y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3080" y="243000"/>
            <a:ext cx="9009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¿Desde dónde se estructura la política pública en los países exitos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27160" y="2687760"/>
            <a:ext cx="6448320" cy="2808000"/>
          </a:xfrm>
          <a:prstGeom prst="rect">
            <a:avLst/>
          </a:prstGeom>
          <a:noFill/>
          <a:ln w="442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7240" y="1450800"/>
            <a:ext cx="74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92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6e8b"/>
                </a:solidFill>
                <a:latin typeface="Tahoma"/>
              </a:rPr>
              <a:t>cada vez más, los países exitosos compiten  desde  ‘redes  de redes empresariales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79840" y="2903400"/>
            <a:ext cx="2737080" cy="99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tejidos microeconómicos region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30240" y="5567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92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6e8b"/>
                </a:solidFill>
                <a:latin typeface="Tahoma"/>
              </a:rPr>
              <a:t>...no existe algo así  como una ‘competitividad   individual’: se trata de un fenómeno sistém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79840" y="4295880"/>
            <a:ext cx="2737080" cy="128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ahoma"/>
              </a:rPr>
              <a:t>redes de clientes                y/o provee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1" action="ppaction://hlinksldjump"/>
          </p:cNvPr>
          <p:cNvSpPr/>
          <p:nvPr/>
        </p:nvSpPr>
        <p:spPr>
          <a:xfrm rot="20080800">
            <a:off x="3687840" y="3373560"/>
            <a:ext cx="581040" cy="610920"/>
          </a:xfrm>
          <a:prstGeom prst="rightArrow">
            <a:avLst>
              <a:gd name="adj1" fmla="val 62519"/>
              <a:gd name="adj2" fmla="val 4508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2" action="ppaction://hlinksldjump"/>
          </p:cNvPr>
          <p:cNvSpPr/>
          <p:nvPr/>
        </p:nvSpPr>
        <p:spPr>
          <a:xfrm flipH="1" rot="12286200">
            <a:off x="3682080" y="4271400"/>
            <a:ext cx="581040" cy="610920"/>
          </a:xfrm>
          <a:prstGeom prst="rightArrow">
            <a:avLst>
              <a:gd name="adj1" fmla="val 62519"/>
              <a:gd name="adj2" fmla="val 4508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74760" y="3263760"/>
            <a:ext cx="1729080" cy="172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efe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95480" y="3714840"/>
            <a:ext cx="29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de dónde actúa  la política públ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3" action="ppaction://hlinksldjump"/>
          </p:cNvPr>
          <p:cNvSpPr/>
          <p:nvPr/>
        </p:nvSpPr>
        <p:spPr>
          <a:xfrm>
            <a:off x="303120" y="5638680"/>
            <a:ext cx="581040" cy="611280"/>
          </a:xfrm>
          <a:prstGeom prst="rightArrow">
            <a:avLst>
              <a:gd name="adj1" fmla="val 62519"/>
              <a:gd name="adj2" fmla="val 4508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55520" y="345960"/>
            <a:ext cx="90090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Italia y España: Dos referencias de política p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488960"/>
            <a:ext cx="845820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77560" algn="just">
              <a:lnSpc>
                <a:spcPct val="105000"/>
              </a:lnSpc>
              <a:spcBef>
                <a:spcPts val="1789"/>
              </a:spcBef>
              <a:buClr>
                <a:srgbClr val="ff99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En países como Italia o España el diferencial de productividad entre PyMEs y grandes empresas es de 15-20%: en Argentina es de un 50-60%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77560" algn="just">
              <a:lnSpc>
                <a:spcPct val="105000"/>
              </a:lnSpc>
              <a:spcBef>
                <a:spcPts val="1789"/>
              </a:spcBef>
              <a:buClr>
                <a:srgbClr val="ff99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Entre el 40% y el 60% de las exportaciones son originadas por PyMEs:  en Argentina sólo un 10%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77560" algn="just">
              <a:lnSpc>
                <a:spcPct val="105000"/>
              </a:lnSpc>
              <a:spcBef>
                <a:spcPts val="1789"/>
              </a:spcBef>
              <a:buClr>
                <a:srgbClr val="ff99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La gran mayoría de las PyMEs tienen en sus proveedores y clientes la principal fuente de información técnic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77560" algn="just">
              <a:lnSpc>
                <a:spcPct val="105000"/>
              </a:lnSpc>
              <a:spcBef>
                <a:spcPts val="1789"/>
              </a:spcBef>
              <a:buClr>
                <a:srgbClr val="ff99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Una de las bases explicativas de dichos resultados es la fuerte articulación productiva entre clientes y proveedores, y el desarrollo de redes microeconómicas region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82440" y="1919160"/>
            <a:ext cx="88441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15000"/>
              </a:lnSpc>
              <a:spcBef>
                <a:spcPts val="284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79167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Favorecer el desarrollo y la inserción internacional de las empresas ubicadas en el tercer tramo de algunas cadenas relevantes (asociatividad horizont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5000"/>
              </a:lnSpc>
              <a:spcBef>
                <a:spcPts val="284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79167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Contribuir a la “activación” de cadenas truncas, partiendo de la voluntad de diferentes tramos por actuar cooperativamente (asociatividad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5000"/>
              </a:lnSpc>
              <a:spcBef>
                <a:spcPts val="284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79167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6e8b"/>
                </a:solidFill>
                <a:latin typeface="Tahoma"/>
              </a:rPr>
              <a:t>Contribuir a mejorar la capacidad de negociación interna entre eslabones asimétricos de las cade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43000"/>
            <a:ext cx="908208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La asociatividad entre pymes y/o entre pymes y grandes empresas a lo largo de la cadena de valor aparece como un instrumento capaz d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487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ff"/>
                </a:solidFill>
                <a:latin typeface="Arial"/>
              </a:rPr>
              <a:t>Ministerio de Economía y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17640" y="1638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3480" y="1808280"/>
            <a:ext cx="90406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10000"/>
              </a:lnSpc>
              <a:spcBef>
                <a:spcPts val="165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Propiciar el</a:t>
            </a:r>
            <a:r>
              <a:rPr b="1" i="1" lang="es-ES_tradnl" sz="2800" spc="-1" strike="noStrike">
                <a:solidFill>
                  <a:srgbClr val="cc3300"/>
                </a:solidFill>
                <a:latin typeface="Tahoma"/>
              </a:rPr>
              <a:t> alargamiento </a:t>
            </a: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de las principales cadenas de valor en que el país es productor-exportador de bienes ubicados en primeros tramos de las mis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65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Contribuir al </a:t>
            </a:r>
            <a:r>
              <a:rPr b="1" i="1" lang="es-ES_tradnl" sz="2800" spc="-1" strike="noStrike">
                <a:solidFill>
                  <a:srgbClr val="cc3300"/>
                </a:solidFill>
                <a:latin typeface="Tahoma"/>
              </a:rPr>
              <a:t>ensanchamiento </a:t>
            </a: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de eslabonamientos productivos sectoriales/regionales, en base a ventajas de localización y posibilidades de sub-contra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65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Facilitar la </a:t>
            </a:r>
            <a:r>
              <a:rPr b="1" i="1" lang="es-ES_tradnl" sz="2800" spc="-1" strike="noStrike">
                <a:solidFill>
                  <a:srgbClr val="cc3300"/>
                </a:solidFill>
                <a:latin typeface="Tahoma"/>
              </a:rPr>
              <a:t>profundización </a:t>
            </a:r>
            <a:r>
              <a:rPr b="1" lang="es-ES_tradnl" sz="2400" spc="-1" strike="noStrike">
                <a:solidFill>
                  <a:srgbClr val="3f6e8b"/>
                </a:solidFill>
                <a:latin typeface="Tahoma"/>
              </a:rPr>
              <a:t>de las relaciones hacia adentro de las redes de clientes/proveedores de grandes empresas, incorporando más pymes a la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560" y="139680"/>
            <a:ext cx="900900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En lo que hace al comercio exterior, la agenda de política pyme de los próximos años girar en torno de la necesidad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487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ff"/>
                </a:solidFill>
                <a:latin typeface="Arial"/>
              </a:rPr>
              <a:t>Ministerio de Economía y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16905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2719440"/>
            <a:ext cx="800748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25000"/>
              </a:lnSpc>
              <a:spcBef>
                <a:spcPts val="601"/>
              </a:spcBef>
              <a:buClr>
                <a:srgbClr val="ff99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6699"/>
                </a:solidFill>
                <a:latin typeface="Tahoma"/>
                <a:ea typeface="Times New Roman"/>
              </a:rPr>
              <a:t> </a:t>
            </a: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Petroquímica-Polímeros-Manuf. Plá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25000"/>
              </a:lnSpc>
              <a:spcBef>
                <a:spcPts val="601"/>
              </a:spcBef>
              <a:buClr>
                <a:srgbClr val="ff99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Insumos textiles-Indumen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25000"/>
              </a:lnSpc>
              <a:spcBef>
                <a:spcPts val="601"/>
              </a:spcBef>
              <a:buClr>
                <a:srgbClr val="ff99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Papel-Industria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25000"/>
              </a:lnSpc>
              <a:spcBef>
                <a:spcPts val="601"/>
              </a:spcBef>
              <a:buClr>
                <a:srgbClr val="ff99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Curtiembres-tapicería-mue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25000"/>
              </a:lnSpc>
              <a:spcBef>
                <a:spcPts val="601"/>
              </a:spcBef>
              <a:buClr>
                <a:srgbClr val="ff99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Siderurgia-Maquinaria Agrícola-Auto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25000"/>
              </a:lnSpc>
              <a:spcBef>
                <a:spcPts val="601"/>
              </a:spcBef>
              <a:buClr>
                <a:srgbClr val="ff99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Forestación-Madera-Industria del Mue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25000"/>
              </a:lnSpc>
              <a:spcBef>
                <a:spcPts val="601"/>
              </a:spcBef>
              <a:buClr>
                <a:srgbClr val="ff99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Aluminio-Manufacturas de Alu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79388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6e8b"/>
                </a:solidFill>
                <a:latin typeface="Tahoma"/>
              </a:rPr>
              <a:t>Complejos con posibilidades para el desarrollo de programas de clientes pyme expor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080" y="160200"/>
            <a:ext cx="900900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El gran desafío es sinergizar las potencialidades de la economía argentina, aprovechando las ventajas que se derivan del nuevo contex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15987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56760" y="1868400"/>
            <a:ext cx="8425080" cy="394344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lvl="1" marL="1904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5000"/>
              </a:lnSpc>
              <a:spcBef>
                <a:spcPts val="1049"/>
              </a:spcBef>
              <a:buClr>
                <a:srgbClr val="ff99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El crecimiento sustentable de una economía no depende de su capacidad de autosuficiencia ni de la competitividad de las empresas en forma</a:t>
            </a:r>
            <a:r>
              <a:rPr b="1" lang="es-AR" sz="2400" spc="-1" strike="noStrike">
                <a:solidFill>
                  <a:srgbClr val="006699"/>
                </a:solidFill>
                <a:latin typeface="Tahoma"/>
                <a:ea typeface="Times New Roman"/>
              </a:rPr>
              <a:t> </a:t>
            </a: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aislada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…</a:t>
            </a:r>
            <a:r>
              <a:rPr b="1" lang="es-AR" sz="2400" spc="-1" strike="noStrike">
                <a:solidFill>
                  <a:srgbClr val="3f6e8b"/>
                </a:solidFill>
                <a:latin typeface="Tahoma"/>
              </a:rPr>
              <a:t>.sino de la conformación de una amplia trama de redes de negocios, que propicie y facilite una interacción eficaz entre los diferentes tramos eficientes de sus cadenas productivas estratég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0480" y="1206360"/>
            <a:ext cx="312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 </a:t>
            </a: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En definitiv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19240" y="1803240"/>
            <a:ext cx="87087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200" spc="-1" strike="noStrike">
                <a:solidFill>
                  <a:srgbClr val="002c40"/>
                </a:solidFill>
                <a:latin typeface="Impact"/>
                <a:ea typeface="Times New Roman"/>
              </a:rPr>
              <a:t>Gracias !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002c40"/>
                </a:solidFill>
                <a:latin typeface="Impact"/>
                <a:ea typeface="Times New Roman"/>
              </a:rPr>
              <a:t>Lic. Gustavo Svarzma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002c40"/>
                </a:solidFill>
                <a:latin typeface="Impact"/>
                <a:ea typeface="Times New Roman"/>
              </a:rPr>
              <a:t>gsvarz</a:t>
            </a:r>
            <a:r>
              <a:rPr b="0" lang="es-ES_tradnl" sz="3400" spc="-1" strike="noStrike">
                <a:solidFill>
                  <a:srgbClr val="000000"/>
                </a:solidFill>
                <a:latin typeface="Impact"/>
              </a:rPr>
              <a:t>@</a:t>
            </a:r>
            <a:r>
              <a:rPr b="0" lang="es-AR" sz="3400" spc="-1" strike="noStrike">
                <a:solidFill>
                  <a:srgbClr val="002c40"/>
                </a:solidFill>
                <a:latin typeface="Impact"/>
                <a:ea typeface="Times New Roman"/>
              </a:rPr>
              <a:t>sepyme.gov.a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1040" y="1711440"/>
            <a:ext cx="8407440" cy="37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22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Acceso al financiamient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22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Generación de emple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22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Crecimiento de la economía; aumento export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22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Competitividad y cadenas productiva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22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Desarrollo regiona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2200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Política comercial / integración regional;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4560" y="5619600"/>
            <a:ext cx="8445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82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... se está hablando de PyM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1760" y="282600"/>
            <a:ext cx="888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De este modo, cuando en el debate público se tratan temas tan diversos, com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487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ff"/>
                </a:solidFill>
                <a:latin typeface="Arial"/>
              </a:rPr>
              <a:t>Ministerio de Economía y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080" y="2028960"/>
            <a:ext cx="8575560" cy="41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614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Frecuentes fallas 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614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Agentes con “diferentes” capacidades de negoci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614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Asimetrías en el acceso a la 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614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Jugadores que operan con criterios no siempre compatibles con la “racionalidad” microeconómica glob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614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Problemas de escala y dificultades para “pensar” y/o actuar mas allá del corto plaz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4200" y="291960"/>
            <a:ext cx="888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Las PyMEs no operan en una campana de cristal, sino en un “mundo real” caracteriz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487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ff"/>
                </a:solidFill>
                <a:latin typeface="Arial"/>
              </a:rPr>
              <a:t>Ministerio de Economía y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891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2440" y="2536920"/>
            <a:ext cx="846756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2475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Mejorar la capacidad de generación de emple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2475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Aminorar desequilibrios regionales y propender a una distribución más equitativa del ingr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2475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Mejorar la eficiencia de la economía en su conju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2475"/>
              </a:spcBef>
              <a:buClr>
                <a:srgbClr val="ff9900"/>
              </a:buClr>
              <a:buSzPct val="1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Favorecer desarrollo de actividades en las que las ventajas competitivas no tienen que ver con la escala sino con la flexibilidad </a:t>
            </a:r>
            <a:r>
              <a:rPr b="1" i="1" lang="es-ES_tradnl" sz="2200" spc="-1" strike="noStrike">
                <a:solidFill>
                  <a:srgbClr val="3f6e8b"/>
                </a:solidFill>
                <a:latin typeface="Tahoma"/>
              </a:rPr>
              <a:t>(“small is beautifull”</a:t>
            </a:r>
            <a:r>
              <a:rPr b="1" lang="es-ES_tradnl" sz="2200" spc="-1" strike="noStrike">
                <a:solidFill>
                  <a:srgbClr val="3f6e8b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20520" y="165240"/>
            <a:ext cx="9505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82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ahoma"/>
              </a:rPr>
              <a:t>¿Por qué existen políticas específicas para Py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3040" y="1495440"/>
            <a:ext cx="885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6e8b"/>
                </a:solidFill>
                <a:latin typeface="Tahoma"/>
              </a:rPr>
              <a:t>En países con “buenas” políticas publicas hay instrumentos orientados a favorecer el desarrollo pyme, a efectos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594480"/>
            <a:ext cx="9144000" cy="252360"/>
          </a:xfrm>
          <a:prstGeom prst="rect">
            <a:avLst/>
          </a:prstGeom>
          <a:solidFill>
            <a:srgbClr val="487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ff"/>
                </a:solidFill>
                <a:latin typeface="Arial"/>
              </a:rPr>
              <a:t>Ministerio de Economía y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063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21240" y="2392200"/>
            <a:ext cx="7707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Tahoma"/>
              </a:rPr>
              <a:t>El Sector Exportador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Tahoma"/>
              </a:rPr>
              <a:t>Argentino e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Tahoma"/>
              </a:rPr>
              <a:t>Perspectiva Comparad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53684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Evolución Exportaciones 1950-2001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Variación porcentual, sobre valores en dólares constantes de 200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000" y="179280"/>
            <a:ext cx="918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Las exportaciones argentinas han exhibido una performance poco favorable en último medio sig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22724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55680" y="2187720"/>
            <a:ext cx="8434440" cy="43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3320" y="6149880"/>
            <a:ext cx="6705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808080"/>
                </a:solidFill>
                <a:uFillTx/>
                <a:latin typeface="Arial"/>
              </a:rPr>
              <a:t>Fuente</a:t>
            </a:r>
            <a:r>
              <a:rPr b="0" lang="es-MX" sz="1400" spc="-1" strike="noStrike">
                <a:solidFill>
                  <a:srgbClr val="808080"/>
                </a:solidFill>
                <a:latin typeface="Arial"/>
              </a:rPr>
              <a:t>: SEPyME, en base a datos de OMC e IN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68280" y="4957920"/>
            <a:ext cx="7169400" cy="28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68280" y="4359240"/>
            <a:ext cx="7169400" cy="180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68280" y="3773520"/>
            <a:ext cx="7169400" cy="14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68280" y="3171960"/>
            <a:ext cx="7169400" cy="28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68280" y="2571840"/>
            <a:ext cx="7169400" cy="14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68280" y="2571840"/>
            <a:ext cx="180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2571840"/>
            <a:ext cx="180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868120" y="2571840"/>
            <a:ext cx="1764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571840"/>
            <a:ext cx="144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49600" y="2571840"/>
            <a:ext cx="180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2571840"/>
            <a:ext cx="144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49440" y="2571840"/>
            <a:ext cx="1764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37480" y="2571840"/>
            <a:ext cx="288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43880" y="2573280"/>
            <a:ext cx="4680" cy="298620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37680" y="2571840"/>
            <a:ext cx="1440" cy="298764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2080" y="3249720"/>
            <a:ext cx="463320" cy="2309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22640" y="4559400"/>
            <a:ext cx="479160" cy="1000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30480" y="4883040"/>
            <a:ext cx="461880" cy="67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22840" y="5157720"/>
            <a:ext cx="460080" cy="401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13400" y="5079960"/>
            <a:ext cx="477720" cy="479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9800" y="5035680"/>
            <a:ext cx="461880" cy="52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11800" y="5127480"/>
            <a:ext cx="461880" cy="43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02360" y="5051520"/>
            <a:ext cx="479520" cy="507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10560" y="5021280"/>
            <a:ext cx="461880" cy="538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68280" y="5559480"/>
            <a:ext cx="7169400" cy="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268280" y="5559120"/>
            <a:ext cx="180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058840" y="5559120"/>
            <a:ext cx="180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867040" y="5559120"/>
            <a:ext cx="144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657600" y="5559120"/>
            <a:ext cx="144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449600" y="5559120"/>
            <a:ext cx="180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57800" y="5559120"/>
            <a:ext cx="144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048360" y="5559120"/>
            <a:ext cx="144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837480" y="5559120"/>
            <a:ext cx="288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645320" y="5559120"/>
            <a:ext cx="324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437680" y="5559120"/>
            <a:ext cx="1440" cy="44280"/>
          </a:xfrm>
          <a:prstGeom prst="line">
            <a:avLst/>
          </a:prstGeom>
          <a:ln w="0">
            <a:solidFill>
              <a:srgbClr val="b2b2b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15160" y="283680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.93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0120" y="404352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8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27960" y="450540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57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23560" y="462600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3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10880" y="465120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4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6120" y="462456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4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93440" y="462924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36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00200" y="465768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43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08040" y="4643280"/>
            <a:ext cx="54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46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9600" y="545148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9600" y="484992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0.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9600" y="424980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.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9600" y="366876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.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9600" y="306396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2.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9600" y="2465280"/>
            <a:ext cx="436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2.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9148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9788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844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080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720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7776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6832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7616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66720" y="5602320"/>
            <a:ext cx="427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s-MX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920" y="16606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f6e8b"/>
                </a:solidFill>
                <a:latin typeface="Tahoma"/>
              </a:rPr>
              <a:t>Participación Argentina en Comercio Mu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f6e8b"/>
                </a:solidFill>
                <a:latin typeface="Tahoma"/>
              </a:rPr>
              <a:t>en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400" y="158760"/>
            <a:ext cx="918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ahoma"/>
              </a:rPr>
              <a:t>hecho que se refleja en la fuerte declinación de la participación del país en el comercio mund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24776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6:10:00Z</dcterms:created>
  <dc:creator>Marcelo Marzocchini</dc:creator>
  <dc:description/>
  <dc:language>en-US</dc:language>
  <cp:lastModifiedBy>C.P.C.E.C.A.B.A.</cp:lastModifiedBy>
  <dcterms:modified xsi:type="dcterms:W3CDTF">2004-10-13T13:09:56Z</dcterms:modified>
  <cp:revision>256</cp:revision>
  <dc:subject/>
  <dc:title>Sin título de diapositiva</dc:title>
</cp:coreProperties>
</file>