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C998-7E55-413A-97B6-14505289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F4E3-4DFE-4551-9C78-284C8060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E268-72B4-4AAB-B267-4AF4D380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E2F8-1649-41FB-A115-DEF2F247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CE7F-E9B1-4384-A1EF-1322E89F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1356-2F0A-4F6E-BFCC-657570CC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CC6A-54E3-49BF-91CF-D35CDED7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F7E0-06A6-428F-9636-330D8CF4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B45E-1CFB-4B2D-9E25-6F080A83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C082-8AAE-4FF9-9A93-9972772A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F68B-D434-4BC4-BD90-59209282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FB73-E6BE-40BE-B0BB-42DB7F12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3427-94FD-483A-B2F1-D176B74A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5EF6-0132-47FE-81AA-4FAF3084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EB88-F296-4E6E-A6DC-2F063D26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67EC-3086-4EA8-8971-890DBD1C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B16F-4F1D-4430-8AA1-CEE02DBB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307B-0B0A-41D5-B051-D82587E2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EDF2-666E-4471-89A1-C3C6ED5B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08C-1537-4812-B4D0-09E79DBF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6C0E-3FD5-4F73-AFDC-9B2FA4F8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D53-1558-44F4-8907-E2A644BE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824A-CEDB-4B48-A4BC-7AC9CE1E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C002-049E-4189-8C09-9F041FAB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7439-860E-4416-866F-3A3AD986455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91F7-DB5B-4CC9-9DFE-4F162577801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402480"/>
            <a:ext cx="77724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“</a:t>
            </a: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LA RECONVERSIÓN DE PEQUEÑAS Y MEDIANAS EMPRESAS EN ARGENTINA: EL CASO DEL CENTRO DE LA PCIA. DE BUENOS AIRES”</a:t>
            </a: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Rébori, Alfredo; Diez, Mauricio; Mayoral, Lui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Universidad Nacional del Centro de la Prov. de Buenos Aires – Facultad Ciencias Económ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Centro de Estudios en Administración y Econom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VIII CONGRESO DE LA PEQUEÑA Y MEDIANA EMPRE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Consejo Profesional de Ciencias Económicas de la Ciudad Autónoma de Buenos Aires - 30 de septiembre y 1 de octubre de 200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ÁREA 2:  Herramientas de gest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TEMA:  Técnicas de gest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1219320"/>
            <a:ext cx="85345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ercer Relevamien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suficiente atención a la satisfacción y retención de clientes, baja incorporación de tecnologías de informació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suficiente atención a la posición competitiva (comparación con competidores medioc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suficiente conciencia de la noción de valor agre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isión del negocio “hacia adentro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bre internacionaliz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57200" y="609480"/>
            <a:ext cx="777240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00"/>
                </a:solidFill>
                <a:latin typeface="Times New Roman"/>
              </a:rPr>
              <a:t>Lineas de acción para aumentar la competitividad de las empresa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)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Sensibilizar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 los pequeños empresarios sobre las condiciones competitivas previsibles en los mercad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ducir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ellos la necesidad de informarse y de mirar a sus empresas “desde afuera hacia adentro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) Con la perspectiva resultante de b), apuntar a que los empresarios se planteen seriament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uáles deben ser las estrategias organizacion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)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cientizar a las cúpul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obre la necesidad de cubrir vacíos y de ejercer un rol más activo en la formulación de la estrategia, en la generación de capacidades y en la formación de la cultura empresarial dinám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" y="1905120"/>
            <a:ext cx="84582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 que las pequeñas y medianas empresas argentinas necesitan para volverse competitivas está ligado a aspectos de estrategia y cultura organizacional, como basamentos del programa de reconver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los cuatro años de exploración se observó una reconversión incremental y adaptativa, en la que se manifiestan los siguientes fenómen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El cambio de escenario  y de las expectativas respecto al futuro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La necesidad de asumir el cambio como dato de la rea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04920" y="1066680"/>
            <a:ext cx="83055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La necesidad de atender tanto a los aspectos internos como externos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El riesgo de las dependencias de cualquier tip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La internacionalización como estrategia natural e inevi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El planteo de demandas mayores y más difíci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La necesidad de compatibilizar demandas de sentido opu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La posibilidad de regresiones en cualquier punto del proce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La estrecha relación entre la estrategia y la cultura       organizacional.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1981080"/>
            <a:ext cx="89154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La necesidad de definir el qué de la capacitación con sentido estratég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La necesidad de concretar visiones en hech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La importancia de desarrollar capacidad de olvi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La empresa como una construcción cotidiana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90720" y="1981080"/>
            <a:ext cx="7467480" cy="23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Times New Roman"/>
              </a:rPr>
              <a:t>MUCHAS GRACI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Times New Roman"/>
              </a:rPr>
              <a:t>Contacto: vdecano@econ.unicen.edu.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Objetiv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905120"/>
            <a:ext cx="82296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xplorar condiciones para la adecuación de empresas, instituciones y pefiles profesionales a las condiciones de competitividad global en el ámbito de pymes de la región centro de la Pcia. e Buenos 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ocer la existencia, grado, dirección y carácterísticas de los procesos de cambio en el contexto mencion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1981080"/>
            <a:ext cx="792504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spectos evidentes en relación a la temátic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ermanencia y Continuidad en el estudio del cambio en las organiz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mbigüedad y Complejidad en su concepción teóric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iorización del estudio del cambio de tipo empresarial y ger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8380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3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Marco Teóric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1981080"/>
            <a:ext cx="792504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749"/>
              </a:spcBef>
              <a:buClr>
                <a:srgbClr val="ffffff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ciones de “cambio planeado” vs. “cambio adaptativo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ffffff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ffffff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“tensión” entre “cambio planeado y adaptativo” debería resolverse mediante la investigación “empíric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ffffff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8380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3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Marco Teóric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Aspectos Metodológic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209680"/>
            <a:ext cx="78487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nálisis de muestra de veintidós empresas de menor tamaño relativo, localizadas en la zona de influencia de la UNCPB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alización de entrevistas personales a managers de las empresas selecion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alización de talleres de reflexión sobre las experiencias de cambio con representantes de las empresas, como foro de diálogo e intercambio y mecanismo de retroalimentación de la información hacia el med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Resultad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2057400"/>
            <a:ext cx="769644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imer Relevamien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erfíl de reconversión predominante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cambio se origina por la percepción de un escenario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etitivo y dinámico, no coyuntural, sino estructura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intenta restablecer la posición competitiva de las empresas en base a mejoras, adaptaciones y pequeños ajustes, que hacen que el modelo de cambio preponderante sea caracterizado como "adaptativo".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90720" y="21337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1295280"/>
            <a:ext cx="81532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untos débiles en la estrategia de reconvers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usencia de orientación activa hacia el establecimiento de relaciones estratégic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centración generalizada en instrumentos de cambio inter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lta de  compromiso generalizado con el cambio en todos los niveles de la organiz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rsistencia de la división vertical de habilidades (decisión/acció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4920" y="1143000"/>
            <a:ext cx="8610480" cy="66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gundo Relevamiento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cesos de cambio en march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de tipo adaptativo, incremental, que continúan estando preponderantemente dirigidos hacia el interior de la empres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iste un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mayor heterogeneidad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las empresas no tienen las mismas concepciones respecto del cambio y en consecuencia, los fines, los procesos, sus blancos, sus instrumentos y resultados difieren entre s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urbulencia del ambient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hace que no alcance con cambiar, sino que además hay que hacerlo de manera cambiante y no inerc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der, estrategia y cultura organizacional siguen pend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1219320"/>
            <a:ext cx="8534520" cy="54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ercer Relevamien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ran parte de las limitaciones e insuficiencias detectadas en las empresas responden en buena medida a una “cultura empresarial” disfuncional en términos de un contexto de competitividad global, entre ella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torsión entre la visión declamada y las decisiones y acciones realizada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caso reconocimiento de las capacidades gerencial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bre reconocimiento de la importancias de las personas y de los equip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suficiente atención a la calidad y las certificaciones de calidad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2:59:52Z</dcterms:created>
  <dc:creator> Rebori</dc:creator>
  <dc:description/>
  <dc:language>en-US</dc:language>
  <cp:lastModifiedBy>C.P.C.E.C.A.B.A.</cp:lastModifiedBy>
  <dcterms:modified xsi:type="dcterms:W3CDTF">2004-10-13T13:08:14Z</dcterms:modified>
  <cp:revision>19</cp:revision>
  <dc:subject/>
  <dc:title> “LA RECONVERSIÓN DE PEQUEÑAS Y MEDIANAS EMPRESAS EN ARGENTINA: EL CASO DEL CENTRO DE LA PCIA. DE BUENOS AIRES” </dc:title>
</cp:coreProperties>
</file>