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8ABE-1271-4DBB-BD5A-D2B728F596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enas Tar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envenidos a to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 agradecemos su interés por participar de estas reuniones y esperamos sea de utilidad para tomar su decisión de seguir capacitánd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mos a tomar unos minutos para hacer una breve introducción, acerca de nuestra Facultad y las actividades de la Secretaria de Posgr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4338720"/>
            <a:ext cx="6400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Facultad de Ciencias Económ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stra casa de estudios fu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fundada en el año 191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y desde entonces ha cumplido una intensa actividad académica orientada a la formación de profesionales, como también hacia las actividades de investigación, priorizando el conocimiento científico y la educación en todos sus nive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stra Facultad ha logrado reconocimiento y prestigio académico tanto en el orden nacional como internacional, hecho que está demostrado por los convenios de colaboración e intercambio firmados con </a:t>
            </a:r>
            <a:r>
              <a:rPr b="0" lang="es-ES" sz="1000" spc="-1" strike="noStrike">
                <a:solidFill>
                  <a:srgbClr val="ff0000"/>
                </a:solidFill>
                <a:latin typeface="Arial"/>
              </a:rPr>
              <a:t>otras universidades argentinas y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 todo el mundo con las cuales se mantiene un fecundo intercambio de alumnos y doc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lan Fénix: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el mes de diciembre de 2001 la Universidad de Buenos aires resolvió aprobar el proyecto estratégico "Hacia el Plan Fénix, diagnóstico y propuestas. Una estrategia de reconstrucción de la economía argentina para el crecimiento con equidad" mediante resolución No 6846 de su Consejo Superior y designar como Director del Proyecto al Dr. Abraham Leonardo Gak.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uno de sus documentos fundacionales el Grupo señal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"La Universidad tiene, entre sus responsabilidades, la de pensar el país en el marco del escenario mundial para contribuir a elevar la calidad de vida del conjunto de la población y consolidar la democracia.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Esta tarea es particularmente crítica y urgente en momentos como los actuales, signados por el estancamiento, la concentración de la riqueza, el aumento de la pobreza y la exclusión, y la pérdida de la capacidad de decidir nuestro propio destino.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En cumplimiento de esa responsabilidad ineludible, docentes e investigadores convocan a la reflexión común para aportar a un diagnóstico acerca de la naturaleza de los problemas centrales de la economía argentina y comenzar a formular propuestas que permitan resolver la crisis y movilizar el formidable potencial con que cuenta nuestro país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338720"/>
            <a:ext cx="64008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Facultad de Ciencias Económic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stra casa de estudios fu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fundada en el año 1913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y desde entonces ha cumplido una intensa actividad académica orientada a la formación de profesionales, como también hacia las actividades de investigación, priorizando el conocimiento científico y la educación en todos sus nive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stra Facultad ha logrado reconocimiento y prestigio académico tanto en el orden nacional como internacional, hecho que está demostrado por los convenios de colaboración e intercambio firmados con </a:t>
            </a:r>
            <a:r>
              <a:rPr b="0" lang="es-ES" sz="1000" spc="-1" strike="noStrike">
                <a:solidFill>
                  <a:srgbClr val="ff0000"/>
                </a:solidFill>
                <a:latin typeface="Arial"/>
              </a:rPr>
              <a:t>otras universidades argentinas y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 todo el mundo con las cuales se mantiene un fecundo intercambio de alumnos y doce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lan Fénix: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el mes de diciembre de 2001 la Universidad de Buenos aires resolvió aprobar el proyecto estratégico "Hacia el Plan Fénix, diagnóstico y propuestas. Una estrategia de reconstrucción de la economía argentina para el crecimiento con equidad" mediante resolución No 6846 de su Consejo Superior y designar como Director del Proyecto al Dr. Abraham Leonardo Gak.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uno de sus documentos fundacionales el Grupo señal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"La Universidad tiene, entre sus responsabilidades, la de pensar el país en el marco del escenario mundial para contribuir a elevar la calidad de vida del conjunto de la población y consolidar la democracia.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Esta tarea es particularmente crítica y urgente en momentos como los actuales, signados por el estancamiento, la concentración de la riqueza, el aumento de la pobreza y la exclusión, y la pérdida de la capacidad de decidir nuestro propio destino.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En cumplimiento de esa responsabilidad ineludible, docentes e investigadores convocan a la reflexión común para aportar a un diagnóstico acerca de la naturaleza de los problemas centrales de la economía argentina y comenzar a formular propuestas que permitan resolver la crisis y movilizar el formidable potencial con que cuenta nuestro país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4570200"/>
            <a:ext cx="60199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retaría de Posg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chos de nuestros graduados ocupan posiciones de importancia en las estructuras de conducción de las instituciones públicas y privadas en el pa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lo se relaciona con la calidad de los docentes, la preparación de los estudiantes, los programas de estudio actualizados y el carácter de pionera que la Facultad de Ciencias Económicas tiene en los estudios de posgrado en Economía, Administración y Contabilidad a nivel académico y profesional en la Argenti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lidad nos permite disponer del potencial de conocimientos científicos, tecnológicos y de relaciones institucionales necesarios para ofrecer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gramas de capacitación de posgrado del mas alto niv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acorde al prestigio de la Universidad de Buenos A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venios Interna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Complutense de Madrid (Doble titulación para la carrera de RRH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ntro Franco Argentino (Intercambio de Docen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tedra Libre Argentino - Brasilera (Intercambio de Docen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4570200"/>
            <a:ext cx="601992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cretaría de Posg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uchos de nuestros graduados ocupan posiciones de importancia en las estructuras de conducción de las instituciones públicas y privadas en el paí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lo se relaciona con la calidad de los docentes, la preparación de los estudiantes, los programas de estudio actualizados y el carácter de pionera que la Facultad de Ciencias Económicas tiene en los estudios de posgrado en Economía, Administración y Contabilidad a nivel académico y profesional en la Argentin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realidad nos permite disponer del potencial de conocimientos científicos, tecnológicos y de relaciones institucionales necesarios para ofrecer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gramas de capacitación de posgrado del mas alto nive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acorde al prestigio de la Universidad de Buenos Air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venios Interna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iversidad Complutense de Madrid (Doble titulación para la carrera de RRH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entro Franco Argentino (Intercambio de Docen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tedra Libre Argentino - Brasilera (Intercambio de Docen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oferta de la Secretaría de posgrado de la Facultad de Ciencias Económicas consta 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ESTR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leer to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os de ellas se lanzan este cuatrimestre - Mencionar las que están en amaril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RERAS DE ESPECIALIZ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leer to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ncionar la que esta en amarillo como nueva carre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SOS DE POSG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leer to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mayor información sobre nuestra oferta puede acercarse al finalizar esta charla a la oficina de la Secretaria de Posgrado y con gusto lo atenderem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 mas, el Dr.............................., queda a cargo de la reun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enas No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SOS DE POSG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 leer tod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mayor información sobre nuestra oferta puede acercarse al finalizar esta charla a la oficina de la Secretaria de Posgrado y con gusto lo atenderem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 mas, el Dr.............................., queda a cargo de la reun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enas No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2F2-4A7E-485C-9215-FDC3D525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791-CD57-4EB5-9262-29586B47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F7D-751A-4A4C-8838-1896E3C7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D29-E5A7-43D9-9061-94862462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18BA-1BD0-4D93-AB44-26F6396C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CF47-CF1D-4D49-B8C7-FC176E3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B646-FFD7-498C-8DFA-095D843C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F420-F647-491F-80C4-692C1DE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E3BE-B676-4F8A-AE47-792D67B2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133E-A804-42CC-8B4C-ACEB98BA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3244-7B27-48F4-A956-68E58DB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2E4-BF2D-4F63-BE10-8E1926BC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255-81E6-487B-AE95-A6A59286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CF89-6468-4D48-972C-5DF1EA5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F14D-7ED4-40AA-A958-858CB1FB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37B1-EC5A-47DD-B39D-57C7D426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C40D-8E15-4C88-AC95-072A0B68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F67-FE92-405E-8EB1-B2D682E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73E-DC25-4D74-9C3A-38AA5149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C5D-219B-400E-B593-57C57D6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D5F-1939-4AD6-A5B1-CD46E1F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22E-9613-4367-B0B8-7E5C3AA5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D06-3DAA-4500-B9A3-8849518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2FE-7042-45A0-BBCA-4D75FD3C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FEEB-84DE-4D4C-B68B-F168FD15B9B7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00200" y="0"/>
            <a:ext cx="5867280" cy="1295280"/>
            <a:chOff x="1600200" y="0"/>
            <a:chExt cx="5867280" cy="1295280"/>
          </a:xfrm>
        </p:grpSpPr>
        <p:sp>
          <p:nvSpPr>
            <p:cNvPr id="6" name=""/>
            <p:cNvSpPr/>
            <p:nvPr/>
          </p:nvSpPr>
          <p:spPr>
            <a:xfrm rot="5390400">
              <a:off x="6658200" y="427680"/>
              <a:ext cx="687600" cy="514800"/>
            </a:xfrm>
            <a:prstGeom prst="flowChartDelay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" name=""/>
            <p:cNvGraphicFramePr/>
            <p:nvPr/>
          </p:nvGraphicFramePr>
          <p:xfrm>
            <a:off x="1600200" y="0"/>
            <a:ext cx="5867280" cy="1295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0200" y="0"/>
                      <a:ext cx="586728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259-6656-4E3D-96D2-2A50417D948A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oto%20Facu" descr=""/>
          <p:cNvPicPr/>
          <p:nvPr/>
        </p:nvPicPr>
        <p:blipFill>
          <a:blip r:embed="rId2"/>
          <a:stretch/>
        </p:blipFill>
        <p:spPr>
          <a:xfrm>
            <a:off x="4038480" y="3429000"/>
            <a:ext cx="2590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160" y="304920"/>
            <a:ext cx="68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NIVERSIDAD DE BUENOS A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368360"/>
            <a:ext cx="874080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047600" indent="-47592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3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años de prestigio nacional e internacional abarcando las distintas disciplinas del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UBA%20Transparente" descr=""/>
          <p:cNvPicPr/>
          <p:nvPr/>
        </p:nvPicPr>
        <p:blipFill>
          <a:blip r:embed="rId1"/>
          <a:stretch/>
        </p:blipFill>
        <p:spPr>
          <a:xfrm>
            <a:off x="7620120" y="0"/>
            <a:ext cx="1295280" cy="128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00400"/>
            <a:ext cx="8740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047600" indent="-47592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Tahoma"/>
              </a:rPr>
              <a:t>La UBA ha obtenido </a:t>
            </a: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3 premios No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1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Bernardo A. Houssay,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mio Nobel 1947 de Fisiología y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uis F. Leloir,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mio Nobel 1970 de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047600" indent="-475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ésar Milstein,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emio Nobel 1984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6960" y="228600"/>
            <a:ext cx="70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ACULTAD DE CIENCIAS ECONOM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43000"/>
            <a:ext cx="874080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428840" indent="-476280">
              <a:lnSpc>
                <a:spcPct val="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90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años de trayectoria acadé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Compromiso con la sociedad: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lan Fénix,               La Gaceta,  Museo de la Deuda Externa,  Programa de Microcréditos,  Cátedra de la Gerencia Social para el Desarrollo Humano,  Red de Volun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Sedes para el nivel de Grado</a:t>
            </a:r>
            <a:br>
              <a:rPr sz="2400"/>
            </a:b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órdoba - Uriburu - San Isidro - Avellaneda - Pate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Sedes para nivel de  Posgrado</a:t>
            </a:r>
            <a:br>
              <a:rPr sz="2400"/>
            </a:b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órdoba - Tucumán (Tucumán 303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476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institutos de Investigación en las   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        distintas áreas de las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9280" indent="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nstituto de Investigaciones Con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9280" indent="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nstituto de Investigaciones en Estadística y Matemática Actua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9280" indent="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nstituto de Investigaciones Administrati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9280" indent="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nstituto de Investigaciones Económ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19280" indent="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Instituto de Investigaciones de Historia Económica y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%20Facultad%20Color%20TRANSPARENTE" descr=""/>
          <p:cNvPicPr/>
          <p:nvPr/>
        </p:nvPicPr>
        <p:blipFill>
          <a:blip r:embed="rId1"/>
          <a:stretch/>
        </p:blipFill>
        <p:spPr>
          <a:xfrm>
            <a:off x="8153280" y="0"/>
            <a:ext cx="719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371600"/>
            <a:ext cx="8740800" cy="52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Prestigio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Excelencia Acadé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Formación para establecer el Espíritu Crí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ás de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500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ofes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Vinculaciones y Convenio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aest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12 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arreras de Especi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sos de Posg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3040" y="22860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CRETARIA DE POS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0120" y="0"/>
            <a:ext cx="609480" cy="762120"/>
          </a:xfrm>
          <a:custGeom>
            <a:avLst/>
            <a:gdLst>
              <a:gd name="textAreaLeft" fmla="*/ 133920 w 609480"/>
              <a:gd name="textAreaRight" fmla="*/ 475560 w 60948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o%20Facultad%20Color%20TRANSPARENTE" descr=""/>
          <p:cNvPicPr/>
          <p:nvPr/>
        </p:nvPicPr>
        <p:blipFill>
          <a:blip r:embed="rId1"/>
          <a:stretch/>
        </p:blipFill>
        <p:spPr>
          <a:xfrm>
            <a:off x="7543800" y="0"/>
            <a:ext cx="719280" cy="876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09680"/>
            <a:ext cx="8740800" cy="20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uevo Centro de Estudios de Pos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uevas aulas equip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abinete propio de Comp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CRETARIA DE POSG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75160" y="1600200"/>
            <a:ext cx="37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0"/>
            <a:ext cx="609480" cy="762120"/>
          </a:xfrm>
          <a:custGeom>
            <a:avLst/>
            <a:gdLst>
              <a:gd name="textAreaLeft" fmla="*/ 133920 w 609480"/>
              <a:gd name="textAreaRight" fmla="*/ 475560 w 609480"/>
              <a:gd name="textAreaTop" fmla="*/ 167400 h 762120"/>
              <a:gd name="textAreaBottom" fmla="*/ 5947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%20Facultad%20Color%20TRANSPARENTE" descr=""/>
          <p:cNvPicPr/>
          <p:nvPr/>
        </p:nvPicPr>
        <p:blipFill>
          <a:blip r:embed="rId1"/>
          <a:stretch/>
        </p:blipFill>
        <p:spPr>
          <a:xfrm>
            <a:off x="7543800" y="0"/>
            <a:ext cx="719280" cy="876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5560" y="43434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11160" y="4952880"/>
            <a:ext cx="902556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Bibliote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ahoma"/>
              </a:rPr>
              <a:t>Libro de CV´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cc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ffffff"/>
                </a:solidFill>
                <a:latin typeface="Tahoma"/>
              </a:rPr>
              <a:t>Conferencias de panelistas de nivel internac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1480" y="12193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MAESTRIAS </a:t>
            </a: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209680"/>
            <a:ext cx="97506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Historia Económica y  de las Políticas Econó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Administración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Administración–M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ffff"/>
                </a:solidFill>
                <a:latin typeface="Arial"/>
              </a:rPr>
              <a:t>Maestría en Procesos de Integración Regional con énfasis en el Mercosu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Contabilidad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estría en Relaciones Económicas Internacion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7080" y="1244520"/>
            <a:ext cx="40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CARRERAS DE ESPECIALIZACION</a:t>
            </a: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49440"/>
            <a:ext cx="746784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ib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ndicatura Concu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de Empresas en Cr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rección Estratégica de Recursos Huma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stión de las Pequeñas y Medianas Empresas (Py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estión Empresaria del Comercio Exterior y de la Integ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de Organizaciones Financi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rcado de Capitales  </a:t>
            </a:r>
            <a:r>
              <a:rPr b="1" lang="es-E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Financiera del Sector 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riodismo Econó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de Artes del Espectá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1480" y="1239840"/>
            <a:ext cx="29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CURSOS DE POS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057400"/>
            <a:ext cx="845820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Normas Contables Nacionales e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eamiento y Administrac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ocencia Universitaria (a dista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grama de Actualización en Administración Pública 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aller de Metodología de la Investigación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545498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1219320"/>
            <a:ext cx="868680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39280" y="12445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DONDE CONTACT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8000" y="2590920"/>
            <a:ext cx="8850600" cy="22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Arial"/>
              </a:rPr>
              <a:t>E- mail: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posgrado@econ.uba.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Arial"/>
              </a:rPr>
              <a:t>Web page: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www.econ.uba.ar/posgr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9:45:04Z</dcterms:created>
  <dc:creator>gvazquez</dc:creator>
  <dc:description/>
  <dc:language>en-US</dc:language>
  <cp:lastModifiedBy>C.P.C.E.C.A.B.A.</cp:lastModifiedBy>
  <cp:lastPrinted>2004-09-21T19:57:51Z</cp:lastPrinted>
  <dcterms:modified xsi:type="dcterms:W3CDTF">2004-10-12T21:38:35Z</dcterms:modified>
  <cp:revision>61</cp:revision>
  <dc:subject/>
  <dc:title>Sin título de diapositiva</dc:title>
</cp:coreProperties>
</file>