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2EF-E4D9-45DE-8A33-ADFE18B6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FC2-D8D9-4239-83F8-9868CABA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4B4-87C7-4710-8470-189560D5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3DC-D174-44D2-9BC5-208781B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399-452C-4D3F-8A06-AEC11822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295-C330-4D04-9BC0-0615FC20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EED-1AF2-43B8-A5D3-4039622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CC13-C099-4215-BEFC-A7D3730E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629-DF76-49E1-9C20-3ABE0081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134-0A79-4D98-A289-F37C4765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F8A-370C-4AE5-849A-990AB87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875-F324-4178-A039-D599410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415-66AB-466D-B98B-AB84A458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1195560"/>
          <a:ext cx="7696080" cy="55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95560"/>
                    <a:ext cx="7696080" cy="55692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600200" y="2819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ción Institucional -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6153120"/>
          <a:ext cx="6553080" cy="1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153120"/>
                    <a:ext cx="6553080" cy="1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16002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Contacto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6483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cc"/>
                </a:solidFill>
                <a:latin typeface="Times New Roman"/>
              </a:rPr>
              <a:t>Facultad de Administración (Decana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ra. Haydee Kravetz (Decana)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hkravetz@uflo.edu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. Alejandra Aulicino (Secretaría)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aaulicin@uflo.edu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cc"/>
                </a:solidFill>
                <a:latin typeface="Times New Roman"/>
              </a:rPr>
              <a:t>Dirección de Desarrollo Institu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. Víctor Kertesz (Director)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vkertesz@uflo.edu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. Daniela Stellino (Coordinadora)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dstellin@uflo.edu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990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Antecedentes y Localización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 1993 nace la Fundación Pro - Universidad de Fl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 Abril 1995 inicia la Univers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 1997:  Subsede Comahue (Cipolletti - R. Negr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flo hoy: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ás de 2500 alumnos y 9 cohortes gradu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bicación Geográfica Ciudad de 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o-Oeste de la Ciu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fluencia también en GBA Oes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de central Av. Nazca 275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dificios Académicos en Pedernera 275 y 2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924680" cy="9907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Misión, Valores y Característica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isión y 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lidad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peto y cuidado por 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ormar profesionales valiosos para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eatividad e 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2133720"/>
            <a:ext cx="3809880" cy="41148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isti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plicación de la Interdiscip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r para la vida personal y lab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todología para un aprendizaje efectivo y placen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Actividades Fundamental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6699"/>
                </a:solidFill>
                <a:latin typeface="Times New Roman"/>
              </a:rPr>
              <a:t>Educación Universi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 Facultades y 3 Institutos Afil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ítulos  de Grado (y  Posgrado), incluyendo carreras cortas y títulos intermedios con salida labo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centes calificados. Metodología y  Evaluación Pedag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ntías y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6699"/>
                </a:solidFill>
                <a:latin typeface="Times New Roman"/>
              </a:rPr>
              <a:t>Relación con Instituciones Educativas y Profes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ientación Vocacional y Laboral (CENTRO CIV - UF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alleres y conferencias sobre temas de interés estudiantil, actualización docentes y direc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uerdos con Instituciones Profesional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posiciones en Colegios Cic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Actividades Fundamental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6699"/>
                </a:solidFill>
                <a:latin typeface="Times New Roman"/>
              </a:rPr>
              <a:t>Extensión Universit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santías, Acuerdos y  Convenios con empresas para salida laboral. Bols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rsos, Seminarios y Con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ciones y eventos Comunitarios. Extensión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para empresas y organizaciones. UV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6699"/>
                </a:solidFill>
                <a:latin typeface="Times New Roman"/>
              </a:rPr>
              <a:t>Investigación e Intercambio Cient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cretaría Científica . Actividades en el CRUP (Consejo de Rectores de Educación Priva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vestigaciones en Curso (de aplicación concre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gresos, Jornadas, Eventos científicos y tall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ditorial Uflo. Pub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Facultades y Carrera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50021"/>
                </a:solidFill>
                <a:latin typeface="Times New Roman"/>
              </a:rPr>
              <a:t>Facultad de Psicología y Ciencia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enciatura en Psicología - 3 ori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enciatura en Psicopedag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cnicatura Universitaria en prevención de drogad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cnicatura en Relaciones Comunita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ctorado en Psic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50021"/>
                </a:solidFill>
                <a:latin typeface="Times New Roman"/>
              </a:rPr>
              <a:t>Facultad de Ingenierí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eniería en Ecología (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ítulo inter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enciatura en Seguridad e Hig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50021"/>
                </a:solidFill>
                <a:latin typeface="Times New Roman"/>
              </a:rPr>
              <a:t>Facultad de Planeamiento Soci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eño 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Facultades y Carrera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50021"/>
                </a:solidFill>
                <a:latin typeface="Times New Roman"/>
              </a:rPr>
              <a:t>Facultad de Actividad Física y Depo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enciatura en Actividad Física y Deporte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(con títulos intermed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fesorado Universitario en Educación Física (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 títulos intermedi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cenciatura en Actividad Física y Deporte -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especial para profesores de Educación Física (1 año de duración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- 4 orient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dem con modalidad de cursado a dis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50021"/>
                </a:solidFill>
                <a:latin typeface="Times New Roman"/>
              </a:rPr>
              <a:t>Facultad de Derech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bogac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cc"/>
                </a:solidFill>
                <a:latin typeface="Times New Roman"/>
              </a:rPr>
              <a:t>Facultad de Administ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Licenciatura en Administración (</a:t>
            </a:r>
            <a:r>
              <a:rPr b="0" lang="es-ES_tradnl" sz="1600" spc="-1" strike="noStrike">
                <a:solidFill>
                  <a:srgbClr val="0033cc"/>
                </a:solidFill>
                <a:latin typeface="Times New Roman"/>
              </a:rPr>
              <a:t>con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0033cc"/>
                </a:solidFill>
                <a:latin typeface="Times New Roman"/>
              </a:rPr>
              <a:t>ítulo inter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Contador Público (</a:t>
            </a:r>
            <a:r>
              <a:rPr b="0" lang="es-ES_tradnl" sz="1600" spc="-1" strike="noStrike">
                <a:solidFill>
                  <a:srgbClr val="0033cc"/>
                </a:solidFill>
                <a:latin typeface="Times New Roman"/>
              </a:rPr>
              <a:t>con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0033cc"/>
                </a:solidFill>
                <a:latin typeface="Times New Roman"/>
              </a:rPr>
              <a:t>ítulo inter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Facultad de Administración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Licenciatura en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 Título Intermedio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sta Administrativo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ción técnica combinada con lo psico-social. Manejo delas  comunicaciones interpersonales y el lideraz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alizada en pymes (pequeñas y medianas empresas) y empresas familiares. También forma empresarios emprendedores y futuros asesores indepen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Laboral (algunos ejemp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drá desempeñarse en cargos directivos de grandes corporaciones o Pymes, o integrar estudios y consultora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bajar en consultoría en forma independiente, en comercialización y gestión empr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bajar en investigaciones y proyectos, en el sector público y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a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ffff03"/>
                </a:solidFill>
                <a:latin typeface="Times New Roman"/>
              </a:rPr>
              <a:t>Facultad de Administración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6479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Contador Públ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 Título Intermedio: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écnico en Práctica Co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ormación técnica contable e impositiva combinada con lo psico-social y la gestión empresaria. Manejo delas  comunicaciones interpersonales y el lideraz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pecializada en pymes (pequeñas y medianas empresas) y empresas familiares. También forma futuros profesionales independ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Laboral (algunos ejemp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drá desempeñarse en cargos directivos de grandes corporaciones o Pymes, o integrar estudios y consultoras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eas de mayor demanda: finanzas y administrativo-co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bajar como profesional y asesor independi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3:37:38Z</dcterms:created>
  <dc:creator>pirulo</dc:creator>
  <dc:description/>
  <dc:language>en-US</dc:language>
  <cp:lastModifiedBy>C.P.C.E.C.A.B.A.</cp:lastModifiedBy>
  <dcterms:modified xsi:type="dcterms:W3CDTF">2004-10-13T13:33:10Z</dcterms:modified>
  <cp:revision>116</cp:revision>
  <dc:subject/>
  <dc:title>Sin título de diapositiva</dc:title>
</cp:coreProperties>
</file>