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Beta-1" initials="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4-09-21T13:50:09.290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8CB-EA46-4986-A993-4275539D65B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unciones y nacimientos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DA1-E576-43BB-9151-6889BE4D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677-B641-4FC9-AB82-430743C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12D-09C8-44E1-9D32-5E28C747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03F-19FD-4F6D-B572-663FB9AC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9F5-F1D4-4D5B-A7B8-A85915C1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169-3091-4257-BE54-070D00AE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681-C41F-4A1A-9559-B75A8C73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517-F0D5-484D-92DA-ABF79ED9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FAD-8449-412F-9643-336FB94A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55D-903F-4CEB-8B42-C6200F9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8B6-2EB2-48F1-A99D-2FA2CEE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EAC-29D5-47C2-A691-46E7CA63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970-3E80-4E2E-8AF2-05609041215F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VIII Congreso de la Pyme</a:t>
            </a:r>
            <a:br>
              <a:rPr sz="4400"/>
            </a:b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C.P.C.E.C.A.B.A. </a:t>
            </a:r>
            <a:r>
              <a:rPr b="1" i="1" lang="es-ES" sz="2400" spc="-1" strike="noStrike">
                <a:solidFill>
                  <a:srgbClr val="ccffff"/>
                </a:solidFill>
                <a:latin typeface="Arial"/>
              </a:rPr>
              <a:t>30/9/04-1/10/04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reinserción después de la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Dr. Horacio A. Irigoy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ffff"/>
                </a:solidFill>
                <a:latin typeface="Arial"/>
              </a:rPr>
              <a:t>Evolución del Universo de Empresas en Argentin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acimientos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19280" y="2491920"/>
            <a:ext cx="0" cy="331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5373720"/>
            <a:ext cx="6408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19280" y="4149720"/>
            <a:ext cx="2303280" cy="1224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3860640"/>
            <a:ext cx="1366920" cy="287640"/>
          </a:xfrm>
          <a:custGeom>
            <a:avLst/>
            <a:gdLst/>
            <a:ahLst/>
            <a:rect l="l" t="t" r="r" b="b"/>
            <a:pathLst>
              <a:path w="861" h="181">
                <a:moveTo>
                  <a:pt x="0" y="181"/>
                </a:moveTo>
                <a:cubicBezTo>
                  <a:pt x="359" y="105"/>
                  <a:pt x="718" y="30"/>
                  <a:pt x="861" y="0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3500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92720" y="2491920"/>
            <a:ext cx="1152360" cy="1368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19280" y="3429000"/>
            <a:ext cx="316872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788000" y="2852280"/>
            <a:ext cx="172872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9240" y="537372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funciones y nacimientos de empresas 1995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48428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84464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Arial"/>
              </a:rPr>
              <a:t>Causas principales según encuest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ariables macroeconómicas (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desfavor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nsideración “social” (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desconsideración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) de la actividad empres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ficiente formación “</a:t>
            </a:r>
            <a:r>
              <a:rPr b="1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reativ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” en el proceso enseñanza-aprendiz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usencia de incen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ffff"/>
                </a:solidFill>
                <a:latin typeface="Arial"/>
              </a:rPr>
              <a:t>Papel de las Universidad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rivilegiar la “creatividad” y disuadir la “repeti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omprometerse localmente en actividades solid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Desarrollar innovaciones y tecnologías a partir de las posibilidades local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esto es lo que tenemos, aquí y aho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Fomentar comportamientos emprendedores en individuos con los que se alterna (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sos formales o extens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ffff"/>
                </a:solidFill>
                <a:latin typeface="Arial"/>
              </a:rPr>
              <a:t>El papel de los “empresariables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Potenciar, mediante capacitación, aspectos propios de la person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- deseos de independencia (empleo vs empre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- no aversión a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- innovación y espíritu emprendedor (Schump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- deseo de “crear” frente a la alternativa de “participa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nformar un team con 4  factores clave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1.- la idea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2.- posibilidad y disponibilidad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3.- habilidad del emprendedor y colabor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4.- grado de motivación y compromiso de t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ffff"/>
                </a:solidFill>
                <a:latin typeface="Arial"/>
              </a:rPr>
              <a:t>Asociatividad: la clave a futur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brar la vocación al “autism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rear “redes” con empresas de distinta dimensión y facultades complement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ortalecer los acuerdos locales (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orredores, clusters, consorci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luir diversos actores (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unicipios, empresas, universidades, otros en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señar formas innovadoras y flex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ffff"/>
                </a:solidFill>
                <a:latin typeface="Arial"/>
              </a:rPr>
              <a:t>Asociatividad en Exportacion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Unas 12.000 pymes justifican 10% de exportaciones argentinas (US$ 300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n Italia justifican 70% de expor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n Chile son un 80% de los exporta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n 2004 aparecieron 1500 nuevos exportadores; Las Pymes crecieron 19% mientras las grandes empresas 1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ffff"/>
                </a:solidFill>
                <a:latin typeface="Arial"/>
              </a:rPr>
              <a:t>Algunas acciones sugerida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doblar el tratamiento Imp. Gana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to preferencial para las relativas a exportaciones y por aumentos de c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1928 exportábamos 3% del comercio mundial (unos US$ 170.000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SA= c/10.000m de nuev exp= 1 m 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Brasil=c US$1 m nuevos=150.000 emp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mpleo activo de la diplom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r Marcelo Lascano (1997 a 2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6:38:07Z</dcterms:created>
  <dc:creator>Beta-1</dc:creator>
  <dc:description/>
  <dc:language>en-US</dc:language>
  <cp:lastModifiedBy>C.P.C.E.C.A.B.A.</cp:lastModifiedBy>
  <dcterms:modified xsi:type="dcterms:W3CDTF">2004-10-13T13:25:17Z</dcterms:modified>
  <cp:revision>5</cp:revision>
  <dc:subject/>
  <dc:title>VIII Congreso de la Pyme</dc:title>
</cp:coreProperties>
</file>