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907588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9513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5167080" y="0"/>
            <a:ext cx="39495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687400" y="533520"/>
            <a:ext cx="374148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5720" y="3276720"/>
            <a:ext cx="668484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6477120"/>
            <a:ext cx="39513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5167080" y="6477120"/>
            <a:ext cx="39495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DEDC75-701F-4FB5-85E7-812142698549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2687760" y="533520"/>
            <a:ext cx="3741480" cy="25905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215720" y="3276720"/>
            <a:ext cx="668484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DBs: institutions that finance development projects, owned by three or more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studied here: World Bank, IFC, NIB, E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own empirical research between 1994 and 1997, from an organizational perspective, on how these MDBs function internally and the implications of this functioning for policy makers and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m of this presentation as I understand it: present a piece of research, but also present you with a little bit of the context so that you get an idea of how I work. That is why I have chosen the following format for this present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534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5345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2436120"/>
            <a:ext cx="85345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534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1648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9080" y="1600200"/>
            <a:ext cx="41648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2436120"/>
            <a:ext cx="41648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9080" y="2436120"/>
            <a:ext cx="41648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534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74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1200" y="1600200"/>
            <a:ext cx="274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56600" y="1600200"/>
            <a:ext cx="274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2436120"/>
            <a:ext cx="274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1200" y="2436120"/>
            <a:ext cx="274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56600" y="2436120"/>
            <a:ext cx="274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534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8534520" cy="16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534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534520" cy="16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534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164840" cy="16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9080" y="1600200"/>
            <a:ext cx="4164840" cy="16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534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8534520" cy="11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534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1648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9080" y="1600200"/>
            <a:ext cx="4164840" cy="16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2436120"/>
            <a:ext cx="41648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534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8534520" cy="16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534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164840" cy="16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9080" y="1600200"/>
            <a:ext cx="41648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9080" y="2436120"/>
            <a:ext cx="41648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534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1648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9080" y="1600200"/>
            <a:ext cx="41648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2436120"/>
            <a:ext cx="85345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534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5345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2436120"/>
            <a:ext cx="85345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534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1648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9080" y="1600200"/>
            <a:ext cx="41648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2436120"/>
            <a:ext cx="41648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9080" y="2436120"/>
            <a:ext cx="41648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534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74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1200" y="1600200"/>
            <a:ext cx="274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6600" y="1600200"/>
            <a:ext cx="274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2436120"/>
            <a:ext cx="274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1200" y="2436120"/>
            <a:ext cx="274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6600" y="2436120"/>
            <a:ext cx="274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534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534520" cy="16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534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164840" cy="16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9080" y="1600200"/>
            <a:ext cx="4164840" cy="16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534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8534520" cy="11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534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1648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9080" y="1600200"/>
            <a:ext cx="4164840" cy="16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2436120"/>
            <a:ext cx="41648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534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164840" cy="16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9080" y="1600200"/>
            <a:ext cx="41648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9080" y="2436120"/>
            <a:ext cx="41648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534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1648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9080" y="1600200"/>
            <a:ext cx="41648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2436120"/>
            <a:ext cx="85345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33760" y="6692760"/>
            <a:ext cx="103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C64F5980-178C-4B87-83E7-F4BEB9B1DFF6}" type="slidenum">
              <a:rPr b="0" lang="es-A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534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8534520" cy="16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1800"/>
              </a:lnSpc>
              <a:buClr>
                <a:srgbClr val="ffffff"/>
              </a:buClr>
              <a:buFont typeface="Arial"/>
              <a:buChar char="•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3120" indent="-284040">
              <a:lnSpc>
                <a:spcPts val="1800"/>
              </a:lnSpc>
              <a:buClr>
                <a:srgbClr val="ffffff"/>
              </a:buClr>
              <a:buFont typeface="Arial"/>
              <a:buChar char="–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57160" indent="-282600">
              <a:lnSpc>
                <a:spcPts val="1800"/>
              </a:lnSpc>
              <a:buClr>
                <a:srgbClr val="000000"/>
              </a:buClr>
              <a:buFont typeface="Arial"/>
              <a:buChar char="-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33440" indent="-285840">
              <a:lnSpc>
                <a:spcPts val="1800"/>
              </a:lnSpc>
              <a:buClr>
                <a:srgbClr val="000000"/>
              </a:buClr>
              <a:buFont typeface="Arial"/>
              <a:buChar char="»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333440" indent="-285840">
              <a:lnSpc>
                <a:spcPts val="1800"/>
              </a:lnSpc>
              <a:buClr>
                <a:srgbClr val="000000"/>
              </a:buClr>
              <a:buFont typeface="Arial"/>
              <a:buChar char="»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333440" indent="-285840">
              <a:lnSpc>
                <a:spcPts val="1800"/>
              </a:lnSpc>
              <a:buClr>
                <a:srgbClr val="000000"/>
              </a:buClr>
              <a:buFont typeface="Arial"/>
              <a:buChar char="»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981480" y="6705360"/>
            <a:ext cx="2235240" cy="1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ts val="11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ts val="11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ongreso PyME / Oct 20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939960"/>
            <a:ext cx="85345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553080"/>
            <a:ext cx="85345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654000"/>
            <a:ext cx="8534520" cy="2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33760" y="6689880"/>
            <a:ext cx="103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9FB34AAF-94D9-4524-B94B-7AE1B79B44DD}" type="slidenum">
              <a:rPr b="0" lang="es-A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6981480" y="6702120"/>
            <a:ext cx="2235240" cy="1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ts val="11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11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762120"/>
            <a:ext cx="85345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1905120"/>
            <a:ext cx="6400800" cy="38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yMEs, Estrategias y Crisis en Argent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 qué estamos hablando ?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Primeros resultados de un estudio empí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Prese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r. Utz Hoeser, UADE/ED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dora. Marina Santucci, Ud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Buenos Aires, 1 de octubre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doc number using Header and Foo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534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a investigació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534520" cy="45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289080">
              <a:lnSpc>
                <a:spcPts val="1800"/>
              </a:lnSpc>
              <a:buClr>
                <a:srgbClr val="ffffff"/>
              </a:buClr>
              <a:buFont typeface="Arial"/>
              <a:buChar char="•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imeros result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9080">
              <a:lnSpc>
                <a:spcPts val="1800"/>
              </a:lnSpc>
              <a:buClr>
                <a:srgbClr val="ffffff"/>
              </a:buClr>
              <a:buFont typeface="Arial"/>
              <a:buChar char="•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Origen universitar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9080">
              <a:lnSpc>
                <a:spcPts val="1800"/>
              </a:lnSpc>
              <a:buClr>
                <a:srgbClr val="ffffff"/>
              </a:buClr>
              <a:buFont typeface="Arial"/>
              <a:buChar char="•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mpresas argentinas, de varios sectores, &gt;20 a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ños, familia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9080">
              <a:lnSpc>
                <a:spcPts val="1800"/>
              </a:lnSpc>
              <a:buClr>
                <a:srgbClr val="ffffff"/>
              </a:buClr>
              <a:buFont typeface="Arial"/>
              <a:buChar char="•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uestionar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9840" indent="-284040">
              <a:lnSpc>
                <a:spcPts val="1800"/>
              </a:lnSpc>
              <a:buClr>
                <a:srgbClr val="ffffff"/>
              </a:buClr>
              <a:buFont typeface="Arial"/>
              <a:buChar char="–"/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Percepción cri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39840" indent="0">
              <a:lnSpc>
                <a:spcPts val="1800"/>
              </a:lnSpc>
              <a:buNone/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39840" indent="-284040">
              <a:lnSpc>
                <a:spcPts val="1800"/>
              </a:lnSpc>
              <a:buClr>
                <a:srgbClr val="ffffff"/>
              </a:buClr>
              <a:buFont typeface="Arial"/>
              <a:buChar char="–"/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acciones frente al impacto de la cri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39840" indent="0">
              <a:lnSpc>
                <a:spcPts val="1800"/>
              </a:lnSpc>
              <a:buNone/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39840" indent="-284040">
              <a:lnSpc>
                <a:spcPts val="1800"/>
              </a:lnSpc>
              <a:buClr>
                <a:srgbClr val="ffffff"/>
              </a:buClr>
              <a:buFont typeface="Arial"/>
              <a:buChar char="–"/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ambios en la posición competi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39840" indent="0">
              <a:lnSpc>
                <a:spcPts val="1800"/>
              </a:lnSpc>
              <a:buNone/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39840" indent="-284040">
              <a:lnSpc>
                <a:spcPts val="1800"/>
              </a:lnSpc>
              <a:buClr>
                <a:srgbClr val="ffffff"/>
              </a:buClr>
              <a:buFont typeface="Arial"/>
              <a:buChar char="–"/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Planificación estratég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39840" indent="0">
              <a:lnSpc>
                <a:spcPts val="1800"/>
              </a:lnSpc>
              <a:buNone/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39840" indent="-284040">
              <a:lnSpc>
                <a:spcPts val="1800"/>
              </a:lnSpc>
              <a:buClr>
                <a:srgbClr val="ffffff"/>
              </a:buClr>
              <a:buFont typeface="Arial"/>
              <a:buChar char="–"/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prendizaje de la cri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doc number using Header and Foo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839080" y="2590920"/>
            <a:ext cx="381240" cy="45720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0"/>
                </a:moveTo>
                <a:lnTo>
                  <a:pt x="240" y="96"/>
                </a:lnTo>
                <a:lnTo>
                  <a:pt x="0" y="192"/>
                </a:lnTo>
                <a:lnTo>
                  <a:pt x="0" y="0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534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a percepción de la cris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534520" cy="27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289080">
              <a:lnSpc>
                <a:spcPts val="1800"/>
              </a:lnSpc>
              <a:buClr>
                <a:srgbClr val="ffffff"/>
              </a:buClr>
              <a:buFont typeface="Arial"/>
              <a:buChar char="•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echa del mayor impacto de la cris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00"/>
              </a:lnSpc>
              <a:buNone/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9080">
              <a:lnSpc>
                <a:spcPts val="1800"/>
              </a:lnSpc>
              <a:buClr>
                <a:srgbClr val="ffffff"/>
              </a:buClr>
              <a:buFont typeface="Arial"/>
              <a:buChar char="•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a crisis como oportunidad o como amenaz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2638440"/>
            <a:ext cx="8458200" cy="333360"/>
          </a:xfrm>
          <a:custGeom>
            <a:avLst/>
            <a:gdLst>
              <a:gd name="textAreaLeft" fmla="*/ 0 w 8458200"/>
              <a:gd name="textAreaRight" fmla="*/ 8458560 w 84582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39" y="0"/>
                </a:lnTo>
                <a:lnTo>
                  <a:pt x="21600" y="10800"/>
                </a:lnTo>
                <a:lnTo>
                  <a:pt x="2043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b6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25600" y="2300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7960" y="2590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11360" y="2590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5120" y="2590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78520" y="2590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doc number using Header and Foo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534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acciones frente a la cris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534520" cy="29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289080">
              <a:lnSpc>
                <a:spcPts val="1800"/>
              </a:lnSpc>
              <a:buClr>
                <a:srgbClr val="ffffff"/>
              </a:buClr>
              <a:buFont typeface="Arial"/>
              <a:buChar char="•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olítica de creditos a clien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9080">
              <a:lnSpc>
                <a:spcPts val="1800"/>
              </a:lnSpc>
              <a:buClr>
                <a:srgbClr val="ffffff"/>
              </a:buClr>
              <a:buFont typeface="Arial"/>
              <a:buChar char="•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olítica de preci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9080">
              <a:lnSpc>
                <a:spcPts val="1800"/>
              </a:lnSpc>
              <a:buClr>
                <a:srgbClr val="ffffff"/>
              </a:buClr>
              <a:buFont typeface="Arial"/>
              <a:buChar char="•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inanciamiento del camb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9080">
              <a:lnSpc>
                <a:spcPts val="1800"/>
              </a:lnSpc>
              <a:buClr>
                <a:srgbClr val="ffffff"/>
              </a:buClr>
              <a:buFont typeface="Arial"/>
              <a:buChar char="•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ambios estructur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doc number using Header and Foo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534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a posición competitiva, la estrategia y el aprendiza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534520" cy="35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289080">
              <a:lnSpc>
                <a:spcPts val="1800"/>
              </a:lnSpc>
              <a:buClr>
                <a:srgbClr val="ffffff"/>
              </a:buClr>
              <a:buFont typeface="Arial"/>
              <a:buChar char="•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ambios estructurales de los sect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9080">
              <a:lnSpc>
                <a:spcPts val="1800"/>
              </a:lnSpc>
              <a:buClr>
                <a:srgbClr val="ffffff"/>
              </a:buClr>
              <a:buFont typeface="Arial"/>
              <a:buChar char="•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a planificación estratégica “casera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9840" indent="-284040">
              <a:lnSpc>
                <a:spcPts val="1800"/>
              </a:lnSpc>
              <a:buClr>
                <a:srgbClr val="ffffff"/>
              </a:buClr>
              <a:buFont typeface="Arial"/>
              <a:buChar char="–"/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o se puede planificar en crisis permanente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39840" indent="0">
              <a:lnSpc>
                <a:spcPts val="1800"/>
              </a:lnSpc>
              <a:buNone/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39840" indent="0">
              <a:lnSpc>
                <a:spcPts val="1800"/>
              </a:lnSpc>
              <a:buNone/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39840" indent="-284040">
              <a:lnSpc>
                <a:spcPts val="1800"/>
              </a:lnSpc>
              <a:buClr>
                <a:srgbClr val="ffffff"/>
              </a:buClr>
              <a:buFont typeface="Arial"/>
              <a:buChar char="–"/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harlamos con mi socio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39840" indent="0">
              <a:lnSpc>
                <a:spcPts val="1800"/>
              </a:lnSpc>
              <a:buNone/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39840" indent="0">
              <a:lnSpc>
                <a:spcPts val="1800"/>
              </a:lnSpc>
              <a:buNone/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89080">
              <a:lnSpc>
                <a:spcPts val="1800"/>
              </a:lnSpc>
              <a:buClr>
                <a:srgbClr val="ffffff"/>
              </a:buClr>
              <a:buFont typeface="Arial"/>
              <a:buChar char="•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Una falta de aprendizaj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9840" indent="0">
              <a:lnSpc>
                <a:spcPts val="1800"/>
              </a:lnSpc>
              <a:buNone/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39840" indent="0">
              <a:lnSpc>
                <a:spcPts val="1800"/>
              </a:lnSpc>
              <a:buNone/>
              <a:tabLst>
                <a:tab algn="l" pos="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doc number using Header and Foo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534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534520" cy="29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ts val="1800"/>
              </a:lnSpc>
              <a:buClr>
                <a:srgbClr val="ffffff"/>
              </a:buClr>
              <a:buFont typeface="Arial"/>
              <a:buChar char="•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a” crisis no existió para las empresas estudiad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ts val="1800"/>
              </a:lnSpc>
              <a:buClr>
                <a:srgbClr val="ffffff"/>
              </a:buClr>
              <a:buFont typeface="Arial"/>
              <a:buChar char="•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a percepción de “la” crisis depende fuertemente del ca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ts val="1800"/>
              </a:lnSpc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as estrategias frente a la crisis fueron más bien oportunistas que planificadas y analizad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7040" indent="0">
              <a:lnSpc>
                <a:spcPts val="1800"/>
              </a:lnSpc>
              <a:buNone/>
              <a:tabLst>
                <a:tab algn="l" pos="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doc number using Header and Foo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2T18:51:19Z</dcterms:created>
  <dc:creator>vmo</dc:creator>
  <dc:description/>
  <dc:language>en-US</dc:language>
  <cp:lastModifiedBy>C.P.C.E.C.A.B.A.</cp:lastModifiedBy>
  <dcterms:modified xsi:type="dcterms:W3CDTF">2004-10-13T13:19:10Z</dcterms:modified>
  <cp:revision>89</cp:revision>
  <dc:subject/>
  <dc:title>PowerPoint Presentation</dc:title>
</cp:coreProperties>
</file>