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01B-3BCF-4683-8275-70D0875A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3FE-7D3E-465E-B4FC-C632A825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F45-8915-4B95-9850-80BC626A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28E-3AAF-4FF1-920F-8A32B3F4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3492-5D09-4BCB-B040-2F818446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674-3227-4F4B-82BF-B7C3A73E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3D3-22EB-4DC2-8CD6-B06F8C53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B5F-3C4E-4551-BF0F-7856F86F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53E-814A-4C88-87D7-517075AF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ED2-D4D6-4E66-882A-BD6C8831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787-45AC-498C-85E7-550F5BEE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6EB-0067-4347-8571-6CCAB1D7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B475-6358-4F1F-9AB5-5A14DB6E1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066680"/>
            <a:ext cx="7239240" cy="36576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447920"/>
            <a:ext cx="6477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Arial Black"/>
              </a:rPr>
              <a:t>POLÍTICAS NACIONALES DE FOMEN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Arial Black"/>
              </a:rPr>
              <a:t>EL CAS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ra María del Pilar Hernánd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029200"/>
            <a:ext cx="47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III Congreso Py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3886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PCECABA -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620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457200"/>
            <a:ext cx="838224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Arial"/>
              </a:rPr>
              <a:t>PRO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600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2514600"/>
            <a:ext cx="66294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ación base exportad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olidación base exportad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fundización base exportad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86000" y="1600200"/>
            <a:ext cx="472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173160"/>
            <a:ext cx="761976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8763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457200"/>
            <a:ext cx="838224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Arial"/>
              </a:rPr>
              <a:t>PRODUCTO BRUTO INT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001000" cy="4267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457200"/>
            <a:ext cx="838224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600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UBICACIÓN Y 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590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REG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429000"/>
            <a:ext cx="662940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- Tarap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- Antofaga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I- Atac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V- Coqui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457200"/>
            <a:ext cx="746784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- Valparaí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- O´Hig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I- Ma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II- Bio-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X- La Arauc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X- Los La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XI- Ay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XII- Magallanes/Antár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457200"/>
            <a:ext cx="838224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Arial"/>
              </a:rPr>
              <a:t>EVOLUCIÓN ÍNDICE DESARROLLO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257800" cy="2895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457200"/>
            <a:ext cx="838224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Arial"/>
              </a:rPr>
              <a:t>UBICACIÓN E IMPORTANCIA P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467840" cy="1752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7848720" cy="1904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457200"/>
            <a:ext cx="838224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Arial"/>
              </a:rPr>
              <a:t>POLÍTICAS DE APO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286000"/>
            <a:ext cx="739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3333cc"/>
                </a:solidFill>
                <a:latin typeface="Arial Black"/>
              </a:rPr>
              <a:t>1) CORF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267080"/>
            <a:ext cx="769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3333cc"/>
                </a:solidFill>
                <a:latin typeface="Arial Black"/>
              </a:rPr>
              <a:t>2) PROCHI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457200"/>
            <a:ext cx="838224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Arial"/>
              </a:rPr>
              <a:t>COR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600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 Black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133720"/>
            <a:ext cx="66294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NT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DI – Fondo Desarrollo 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FO – Proyecto Asociativo Fo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amiento Gestión Empresaria (PAG-F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oyo Pre-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1371600"/>
            <a:ext cx="66294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Territorios Emergentes (D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programación Pasivos Py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Inst. Financi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acción Inversiones (todo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oción Inv. Tecnoló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010280" cy="548640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533520" y="617220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30T00:05:47Z</dcterms:created>
  <dc:creator>JonMMx 2000</dc:creator>
  <dc:description/>
  <dc:language>en-US</dc:language>
  <cp:lastModifiedBy>C.P.C.E.C.A.B.A.</cp:lastModifiedBy>
  <dcterms:modified xsi:type="dcterms:W3CDTF">2004-10-13T13:22:26Z</dcterms:modified>
  <cp:revision>37</cp:revision>
  <dc:subject/>
  <dc:title>Sin título de diapositiva</dc:title>
</cp:coreProperties>
</file>