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428-B947-47BD-9B2A-44205B8C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E5A-9E45-4BFA-8093-CD1CD41F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C13-9D3A-4062-97AF-CE501D76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66E-1E80-41AC-AC9D-B1A8EB52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036-5E89-4442-BFF5-0430283F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BAC-9776-432A-8FAD-2D51C61A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122-3C86-4C08-8665-EB1B560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839-3359-4502-9F56-59684965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522-6FD6-4D7C-B8E7-777DB730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DCA-ED13-4BAF-AE8B-A7CE32C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420-C6FC-4F32-BA4F-7BEF0FC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5D7-8AB4-4C02-ADC7-3F12A42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867-EDD6-42B6-8257-FC54B490D3C9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_6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5105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00"/>
                </a:solidFill>
                <a:latin typeface="Tahoma"/>
              </a:rPr>
              <a:t>INIC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1447920" y="609588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00"/>
                </a:solidFill>
                <a:latin typeface="Verdana"/>
              </a:rPr>
              <a:t>FIN DE LA </a:t>
            </a:r>
            <a:br>
              <a:rPr sz="1400"/>
            </a:br>
            <a:r>
              <a:rPr b="1" lang="es-AR" sz="1400" spc="-1" strike="noStrike">
                <a:solidFill>
                  <a:srgbClr val="ffff00"/>
                </a:solidFill>
                <a:latin typeface="Verdana"/>
              </a:rPr>
              <a:t>PRESEN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838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Tahoma"/>
              </a:rPr>
              <a:t>El Cons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954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Tahoma"/>
              </a:rPr>
              <a:t>Datos estadí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193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Tahoma"/>
              </a:rPr>
              <a:t>Ciclos de actu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20574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Tahoma"/>
              </a:rPr>
              <a:t>Programas de Esc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352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Tahoma"/>
              </a:rPr>
              <a:t>Evolución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2670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Tahoma"/>
              </a:rPr>
              <a:t>Evolución de curs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h_m1_b" descr=""/>
          <p:cNvPicPr/>
          <p:nvPr/>
        </p:nvPicPr>
        <p:blipFill>
          <a:blip r:embed="rId2"/>
          <a:stretch/>
        </p:blipFill>
        <p:spPr>
          <a:xfrm>
            <a:off x="304920" y="595152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6019920"/>
            <a:ext cx="4953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99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CICLOS DE ACTU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5638680"/>
            <a:ext cx="4953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99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PROGRAMAS</a:t>
            </a: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DE ESPECI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990720"/>
            <a:ext cx="7010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l Consejo Profesional considera que la profundización y actualización de conocimientos constituye un medio indispensable para asegurar las competencias que requiere el ejercicio de la actividad profes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809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n tal sentido, a partir de 1989 realiza una oferta regular de actualización y que en la actualidad compre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447920" y="304920"/>
            <a:ext cx="0" cy="6324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6520" y="5486400"/>
            <a:ext cx="8817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64008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571500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h_m1_b" descr=""/>
          <p:cNvPicPr/>
          <p:nvPr/>
        </p:nvPicPr>
        <p:blipFill>
          <a:blip r:embed="rId3"/>
          <a:stretch/>
        </p:blipFill>
        <p:spPr>
          <a:xfrm>
            <a:off x="228600" y="563868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Tahoma"/>
              </a:rPr>
              <a:t>CICLOS DE ACTU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3352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stos ciclos iniciados en el año 1989 y ofrecidos actualmente por la </a:t>
            </a:r>
            <a:r>
              <a:rPr b="1" lang="es-AR" sz="2000" spc="-1" strike="noStrike">
                <a:solidFill>
                  <a:srgbClr val="003399"/>
                </a:solidFill>
                <a:latin typeface="Verdana"/>
              </a:rPr>
              <a:t>Escuela de Educación Continuada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, ponen énfasis en temas específicos de interés de los profesionales en Ciencias Económicas con ofertas que van desde 10 hasta 24 horas de 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04920"/>
            <a:ext cx="0" cy="6324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520" y="5486400"/>
            <a:ext cx="8817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63244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438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La oferta contempla especialmente los temas de interés de los profesionales que actúan en el ámbito de las Py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657600"/>
            <a:ext cx="746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Durante el año 2003 se ha desarrollado conjuntamente con la Secretaría de la Pequeña y Mediana empresa un curso de especialización en "Elaboración de Proyectos para PyMES" organizado en 6 módulos con una duración total de 70 h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h_m1_b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6084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Aquí también la aceptación de los profesionales es alta, como lo demuestran más de 6.000 inscriptos durante el ejercicio anual cerrado a junio del corriente año y que optaron entre las siguentes áreas temá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3094200"/>
            <a:ext cx="37335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Contabilidad y 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Tribut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Jud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3526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Economía y Finan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Idi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s-AR" sz="1800" spc="-1" strike="noStrike">
                <a:solidFill>
                  <a:srgbClr val="003399"/>
                </a:solidFill>
                <a:latin typeface="Verdana"/>
              </a:rPr>
              <a:t>Tem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Tahoma"/>
              </a:rPr>
              <a:t>CICLOS DE ACTU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47920" y="304920"/>
            <a:ext cx="0" cy="6324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6520" y="5486400"/>
            <a:ext cx="8817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h_m1_b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1066680" cy="835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388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5867280"/>
            <a:ext cx="56386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Tahoma"/>
              </a:rPr>
              <a:t>PROGRAMAS DE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0492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n el año 2001 se aprueba el proyecto de creación del </a:t>
            </a:r>
            <a:r>
              <a:rPr b="1" lang="es-AR" sz="2000" spc="-1" strike="noStrike">
                <a:solidFill>
                  <a:srgbClr val="003399"/>
                </a:solidFill>
                <a:latin typeface="Verdana"/>
              </a:rPr>
              <a:t>Instituto Universitario de Ciencias Económicas</a:t>
            </a: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, orientado a aquellas especialidades en las cuales el Consejo tiene ventajas comparativas. El proyecto se encuentra actualmente en evaluación en la CONEA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47920" y="304920"/>
            <a:ext cx="0" cy="6324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6520" y="5486400"/>
            <a:ext cx="8817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2388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28954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El proyecto incluye tres programas de especialización diseñados de acuerdo a las especificaciones de la Ley de Educación Superior para los posgrados de especialización y estan a cargo de un cuerpo docente de prestigio y reconocida exper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h_m1_b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457200"/>
            <a:ext cx="693432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Los programas, se ofrecen a partir del año 2002, con muy buena aceptación por parte de los profesionales, con una cantidad de casi 200 alumnos regulares. Los programas ofrecidos son:</a:t>
            </a: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447920" y="304920"/>
            <a:ext cx="0" cy="6324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36520" y="5486400"/>
            <a:ext cx="8817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867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99"/>
                </a:solidFill>
                <a:latin typeface="Tahoma"/>
              </a:rPr>
              <a:t>PROGRAMAS DE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2767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AR" sz="2000" spc="-1" strike="noStrike">
                <a:solidFill>
                  <a:srgbClr val="000099"/>
                </a:solidFill>
                <a:latin typeface="Tahoma"/>
              </a:rPr>
              <a:t>Especialización en 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809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s-AR" sz="2000" spc="-1" strike="noStrike">
                <a:solidFill>
                  <a:srgbClr val="000099"/>
                </a:solidFill>
                <a:latin typeface="Tahoma"/>
              </a:rPr>
              <a:t>Especialización en Economía y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3434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s-AR" sz="2000" spc="-1" strike="noStrike">
                <a:solidFill>
                  <a:srgbClr val="000099"/>
                </a:solidFill>
                <a:latin typeface="Tahoma"/>
              </a:rPr>
              <a:t>Especialización en Trib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h_m1_b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1066680" cy="83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59436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066680"/>
            <a:ext cx="6096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6600"/>
                </a:solidFill>
                <a:latin typeface="Verdana"/>
              </a:rPr>
              <a:t>EVOLUCIÓN DE CURS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200400"/>
            <a:ext cx="6095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6600"/>
                </a:solidFill>
                <a:latin typeface="Verdana"/>
              </a:rPr>
              <a:t>EVOLUCIÓN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9880" y="1600200"/>
          <a:ext cx="19432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1600200"/>
                    <a:ext cx="19432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676520" y="5867280"/>
            <a:ext cx="6095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99"/>
                </a:solidFill>
                <a:latin typeface="Verdana"/>
              </a:rPr>
              <a:t>DATOS ESTADÍ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9880" y="3657600"/>
          <a:ext cx="1943280" cy="121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657600"/>
                    <a:ext cx="19432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59436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447920" y="304920"/>
            <a:ext cx="0" cy="6324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36520" y="5486400"/>
            <a:ext cx="8817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_m1_b" descr=""/>
          <p:cNvPicPr/>
          <p:nvPr/>
        </p:nvPicPr>
        <p:blipFill>
          <a:blip r:embed="rId7"/>
          <a:stretch/>
        </p:blipFill>
        <p:spPr>
          <a:xfrm>
            <a:off x="228600" y="563868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58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6600"/>
                </a:solidFill>
                <a:latin typeface="Verdana"/>
              </a:rPr>
              <a:t>EVOLUCIÓN DE</a:t>
            </a:r>
            <a:r>
              <a:rPr b="0" lang="es-AR" sz="2400" spc="-1" strike="noStrike">
                <a:solidFill>
                  <a:srgbClr val="3366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336600"/>
                </a:solidFill>
                <a:latin typeface="Verdana"/>
              </a:rPr>
              <a:t>CURS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64008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h_m1_b" descr=""/>
          <p:cNvPicPr/>
          <p:nvPr/>
        </p:nvPicPr>
        <p:blipFill>
          <a:blip r:embed="rId4"/>
          <a:stretch/>
        </p:blipFill>
        <p:spPr>
          <a:xfrm>
            <a:off x="304920" y="595152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57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47920" y="609588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6600"/>
                </a:solidFill>
                <a:latin typeface="Verdana"/>
              </a:rPr>
              <a:t>EVOLUCIÓN EN LA EVALUACIÓN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1048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h_m1_b" descr=""/>
          <p:cNvPicPr/>
          <p:nvPr/>
        </p:nvPicPr>
        <p:blipFill>
          <a:blip r:embed="rId3"/>
          <a:stretch/>
        </p:blipFill>
        <p:spPr>
          <a:xfrm>
            <a:off x="304920" y="5951520"/>
            <a:ext cx="1066680" cy="8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7:27:35Z</dcterms:created>
  <dc:creator>Marcelo Guillot</dc:creator>
  <dc:description/>
  <dc:language>en-US</dc:language>
  <cp:lastModifiedBy>C.P.C.E.C.A.B.A.</cp:lastModifiedBy>
  <dcterms:modified xsi:type="dcterms:W3CDTF">2004-10-12T21:38:00Z</dcterms:modified>
  <cp:revision>51</cp:revision>
  <dc:subject/>
  <dc:title>Sin título de diapositiva</dc:title>
</cp:coreProperties>
</file>