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D8C6-4976-4231-BE8A-2FFFBD53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A367-7687-4D22-8FDE-0605BC21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77D9-37D9-4964-9D81-7B52625E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A1A-EEB9-42C5-AE52-8B3DE974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F744-20F3-4B29-94C9-BB000F6B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CC2-3BEE-4061-91EB-AA234142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E88-38BC-403B-966B-AE553760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2D2-BB09-4C2F-83EF-ECA159E6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B994-A2AB-4A92-880C-68844BB4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5F56-1EA4-4D36-8E1A-9E325C06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D977-DE62-41CC-8D7F-19420B15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1E9F-4ACF-4C33-8081-027B8F6A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E609-2517-45ED-B33A-AAD6D878F91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inámica y Fuentes de Innovación en la Pequeña y Mediana 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iacchero,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nnini, 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tín,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versidad Nacional del 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3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El rol del empresario Py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u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rector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rector administr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rector de 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rector de explo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 dificultad para adquirir conocimien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fesional en todas las ramas de la dir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 falta de tiempo para cumplir con t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1080" y="404280"/>
            <a:ext cx="8062920" cy="792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Características del empresario PyME de éxit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38098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anza en sí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miso a larg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ece metas preci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encia contra estánd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lerancia hacia la ambigüedad y la incertidum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960" y="1413000"/>
            <a:ext cx="38098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oderación en el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ato con el frac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retroinform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iciativa y responsabilidad pers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trol personal de la fi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9898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tas formas de conducir una organiz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 estrategias, de manera rea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guiendo un patrón estándar para las decisiones que responden a la intuición del condu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3645000"/>
            <a:ext cx="7200720" cy="2663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ás allá de las destrezas, habilidad par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frentar desafíos, agilidad de respuesta y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lfato para los negocios es indispensable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PARACIÓN Y CAPACITA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80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Las fuerzas coop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evas estrategias de desarrollo competi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eación de redes de innov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- institu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- empresas relacionadas por los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rzas cooperativas logran mayor competitividad en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228600"/>
            <a:ext cx="59022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Times New Roman"/>
              </a:rPr>
              <a:t>Fuerzas cooperativas-competitiv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066680"/>
            <a:ext cx="36576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entr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1066680"/>
            <a:ext cx="35812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ent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Tecn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3124080"/>
            <a:ext cx="38098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Gobiern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Otras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1905120"/>
            <a:ext cx="18288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4267080"/>
            <a:ext cx="8610480" cy="2210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Nuevas Estrategias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:            </a:t>
            </a: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Creación de redes de innov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reación de redes de flujos dinámicos con gran carácter coop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el aporte de conocimi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Marco al estilo fuerzas competitivas de P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(que permiten a la empresa obtener un resultado favor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198108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714640" y="1981080"/>
            <a:ext cx="7621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724280" y="2743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02560" cy="65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Cómo deben ser esas relacion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123920"/>
            <a:ext cx="8423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Times New Roman"/>
              </a:rPr>
              <a:t>Centros Tecnológicos y de Investigació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AR" sz="3000" spc="-1" strike="noStrike">
                <a:solidFill>
                  <a:srgbClr val="000000"/>
                </a:solidFill>
                <a:latin typeface="Times New Roman"/>
              </a:rPr>
              <a:t>- desarrollar vinculaciones de asistencia técnica y de forma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Times New Roman"/>
              </a:rPr>
              <a:t>Empres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AR" sz="3000" spc="-1" strike="noStrike">
                <a:solidFill>
                  <a:srgbClr val="000000"/>
                </a:solidFill>
                <a:latin typeface="Times New Roman"/>
              </a:rPr>
              <a:t>- disposición a generar una forma de actuar en interdependencia con ellos y con sus pa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AR" sz="3000" spc="-1" strike="noStrike">
                <a:solidFill>
                  <a:srgbClr val="000000"/>
                </a:solidFill>
                <a:latin typeface="Times New Roman"/>
              </a:rPr>
              <a:t>- brindar marco adecuado para que ello se cumpl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AR" sz="3000" spc="-1" strike="noStrike">
                <a:solidFill>
                  <a:srgbClr val="000000"/>
                </a:solidFill>
                <a:latin typeface="Times New Roman"/>
              </a:rPr>
              <a:t>(marco legal, estímulo a innovaciones,  generación de vínculo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xiste una cultura compartida entre los particip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istoria y vinculaciones prev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quema de juegos repetidos que debe permitir al sistema evolucionar, innovar y apr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3862440"/>
            <a:ext cx="7848720" cy="23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l marco institucional debe permiti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lograr una gestión adecuada del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onocimiento a integrar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70000"/>
            <a:ext cx="7772400" cy="855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Habrán distintos niveles institucionale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inanciamiento a gran escala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Gobiernos lo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- gestión y control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- capacidad de 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- experiencia loc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stituciones local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 niveles de instituciones: - mic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- macr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156000" y="1413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2205000"/>
            <a:ext cx="865080" cy="2664000"/>
          </a:xfrm>
          <a:custGeom>
            <a:avLst/>
            <a:gdLst>
              <a:gd name="textAreaLeft" fmla="*/ 115920 w 865080"/>
              <a:gd name="textAreaRight" fmla="*/ 749160 w 865080"/>
              <a:gd name="textAreaTop" fmla="*/ 466200 h 2664000"/>
              <a:gd name="textAreaBottom" fmla="*/ 193140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79417"/>
                <a:lnTo>
                  <a:pt x="7212" y="21166"/>
                </a:lnTo>
                <a:lnTo>
                  <a:pt x="0" y="17280"/>
                </a:lnTo>
                <a:lnTo>
                  <a:pt x="7212" y="12526"/>
                </a:lnTo>
                <a:lnTo>
                  <a:pt x="7212" y="14686"/>
                </a:lnTo>
                <a:arcTo wR="21600" hR="7560" stAng="2679417" swAng="-2321982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19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stemas de apoy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sarticulación entre organismos e instr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alta de difusión de polí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casa adecuación de los instrumentos a la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ducida llega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a las fir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yor acercamiento a empresas de mayor capac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981000"/>
            <a:ext cx="86104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Times New Roman"/>
              </a:rPr>
              <a:t>Falta el reconocimiento de la heterogeneidad del segmen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Times New Roman"/>
              </a:rPr>
              <a:t>No hay descentralización de medidas de apoyo en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AR" sz="3000" spc="-1" strike="noStrike">
                <a:solidFill>
                  <a:srgbClr val="000000"/>
                </a:solidFill>
                <a:latin typeface="Times New Roman"/>
              </a:rPr>
              <a:t>entidades loc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Times New Roman"/>
              </a:rPr>
              <a:t>No hay visión del fortalecimiento de la interacción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AR" sz="3000" spc="-1" strike="noStrike">
                <a:solidFill>
                  <a:srgbClr val="000000"/>
                </a:solidFill>
                <a:latin typeface="Times New Roman"/>
              </a:rPr>
              <a:t>redes y vínculos con otras empresas e institu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080" y="4581360"/>
            <a:ext cx="8604000" cy="1079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 marco institucional adecuado es 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 Local de Desarrollo e Innovación (RELD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ntros de investigación 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ctor produ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as for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r mayor importancia a la habilidad de los agentes para captar información y relacionarse entre e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ol de las instituciones ligadas al cono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crean ventajas competitivas dinám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792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fusión del conoc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520" y="1196640"/>
            <a:ext cx="84582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Censo Económico (1994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 87% firmas en la rama manufacturer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 13% firmas en la rama construcción y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suministro de ener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Elaboración de alimentos y bebid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Fabricación de estructuras metálic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Construc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Imprentas y editori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Valor de producción concentrado en la empresas de gran magnitud del complejo petroquím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19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a  RELDI  en  Bahía  Blan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tino de la produc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 mercado interno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reg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 exportación: empresas con altos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ntos de factur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ajo requerimiento de capac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asa articulación entre las empre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 se aprovecha la ventaja efectiva de la proximidad geográ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66600"/>
            <a:ext cx="859140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mpresarios PyMEs industriales.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aracterísticas pers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mbres de edad mediana a may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aron o pertenecen a empresas famili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ivel educativo medio, no necesariamente ligado a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su mayoría no formados profesionalmente (usan escaso personal profesional en su empre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ocimientos previos: producción y comercializ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recen de conocimientos contables y leg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an asesoramiento de profesionales idón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mitados conocimientos en comercio ex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40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ctitu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arten el riesgo con s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conservadores (tendencia acentuada con la e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recen de actitudes emprende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nuevos emprendimientos son cambios de razón social o circunstanciales iniciados por empresarios jóv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centran fuertemente la aut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realizan actividades de capacitación propias o del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n metas claras no demasiado desafi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usan frecuentemente las herramientas administrativas a su alc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lación con el medio para la búsqueda de información y cono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96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8120" indent="-168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Escasa preocupación por la búsqueda de información para la toma de decis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No se acercan a los centros de investigación e instituciones educativ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La relación con sus pares es buena pero no utilizan las reuniones con otros empresarios como fuente de información para comparar experienci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No recurren a asociaciones para el desarrollo de proyectos en común o creación de redes de apoy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19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asgos de las Py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astecen demandas lo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án aisladas a la hora de tomar deci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uestran comportamientos cooper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án alejadas de universidades o institutos de capac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60% recibe información siste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especial: plásticos y químicos, a través de publicaciones especializadas, no hay red de conta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65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igen de la información técn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5412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os de investi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ltor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edores de 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ras fir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24% de las firmas no hace uso de ningún conta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35640" y="1628640"/>
            <a:ext cx="288720" cy="1295640"/>
          </a:xfrm>
          <a:custGeom>
            <a:avLst/>
            <a:gdLst>
              <a:gd name="textAreaLeft" fmla="*/ 0 w 288720"/>
              <a:gd name="textAreaRight" fmla="*/ 104040 w 2887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73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contramos 2 tipos de empres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de mejor evolución, mayor capacidad de respuesta y tendencia a la inno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de estructura más negativa de factores competi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000" y="1916280"/>
            <a:ext cx="468360" cy="3241440"/>
          </a:xfrm>
          <a:custGeom>
            <a:avLst/>
            <a:gdLst>
              <a:gd name="textAreaLeft" fmla="*/ 62640 w 468360"/>
              <a:gd name="textAreaRight" fmla="*/ 405720 w 468360"/>
              <a:gd name="textAreaTop" fmla="*/ 567000 h 3241440"/>
              <a:gd name="textAreaBottom" fmla="*/ 2350080 h 32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4005360"/>
            <a:ext cx="7201080" cy="158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cen mayor uso de la informació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aprendizaje y la RELDI propue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7240" y="404640"/>
            <a:ext cx="4749840" cy="72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flexión Fi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5600" indent="-34560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Ausencia de una RELDI adecuada para impulsar la formación de empresarios y el desarrollo de iniciativa empresar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5600" indent="-34560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Elementos negativ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5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§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Inestabilidad macroeconóm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5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§</a:t>
            </a:r>
            <a:r>
              <a:rPr b="0" lang="es-E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Bajos niveles de ingres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5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§</a:t>
            </a:r>
            <a:r>
              <a:rPr b="0" lang="es-E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Inseguridad juríd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5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§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Limitaciones del mercado de capitales y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5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financie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5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§</a:t>
            </a:r>
            <a:r>
              <a:rPr b="0" lang="es-E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Falta de cultura cooperati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65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iera constituir objetivo de polític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arrollo de redes de firmas e institu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joramiento de interrelación entre universidades y centros tecnológicos con las empre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mento al desarrollo de competencias tecnológicas de las firmas y los recursos hu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lación de competencias falt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Sistema productiv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empresa y su en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instituciones ligadas al cono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entramado produ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calidad: factor generador d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ocimiento y competenci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es: rol activo en actividad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acto reg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ción y mejora del marco financiero y regulatorio en apoyo a la inno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ción activa de las empresas en la acción del gobiern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2924280"/>
            <a:ext cx="8748720" cy="3384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cesidad de contar con presupuestos públ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cordes y autoridades encargadas del diseño y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plicación de políticas públicas adecuadas, quie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berán convertirse en empresarios innovado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que se comprometan con una gestión pública eficien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Nueva Estrategia de Política Descentraliza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Asignación de rol clave 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Autoridad y agentes locales y su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interacción con la Administración Centr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Se convierten en objetivo de políticas que fomenten relaciones fuertes entre los agentes para perfeccionar actividades innovativ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4191120"/>
            <a:ext cx="7162560" cy="1752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novación: evolución del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ocimientos existentes + nuevas no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nuevas compe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1640" y="404640"/>
            <a:ext cx="6553080" cy="72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Apoyo técnico a la PyMe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Red debilitada en tramos o inexisten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Se debe actuar en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 los nodo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 los nodos accesorios (consultor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 toda la r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Algún actor de la red debe generar un ambiente favor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5715000"/>
            <a:ext cx="72392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El contexto reproducirá prácticas innovado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lementos generadores de innov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133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ctores de investigación y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133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stema educativo – Univer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01000" y="1371600"/>
            <a:ext cx="838080" cy="2590920"/>
          </a:xfrm>
          <a:custGeom>
            <a:avLst/>
            <a:gdLst>
              <a:gd name="textAreaLeft" fmla="*/ 112320 w 838080"/>
              <a:gd name="textAreaRight" fmla="*/ 725760 w 83808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0815000">
            <a:off x="75960" y="1142280"/>
            <a:ext cx="841320" cy="2546280"/>
          </a:xfrm>
          <a:custGeom>
            <a:avLst/>
            <a:gdLst>
              <a:gd name="textAreaLeft" fmla="*/ 112680 w 841320"/>
              <a:gd name="textAreaRight" fmla="*/ 728640 w 841320"/>
              <a:gd name="textAreaTop" fmla="*/ 445320 h 2546280"/>
              <a:gd name="textAreaBottom" fmla="*/ 1846080 h 254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3429000"/>
            <a:ext cx="52578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Fuerzas coopti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cooperativas-competitiv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2120" y="1413000"/>
            <a:ext cx="76960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écnica: proceso productivo-tecn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tiva: procesos administrativos y recursos 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procesos: específico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productos: satisfacción de nuevas deman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dical: cambios fundam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radual: cambios margin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ipos de innov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 proceso de innovació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3956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ere intensidad de I +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ucra integración de mecanismos organizacio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coordinación fu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coordinación de herrami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relaciones exter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realizarse dentro de una organización integ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05372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mas con baja intensidad de I + D pueden cubrir las fallas de organización interna con información externa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141720"/>
            <a:ext cx="7920000" cy="208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 las PyMEs las relaciones externas cobr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or signifi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13:40:53Z</dcterms:created>
  <dc:creator>a</dc:creator>
  <dc:description/>
  <dc:language>en-US</dc:language>
  <cp:lastModifiedBy>C.P.C.E.C.A.B.A.</cp:lastModifiedBy>
  <dcterms:modified xsi:type="dcterms:W3CDTF">2004-10-12T21:39:57Z</dcterms:modified>
  <cp:revision>17</cp:revision>
  <dc:subject/>
  <dc:title>Dinámica y Fuentes de Innovación en la Pequeña y Mediana Empresa</dc:title>
</cp:coreProperties>
</file>