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788-662B-4D0E-BDA6-183ED75A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C74-FCCF-4948-BE8F-C369D53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FD3-D999-4AE3-89E1-6CBABC10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CF1-E43E-49B1-B112-015B067A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CF7-AFC2-4B99-BE02-0649821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997-A7F7-48C5-B94E-FAAEAF7F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ACA-CEE8-43BE-8888-46EE7E0A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173-B403-41EB-B78E-2400045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B51-0A18-46BB-9466-BEC56C1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34C-DD6F-4A13-97FC-4FC6CF1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EE9-6EF2-422D-BBDE-323389F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210-35A8-4456-9ED5-83B2BBB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3C1-7E82-46CD-8B05-3641F1A840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3089160" y="3089160"/>
            <a:ext cx="6858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entro de Investig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776240" cy="49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-531720"/>
            <a:ext cx="5278320" cy="723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2880" y="76500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S “MANCHONES” TERRITORIALES-SECTORIALES DE LAS PyMI ARGENT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10317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3089160" y="3089160"/>
            <a:ext cx="6858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entro de Investig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031760" cy="10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6240" cy="49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1628640"/>
            <a:ext cx="79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 neta de creación de empresas y variación de la ocupación industrial entre los años 1994 y 2000, en los distintos sistemas locales de producción de PyMI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8172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0:47:10Z</dcterms:created>
  <dc:creator>chaedo</dc:creator>
  <dc:description/>
  <dc:language>en-US</dc:language>
  <cp:lastModifiedBy>C.P.C.E.C.A.B.A.</cp:lastModifiedBy>
  <dcterms:modified xsi:type="dcterms:W3CDTF">2004-10-12T21:39:06Z</dcterms:modified>
  <cp:revision>41</cp:revision>
  <dc:subject/>
  <dc:title>Diapositiva 1</dc:title>
</cp:coreProperties>
</file>