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48B-346F-4D58-8EB4-5C9569EA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361-6F06-4D7C-B63E-E808CF18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03F-3F30-4D1F-A537-DB2E02A2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209-D54F-4E9D-BB06-FDEECB9D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589-7F62-44F5-A6E7-37F060D0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BA7-8CC8-4DC2-A961-16DE12DD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909-1A4F-46B2-8A3F-49C84625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0F8-C927-454B-ADA9-5EF50E9E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900-3B18-475E-8140-179FCFE2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D7B-774C-4830-8CA0-5EB4B9B1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84C-3F09-4150-B929-493AB82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B68-1056-4ECC-BA1C-56FC82A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7E7-E77E-45E5-9EF1-011C7E47B5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53388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_tradnl" sz="9600" spc="-1" strike="noStrike">
                <a:solidFill>
                  <a:srgbClr val="0000ff"/>
                </a:solidFill>
                <a:latin typeface="Times New Roman"/>
              </a:rPr>
              <a:t>RRdL        </a:t>
            </a:r>
            <a:r>
              <a:rPr b="1" lang="es-MX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1" lang="es-MX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III Congreso de la Pequeña y                        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Mediana Empresa</a:t>
            </a:r>
            <a:br>
              <a:rPr sz="3200"/>
            </a:br>
            <a:r>
              <a:rPr b="0" lang="es-AR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A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s-AR" sz="3200" spc="-1" strike="noStrike">
                <a:solidFill>
                  <a:srgbClr val="ffff00"/>
                </a:solidFill>
                <a:latin typeface="Arial"/>
                <a:ea typeface="Arial"/>
              </a:rPr>
              <a:t>La formación de grado y posgrado </a:t>
            </a:r>
            <a:br>
              <a:rPr sz="3200"/>
            </a:br>
            <a:r>
              <a:rPr b="0" lang="es-AR" sz="3200" spc="-1" strike="noStrike">
                <a:solidFill>
                  <a:srgbClr val="ffff00"/>
                </a:solidFill>
                <a:latin typeface="Arial"/>
                <a:ea typeface="Arial"/>
              </a:rPr>
              <a:t>del profesional asesor de PyMEs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empus Sans ITC"/>
              </a:rPr>
              <a:t>Raúl R. di Loren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EC7-F7BB-41D5-B596-EBECED9887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ivel de Profesionalizació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981080"/>
          <a:ext cx="88390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839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2D4-1D27-4AA4-8836-EEC855796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Grado de Automatización Procesos Administra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2023920"/>
          <a:ext cx="8839080" cy="42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23920"/>
                    <a:ext cx="8839080" cy="42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648-4019-4641-91B0-934FBE351C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ofesionalización Dire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2044800"/>
          <a:ext cx="914400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44800"/>
                    <a:ext cx="914400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6AB-9C47-4154-A4CF-702C7E2C08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B16-F0A6-40F6-9D04-676EE68FAD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65160"/>
          <a:ext cx="8382240" cy="60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5160"/>
                    <a:ext cx="8382240" cy="60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953-2004-4A74-BAA9-0202F9885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es-ES_tradnl" sz="6000" spc="-1" strike="noStrike">
                <a:solidFill>
                  <a:srgbClr val="ffff00"/>
                </a:solidFill>
                <a:latin typeface="Times New Roman"/>
              </a:rPr>
              <a:t>PROFESIONAL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1EA-E74A-415C-B817-6C35863665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1F2-AF0E-4CAD-A84A-8CBE3656CC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380880"/>
          <a:ext cx="883908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883908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EE6-0D37-400A-81CF-8F5634697F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Empresario Dem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nt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Sueldos - Previ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rofesional Ofrec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eldos - Previ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C78-122D-488D-A0D9-B9DA4A12FC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5028840" y="1905120"/>
            <a:ext cx="2057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1905120"/>
            <a:ext cx="21337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190760" y="1828800"/>
            <a:ext cx="2819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34120" y="228600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67080" y="3581280"/>
            <a:ext cx="2895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133720"/>
            <a:ext cx="961920" cy="9144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2743200"/>
            <a:ext cx="60948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886200"/>
            <a:ext cx="961920" cy="9144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4114800"/>
            <a:ext cx="761760" cy="60948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4419720"/>
            <a:ext cx="4572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4343400"/>
            <a:ext cx="685800" cy="609480"/>
          </a:xfrm>
          <a:custGeom>
            <a:avLst/>
            <a:gdLst>
              <a:gd name="textAreaLeft" fmla="*/ 282600 w 685800"/>
              <a:gd name="textAreaRight" fmla="*/ 403200 w 6858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114800"/>
            <a:ext cx="685800" cy="838080"/>
          </a:xfrm>
          <a:custGeom>
            <a:avLst/>
            <a:gdLst>
              <a:gd name="textAreaLeft" fmla="*/ 282600 w 685800"/>
              <a:gd name="textAreaRight" fmla="*/ 403200 w 6858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352680"/>
            <a:ext cx="609480" cy="228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895480"/>
            <a:ext cx="533160" cy="228600"/>
          </a:xfrm>
          <a:custGeom>
            <a:avLst/>
            <a:gdLst>
              <a:gd name="textAreaLeft" fmla="*/ 219600 w 533160"/>
              <a:gd name="textAreaRight" fmla="*/ 313560 w 53316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4038480"/>
            <a:ext cx="533160" cy="228600"/>
          </a:xfrm>
          <a:custGeom>
            <a:avLst/>
            <a:gdLst>
              <a:gd name="textAreaLeft" fmla="*/ 219600 w 533160"/>
              <a:gd name="textAreaRight" fmla="*/ 313560 w 53316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24080"/>
            <a:ext cx="6094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048120"/>
            <a:ext cx="30492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E07677_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1181160" cy="11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40B-F417-4BEA-AA7E-2441BC3993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Trabajo de Investigación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de la Cátedra</a:t>
            </a: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(Profesores y Alumnos)</a:t>
            </a:r>
            <a:br>
              <a:rPr sz="3200"/>
            </a:br>
            <a:br>
              <a:rPr sz="32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Seminario de Aplicación Profesional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Administrativo Contable  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2004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E75-5B72-45AC-9495-662C980442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0"/>
          <a:ext cx="9144000" cy="610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657600" y="2133720"/>
            <a:ext cx="6858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2438280"/>
            <a:ext cx="6858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3962520"/>
            <a:ext cx="6858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114800"/>
            <a:ext cx="6858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267080"/>
            <a:ext cx="304920" cy="2286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438280"/>
            <a:ext cx="304920" cy="2286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3276720"/>
            <a:ext cx="304920" cy="2286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733920"/>
            <a:ext cx="304920" cy="228600"/>
          </a:xfrm>
          <a:prstGeom prst="star5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191120"/>
            <a:ext cx="609840" cy="6094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733920"/>
            <a:ext cx="609480" cy="6094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2666880"/>
            <a:ext cx="457200" cy="30492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743200"/>
            <a:ext cx="457200" cy="30492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429000"/>
            <a:ext cx="457200" cy="30492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E07677_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952560" cy="95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4647960" y="1447920"/>
            <a:ext cx="2514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4640" y="19051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14800" y="3276720"/>
            <a:ext cx="3124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C33-1C7B-4649-B49E-956885A1A3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Valor desperdiciado por la PY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Finanzas * Costos *Presupuestos * Normas * Procedimientos * Manuales * Proyectos de Inversión  * Análisis de Flujos de Fondos * Análisis Macroeconómicos * Análisis Microeconómicos * Proyectos de Inversión * Estrategias * Gestión de Cobranzas * Análisis de Rentabilidad  * Estados Patrimoniales Proyectados * Beneficios Fiscales * Beneficios Sectoriales * Consorcios de Exportación * Data Mining *  SSEPYMEYDR * FOGAPYME * SGR * ON * Cotización en Bolsa * PRE * Crédito Fiscal * UTE * ACE * INTI * CFI * IDEB * Negociación * Mediación * Balanced Scorecard * Valuación de Empresa * Cartera de Inversiones * CPM * APM * Opciones * Valor de la Firma * ECO * EVA * Adm Capital de Trabajo * Adm.  Ctas a Cobrar * Adm. Inventarios * Delegación * Departamentalización * Organigramas * Circuitos Administrativos * PERT * Gantt * Árboles de Decisión * Planeamiento Estratégico * Tablero de Comando * FODA * Capital Humano * Valor Social * Responsabilidad Social Empresaria *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c...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tc...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tc..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.,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.., 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.., 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..,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.., </a:t>
            </a: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.., </a:t>
            </a: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..,</a:t>
            </a:r>
            <a:r>
              <a:rPr b="0" lang="es-ES_tradnl" sz="8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908-D11E-4291-9E3E-F58621AA78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0000ff"/>
                </a:solidFill>
                <a:latin typeface="Times New Roman"/>
              </a:rPr>
              <a:t>RRdL</a:t>
            </a:r>
            <a:br>
              <a:rPr sz="9600"/>
            </a:br>
            <a:r>
              <a:rPr b="0" lang="es-ES_tradnl" sz="9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aúl R. di Lorenz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rdl@ciudad.com.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786-47B2-401E-9034-65A23CC085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362320"/>
            <a:ext cx="2666880" cy="2361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mpre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2286000"/>
            <a:ext cx="2666880" cy="2514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048120"/>
            <a:ext cx="1752840" cy="380880"/>
          </a:xfrm>
          <a:prstGeom prst="rightArrow">
            <a:avLst>
              <a:gd name="adj1" fmla="val 50000"/>
              <a:gd name="adj2" fmla="val 115052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809880"/>
            <a:ext cx="1676520" cy="381240"/>
          </a:xfrm>
          <a:prstGeom prst="rightArrow">
            <a:avLst>
              <a:gd name="adj1" fmla="val 50000"/>
              <a:gd name="adj2" fmla="val 10993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752480"/>
            <a:ext cx="7010280" cy="609840"/>
          </a:xfrm>
          <a:prstGeom prst="rightArrow">
            <a:avLst>
              <a:gd name="adj1" fmla="val 50000"/>
              <a:gd name="adj2" fmla="val 2873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066680"/>
            <a:ext cx="6933960" cy="609840"/>
          </a:xfrm>
          <a:prstGeom prst="rightArrow">
            <a:avLst>
              <a:gd name="adj1" fmla="val 50000"/>
              <a:gd name="adj2" fmla="val 28425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Demanda Empresario                        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E12-3D8C-4316-B72B-841CAD089C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362320"/>
            <a:ext cx="2666880" cy="2361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mpre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286000"/>
            <a:ext cx="2666880" cy="2514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0481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76920"/>
            <a:ext cx="7543800" cy="533160"/>
          </a:xfrm>
          <a:prstGeom prst="leftArrow">
            <a:avLst>
              <a:gd name="adj1" fmla="val 50000"/>
              <a:gd name="adj2" fmla="val 35373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nocimiento Profes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F91-B873-4E2E-9681-A61EF0CAD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362320"/>
            <a:ext cx="2666880" cy="2361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mpres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286000"/>
            <a:ext cx="2666880" cy="2514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3048120"/>
            <a:ext cx="1752840" cy="380880"/>
          </a:xfrm>
          <a:prstGeom prst="rightArrow">
            <a:avLst>
              <a:gd name="adj1" fmla="val 50000"/>
              <a:gd name="adj2" fmla="val 115052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30481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3809880"/>
            <a:ext cx="1676520" cy="381240"/>
          </a:xfrm>
          <a:prstGeom prst="rightArrow">
            <a:avLst>
              <a:gd name="adj1" fmla="val 50000"/>
              <a:gd name="adj2" fmla="val 10993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8098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752480"/>
            <a:ext cx="7010280" cy="609840"/>
          </a:xfrm>
          <a:prstGeom prst="rightArrow">
            <a:avLst>
              <a:gd name="adj1" fmla="val 50000"/>
              <a:gd name="adj2" fmla="val 2873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1066680"/>
            <a:ext cx="6933960" cy="609840"/>
          </a:xfrm>
          <a:prstGeom prst="rightArrow">
            <a:avLst>
              <a:gd name="adj1" fmla="val 50000"/>
              <a:gd name="adj2" fmla="val 28425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76920"/>
            <a:ext cx="7543800" cy="533160"/>
          </a:xfrm>
          <a:prstGeom prst="leftArrow">
            <a:avLst>
              <a:gd name="adj1" fmla="val 50000"/>
              <a:gd name="adj2" fmla="val 35373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Demanda                           Ofer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454-72E0-4902-805D-91F5975E0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362320"/>
            <a:ext cx="2666880" cy="2361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286000"/>
            <a:ext cx="2666880" cy="2514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38098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752480"/>
            <a:ext cx="7010280" cy="609840"/>
          </a:xfrm>
          <a:prstGeom prst="rightArrow">
            <a:avLst>
              <a:gd name="adj1" fmla="val 50000"/>
              <a:gd name="adj2" fmla="val 2873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76920"/>
            <a:ext cx="7543800" cy="533160"/>
          </a:xfrm>
          <a:prstGeom prst="leftArrow">
            <a:avLst>
              <a:gd name="adj1" fmla="val 50000"/>
              <a:gd name="adj2" fmla="val 35373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Participación Institución Formador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6B4-289B-433F-88C1-386569DA94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00 Empresas Py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676520"/>
          <a:ext cx="45720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572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48320" y="1676520"/>
          <a:ext cx="449568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76520"/>
                    <a:ext cx="44956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562-4017-497F-A80F-15BDB7674C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00 Profesiona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600200"/>
          <a:ext cx="441972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419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343400" y="1600200"/>
          <a:ext cx="4800600" cy="25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600200"/>
                    <a:ext cx="4800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3962520"/>
          <a:ext cx="4419720" cy="2286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62520"/>
                    <a:ext cx="4419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343400" y="4038480"/>
          <a:ext cx="4800600" cy="2210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038480"/>
                    <a:ext cx="48006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5D1-6804-4418-93F8-635F003FE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es-ES_tradnl" sz="6000" spc="-1" strike="noStrike">
                <a:solidFill>
                  <a:srgbClr val="ffff00"/>
                </a:solidFill>
                <a:latin typeface="Times New Roman"/>
              </a:rPr>
              <a:t>Empres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ED8-A0B4-484F-878C-54547FC7B0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7:01:55Z</dcterms:created>
  <dc:creator>Mirta Norma De Andreis de di </dc:creator>
  <dc:description/>
  <dc:language>en-US</dc:language>
  <cp:lastModifiedBy>C.P.C.E.C.A.B.A.</cp:lastModifiedBy>
  <dcterms:modified xsi:type="dcterms:W3CDTF">2004-10-13T13:29:37Z</dcterms:modified>
  <cp:revision>36</cp:revision>
  <dc:subject/>
  <dc:title>VIII Congreso de la Pequeña y Mediana Empresa   “PyMEs 2004: Su reinserción después de la crisis” </dc:title>
</cp:coreProperties>
</file>