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8D6F-6A38-4151-9E64-31A53D88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574A-6C59-41AB-8460-FE127F3E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BBBE-2869-4329-A7AA-4738CE3E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83F1-3518-45FE-A51F-F1897B6C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5E53-60E9-4849-8A95-22D7B1DC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F89E-7F23-4027-B62D-24D8B203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9A3C-AFE8-4C35-AE14-9BE8ADFE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AD06-9584-4DAA-830B-0905DD07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C530-079A-446D-A334-BCFFDD01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CBFF-4589-42BE-8C38-C7DE98D6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1BC9-3987-471F-81CC-F6BDA775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3289-FDF2-4DFA-A816-1BA3A733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6C1B-BB3A-4F28-A202-EC7CBBFCDFE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53388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r>
              <a:rPr b="0" lang="es-ES_tradnl" sz="9600" spc="-1" strike="noStrike">
                <a:solidFill>
                  <a:srgbClr val="ffffcc"/>
                </a:solidFill>
                <a:latin typeface="Times New Roman"/>
              </a:rPr>
              <a:t>RRdL        </a:t>
            </a:r>
            <a:r>
              <a:rPr b="1" lang="es-MX" sz="4400" spc="-1" strike="noStrike">
                <a:solidFill>
                  <a:srgbClr val="808000"/>
                </a:solidFill>
                <a:latin typeface="Arial"/>
                <a:ea typeface="Times New Roman"/>
              </a:rPr>
              <a:t> </a:t>
            </a:r>
            <a:br>
              <a:rPr sz="4400"/>
            </a:br>
            <a:r>
              <a:rPr b="1" lang="es-MX" sz="4400" spc="-1" strike="noStrike">
                <a:solidFill>
                  <a:srgbClr val="808000"/>
                </a:solidFill>
                <a:latin typeface="Arial"/>
                <a:ea typeface="Times New Roman"/>
              </a:rPr>
              <a:t>       </a:t>
            </a:r>
            <a:r>
              <a:rPr b="1" lang="es-MX" sz="3200" spc="-1" strike="noStrike">
                <a:solidFill>
                  <a:srgbClr val="808000"/>
                </a:solidFill>
                <a:latin typeface="Arial"/>
                <a:ea typeface="Times New Roman"/>
              </a:rPr>
              <a:t>VIII Congreso de la Pequeña y                         </a:t>
            </a:r>
            <a:br>
              <a:rPr sz="3200"/>
            </a:br>
            <a:r>
              <a:rPr b="1" lang="es-MX" sz="3200" spc="-1" strike="noStrike">
                <a:solidFill>
                  <a:srgbClr val="808000"/>
                </a:solidFill>
                <a:latin typeface="Arial"/>
                <a:ea typeface="Times New Roman"/>
              </a:rPr>
              <a:t>                   Mediana Empresa</a:t>
            </a:r>
            <a:br>
              <a:rPr sz="3200"/>
            </a:br>
            <a:r>
              <a:rPr b="0" lang="es-AR" sz="4400" spc="-1" strike="noStrike">
                <a:solidFill>
                  <a:srgbClr val="808000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AR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 </a:t>
            </a:r>
            <a:r>
              <a:rPr b="0" lang="es-AR" sz="3200" spc="-1" strike="noStrike">
                <a:solidFill>
                  <a:srgbClr val="808000"/>
                </a:solidFill>
                <a:latin typeface="Arial"/>
                <a:ea typeface="Arial"/>
              </a:rPr>
              <a:t>La formación de grado y posgrado </a:t>
            </a:r>
            <a:br>
              <a:rPr sz="3200"/>
            </a:br>
            <a:r>
              <a:rPr b="0" lang="es-AR" sz="3200" spc="-1" strike="noStrike">
                <a:solidFill>
                  <a:srgbClr val="808000"/>
                </a:solidFill>
                <a:latin typeface="Arial"/>
                <a:ea typeface="Arial"/>
              </a:rPr>
              <a:t>del profesional asesor de PyMEs</a:t>
            </a:r>
            <a:r>
              <a:rPr b="0" lang="es-ES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empus Sans ITC"/>
              </a:rPr>
              <a:t>Raúl R. di Loren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528B-ACFE-4FE6-88F3-3C43B4822A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8000"/>
                </a:solidFill>
                <a:latin typeface="Times New Roman"/>
              </a:rPr>
              <a:t>Nivel de Profesionalización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1981080"/>
          <a:ext cx="883908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839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2169-EC1F-4692-B966-94B6A461FA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8000"/>
                </a:solidFill>
                <a:latin typeface="Times New Roman"/>
              </a:rPr>
              <a:t>Grado de Automatización Procesos Administrativo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2023920"/>
          <a:ext cx="8839080" cy="422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23920"/>
                    <a:ext cx="8839080" cy="42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A448-F0A2-4090-B5DE-D71669AFEF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8000"/>
                </a:solidFill>
                <a:latin typeface="Times New Roman"/>
              </a:rPr>
              <a:t>Profesionalización Direcció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2044800"/>
          <a:ext cx="9144000" cy="418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44800"/>
                    <a:ext cx="914400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D83E-B840-47B6-9A61-2707CAF9CC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7CE5-F03B-4BA1-9D29-C18C0A03AA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80880" y="65160"/>
          <a:ext cx="8382240" cy="603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5160"/>
                    <a:ext cx="8382240" cy="60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7E9E-F81C-44AD-A0E6-683ED36D2E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0" lang="es-ES_tradnl" sz="6000" spc="-1" strike="noStrike">
                <a:solidFill>
                  <a:srgbClr val="808000"/>
                </a:solidFill>
                <a:latin typeface="Times New Roman"/>
              </a:rPr>
              <a:t>PROFESIONALES</a:t>
            </a:r>
            <a:endParaRPr b="0" lang="en-US" sz="6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9D7D-DE88-4BBF-8ED3-A4DE3F2043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0"/>
          <a:ext cx="914400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E655-9DEB-429B-ABC8-055A3F91D7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380880"/>
          <a:ext cx="8839080" cy="541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883908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D491-B020-45EA-8B34-FEA7467C1C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8000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9933"/>
                </a:solidFill>
                <a:latin typeface="Times New Roman"/>
              </a:rPr>
              <a:t>Empresario Dema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9933"/>
                </a:solidFill>
                <a:latin typeface="Times New Roman"/>
              </a:rPr>
              <a:t>Cont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9933"/>
                </a:solidFill>
                <a:latin typeface="Times New Roman"/>
              </a:rPr>
              <a:t>Im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9933"/>
                </a:solidFill>
                <a:latin typeface="Times New Roman"/>
              </a:rPr>
              <a:t>Sueldos - Previ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Profesional Ofre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m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eldos - Previ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DB47-9531-4CBB-8E28-ECA37CC7FE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 flipH="1">
            <a:off x="5028840" y="1905120"/>
            <a:ext cx="2057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952520" y="1905120"/>
            <a:ext cx="2133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190760" y="1828800"/>
            <a:ext cx="2819160" cy="914400"/>
          </a:xfrm>
          <a:prstGeom prst="line">
            <a:avLst/>
          </a:prstGeom>
          <a:ln w="93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334120" y="2286000"/>
            <a:ext cx="1752480" cy="762120"/>
          </a:xfrm>
          <a:prstGeom prst="line">
            <a:avLst/>
          </a:prstGeom>
          <a:ln w="93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267080" y="3581280"/>
            <a:ext cx="2895840" cy="685800"/>
          </a:xfrm>
          <a:prstGeom prst="line">
            <a:avLst/>
          </a:prstGeom>
          <a:ln w="93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2133720"/>
            <a:ext cx="961920" cy="914400"/>
          </a:xfrm>
          <a:prstGeom prst="star5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2743200"/>
            <a:ext cx="609480" cy="457200"/>
          </a:xfrm>
          <a:prstGeom prst="star5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886200"/>
            <a:ext cx="961920" cy="914400"/>
          </a:xfrm>
          <a:prstGeom prst="star5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4114800"/>
            <a:ext cx="761760" cy="609480"/>
          </a:xfrm>
          <a:prstGeom prst="star5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4419720"/>
            <a:ext cx="457200" cy="457200"/>
          </a:xfrm>
          <a:prstGeom prst="star5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4343400"/>
            <a:ext cx="685800" cy="609480"/>
          </a:xfrm>
          <a:custGeom>
            <a:avLst/>
            <a:gdLst>
              <a:gd name="textAreaLeft" fmla="*/ 282600 w 685800"/>
              <a:gd name="textAreaRight" fmla="*/ 403200 w 68580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4114800"/>
            <a:ext cx="685800" cy="838080"/>
          </a:xfrm>
          <a:custGeom>
            <a:avLst/>
            <a:gdLst>
              <a:gd name="textAreaLeft" fmla="*/ 282600 w 685800"/>
              <a:gd name="textAreaRight" fmla="*/ 403200 w 68580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352680"/>
            <a:ext cx="609480" cy="228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895480"/>
            <a:ext cx="533160" cy="228600"/>
          </a:xfrm>
          <a:custGeom>
            <a:avLst/>
            <a:gdLst>
              <a:gd name="textAreaLeft" fmla="*/ 219600 w 533160"/>
              <a:gd name="textAreaRight" fmla="*/ 313560 w 53316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4038480"/>
            <a:ext cx="533160" cy="228600"/>
          </a:xfrm>
          <a:custGeom>
            <a:avLst/>
            <a:gdLst>
              <a:gd name="textAreaLeft" fmla="*/ 219600 w 533160"/>
              <a:gd name="textAreaRight" fmla="*/ 313560 w 53316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24080"/>
            <a:ext cx="6094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3048120"/>
            <a:ext cx="304920" cy="457200"/>
          </a:xfrm>
          <a:prstGeom prst="star5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E07677_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1181160" cy="118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0199-1786-47F8-90C0-9BE906F49D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8000"/>
                </a:solidFill>
                <a:latin typeface="Times New Roman"/>
              </a:rPr>
              <a:t>Trabajo de Investigación</a:t>
            </a:r>
            <a:br>
              <a:rPr sz="4400"/>
            </a:br>
            <a:r>
              <a:rPr b="0" lang="es-ES_tradnl" sz="4400" spc="-1" strike="noStrike">
                <a:solidFill>
                  <a:srgbClr val="808000"/>
                </a:solidFill>
                <a:latin typeface="Times New Roman"/>
              </a:rPr>
              <a:t> de la Cátedra</a:t>
            </a:r>
            <a:br>
              <a:rPr sz="4400"/>
            </a:br>
            <a:r>
              <a:rPr b="0" lang="es-ES_tradnl" sz="3200" spc="-1" strike="noStrike">
                <a:solidFill>
                  <a:srgbClr val="808000"/>
                </a:solidFill>
                <a:latin typeface="Times New Roman"/>
              </a:rPr>
              <a:t>(Profesores y Alumnos)</a:t>
            </a:r>
            <a:br>
              <a:rPr sz="3200"/>
            </a:br>
            <a:br>
              <a:rPr sz="3200"/>
            </a:br>
            <a:r>
              <a:rPr b="0" lang="es-ES_tradnl" sz="4400" spc="-1" strike="noStrike">
                <a:solidFill>
                  <a:srgbClr val="808000"/>
                </a:solidFill>
                <a:latin typeface="Times New Roman"/>
              </a:rPr>
              <a:t> Seminario de Aplicación Profesional</a:t>
            </a:r>
            <a:br>
              <a:rPr sz="4400"/>
            </a:br>
            <a:r>
              <a:rPr b="0" lang="es-ES_tradnl" sz="4400" spc="-1" strike="noStrike">
                <a:solidFill>
                  <a:srgbClr val="808000"/>
                </a:solidFill>
                <a:latin typeface="Times New Roman"/>
              </a:rPr>
              <a:t> Administrativo Contable  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808000"/>
                </a:solidFill>
                <a:latin typeface="Times New Roman"/>
              </a:rPr>
              <a:t>2004</a:t>
            </a:r>
            <a:br>
              <a:rPr sz="4400"/>
            </a:br>
            <a:r>
              <a:rPr b="0" lang="es-ES_tradnl" sz="4400" spc="-1" strike="noStrike">
                <a:solidFill>
                  <a:srgbClr val="808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3330-38EC-4EA2-9A05-FD8CB61CBC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0" y="0"/>
          <a:ext cx="9144000" cy="610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10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657600" y="2133720"/>
            <a:ext cx="685800" cy="457200"/>
          </a:xfrm>
          <a:prstGeom prst="star5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2438280"/>
            <a:ext cx="685800" cy="457200"/>
          </a:xfrm>
          <a:prstGeom prst="star5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2520" y="3962520"/>
            <a:ext cx="685800" cy="457200"/>
          </a:xfrm>
          <a:prstGeom prst="star5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4114800"/>
            <a:ext cx="685800" cy="457200"/>
          </a:xfrm>
          <a:prstGeom prst="star5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4267080"/>
            <a:ext cx="304920" cy="228600"/>
          </a:xfrm>
          <a:prstGeom prst="star5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2438280"/>
            <a:ext cx="304920" cy="228600"/>
          </a:xfrm>
          <a:prstGeom prst="star5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3276720"/>
            <a:ext cx="304920" cy="228600"/>
          </a:xfrm>
          <a:prstGeom prst="star5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733920"/>
            <a:ext cx="304920" cy="228600"/>
          </a:xfrm>
          <a:prstGeom prst="star5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4191120"/>
            <a:ext cx="609840" cy="609480"/>
          </a:xfrm>
          <a:prstGeom prst="irregularSeal2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733920"/>
            <a:ext cx="609480" cy="609480"/>
          </a:xfrm>
          <a:prstGeom prst="irregularSeal2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2666880"/>
            <a:ext cx="457200" cy="304920"/>
          </a:xfrm>
          <a:prstGeom prst="irregularSeal2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743200"/>
            <a:ext cx="457200" cy="304920"/>
          </a:xfrm>
          <a:prstGeom prst="irregularSeal2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3429000"/>
            <a:ext cx="457200" cy="304920"/>
          </a:xfrm>
          <a:prstGeom prst="irregularSeal2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E07677_" descr=""/>
          <p:cNvPicPr/>
          <p:nvPr/>
        </p:nvPicPr>
        <p:blipFill>
          <a:blip r:embed="rId3"/>
          <a:stretch/>
        </p:blipFill>
        <p:spPr>
          <a:xfrm>
            <a:off x="2362320" y="1143000"/>
            <a:ext cx="952560" cy="955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flipH="1">
            <a:off x="4647960" y="1447920"/>
            <a:ext cx="2514600" cy="838080"/>
          </a:xfrm>
          <a:prstGeom prst="line">
            <a:avLst/>
          </a:prstGeom>
          <a:ln w="9360">
            <a:solidFill>
              <a:srgbClr val="6666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714640" y="1905120"/>
            <a:ext cx="1523880" cy="685800"/>
          </a:xfrm>
          <a:prstGeom prst="line">
            <a:avLst/>
          </a:prstGeom>
          <a:ln w="9360">
            <a:solidFill>
              <a:srgbClr val="6666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114800" y="3276720"/>
            <a:ext cx="3124080" cy="533160"/>
          </a:xfrm>
          <a:prstGeom prst="line">
            <a:avLst/>
          </a:prstGeom>
          <a:ln w="9360">
            <a:solidFill>
              <a:srgbClr val="6666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C7A9-523A-4616-A7F7-8C3DD5EE8E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8000"/>
                </a:solidFill>
                <a:latin typeface="Times New Roman"/>
              </a:rPr>
              <a:t>Valor desperdiciado por la PYM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* Finanzas * Costos *Presupuestos * Normas * Procedimientos * Manuales * Proyectos de Inversión  * Análisis de Flujos de Fondos * Análisis Macroeconómicos * Análisis Microeconómicos * Proyectos de Inversión * Estrategias * Gestión de Cobranzas * Análisis de Rentabilidad  * Estados Patrimoniales Proyectados * Beneficios Fiscales * Beneficios Sectoriales * Consorcios de Exportación * Data Mining *  SSEPYMEYDR * FOGAPYME * SGR * ON * Cotización en Bolsa * PRE * Crédito Fiscal * UTE * ACE * INTI * CFI * IDEB * Negociación * Mediación * Balanced Scorecard * Valuación de Empresa * Cartera de Inversiones * CPM * APM * Opciones * Valor de la Firma * ECO * EVA * Adm Capital de Trabajo * Adm.  Ctas a Cobrar * Adm. Inventarios * Delegación * Departamentalización * Organigramas * Circuitos Administrativos * PERT * Gantt * Árboles de Decisión * Planeamiento Estratégico * Tablero de Comando * FODA * Capital Humano * Valor Social * Responsabilidad Social Empresaria *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c...,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c...,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etc..,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,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,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,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,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,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,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,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05BF-751C-4412-A601-62090FD85D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fffcc"/>
                </a:solidFill>
                <a:latin typeface="Times New Roman"/>
              </a:rPr>
              <a:t>RRdL</a:t>
            </a:r>
            <a:br>
              <a:rPr sz="9600"/>
            </a:br>
            <a:r>
              <a:rPr b="0" lang="es-ES_tradnl" sz="9600" spc="-1" strike="noStrike">
                <a:solidFill>
                  <a:srgbClr val="808000"/>
                </a:solidFill>
                <a:latin typeface="Times New Roman"/>
              </a:rPr>
              <a:t>      </a:t>
            </a:r>
            <a:r>
              <a:rPr b="0" lang="es-ES_tradnl" sz="4400" spc="-1" strike="noStrike">
                <a:solidFill>
                  <a:srgbClr val="808000"/>
                </a:solidFill>
                <a:latin typeface="Times New Roman"/>
              </a:rPr>
              <a:t>Raúl R. di Lorenzo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rdl@ciudad.com.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9480-5A4E-47D7-9F7B-6D31F5849A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362320"/>
            <a:ext cx="2666880" cy="236196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mpres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2200" y="2286000"/>
            <a:ext cx="2666880" cy="251460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fe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3048120"/>
            <a:ext cx="1752840" cy="380880"/>
          </a:xfrm>
          <a:prstGeom prst="rightArrow">
            <a:avLst>
              <a:gd name="adj1" fmla="val 50000"/>
              <a:gd name="adj2" fmla="val 11505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3809880"/>
            <a:ext cx="1676520" cy="381240"/>
          </a:xfrm>
          <a:prstGeom prst="rightArrow">
            <a:avLst>
              <a:gd name="adj1" fmla="val 50000"/>
              <a:gd name="adj2" fmla="val 109939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1752480"/>
            <a:ext cx="7010280" cy="609840"/>
          </a:xfrm>
          <a:prstGeom prst="rightArrow">
            <a:avLst>
              <a:gd name="adj1" fmla="val 50000"/>
              <a:gd name="adj2" fmla="val 287382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1066680"/>
            <a:ext cx="6933960" cy="609840"/>
          </a:xfrm>
          <a:prstGeom prst="rightArrow">
            <a:avLst>
              <a:gd name="adj1" fmla="val 50000"/>
              <a:gd name="adj2" fmla="val 284253"/>
            </a:avLst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8000"/>
                </a:solidFill>
                <a:latin typeface="Times New Roman"/>
              </a:rPr>
              <a:t>Demanda Empresario                          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87B6-DFA3-4DC9-9727-8F65E10D6C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362320"/>
            <a:ext cx="2666880" cy="236196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mpres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2286000"/>
            <a:ext cx="2666880" cy="251460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fe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30481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1676520" cy="457200"/>
          </a:xfrm>
          <a:prstGeom prst="leftArrow">
            <a:avLst>
              <a:gd name="adj1" fmla="val 50000"/>
              <a:gd name="adj2" fmla="val 9167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876920"/>
            <a:ext cx="7543800" cy="533160"/>
          </a:xfrm>
          <a:prstGeom prst="leftArrow">
            <a:avLst>
              <a:gd name="adj1" fmla="val 50000"/>
              <a:gd name="adj2" fmla="val 353731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8000"/>
                </a:solidFill>
                <a:latin typeface="Times New Roman"/>
              </a:rPr>
              <a:t>Conocimiento Profesional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1F2A-35D7-4DF7-BA42-D4B055863D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362320"/>
            <a:ext cx="2666880" cy="236196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mpres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2286000"/>
            <a:ext cx="2666880" cy="251460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fe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3048120"/>
            <a:ext cx="1752840" cy="380880"/>
          </a:xfrm>
          <a:prstGeom prst="rightArrow">
            <a:avLst>
              <a:gd name="adj1" fmla="val 50000"/>
              <a:gd name="adj2" fmla="val 11505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30481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3809880"/>
            <a:ext cx="1676520" cy="381240"/>
          </a:xfrm>
          <a:prstGeom prst="rightArrow">
            <a:avLst>
              <a:gd name="adj1" fmla="val 50000"/>
              <a:gd name="adj2" fmla="val 109939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809880"/>
            <a:ext cx="1676520" cy="457200"/>
          </a:xfrm>
          <a:prstGeom prst="leftArrow">
            <a:avLst>
              <a:gd name="adj1" fmla="val 50000"/>
              <a:gd name="adj2" fmla="val 9167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1752480"/>
            <a:ext cx="7010280" cy="609840"/>
          </a:xfrm>
          <a:prstGeom prst="rightArrow">
            <a:avLst>
              <a:gd name="adj1" fmla="val 50000"/>
              <a:gd name="adj2" fmla="val 287382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1066680"/>
            <a:ext cx="6933960" cy="609840"/>
          </a:xfrm>
          <a:prstGeom prst="rightArrow">
            <a:avLst>
              <a:gd name="adj1" fmla="val 50000"/>
              <a:gd name="adj2" fmla="val 284253"/>
            </a:avLst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876920"/>
            <a:ext cx="7543800" cy="533160"/>
          </a:xfrm>
          <a:prstGeom prst="leftArrow">
            <a:avLst>
              <a:gd name="adj1" fmla="val 50000"/>
              <a:gd name="adj2" fmla="val 353731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8000"/>
                </a:solidFill>
                <a:latin typeface="Times New Roman"/>
              </a:rPr>
              <a:t>Demanda                           Ofert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250E-A16E-4135-BF9D-A1E9D13010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362320"/>
            <a:ext cx="2666880" cy="236196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2286000"/>
            <a:ext cx="2666880" cy="251460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fe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3809880"/>
            <a:ext cx="1676520" cy="457200"/>
          </a:xfrm>
          <a:prstGeom prst="leftArrow">
            <a:avLst>
              <a:gd name="adj1" fmla="val 50000"/>
              <a:gd name="adj2" fmla="val 9167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1752480"/>
            <a:ext cx="7010280" cy="609840"/>
          </a:xfrm>
          <a:prstGeom prst="rightArrow">
            <a:avLst>
              <a:gd name="adj1" fmla="val 50000"/>
              <a:gd name="adj2" fmla="val 287382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876920"/>
            <a:ext cx="7543800" cy="533160"/>
          </a:xfrm>
          <a:prstGeom prst="leftArrow">
            <a:avLst>
              <a:gd name="adj1" fmla="val 50000"/>
              <a:gd name="adj2" fmla="val 353731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08000"/>
                </a:solidFill>
                <a:latin typeface="Times New Roman"/>
              </a:rPr>
              <a:t>Participación Institución Formadora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35A-D71B-4DC5-B605-D9877B6A3F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8000"/>
                </a:solidFill>
                <a:latin typeface="Times New Roman"/>
              </a:rPr>
              <a:t>100 Empresas Pym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676520"/>
          <a:ext cx="457200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45720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648320" y="1676520"/>
          <a:ext cx="4495680" cy="4190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676520"/>
                    <a:ext cx="449568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B7BF-81AD-4770-9538-55C0AB9543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8000"/>
                </a:solidFill>
                <a:latin typeface="Times New Roman"/>
              </a:rPr>
              <a:t>100 Profesional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0" y="1600200"/>
          <a:ext cx="4419720" cy="243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44197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343400" y="1600200"/>
          <a:ext cx="4800600" cy="2514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1600200"/>
                    <a:ext cx="48006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0" y="3962520"/>
          <a:ext cx="4419720" cy="2286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962520"/>
                    <a:ext cx="44197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343400" y="4038480"/>
          <a:ext cx="4800600" cy="22100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4038480"/>
                    <a:ext cx="480060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B0C3-48A0-48E3-BB1B-9D781BEA3C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0" lang="es-ES_tradnl" sz="6000" spc="-1" strike="noStrike">
                <a:solidFill>
                  <a:srgbClr val="808000"/>
                </a:solidFill>
                <a:latin typeface="Times New Roman"/>
              </a:rPr>
              <a:t>Empresa</a:t>
            </a:r>
            <a:endParaRPr b="0" lang="en-US" sz="6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RdL - VIII Congreso PYME                                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31A5-3D36-4428-9B29-5AB3138DF8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17:01:55Z</dcterms:created>
  <dc:creator>Mirta Norma De Andreis de di </dc:creator>
  <dc:description/>
  <dc:language>en-US</dc:language>
  <cp:lastModifiedBy>C.P.C.E.C.A.B.A.</cp:lastModifiedBy>
  <dcterms:modified xsi:type="dcterms:W3CDTF">2004-10-13T13:27:27Z</dcterms:modified>
  <cp:revision>37</cp:revision>
  <dc:subject/>
  <dc:title>VIII Congreso de la Pequeña y Mediana Empresa   “PyMEs 2004: Su reinserción después de la crisis” </dc:title>
</cp:coreProperties>
</file>