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91C-36A9-4DCB-BF74-FA2AD72E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446-B0AD-43F8-BEDC-F8591C7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CF6-D141-4DAD-A990-20014DA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91E-A4E3-4222-9332-E3FF871A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BCC-6849-4DBB-A49C-5F1D1942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95BD-1573-4C4E-9A44-195E4D13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12A4-EA2C-4512-853F-B11FC96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03DA-4E78-49D4-9A56-2A66C74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2FC8-1943-4F7C-8E29-9C82E6B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80D-6F97-4906-BF77-42FDA21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E37D-4730-4137-9B07-B50B7EBC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C90-2C0C-417E-8347-6AB1B37F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F51B-E685-4AF5-A9D2-B68C58B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6CD5-F1B7-41F1-A350-C87B0F7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7F46-2ABA-44BC-B614-08D65BA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A3D9-62B4-4E30-98DA-48DF342E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52B0-A90C-4D07-BCB6-0466CBD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247-DD70-47F5-8965-5814EB2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123-4F6A-487A-AA51-BDD0714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94E-AC72-4F0D-820A-F10794DA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DD7-D260-4AC3-AA35-9EC5F67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635-C931-4569-AD26-C127920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FEF-3EDD-4F83-8958-4D437A4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798-ED48-4BD4-930B-3E03DFB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badi MT Condensed Light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865-529B-4EE2-A1A8-D7EFE832B0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badi MT Condensed Light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badi MT Condensed Light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7C1-2A7C-48F4-8F98-662E74B483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badi MT Condensed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ECONOMIA DE LAS INFOCOMUNICACIONES</a:t>
            </a:r>
            <a:br>
              <a:rPr sz="3200"/>
            </a:b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EN LAS PyMES </a:t>
            </a:r>
            <a:br>
              <a:rPr sz="3200"/>
            </a:br>
            <a:br>
              <a:rPr sz="2400"/>
            </a:b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05120"/>
            <a:ext cx="2819520" cy="2666880"/>
          </a:xfrm>
          <a:prstGeom prst="ellips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20040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badi MT Condensed Light"/>
              </a:rPr>
              <a:t>300 mil nuevas páginas  web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badi MT Condensed Light"/>
              </a:rPr>
              <a:t>por semana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5" name=""/>
          <p:cNvSpPr/>
          <p:nvPr/>
        </p:nvSpPr>
        <p:spPr>
          <a:xfrm>
            <a:off x="1301040" y="2438280"/>
            <a:ext cx="295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Abadi MT Condensed Light"/>
              </a:rPr>
              <a:t>World Wide Web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Abadi MT Condensed Light"/>
              </a:rPr>
              <a:t>Nuevo Mercado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1905120"/>
            <a:ext cx="2819520" cy="2666880"/>
          </a:xfrm>
          <a:prstGeom prst="ellipse">
            <a:avLst/>
          </a:prstGeom>
          <a:solidFill>
            <a:srgbClr val="33cccc">
              <a:alpha val="50000"/>
            </a:srgbClr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7" name=""/>
          <p:cNvSpPr/>
          <p:nvPr/>
        </p:nvSpPr>
        <p:spPr>
          <a:xfrm>
            <a:off x="4897440" y="228600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badi MT Condensed Light"/>
              </a:rPr>
              <a:t>Componentes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Software ( navegadores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31240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badi MT Condensed Light"/>
              </a:rPr>
              <a:t>Protocol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5258160" y="35812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badi MT Condensed Light"/>
              </a:rPr>
              <a:t>Conveni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648320"/>
            <a:ext cx="79488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badi MT Condensed Light"/>
              </a:rPr>
              <a:t>Economía de las infocomunicaciones: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Abadi MT Condensed Light"/>
              </a:rPr>
              <a:t>Uso de tecnologías de información y telecomunicación  entre empresas  o entre éstas y consumidores y/o la administración pública para el comercio de bienes y servicios. Reduce costos, garantiza calidad y rápida entrega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MERCADOS ELECTRONICOS</a:t>
            </a:r>
            <a:r>
              <a:rPr b="1" lang="es-ES" sz="3200" spc="-1" strike="noStrike">
                <a:solidFill>
                  <a:srgbClr val="ff9933"/>
                </a:solidFill>
                <a:latin typeface="Abadi MT Condensed Light"/>
              </a:rPr>
              <a:t> 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60440"/>
            <a:ext cx="8686800" cy="9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Estructura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xisten tres nivel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ecanismo de acceso: desde el hogar mediante empresas que proveen el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servicio de Internet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edios: servicios relacionados a las etapas de la compra (oferta, catálogo,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mpra y pago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“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iddleware”: servicios de la red que fortalecen la infraestructura de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formación: Autentificación de usuarios; control de acceso; directorios;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algoritmos contables; mecanismos de pago electrónic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tranet: aplicaciones disponibles mediante una red Internet protegid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Expansión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anales de venta de fuente simple: un proveedor y muchos comprador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mpacto de las cadenas de valor entre empresas: oportunidades par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ejorar la competitividad. Ej: Iniciativa del NAFTA para desarrollar el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mercio electrónico (www.cenn.nafta.com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isminución del margen de beneficio: el paso de canales de venta de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fuente simple a mercados electrónicos puede significar pérdida del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árgen de beneficio. En especial en el caso de mercados oligopólicos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CADENAS DE VALOR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914400"/>
            <a:ext cx="8686800" cy="88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Cadena tradicional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ternet altera la relación productor-mayorista-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inorista-consumidor porque éste accede ahora a varios proveedores a travé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e un intermediario y por lo tanto puede pagar un precio menor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Oportunidades ofrecidas por Internet: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Productores de información (libros, peródicos, películas, música). Ej.Tunes.com (200 M CD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e incluso escuchar música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Productores de bienes físicos: incluye los que se venden mediante catálogo y aquellos que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la informática permite simplificar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Minoristas electrónicos: diferenciados por especialidad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Mercados electrónicos: expandidos por intermediarios que incluyen viajes, finanzas y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 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segmentos especiales. Ej. www.travelocity.com (370 aerolíneas y 28 M hoteles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Redes físicas de distribución: desde el fabricante al consumidor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Canales electrónicos: cable; teléfono fijo; telefonía móvil y empresas de servicio eléctric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  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que proporcionan acceso a los hogar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Mecanismo de elección de mercado: La empresa NCD ofrece “Net work device” a travé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de www.ncd.com. Otro servicio ofrecido es WebTV deMicrosoft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Cambios en la conducta del consumidon. Ej.  www.epicurious.com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-609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CIBERMEDIARIOS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8915400" cy="88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Directorios: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lasifican las instalaciones en la Web y facilitan la navegación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Generales: Amplio catálogo de sitios web. Ej. www.yahoo.c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merciales: Equivalen a los editores de guías. Ej.www.globalcom.es/indice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specializados: Información temátic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Servicios de búsqueda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realizar búsquedas en base a palabras clave. Ej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www.altavista.digital com . Ej: www.goggler.c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Centros comerciales: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nceden un espacio al minorista a cambio de un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alquiler o comisión sobre las venta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Editoriales</a:t>
            </a: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: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Ej. blackwellpub.c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Revendedores virtuales</a:t>
            </a: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: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Ej www.filewine.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Evaluadores de sitios Web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j www.100hot.c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Auditores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Foros, clubes de aficionados y grupos de usuarios</a:t>
            </a: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.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Ej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www.coches.net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Intermediarios financieros: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autorizan o realizan pagos electrónic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Redes de trueque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j www.digigrup.c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Agentes inteligentes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optimizan la búsqueda en base al criteri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proporcionado por el cliente. Ej www.de.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lnSpc>
                <a:spcPct val="80000"/>
              </a:lnSpc>
              <a:buClr>
                <a:srgbClr val="ff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RELACIONES ENTRE COMPRADORES Y VENDEDORES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914400"/>
            <a:ext cx="2819520" cy="15238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BUSINESS TO BUSINES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4" name=""/>
          <p:cNvSpPr/>
          <p:nvPr/>
        </p:nvSpPr>
        <p:spPr>
          <a:xfrm>
            <a:off x="578520" y="175248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Redes entre empresas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a través de EDI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438280"/>
            <a:ext cx="457200" cy="838440"/>
          </a:xfrm>
          <a:prstGeom prst="downArrow">
            <a:avLst>
              <a:gd name="adj1" fmla="val 50000"/>
              <a:gd name="adj2" fmla="val 45846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6" name=""/>
          <p:cNvSpPr/>
          <p:nvPr/>
        </p:nvSpPr>
        <p:spPr>
          <a:xfrm>
            <a:off x="32400" y="342900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Mercado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electrónic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51460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8" name=""/>
          <p:cNvSpPr/>
          <p:nvPr/>
        </p:nvSpPr>
        <p:spPr>
          <a:xfrm>
            <a:off x="1864440" y="3505320"/>
            <a:ext cx="14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Jerarquía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electrónica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1523880"/>
            <a:ext cx="2666880" cy="16765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USTOMER TO BUSINES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Relaciones entre particulares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y empresas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0" name=""/>
          <p:cNvSpPr/>
          <p:nvPr/>
        </p:nvSpPr>
        <p:spPr>
          <a:xfrm>
            <a:off x="-376200" y="4724280"/>
            <a:ext cx="26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Lantel. RRHH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Ej. www.tabajos.com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1" name=""/>
          <p:cNvSpPr/>
          <p:nvPr/>
        </p:nvSpPr>
        <p:spPr>
          <a:xfrm>
            <a:off x="1314360" y="5181480"/>
            <a:ext cx="31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General Electric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rading Process Network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(www.ge.com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12408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3" name=""/>
          <p:cNvSpPr/>
          <p:nvPr/>
        </p:nvSpPr>
        <p:spPr>
          <a:xfrm>
            <a:off x="3762000" y="335268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omercio personalizad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324480" y="2895480"/>
            <a:ext cx="685800" cy="5335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581280"/>
            <a:ext cx="533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657600"/>
            <a:ext cx="609840" cy="5335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7" name=""/>
          <p:cNvSpPr/>
          <p:nvPr/>
        </p:nvSpPr>
        <p:spPr>
          <a:xfrm>
            <a:off x="6880680" y="274320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Estátic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8" name=""/>
          <p:cNvSpPr/>
          <p:nvPr/>
        </p:nvSpPr>
        <p:spPr>
          <a:xfrm>
            <a:off x="6832440" y="3352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Dinámic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69" name=""/>
          <p:cNvSpPr/>
          <p:nvPr/>
        </p:nvSpPr>
        <p:spPr>
          <a:xfrm>
            <a:off x="6897600" y="39625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Mixt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4191120"/>
            <a:ext cx="3200400" cy="190476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1" name=""/>
          <p:cNvSpPr/>
          <p:nvPr/>
        </p:nvSpPr>
        <p:spPr>
          <a:xfrm>
            <a:off x="4283640" y="4572000"/>
            <a:ext cx="32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USTOMER TO BUSINES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WITHIN BUSINES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Del cliente a la empresa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y entre empresa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4800600"/>
            <a:ext cx="380880" cy="762120"/>
          </a:xfrm>
          <a:custGeom>
            <a:avLst/>
            <a:gdLst>
              <a:gd name="textAreaLeft" fmla="*/ 50760 w 380880"/>
              <a:gd name="textAreaRight" fmla="*/ 330120 w 38088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3" name=""/>
          <p:cNvSpPr/>
          <p:nvPr/>
        </p:nvSpPr>
        <p:spPr>
          <a:xfrm>
            <a:off x="7132680" y="43434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Universo Web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4" name=""/>
          <p:cNvSpPr/>
          <p:nvPr/>
        </p:nvSpPr>
        <p:spPr>
          <a:xfrm>
            <a:off x="6267600" y="5851440"/>
            <a:ext cx="331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Redes EDI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ctra (GEIS+Netscape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SAI (www.tsai.es/ediweb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11480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26708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77" name=""/>
          <p:cNvSpPr/>
          <p:nvPr/>
        </p:nvSpPr>
        <p:spPr>
          <a:xfrm rot="17317200">
            <a:off x="5855400" y="58834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NUEVAS ORGANIZACIONES DE EMPRESAS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90720"/>
            <a:ext cx="1905120" cy="16002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badi MT Condensed Light"/>
              </a:rPr>
              <a:t>RED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91440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1" name=""/>
          <p:cNvSpPr/>
          <p:nvPr/>
        </p:nvSpPr>
        <p:spPr>
          <a:xfrm>
            <a:off x="1831320" y="83808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Estructura  de coordinación alternativa al mercado y a la empresa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600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3" name=""/>
          <p:cNvSpPr/>
          <p:nvPr/>
        </p:nvSpPr>
        <p:spPr>
          <a:xfrm>
            <a:off x="902160" y="1523880"/>
            <a:ext cx="93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Modo de intercambio no es el precio ni la supervisión: interdependencia      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        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Foros; News groups; etc.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2133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5" name=""/>
          <p:cNvSpPr/>
          <p:nvPr/>
        </p:nvSpPr>
        <p:spPr>
          <a:xfrm>
            <a:off x="1893960" y="2057400"/>
            <a:ext cx="71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Tensión entre autonomía e interdependencia; lealtad al equipo e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individualidad; rivalidad y colaboración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6" name=""/>
          <p:cNvSpPr/>
          <p:nvPr/>
        </p:nvSpPr>
        <p:spPr>
          <a:xfrm>
            <a:off x="1540440" y="3505320"/>
            <a:ext cx="62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ORGANIZACIÓN DE LAS REDES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4038480"/>
            <a:ext cx="1524240" cy="45720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1489320" y="4114800"/>
            <a:ext cx="68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Relaciones horizontales: las empresas compiten entre sí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64832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4648320"/>
            <a:ext cx="687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Relaciones verticales: las empresas se ubican una tras otra en una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secuencia de valor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2" name=""/>
          <p:cNvSpPr/>
          <p:nvPr/>
        </p:nvSpPr>
        <p:spPr>
          <a:xfrm>
            <a:off x="1297440" y="5410080"/>
            <a:ext cx="831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Relaciones de simbiosis: las empresas ofrecen productos y servicios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omplementario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7432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2666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La comunicación crea relaciones: los participantes crean y comparten información. Ej: www.colgado.com (revista electrónica de Internet) o MyNews.es (para crear periódicos personales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9051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ESTRATEGIAS PARA EL DESARROLLO DE REDES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295280"/>
            <a:ext cx="1143000" cy="3812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8" name=""/>
          <p:cNvSpPr/>
          <p:nvPr/>
        </p:nvSpPr>
        <p:spPr>
          <a:xfrm>
            <a:off x="543240" y="1295280"/>
            <a:ext cx="93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badi MT Condensed Light"/>
              </a:rPr>
              <a:t>Cooperativa:</a:t>
            </a: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 negociaciones entre los actores de una red. Resultado: un compromiso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828800"/>
            <a:ext cx="1143000" cy="3808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0" name=""/>
          <p:cNvSpPr/>
          <p:nvPr/>
        </p:nvSpPr>
        <p:spPr>
          <a:xfrm>
            <a:off x="715680" y="1828800"/>
            <a:ext cx="80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badi MT Condensed Light"/>
              </a:rPr>
              <a:t>Ruptura:</a:t>
            </a: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 se busca debilitar la posición de algunos otros actores en la red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362320"/>
            <a:ext cx="1143000" cy="409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2" name=""/>
          <p:cNvSpPr/>
          <p:nvPr/>
        </p:nvSpPr>
        <p:spPr>
          <a:xfrm>
            <a:off x="478440" y="2362320"/>
            <a:ext cx="9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badi MT Condensed Light"/>
              </a:rPr>
              <a:t>Manipulación:</a:t>
            </a: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 pretenden realizar cambios en la red y en sus prioridades mediante la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badi MT Condensed Light"/>
              </a:rPr>
              <a:t>manipulación de sus recursos y eliminar actores de la cadena de valor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048120"/>
            <a:ext cx="1143000" cy="409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4" name=""/>
          <p:cNvSpPr/>
          <p:nvPr/>
        </p:nvSpPr>
        <p:spPr>
          <a:xfrm>
            <a:off x="627120" y="312408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Autoritaria: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utilizada por un actor predominante que controla los recursos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5" name=""/>
          <p:cNvSpPr/>
          <p:nvPr/>
        </p:nvSpPr>
        <p:spPr>
          <a:xfrm>
            <a:off x="2646000" y="52848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6" name=""/>
          <p:cNvSpPr/>
          <p:nvPr/>
        </p:nvSpPr>
        <p:spPr>
          <a:xfrm>
            <a:off x="2115720" y="5589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7" name=""/>
          <p:cNvSpPr/>
          <p:nvPr/>
        </p:nvSpPr>
        <p:spPr>
          <a:xfrm>
            <a:off x="1342440" y="53341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D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8" name=""/>
          <p:cNvSpPr/>
          <p:nvPr/>
        </p:nvSpPr>
        <p:spPr>
          <a:xfrm>
            <a:off x="1134000" y="4675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E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038480"/>
            <a:ext cx="2361960" cy="22100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PARTES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INTEGRANT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800600"/>
            <a:ext cx="1600200" cy="137160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TERCER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3657600"/>
            <a:ext cx="4800600" cy="2971800"/>
          </a:xfrm>
          <a:prstGeom prst="ellipse">
            <a:avLst/>
          </a:prstGeom>
          <a:noFill/>
          <a:ln cap="rnd" w="1260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2" name=""/>
          <p:cNvSpPr/>
          <p:nvPr/>
        </p:nvSpPr>
        <p:spPr>
          <a:xfrm>
            <a:off x="-242640" y="3505320"/>
            <a:ext cx="60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badi MT Condensed Light"/>
              </a:rPr>
              <a:t>POSIBLES</a:t>
            </a:r>
            <a:r>
              <a:rPr b="0" lang="en-US" sz="1800" spc="-1" strike="noStrike">
                <a:solidFill>
                  <a:srgbClr val="ff9933"/>
                </a:solidFill>
                <a:latin typeface="Abadi MT Condensed Light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badi MT Condensed Light"/>
              </a:rPr>
              <a:t>CONFIGURACIONES</a:t>
            </a:r>
            <a:r>
              <a:rPr b="0" lang="en-US" sz="1800" spc="-1" strike="noStrike">
                <a:solidFill>
                  <a:srgbClr val="ff9933"/>
                </a:solidFill>
                <a:latin typeface="Abadi MT Condensed Light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badi MT Condensed Light"/>
              </a:rPr>
              <a:t>DE LA RED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5105520"/>
            <a:ext cx="457200" cy="533160"/>
          </a:xfrm>
          <a:prstGeom prst="ellipse">
            <a:avLst/>
          </a:prstGeom>
          <a:solidFill>
            <a:srgbClr val="ff9933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5486400"/>
            <a:ext cx="457200" cy="609480"/>
          </a:xfrm>
          <a:prstGeom prst="ellipse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257800"/>
            <a:ext cx="685800" cy="533520"/>
          </a:xfrm>
          <a:prstGeom prst="ellipse">
            <a:avLst/>
          </a:prstGeom>
          <a:solidFill>
            <a:srgbClr val="cc0066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4495680"/>
            <a:ext cx="533160" cy="60984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962520"/>
            <a:ext cx="2667240" cy="251460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8" name=""/>
          <p:cNvSpPr/>
          <p:nvPr/>
        </p:nvSpPr>
        <p:spPr>
          <a:xfrm>
            <a:off x="2031480" y="4400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badi MT Condensed Light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4343400"/>
            <a:ext cx="533160" cy="53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OFERTA EECECTRONICA DE COMERCIO INTERNACIONAL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E-Mail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Newsgroups: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foros de discusión de Usenet  (User’s Network) para promocionar oportunidades de M/X de productos y servicios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39000" indent="-245520">
              <a:spcBef>
                <a:spcPts val="499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lt.business.import-export (computer; consumables; food; raw-material; services; offshore); cdb;foreing; clari.biz.tradeshows.releases; biz.marketplace.international; relcom.wtc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spcBef>
                <a:spcPts val="7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Mailing Lists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39000" indent="-245520"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Tradewinds: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Opp Types para diferentes oportunidades comerciales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39000" indent="-245520"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Trade Net World Service: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www.TradeNet.org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39000" indent="-245520"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UNTPDC: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United Nations Trade Point Development Centre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( www.unicc.org/untpdec/welcome) Centro de e-Comercio más importante que reúne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 7 Mio de empresas participantes de los ETO (Electronic Trading Opportunity) y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distribuye 4/5 Mio de oportunidades comerciales por día. En 1997 registró 40 Mio de                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ccesos mensuales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COMERCIO INTERNACIONAL ELECTRONICO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El servicio combina 80 servidores en 65 países con el sistema ETO y el UNTPDC Internet Incubator. Las formas de ETO son: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98400" indent="-268560">
              <a:spcBef>
                <a:spcPts val="499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ETO mailing list  y Foros ET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98400" indent="-268560">
              <a:spcBef>
                <a:spcPts val="700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News groups de ETO (ETO Africa; Previous  Newsweek; ETO Free Format; Tenders; Demands; Email link; Weblink; EDIFACT Usergroup</a:t>
            </a:r>
            <a:r>
              <a:rPr b="0" lang="es-ES_tradnl" sz="2800" spc="-1" strike="noStrike">
                <a:solidFill>
                  <a:srgbClr val="ffffcc"/>
                </a:solidFill>
                <a:latin typeface="Abadi MT Condensed Light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2200" indent="-322200">
              <a:spcBef>
                <a:spcPts val="4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North American Association for Exports to Eastern Europe: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 (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www.cyberstreet.com/users/~naafetee). Incluye tres Mailing Lists: Eeurope-Business; Eeurope-Change; Eeurope-News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2200" indent="-322200">
              <a:spcBef>
                <a:spcPts val="4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Global-Market-Digest: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(</a:t>
            </a:r>
            <a:r>
              <a:rPr b="0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www.tradinghouse.com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2200" indent="-322200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TradePort Mailing List: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98400" indent="-268560"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Tradeport-l: noticias y oportunidades comerciales de toda clase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98400" indent="-268560"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Tradeport-info: información, boletines y novedades sobre comercio internacional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2200" indent="-322200">
              <a:spcBef>
                <a:spcPts val="4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Lista de Negocios del Directorio Argentina: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(www.grippo.com/negocios/suscribe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COMERCIO INTERNACIONAL ELECTRONICO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Sitios Web: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ofrecen oportunidades comerciales. Tablones de anuncios o buscador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811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en bases de datos específicas.</a:t>
            </a:r>
            <a:r>
              <a:rPr b="1" lang="es-ES_tradnl" sz="2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STAT-USA: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 (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www.stat-usa.gov). Servicio del Dpto. de comercio de EEUU con acceso on line a bases de datos públicas y privadas; estadísticas variables macroeconómicas para el estudio de mercados internacionales. Suscripción: USD 150/año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  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Las bases de datos más importantes son: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NTDB (Banco Nacional de Información Comercial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EBB (Economic Bulletin Board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Globus (Global Business Procurement Opportunities): The Commerce Business Daily; DLA (The Defense Logists Agency Procurements); The Trade Opportunity Leads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BEA (análisis de información estadística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IEEB (Import-Export Bulletin Board):</a:t>
            </a:r>
            <a:r>
              <a:rPr b="1" lang="es-ES_tradnl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 www.iebb.com/welcome.html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Trade Compass: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www.trading.wmw.com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The Trading Floor: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negociaciones en tiempo real on-line mediante Chats Rooms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Tradeport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tradeport.org):creado por Baytrade y la Cámara de Comercio de Los Angeles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Partnerbase: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parternerbase.com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Global Mercantile Exchange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 (www.tradinghouse.com): oportunidades comerciales de los siguientes servicios: Global News Bank; Jobs and Careers Exchange; Barter; Trade Services; Technology Exchange; Trade-Fairs and Events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Trade Bulletin Board-Cyber Commerce Co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. (www.cyberec.com/trade/bbs.html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badi MT Condensed Light"/>
              </a:rPr>
              <a:t>COMERCIO INTERNACIONAL ELECTRONICO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World Industrial Park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worldbusiness.net): información de empresas industriales en EEUU y otros países. Costo: USD 150/año con derecho a 5 M anuncios tipo “banner”en el Tablón de Anuncios Global Marketplace. 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KTNIC Market place On Line-Korea Trade Network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 www.easy commerce.net/bbs): Tablón de anuncios creado por el Koreas World Trade Centre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Import-Export Bulletin Board de Swiss Info.net</a:t>
            </a:r>
            <a:r>
              <a:rPr b="1" lang="es-ES_tradnl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(www.swissinfo.net/iebbs)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Used Equipment Network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(www.buyused.com):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50 M ofertas de equipos usados de la industria metalmecánic, eléctrica, procesos químicos, etc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Regent Commerce Network of China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china-inc.com):información de empresas, productos y servicios en China. El enlace “International Trade Leads” permite acceder a oportunidades comerciales Otros sitios web sobre China son: Chine Business Bulletin Board y SinoNet (www.sino.net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badi MT Condensed Light"/>
              </a:rPr>
              <a:t>World Trade Exhange </a:t>
            </a:r>
            <a:r>
              <a:rPr b="0" i="1" lang="es-ES_tradnl" sz="2400" spc="-1" strike="noStrike">
                <a:solidFill>
                  <a:srgbClr val="ffffcc"/>
                </a:solidFill>
                <a:latin typeface="Abadi MT Condensed Light"/>
              </a:rPr>
              <a:t>(www.wte.net): red internacional creada por ITT y filiales en Europa que brinda información sin cargo sobre PyMES; sus productos y tecnologías. Socios 30 M empresas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Marketnet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www.us-marketnet.com): editada en español; inglés y francés.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Asia One Business Centre Bulletin Board 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(wwww.asia1.com.sg/cgi-bin/bulletin/board.pl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Taiwan Trade Opportunity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manufacture.com.tw/post.html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Netsource Asia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netsorce-asia.com/scripts/cf/messagelistcfm): sitio relacionado a otro similar para operaciones comerciales en EEUU (www.netsource-america.com)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1800" spc="-1" strike="noStrike">
                <a:solidFill>
                  <a:srgbClr val="ffffcc"/>
                </a:solidFill>
                <a:latin typeface="Abadi MT Condensed Light"/>
              </a:rPr>
              <a:t>DigiLead</a:t>
            </a:r>
            <a:r>
              <a:rPr b="0" lang="es-ES_tradnl" sz="1800" spc="-1" strike="noStrike">
                <a:solidFill>
                  <a:srgbClr val="ffffcc"/>
                </a:solidFill>
                <a:latin typeface="Abadi MT Condensed Light"/>
              </a:rPr>
              <a:t> (www.digilead.com) : base de datos de acceso gratuito incluye ofertas y demandas de M y X</a:t>
            </a: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  <a:p>
            <a:pPr marL="294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USO DE TECNOLOGIAS DE INFORMACION </a:t>
            </a:r>
            <a:br>
              <a:rPr sz="2400"/>
            </a:b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066680"/>
            <a:ext cx="7543800" cy="66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rreo electrónico (E-mail)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tercambio electrónico de datos (EDI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Transferencia electrónica de fondos (EFT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Aplicaciones Internet: web; news; gopher; archie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Aplicaciones de voz: buzones; servidores; chats  room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Transferencia de ficher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iseño y fabricación asistido por computadora (CAD/CAM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ultimedia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Tablones electrónicos de anunci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Videoconferenci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RELACIONES EN LA RED </a:t>
            </a:r>
            <a:br>
              <a:rPr sz="3200"/>
            </a:br>
            <a:br>
              <a:rPr sz="2400"/>
            </a:b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09480"/>
            <a:ext cx="51814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badi MT Condensed Light"/>
              </a:rPr>
              <a:t>Empresa-Consumidor: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66"/>
                </a:solidFill>
                <a:latin typeface="Abadi MT Condensed Light"/>
              </a:rPr>
              <a:t>Oferta y demanda minoristas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66"/>
                </a:solidFill>
                <a:latin typeface="Abadi MT Condensed Light"/>
              </a:rPr>
              <a:t>Ej: reserva de tickets aéreos; compras en supermercados;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66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cc0066"/>
                </a:solidFill>
                <a:latin typeface="Abadi MT Condensed Light"/>
              </a:rPr>
              <a:t>home banking, etc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133720"/>
            <a:ext cx="4876920" cy="161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Abadi MT Condensed Light"/>
              </a:rPr>
              <a:t>Empresa- Administración pública: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Abadi MT Condensed Light"/>
              </a:rPr>
              <a:t>Transacciones entre empresas y el gobierno</a:t>
            </a:r>
            <a:r>
              <a:rPr b="0" lang="es-ES" sz="2000" spc="-1" strike="noStrike">
                <a:solidFill>
                  <a:srgbClr val="ff9933"/>
                </a:solidFill>
                <a:latin typeface="Abadi MT Condensed Light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Abadi MT Condensed Light"/>
              </a:rPr>
              <a:t>Promoción de sitios electrónicos</a:t>
            </a:r>
            <a:r>
              <a:rPr b="0" lang="es-ES" sz="2000" spc="-1" strike="noStrike">
                <a:solidFill>
                  <a:srgbClr val="ff9933"/>
                </a:solidFill>
                <a:latin typeface="Abadi MT Condensed Light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Abadi MT Condensed Light"/>
              </a:rPr>
              <a:t>Regulación del mercado electrónic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809880"/>
            <a:ext cx="6934320" cy="260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badi MT Condensed Light"/>
              </a:rPr>
              <a:t>Empresa-Empresa: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badi MT Condensed Light"/>
              </a:rPr>
              <a:t>La Red genera lazos entre empresas con intereses complementarios en los  canales de información y distribución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badi MT Condensed Light"/>
              </a:rPr>
              <a:t>Esta modalidad representa el 90 % de las operaciones comerciales realizadas mediante Internet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badi MT Condensed Light"/>
              </a:rPr>
              <a:t>El número de empresas interrelacionadas a través de E-commerce: 95 Mil (1995); 111Mil  (1996); 135 Mil (1997) y 450 Mil (2000)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badi MT Condensed Light"/>
              </a:rPr>
              <a:t>           </a:t>
            </a:r>
            <a:endParaRPr b="0" lang="en-US" sz="1600" spc="-1" strike="noStrike">
              <a:solidFill>
                <a:srgbClr val="ffffcc"/>
              </a:solidFill>
              <a:latin typeface="Abadi MT Condensed Ligh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8080"/>
            <a:ext cx="3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09" name=""/>
          <p:cNvSpPr/>
          <p:nvPr/>
        </p:nvSpPr>
        <p:spPr>
          <a:xfrm>
            <a:off x="385920" y="2403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10" name=""/>
          <p:cNvSpPr/>
          <p:nvPr/>
        </p:nvSpPr>
        <p:spPr>
          <a:xfrm>
            <a:off x="1197360" y="4038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badi MT Condensed Light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LAS INFOCOMUNICACIONES ENTRE EMPRESAS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                        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                           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             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Intercambio de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               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Información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badi MT Condensed Light"/>
              </a:rPr>
              <a:t>     </a:t>
            </a:r>
            <a:r>
              <a:rPr b="1" lang="es-ES" sz="3600" spc="-1" strike="noStrike">
                <a:solidFill>
                  <a:srgbClr val="ffffcc"/>
                </a:solidFill>
                <a:latin typeface="Abadi MT Condensed Light"/>
              </a:rPr>
              <a:t>.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Desarrollo de nuevos canales de venta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</a:t>
            </a:r>
            <a:r>
              <a:rPr b="1" lang="es-ES_tradnl" sz="3600" spc="-1" strike="noStrike">
                <a:solidFill>
                  <a:srgbClr val="ffffcc"/>
                </a:solidFill>
                <a:latin typeface="Abadi MT Condensed Light"/>
              </a:rPr>
              <a:t>.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cceso a catálogos  de productos; listas de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precios y folleto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77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badi MT Condensed Light"/>
              </a:rPr>
              <a:t>.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Venta directa e interactiva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77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badi MT Condensed Light"/>
              </a:rPr>
              <a:t>.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Asistencia técnica al cliente para facilitarle la  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77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resolución de problema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77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badi MT Condensed Light"/>
              </a:rPr>
              <a:t>.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Intercambio de documentación entre socios          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777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comercial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                                              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                          </a:t>
            </a: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Modalidades del E-Comercio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4000" spc="-1" strike="noStrike">
                <a:solidFill>
                  <a:srgbClr val="ffffcc"/>
                </a:solidFill>
                <a:latin typeface="Abadi MT Condensed Light"/>
              </a:rPr>
              <a:t>.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ransacciones entre una empresa  y sus clientes mediante red pública (tel + módem) para comprar (home shopping) u operar con los bancos (home banking)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badi MT Condensed Light"/>
              </a:rPr>
              <a:t>.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ransacciones con socios comerciales usando EDI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badi MT Condensed Light"/>
              </a:rPr>
              <a:t>.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ransacciones para obtener información de mercado mediante exploradores de códigos de barras; toma de decisiones de la gerencia ; solución de problemas de organización  o 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           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gestión de una cadena de abastecimiento.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Abadi MT Condensed Light"/>
              </a:rPr>
              <a:t>           </a:t>
            </a:r>
            <a:r>
              <a:rPr b="0" lang="es-ES_tradnl" sz="3600" spc="-1" strike="noStrike">
                <a:solidFill>
                  <a:srgbClr val="ffffcc"/>
                </a:solidFill>
                <a:latin typeface="Abadi MT Condensed Light"/>
              </a:rPr>
              <a:t>.</a:t>
            </a: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Transacciones para distribuir información entre clientes potencial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990720"/>
            <a:ext cx="4952880" cy="312408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114800"/>
            <a:ext cx="8686800" cy="2514600"/>
          </a:xfrm>
          <a:prstGeom prst="ellipse">
            <a:avLst/>
          </a:prstGeom>
          <a:noFill/>
          <a:ln cap="rnd" w="5400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EFECTOS DEL E-COMERCIO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Empresas virtuales: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Socios comerciales externos sin ubicación física determinada. La relación se basa en transacciones electrónica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marL="274320" indent="-274320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Acceso al mercado global: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pequeños proveedores pueden acceder debido a los escasos recursos necesarios para operar en el exterior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marL="274320" indent="-274320" algn="just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Transformación del comercio minorista: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las compras realizadas desde el hogar y la venta directa por parte del fabricante disminuye precios y reduce los márgenes de benefici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marL="274320" indent="-274320">
              <a:spcBef>
                <a:spcPts val="601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Servicio al cliente: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la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entrega rápida y directa será cada vez más necesaria. La necesidad de constituir inventarios es cada vez menor y la de dinero electrónico cada vez mayor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marL="274320" indent="-274320">
              <a:spcBef>
                <a:spcPts val="799"/>
              </a:spcBef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badi MT Condensed Light"/>
              </a:rPr>
              <a:t>Nuevos estándares</a:t>
            </a:r>
            <a:r>
              <a:rPr b="1" lang="es-ES_tradnl" sz="2400" spc="-1" strike="noStrike">
                <a:solidFill>
                  <a:srgbClr val="ffffcc"/>
                </a:solidFill>
                <a:latin typeface="Abadi MT Condensed Light"/>
              </a:rPr>
              <a:t>:</a:t>
            </a:r>
            <a:r>
              <a:rPr b="0" lang="es-ES_tradnl" sz="2400" spc="-1" strike="noStrike">
                <a:solidFill>
                  <a:srgbClr val="ffffcc"/>
                </a:solidFill>
                <a:latin typeface="Abadi MT Condensed Light"/>
              </a:rPr>
              <a:t> componentes, envases, documentación</a:t>
            </a:r>
            <a:r>
              <a:rPr b="0" lang="es-ES_tradnl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VENTAJAS DEL USO DE INTERNET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480"/>
            <a:ext cx="9144000" cy="9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CONSUMIDOR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isponibilidad de información: facilita la toma de decision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badi MT Condensed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Mayor uso recreativo: búsquedas no dirigida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Abadi MT Condensed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badi MT Condensed Light"/>
              </a:rPr>
              <a:t>Mayor uso interactivo: búsquedas profundas no lineal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Facilita investigar y comparar mercados: reúne, analiza y controla datos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specializados. Ej. www. Amazon.com ofrece 2,5 Mio de libr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isminuye costos y precios: mayor rivalidad entre oferentes del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ercad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lectrónico abierto reduce costos y precios; aumenta la calidad y variedad de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productos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LAS EMPRESA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ejora la distribución: en ciertas industrias (gráfica; productos digitales; servicio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e información) los costos de distibrución tienden a cero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formación sobre la empresa: ésta puede ahora competir en base a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specialidad y no en base al precio, en especial si son productos sustitutos,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los cuales se pueden diferenciar  en el servicio al cliente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Beneficios operativos: usar Internet significa reducir errores, disminuir costos y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rear nuevos segmentos de mercado, a los cuales se accede más rápido.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DESVENTAJAS DEL USO DE INTERNET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"/>
            <a:ext cx="914400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CAMBIO TECNOLOGICO Y ENTORNO EMPRESARIAL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versiones en equipamiento; acceso a Internet y conexión telefónic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Sistema EDI con proveedor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Servicio de Intranet con las sucursales (aplicaciones a las cuales se accede a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través de Internet protegida por una barrera de seguridad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PRIVACIDAD Y SEGURIDAD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Los usuarios no confían en Internet como canal de pago. Se puede establecer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una comunicación segura mediante un mensaje cifrado (“encriptación de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atos”). Ej: Netscape permite diferenciar la calidad del mensaje (seguro vs.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inseguro) mediante el uso del incono de una llave entera (primer caso) o rota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(segundo caso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badi MT Condensed Light"/>
              </a:rPr>
              <a:t>ASPECTOS LEGALES, POLITICOS Y SOCIALES DISCUTIBL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Validez de la firma electrónica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No repudi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Legalidad de un contrato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Violaciones de marcas y derecho de autor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 algn="just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Pérdida de derechos sobre marcas; secretos comerciales y responsablidade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MECANISMOS DE COORDINACION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143000"/>
            <a:ext cx="1904760" cy="1828800"/>
          </a:xfrm>
          <a:prstGeom prst="ellipse">
            <a:avLst/>
          </a:prstGeom>
          <a:solidFill>
            <a:srgbClr val="ffffcc"/>
          </a:solidFill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MERCAD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143000"/>
            <a:ext cx="2057400" cy="1828800"/>
          </a:xfrm>
          <a:prstGeom prst="ellipse">
            <a:avLst/>
          </a:prstGeom>
          <a:solidFill>
            <a:srgbClr val="ffffcc"/>
          </a:solidFill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badi MT Condensed Light"/>
              </a:rPr>
              <a:t>E</a:t>
            </a:r>
            <a:r>
              <a:rPr b="0" lang="es-ES_tradnl" sz="900" spc="-1" strike="noStrike">
                <a:solidFill>
                  <a:srgbClr val="ffffcc"/>
                </a:solidFill>
                <a:latin typeface="Abadi MT Condensed Light"/>
              </a:rPr>
              <a:t>m</a:t>
            </a:r>
            <a:endParaRPr b="0" lang="en-US" sz="9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1143000"/>
            <a:ext cx="1981080" cy="1828800"/>
          </a:xfrm>
          <a:prstGeom prst="ellipse">
            <a:avLst/>
          </a:prstGeom>
          <a:solidFill>
            <a:srgbClr val="ffffcc"/>
          </a:solidFill>
          <a:ln w="507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badi MT Condensed Light"/>
              </a:rPr>
              <a:t>RED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6" name=""/>
          <p:cNvSpPr/>
          <p:nvPr/>
        </p:nvSpPr>
        <p:spPr>
          <a:xfrm>
            <a:off x="3949560" y="1828800"/>
            <a:ext cx="15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EMPRESA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7" name=""/>
          <p:cNvSpPr/>
          <p:nvPr/>
        </p:nvSpPr>
        <p:spPr>
          <a:xfrm>
            <a:off x="1178640" y="37609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TRANSACCIONE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41911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12408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862200" y="487692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SISTEMA DE PRECIO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0481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2" name=""/>
          <p:cNvSpPr/>
          <p:nvPr/>
        </p:nvSpPr>
        <p:spPr>
          <a:xfrm>
            <a:off x="2861640" y="373392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TRANSACCIONES JERARQUICAS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11480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3359520" y="4724280"/>
            <a:ext cx="30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INTEGRACION VERTICAL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CADENA DE VALOR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1055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1240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7" name=""/>
          <p:cNvSpPr/>
          <p:nvPr/>
        </p:nvSpPr>
        <p:spPr>
          <a:xfrm>
            <a:off x="6339600" y="373392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INTERES MUTUO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19112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724280"/>
            <a:ext cx="23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badi MT Condensed Light"/>
              </a:rPr>
              <a:t>INTERDEPENDENCIA</a:t>
            </a:r>
            <a:endParaRPr b="0" lang="en-US" sz="20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3d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66"/>
                </a:solidFill>
                <a:latin typeface="Abadi MT Condensed Light"/>
              </a:rPr>
              <a:t>FORMACION DEL PRECIO</a:t>
            </a:r>
            <a:endParaRPr b="0" i="1" lang="en-US" sz="3200" spc="-1" strike="noStrike">
              <a:solidFill>
                <a:srgbClr val="ffcc66"/>
              </a:solidFill>
              <a:latin typeface="Abadi MT Condensed Light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371600"/>
            <a:ext cx="86868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Costos de producción: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procesos físicos y primarios para crear y 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distribuir  bienes o servici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Costos de coordinación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costos de transacción originados en las coordinación de la producción y comercialización. Estos costos aumentan si: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xisten acontecimientos imprevisibles e incierto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Las transacciones requieren inversiones específicas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Existe riesgo de comportamiento oportunista (riesgo moral)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Margen de beneficio</a:t>
            </a:r>
            <a:endParaRPr b="0" lang="en-US" sz="32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buClr>
                <a:srgbClr val="cc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1" lang="es-ES" sz="3200" spc="-1" strike="noStrike">
                <a:solidFill>
                  <a:srgbClr val="ffffcc"/>
                </a:solidFill>
                <a:latin typeface="Abadi MT Condensed Light"/>
              </a:rPr>
              <a:t>Mercados electrónicos:</a:t>
            </a:r>
            <a:r>
              <a:rPr b="0" lang="es-ES" sz="3200" spc="-1" strike="noStrike">
                <a:solidFill>
                  <a:srgbClr val="ffffcc"/>
                </a:solidFill>
                <a:latin typeface="Abadi MT Condensed Light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inimizan los costos de coordinación            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badi MT Condensed Light"/>
              </a:rPr>
              <a:t>                           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Nuevas tecnologías de la información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            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Masa crítica de consumidores            Economías de Red            Ley    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badi MT Condensed Light"/>
              </a:rPr>
              <a:t>         de Metcalfe </a:t>
            </a: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5638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5638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99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io Internacional"Mejorar la Competitividad de la MIPyMES de Magallanes".Punta Arenas, 3-6/12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8:08:47Z</dcterms:created>
  <dc:creator>a</dc:creator>
  <dc:description/>
  <dc:language>en-US</dc:language>
  <cp:lastModifiedBy>C.P.C.E.C.A.B.A.</cp:lastModifiedBy>
  <dcterms:modified xsi:type="dcterms:W3CDTF">2004-10-12T21:45:50Z</dcterms:modified>
  <cp:revision>197</cp:revision>
  <dc:subject/>
  <dc:title>PyMES EN UNA ECONOMIA GLOBAL  </dc:title>
</cp:coreProperties>
</file>