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911-6F95-4739-B2E5-DFD6AD73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E9F-7B70-46EF-B55A-1F2DD490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736-C84F-4A6C-B7F7-BC80E1E1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448-2455-4933-8041-817D9688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1F8-FB86-435C-8735-99970128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9B7-31A1-4E61-9400-9EF9E011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F9D-B759-4BBB-9BC3-9A731F6D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774-0183-43ED-8828-DF18D704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E45-8643-4C3F-BE38-05E3702D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780-0A73-44F0-BAE9-C4672D2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BB63-9CC4-4577-B8B1-D36948FA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85A-6073-419C-910E-3CA7F7F3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34F7-94C8-40A0-874A-C09E17569A4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i="1" lang="es-MX" sz="2400" spc="-1" strike="noStrike">
                <a:solidFill>
                  <a:srgbClr val="000099"/>
                </a:solidFill>
                <a:latin typeface="Book Antiqua"/>
              </a:rPr>
              <a:t>“</a:t>
            </a:r>
            <a:r>
              <a:rPr b="1" i="1" lang="es-MX" sz="2800" spc="-1" strike="noStrike">
                <a:solidFill>
                  <a:srgbClr val="000099"/>
                </a:solidFill>
                <a:latin typeface="Book Antiqua"/>
              </a:rPr>
              <a:t>LA FORMACION DE GRADO Y POSGRADO DEL ASESOR DE PYMES”</a:t>
            </a:r>
            <a:br>
              <a:rPr sz="2800"/>
            </a:br>
            <a:br>
              <a:rPr sz="1800"/>
            </a:br>
            <a:r>
              <a:rPr b="1" lang="es-MX" sz="1800" spc="-1" strike="noStrike">
                <a:solidFill>
                  <a:srgbClr val="000099"/>
                </a:solidFill>
                <a:latin typeface="Book Antiqua"/>
              </a:rPr>
              <a:t> </a:t>
            </a:r>
            <a:r>
              <a:rPr b="1" lang="es-MX" sz="2000" spc="-1" strike="noStrike">
                <a:solidFill>
                  <a:srgbClr val="000099"/>
                </a:solidFill>
                <a:latin typeface="Book Antiqua"/>
              </a:rPr>
              <a:t>CONSEJO PROFESIONAL DE CIENCIAS ECONOMICAS</a:t>
            </a:r>
            <a:br>
              <a:rPr sz="2000"/>
            </a:br>
            <a:r>
              <a:rPr b="1" lang="es-MX" sz="2000" spc="-1" strike="noStrike">
                <a:solidFill>
                  <a:srgbClr val="000099"/>
                </a:solidFill>
                <a:latin typeface="Book Antiqua"/>
              </a:rPr>
              <a:t> CIUDAD AUTONOMA DE BUENOS AIRES </a:t>
            </a:r>
            <a:br>
              <a:rPr sz="2000"/>
            </a:br>
            <a:r>
              <a:rPr b="1" lang="es-MX" sz="2000" spc="-1" strike="noStrike">
                <a:solidFill>
                  <a:srgbClr val="000099"/>
                </a:solidFill>
                <a:latin typeface="Book Antiqua"/>
              </a:rPr>
              <a:t>30/09 Y 1/10 DE 2004 </a:t>
            </a:r>
            <a:br>
              <a:rPr sz="2000"/>
            </a:br>
            <a:br>
              <a:rPr sz="2000"/>
            </a:br>
            <a:r>
              <a:rPr b="1" lang="es-MX" sz="2000" spc="-1" strike="noStrike" u="sng">
                <a:solidFill>
                  <a:srgbClr val="000099"/>
                </a:solidFill>
                <a:uFillTx/>
                <a:latin typeface="Book Antiqua"/>
              </a:rPr>
              <a:t>VIII  CONGRESO DE LA PYME </a:t>
            </a:r>
            <a:br>
              <a:rPr sz="20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PyMES 2004. Su inserción después de la cri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Herramientas de gestión en el escenario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El impacto del despertar soli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El rol de profesionales y empresarios.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     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Carlos Aníbal Degrossi</a:t>
            </a:r>
            <a:r>
              <a:rPr b="1" lang="es-MX" sz="2400" spc="-1" strike="noStrike">
                <a:solidFill>
                  <a:srgbClr val="ffcc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99"/>
                </a:solidFill>
                <a:latin typeface="Book Antiqua"/>
              </a:rPr>
              <a:t>PANORAMA ECONOMICO Y SOCIAL ACTUAL. 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2.7 millones de km2  de territo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Producción agropecu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Reservas de petróleo, gas y otros mi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Tur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Población capacitada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Book Antiqua"/>
              </a:rPr>
              <a:t>PANORAMA ECONOMICO Y SOCIAL ACTU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37 millones de habitantes (1/3 excluid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14.8 %  Indice de desempleo = 2.2 millones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16.4 millones de po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6.3 millones (44.3%) de pobres viven en una probreza ext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Book Antiqua"/>
              </a:rPr>
              <a:t>Desarrollo humano de ON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Book Antiqua"/>
              </a:rPr>
              <a:t>CONTEXTO MUNDI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Book Antiqua"/>
              </a:rPr>
              <a:t>Globalización de la economí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Book Antiqua"/>
              </a:rPr>
              <a:t>Cambios en los mercados:</a:t>
            </a:r>
            <a:r>
              <a:rPr b="0" lang="en-US" sz="3200" spc="-1" strike="noStrike">
                <a:solidFill>
                  <a:srgbClr val="6699ff"/>
                </a:solidFill>
                <a:latin typeface="Book Antiqua"/>
              </a:rPr>
              <a:t>                      </a:t>
            </a:r>
            <a:r>
              <a:rPr b="1" i="1" lang="en-US" sz="2800" spc="-1" strike="noStrike">
                <a:solidFill>
                  <a:srgbClr val="6699ff"/>
                </a:solidFill>
                <a:latin typeface="Book Antiqua"/>
              </a:rPr>
              <a:t>Nuevas actividades -  Alianzas -                                           Nuevas herramientas financiera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Book Antiqua"/>
              </a:rPr>
              <a:t>Tecnología: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                                        </a:t>
            </a:r>
            <a:r>
              <a:rPr b="1" i="1" lang="en-US" sz="2800" spc="-1" strike="noStrike">
                <a:solidFill>
                  <a:srgbClr val="6699ff"/>
                </a:solidFill>
                <a:latin typeface="Book Antiqua"/>
              </a:rPr>
              <a:t>Producción /  Informática  /  Comunicaciones /     E-comerce  / E-learning.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_tradnl" sz="2800" spc="-1" strike="noStrike">
                <a:solidFill>
                  <a:srgbClr val="000099"/>
                </a:solidFill>
                <a:latin typeface="Book Antiqua"/>
              </a:rPr>
              <a:t>CRISIS = OPORTUNIDAD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533880" y="1980720"/>
            <a:ext cx="10363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P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APOYO MEDIANTE POLÍTICAS DE 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Financie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Comercio ex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Marco 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Book Antiqu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Tec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Book Antiqua"/>
              </a:rPr>
              <a:t>PYMES - SITUACIÓ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ARGENTINA = Personal ocupado 70% Sector Pri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USA = Small Business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             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Presupuesto: U$S 1000 mill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             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Garantías - préstamos: U$S 10000 mill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ITALIA =   Distritos industriales - Mayor experiencia en asistencia a 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Py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JAPÓN = Sistema de promoción e integración - Grandes empresas 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con Py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CHINA Y COREA = Fomento / entrenamiento tecnológico y 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asistencia financi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BRASIL = 95% PyMES - 20% PBI - 60% Mo privada - SEBR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Book Antiqua"/>
              </a:rPr>
              <a:t>CHILE Y MÉXICO = Claras políticas de apoy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Book Antiqua"/>
              </a:rPr>
              <a:t>EDUCACIÓ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CRIS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Escolaridad primaria / secundaria/ universi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INVERSIÓN MÁS REDITU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NO HAY FUTURO SIN VAL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RESPONSABILIDAD POLÍTICA Y DE LA CLASE DIRIGENTE EN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Book Antiqua"/>
              </a:rPr>
              <a:t>CARACTERÍSTICAS DE NUESTROS GRADUADO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1. CALIDAD TÉCNICA Y CIENT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2. CONDUCTA Y PRINCIPIOS ET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3. CONCIENCIA NACIONAL Y REG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4. ESPÍRITU EMPRENDEDOR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Book Antiqua"/>
              </a:rPr>
              <a:t>ORIENTACIÓN DE SUS ACTIVIDADE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1. A LO PÚBL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2. A LO PRIV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3. A LO N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6699ff"/>
                </a:solidFill>
                <a:latin typeface="Book Antiqua"/>
              </a:rPr>
              <a:t>4. A LO REGIONAL</a:t>
            </a: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9:27:38Z</dcterms:created>
  <dc:creator>CSI</dc:creator>
  <dc:description/>
  <dc:language>en-US</dc:language>
  <cp:lastModifiedBy>C.P.C.E.C.A.B.A.</cp:lastModifiedBy>
  <cp:lastPrinted>2004-09-29T10:59:12Z</cp:lastPrinted>
  <dcterms:modified xsi:type="dcterms:W3CDTF">2004-10-13T13:20:20Z</dcterms:modified>
  <cp:revision>42</cp:revision>
  <dc:subject/>
  <dc:title>“LA FORMACION DE GRADO Y POSGRADO DEL ASESOR DE PYMES”   CPCE - CABA  30/09 Y 01/10 DE 2004  VIII  CONGRESO DE LA PYME   </dc:title>
</cp:coreProperties>
</file>