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DC3C4-3ADF-4CC3-A771-EB5AE8280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724F7-1440-4093-BA40-75017D08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96212-D919-4B06-AFF0-26CD9E1F8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56781-0BE9-48E9-8B0A-AF9A9D653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D926-B007-48F1-B4F9-B992D34B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A607D-756A-42A1-88E6-78936C0F9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216E-68BD-4FB2-87F0-25BAB6FC9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A3B3A-D10A-4FF6-8F58-FFAC1193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67A3-A593-4CD4-A980-DFCC1B58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CF37-5BB7-49D0-88C9-D729C756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9548-D7A5-4631-8100-5C8A82F7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9DA03-0587-44DC-947D-8698F9605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A090-1379-4E58-868D-663083AA3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609588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838080" y="6248520"/>
            <a:ext cx="1828440" cy="457200"/>
            <a:chOff x="838080" y="6248520"/>
            <a:chExt cx="1828440" cy="457200"/>
          </a:xfrm>
        </p:grpSpPr>
        <p:pic>
          <p:nvPicPr>
            <p:cNvPr id="7" name="cimei" descr=""/>
            <p:cNvPicPr/>
            <p:nvPr/>
          </p:nvPicPr>
          <p:blipFill>
            <a:blip r:embed="rId2"/>
            <a:stretch/>
          </p:blipFill>
          <p:spPr>
            <a:xfrm>
              <a:off x="838080" y="6248520"/>
              <a:ext cx="1301760" cy="457200"/>
            </a:xfrm>
            <a:prstGeom prst="rect">
              <a:avLst/>
            </a:prstGeom>
            <a:ln w="0">
              <a:noFill/>
            </a:ln>
          </p:spPr>
        </p:pic>
        <p:pic>
          <p:nvPicPr>
            <p:cNvPr id="8" name="sello%20cema%201" descr=""/>
            <p:cNvPicPr/>
            <p:nvPr/>
          </p:nvPicPr>
          <p:blipFill>
            <a:blip r:embed="rId3"/>
            <a:stretch/>
          </p:blipFill>
          <p:spPr>
            <a:xfrm>
              <a:off x="2139840" y="6248520"/>
              <a:ext cx="526680" cy="445320"/>
            </a:xfrm>
            <a:prstGeom prst="rect">
              <a:avLst/>
            </a:prstGeom>
            <a:ln w="0">
              <a:noFill/>
            </a:ln>
          </p:spPr>
        </p:pic>
      </p:grpSp>
      <p:sp>
        <p:nvSpPr>
          <p:cNvPr id="9" name=""/>
          <p:cNvSpPr/>
          <p:nvPr/>
        </p:nvSpPr>
        <p:spPr>
          <a:xfrm>
            <a:off x="762120" y="60948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Sistemas de Información en PYMES y acceso al crédito en contextos de asimetria de información</a:t>
            </a:r>
            <a:endParaRPr b="0" lang="en-US" sz="3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sé Pablo Dape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CEM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9 de Setiembre de 2004</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imismo un relevamiento reciente efectuado por la Cámara Argentina de Comercio revela que:</a:t>
            </a:r>
            <a:endParaRPr b="0" lang="en-US" sz="3200" spc="-1" strike="noStrike">
              <a:solidFill>
                <a:srgbClr val="000000"/>
              </a:solidFill>
              <a:latin typeface="Times New Roman"/>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45% de los comerciantes no tiene relación con los banco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entras que del resto el 35% mantiene solamente una relación transaccion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expone que:</a:t>
            </a:r>
            <a:endParaRPr b="0" lang="en-US" sz="3200" spc="-1" strike="noStrike">
              <a:solidFill>
                <a:srgbClr val="000000"/>
              </a:solidFill>
              <a:latin typeface="Times New Roman"/>
            </a:endParaRPr>
          </a:p>
          <a:p>
            <a:pPr lvl="1" marL="7430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el 69% del sector la principal fuente de financiamiento es la reinversión de utilidades, </a:t>
            </a:r>
            <a:endParaRPr b="0" lang="en-US" sz="28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entras que para un 30% los proveedores representan una fuente relevante de financiamien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609480"/>
            <a:ext cx="7925040" cy="4114800"/>
          </a:xfrm>
          <a:prstGeom prst="rect">
            <a:avLst/>
          </a:prstGeom>
          <a:noFill/>
          <a:ln w="0">
            <a:noFill/>
          </a:ln>
        </p:spPr>
        <p:txBody>
          <a:bodyPr lIns="90000" rIns="90000" tIns="46800" bIns="46800" anchor="t">
            <a:normAutofit fontScale="83000"/>
          </a:bodyPr>
          <a:p>
            <a:pPr marL="284400" indent="-28440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relevamiento de la Unión Industrial Argentina durante 2003 muestra que:</a:t>
            </a:r>
            <a:endParaRPr b="0" lang="en-US" sz="3200" spc="-1" strike="noStrike">
              <a:solidFill>
                <a:srgbClr val="000000"/>
              </a:solidFill>
              <a:latin typeface="Times New Roman"/>
            </a:endParaRPr>
          </a:p>
          <a:p>
            <a:pPr lvl="1" marL="616680" indent="-2372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estructura de financiamiento de las empresa relevadas el capital propio (inicial mas reinversión de utilidades) representaba a 2001 el 59.5% del financiamiento total (respecto de un 55.6% en 1994), </a:t>
            </a:r>
            <a:endParaRPr b="0" lang="en-US" sz="2800" spc="-1" strike="noStrike">
              <a:solidFill>
                <a:srgbClr val="000000"/>
              </a:solidFill>
              <a:latin typeface="Times New Roman"/>
            </a:endParaRPr>
          </a:p>
          <a:p>
            <a:pPr lvl="1" marL="616680" indent="-2372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entras que otras Deudas (que incluye a Proveedores) representaba en 2001 un 33.4% del financiamiento total (contra un 27.1% en 1994), siendo que finalmente un 7.1% esta financiado con bancos (contra un 17.3% en 1994).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s cifras son consistentes con las que surgen de relevamientos del Instituto Argentino de Mercado de Capitales (1999), y con la encuesta mas recientemente realizada por el Instituto Argentino de Ejecutivos de Finanzas expone que mas del 60% de las empresas utilizan fondos prop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762120" y="533520"/>
            <a:ext cx="7772400" cy="4114800"/>
          </a:xfrm>
          <a:prstGeom prst="rect">
            <a:avLst/>
          </a:prstGeom>
          <a:noFill/>
          <a:ln w="0">
            <a:noFill/>
          </a:ln>
        </p:spPr>
        <p:txBody>
          <a:bodyPr lIns="90000" rIns="90000" tIns="46800" bIns="46800" anchor="t">
            <a:normAutofit fontScale="87000"/>
          </a:bodyPr>
          <a:p>
            <a:pPr marL="298440" indent="-2984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 situación no es eficiente para la economía por los siguientes motivos. </a:t>
            </a:r>
            <a:endParaRPr b="0" lang="en-US" sz="3200" spc="-1" strike="noStrike">
              <a:solidFill>
                <a:srgbClr val="000000"/>
              </a:solidFill>
              <a:latin typeface="Times New Roman"/>
            </a:endParaRPr>
          </a:p>
          <a:p>
            <a:pPr marL="2984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2984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primer lugar, la inversión agregada en este tipo de empresas se infiere menor a la óptima, por efectos de las restricciones al financiamiento, lo que limita la capacidad de expansión y la obtención de escalas optimas y en definitiva el desarrollo a través de mercados externos.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r John Hicks, reconocido economista del siglo pasado, sostenía que la revolución industrial en Gran Bretaña no podríahaberse llevado a cabo si no hubiese habido previo una revolución financiera que diese lugar un mercado de capitales susceptible de agrupar ahorros y canalizarlos hacia las inversiones.</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segundo lugar, gran parte de estas empresas poseen su capital concentrado en la propiedad de una familia, lo cual provoca un fenómeno de falta de diversificación de ahorros, ya que la fortuna de estas familias esta atada a la buena o mala situación de la firma.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tercer lugar, no brinda oportunidades de inversión al resto de la economía, que accedería a una mayor oferta de instrumentos de inversión para ahorristas particulares e institucionales, desarrollando el mercado interno de capitales, crucial para hacer la economía mas resistente a los shocks.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mente, no alienta las inversiones de riesgo en el financiamiento de nuevos emprendimientos, ya que no se existen vías de recupero del capital claras para los inversores.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ales problem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posit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eg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actibilidad del proyecto en sí</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to cos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tuación coyuntural del paí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81952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pital es complementario del empleo</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fer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existen fondos disponibl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ructura de intermedia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existen canales apropiados para conectar la oferta y la deman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and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biendo fonos y estructura, los sujetos plausibles de crédito no satisfacen las condiciones para que los mismos sean otorgado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Garantí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Involucramiento de fondos propi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nformación de la empresa es fundamental para revelar su verdadera naturaleza, dada la inquietud hacia el repafo que puede tener el acree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2000"/>
          </a:bodyPr>
          <a:p>
            <a:pPr marL="3153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esentación de información sobre</a:t>
            </a:r>
            <a:endParaRPr b="0" lang="en-US" sz="3200" spc="-1" strike="noStrike">
              <a:solidFill>
                <a:srgbClr val="000000"/>
              </a:solidFill>
              <a:latin typeface="Times New Roman"/>
            </a:endParaRPr>
          </a:p>
          <a:p>
            <a:pPr marL="315360" indent="-31536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idades pasadas</a:t>
            </a:r>
            <a:endParaRPr b="0" lang="en-US" sz="3200" spc="-1" strike="noStrike">
              <a:solidFill>
                <a:srgbClr val="000000"/>
              </a:solidFill>
              <a:latin typeface="Times New Roman"/>
            </a:endParaRPr>
          </a:p>
          <a:p>
            <a:pPr lvl="1" marL="683280" indent="-26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dos contables</a:t>
            </a:r>
            <a:endParaRPr b="0" lang="en-US" sz="2800" spc="-1" strike="noStrike">
              <a:solidFill>
                <a:srgbClr val="000000"/>
              </a:solidFill>
              <a:latin typeface="Times New Roman"/>
            </a:endParaRPr>
          </a:p>
          <a:p>
            <a:pPr lvl="1" marL="683280" indent="-26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c.</a:t>
            </a:r>
            <a:endParaRPr b="0" lang="en-US" sz="2800" spc="-1" strike="noStrike">
              <a:solidFill>
                <a:srgbClr val="000000"/>
              </a:solidFill>
              <a:latin typeface="Times New Roman"/>
            </a:endParaRPr>
          </a:p>
          <a:p>
            <a:pPr lvl="1" marL="683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spectivas futuras</a:t>
            </a:r>
            <a:endParaRPr b="0" lang="en-US" sz="3200" spc="-1" strike="noStrike">
              <a:solidFill>
                <a:srgbClr val="000000"/>
              </a:solidFill>
              <a:latin typeface="Times New Roman"/>
            </a:endParaRPr>
          </a:p>
          <a:p>
            <a:pPr lvl="1" marL="683280" indent="-26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lujos de fondos proyectados</a:t>
            </a:r>
            <a:endParaRPr b="0" lang="en-US" sz="2800" spc="-1" strike="noStrike">
              <a:solidFill>
                <a:srgbClr val="000000"/>
              </a:solidFill>
              <a:latin typeface="Times New Roman"/>
            </a:endParaRPr>
          </a:p>
          <a:p>
            <a:pPr lvl="1" marL="683280" indent="-26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yectos de inversión</a:t>
            </a:r>
            <a:endParaRPr b="0" lang="en-US" sz="2800" spc="-1" strike="noStrike">
              <a:solidFill>
                <a:srgbClr val="000000"/>
              </a:solidFill>
              <a:latin typeface="Times New Roman"/>
            </a:endParaRPr>
          </a:p>
          <a:p>
            <a:pPr lvl="1" marL="683280" indent="-26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empresas cuentan con la información clave para la gestión de las mism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provee esta información a las entidades financieras (u otro agente de financiamie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riterios fundamental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formación financiera actualizada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dos contables e información complementaria, proyectos de inversión, etc.</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pacidad de repago del deudor</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función del flujo financiero estimado y luego en base a liquidación de activos del cliente.</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eriodicidad de actualización de esta información</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spectiva bajo anális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ficultades que enfrentan las empresas para acceder a financiamiento bancar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ficultades que enfrentan las entidades financieras para realizar un adecuado análisis de la capacidad de pago de las empres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oblemas en las empresa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necesario definir y elaborar la información que debe ser provista para que se realice un adecuado análisis financier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emplar el largo plazo en la gestión y en las proyecciones que realiz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oblemas en las empres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formación a ser provista para realizar un adecuado análisis financiero</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der plasmar las proyecciones en flujos de fondos proyectad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ender la importancia de la capacidad de repag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mpresas con buena capacidad de repago imposibilitadas a acceder debido a no poder presentar esta inform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vestigación de campo</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analizaron dos dimens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mensión estratég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mensión de sistema inform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bjetivo de financiamiento, incorporar capital en la forma 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pital de tra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ctivos Fij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proyecto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Dimensión estratégica</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poseen objetivos de corto plaz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n poseen objetivos de largo plaz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planificaron como alcanzar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evalúan el desempeño de la empresa a la luz de esos objetivo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Dimensión estratégica</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52,17%  no posee objetivos a largo plaz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69% se maneja sin objetivos para el año en curs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15% no ha planificado como va a lograr los objetivos de largo plaz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1,73% no ha planificado como lograr esos objetivos de corto plaz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5,65% no realizan evaluación del cumplimiento de lo planificado para lograr los obj. de largo p.</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8,98% no evalúan el desempeño de la empresa a la luz de los objetivos de corto plazo</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Dimensión sistemas de informació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 presupuesto a tres a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 presupuesto a un añ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 flujo de fondos anu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utilizan flujo de fondos mensu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ea typeface="Times New Roman"/>
              </a:rPr>
              <a:t>Dimensión sistemas de informació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31% de la muestra no confecciona presupuesto a tres añ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9,27% de la muestra no confecciona presupuesto anu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9,56% de la muestra no confecciona flujo de fondos anu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82% de la muestra utiliza flujo de fondos mensu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blemas para acceder al crédito desde un punto de vista de informació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muchos casos los empresarios no consideran la información contable útil para la toma de decis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alta de preparación financiera en las pequeñas y medianas empres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se realizan proyecciones a largo plaz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09120"/>
            <a:ext cx="777240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uentes Tradicionales de Financiamiento:</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anancias Retenid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pliación de Capit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s Fuent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veedor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mpositiv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04920"/>
            <a:ext cx="8458200" cy="609480"/>
          </a:xfrm>
          <a:prstGeom prst="rect">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049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NVERS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3886200" y="1523880"/>
            <a:ext cx="1066680" cy="4114800"/>
          </a:xfrm>
          <a:prstGeom prst="rect">
            <a:avLst/>
          </a:prstGeom>
          <a:gradFill rotWithShape="0">
            <a:gsLst>
              <a:gs pos="0">
                <a:srgbClr val="0099cc"/>
              </a:gs>
              <a:gs pos="100000">
                <a:srgbClr val="00465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versión</a:t>
            </a:r>
            <a:endParaRPr b="0" lang="en-US" sz="2400" spc="-1" strike="noStrike">
              <a:solidFill>
                <a:srgbClr val="000000"/>
              </a:solidFill>
              <a:latin typeface="Times New Roman"/>
            </a:endParaRPr>
          </a:p>
        </p:txBody>
      </p:sp>
      <p:sp>
        <p:nvSpPr>
          <p:cNvPr id="53" name=""/>
          <p:cNvSpPr/>
          <p:nvPr/>
        </p:nvSpPr>
        <p:spPr>
          <a:xfrm>
            <a:off x="2362320" y="2743200"/>
            <a:ext cx="907920" cy="2895480"/>
          </a:xfrm>
          <a:prstGeom prst="rect">
            <a:avLst/>
          </a:prstGeom>
          <a:gradFill rotWithShape="0">
            <a:gsLst>
              <a:gs pos="0">
                <a:srgbClr val="ff7c80"/>
              </a:gs>
              <a:gs pos="50000">
                <a:srgbClr val="75393b"/>
              </a:gs>
              <a:gs pos="100000">
                <a:srgbClr val="ff7c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1523880"/>
            <a:ext cx="457200" cy="1219320"/>
          </a:xfrm>
          <a:custGeom>
            <a:avLst/>
            <a:gdLst>
              <a:gd name="textAreaLeft" fmla="*/ 292320 w 457200"/>
              <a:gd name="textAreaRight" fmla="*/ 457560 w 4572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600" y="1752480"/>
            <a:ext cx="173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Capital de trabajo o giro</a:t>
            </a:r>
            <a:endParaRPr b="0" lang="en-US" sz="1800" spc="-1" strike="noStrike">
              <a:solidFill>
                <a:srgbClr val="000000"/>
              </a:solidFill>
              <a:latin typeface="Times New Roman"/>
            </a:endParaRPr>
          </a:p>
        </p:txBody>
      </p:sp>
      <p:sp>
        <p:nvSpPr>
          <p:cNvPr id="56" name=""/>
          <p:cNvSpPr/>
          <p:nvPr/>
        </p:nvSpPr>
        <p:spPr>
          <a:xfrm>
            <a:off x="1066680" y="1523880"/>
            <a:ext cx="6934320" cy="0"/>
          </a:xfrm>
          <a:prstGeom prst="line">
            <a:avLst/>
          </a:prstGeom>
          <a:ln cap="rnd" w="38160">
            <a:solidFill>
              <a:srgbClr val="ff00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362320" y="1523880"/>
            <a:ext cx="907920" cy="1219320"/>
          </a:xfrm>
          <a:prstGeom prst="rect">
            <a:avLst/>
          </a:prstGeom>
          <a:gradFill rotWithShape="0">
            <a:gsLst>
              <a:gs pos="0">
                <a:srgbClr val="33cccc"/>
              </a:gs>
              <a:gs pos="5000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97640" y="3214800"/>
            <a:ext cx="845280" cy="5205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66"/>
                </a:solidFill>
                <a:latin typeface="Arial"/>
              </a:rPr>
              <a:t>=</a:t>
            </a:r>
            <a:endParaRPr b="0" lang="en-US" sz="2800" spc="-1" strike="noStrike">
              <a:solidFill>
                <a:srgbClr val="000000"/>
              </a:solidFill>
              <a:latin typeface="Times New Roman"/>
            </a:endParaRPr>
          </a:p>
        </p:txBody>
      </p:sp>
      <p:sp>
        <p:nvSpPr>
          <p:cNvPr id="60" name=""/>
          <p:cNvSpPr/>
          <p:nvPr/>
        </p:nvSpPr>
        <p:spPr>
          <a:xfrm>
            <a:off x="1905120" y="2743200"/>
            <a:ext cx="457200" cy="2819520"/>
          </a:xfrm>
          <a:custGeom>
            <a:avLst/>
            <a:gdLst>
              <a:gd name="textAreaLeft" fmla="*/ 292320 w 457200"/>
              <a:gd name="textAreaRight" fmla="*/ 457560 w 4572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04920" y="3809880"/>
            <a:ext cx="173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Times New Roman"/>
              </a:rPr>
              <a:t>Capital de infraestructura</a:t>
            </a:r>
            <a:endParaRPr b="0" lang="en-US" sz="1800" spc="-1" strike="noStrike">
              <a:solidFill>
                <a:srgbClr val="000000"/>
              </a:solidFill>
              <a:latin typeface="Times New Roman"/>
            </a:endParaRPr>
          </a:p>
        </p:txBody>
      </p:sp>
      <p:sp>
        <p:nvSpPr>
          <p:cNvPr id="62" name=""/>
          <p:cNvSpPr/>
          <p:nvPr/>
        </p:nvSpPr>
        <p:spPr>
          <a:xfrm>
            <a:off x="5416560" y="3124080"/>
            <a:ext cx="907920" cy="2514600"/>
          </a:xfrm>
          <a:prstGeom prst="rect">
            <a:avLst/>
          </a:prstGeom>
          <a:gradFill rotWithShape="0">
            <a:gsLst>
              <a:gs pos="0">
                <a:srgbClr val="333399"/>
              </a:gs>
              <a:gs pos="5000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16560" y="1523880"/>
            <a:ext cx="907920" cy="160020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1981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Financiamiento con deuda</a:t>
            </a:r>
            <a:endParaRPr b="0" lang="en-US" sz="1800" spc="-1" strike="noStrike">
              <a:solidFill>
                <a:srgbClr val="000000"/>
              </a:solidFill>
              <a:latin typeface="Times New Roman"/>
            </a:endParaRPr>
          </a:p>
        </p:txBody>
      </p:sp>
      <p:sp>
        <p:nvSpPr>
          <p:cNvPr id="65" name=""/>
          <p:cNvSpPr/>
          <p:nvPr/>
        </p:nvSpPr>
        <p:spPr>
          <a:xfrm>
            <a:off x="6324480" y="3124080"/>
            <a:ext cx="457200" cy="2514600"/>
          </a:xfrm>
          <a:custGeom>
            <a:avLst/>
            <a:gdLst>
              <a:gd name="textAreaLeft" fmla="*/ 0 w 457200"/>
              <a:gd name="textAreaRight" fmla="*/ 164880 w 4572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0" y="40384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Financiamiento con capital propio</a:t>
            </a:r>
            <a:endParaRPr b="0" lang="en-US" sz="1800" spc="-1" strike="noStrike">
              <a:solidFill>
                <a:srgbClr val="000000"/>
              </a:solidFill>
              <a:latin typeface="Times New Roman"/>
            </a:endParaRPr>
          </a:p>
        </p:txBody>
      </p:sp>
      <p:sp>
        <p:nvSpPr>
          <p:cNvPr id="67" name=""/>
          <p:cNvSpPr/>
          <p:nvPr/>
        </p:nvSpPr>
        <p:spPr>
          <a:xfrm>
            <a:off x="4497840" y="3200400"/>
            <a:ext cx="845280" cy="5205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66"/>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argentina en pequeñas y medianas empresas nos muestra que se financian principalmente con reinversión de sus propias utilidades y con crédito de proveedores, evidencia toda consistente con mercados de capitales poco desarrollados, lo que evidentemente dificulta lograr escalas de producción interesantes.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371600"/>
            <a:ext cx="79246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udios encuentran que el financiamiento en países desarrollados de empresas no financieras descans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8.9% en instrumentos de deuda,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9% en emisión de accione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1% en reinversión de gananci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440" y="137160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entras que en Argenti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79% del financiamiento proviene de la reinversión de ganancia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entras que solo 6.9% surge del crédito de bancos.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295280"/>
            <a:ext cx="79246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s similar en otros estudios. De una encuesta efectuada por FIEL:</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70% de los encuestados contestan que la reinversión de utilidades es su principal fuente de financiamiento,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aporte de los propios socios representa 12,5% en casos PYMES y 7,3% de grandes empres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C.E.C.A.B.A.</cp:lastModifiedBy>
  <dcterms:modified xsi:type="dcterms:W3CDTF">2004-10-13T13:30:22Z</dcterms:modified>
  <cp:revision>6</cp:revision>
  <dc:subject/>
  <dc:title>Financiamiento de Pymes</dc:title>
</cp:coreProperties>
</file>