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3A4-496F-480F-AF50-1D8F5205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BC45-38C7-44C7-8305-308F2DEE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664-5E45-468B-85E2-BFF75422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2B2-1159-4BE9-8144-1A627E56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7A12-2CDA-4832-8C53-594F7502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8175-E197-4971-AA34-B0C1E7A2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778B-2D50-48E0-A151-3B8F30B2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9358-7452-4BE3-9965-787FF5B7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2268-ADC7-43DA-9E08-9567385A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4885-2F24-40BB-BF77-58834951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8C74-148E-4881-A3AB-25167436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2B2-F55B-4086-8E35-4D1D1D77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572F-1305-4383-98F0-2B3E6A62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A36E-C3E7-42B8-B042-79307971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66C8-DDFE-47C5-9D49-71D35CB5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E536-250D-4ADE-9FA8-71D52582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B2EF-4863-4FE1-A9AB-63DDE280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E0A-4D50-43A5-8EC8-689B38A0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739-D195-40EA-AF6A-9E555984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D28-F86F-4601-8AE4-87E6C7E1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397C-1DDE-4B8D-AB8F-78CACA5B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C8E3-8A55-44ED-BE51-4179891E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D65-9E08-4D5F-86FB-54985ABE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2E8B-6507-4CDC-94C6-EEB5FF48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7B92-FAE4-484F-9BA4-19E9AB7E7532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5DCB-CB69-4D42-8005-B1DA5287BCA3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9144000" cy="338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Arial"/>
              </a:rPr>
              <a:t>REGLAMENTACIÓN Y PROBLEMAS TÉCNICOS RELACIONADOS CON LA PUESTA EN MARCHA DE MICROEMPRENDIMIENTOS AGROALIMENTARIOS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1480" y="184320"/>
            <a:ext cx="814104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00"/>
                </a:solidFill>
                <a:latin typeface="Arial"/>
              </a:rPr>
              <a:t>VIII Congreso de la Pequeña y Mediana Empresa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00"/>
                </a:solidFill>
                <a:latin typeface="Arial"/>
              </a:rPr>
              <a:t>Ciudad de Autónoma de Buenos Aires – 30 de Septiembre y 1 de Octubre de 2004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5105520"/>
            <a:ext cx="6400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3300"/>
                </a:solidFill>
                <a:latin typeface="Arial"/>
              </a:rPr>
              <a:t>Lic. en Administración Marina Cordisco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3300"/>
                </a:solidFill>
                <a:latin typeface="Arial"/>
              </a:rPr>
              <a:t>Ing. Químico José Luis Méndez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3300"/>
                </a:solidFill>
                <a:latin typeface="Arial"/>
              </a:rPr>
              <a:t>Dra. en Ing. Química Diana Constenla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09680" y="623880"/>
            <a:ext cx="464832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ALCANCE DE OBJETIVOS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28600" y="1600200"/>
          <a:ext cx="8686800" cy="4857480"/>
        </p:xfrm>
        <a:graphic>
          <a:graphicData uri="http://schemas.openxmlformats.org/drawingml/2006/table">
            <a:tbl>
              <a:tblPr/>
              <a:tblGrid>
                <a:gridCol w="2097000"/>
                <a:gridCol w="6589800"/>
              </a:tblGrid>
              <a:tr h="78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8bae6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ro parcial del relevamiento de actividades 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8bae6c"/>
                    </a:solidFill>
                  </a:tcPr>
                </a:tc>
              </a:tr>
              <a:tr h="4069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mprendimientos llevados a cabo por sectores poblacionales de bajos recursos económicos para sustento familiar, localizados en la periferia de la ciudad y desarrollados en dependencias de los hogares de los dueños.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ormados por menos de seis personas, relacionados por vínculos de amistad o parentesco.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 están integrados bajo ningún tipo de asociación con otros microemprendimientos.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ienen origen en los Clubes de Trueque.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l escaso control municipal sobre esta zona, facilita la proliferación de productos sin número de inscripción ni habilitación del local elaborador.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ducto bien presentado, acorde a la calidad y a la elaboración artesanal.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28600" y="1752480"/>
          <a:ext cx="8686800" cy="3962520"/>
        </p:xfrm>
        <a:graphic>
          <a:graphicData uri="http://schemas.openxmlformats.org/drawingml/2006/table">
            <a:tbl>
              <a:tblPr/>
              <a:tblGrid>
                <a:gridCol w="2097000"/>
                <a:gridCol w="6589800"/>
              </a:tblGrid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8bae6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ha elaborado y distribuido una guía que reúne conceptos básicos y requisitos indispensables a tener en cuenta, para la elaboración de alimentos. 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8bae6c"/>
                    </a:solidFill>
                  </a:tcPr>
                </a:tc>
              </a:tr>
              <a:tr h="15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8bae6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 general, los establecimientos relevados han manifestado una tendencia hacia la producción artesanal de productos derivados de la soja, las frutas y típicos de comunidades inmigrantes.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8bae6c"/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8bae6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gnóstico estratégico (Matriz FODA) y elaboración de estrategias particularmente a los tres microemprendimientos asesorados.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8bae6c"/>
                    </a:solidFill>
                  </a:tcPr>
                </a:tc>
              </a:tr>
            </a:tbl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09680" y="623880"/>
            <a:ext cx="464832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ALCANCE DE OBJETIVOS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8120" y="623880"/>
            <a:ext cx="304776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CONCLUSIONES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Restricciones fiscales marcan una tendencia inexorable hacia la informalidad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52578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Carencia de fuentes de financiamiento y alternativas para obtener fondo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004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Los productores SABEN QUÉ quieren hacer y lograr, pero NO SABEN CÓMO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11480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Pueden mejorarse aspectos técnicos y procesos productivo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8120" y="623880"/>
            <a:ext cx="304776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CONCLUSIONES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9040" y="3276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Urge la modificación de la legislación y requisitos legales vigentes para este tipo particular de empresa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9040" y="1905120"/>
            <a:ext cx="8305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Necesidad de diseñar estrategias y políticas que promuevan nuevas formas asociativas de producción y reproducción centradas en el trabajo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4648320"/>
            <a:ext cx="8305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Enfoque sistémico que ayude a la convergencia de las necesidades empresariales y de la comunidad, dando origen a la posibilidad de pensar en “clusters”: </a:t>
            </a:r>
            <a:r>
              <a:rPr b="1" i="1" lang="es-MX" sz="2400" spc="-1" strike="noStrike">
                <a:solidFill>
                  <a:srgbClr val="003300"/>
                </a:solidFill>
                <a:latin typeface="Arial"/>
              </a:rPr>
              <a:t>¿en qué debe especializarse la ciudad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556272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Arial"/>
              </a:rPr>
              <a:t>PROPUESTA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923760" indent="0">
              <a:lnSpc>
                <a:spcPct val="120000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0000"/>
                </a:solidFill>
                <a:uFillTx/>
                <a:latin typeface="Arial"/>
              </a:rPr>
              <a:t>Paso 1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s-MX" sz="2000" spc="-1" strike="noStrike">
                <a:solidFill>
                  <a:srgbClr val="003300"/>
                </a:solidFill>
                <a:latin typeface="Arial"/>
              </a:rPr>
              <a:t> Seguimiento y extensión de las actividades de asesoramiento, articulando la Universidad con su medio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923760" indent="0">
              <a:lnSpc>
                <a:spcPct val="120000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0000"/>
                </a:solidFill>
                <a:uFillTx/>
                <a:latin typeface="Arial"/>
              </a:rPr>
              <a:t>Paso 2: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3300"/>
                </a:solidFill>
                <a:latin typeface="Arial"/>
              </a:rPr>
              <a:t>Elaboración y posterior redacción de requerimientos bromatológicos y económicos, acordes a las capacidades actuales y reales, fundamentalmente de capital, producción y pago de estos futuros contribuyentes, basados en los antecedentes provinciales en vigencia, en la Municipalidad de Necochea (OM 4857/02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923760" indent="0">
              <a:lnSpc>
                <a:spcPct val="120000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0000"/>
                </a:solidFill>
                <a:uFillTx/>
                <a:latin typeface="Arial"/>
              </a:rPr>
              <a:t>Paso 3:</a:t>
            </a:r>
            <a:r>
              <a:rPr b="1" lang="es-MX" sz="2000" spc="-1" strike="noStrike">
                <a:solidFill>
                  <a:srgbClr val="003300"/>
                </a:solidFill>
                <a:latin typeface="Arial"/>
              </a:rPr>
              <a:t> Formación o constitución de una entidad de bien público, para proteger estas microempresas en su ingreso al mercado “legal”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120" y="1708200"/>
            <a:ext cx="8077320" cy="45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es-AR" sz="3200" spc="-1" strike="noStrike">
                <a:solidFill>
                  <a:srgbClr val="003300"/>
                </a:solidFill>
                <a:latin typeface="Arial"/>
              </a:rPr>
              <a:t>En todo país donde la naturaleza colma con creces las necesidades de los hombres, la escasez no puede ser imputada más que a los vicios de la administración o de las propias leyes, y las malas leyes y la mala administración tienen su origen en los falsos principios y en las malas costumbres.”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1810440" indent="0" algn="ctr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AR" sz="1800" spc="-1" strike="noStrike">
                <a:solidFill>
                  <a:srgbClr val="003300"/>
                </a:solidFill>
                <a:latin typeface="Arial"/>
              </a:rPr>
              <a:t>Robespierre. 1789</a:t>
            </a:r>
            <a:r>
              <a:rPr b="1" i="1" lang="es-E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28400" y="547560"/>
            <a:ext cx="462924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PLANTEO del PROBLEMA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Prestar asesoramiento, con base en el conocimiento científico a un sector de la sociedad que no ha tenido posibilidad de acceder a conocimientos tecnológicos y que no dispone de recursos monetarios suficientes como para regirse por completo en los términos que impone la ley, en materia de habilitaciones municipales, para la elaboración y el expendio de productos alimenticios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1080" y="623880"/>
            <a:ext cx="221760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OBJETIVOS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676160"/>
            <a:ext cx="7391520" cy="9169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00"/>
                </a:solidFill>
                <a:latin typeface="Arial"/>
              </a:rPr>
              <a:t>Efectuar un relevamiento de las actividades desarrolladas por establecimientos familiares productores de agroalimentos en la ciudad de Bahía Blanca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695320"/>
            <a:ext cx="7239240" cy="119124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00"/>
                </a:solidFill>
                <a:latin typeface="Arial"/>
              </a:rPr>
              <a:t>Recabar información referida a disposiciones y normas legales exigidas para el establecimiento, los procesos, el personal, y el producto, en la elaboración de agroalimentos, que sirva de base para el asesoramiento en futuros emprendimiento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4114440"/>
            <a:ext cx="716292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00"/>
                </a:solidFill>
                <a:latin typeface="Arial"/>
              </a:rPr>
              <a:t>Clasificar los establecimientos productivos, en función del producto ofrecido al mercado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952520"/>
            <a:ext cx="716292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00"/>
                </a:solidFill>
                <a:latin typeface="Arial"/>
              </a:rPr>
              <a:t>Realizar un  análisis interno y externo de algunos emprendimientos en particular. Aplicación del modelo FODA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5728680"/>
            <a:ext cx="7086600" cy="3682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00"/>
                </a:solidFill>
                <a:latin typeface="Arial"/>
              </a:rPr>
              <a:t>Determinar variables estratégica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120" y="533520"/>
            <a:ext cx="559764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Los MICROEMPRENDIMIENTOS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20" y="1676160"/>
            <a:ext cx="9067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3300"/>
                </a:solidFill>
                <a:uFillTx/>
                <a:latin typeface="Arial"/>
              </a:rPr>
              <a:t>FIDEOS BUEN PROVECHO</a:t>
            </a:r>
            <a:r>
              <a:rPr b="1" lang="es-MX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s-MX" sz="1800" spc="-1" strike="noStrike">
                <a:solidFill>
                  <a:srgbClr val="003300"/>
                </a:solidFill>
                <a:latin typeface="Arial"/>
              </a:rPr>
              <a:t>elaboración de fideos secos saborizado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3300"/>
                </a:solidFill>
                <a:uFillTx/>
                <a:latin typeface="Arial"/>
              </a:rPr>
              <a:t>OLIVARES de la BAHÍA</a:t>
            </a:r>
            <a:r>
              <a:rPr b="1" lang="es-MX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s-MX" sz="1800" spc="-1" strike="noStrike">
                <a:solidFill>
                  <a:srgbClr val="003300"/>
                </a:solidFill>
                <a:latin typeface="Arial"/>
              </a:rPr>
              <a:t>elaboración de aceite de oliva, a partir de materia prima de producción propia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3300"/>
                </a:solidFill>
                <a:uFillTx/>
                <a:latin typeface="Arial"/>
              </a:rPr>
              <a:t>Las CUATRO ESTACIONES</a:t>
            </a:r>
            <a:r>
              <a:rPr b="1" lang="es-MX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s-MX" sz="1800" spc="-1" strike="noStrike">
                <a:solidFill>
                  <a:srgbClr val="003300"/>
                </a:solidFill>
                <a:latin typeface="Arial"/>
              </a:rPr>
              <a:t>elaboración de licores y dulces y productos de tipo “delicatessen”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03640" y="3124080"/>
            <a:ext cx="1702080" cy="1514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6eeb4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CONTEXTO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133800"/>
            <a:ext cx="1701720" cy="1514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ACTIVIDAD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CENTRAL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DEL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NEGOCIO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791320"/>
            <a:ext cx="1789200" cy="6858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1f7e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Administració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y Finanza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78240" y="4952880"/>
            <a:ext cx="1788840" cy="6858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1f7e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Comercializació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5791320"/>
            <a:ext cx="1752480" cy="6858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1f7e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4038480"/>
            <a:ext cx="1712880" cy="60984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Normas legal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712880" cy="60948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Competencia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Misió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38098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Objetivos (corto y largo plazo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4"/>
            <a:endCxn id="111" idx="0"/>
          </p:cNvCxnSpPr>
          <p:nvPr/>
        </p:nvCxnSpPr>
        <p:spPr>
          <a:xfrm>
            <a:off x="3365640" y="4660560"/>
            <a:ext cx="8640" cy="29268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1" idx="6"/>
            <a:endCxn id="112" idx="0"/>
          </p:cNvCxnSpPr>
          <p:nvPr/>
        </p:nvCxnSpPr>
        <p:spPr>
          <a:xfrm>
            <a:off x="4267080" y="5295960"/>
            <a:ext cx="953280" cy="496080"/>
          </a:xfrm>
          <a:prstGeom prst="curvedConnector2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2" idx="2"/>
            <a:endCxn id="110" idx="6"/>
          </p:cNvCxnSpPr>
          <p:nvPr/>
        </p:nvCxnSpPr>
        <p:spPr>
          <a:xfrm flipH="1">
            <a:off x="2169360" y="6133680"/>
            <a:ext cx="2174040" cy="1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0" idx="0"/>
            <a:endCxn id="111" idx="2"/>
          </p:cNvCxnSpPr>
          <p:nvPr/>
        </p:nvCxnSpPr>
        <p:spPr>
          <a:xfrm flipH="1" flipV="1" rot="5400000">
            <a:off x="1628640" y="4942440"/>
            <a:ext cx="496080" cy="1202400"/>
          </a:xfrm>
          <a:prstGeom prst="curvedConnector2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3" idx="2"/>
            <a:endCxn id="112" idx="6"/>
          </p:cNvCxnSpPr>
          <p:nvPr/>
        </p:nvCxnSpPr>
        <p:spPr>
          <a:xfrm rot="5400000">
            <a:off x="6238440" y="4505040"/>
            <a:ext cx="1486440" cy="1772640"/>
          </a:xfrm>
          <a:prstGeom prst="curvedConnector2">
            <a:avLst/>
          </a:prstGeom>
          <a:ln w="152280">
            <a:solidFill>
              <a:srgbClr val="ff00ff"/>
            </a:solidFill>
            <a:prstDash val="sysDot"/>
            <a:miter/>
            <a:tailEnd len="med" type="triangle" w="med"/>
          </a:ln>
        </p:spPr>
      </p:cxnSp>
      <p:cxnSp>
        <p:nvCxnSpPr>
          <p:cNvPr id="122" name=""/>
          <p:cNvCxnSpPr>
            <a:stCxn id="109" idx="6"/>
            <a:endCxn id="108" idx="2"/>
          </p:cNvCxnSpPr>
          <p:nvPr/>
        </p:nvCxnSpPr>
        <p:spPr>
          <a:xfrm flipV="1">
            <a:off x="4229280" y="3881160"/>
            <a:ext cx="762480" cy="10080"/>
          </a:xfrm>
          <a:prstGeom prst="straightConnector1">
            <a:avLst/>
          </a:prstGeom>
          <a:ln w="7632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7162920" y="579132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3300"/>
                </a:solidFill>
                <a:latin typeface="Arial"/>
              </a:rPr>
              <a:t>Perfeccionamiento aspectos técnicos y legales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609480"/>
            <a:ext cx="285120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MODELO FODA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12040" y="1676520"/>
            <a:ext cx="16880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2209680"/>
            <a:ext cx="8991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00"/>
                </a:solidFill>
                <a:latin typeface="Arial"/>
              </a:rPr>
              <a:t>Competencias/ Habilidades Empresariales: visión, convicción, decisión, vocación al trabajo, buena comunicación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Conciencia sobre la importancia del aseguramiento de la calidad en procesos y productos, como arma competitiva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Aspectos relacionados con la fabricación: capacitación, producción artesanal, integración de eslabones en la cadena agroalimentaria del sector, interés en diversificación de la producción, localización acorde a lo establecido por la legislación local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Adecuada selección del mercado objetivo. Productos diferenciados y destinados a un segmento específico de la demanda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Utilización de información proveniente de bibliografía especializada e internet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Venta directa como técnica de comercialización, para transmitir, en forma personalizada las bondades de los productos ofrecidos y favorecer la publicidad de boca en boca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95280"/>
            <a:ext cx="6098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68720" y="609480"/>
            <a:ext cx="285120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MODELO FODA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720" y="1981080"/>
            <a:ext cx="23479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2895480"/>
            <a:ext cx="87631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00"/>
                </a:solidFill>
                <a:latin typeface="Arial"/>
              </a:rPr>
              <a:t>Detectar gustos y cambios de la demanda, a partir de la creación de vínculos estrechos con los consumidor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Explotar canales de comercialización alternativos y no tradicional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Creación de lazos sólidos y estables con productores de insumos (integración hacia atrás virtual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Integración/ asociación entre los productores de microemprendimientos diferent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5640" y="1293840"/>
            <a:ext cx="609480" cy="488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5800" y="609480"/>
            <a:ext cx="284004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MODELO FOD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9480" y="609480"/>
            <a:ext cx="284004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MODELO FOD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8720" y="609480"/>
            <a:ext cx="285120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MODELO FODA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13040" y="1600200"/>
            <a:ext cx="1890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2057400"/>
            <a:ext cx="8991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00"/>
                </a:solidFill>
                <a:latin typeface="Arial"/>
              </a:rPr>
              <a:t>Societarias: no existen por escrito las obligaciones y responsabilidades de cada uno de los miembros ni la forma en que se llevará adelante el negocio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Financieras: alta inversión inicial y falta de fondo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No se aplican herramientas de administración y gestión en las actividad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Estructura reducida, con superposición de tareas,  y ausencia de otra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Asesoramiento externo escaso y, en caso de existir, netamente contable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Actividades de fabricación: baja consideración de la normativa legal en las instalaciones; en general, el local de elaboración es parte del hogar; no existen puntos de control de calidad; productos de calidad no uniforme; tecnología y equipamiento generales, obsoletos y/o reacondicionados para realizar las operaciones; producción intermitente, no estandarizada, de poca escala y altamente dependiente de la demanda; poco poder de negociación con proveedores (bajo volumen de compra); empleados sin cobertura por accidentes de trabajo y contratados “en negro”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Dificultades de venta de los producto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1219320"/>
            <a:ext cx="6098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9480" y="609480"/>
            <a:ext cx="284004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MODELO FOD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68720" y="609480"/>
            <a:ext cx="285120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MODELO FODA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12040" y="1905120"/>
            <a:ext cx="16866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819520"/>
            <a:ext cx="8534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00"/>
                </a:solidFill>
                <a:latin typeface="Arial"/>
              </a:rPr>
              <a:t>Competidores con tecnología, recursos, infraestructura y logística superiores que satisfagan las mismas necesidad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Demorar o no conseguir la habilitación municipal del local de producción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Arial"/>
              </a:rPr>
              <a:t>Consumo de productos alternativo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1295280"/>
            <a:ext cx="6098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9480" y="609480"/>
            <a:ext cx="284004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6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Arial"/>
              </a:rPr>
              <a:t>MODELO FOD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17:13:35Z</dcterms:created>
  <dc:creator>Default</dc:creator>
  <dc:description/>
  <dc:language>en-US</dc:language>
  <cp:lastModifiedBy>C.P.C.E.C.A.B.A.</cp:lastModifiedBy>
  <dcterms:modified xsi:type="dcterms:W3CDTF">2004-10-12T21:44:46Z</dcterms:modified>
  <cp:revision>53</cp:revision>
  <dc:subject/>
  <dc:title>MATRIZ DE DESEMPEÑO SUSTENTABLE</dc:title>
</cp:coreProperties>
</file>