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5E24-7BD9-4663-BFEC-44B686E34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6207-9A1B-4EA8-A712-DCB4A814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A924-6327-4890-B00D-F273AAFAB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4525-0E03-4A10-B911-B986AB355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5621-BE8B-4187-861D-14CFDDE03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D6A6-CCBD-4808-BFF8-22E79883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D080-53D3-4D11-833A-3D35C2F4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5168-E9A7-460A-9176-4AB2D2EC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C5F9-2D64-472C-B3A3-63EAB189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9976-3269-4247-AD59-600A2B90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6598-9D0F-489E-8511-1E9831C5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8119-9991-4E25-B277-FAC9B490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A58D-E0FA-4A5C-BA34-4D085527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CB56-3EC4-4EDA-9CCB-CD1DE358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462F-DC74-4FBB-8442-5C00AAE3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CB7A-7131-48A2-A815-7EF15E2C7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9485-1DB0-4FEF-9ECA-04D5FF06A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9F84-B68A-4F8B-B8E5-9159520C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A4A4-DE39-4936-9C67-35156AD8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EA0E-1504-4D5B-A649-D4D289CD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9F11-F5D5-4554-AD59-A82CF5B9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2B87-80C0-4A27-9EE3-03847BB2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E77B-01F6-4275-958A-8A26F99D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6DB4-8714-4C7A-BC5E-5F6D3DB1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FCDF-4473-456E-BD2D-776EB23B7D2E}" type="slidenum">
              <a:rPr b="1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F978-B8F1-4CA6-8169-BD6F4BB74F34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Verdana"/>
              </a:rPr>
              <a:t>VIII Congreso de la Pequeña y Mediana Empres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eaea"/>
                </a:solidFill>
                <a:latin typeface="Verdana"/>
              </a:rPr>
              <a:t>RESPONSABILIDAD SOCIAL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eaea"/>
                </a:solidFill>
                <a:latin typeface="Verdana"/>
              </a:rPr>
              <a:t>EMPRESARIA y las PyME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30 de Setiembre y 1º de Octub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Buenos Air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CPCECAB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RESPONSABILIDAD SOCIAL EMPRESARIA (R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Cinco</a:t>
            </a:r>
            <a:r>
              <a:rPr b="1" lang="es-E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 </a:t>
            </a:r>
            <a:r>
              <a:rPr b="1" lang="es-ES_tradnl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aspectos</a:t>
            </a:r>
            <a:r>
              <a:rPr b="1" lang="es-E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 de la empresa que deben</a:t>
            </a:r>
            <a:r>
              <a:rPr b="1" lang="es-ES_tradnl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 </a:t>
            </a:r>
            <a:r>
              <a:rPr b="1" lang="es-E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desarrollar la RSE</a:t>
            </a:r>
            <a:r>
              <a:rPr b="1" lang="es-ES_tradnl" sz="32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Valores y Principios Étic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Condiciones de Ambiente de Trabajo y Emple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Apoyo a la Comunida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Protección del Medio Ambien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cc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Marketing Responsable</a:t>
            </a:r>
            <a:r>
              <a:rPr b="0" lang="es-ES" sz="3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RESPONSABILIDAD SOCIAL EMPRESARIA (R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¿Es viable económicamente la RSE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En principio es una responsabilidad de la empresa por encima de lo económic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Aunque el tema de la RSE genera interés entre los empresarios, lo económico es un aspecto que preocup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Podemos analizar este aspecto desde dos ángulo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Los costos de la falta de ética y RS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Verdana"/>
              </a:rPr>
              <a:t>Beneficios de la implementación del plan de R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RESPONSABILIDAD SOCIAL EMPRESARIA (R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aeaea"/>
                </a:solidFill>
                <a:latin typeface="Verdana"/>
              </a:rPr>
              <a:t>Beneficios de la implementación de un plan de R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Mejora el desempeño financier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Incrementa la moral, compromiso, retensión y desempeño de los trabajador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Fortalece la imagen de la empres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Incrementa la lealtad y preferencia de los consumidores</a:t>
            </a:r>
            <a:r>
              <a:rPr b="0" lang="es-ES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RESPONSABILIDAD SOCIAL EMPRESARIA (R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aeaea"/>
                </a:solidFill>
                <a:latin typeface="Verdana"/>
              </a:rPr>
              <a:t>Ventajas de las PyMES para aplicar la R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Toma de decisiones más rápid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Vínculo más estrecho con la comunidad en la que trabaj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Mayor identificación de los empleados con empresa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Muchas ya están aplicando principios de la RSE y pueden implementarla en forma completa con más facilida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RESPONSABILIDAD SOCIAL EMPRESARIA (R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Conclusió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La responsabilidad social comienza donde termina la obligación leg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Es una oportunidad para las empresas de asumir una nueva dimensión de protagonismo dentro de la sociedad, siendo agentes de cambio, mostrando sensibilidad por lo ético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RESPONSABILIDAD SOCIAL EMPRESARIA (R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OBJETIVO DE LA PRESENTACIÓN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Introducción al concepto de Responsabilidad Social Empresaria </a:t>
            </a:r>
            <a:r>
              <a:rPr b="0" lang="es-ES_tradnl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(RSE), su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 importancia</a:t>
            </a:r>
            <a:r>
              <a:rPr b="0" lang="es-ES_tradnl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y aplicación a las PyM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RESPONSABILIDAD SOCIAL EMPRESARIA (R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La RSE es un concepto de mucha actualidad</a:t>
            </a:r>
            <a:r>
              <a:rPr b="0" lang="es-ES_tradnl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, que se está analizando en muchos ámbit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En Europa y USA tiene más de una décad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En nuestra región a tomado más fuerza los últimos 2 o 3 añ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Las crisis económicas y los problemas éticos denotados en varias esferas  ayudó a generar conciencia de su importanc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RESPONSABILIDAD SOCIAL EMPRESARIA (R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Es un tema presente en la mayoría de los congresos de administració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Se están realizando congresos  dedicados exclusivamente a analizar la RSE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Organizaciones que se dedican a promover la R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IARSE (Argentin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Ethos (Brasil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AcciónRSE (Chil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Verdana"/>
              </a:rPr>
              <a:t>DERES (Uruguay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RESPONSABILIDAD SOCIAL EMPRESARIA (R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Cuando la empresa toma decisiones, además de los aspectos internos tiene en cuenta su </a:t>
            </a:r>
            <a:r>
              <a:rPr b="0" lang="es-ES_tradnl" sz="3200" spc="-1" strike="noStrike" u="sng">
                <a:solidFill>
                  <a:srgbClr val="eaeaea"/>
                </a:solidFill>
                <a:uFillTx/>
                <a:latin typeface="Verdana"/>
              </a:rPr>
              <a:t>entorno</a:t>
            </a: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lient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Proveedor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petenc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obiern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Sociedad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Verdana"/>
              </a:rPr>
              <a:t>Ambiente interno: Empleados y accionista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RESPONSABILIDAD SOCIAL EMPRESARIA (R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aeaea"/>
                </a:solidFill>
                <a:latin typeface="Verdana"/>
                <a:ea typeface="Times New Roman"/>
              </a:rPr>
              <a:t>Pero hay otra perspectiva de análisis </a:t>
            </a:r>
            <a:r>
              <a:rPr b="1" lang="es-ES_tradnl" sz="3600" spc="-1" strike="noStrike">
                <a:solidFill>
                  <a:srgbClr val="eaeaea"/>
                </a:solidFill>
                <a:latin typeface="Verdana"/>
                <a:ea typeface="Times New Roman"/>
              </a:rPr>
              <a:t>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eaeaea"/>
                </a:solidFill>
                <a:latin typeface="Verdana"/>
                <a:ea typeface="Times New Roman"/>
              </a:rPr>
              <a:t> </a:t>
            </a:r>
            <a:r>
              <a:rPr b="0" i="1" lang="es-ES" sz="4000" spc="-1" strike="noStrike">
                <a:solidFill>
                  <a:srgbClr val="eaeaea"/>
                </a:solidFill>
                <a:latin typeface="Verdana"/>
                <a:ea typeface="Times New Roman"/>
              </a:rPr>
              <a:t>¿Cómo afecta a ese entorno las decisiones que se toman?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aeaea"/>
                </a:solidFill>
                <a:latin typeface="Verdana"/>
                <a:ea typeface="Times New Roman"/>
              </a:rPr>
              <a:t>Aquí es donde </a:t>
            </a:r>
            <a:r>
              <a:rPr b="0" lang="es-ES_tradnl" sz="3600" spc="-1" strike="noStrike">
                <a:solidFill>
                  <a:srgbClr val="eaeaea"/>
                </a:solidFill>
                <a:latin typeface="Verdana"/>
                <a:ea typeface="Times New Roman"/>
              </a:rPr>
              <a:t>podemos </a:t>
            </a:r>
            <a:r>
              <a:rPr b="0" lang="es-ES" sz="3600" spc="-1" strike="noStrike">
                <a:solidFill>
                  <a:srgbClr val="eaeaea"/>
                </a:solidFill>
                <a:latin typeface="Verdana"/>
                <a:ea typeface="Times New Roman"/>
              </a:rPr>
              <a:t>comenzar con</a:t>
            </a:r>
            <a:r>
              <a:rPr b="0" lang="es-ES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es-ES" sz="3600" spc="-1" strike="noStrike">
                <a:solidFill>
                  <a:srgbClr val="eaeaea"/>
                </a:solidFill>
                <a:latin typeface="Verdana"/>
                <a:ea typeface="Times New Roman"/>
              </a:rPr>
              <a:t>los planteos que </a:t>
            </a:r>
            <a:r>
              <a:rPr b="0" lang="es-ES_tradnl" sz="3600" spc="-1" strike="noStrike">
                <a:solidFill>
                  <a:srgbClr val="eaeaea"/>
                </a:solidFill>
                <a:latin typeface="Verdana"/>
                <a:ea typeface="Times New Roman"/>
              </a:rPr>
              <a:t>introducen</a:t>
            </a:r>
            <a:r>
              <a:rPr b="0" lang="es-ES" sz="3600" spc="-1" strike="noStrike">
                <a:solidFill>
                  <a:srgbClr val="eaeaea"/>
                </a:solidFill>
                <a:latin typeface="Verdana"/>
                <a:ea typeface="Times New Roman"/>
              </a:rPr>
              <a:t> la RSE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RESPONSABILIDAD SOCIAL EMPRESARIA (R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aeaea"/>
                </a:solidFill>
                <a:latin typeface="Verdana"/>
                <a:ea typeface="Times New Roman"/>
              </a:rPr>
              <a:t>Otro ángulo para los planteos: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aeaea"/>
                </a:solidFill>
                <a:latin typeface="Verdana"/>
                <a:ea typeface="Times New Roman"/>
              </a:rPr>
              <a:t>Los fines de la empres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aeaea"/>
                </a:solidFill>
                <a:latin typeface="Verdana"/>
                <a:ea typeface="Times New Roman"/>
              </a:rPr>
              <a:t>¿Es función de la empresa generar rentabilidad al capital invertido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eaea"/>
                </a:solidFill>
                <a:latin typeface="Verdana"/>
                <a:ea typeface="Times New Roman"/>
              </a:rPr>
              <a:t>El problema surge cuando </a:t>
            </a:r>
            <a:r>
              <a:rPr b="0" lang="es-ES_tradnl" sz="3600" spc="-1" strike="noStrike" u="sng">
                <a:solidFill>
                  <a:srgbClr val="eaeaea"/>
                </a:solidFill>
                <a:uFillTx/>
                <a:latin typeface="Verdana"/>
                <a:ea typeface="Times New Roman"/>
              </a:rPr>
              <a:t>es el único aspecto</a:t>
            </a:r>
            <a:r>
              <a:rPr b="0" lang="es-ES_tradnl" sz="3600" spc="-1" strike="noStrike">
                <a:solidFill>
                  <a:srgbClr val="eaeaea"/>
                </a:solidFill>
                <a:latin typeface="Verdana"/>
                <a:ea typeface="Times New Roman"/>
              </a:rPr>
              <a:t> que se tiene en cuenta al tomar decisiones, sin medir las formas de lograrlo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RESPONSABILIDAD SOCIAL EMPRESARIA (R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Definición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de misión y visión</a:t>
            </a:r>
            <a:r>
              <a:rPr b="0" lang="es-ES_tradnl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: expresan la razón de ser de la empres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La empresa como una persona </a:t>
            </a:r>
            <a:r>
              <a:rPr b="0" lang="es-ES_tradnl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    </a:t>
            </a:r>
            <a:r>
              <a:rPr b="0" i="1" lang="es-ES_tradnl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La empresa ciudadana – </a:t>
            </a:r>
            <a:r>
              <a:rPr b="0" lang="es-ES_tradnl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Con derechos y debere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G.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Enderle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 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ice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que la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empresa “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además de su condición de persona jurídica es capaz de tener una conducta moral, puede ser considerada responsable y debe rendir cuentas desde una perspectiva ética"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RESPONSABILIDAD SOCIAL EMPRESARIA (R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cc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eaeaea"/>
                </a:solidFill>
                <a:uFillTx/>
                <a:latin typeface="Verdana"/>
                <a:ea typeface="Times New Roman"/>
              </a:rPr>
              <a:t>Concepto de RSE</a:t>
            </a:r>
            <a:r>
              <a:rPr b="0" lang="es-E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_tradnl" sz="36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“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La RSE es una visión de los negocios que integra en la gestión empresaria y en forma armónica  el respeto por los valores éticos, las personas, la comunidad  y el medio ambiente</a:t>
            </a:r>
            <a:r>
              <a:rPr b="0" lang="es-ES_tradnl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”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0T01:55:14Z</dcterms:created>
  <dc:creator>user</dc:creator>
  <dc:description/>
  <dc:language>en-US</dc:language>
  <cp:lastModifiedBy>C.P.C.E.C.A.B.A.</cp:lastModifiedBy>
  <dcterms:modified xsi:type="dcterms:W3CDTF">2004-10-12T21:42:57Z</dcterms:modified>
  <cp:revision>18</cp:revision>
  <dc:subject/>
  <dc:title>Jornada de Administración</dc:title>
</cp:coreProperties>
</file>