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FD8-E95D-490A-A25C-81AEA65E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30B-59EE-4691-8132-09E0DBBF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D5E-12D3-4FA1-87CD-C48E9271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2B3-0AF3-4B4F-9638-C6805728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7C2-8538-43DB-94A1-C78C6226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3C3-4CF4-4069-B644-CE79F3BB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EF3-3C23-4627-938C-B00EB282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5CA-C855-4014-AC52-A8E25748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CCA-4941-41DB-9D38-27D7CB2D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3FB-F42F-491D-AB4E-38CF325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9F7-AB1E-49A5-BA2A-1B64ABF8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C3D-AB4D-49E4-99A8-100B10AB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B48E-87BD-40E7-B7DE-18383B7D80B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ue" descr=""/>
          <p:cNvPicPr/>
          <p:nvPr/>
        </p:nvPicPr>
        <p:blipFill>
          <a:blip r:embed="rId2"/>
          <a:stretch/>
        </p:blipFill>
        <p:spPr>
          <a:xfrm>
            <a:off x="8308800" y="76320"/>
            <a:ext cx="68292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800" y="2590920"/>
            <a:ext cx="8472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UNIVERSIDAD EMPRESARIAL SIGLO 2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7680" y="3809880"/>
            <a:ext cx="44449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órdoba – Argentin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-2004-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94640" y="6095880"/>
            <a:ext cx="480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ffff"/>
                </a:solidFill>
                <a:latin typeface="Arial"/>
              </a:rPr>
              <a:t>Cra. Mariela Camporr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10000"/>
              </a:lnSpc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Finanz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Comercio Internacion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Investigación de mercad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Motivació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Comunicación organizacion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726"/>
              </a:spcBef>
              <a:buSzPct val="102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Administración por objetivo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0"/>
            <a:ext cx="6705720" cy="1295280"/>
          </a:xfrm>
          <a:prstGeom prst="downArrowCallout">
            <a:avLst>
              <a:gd name="adj1" fmla="val 129438"/>
              <a:gd name="adj2" fmla="val 129426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ódulos desarroll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ealizada en las provincias de Córdoba, La Rioja, Santiago del Estero y San Lu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ealizada a los efectos de relevar datos sobre los niveles y necesidades de capacitación tanto de los empresarios como de su pers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76320"/>
            <a:ext cx="6705720" cy="1295280"/>
          </a:xfrm>
          <a:prstGeom prst="downArrowCallout">
            <a:avLst>
              <a:gd name="adj1" fmla="val 129438"/>
              <a:gd name="adj2" fmla="val 129426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vestigación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l 68% de los empresarios Pymes completaron el nivel secundar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xistencia de informalidad en la estructura de la empre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Más del 75% de los empresarios adquirieron su experiencia en su propia empre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55% de las empresas se originaron por quienes actualmente las conduc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l 40% de los empresarios posee derechos sobre más del 50% de la empresa en que trabaja o bien, directamente es el dueño de la mis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rabajan en promedio más de 46hs seman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76320"/>
            <a:ext cx="6705720" cy="1295280"/>
          </a:xfrm>
          <a:prstGeom prst="downArrowCallout">
            <a:avLst>
              <a:gd name="adj1" fmla="val 129438"/>
              <a:gd name="adj2" fmla="val 129426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ultados ob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5960" y="8380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Arial"/>
              </a:rPr>
              <a:t>Se observó que los temas de interés que presentaban las Pymes era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En un primer nivel: Administración General y Aspectos Financier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En un segundo nivel: Marketing, ventas y recursos human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En un tercer nivel: Producción y cont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380880"/>
            <a:ext cx="7391160" cy="56390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Limitaciones en</a:t>
            </a:r>
            <a:br>
              <a:rPr sz="4200"/>
            </a:b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aspectos de capacita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ientación de la capacitación al sentido práctico de la misma. La necesaria aplicabi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ispuesto a la capaci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ca predisposición a invertir fondos en capaci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Fases del Proyec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Fase 1: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Capacitación de Forma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Fase 2: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Elaboración de productos educativ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Fase 3: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Desarrollo de una red de entidades capacitador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Fase 4: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Extender, replicar y mantener el impacto del proyecto a los países de la reg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ffcc"/>
                </a:solidFill>
                <a:latin typeface="Arial"/>
              </a:rPr>
              <a:t>Prueba pilo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 cuanto a los contenidos: se trata de contenidos accesibles, destacándose la claridad de los conceptos y los datos reales de los ejercicios prácticos. Se considera dinámica la presentación. Se percibe una necesidad de reformular algunos mód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 cuanto al aprendizaje: se valora positivamente la posibilidad de autoadministrar los tiempos dedicados a la capacitación. Se destaca el uso de la pantalla para visualizar todos los contenidos del programa. Como desventaja se observó la imposibilidad de interactuar en forma directa con un Tu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En cuanto a la interfaz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e considera accesible y en general agradable. Se solicitó la incorporación de la función necesaria para contar con la posibilidad de imprimir sólo lo seleccionado y la elaboración de un Manual del Usuario que colabore con el aprendizaje de la operación del programa. Se recibieron sugerencias en cuanto a la distribución de elementos auxiliares de la pantalla y sonido que fueron debidamente analizadas en los casos perti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93640" y="1828800"/>
            <a:ext cx="8474040" cy="302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r líderes emprendedores que contribuyan a aumentar la eficiencia y competitividad de las organizaciones públicas y privadas donde se desempeñen. Líderes capaces de asumir posiciones de responsabilidad en la creación y distribución de la riqueza, contribuyendo con su esfuerzo a lograr que la región centro del país sea cada vez más desarrollada, ética, solidaria y equit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984920"/>
            <a:ext cx="845820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ver a través de institutos, programas y proyectos de investigación los problemas que la región le demande a la Univer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905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50292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0440" y="838080"/>
            <a:ext cx="2529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00"/>
                </a:solidFill>
                <a:latin typeface="Tahoma"/>
              </a:rPr>
              <a:t>MISIÓN 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43200" y="838080"/>
            <a:ext cx="3318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ahoma"/>
              </a:rPr>
              <a:t>PRINCIPIO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981080"/>
            <a:ext cx="80773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Universidad Siglo 21 admite a estudiantes de toda raza, color, sexo, orientación sexual, religión, nacionalidad, ideología, capacidad física, edad, situación económica. No admite discriminación al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118040"/>
            <a:ext cx="816156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única forma de selección que la Universidad admite es la que resulta de elegir los mejores aspirantes alumnos sobre la base de sus merecimientos académicos y actitudes morales y a los mejores docentes e investigadores basándose en los mismos val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1337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ampus%20UE" descr=""/>
          <p:cNvPicPr/>
          <p:nvPr/>
        </p:nvPicPr>
        <p:blipFill>
          <a:blip r:embed="rId1"/>
          <a:stretch/>
        </p:blipFill>
        <p:spPr>
          <a:xfrm>
            <a:off x="304920" y="4332240"/>
            <a:ext cx="8448480" cy="2525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99920" y="239760"/>
            <a:ext cx="651600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MODALIDAD A DISTANCIA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MODALIDAD PRESENCIA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30520" y="3595680"/>
            <a:ext cx="619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AMPUS UNIVERSITARI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33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2193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080" y="2057400"/>
            <a:ext cx="855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rimera universidad privada de Córdoba y sexta del pais que obtiene el reconocimiento definitivo otorgado por CONEAU que le permite verdadera autonom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066680"/>
            <a:ext cx="83343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bogac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icenciatura en  Administ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icenciatura en Administración Agra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icenciatura en Comercio Interna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ontador Públ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icenciatura en Diseño Gráf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icenciatura en Gestión Ambien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icenciatura en Gestión de Recursos Huma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icenciatura en Relaciones Públicas e Institucion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6160" y="76320"/>
            <a:ext cx="5799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CARRERAS DE GRAD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266840"/>
            <a:ext cx="8458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Licenciatura en Comercializ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Licenciatura en  Psicolo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Licenciatura en 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Licenciatura en Relaciones Internacion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Licenciatura en Informá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Licenciatura en Sociolo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Licenciatura en Gestión Turís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Licenciatura en Diseño Industr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6160" y="304920"/>
            <a:ext cx="5799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CARRERAS DE GRAD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23200" y="1066680"/>
            <a:ext cx="685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CARRERAS DE POSGRAD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52280" y="2133720"/>
            <a:ext cx="9547200" cy="3809520"/>
            <a:chOff x="-152280" y="2133720"/>
            <a:chExt cx="9547200" cy="3809520"/>
          </a:xfrm>
        </p:grpSpPr>
        <p:sp>
          <p:nvSpPr>
            <p:cNvPr id="67" name=""/>
            <p:cNvSpPr/>
            <p:nvPr/>
          </p:nvSpPr>
          <p:spPr>
            <a:xfrm>
              <a:off x="304920" y="2133720"/>
              <a:ext cx="9090000" cy="30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600" spc="-1" strike="noStrike">
                  <a:solidFill>
                    <a:srgbClr val="ffff00"/>
                  </a:solidFill>
                  <a:latin typeface="Arial"/>
                </a:rPr>
                <a:t>Maestría en Derecho Empresari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buSzPct val="10282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600" spc="-1" strike="noStrike">
                  <a:solidFill>
                    <a:srgbClr val="ffff00"/>
                  </a:solidFill>
                  <a:latin typeface="Arial"/>
                </a:rPr>
                <a:t>MBA – Master of  Business Administra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buSzPct val="10282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600" spc="-1" strike="noStrike">
                  <a:solidFill>
                    <a:srgbClr val="ffff00"/>
                  </a:solidFill>
                  <a:latin typeface="Arial"/>
                </a:rPr>
                <a:t>Maestría en Economí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buSzPct val="10282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600" spc="-1" strike="noStrike">
                  <a:solidFill>
                    <a:srgbClr val="ffff00"/>
                  </a:solidFill>
                  <a:latin typeface="Arial"/>
                </a:rPr>
                <a:t>Maestría en Psicología Clínic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buSzPct val="10282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600" spc="-1" strike="noStrike">
                  <a:solidFill>
                    <a:srgbClr val="ffff00"/>
                  </a:solidFill>
                  <a:latin typeface="Arial"/>
                </a:rPr>
                <a:t>Diplomaturas y Cursos de Formación Continu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-152280" y="243828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-152280" y="304776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-152280" y="3657600"/>
              <a:ext cx="457200" cy="304200"/>
            </a:xfrm>
            <a:prstGeom prst="rightArrow">
              <a:avLst>
                <a:gd name="adj1" fmla="val 50000"/>
                <a:gd name="adj2" fmla="val 3757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-152280" y="4343400"/>
              <a:ext cx="457200" cy="304200"/>
            </a:xfrm>
            <a:prstGeom prst="rightArrow">
              <a:avLst>
                <a:gd name="adj1" fmla="val 50000"/>
                <a:gd name="adj2" fmla="val 3757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-152280" y="495288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152280" y="563868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066680"/>
            <a:ext cx="8534520" cy="480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PROGRAMA DE</a:t>
            </a:r>
            <a:br>
              <a:rPr sz="4600"/>
            </a:b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CAPACITACION GERENCIAL INNOVADOR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09680" y="0"/>
            <a:ext cx="4648320" cy="1295280"/>
          </a:xfrm>
          <a:prstGeom prst="downArrowCallout">
            <a:avLst>
              <a:gd name="adj1" fmla="val 89725"/>
              <a:gd name="adj2" fmla="val 89717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Kit multimedial de capacitación en áreas de necesidad para empresarios Pym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Cuenta con 8 módulos de aprendizaje en CD con videos incorporados y otras técnicas interactiva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Presentan amplia flexibilidad, que permiten incluir cambios en los contenido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Pueden incluirse tutorías virtuales de apoyo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8:27:43Z</dcterms:created>
  <dc:creator>CAMPORRO MARIELA</dc:creator>
  <dc:description/>
  <dc:language>en-US</dc:language>
  <cp:lastModifiedBy>C.P.C.E.C.A.B.A.</cp:lastModifiedBy>
  <dcterms:modified xsi:type="dcterms:W3CDTF">2004-10-13T13:34:08Z</dcterms:modified>
  <cp:revision>6</cp:revision>
  <dc:subject/>
  <dc:title>Capacitación gerencial innovadora</dc:title>
</cp:coreProperties>
</file>