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2F8-DD54-4D95-9AA3-70B16CFA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1AC-0363-401F-84D4-CE295FF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DA8-886F-477A-92B4-04C5FE20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2AA-2D19-457C-8279-7ABF24EC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E7B-A326-48C1-AA90-BEFCE85F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509-822B-44FB-A496-0B0BFAA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0B4-66F9-466A-8E2E-4F530EC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745-0412-4AB5-AA31-D39ECCE8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16F-209F-4B11-B1EE-41EFBF5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E21-2B94-4A9F-AD11-146EDE9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FCF-E0ED-4D36-BD85-4CF008F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D46-5D70-4452-9C93-EB80162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59A-FF46-4721-B909-83BCBA833FC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MPRESA FAMILI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LA SUC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Century Gothic"/>
              </a:rPr>
              <a:t>Cra. Amalia B. Salz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99"/>
                </a:solidFill>
                <a:latin typeface="Century Gothic"/>
              </a:rPr>
              <a:t>amaliasalz@inea.net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FUNDADOR DE LA E.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Fuerte person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Se resiste a delegar el po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Es muy importante convencerlo de que en algún momento deberá retirarse y, a menos que se planifique la sucesión  la empresa no logrará sobreviv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27160" y="847800"/>
            <a:ext cx="7483320" cy="60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PREPARAR LA SUCESIÓN SIGNIFICA RENUNCIAR AL FANTASMA DE LA ETERNIDAD PROPIO DE LOS OMNIPOTENTES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binsztein, Jorge y Javier: La sucesión en las Empresas Familiares – Revista Alta Gerencia – Año V Nº 4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PROCESO DE SUCESIÓN SÓL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4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ffff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PLANIFICACIÓN DE LA SUC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Las diferentes opciones postsucesorias con que se cuenta para configurar las estructuras de gobierno y propieda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La elección de una u otra estructura en cualquier situación se basa en un sueño compartido, en el cual las aspiraciones se integran en una visión colectiva del futuro.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3640" y="573120"/>
            <a:ext cx="329256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Impact"/>
              </a:rPr>
              <a:t>GENERACIÓN DE LOS MAYO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Tienen su propio sueño de la empresa y de la familia para cuando se aus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609480"/>
            <a:ext cx="3292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Impact"/>
              </a:rPr>
              <a:t>GENERACIÓN MÁS JÓV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Visión distinta, acerca de su función y la red de relaciones que proyectan estable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27160" y="847800"/>
            <a:ext cx="7483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Impact"/>
              </a:rPr>
              <a:t>SUCESIÓN EN L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Impact"/>
              </a:rPr>
              <a:t>EMPRESA FAMILI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Impact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Impact"/>
              </a:rPr>
              <a:t>PROCESO COMPLEJ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27160" y="847800"/>
            <a:ext cx="7483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La sucesión es un proceso que abarca múltiples objetivos y actividades en la empresa y en la fami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Las mejores soluciones son los que coordinan las necesidades de la familia con las de la empres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7160" y="847800"/>
            <a:ext cx="748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Impact"/>
              </a:rPr>
              <a:t>La sucesión no es un hecho excepcional, aparece en la vida de toda Empresa Familiar y las decisiones tanto con  respecto a la trasmisión del poder como de la gestión deben tomarse articulando determinadas reglas genéricas, y teniendo en cuenta el clima subyacente en la familia y en la empre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ACTITUDES Y TEMOR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DEL FUND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A quedarse sin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A no tener nada que ha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A perder status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Creer que los hijos no están preparados para suceder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No saber como encarar el proceso sin crear problemas entre sus hij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ACTITUDES Y TEMOR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DEL FUND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Creer que, recién ahora, con toda su experiencia, está preparado para hacer lo más difícil e import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Evitar conflictos dentro del seno de la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La reacción de los no-familiares, frente al acceso a cargos dire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Impact"/>
              </a:rPr>
              <a:t>NUEVO ENTORNO ECONÓ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Tendencias globalizado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Mayor competitividad en el futuro inmedia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Muchas empresas familiares deberán hacer frente al mismo tiempo al problema de la transmisión generacion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ACTITUDES Y TEMOR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DEL SUCES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Conveniencia de trabajar en el negocio familiar o fuera de é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Conveniencia de capacitarse ya sea para trabajar fuera o hacerse cargo del negoci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Dudas sobre si la familia aceptará su auto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ACTITUDES Y TEMOR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DEL SUCES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Dudas sobre si conseguirán ser respetados y lograrán autoridad frente al personal tanto subordinado como gerencial de la firma, muchos de los cuales los conocen desde que eran peque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PARA QUE LA ENTRADA DE UN DESCENDIENTE EN UN NEGOCIO FAMILIAR SEA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El descendiente debe trabajar en otra empresa o actividad antes de entrar a la empresa de su propia famil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Probará así su capacidad, además de conocer otras formas de organización y distintas culturas empresar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PARA QUE LA ENTRADA DE UN DESCENDIENTE EN UN NEGOCIO FAMILIAR SEA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No debe creer que por el hecho de haber acumulado títulos ya está en condiciones de tomar todo tipo de decis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Y así, si algún día llega a  la empresa familiar no será la sombra de su fund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PARA QUE LA ENTRADA DE UN DESCENDIENTE EN UN NEGOCIO FAMILIAR SEA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Se deben determinar claramente sus obligaciones y responsabi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Ante todo el pers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Ante sí m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Ante el fundad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PARA QUE LA ENTRADA DE UN DESCENDIENTE EN UN NEGOCIO FAMILIAR SEA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Debe dársele funciones que impliquen la toma de decis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Si no se le permite esto nunca aprenderá a tomarlas y puede llegar a ser un verdadero fraca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27160" y="847800"/>
            <a:ext cx="74833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Es conveniente que el sucesor tenga un mentor, que tutele todo el proceso y que, si es posible, no pertenezca a la famili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LA TRANSICIÓN ES COMPLIC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L FUND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Century Gothic"/>
              </a:rPr>
              <a:t>Deber saber delegar y poco a poco permitir que su sucesor tome las riendas de un negocio por el que luchó durante toda su v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L SUC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Century Gothic"/>
              </a:rPr>
              <a:t>Debe tener la humildad necesaria para adquirir de a poco la capacidad de tomar decis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7160" y="847800"/>
            <a:ext cx="748332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EL PROCESO DE SUCESIÓN DEBE HACERSE EN FORMA  GRADUAL Y ARMÓN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27160" y="847800"/>
            <a:ext cx="748332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Los sucesores son la clave del futuro de una compañ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ard, John: Cómo desarrollar la Empresa Familiar – El Ateneo –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27160" y="847800"/>
            <a:ext cx="74833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REINVENTAR PROYECTOS PARA ENFRENTAR EL DOBLE DESAFÍO DE LA SUCESIÓN Y LA REORIENTACIÓN DE LA EMPRES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27160" y="847800"/>
            <a:ext cx="748332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Son los miembros de la generación saliente los que deben iniciar a los sucesores en el trabaj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ard, John: Cómo desarrollar la Empresa Familiar – El Ateneo –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27160" y="847800"/>
            <a:ext cx="74833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Con una amplia gama de prácticas que van desde las lecciones durante la niñez hasta la planificación estratég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ard, John: Cómo desarrollar la Empresa Familiar – El Ateneo –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SUCESIÓN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1) El fundador tiene una actitud entusiasta para pasar el negocio a sus hered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2) El sucesor demuestra que es merecedor de un puesto de autoridad siendo aún jov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ff"/>
                </a:solidFill>
                <a:latin typeface="Century Gothic"/>
              </a:rPr>
              <a:t>Ward, John: Cómo desarrollar la Empresa Familiar – El Ateneo –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Impact"/>
              </a:rPr>
              <a:t>SUCESIÓN EXIT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3) Existe un lazo de confianza entre amb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4) Existe un firme compromiso de trabajar y solucionar los problemas ju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ff"/>
                </a:solidFill>
                <a:latin typeface="Century Gothic"/>
              </a:rPr>
              <a:t>Ward, John: Cómo desarrollar la Empresa Familiar – El Ateneo –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¿</a:t>
            </a:r>
            <a:r>
              <a:rPr b="0" lang="en-US" sz="3200" spc="-1" strike="noStrike">
                <a:solidFill>
                  <a:srgbClr val="66ffff"/>
                </a:solidFill>
                <a:latin typeface="Century Gothic"/>
              </a:rPr>
              <a:t>HAY ALGUIEN CAPAZ DE LIDERAR LA TRANSI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5426" t="3734" r="27122" b="8748"/>
          <a:stretch/>
        </p:blipFill>
        <p:spPr>
          <a:xfrm>
            <a:off x="1150920" y="1981080"/>
            <a:ext cx="287964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CAPACIDAD DE CAMB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MPRESA FAMILI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LA SUC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Century Gothic"/>
              </a:rPr>
              <a:t>Cra. Amalia B. Salz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99"/>
                </a:solidFill>
                <a:latin typeface="Century Gothic"/>
              </a:rPr>
              <a:t>amaliasalz@inea.net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UCESIÓN EN LA EMPRESA FAMILI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“</a:t>
            </a: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El fundador impulsa la empresa familiar, los hermanos la mantienen y los primos la hund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Century Gothic"/>
              </a:rPr>
              <a:t>El cambio generacional es el nudo gordiano del ciclo vital de la empresa familiar desde el momento en que se vislumbra la retirada del fund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CAMBIO GENER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Permitir la continuidad y el desarrollo de la empresa familiar haciendo coexistir los lazos familiares nucleares con una gestión de alta calific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ff"/>
                </a:solidFill>
                <a:latin typeface="Arial"/>
              </a:rPr>
              <a:t>Cátedra Presa de Empresa Familiar – Universidad de Córdoba (España) – Rodríguez Alcalde José Javier, Director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SUPERVIVENCIA de la E.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Tender puentes entre familia y empre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Diferenciar claramente en el momento oportuno la propiedad de la gestió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Acotar los conflictos entre el capital financiero y el capital huma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Modos de gobierno que permitan la pervivencia de la empresa famili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ff"/>
                </a:solidFill>
                <a:latin typeface="Arial"/>
              </a:rPr>
              <a:t>Cátedra Presa de Empresa Familiar – Universidad de Córdoba (España) – Rodríguez Alcalde José Javier, Director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27160" y="847800"/>
            <a:ext cx="7483320" cy="64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El primer relevo generacional acaba con el 70% de las PYMES familiar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RETO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Vencer la resistencia de los seniors a dejar sus puestos en el momento oportu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Procurar que el sucesor familiar sea compet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Superar las rivalidades entre hermanos en la no aceptación del suces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Impact"/>
              </a:rPr>
              <a:t>TRANSICIONES DE LIDERAZ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Conflic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Etapa en la cual alguien se prepara para tomar el mando y otro se enfrenta a la realidad de tener que dejar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Cargada de emociones contradicto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Potenciadas por relaciones entre padres e hij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lia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01:49:04Z</dcterms:created>
  <dc:creator>AA</dc:creator>
  <dc:description/>
  <dc:language>en-US</dc:language>
  <cp:lastModifiedBy>C.P.C.E.C.A.B.A.</cp:lastModifiedBy>
  <dcterms:modified xsi:type="dcterms:W3CDTF">2004-10-13T13:21:16Z</dcterms:modified>
  <cp:revision>7</cp:revision>
  <dc:subject/>
  <dc:title>EMPRESA FAMILIAR: SUCESIÓN</dc:title>
</cp:coreProperties>
</file>