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E428-18BC-4E83-91A1-F135E6A6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1BC-F4D0-452C-8FF3-C85A43BD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960-79DC-4D4A-96D9-4286259B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F9F-B852-4FB6-8EBC-C0A7153A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3BAC-1392-49D9-B780-0035E672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115-1188-45AF-B85D-48BAD118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320-C401-415E-A934-D33C078F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F59-C971-4192-A14E-CEB5673E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07F-3791-4295-9922-F5D0F45F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540E-E82A-4A0E-9857-04CEB88B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ED1-A2B3-4CBB-A679-5898228A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C1A-FFCD-4D80-86B3-98C903C0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281C-939C-4437-9F57-4C7EB50A113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415960"/>
            <a:ext cx="7772400" cy="119988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8000"/>
                </a:solidFill>
                <a:latin typeface="Tahoma"/>
              </a:rPr>
              <a:t>GESTOR DE CONFLICTOS EN LA EMPRESA FAMILIAR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4190760"/>
            <a:ext cx="784872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Century Gothic"/>
              </a:rPr>
              <a:t>Autor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0066"/>
                </a:solidFill>
                <a:latin typeface="Century Gothic"/>
              </a:rPr>
              <a:t>Adriana C. APREA</a:t>
            </a:r>
            <a:r>
              <a:rPr b="1" lang="es-ES" sz="2800" spc="-1" strike="noStrike">
                <a:solidFill>
                  <a:srgbClr val="660066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660066"/>
                </a:solidFill>
                <a:latin typeface="Century Gothic"/>
              </a:rPr>
              <a:t>     Amalia B. SALZ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entury Gothic"/>
              </a:rPr>
              <a:t>adrianac@movi.com.ar  </a:t>
            </a:r>
            <a:r>
              <a:rPr b="1" lang="es-E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Century Gothic"/>
              </a:rPr>
              <a:t>         bebasalz@inea.net.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onflictos en la Empresa Famili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8A3-A381-4F4B-8383-35B302E9537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ea -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808000"/>
                </a:solidFill>
                <a:latin typeface="Tahoma"/>
              </a:rPr>
              <a:t>GESTOR DE CONFLICTOS DE LA EMPRESA FAMILIAR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Hace de nexo entre la empresa y los prestadores de servicios de Resolución Alternativa de Confli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70000"/>
              </a:lnSpc>
              <a:spcBef>
                <a:spcPts val="2001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Century Gothic"/>
              </a:rPr>
              <a:t>CUIDANDO SU PROPIA SUPERVIV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27587" t="2226" r="25862" b="4315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onflictos en la Empresa Famili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5F9-B093-4591-9D65-C3939AAFDA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ea -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808000"/>
                </a:solidFill>
                <a:latin typeface="Tahoma"/>
              </a:rPr>
              <a:t>PROCESOS DE RESOLUCIÓN DE CONFLICTO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Nego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Mediación empres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Facilitación de consen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Mediación multipa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3393" t="8748" r="3393" b="10302"/>
          <a:stretch/>
        </p:blipFill>
        <p:spPr>
          <a:xfrm>
            <a:off x="533520" y="2828880"/>
            <a:ext cx="3809880" cy="241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onflictos en la Empresa Famili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9163-698B-415E-95F0-1221FBCB7D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ea -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808000"/>
                </a:solidFill>
                <a:latin typeface="Tahoma"/>
              </a:rPr>
              <a:t>PROCESOS DE RESOLUCIÓN DE CONFLICTO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Facilitación de consen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Mediación   Famil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Orientación al fut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Enfoque en los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Posiciones legítimas para t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1816" t="8457" r="1816" b="11737"/>
          <a:stretch/>
        </p:blipFill>
        <p:spPr>
          <a:xfrm>
            <a:off x="5105520" y="2816280"/>
            <a:ext cx="3809880" cy="244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onflictos en la Empresa Famili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063-6A16-4CD7-95A6-B2911607FEC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ea -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808000"/>
                </a:solidFill>
                <a:latin typeface="Tahoma"/>
              </a:rPr>
              <a:t>PROCESOS DE RESOLUCIÓN DE CONFLICTO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816" t="8457" r="1816" b="11737"/>
          <a:stretch/>
        </p:blipFill>
        <p:spPr>
          <a:xfrm>
            <a:off x="5867280" y="3122640"/>
            <a:ext cx="2971800" cy="19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rcRect l="3393" t="8748" r="3393" b="10302"/>
          <a:stretch/>
        </p:blipFill>
        <p:spPr>
          <a:xfrm>
            <a:off x="380880" y="3124080"/>
            <a:ext cx="3048120" cy="193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"/>
          <p:cNvSpPr txBox="1"/>
          <p:nvPr/>
        </p:nvSpPr>
        <p:spPr>
          <a:xfrm>
            <a:off x="2743200" y="2133720"/>
            <a:ext cx="3809880" cy="19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ff99cc"/>
                </a:solidFill>
                <a:latin typeface="Impact"/>
              </a:rPr>
              <a:t>NEGOCIACIONES</a:t>
            </a:r>
            <a:endParaRPr b="0" lang="en-US" sz="4800" spc="1" strike="noStrike">
              <a:ln w="0">
                <a:noFill/>
              </a:ln>
              <a:solidFill>
                <a:srgbClr val="ff99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ff99cc"/>
                </a:solidFill>
                <a:latin typeface="Impact"/>
              </a:rPr>
              <a:t>CRÍTICAS</a:t>
            </a:r>
            <a:endParaRPr b="0" lang="en-US" sz="4800" spc="1" strike="noStrike">
              <a:ln w="0">
                <a:noFill/>
              </a:ln>
              <a:solidFill>
                <a:srgbClr val="ff99cc"/>
              </a:solidFill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3516840" y="4022640"/>
            <a:ext cx="21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ndon Howard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onflictos en la Empresa Famili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C6C2-BAC6-4112-B9EE-569EF53A109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ea -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808000"/>
                </a:solidFill>
                <a:latin typeface="Tahoma"/>
              </a:rPr>
              <a:t>SEMÁNTICA</a:t>
            </a:r>
            <a:br>
              <a:rPr sz="4000"/>
            </a:br>
            <a:r>
              <a:rPr b="1" lang="es-ES_tradnl" sz="4000" spc="-1" strike="noStrike">
                <a:solidFill>
                  <a:srgbClr val="808000"/>
                </a:solidFill>
                <a:latin typeface="Tahoma"/>
              </a:rPr>
              <a:t>El arte del Gestor de Conflicto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entury Gothic"/>
              </a:rPr>
              <a:t>Vaciar de significado las propias palabras</a:t>
            </a:r>
            <a:r>
              <a:rPr b="0" lang="es-ES_tradnl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entury Gothic"/>
              </a:rPr>
              <a:t>Acallando los sistemas de creencias prop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entury Gothic"/>
              </a:rPr>
              <a:t>Aprender los “diccionarios” de ellos, para hablar en “su idiom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onflictos en la Empresa Famili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B13-62E3-4A93-8227-7137F1FD083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ea -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808000"/>
                </a:solidFill>
                <a:latin typeface="Tahoma"/>
              </a:rPr>
              <a:t>SEMÁNTICA</a:t>
            </a:r>
            <a:br>
              <a:rPr sz="4000"/>
            </a:br>
            <a:r>
              <a:rPr b="1" lang="es-ES_tradnl" sz="4000" spc="-1" strike="noStrike">
                <a:solidFill>
                  <a:srgbClr val="808000"/>
                </a:solidFill>
                <a:latin typeface="Tahoma"/>
              </a:rPr>
              <a:t>El arte del Gestor de Conflicto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entury Gothic"/>
              </a:rPr>
              <a:t>Co-construir neologismos para nombrar </a:t>
            </a:r>
            <a:r>
              <a:rPr b="1" lang="es-ES_tradnl" sz="3600" spc="-1" strike="noStrike">
                <a:solidFill>
                  <a:srgbClr val="000000"/>
                </a:solidFill>
                <a:latin typeface="Century Gothic"/>
              </a:rPr>
              <a:t>“aquello de lo que no se hablaba” </a:t>
            </a:r>
            <a:r>
              <a:rPr b="0" lang="es-ES_tradnl" sz="3600" spc="-1" strike="noStrike">
                <a:solidFill>
                  <a:srgbClr val="000000"/>
                </a:solidFill>
                <a:latin typeface="Century Gothic"/>
              </a:rPr>
              <a:t>que abra caminos hacia el cambio de actitud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entury Gothic"/>
              </a:rPr>
              <a:t>Nunca rechazar o censur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entury Gothic"/>
              </a:rPr>
              <a:t>Cuidar nuestra comunicación analóg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onflictos en la Empresa Famili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BAF2-C9DE-4C7D-8F48-AD41F12D174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ea -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utor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driana C. APREA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Amalia B. SALZ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Arial"/>
              </a:rPr>
              <a:t>adrianac@movi.com.a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800000"/>
                </a:solidFill>
                <a:latin typeface="Arial"/>
              </a:rPr>
              <a:t>bebasalz@inea.net.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Arial Black"/>
              </a:rPr>
              <a:t>GESTIÓN DE CONFLICTOS EN LA EMPRESA FAMILIAR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onflictos en la Empresa Famili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618A-78C0-4EA9-91A3-6F41A122301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ea -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8000"/>
                </a:solidFill>
                <a:latin typeface="Tahoma"/>
              </a:rPr>
              <a:t>CAMBIAR PARA SOBREVIVIR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El corazón de la familia es emo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onflictos en la Empresa Famili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56C4-358A-4E48-985F-E365EA9306D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ea -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808000"/>
                </a:solidFill>
                <a:latin typeface="Tahoma"/>
              </a:rPr>
              <a:t>ESTRATEGI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foque en los recursos en lugar d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bajo participativo compatible con el estilo de gestión de la empresa, haciendo y trabaj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tender, en las intervenciones, los tres niveles de la conversación: el de los hechos, los sentimientos y la ident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onflictos en la Empresa Famili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B0E-6349-42DB-AF27-3A8E9BBDCE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ea -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819520" y="2133720"/>
          <a:ext cx="340992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133720"/>
                    <a:ext cx="34099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019920" y="2438280"/>
            <a:ext cx="3124080" cy="2438640"/>
          </a:xfrm>
          <a:prstGeom prst="irregularSeal2">
            <a:avLst/>
          </a:prstGeom>
          <a:solidFill>
            <a:srgbClr val="000000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Arial Black"/>
              </a:rPr>
              <a:t>CAM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28880" y="3429000"/>
            <a:ext cx="3114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MUNICACIÓN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8000"/>
                </a:solidFill>
                <a:latin typeface="Arial Black"/>
              </a:rPr>
              <a:t>ESQUEMA DE ABORDAJE DE CRISI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61920" y="236232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 Black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4971960"/>
            <a:ext cx="31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ff"/>
                </a:solidFill>
                <a:latin typeface="Arial Black"/>
              </a:rPr>
              <a:t>REEQUILIB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onflictos en la Empresa Famili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E7CD-1B9F-42AA-85A7-045B4EE82F4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ea -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77400" y="3909960"/>
            <a:ext cx="19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 Black"/>
              </a:rPr>
              <a:t>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124080" y="2390760"/>
          <a:ext cx="281952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390760"/>
                    <a:ext cx="281952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 txBox="1"/>
          <p:nvPr/>
        </p:nvSpPr>
        <p:spPr>
          <a:xfrm>
            <a:off x="3124080" y="3124080"/>
            <a:ext cx="2619360" cy="8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RESPETO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6246360" y="4076640"/>
            <a:ext cx="2324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08000"/>
                </a:solidFill>
                <a:latin typeface="Arial Black"/>
              </a:rPr>
              <a:t>DECI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8000"/>
                </a:solidFill>
                <a:latin typeface="Arial Black"/>
              </a:rPr>
              <a:t>nego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1000" y="1866960"/>
            <a:ext cx="34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6600"/>
                </a:solidFill>
                <a:latin typeface="Arial Black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8000"/>
                </a:solidFill>
                <a:latin typeface="Arial Black"/>
              </a:rPr>
              <a:t>DINÁMICA DEL CAMBIO ORGANIZACIONAL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onflictos en la Empresa Famili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E38-681F-4378-8C37-67008C3F0FF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ea -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8000"/>
                </a:solidFill>
                <a:latin typeface="Tahoma"/>
              </a:rPr>
              <a:t>Lider del cambio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Capaz de ejercer liderazgo emocional = crear entornos de trabajo colabor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Acotado en el 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No necesariamente detenta el poder en la toma de deci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Persona-puente entre dos generaciones o estilos de gest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onflictos en la Empresa Famili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9AB-EDC0-4724-90EB-37C579F6D4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ea -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8000"/>
                </a:solidFill>
                <a:latin typeface="Tahoma"/>
              </a:rPr>
              <a:t>Lider del cambio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nciliador de miedos y mediador de emociones y sentimientos encontrados, capaz de contener sin imponer y escuchar sin enjuiciar; capaz de encontrar caminos que los integrantes de la empresa familiar puedan transi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00"/>
                </a:solidFill>
                <a:latin typeface="Century Gothic"/>
              </a:rPr>
              <a:t>GESTOR DE CONFLI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onflictos en la Empresa Famili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EA4-EE7D-410D-93FD-C154F9B582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ea -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808000"/>
                </a:solidFill>
                <a:latin typeface="Tahoma"/>
              </a:rPr>
              <a:t>GESTOR DE CONFLICTOS DE LA EMPRESA FAMILIAR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Cuida y Gestiona los intereses y bienes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Es un agente de cam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27587" t="2226" r="25862" b="4315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onflictos en la Empresa Famili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D351-A46E-46E9-A30D-96922F6CF5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ea -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808000"/>
                </a:solidFill>
                <a:latin typeface="Tahoma"/>
              </a:rPr>
              <a:t>GESTOR DE CONFLICTOS DE LA EMPRESA FAMILIAR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Merece la confianza de los miembros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Es discr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Conoce el timing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27587" t="2226" r="25862" b="4315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onflictos en la Empresa Famili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98A4-48B8-467C-901D-2ED247F3FC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ea - Salz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00:51:51Z</dcterms:created>
  <dc:creator>Microsoft</dc:creator>
  <dc:description/>
  <dc:language>en-US</dc:language>
  <cp:lastModifiedBy>C.P.C.E.C.A.B.A.</cp:lastModifiedBy>
  <dcterms:modified xsi:type="dcterms:W3CDTF">2004-10-13T13:25:56Z</dcterms:modified>
  <cp:revision>28</cp:revision>
  <dc:subject/>
  <dc:title>Presentación de PowerPoint</dc:title>
</cp:coreProperties>
</file>