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A38-8F08-4866-B13F-6329527A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8A3-A55F-4996-87BC-E9DBE548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B02-3704-4F67-B647-86B5C2CB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61B-0A16-4D33-8514-00BE283A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793-09D1-4E5E-8FE8-E536C59C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EE4-704B-42DA-8309-AB216B47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62F-6561-470C-AE2A-615329BC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E65-6F31-46D5-A481-749DC260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70B-2BA5-4972-9ADD-8704E767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62F-4A44-4A4E-BD75-27E54F5B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688-D2D7-43CC-99C5-75E03710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E21-BCAB-4E91-8EEA-E4A7726E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9BE9-6A8D-4F55-8E93-F8B25C64A859}" type="slidenum">
              <a:rPr b="0" lang="en-US" sz="14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712800"/>
            <a:ext cx="7772400" cy="93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685800"/>
            <a:ext cx="106704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ffff"/>
                </a:solidFill>
                <a:latin typeface="Times New Roman"/>
              </a:rPr>
              <a:t>XI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1905120"/>
            <a:ext cx="4419360" cy="39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LA ADMINISTRACIÓN EN UN MUNDO COMPLEJ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LA RECUPERACIÓN DE LA COMPETITIVIDAD, EL CRECIMIENTO Y EL TRABAJO</a:t>
            </a: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2  -UNIVERSIDADES QUE ENSEÑAN ADMINISTR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320040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ADAPTAR LOS PLANES DE ESTUDIO DE LA UNIVERSIDAD ESTATAL A LOS ESTANDARES INTERNACIONALES, DE MANERA DE FORMAR LOS PROFESIONALES QUE DEMANDA EL MERCADO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SE AMPLIE LA OFERTA APORTANDO LAS HERRAMIENTAS NECESARIAS PARA FOMENTAR LA CULTURA DEL ESPÍRITU EMPRENDEDOR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SE PRODUZCA UNA COMPLEMENTACIÓN ENTRE LA UNIVERSIDAD, LAS EMPRESAS Y LAS ORGANIZACIONES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81080"/>
            <a:ext cx="7696080" cy="9907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ENDO EL PRINCIPAL AGENTE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CAMBIO PARA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3 - CREACIÓN DE NUEVOS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PROFUNDIZAR EL MODELO EXPORTADOR QUE ES UNO DE LOS MOTORES DE LA ECONOMÍA Y DE LA GENERACIÓN DE EMPLEO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QUE NUESTROS PRODUCTOS Y SERVICIOS SE SUPEREN Y SE  INTEGREN A LOS ESTANDARES DE CALIDAD REQUERIDOS POR LOS PAISES DE DESTINO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981080"/>
            <a:ext cx="7238880" cy="6098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MOVIENDO LAS MEJORAS PARA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4 - FOMENTAR LA IVESTIGACIÓ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342864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TAL COMO DICE NUESTRA CARTA DE GOIÃNIA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IMPULSAR LA INVESTIGACIÓN EN EL CAMPO       DE LA ADMINISTRACIÓN Y FACILITAR EL ACERCAMIENTO   TEORÍA-PRÁCTICA,  UNIVERSIDAD-EMPRESA-INVESTIGACIÓN”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7848720" cy="9907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POYANDO LA INVESTIGACIÓ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 CIENCIA Y TECNOLOGÍA DE GESTIÓ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5 - INTERÉS GENERAL SOBRE EL PARTICULAR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SOMOS CONSCIENTES DE QUE SE PROGRESA A PARTIR DE LA SUMA DE ESFUERZOS Y DE LA COOPERACIÓN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SE BUSCAN ENTENDIMIENTOS Y ACUERDOS MÁS ALLÁ DE LOS PROTAGONISMOS INDIVIDUALES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TENIENDO DIFERENCIAS SIN RIVALIDADES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COOPERANDO EN CUESTIONES EN QUE ESTÁ EN JUEGO EL INTERÉS GENERAL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ffff"/>
                </a:solidFill>
                <a:uFillTx/>
                <a:latin typeface="Times New Roman"/>
              </a:rPr>
              <a:t>LAS DIFERENCIAS SE ACORTAN Y SE CONVIERTEN EN MATICES,  ESO ES LO QUE SEPARA A QUIENES QUIEREN REÑIR Y A QUIENES QUIEREN CONSTRUIR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905120"/>
            <a:ext cx="784872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S REFORMAS EN LOS PLANES Y PROGRAMAS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ESTUDIO SÓLO SERÁN POSIBLES SI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EN CO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905120"/>
            <a:ext cx="8458200" cy="10666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6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Y EN DÍA ES MUY COMPETITIVO EL AMBIENT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BORAL Y HAY QUE SUJETARSE A SUS CAMBIANTES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LAS DE JUEGO PARA SALIR ADELANT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124080"/>
            <a:ext cx="8458200" cy="152424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SE HACE NECESARIO PROMOVER LOS DIFERENTE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DELOS ASOCIATIVOS PARA GENERAR EMPRESA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IVAS Y DE CALIDAD QUE SEA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ENERADORAS DE EMPLEO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876920"/>
            <a:ext cx="8839440" cy="1828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 QUE ESTA CLARO ES QUE LOS ADMINISTRADORES URUGUAYOS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BEMOS ASUMIR EL COMPROMISO DE PASAR   RÁPIDAMENTE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LAS IDEAS  A LOS HECHOS Y, COMO GRUPO  SINÉRGICO,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 INTEGRIDAD Y EQUIDAD GENERAR MEJORES CONDICIONES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Y MUCHAS MAS MAS OPORTUNIDADES PARA LOS URUGUAYOS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3124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09480"/>
            <a:ext cx="8381880" cy="1373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EL ROL DEL ADMINISTRADOR EN EL CAMBIO ORGANIZACIONAL Y LA GENERACIÓN DEL EMPLE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4800600"/>
            <a:ext cx="4572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ffff"/>
                </a:solidFill>
                <a:latin typeface="Times New Roman"/>
              </a:rPr>
              <a:t>GLENDA GOMEZ DE OLASCOAG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ffff"/>
                </a:solidFill>
                <a:latin typeface="Times New Roman"/>
              </a:rPr>
              <a:t>BUENOS AIRES- JUNIO 2004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2666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CASO URUGUA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LAS EXPRESIONES DEL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EN CUANTO A  PAISES: TRANSFORMACIONES ECONÓMICA, SOCIAL Y LABORAL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EN CUANTO ORGANIZACIONES EMPRESARIALES: MERCADOS GIGANTESCOS,  CONSUMIDORES MÁS EXIGENTES,  MAYOR COMPETENCIA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EN CUANTO A GENERACIÓN DE EMPLEO: DEPENDE DE LA INTENSIDAD DEL CRECIMIENTO ECONÓMICO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EN CUANTO ADMINISTRADORES: CREADORES   DEL CAMBIO, INNOVADORES, MAYOR EFICACIA DE LOS RECURSOS</a:t>
            </a:r>
            <a:r>
              <a:rPr b="0" lang="es-ES_tradnl" sz="2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EVOLUCIÓN ECONÓMICA Y SOCIAL EN EL 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447920"/>
            <a:ext cx="876312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1 - PRODUCTO BRUTO INTERNO (variación interanual en porcentajes)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75248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ffff"/>
                </a:solidFill>
                <a:uFillTx/>
                <a:latin typeface="Times New Roman"/>
              </a:rPr>
              <a:t>1999             2000            2001           2002            2003           2004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-2,8             -1,4              -3,4             -11,0           +2,5             +14,3 (primer trimestre)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438280"/>
            <a:ext cx="876312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2 - COTIZACION DEL DÓLAR (cierres al fin de cada mes)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819520"/>
            <a:ext cx="8381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ffff"/>
                </a:solidFill>
                <a:uFillTx/>
                <a:latin typeface="Times New Roman"/>
              </a:rPr>
              <a:t>1999              2000            2001           2002             2003           2004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11,6             12,5              14,7       junio 18,5         29,3            29,7  (primer trimestre)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   </a:t>
            </a: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diciembre 27,2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962520"/>
            <a:ext cx="876312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3 - DESEMPLEO (en % respecto a la PEA)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419720"/>
            <a:ext cx="830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ffff"/>
                </a:solidFill>
                <a:uFillTx/>
                <a:latin typeface="Times New Roman"/>
              </a:rPr>
              <a:t>1999              2000            2001           2002             2003            2004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10,7              13,3             15               16,9              18,9             14,2 (primer trimestre)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5181480"/>
            <a:ext cx="876312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4 . EXPORTACIONES (comercio global de bienes y servicios con el exterior </a:t>
            </a:r>
            <a:r>
              <a:rPr b="1" lang="es-ES_tradnl" sz="1400" spc="-1" strike="noStrike">
                <a:solidFill>
                  <a:srgbClr val="00ffff"/>
                </a:solidFill>
                <a:latin typeface="Times New Roman"/>
              </a:rPr>
              <a:t>en % del PBI)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63868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ffff"/>
                </a:solidFill>
                <a:uFillTx/>
                <a:latin typeface="Times New Roman"/>
              </a:rPr>
              <a:t>1999              2000            2001           2002             2003            2004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-19,0              2,6             -10,5            -9,7               18,1             39,3  (primer trimestre)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658332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ff"/>
                </a:solidFill>
                <a:latin typeface="Times New Roman"/>
              </a:rPr>
              <a:t>FUENTE: </a:t>
            </a:r>
            <a:r>
              <a:rPr b="1" i="1" lang="es-ES_tradnl" sz="1200" spc="-1" strike="noStrike">
                <a:solidFill>
                  <a:srgbClr val="00ffff"/>
                </a:solidFill>
                <a:latin typeface="Times New Roman"/>
              </a:rPr>
              <a:t>Instituto Nacional de  Estadísticas</a:t>
            </a:r>
            <a:r>
              <a:rPr b="1" lang="es-ES_tradnl" sz="1200" spc="-1" strike="noStrike">
                <a:solidFill>
                  <a:srgbClr val="00ffff"/>
                </a:solidFill>
                <a:latin typeface="Times New Roman"/>
              </a:rPr>
              <a:t>  (INE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CONSECUENCIAS DEL PROCESO RECE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EMPOBRCIMIENTO DE 25% ACUMULADO EN 4 AÑOS.              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REDUCCIÓN  DEL   INGRESO,  DEL   CONSUMO   Y   DEL   EMPLEO.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AUMENTO DE ENDEUDAMIENTO INTERNO Y EXTERNO.</a:t>
            </a: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PROCESO DE REACTI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A MEDIADOS DEL 2003 APARECEN SIGNOS DE ESTABILIZACIÓN Y CRECIMIENTO EN GRAN PARTE POR</a:t>
            </a:r>
            <a:r>
              <a:rPr b="0" lang="es-ES_tradnl" sz="2400" spc="-1" strike="noStrike">
                <a:solidFill>
                  <a:srgbClr val="00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a) REPROGRAMACIÓN DE DEPÓSITOS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b) LIBRE FLOTACIÓN DEL DÓLAR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c) CANJE DE LA DEUDA PÚBLIC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d) MEJORA DEL COMERCIO DENTRO DEL MERCOSUR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e) AUMENTO DE LA PRODUCTIVIDAD POR NUEVOS MERCADOS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f) INVERSIONES INTERNACIONALES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g) DEMANDA EXTERNA Y COYUNTURA REGIONAL FAVORABLE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00120" y="4214880"/>
            <a:ext cx="5629320" cy="31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1523880"/>
            <a:ext cx="8305920" cy="838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 MEDIADOS  DEL  2003  APARECEN  SIGNOS  DE  ESTABILIZACIÓN  Y 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RECIMIENTO  EN  GRAN PARTE  POR: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5562720"/>
            <a:ext cx="8305920" cy="8380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OCUPACIóN BAJÓ DE 19 A 14%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XPORTACIONES CRECIERON UN 43%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DESAFIOS QUE PRESENTA PARA EL ADMINISTRADOR  URUGUAYO LA GENERACIÓN DE EMPL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9051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666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PARA  QUE  URUGUAY MANTENGA EL NIVEL DE RECUPERACIÓN Y SE  GENEREN  NUEVOS  EMPlEOS,  ES  NECESARIO: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429000"/>
            <a:ext cx="8305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- MEJORAR  LA COMPETITIVIDAD ESPECIALMENTE DONDE EL PAIS 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TENGA VENTAJAS NATURALES.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- ABRIRSE AL MUNDO: AUMENTO DE LA INVERSIÓN PARA APOYAR EL 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CRECIMIENTO.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Times New Roman"/>
              </a:rPr>
              <a:t>- FOMENTAR  LA CREACIÓN DE NUEVOS EMPRENDIMIENTOS.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76520"/>
            <a:ext cx="80010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FALTA DE EMPLEO SEGURO AFECTA A CASI 600.000 URUGUAYOS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638680"/>
            <a:ext cx="8153640" cy="10670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 PARA QUE SEA POSIBLE SE REQUIERE CAPACIDAD, DECISIÓN,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ISIÓN, EDUCACIÓN. EL CAPITAL HUMANO ES LA CLAVE PAR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COMPETITIVIDAD. SE DEBE INVERTIR EN CALIDAD EDUCATIVA.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QUE PUEDE HACER EL ADMINISTRADOR URUGUAYO ANTE ESTOS DESAFÍ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20040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1 - UNA FORMACIÓN ORIENTADA HACIA LA   DEMANDA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2  -UNIVERSIDADES QUE ENSEÑAN  ADMINISTRACIÓN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3 - CREACIÓN DE NUEVOS MERCADOS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4 - FOMENTAR LA INVESTIGACIÓN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5 - INTERÉS GENERAL SOBRE EL   PARTICULAR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600200"/>
            <a:ext cx="8686800" cy="12193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TRIBUIR A MEJORAR CIERTAS CARENCIA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 PUNTOS TALES COMO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1 - UNA FORMACION ORIENTADA HACIA LA DE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 UNA CAPACITACIÓN EMPRENDEDORA. URUGUAY ES UN    TERRENO FÉRTIL PARA LA PROLIFERACIÓN DE NUEVOS EMPRENDIMIENTOS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UNA PERMANENTE ADECUACIÓN Y ADAPTACIÓN A LOS PROCESOS DE INNOVACIÓN TECNOLÓGICA Y ORGANIZACIONAL POR PARTE DE LAS EMPRESAS Y LOS TRABAJADORES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Times New Roman"/>
              </a:rPr>
              <a:t>- UNA FORMACIÓN CONTINUA PARA ALCANZAR LOS PEFILES PROFESIONALES REQUERIDOS Y ADECUARSE A LOS ESTANDARES DE COMPETENCIA DEL MERCADO DE TRABAJO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05120"/>
            <a:ext cx="7924680" cy="7617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NIENDO ÉNFASIS E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20:06:13Z</dcterms:created>
  <dc:creator>Compaq</dc:creator>
  <dc:description/>
  <dc:language>en-US</dc:language>
  <cp:lastModifiedBy>C.P.C.E.C.A.B.A.</cp:lastModifiedBy>
  <dcterms:modified xsi:type="dcterms:W3CDTF">2004-07-01T15:37:12Z</dcterms:modified>
  <cp:revision>3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565864</vt:r8>
  </property>
  <property fmtid="{D5CDD505-2E9C-101B-9397-08002B2CF9AE}" pid="3" name="_AuthorEmail">
    <vt:lpwstr>pla@internet.com.uy</vt:lpwstr>
  </property>
  <property fmtid="{D5CDD505-2E9C-101B-9397-08002B2CF9AE}" pid="4" name="_AuthorEmailDisplayName">
    <vt:lpwstr>Pablo Legrand</vt:lpwstr>
  </property>
  <property fmtid="{D5CDD505-2E9C-101B-9397-08002B2CF9AE}" pid="5" name="_EmailSubject">
    <vt:lpwstr>Devuelvo</vt:lpwstr>
  </property>
</Properties>
</file>